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6B8E-9501-4B4E-ACB9-BD56E895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7033-4AE8-4145-9033-F64AF05B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C10-386E-4618-ABE1-A0A8F832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278B-C5E3-4FF6-A521-40714D35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A827-E2B9-4E3B-99AE-40810C31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74CA-7526-4B71-AD9A-127110A4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8FB8-3F13-4616-88AA-A0AE99F0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ADEE-D48D-48AF-8765-45F93818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9C94-4B4B-48BE-91AD-B7957E5B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6B83-5C7E-4050-A706-84C22151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0F1C-BB1A-44E6-A475-78877DA5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EFB0-65F0-46BD-83F5-5A6433DB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A461-E039-487C-8408-63BE38D0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B804-5EC7-445E-94D9-EAA1E18E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3ABC-A08C-4521-A24F-C9694BF2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DA69-9C8E-43E4-B177-B15DFBB7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3355-74D4-4084-80BD-50FD0D13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58BCC-9174-4F44-96BE-531269D8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DD4AB-088D-424B-8352-7F49EDBB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939F0-3B39-4ED3-8452-9041D9EC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9DAD6-2698-4A48-B5E8-EDB6DB1B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CCC24-54B5-437B-B173-74E8E653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7B08-ADA6-4F4C-971B-46273722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1D809-45A1-48EF-8530-2F1B2B31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24875-7B4D-4C34-AF30-927BD2D0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9B3B1-AD79-4286-9CF2-D9CF8F5F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3FA9D-DB54-4FA9-8DBE-6D138C0D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45DF6-A91F-4CF0-8965-DA2EB887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00B24-B359-451E-AE02-32C9F298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83A14-A5BE-4404-A34F-8499CC1D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6C7C8-B8BF-46F1-BCEA-81A9F49E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C9EDB-7A2E-4848-B68B-C66E619D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40132-9CCA-4BE7-A048-BCA24EF2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A1A7-29CC-4B15-9E62-A3127EFC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A3F7D-D7D4-4F96-9CE4-8AFF1B9C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62AD0-0F58-43E5-AE9E-639F9DA7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FD65F-A3BE-4175-966A-3D7AAC75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DCD4D-5731-4377-8BF2-98D3D42D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48A81-E102-42C1-8465-E9E659DD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1F6B9-BC86-44CE-813E-4C984FF2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DED2E-ACAF-4C13-9D70-B2D91651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54D3C-5442-4797-8980-97C34465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54EF7-0E2C-4AF8-B518-965932D0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48AD4-9386-48EF-BAC9-309DBAFB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D235-9E15-43A3-9140-27D53077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D4776-1B06-4B67-A9C9-B44D3BC7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C16E1-BC79-46EA-BE47-6A6EE0B6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A978D-2CC0-4E70-B55F-AFA89582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55C44-2E3F-4F5C-BEE2-279E6AFF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F53A9-5F2B-40FD-8898-506DD4DC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7E524-AA14-4658-AE71-E49800E2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B3930-22CD-401B-AE64-8A03E29D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D3299-27AB-4D9B-91D8-9AD6A6CF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069B2-E67B-4BC9-9D6F-CF935FB9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84339-658A-4FB8-BF23-942210F4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30E4-8F31-421B-B0CA-E66B8E22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8CC64-49E0-4905-AB7B-488AB918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ABC4-E3EC-4747-BE1E-B16C7B70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512-0F18-45AC-88F5-6DDAB107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C20B-6360-4D64-BBE6-6E00073F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F5FD-394D-483A-8A7E-248B4B09295F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9C4D-6E73-4367-ABC1-24A62E988E2C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0E96-46B4-4871-8949-A81983A3AEA0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27D4-E113-4FE7-B01D-63BC61ACF1F9}" type="slidenum">
              <a:rPr b="0" lang="ru-RU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DBCB-96D3-4AAA-B02D-F885A8090E88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305/m2oo7.0/0_22f55_6059b741_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char.ru/books/p606150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booksiti.net.ru/books/817375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helpmammy.ru/text-images/206.jpg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19280" y="549360"/>
            <a:ext cx="7067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619280" y="2349000"/>
            <a:ext cx="66247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уил Яковлевич Маршак-детям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4"/>
          <p:cNvSpPr/>
          <p:nvPr/>
        </p:nvSpPr>
        <p:spPr>
          <a:xfrm>
            <a:off x="3924360" y="620640"/>
            <a:ext cx="475128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1857140_Gde_obedal_vorobej"/>
          <p:cNvPicPr/>
          <p:nvPr/>
        </p:nvPicPr>
        <p:blipFill>
          <a:blip r:embed="rId1"/>
          <a:stretch/>
        </p:blipFill>
        <p:spPr>
          <a:xfrm>
            <a:off x="336600" y="333360"/>
            <a:ext cx="3660840" cy="374328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1" descr=""/>
          <p:cNvPicPr/>
          <p:nvPr/>
        </p:nvPicPr>
        <p:blipFill>
          <a:blip r:embed="rId2"/>
          <a:stretch/>
        </p:blipFill>
        <p:spPr>
          <a:xfrm>
            <a:off x="4570560" y="237960"/>
            <a:ext cx="3800160" cy="62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5796000" y="4221000"/>
            <a:ext cx="3095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муил Марша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755640" y="333360"/>
            <a:ext cx="4896000" cy="54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ожелания друзьям</a:t>
            </a:r>
            <a:br>
              <a:rPr sz="3200"/>
            </a:b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лаю вам цвести, раст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пить, крепить здоровь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о для дальнего пути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ейшее условье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ь каждый день и каждый час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м новое добуде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ь добрым будет ум у вас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сердце умным будет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м от души желаю 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зья, всего хорошего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сё хорошее, друзь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ется нам недешево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Картинка 22 из 13065"/>
          <p:cNvPicPr/>
          <p:nvPr/>
        </p:nvPicPr>
        <p:blipFill>
          <a:blip r:embed="rId1"/>
          <a:stretch/>
        </p:blipFill>
        <p:spPr>
          <a:xfrm>
            <a:off x="5796000" y="404640"/>
            <a:ext cx="28814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33cc"/>
                </a:solidFill>
                <a:latin typeface="Franklin Gothic Book"/>
              </a:rPr>
              <a:t>Спасибо </a:t>
            </a:r>
            <a:br>
              <a:rPr sz="5000"/>
            </a:br>
            <a:r>
              <a:rPr b="1" lang="ru-RU" sz="5000" spc="-1" strike="noStrike">
                <a:solidFill>
                  <a:srgbClr val="ff0000"/>
                </a:solidFill>
                <a:latin typeface="Franklin Gothic Book"/>
              </a:rPr>
              <a:t>Самуилу Яковлевичу Маршаку</a:t>
            </a:r>
            <a:r>
              <a:rPr b="1" lang="ru-RU" sz="5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33cc"/>
                </a:solidFill>
                <a:latin typeface="Franklin Gothic Book"/>
              </a:rPr>
              <a:t>за чудесный подарок детям!</a:t>
            </a:r>
            <a:endParaRPr b="1" lang="en-US" sz="5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5603760"/>
            <a:ext cx="9144000" cy="12686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амуил Маршак - замечательный поэт, драматург и переводчик, очень любивший детей и создавший для них великолепные произведения. Это был человек большого и доброго сердца, и талант его был такой же большой и удивительно жанрово разнообразный: в его творческом багаже загадки, считалки, присказки, сказки, басни, баллады, поэмы, пьесы, рассказы в стихах и познавательные очерки в стихах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1608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  <p:pic>
        <p:nvPicPr>
          <p:cNvPr id="219" name="Рисунок 2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7002360" cy="39909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"/>
          <p:cNvSpPr/>
          <p:nvPr/>
        </p:nvSpPr>
        <p:spPr>
          <a:xfrm>
            <a:off x="4067280" y="907920"/>
            <a:ext cx="433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ngsana Ne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уил Яковлевич Маршак (1887-196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" descr="Картинка 159 из 30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08880" y="1628640"/>
            <a:ext cx="1776240" cy="2376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2" descr="Картинка 315 из 306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3664080"/>
            <a:ext cx="1695600" cy="2298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0" descr="Картинка 258 из 306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19000" y="1311120"/>
            <a:ext cx="1425600" cy="2225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Картинка 22 из 1306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48000" y="2060640"/>
            <a:ext cx="2392560" cy="2952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Картинка 151 из 3065"/>
          <p:cNvPicPr/>
          <p:nvPr/>
        </p:nvPicPr>
        <p:blipFill>
          <a:blip r:embed="rId9"/>
          <a:stretch/>
        </p:blipFill>
        <p:spPr>
          <a:xfrm>
            <a:off x="2268360" y="203040"/>
            <a:ext cx="1235160" cy="1944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Картинка 155 из 3065"/>
          <p:cNvPicPr/>
          <p:nvPr/>
        </p:nvPicPr>
        <p:blipFill>
          <a:blip r:embed="rId10"/>
          <a:stretch/>
        </p:blipFill>
        <p:spPr>
          <a:xfrm>
            <a:off x="5148360" y="4776840"/>
            <a:ext cx="1592280" cy="2087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Картинка 161 из 3065"/>
          <p:cNvPicPr/>
          <p:nvPr/>
        </p:nvPicPr>
        <p:blipFill>
          <a:blip r:embed="rId11"/>
          <a:stretch/>
        </p:blipFill>
        <p:spPr>
          <a:xfrm>
            <a:off x="3732120" y="189000"/>
            <a:ext cx="1623960" cy="1844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Картинка 176 из 3065"/>
          <p:cNvPicPr/>
          <p:nvPr/>
        </p:nvPicPr>
        <p:blipFill>
          <a:blip r:embed="rId12"/>
          <a:stretch/>
        </p:blipFill>
        <p:spPr>
          <a:xfrm>
            <a:off x="1042920" y="3141720"/>
            <a:ext cx="1467000" cy="201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6" descr="Картинка 141 из 3065"/>
          <p:cNvPicPr/>
          <p:nvPr/>
        </p:nvPicPr>
        <p:blipFill>
          <a:blip r:embed="rId13"/>
          <a:stretch/>
        </p:blipFill>
        <p:spPr>
          <a:xfrm>
            <a:off x="5478480" y="203040"/>
            <a:ext cx="1498680" cy="1940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8" descr="Картинка 275 из 3065"/>
          <p:cNvPicPr/>
          <p:nvPr/>
        </p:nvPicPr>
        <p:blipFill>
          <a:blip r:embed="rId14"/>
          <a:stretch/>
        </p:blipFill>
        <p:spPr>
          <a:xfrm>
            <a:off x="1776240" y="4776840"/>
            <a:ext cx="1586160" cy="2014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3" descr="3a2ff"/>
          <p:cNvPicPr/>
          <p:nvPr/>
        </p:nvPicPr>
        <p:blipFill>
          <a:blip r:embed="rId15"/>
          <a:stretch/>
        </p:blipFill>
        <p:spPr>
          <a:xfrm>
            <a:off x="3503520" y="4776840"/>
            <a:ext cx="1536840" cy="19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Franklin Gothic Medium"/>
              </a:rPr>
              <a:t>ИЗ БИОГРАФИИ С.Я. МАРШАК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708000" y="1125360"/>
            <a:ext cx="4978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амуил Яковлевич Маршак родился 3 ноября 1887 года в Воронеже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аннее детство и первые школьные годы будущий писатель провёл в маленьком городке Острогожске Воронежской губернии. Его семья жила небогато, но дружно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альчик с детства тянулся к знаниям, к книгам, рано стал писать стихи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н хотел, чтобы все ребята росли умными, честными, смелыми, любознательными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4" name="Picture 5" descr="marshak-2_original"/>
          <p:cNvPicPr/>
          <p:nvPr/>
        </p:nvPicPr>
        <p:blipFill>
          <a:blip r:embed="rId1"/>
          <a:stretch/>
        </p:blipFill>
        <p:spPr>
          <a:xfrm>
            <a:off x="395280" y="1557360"/>
            <a:ext cx="32288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716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РОДИТЕЛИ МАРШАК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980640"/>
            <a:ext cx="8496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тец Яков Миронович Маршак был рабочим на химическом заводе. Он любил книги, литературу и всегда рассказывал детям что-то интересное, познавательное. Его мать Евгения Борисовна была женщиной сдержанной и немногословной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7" name="Рисунок 1" descr=""/>
          <p:cNvPicPr/>
          <p:nvPr/>
        </p:nvPicPr>
        <p:blipFill>
          <a:blip r:embed="rId1"/>
          <a:stretch/>
        </p:blipFill>
        <p:spPr>
          <a:xfrm>
            <a:off x="1908000" y="3068640"/>
            <a:ext cx="1814760" cy="26272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" descr=""/>
          <p:cNvPicPr/>
          <p:nvPr/>
        </p:nvPicPr>
        <p:blipFill>
          <a:blip r:embed="rId2"/>
          <a:stretch/>
        </p:blipFill>
        <p:spPr>
          <a:xfrm>
            <a:off x="5076720" y="3094200"/>
            <a:ext cx="1814760" cy="26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Franklin Gothic Medium"/>
              </a:rPr>
              <a:t>ЗАГАДКИ С.Я. МАРШАК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50920" y="1700280"/>
            <a:ext cx="4392360" cy="22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перед нами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е оглобли за ушам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глазах по колес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иделка на нос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Картинка 28 из 17061"/>
          <p:cNvPicPr/>
          <p:nvPr/>
        </p:nvPicPr>
        <p:blipFill>
          <a:blip r:embed="rId1"/>
          <a:stretch/>
        </p:blipFill>
        <p:spPr>
          <a:xfrm>
            <a:off x="4067280" y="3068640"/>
            <a:ext cx="4762440" cy="26766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9"/>
          <p:cNvSpPr/>
          <p:nvPr/>
        </p:nvSpPr>
        <p:spPr>
          <a:xfrm>
            <a:off x="5651640" y="5877000"/>
            <a:ext cx="1512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Franklin Gothic Medium"/>
              </a:rPr>
              <a:t>ЗАГАДКИ С.Я. МАРШАКА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324000" y="1844640"/>
            <a:ext cx="4824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ьют его рукой и палко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му его не жалко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за что беднягу бьют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за то, что он наду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Картинка 9 из 173075"/>
          <p:cNvPicPr/>
          <p:nvPr/>
        </p:nvPicPr>
        <p:blipFill>
          <a:blip r:embed="rId1"/>
          <a:stretch/>
        </p:blipFill>
        <p:spPr>
          <a:xfrm>
            <a:off x="5148360" y="907920"/>
            <a:ext cx="3609720" cy="38102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5"/>
          <p:cNvSpPr/>
          <p:nvPr/>
        </p:nvSpPr>
        <p:spPr>
          <a:xfrm>
            <a:off x="5940360" y="4581360"/>
            <a:ext cx="208764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42920" y="1341000"/>
            <a:ext cx="68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Юбилей любимого детского писателя отмечают по всей России. Но центром торжества является родной город С.Я. Маршака - Воронеж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Именно на родине был открыт памятник писателю в 2015 год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Автор скульптурной группы стал местный художник М. Дикун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оэт Самуил Маршак держит на ладони маленькую птичку и внимательно смотрит на маленькую девочку с крылышками. По мнению скульптора так выглядит муза детского поэта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 честь писателя названа одна из улиц в городе Воронеже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587920" cy="10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ПАМЯТНИК ПОЭТУ С. МАРШАКУ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20" y="5660640"/>
            <a:ext cx="550872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34342"/>
                </a:solidFill>
                <a:latin typeface="Franklin Gothic Book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1" name="Рисунок 8" descr=""/>
          <p:cNvPicPr/>
          <p:nvPr/>
        </p:nvPicPr>
        <p:blipFill>
          <a:blip r:embed="rId1"/>
          <a:stretch/>
        </p:blipFill>
        <p:spPr>
          <a:xfrm>
            <a:off x="-541440" y="333360"/>
            <a:ext cx="9793440" cy="489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7:55:22Z</dcterms:created>
  <dc:creator>Admin</dc:creator>
  <dc:description/>
  <dc:language>en-US</dc:language>
  <cp:lastModifiedBy>Admin</cp:lastModifiedBy>
  <dcterms:modified xsi:type="dcterms:W3CDTF">2024-01-17T16:17:10Z</dcterms:modified>
  <cp:revision>36</cp:revision>
  <dc:subject/>
  <dc:title>Слайд 1</dc:title>
</cp:coreProperties>
</file>