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59A-C6EB-44B8-BC39-72299D1B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9FA-7A01-4AC6-8298-FDE7BBD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EEA-2FD5-442C-887D-DA1D5B9E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B5F-EC7C-458A-BF1C-3C602D6E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48FB-A682-45A5-89CB-80D63CFC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4F8A-1D09-4941-8346-E39FD83F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A26-CEDF-4D72-9915-7342D343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DFBD-9BD7-4267-A308-045BD256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782-7D19-4AEE-813E-EE2581B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97C1-5ABE-4F22-8DA5-10384048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803-4C08-49F0-B20D-29A6D13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864-A6AC-482A-928A-707D742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94A-98DE-4425-ACD8-EF7956B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0C36-D99C-491D-88FE-CB5F8604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37D-E099-4F2A-B01F-A715D17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5D8F-1B44-4504-956A-39902178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81BE-520D-4651-987B-81205977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AC57-C65E-4494-AA21-E14F6110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13B7-81CD-41C4-BF01-7A0B045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FDC2-8EA0-44AA-98E9-FDB7238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36B4-D80A-4A28-848B-BFFCA2B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9B61-7FA9-4D0F-ABF0-A1B9824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E69-B816-498C-88D7-E37A3C81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9B7-93A7-4D2B-81F8-20BC431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A365-B3DD-4AF0-B1B9-BD18BBD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84FF-8609-4DC0-A313-CDE03D77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EDE8-F982-4639-98ED-3C69A07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1936-0F73-4EAA-A75C-411D563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D9E0-2E13-485C-9F69-5725B698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E615-6813-4C42-B181-200D34A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DDF9-8506-49AD-9B8D-69FEA53B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1647-9F7D-48F5-984C-BAADB861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55FC-AD66-4C11-B5EB-640D719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164-4A9B-495D-8190-535540D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D3EF-C907-4F86-A7E7-4A960F69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92D6-234C-4CDB-B40C-8637A6D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1D34-A772-4E59-89AB-6B02744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71F7-78FE-4A15-8C92-42874A5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7A44-80B1-452A-9818-1B5B57C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F11B-F379-4F84-AFC8-19C479E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3E0D-F236-424C-A103-3337B77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6A50-410B-4E8E-B72D-53A5E5D0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D1AA-5466-4B96-A25E-53C853B2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ACF84-EFD0-46F2-91BB-A81DB0DA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7BD-905C-4738-9D65-33ABAB4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2B9E-A707-4A0A-A8EF-9FA7546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8D9E-8C1E-4065-8D00-22FB8CA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399B-371E-4985-B308-FA9A9E33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D5FA-8E8B-4CF3-BC92-C1058483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D893E-C3E3-44F1-A88B-CB3ED2B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F427-5D34-48D5-9C4C-059D0A7B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A169-AAD1-4566-93AA-2CA317C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922E-B8FC-40A8-B112-6DC4CA29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03EC-0761-4F9D-B8A8-3F38D7D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37EA-8A7E-40EC-BC28-1E97254F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42B-8D6D-40C7-A05D-A4E4EE58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A9F5-CF79-4385-8410-92651C46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698-9E01-48B5-BBBB-806588D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7D2-0729-4196-B4DD-67E3CC2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7B7-F1A9-4E70-A102-2C40250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DD39-42F7-4C6E-8C0A-1E598F88FEB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0C0-65F3-4D55-B69A-8A21B2634D1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E63-DE75-4A8E-BF27-0A8201F223C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1E2B-F942-4301-ABFF-7ADC5E6F4192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021-785C-42BC-82FE-A19B9889F8F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5/m2oo7.0/0_22f55_6059b741_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60615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i.net.ru/books/81737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elpmammy.ru/text-images/206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067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19280" y="2349000"/>
            <a:ext cx="6624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-детям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924360" y="620640"/>
            <a:ext cx="47512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1857140_Gde_obedal_vorobej"/>
          <p:cNvPicPr/>
          <p:nvPr/>
        </p:nvPicPr>
        <p:blipFill>
          <a:blip r:embed="rId1"/>
          <a:stretch/>
        </p:blipFill>
        <p:spPr>
          <a:xfrm>
            <a:off x="336600" y="333360"/>
            <a:ext cx="3660840" cy="3743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" descr=""/>
          <p:cNvPicPr/>
          <p:nvPr/>
        </p:nvPicPr>
        <p:blipFill>
          <a:blip r:embed="rId2"/>
          <a:stretch/>
        </p:blipFill>
        <p:spPr>
          <a:xfrm>
            <a:off x="4570560" y="237960"/>
            <a:ext cx="380016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5796000" y="4221000"/>
            <a:ext cx="30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55640" y="333360"/>
            <a:ext cx="4896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елания друзьям</a:t>
            </a:r>
            <a:br>
              <a:rPr sz="32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 вам цвести, рас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ть, крепить здоров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для дальнего пути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ейшее условь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каждый день и каждый ч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новое добуд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добрым будет ум у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ердце умным буд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от души желаю 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зья, всего хорош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ё хорошее,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ется нам недешево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Картинка 22 из 13065"/>
          <p:cNvPicPr/>
          <p:nvPr/>
        </p:nvPicPr>
        <p:blipFill>
          <a:blip r:embed="rId1"/>
          <a:stretch/>
        </p:blipFill>
        <p:spPr>
          <a:xfrm>
            <a:off x="5796000" y="40464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Спасибо 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Franklin Gothic Book"/>
              </a:rPr>
              <a:t>Самуилу Яковлевичу Маршаку</a:t>
            </a:r>
            <a:r>
              <a:rPr b="1" lang="ru-RU" sz="5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за чудесный подарок детям!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60376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амуил Маршак - замечательный поэт, драматург и переводчик, очень любивший детей и создавший для них великолепные произведения. Это был человек большого и доброго сердца, и талант его был такой же большой и удивительно жанрово разнообразный: в его творческом багаже загадки, считалки, присказки, сказки, басни, баллады, поэмы, пьесы, рассказы в стихах и познавательные очерки в стих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002360" cy="39909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4067280" y="907920"/>
            <a:ext cx="43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(1887-196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Картинка 159 из 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8880" y="1628640"/>
            <a:ext cx="1776240" cy="237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Картинка 315 из 30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64080"/>
            <a:ext cx="1695600" cy="2298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258 из 30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9000" y="1311120"/>
            <a:ext cx="1425600" cy="222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ртинка 22 из 1306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2060640"/>
            <a:ext cx="2392560" cy="295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Картинка 151 из 3065"/>
          <p:cNvPicPr/>
          <p:nvPr/>
        </p:nvPicPr>
        <p:blipFill>
          <a:blip r:embed="rId9"/>
          <a:stretch/>
        </p:blipFill>
        <p:spPr>
          <a:xfrm>
            <a:off x="2268360" y="203040"/>
            <a:ext cx="123516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Картинка 155 из 3065"/>
          <p:cNvPicPr/>
          <p:nvPr/>
        </p:nvPicPr>
        <p:blipFill>
          <a:blip r:embed="rId10"/>
          <a:stretch/>
        </p:blipFill>
        <p:spPr>
          <a:xfrm>
            <a:off x="5148360" y="4776840"/>
            <a:ext cx="1592280" cy="208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Картинка 161 из 3065"/>
          <p:cNvPicPr/>
          <p:nvPr/>
        </p:nvPicPr>
        <p:blipFill>
          <a:blip r:embed="rId11"/>
          <a:stretch/>
        </p:blipFill>
        <p:spPr>
          <a:xfrm>
            <a:off x="3732120" y="189000"/>
            <a:ext cx="1623960" cy="184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Картинка 176 из 3065"/>
          <p:cNvPicPr/>
          <p:nvPr/>
        </p:nvPicPr>
        <p:blipFill>
          <a:blip r:embed="rId12"/>
          <a:stretch/>
        </p:blipFill>
        <p:spPr>
          <a:xfrm>
            <a:off x="1042920" y="314172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Картинка 141 из 3065"/>
          <p:cNvPicPr/>
          <p:nvPr/>
        </p:nvPicPr>
        <p:blipFill>
          <a:blip r:embed="rId13"/>
          <a:stretch/>
        </p:blipFill>
        <p:spPr>
          <a:xfrm>
            <a:off x="5478480" y="203040"/>
            <a:ext cx="1498680" cy="1940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Картинка 275 из 3065"/>
          <p:cNvPicPr/>
          <p:nvPr/>
        </p:nvPicPr>
        <p:blipFill>
          <a:blip r:embed="rId14"/>
          <a:stretch/>
        </p:blipFill>
        <p:spPr>
          <a:xfrm>
            <a:off x="1776240" y="4776840"/>
            <a:ext cx="158616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3a2ff"/>
          <p:cNvPicPr/>
          <p:nvPr/>
        </p:nvPicPr>
        <p:blipFill>
          <a:blip r:embed="rId15"/>
          <a:stretch/>
        </p:blipFill>
        <p:spPr>
          <a:xfrm>
            <a:off x="3503520" y="4776840"/>
            <a:ext cx="15368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Franklin Gothic Medium"/>
              </a:rPr>
              <a:t>ИЗ БИОГРАФИ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08000" y="1125360"/>
            <a:ext cx="497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уил Яковлевич Маршак родился 3 ноября 1887 года в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льчик с детства тянулся к знаниям, к книгам, рано стал писать стих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н хотел, чтобы все ребята росли умными, честными, смелыми, любознательным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5" descr="marshak-2_original"/>
          <p:cNvPicPr/>
          <p:nvPr/>
        </p:nvPicPr>
        <p:blipFill>
          <a:blip r:embed="rId1"/>
          <a:stretch/>
        </p:blipFill>
        <p:spPr>
          <a:xfrm>
            <a:off x="395280" y="1557360"/>
            <a:ext cx="3228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716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ОДИТЕЛИ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ец Яков Миронович Маршак был рабочим на химическом заводе. Он любил книги, литературу и всегда рассказывал детям что-то интересное, познавательное. Его мать Евгения Борисовна была женщиной сдержанной и немногословно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1814760" cy="2627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5076720" y="3094200"/>
            <a:ext cx="1814760" cy="26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0920" y="1700280"/>
            <a:ext cx="439236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ед нам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делка на н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Картинка 28 из 17061"/>
          <p:cNvPicPr/>
          <p:nvPr/>
        </p:nvPicPr>
        <p:blipFill>
          <a:blip r:embed="rId1"/>
          <a:stretch/>
        </p:blipFill>
        <p:spPr>
          <a:xfrm>
            <a:off x="4067280" y="3068640"/>
            <a:ext cx="4762440" cy="2676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9"/>
          <p:cNvSpPr/>
          <p:nvPr/>
        </p:nvSpPr>
        <p:spPr>
          <a:xfrm>
            <a:off x="5651640" y="5877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24000" y="1844640"/>
            <a:ext cx="4824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ьют его рукой и палк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му его не жалк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что беднягу бьют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то, что он н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Картинка 9 из 173075"/>
          <p:cNvPicPr/>
          <p:nvPr/>
        </p:nvPicPr>
        <p:blipFill>
          <a:blip r:embed="rId1"/>
          <a:stretch/>
        </p:blipFill>
        <p:spPr>
          <a:xfrm>
            <a:off x="5148360" y="907920"/>
            <a:ext cx="3609720" cy="3810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5940360" y="4581360"/>
            <a:ext cx="20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42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Юбилей любимого детского писателя отмечают по всей России. Но центром торжества является родной город С.Я. Маршака - Воронеж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менно на родине был открыт памятник писателю в 2015 год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втор скульптурной группы стал местный художник М. Дику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эт Самуил Маршак держит на ладони маленькую птичку и внимательно смотрит на маленькую девочку с крылышками. По мнению скульптора так выглядит муза детского поэт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честь писателя названа одна из улиц в городе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58792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АМЯТНИК ПОЭТУ С. МАРШАК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20" y="5660640"/>
            <a:ext cx="55087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4342"/>
                </a:solidFill>
                <a:latin typeface="Franklin Gothic Book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1" name="Рисунок 8" descr=""/>
          <p:cNvPicPr/>
          <p:nvPr/>
        </p:nvPicPr>
        <p:blipFill>
          <a:blip r:embed="rId1"/>
          <a:stretch/>
        </p:blipFill>
        <p:spPr>
          <a:xfrm>
            <a:off x="-541440" y="333360"/>
            <a:ext cx="9793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5:22Z</dcterms:created>
  <dc:creator>Admin</dc:creator>
  <dc:description/>
  <dc:language>en-US</dc:language>
  <cp:lastModifiedBy>Admin</cp:lastModifiedBy>
  <dcterms:modified xsi:type="dcterms:W3CDTF">2024-01-17T16:17:10Z</dcterms:modified>
  <cp:revision>36</cp:revision>
  <dc:subject/>
  <dc:title>Слайд 1</dc:title>
</cp:coreProperties>
</file>