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8E7-F296-4026-9327-5ADD8F07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F21-D9BB-4B46-9045-C2D38E6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44B-18DB-4AEE-999F-7F4D61D4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C93-6836-4BCA-B625-768A619E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9EF4-FE71-493E-A13B-1A6BB28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4EE1-D6C7-41FC-814A-58A78FC0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341-6D30-4F2F-A180-614FF4A1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D76E-8605-4450-AFF9-40B82DE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B8D7-8631-4FEC-9A0F-AB917A5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48F-BDAA-43CA-9B01-27A24849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CBB7-EEC1-40B6-A2C8-20599D2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CE5-A337-4E7B-979C-DA9658E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2F4-E7E1-4A74-890B-405B87E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87CF-A82C-4612-8435-E4A107B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23CE-1923-476D-BCEF-E69CB09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58CD-8DB4-4587-B7F7-8652BD87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8CC-722E-4B6C-8CA6-3D1E2BF4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078A-D12B-4350-B59B-FBC30193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E58F-F0E1-4488-AD1F-AF7CE29E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26C7-15B3-4CE5-889D-6AB6179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D450-C904-4FC9-AD9C-E7B706F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619A-6907-4FC9-AC20-60709E52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60D-8424-4552-86F8-A270AB2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5A12-BAE2-47B3-9E7D-D8F7AE8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22EF-ACAF-4534-8805-AD518E37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5778-EC78-4EE8-AF68-C29F11E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43C5-292A-4294-BEF9-61A5F14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10F4-C5A2-47DF-81E0-AA001C67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C750-D803-4911-9798-682B0858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D1DD-9F4D-4EE4-9005-693E5647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AEEA-2A4A-4720-9C30-D10D69A8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5BDAC-D7EA-46C7-8F3A-8C3BFB2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D3CD-A049-4AF8-A20B-86BF1B60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819-2CF2-403A-8F9B-C946949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4343-6C3A-4E5A-828C-391675B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87E3-6215-4944-B9D7-139FDDFB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729F-6AD7-4FE3-B96C-C9B823B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CD33-77BC-48C8-8255-C3AE6DA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A784-8EB4-4B2C-9C28-5948E4E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B87F-8E5B-45BD-88D0-A12405E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AF97-DAD8-4D6E-9DA7-6E24D1A5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64EB-7B40-48ED-A311-07A08DEB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6AF1-0C44-4826-91BF-BEEE4913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B794-FC2F-4751-BC0A-3E1964CE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28D-1812-4A1F-9A30-57655F1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23C1-F156-4C2B-B63B-3DB080DE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414F1-65F6-416B-AA22-A7E8173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DDF7-BF00-4866-8909-8C7A3E1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CDBF-3615-43E1-A858-FD04ECE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2176-A16B-4DF2-8543-058F79F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2C7D-982D-4ED0-8A48-BF7FF04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4FE2-2CE5-4266-AFA2-DEEBEAE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93F2-CB4E-43B1-B921-57A8695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EDFF-0A04-4344-B380-F0F324D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41B2-A963-4FFE-AA9B-FAA05656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1E2-2409-407D-BC5C-D0DEE17D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D6B7-55F7-4BAC-A4E1-ADC307D0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93D-A0CA-401E-AC37-0587432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02F-E8FE-4D07-995E-6E6CF62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139-8FFC-49AD-AB35-8DB9870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26F4-C2CC-408B-BE3B-767FD9256F7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1EF-94D4-443D-80B1-177D244ABF4B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3C21-BB0B-4789-8110-8F4923291EA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DCE2-0B15-4A20-B77B-E10D3A031BCA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A4E-0DC5-4A17-A2D1-6E819903EE5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5/m2oo7.0/0_22f55_6059b741_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60615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i.net.ru/books/81737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elpmammy.ru/text-images/206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067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19280" y="2349000"/>
            <a:ext cx="6624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-детям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924360" y="620640"/>
            <a:ext cx="47512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1857140_Gde_obedal_vorobej"/>
          <p:cNvPicPr/>
          <p:nvPr/>
        </p:nvPicPr>
        <p:blipFill>
          <a:blip r:embed="rId1"/>
          <a:stretch/>
        </p:blipFill>
        <p:spPr>
          <a:xfrm>
            <a:off x="336600" y="333360"/>
            <a:ext cx="3660840" cy="3743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" descr=""/>
          <p:cNvPicPr/>
          <p:nvPr/>
        </p:nvPicPr>
        <p:blipFill>
          <a:blip r:embed="rId2"/>
          <a:stretch/>
        </p:blipFill>
        <p:spPr>
          <a:xfrm>
            <a:off x="4570560" y="237960"/>
            <a:ext cx="380016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5796000" y="4221000"/>
            <a:ext cx="30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55640" y="333360"/>
            <a:ext cx="4896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елания друзьям</a:t>
            </a:r>
            <a:br>
              <a:rPr sz="32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 вам цвести, рас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ть, крепить здоров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для дальнего пути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ейшее условь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каждый день и каждый ч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новое добуд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добрым будет ум у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ердце умным буд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от души желаю 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зья, всего хорош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ё хорошее,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ется нам недешево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Картинка 22 из 13065"/>
          <p:cNvPicPr/>
          <p:nvPr/>
        </p:nvPicPr>
        <p:blipFill>
          <a:blip r:embed="rId1"/>
          <a:stretch/>
        </p:blipFill>
        <p:spPr>
          <a:xfrm>
            <a:off x="5796000" y="40464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Спасибо 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Franklin Gothic Book"/>
              </a:rPr>
              <a:t>Самуилу Яковлевичу Маршаку</a:t>
            </a:r>
            <a:r>
              <a:rPr b="1" lang="ru-RU" sz="5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cc"/>
                </a:solidFill>
                <a:latin typeface="Franklin Gothic Book"/>
              </a:rPr>
              <a:t>за чудесный подарок детям!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60376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амуил Маршак - замечательный поэт, драматург и переводчик, очень любивший детей и создавший для них великолепные произведения. Это был человек большого и доброго сердца, и талант его был такой же большой и удивительно жанрово разнообразный: в его творческом багаже загадки, считалки, присказки, сказки, басни, баллады, поэмы, пьесы, рассказы в стихах и познавательные очерки в стих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002360" cy="39909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4067280" y="907920"/>
            <a:ext cx="43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(1887-196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Картинка 159 из 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8880" y="1628640"/>
            <a:ext cx="1776240" cy="237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Картинка 315 из 30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64080"/>
            <a:ext cx="1695600" cy="2298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258 из 30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19000" y="1311120"/>
            <a:ext cx="1425600" cy="222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ртинка 22 из 1306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2060640"/>
            <a:ext cx="2392560" cy="295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Картинка 151 из 3065"/>
          <p:cNvPicPr/>
          <p:nvPr/>
        </p:nvPicPr>
        <p:blipFill>
          <a:blip r:embed="rId9"/>
          <a:stretch/>
        </p:blipFill>
        <p:spPr>
          <a:xfrm>
            <a:off x="2268360" y="203040"/>
            <a:ext cx="123516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Картинка 155 из 3065"/>
          <p:cNvPicPr/>
          <p:nvPr/>
        </p:nvPicPr>
        <p:blipFill>
          <a:blip r:embed="rId10"/>
          <a:stretch/>
        </p:blipFill>
        <p:spPr>
          <a:xfrm>
            <a:off x="5148360" y="4776840"/>
            <a:ext cx="1592280" cy="208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Картинка 161 из 3065"/>
          <p:cNvPicPr/>
          <p:nvPr/>
        </p:nvPicPr>
        <p:blipFill>
          <a:blip r:embed="rId11"/>
          <a:stretch/>
        </p:blipFill>
        <p:spPr>
          <a:xfrm>
            <a:off x="3732120" y="189000"/>
            <a:ext cx="1623960" cy="184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Картинка 176 из 3065"/>
          <p:cNvPicPr/>
          <p:nvPr/>
        </p:nvPicPr>
        <p:blipFill>
          <a:blip r:embed="rId12"/>
          <a:stretch/>
        </p:blipFill>
        <p:spPr>
          <a:xfrm>
            <a:off x="1042920" y="314172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Картинка 141 из 3065"/>
          <p:cNvPicPr/>
          <p:nvPr/>
        </p:nvPicPr>
        <p:blipFill>
          <a:blip r:embed="rId13"/>
          <a:stretch/>
        </p:blipFill>
        <p:spPr>
          <a:xfrm>
            <a:off x="5478480" y="203040"/>
            <a:ext cx="1498680" cy="1940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Картинка 275 из 3065"/>
          <p:cNvPicPr/>
          <p:nvPr/>
        </p:nvPicPr>
        <p:blipFill>
          <a:blip r:embed="rId14"/>
          <a:stretch/>
        </p:blipFill>
        <p:spPr>
          <a:xfrm>
            <a:off x="1776240" y="4776840"/>
            <a:ext cx="158616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3a2ff"/>
          <p:cNvPicPr/>
          <p:nvPr/>
        </p:nvPicPr>
        <p:blipFill>
          <a:blip r:embed="rId15"/>
          <a:stretch/>
        </p:blipFill>
        <p:spPr>
          <a:xfrm>
            <a:off x="3503520" y="4776840"/>
            <a:ext cx="15368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Franklin Gothic Medium"/>
              </a:rPr>
              <a:t>ИЗ БИОГРАФИ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08000" y="1125360"/>
            <a:ext cx="497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уил Яковлевич Маршак родился 3 ноября 1887 года в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льчик с детства тянулся к знаниям, к книгам, рано стал писать стих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н хотел, чтобы все ребята росли умными, честными, смелыми, любознательным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5" descr="marshak-2_original"/>
          <p:cNvPicPr/>
          <p:nvPr/>
        </p:nvPicPr>
        <p:blipFill>
          <a:blip r:embed="rId1"/>
          <a:stretch/>
        </p:blipFill>
        <p:spPr>
          <a:xfrm>
            <a:off x="395280" y="1557360"/>
            <a:ext cx="3228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716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ОДИТЕЛИ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98064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ец Яков Миронович Маршак был рабочим на химическом заводе. Он любил книги, литературу и всегда рассказывал детям что-то интересное, познавательное. Его мать Евгения Борисовна была женщиной сдержанной и немногословно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1814760" cy="2627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5076720" y="3094200"/>
            <a:ext cx="1814760" cy="26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0920" y="1700280"/>
            <a:ext cx="439236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ед нам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делка на н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Картинка 28 из 17061"/>
          <p:cNvPicPr/>
          <p:nvPr/>
        </p:nvPicPr>
        <p:blipFill>
          <a:blip r:embed="rId1"/>
          <a:stretch/>
        </p:blipFill>
        <p:spPr>
          <a:xfrm>
            <a:off x="4067280" y="3068640"/>
            <a:ext cx="4762440" cy="2676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9"/>
          <p:cNvSpPr/>
          <p:nvPr/>
        </p:nvSpPr>
        <p:spPr>
          <a:xfrm>
            <a:off x="5651640" y="5877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Medium"/>
              </a:rPr>
              <a:t>ЗАГАДКИ С.Я. МАРШАКА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24000" y="1844640"/>
            <a:ext cx="4824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ьют его рукой и палк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му его не жалк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что беднягу бьют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то, что он н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Картинка 9 из 173075"/>
          <p:cNvPicPr/>
          <p:nvPr/>
        </p:nvPicPr>
        <p:blipFill>
          <a:blip r:embed="rId1"/>
          <a:stretch/>
        </p:blipFill>
        <p:spPr>
          <a:xfrm>
            <a:off x="5148360" y="907920"/>
            <a:ext cx="3609720" cy="3810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5940360" y="4581360"/>
            <a:ext cx="20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42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Юбилей любимого детского писателя отмечают по всей России. Но центром торжества является родной город С.Я. Маршака - Воронеж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менно на родине был открыт памятник писателю в 2015 год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втор скульптурной группы стал местный художник М. Дику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эт Самуил Маршак держит на ладони маленькую птичку и внимательно смотрит на маленькую девочку с крылышками. По мнению скульптора так выглядит муза детского поэт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честь писателя названа одна из улиц в городе Воронеж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58792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АМЯТНИК ПОЭТУ С. МАРШАК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20" y="5660640"/>
            <a:ext cx="55087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4342"/>
                </a:solidFill>
                <a:latin typeface="Franklin Gothic Book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1" name="Рисунок 8" descr=""/>
          <p:cNvPicPr/>
          <p:nvPr/>
        </p:nvPicPr>
        <p:blipFill>
          <a:blip r:embed="rId1"/>
          <a:stretch/>
        </p:blipFill>
        <p:spPr>
          <a:xfrm>
            <a:off x="-541440" y="333360"/>
            <a:ext cx="9793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5:22Z</dcterms:created>
  <dc:creator>Admin</dc:creator>
  <dc:description/>
  <dc:language>en-US</dc:language>
  <cp:lastModifiedBy>Admin</cp:lastModifiedBy>
  <dcterms:modified xsi:type="dcterms:W3CDTF">2024-01-17T16:17:10Z</dcterms:modified>
  <cp:revision>36</cp:revision>
  <dc:subject/>
  <dc:title>Слайд 1</dc:title>
</cp:coreProperties>
</file>