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05F-695A-45C2-97DA-8C39E791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470-8649-426A-85D6-BC5A6DAB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7D1-E9C5-4267-96D7-DEE92EA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198-3FA5-43B0-8368-B682748D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408-828F-4698-AA8C-1B179A0E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FA3-DA96-4423-B376-5CE52DC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938-29B2-48BA-BF0E-9B5B7E2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5287-D64E-4BAA-B45D-632841F1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1BA5-3E28-4638-B989-518204D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82A-3BA8-4C8A-8A65-300C10E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DC8D-E29C-47C7-A3A1-F4A016B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69A-F470-4781-A836-80399AA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591A-988A-439A-94AA-4D3132A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478B-B0D3-45A1-9AD7-9D3C9BE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4C6-59DB-4A2E-92AA-78D2AA9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98D3-835E-4312-8411-94AEBBC5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E956-6EB6-434B-B428-EFD354E3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83D7-4065-4D0B-8D38-64405158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6C1B-5134-4657-A193-A61E0CBE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FC10-A628-4AE9-96C0-16D0CD78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E8D0-4286-44C4-B25A-14B5FCD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1A21-2DBF-495A-A0C4-FCAE888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F40-D7B3-4D21-BEFC-3C3C6712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B063-0940-4C61-B35C-F5ADF6C9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C8CC-DCA8-4003-8C52-D2621ED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CEFB-7277-496D-81C2-9040525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9D67-7784-4CD2-9B87-1B5A0DC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6455-5B64-4A2E-A0F2-FA5E1DB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FD0A-0E57-48B4-9805-FD62BB7C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4A34-4983-42E6-A05B-42F99AA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E8EA-6E42-42E3-BBE4-468B4E33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2EFF-955A-4AF8-9616-8051C90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573C-71EF-474E-A1C9-8AA878C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10B-8A7B-4A9D-AF70-A6FDF3C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A4AB-E6BD-4D0E-BACB-1120E6A1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FE79-235F-423A-80A2-BE0E31D6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36A5-7783-4489-8E7A-4EB63AE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3FB5-CCAB-4881-9DC6-721F0B9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DC94-8FB1-4A57-9300-6DAB81BC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7D94-627C-4A2E-BEA3-B3806AB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F716-D41B-4B30-9CB5-11B66089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8A64-0F3D-43EE-8FC1-231C583E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72A6-0EF7-4164-A18D-89BEA39B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CB-4F86-4018-A05B-25045FDB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D4C-FF73-4E17-B781-830951E9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B2-AB9A-4821-9748-1EE852B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6C2-23F9-42B5-A560-E0CBA4A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CED-12D6-4675-B541-3395001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4AD-18B2-4650-9C13-D76CEFC7B6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3C8-916E-460C-9832-E1FDC02D990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2560-BA83-44B2-BEBF-BBC1A4B8E8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85A-6137-4CFB-91A9-8637056B48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480" y="84240"/>
            <a:ext cx="8375400" cy="18986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3"/>
          <a:stretch/>
        </p:blipFill>
        <p:spPr>
          <a:xfrm>
            <a:off x="0" y="2319480"/>
            <a:ext cx="8955000" cy="415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4"/>
          <a:stretch/>
        </p:blipFill>
        <p:spPr>
          <a:xfrm>
            <a:off x="6715080" y="1042920"/>
            <a:ext cx="2225880" cy="1451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5857920" y="0"/>
            <a:ext cx="3286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ылов А.И. преподаватель-организатор ОБЖ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Новоюрьевская СО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7" descr="SS850825"/>
          <p:cNvPicPr/>
          <p:nvPr/>
        </p:nvPicPr>
        <p:blipFill>
          <a:blip r:embed="rId2"/>
          <a:srcRect l="0" t="0" r="6" b="15"/>
          <a:stretch/>
        </p:blipFill>
        <p:spPr>
          <a:xfrm>
            <a:off x="3000240" y="2143080"/>
            <a:ext cx="5902560" cy="442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19_07_2006 150"/>
          <p:cNvPicPr/>
          <p:nvPr/>
        </p:nvPicPr>
        <p:blipFill>
          <a:blip r:embed="rId3"/>
          <a:stretch/>
        </p:blipFill>
        <p:spPr>
          <a:xfrm>
            <a:off x="285840" y="28584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214200" y="5429160"/>
            <a:ext cx="2428920" cy="368280"/>
          </a:xfrm>
          <a:prstGeom prst="rect">
            <a:avLst/>
          </a:prstGeom>
          <a:solidFill>
            <a:srgbClr val="023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  ТЕЧЕНИЕ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350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02" name="TextBox 4"/>
          <p:cNvSpPr/>
          <p:nvPr/>
        </p:nvSpPr>
        <p:spPr>
          <a:xfrm>
            <a:off x="428760" y="1071720"/>
            <a:ext cx="814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00040" y="4500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071800" y="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2"/>
          <a:stretch/>
        </p:blipFill>
        <p:spPr>
          <a:xfrm>
            <a:off x="6715080" y="11430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428760" y="14288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428760" y="40719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2"/>
          <a:stretch/>
        </p:blipFill>
        <p:spPr>
          <a:xfrm>
            <a:off x="1357200" y="1285920"/>
            <a:ext cx="6500880" cy="487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TextBox 5"/>
          <p:cNvSpPr/>
          <p:nvPr/>
        </p:nvSpPr>
        <p:spPr>
          <a:xfrm>
            <a:off x="4000680" y="5643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1357200" y="1285920"/>
            <a:ext cx="6500880" cy="487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6438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2428920" y="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0" y="538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4"/>
          <p:cNvSpPr/>
          <p:nvPr/>
        </p:nvSpPr>
        <p:spPr>
          <a:xfrm flipV="1" rot="10800000">
            <a:off x="-360" y="1235160"/>
            <a:ext cx="60721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576680" y="-2203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2"/>
          <a:stretch/>
        </p:blipFill>
        <p:spPr>
          <a:xfrm>
            <a:off x="5929200" y="1285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3"/>
          <a:stretch/>
        </p:blipFill>
        <p:spPr>
          <a:xfrm>
            <a:off x="5929200" y="114300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4"/>
          <a:stretch/>
        </p:blipFill>
        <p:spPr>
          <a:xfrm>
            <a:off x="5929200" y="1214280"/>
            <a:ext cx="29768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8" descr="{ECBF9BD_0.tmp"/>
          <p:cNvPicPr/>
          <p:nvPr/>
        </p:nvPicPr>
        <p:blipFill>
          <a:blip r:embed="rId2"/>
          <a:srcRect l="0" t="0" r="69" b="0"/>
          <a:stretch/>
        </p:blipFill>
        <p:spPr>
          <a:xfrm>
            <a:off x="642960" y="1214280"/>
            <a:ext cx="7500960" cy="536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9" descr="{DE0632F_0.tmp"/>
          <p:cNvPicPr/>
          <p:nvPr/>
        </p:nvPicPr>
        <p:blipFill>
          <a:blip r:embed="rId3"/>
          <a:srcRect l="0" t="0" r="79" b="0"/>
          <a:stretch/>
        </p:blipFill>
        <p:spPr>
          <a:xfrm>
            <a:off x="642960" y="1214280"/>
            <a:ext cx="2571840" cy="2079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42960" y="364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071880" y="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rcRect l="0" t="0" r="-2832" b="-11818"/>
          <a:stretch/>
        </p:blipFill>
        <p:spPr>
          <a:xfrm>
            <a:off x="3786120" y="1214280"/>
            <a:ext cx="5419800" cy="385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C:\Users\Учитель\Desktop\C&amp;M\ELVT\Files\0A\{0A30B3BF-B8AD-488B-BFEE-FC6F37A37E27}.JPG"/>
          <p:cNvPicPr/>
          <p:nvPr/>
        </p:nvPicPr>
        <p:blipFill>
          <a:blip r:embed="rId3"/>
          <a:srcRect l="0" t="0" r="-81" b="-20"/>
          <a:stretch/>
        </p:blipFill>
        <p:spPr>
          <a:xfrm>
            <a:off x="285840" y="1214280"/>
            <a:ext cx="3348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Учитель\Desktop\C&amp;M\ELVT\Files\1D\{1D92560A-75A6-4FAB-80CB-3A4887BFF5FB}.jpg"/>
          <p:cNvPicPr/>
          <p:nvPr/>
        </p:nvPicPr>
        <p:blipFill>
          <a:blip r:embed="rId4"/>
          <a:srcRect l="0" t="0" r="-17" b="30"/>
          <a:stretch/>
        </p:blipFill>
        <p:spPr>
          <a:xfrm>
            <a:off x="-357120" y="12142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право 8"/>
          <p:cNvSpPr/>
          <p:nvPr/>
        </p:nvSpPr>
        <p:spPr>
          <a:xfrm>
            <a:off x="3357720" y="1857240"/>
            <a:ext cx="50004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1000080" y="5000760"/>
            <a:ext cx="142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920" y="1214280"/>
            <a:ext cx="90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428920" y="37296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C:\Users\Учитель\Desktop\5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2"/>
          <a:stretch/>
        </p:blipFill>
        <p:spPr>
          <a:xfrm>
            <a:off x="357120" y="1857240"/>
            <a:ext cx="5605560" cy="4214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357120" y="6286680"/>
            <a:ext cx="2286000" cy="368280"/>
          </a:xfrm>
          <a:prstGeom prst="rect">
            <a:avLst/>
          </a:prstGeom>
          <a:solidFill>
            <a:srgbClr val="034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ТЕЧ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3" descr="D:\Киреев\фото\эксп2 показ\PICT3528.JPG"/>
          <p:cNvPicPr/>
          <p:nvPr/>
        </p:nvPicPr>
        <p:blipFill>
          <a:blip r:embed="rId3"/>
          <a:stretch/>
        </p:blipFill>
        <p:spPr>
          <a:xfrm>
            <a:off x="3071880" y="214200"/>
            <a:ext cx="5857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>allprezentation.ru</dc:description>
  <dc:language>en-US</dc:language>
  <cp:lastModifiedBy>Gorod</cp:lastModifiedBy>
  <dcterms:modified xsi:type="dcterms:W3CDTF">2010-11-23T06:14:20Z</dcterms:modified>
  <cp:revision>99</cp:revision>
  <dc:subject/>
  <dc:title>На водоём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d000000000001024140</vt:lpwstr>
  </property>
</Properties>
</file>