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2.jpeg" ContentType="image/jpeg"/>
  <Override PartName="/ppt/media/image6.png" ContentType="image/pn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17.jpeg" ContentType="image/jpeg"/>
  <Override PartName="/ppt/media/image3.png" ContentType="image/png"/>
  <Override PartName="/ppt/media/image4.jpeg" ContentType="image/jpeg"/>
  <Override PartName="/ppt/media/image2.png" ContentType="image/png"/>
  <Override PartName="/ppt/media/image25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24C9D-38C1-458D-B47B-DD751037B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3FDE2-339E-4B15-A12E-C63A36EDA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2CA1A-FCD5-4382-A4EC-D8D64BFC7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5F252-D260-448C-B890-E0BEDF6DD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BC173-94F5-435F-A3D3-50FA1DA12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5779E-4EAD-40DE-A97C-B8F3184BC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9E3D1-D1AB-4DAC-A87F-2696FAEFA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D0894-919A-4CD8-8566-E341CB112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83738-8CC1-4874-A044-D631C52FD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3BC97-1EAD-4BD2-85C4-5DE3CDE3D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4FCC5-A896-4A10-B562-C97048EEC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0CF7D-863A-4F9A-9600-B709DED22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1BC64-D434-43FB-ABA8-1A055460F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CB9CF-0F25-4C5B-B30D-F52C4C525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5A36D-E776-4319-A55C-EB52EDB85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5B1CC-D58F-42D3-A694-91F346983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CB90E-3F63-4AEC-8291-21AE77ADC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BF25E6-160C-42CD-A953-D3E95CC0B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FAA973-089D-42E0-BD3C-8B11AE337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3DB26F-E1A1-44A6-949A-FA73F1436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C65729-CBDA-48F4-8671-1FEB4FA78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9B9514-BB68-4265-A84E-C367C8C7C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84C8C-934E-403F-BF1B-25863CB1A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606C24-4413-4724-BE86-B86B34660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1EFBEE-45ED-4C71-AA29-850DCB2D4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542E6F-AF9C-4D9E-84F3-E821F1525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C9FE4A-3167-4795-AC8D-EFD63979D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149C45-9DD1-4D71-ADC1-E22930546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986ED4-38E7-499E-94E8-993A229AF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BB1293-68DC-40FA-A027-7D4644F32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BD55E9-9FC3-4BB3-B231-573719E3E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41E6D2-4161-44B8-A465-487E58D79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DABD92-3F07-4B1C-A6CF-DC71F8701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FF845-D897-4348-956B-1518B2FDE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94C0C2-9A2A-4B91-B927-CFC2E8AFE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23AAD0-6853-4110-9AD0-B679A4697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11303D-6DA8-4038-BAE5-ABD23B9E3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9F69E7-7F4D-4ED1-9D15-91FA07BA2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D99279-DA6A-4045-8E61-580C58F95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93B7CD-570C-47AD-B4DF-16860E911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F1A9BB-6D99-4D2C-8438-3F36B0EBE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8CB9B7-81BC-4B3C-BC2A-493EBD688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B6229C-2304-4C9E-95E5-919AB5F26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E3E28-C08A-4C52-B5A8-C6A5087D2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01AB9-4D02-4283-A7C1-7A0416918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3FA54-F441-410E-BBBF-73619E678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062F2-250A-415F-9848-E0254C30B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7BBDD-54E4-499E-97E2-5BB1B3359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4DF87-E098-45A6-80BB-21B5B912E018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67F61-F947-4924-8ECB-17C48848C974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3C57C-2F04-428F-A83B-21564CA25666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8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Прямоугольный треугольник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Полилиния 9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Полилиния 10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02B73-8099-4424-8A6F-7015BC52AAC1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hyperlink" Target="http://900igr.net/" TargetMode="External"/><Relationship Id="rId6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9.xml"/><Relationship Id="rId3" Type="http://schemas.openxmlformats.org/officeDocument/2006/relationships/slide" Target="slide10.xm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2"/>
          <a:stretch/>
        </p:blipFill>
        <p:spPr>
          <a:xfrm>
            <a:off x="6480" y="84240"/>
            <a:ext cx="8375400" cy="1898640"/>
          </a:xfrm>
          <a:prstGeom prst="rect">
            <a:avLst/>
          </a:prstGeom>
          <a:ln w="0">
            <a:noFill/>
          </a:ln>
        </p:spPr>
      </p:pic>
      <p:pic>
        <p:nvPicPr>
          <p:cNvPr id="196" name="Подзаголовок 2" descr=""/>
          <p:cNvPicPr/>
          <p:nvPr/>
        </p:nvPicPr>
        <p:blipFill>
          <a:blip r:embed="rId3"/>
          <a:stretch/>
        </p:blipFill>
        <p:spPr>
          <a:xfrm>
            <a:off x="0" y="2319480"/>
            <a:ext cx="8955000" cy="41526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2" descr="D:\Киреев\к презентациям\к презентациям\Безопасность на воде\пляж www.gorod63.ru.jpg"/>
          <p:cNvPicPr/>
          <p:nvPr/>
        </p:nvPicPr>
        <p:blipFill>
          <a:blip r:embed="rId4"/>
          <a:stretch/>
        </p:blipFill>
        <p:spPr>
          <a:xfrm>
            <a:off x="6715080" y="1042920"/>
            <a:ext cx="2225880" cy="1451160"/>
          </a:xfrm>
          <a:prstGeom prst="rect">
            <a:avLst/>
          </a:prstGeom>
          <a:ln w="0">
            <a:noFill/>
          </a:ln>
        </p:spPr>
      </p:pic>
      <p:sp>
        <p:nvSpPr>
          <p:cNvPr id="198" name="TextBox 4"/>
          <p:cNvSpPr/>
          <p:nvPr/>
        </p:nvSpPr>
        <p:spPr>
          <a:xfrm>
            <a:off x="5857920" y="0"/>
            <a:ext cx="3286080" cy="6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пылов А.И. преподаватель-организатор ОБЖ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ОУ Новоюрьевская СОШ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9" name="">
            <a:hlinkClick r:id="rId5"/>
          </p:cNvPr>
          <p:cNvSpPr/>
          <p:nvPr/>
        </p:nvSpPr>
        <p:spPr>
          <a:xfrm>
            <a:off x="3924360" y="6477120"/>
            <a:ext cx="129528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fdfdf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255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44" name="Picture 7" descr="SS850825"/>
          <p:cNvPicPr/>
          <p:nvPr/>
        </p:nvPicPr>
        <p:blipFill>
          <a:blip r:embed="rId2"/>
          <a:srcRect l="0" t="0" r="6" b="15"/>
          <a:stretch/>
        </p:blipFill>
        <p:spPr>
          <a:xfrm>
            <a:off x="3000240" y="2143080"/>
            <a:ext cx="5902560" cy="442908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4" descr="19_07_2006 150"/>
          <p:cNvPicPr/>
          <p:nvPr/>
        </p:nvPicPr>
        <p:blipFill>
          <a:blip r:embed="rId3"/>
          <a:stretch/>
        </p:blipFill>
        <p:spPr>
          <a:xfrm>
            <a:off x="285840" y="285840"/>
            <a:ext cx="5141880" cy="3857400"/>
          </a:xfrm>
          <a:prstGeom prst="rect">
            <a:avLst/>
          </a:prstGeom>
          <a:ln w="0">
            <a:noFill/>
          </a:ln>
        </p:spPr>
      </p:pic>
      <p:sp>
        <p:nvSpPr>
          <p:cNvPr id="246" name="TextBox 5"/>
          <p:cNvSpPr/>
          <p:nvPr/>
        </p:nvSpPr>
        <p:spPr>
          <a:xfrm>
            <a:off x="214200" y="5429160"/>
            <a:ext cx="2428920" cy="368280"/>
          </a:xfrm>
          <a:prstGeom prst="rect">
            <a:avLst/>
          </a:prstGeom>
          <a:solidFill>
            <a:srgbClr val="0230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С  ТЕЧЕНИЕМ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57120" y="213840"/>
            <a:ext cx="8229600" cy="652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7030a0"/>
                </a:solidFill>
                <a:latin typeface="Calibri"/>
              </a:rPr>
              <a:t>Водоемы – это…?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457200" y="1935000"/>
          <a:ext cx="8229600" cy="228600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4597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ВИД ВОДОЕМ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ЧЕМ ОПАСЕ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ЛЕТО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ЗИМО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Озеро  (пруд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Река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Мор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</a:tbl>
          </a:graphicData>
        </a:graphic>
      </p:graphicFrame>
      <p:sp>
        <p:nvSpPr>
          <p:cNvPr id="202" name="TextBox 4"/>
          <p:cNvSpPr/>
          <p:nvPr/>
        </p:nvSpPr>
        <p:spPr>
          <a:xfrm>
            <a:off x="428760" y="1071720"/>
            <a:ext cx="814392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По состоянию воды водоемы бывают: </a:t>
            </a:r>
            <a:r>
              <a:rPr b="0" lang="en-US" sz="2400" spc="-1" strike="noStrike" u="sng">
                <a:solidFill>
                  <a:srgbClr val="e2d700"/>
                </a:solidFill>
                <a:uFillTx/>
                <a:latin typeface="Constantia"/>
                <a:hlinkClick r:id="rId2" action="ppaction://hlinksldjump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                                                                  </a:t>
            </a:r>
            <a:r>
              <a:rPr b="0" lang="en-US" sz="2400" spc="-1" strike="noStrike" u="sng">
                <a:solidFill>
                  <a:srgbClr val="e2d700"/>
                </a:solidFill>
                <a:uFillTx/>
                <a:latin typeface="Constantia"/>
                <a:hlinkClick r:id="rId3" action="ppaction://hlinksldjump"/>
              </a:rPr>
              <a:t>2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3" name="TextBox 5"/>
          <p:cNvSpPr/>
          <p:nvPr/>
        </p:nvSpPr>
        <p:spPr>
          <a:xfrm>
            <a:off x="500040" y="4500720"/>
            <a:ext cx="8001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Основные опасности на водоемах: 1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                     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2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                     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3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4" name="Прямоугольник 6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Учимся определять опасности на водоемах в разное время года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858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4617b"/>
                </a:solidFill>
                <a:latin typeface="Calibri"/>
              </a:rPr>
              <a:t>Купаться или не купаться?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Прямоугольник 4"/>
          <p:cNvSpPr/>
          <p:nvPr/>
        </p:nvSpPr>
        <p:spPr>
          <a:xfrm>
            <a:off x="2071800" y="0"/>
            <a:ext cx="70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Правила купания в оборудованных и необорудованных местах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7" name="Picture 2" descr="D:\Киреев\к презентациям\к презентациям\Безопасность на воде\прыжок в воду www.mchs-yug.ru.jpg"/>
          <p:cNvPicPr/>
          <p:nvPr/>
        </p:nvPicPr>
        <p:blipFill>
          <a:blip r:embed="rId2"/>
          <a:stretch/>
        </p:blipFill>
        <p:spPr>
          <a:xfrm>
            <a:off x="6715080" y="1143000"/>
            <a:ext cx="2209680" cy="3200400"/>
          </a:xfrm>
          <a:prstGeom prst="rect">
            <a:avLst/>
          </a:prstGeom>
          <a:ln w="0">
            <a:noFill/>
          </a:ln>
        </p:spPr>
      </p:pic>
      <p:sp>
        <p:nvSpPr>
          <p:cNvPr id="208" name="TextBox 6"/>
          <p:cNvSpPr/>
          <p:nvPr/>
        </p:nvSpPr>
        <p:spPr>
          <a:xfrm>
            <a:off x="428760" y="1428840"/>
            <a:ext cx="521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9900"/>
                </a:solidFill>
                <a:latin typeface="Constantia"/>
              </a:rPr>
              <a:t>МОЖНО ЕСЛИ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9" name="TextBox 8"/>
          <p:cNvSpPr/>
          <p:nvPr/>
        </p:nvSpPr>
        <p:spPr>
          <a:xfrm>
            <a:off x="428760" y="4071960"/>
            <a:ext cx="471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Constantia"/>
              </a:rPr>
              <a:t>НЕЛЬЗЯ ЕСЛИ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4617b"/>
                </a:solidFill>
                <a:latin typeface="Calibri"/>
              </a:rPr>
              <a:t>Лед – только скользко?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1" name="Picture 8" descr="D:\Киреев\к презентациям\к презентациям\Безопасность на воде\измерение льда  www.i-ola.ru.JPG"/>
          <p:cNvPicPr/>
          <p:nvPr/>
        </p:nvPicPr>
        <p:blipFill>
          <a:blip r:embed="rId2"/>
          <a:stretch/>
        </p:blipFill>
        <p:spPr>
          <a:xfrm>
            <a:off x="1357200" y="1285920"/>
            <a:ext cx="6500880" cy="4878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212" name="TextBox 5"/>
          <p:cNvSpPr/>
          <p:nvPr/>
        </p:nvSpPr>
        <p:spPr>
          <a:xfrm>
            <a:off x="4000680" y="5643720"/>
            <a:ext cx="442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Constantia"/>
              </a:rPr>
              <a:t>Мониторинг состояния льда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3" name="Picture 2" descr=""/>
          <p:cNvPicPr/>
          <p:nvPr/>
        </p:nvPicPr>
        <p:blipFill>
          <a:blip r:embed="rId3"/>
          <a:stretch/>
        </p:blipFill>
        <p:spPr>
          <a:xfrm>
            <a:off x="1357200" y="1285920"/>
            <a:ext cx="6500880" cy="487512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3" descr=""/>
          <p:cNvPicPr/>
          <p:nvPr/>
        </p:nvPicPr>
        <p:blipFill>
          <a:blip r:embed="rId4"/>
          <a:stretch/>
        </p:blipFill>
        <p:spPr>
          <a:xfrm>
            <a:off x="1357200" y="1214280"/>
            <a:ext cx="6643800" cy="490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4617b"/>
                </a:solidFill>
                <a:latin typeface="Calibri"/>
              </a:rPr>
              <a:t>Лед – только скользко?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Прямоугольник 3"/>
          <p:cNvSpPr/>
          <p:nvPr/>
        </p:nvSpPr>
        <p:spPr>
          <a:xfrm>
            <a:off x="2428920" y="0"/>
            <a:ext cx="671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Предосторожности при движении по льду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7" name="Прямоугольник 6"/>
          <p:cNvSpPr/>
          <p:nvPr/>
        </p:nvSpPr>
        <p:spPr>
          <a:xfrm>
            <a:off x="0" y="538020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nstantia"/>
              </a:rPr>
              <a:t>Помните! 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Без крайней необходимости не следует выходить на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buClr>
                <a:srgbClr val="000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Весенний пористый лед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buClr>
                <a:srgbClr val="000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Во время оттепели, изморози, дождя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buClr>
                <a:srgbClr val="000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Если он становится более белым и матовым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8" name="Rectangle 4"/>
          <p:cNvSpPr/>
          <p:nvPr/>
        </p:nvSpPr>
        <p:spPr>
          <a:xfrm flipV="1" rot="10800000">
            <a:off x="-360" y="1235160"/>
            <a:ext cx="60721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При проламывании льда необходимо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• Избавиться от тяжелых, сковывающих движение вещей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• Не терять времени на освобождение от одежды, т.к. в первые минуты, до полного намокания, она удерживает человека на поверхности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• Выбираться на лед в месте где произошло падение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• Выползать на лет методом «вкручивания», т.е. перекатываясь со спины на живот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• Втыкать в лед острые предметы, подтягиваясь к ним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• Удаляться от полыньи ползком, по собственным следам. </a:t>
            </a:r>
            <a:br>
              <a:rPr sz="1200"/>
            </a:b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Следует помнить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• Наиболее продуктивны первые минуты пребывания в холодной воде, пока еще не намокла одежда, не замерзли руки, не развились характерные для переохлаждения слабость и безразличие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• Оказывать помощь провалившемуся под лед человеку следует только одному, в крайней мере двум его товарищам. Скапливаться на краю полыньи всем не только бесполезно, но и опасно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• После извлечения пострадавшего из ледяной воды его необходимо незамедлительно отогреть. 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9" name="AutoShape 5"/>
          <p:cNvSpPr/>
          <p:nvPr/>
        </p:nvSpPr>
        <p:spPr>
          <a:xfrm>
            <a:off x="4576680" y="-220356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0" name="Picture 6" descr="D:\Киреев\к презентациям\к презентациям\Безопасность на воде\провалившийся под лед vestivrn.ru.jpg"/>
          <p:cNvPicPr/>
          <p:nvPr/>
        </p:nvPicPr>
        <p:blipFill>
          <a:blip r:embed="rId2"/>
          <a:stretch/>
        </p:blipFill>
        <p:spPr>
          <a:xfrm>
            <a:off x="5929200" y="1285920"/>
            <a:ext cx="2952720" cy="221436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7" descr="D:\Киреев\к презентациям\к презентациям\Безопасность на воде\спас на воде www.govoritmoskva.ru.jpg"/>
          <p:cNvPicPr/>
          <p:nvPr/>
        </p:nvPicPr>
        <p:blipFill>
          <a:blip r:embed="rId3"/>
          <a:stretch/>
        </p:blipFill>
        <p:spPr>
          <a:xfrm>
            <a:off x="5929200" y="1143000"/>
            <a:ext cx="3000600" cy="300024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1" descr=""/>
          <p:cNvPicPr/>
          <p:nvPr/>
        </p:nvPicPr>
        <p:blipFill>
          <a:blip r:embed="rId4"/>
          <a:stretch/>
        </p:blipFill>
        <p:spPr>
          <a:xfrm>
            <a:off x="5929200" y="1214280"/>
            <a:ext cx="2976840" cy="22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00040" y="3567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Спасение – чьих рук дело?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Прямоугольник 3"/>
          <p:cNvSpPr/>
          <p:nvPr/>
        </p:nvSpPr>
        <p:spPr>
          <a:xfrm>
            <a:off x="571680" y="0"/>
            <a:ext cx="857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Действия по  оказанию само- и взаимо­помощи терпящим бедствие на воде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5" name="Рисунок 8" descr="{ECBF9BD_0.tmp"/>
          <p:cNvPicPr/>
          <p:nvPr/>
        </p:nvPicPr>
        <p:blipFill>
          <a:blip r:embed="rId2"/>
          <a:srcRect l="0" t="0" r="69" b="0"/>
          <a:stretch/>
        </p:blipFill>
        <p:spPr>
          <a:xfrm>
            <a:off x="642960" y="1214280"/>
            <a:ext cx="7500960" cy="5369040"/>
          </a:xfrm>
          <a:prstGeom prst="rect">
            <a:avLst/>
          </a:prstGeom>
          <a:ln w="0">
            <a:noFill/>
          </a:ln>
        </p:spPr>
      </p:pic>
      <p:pic>
        <p:nvPicPr>
          <p:cNvPr id="226" name="Рисунок 9" descr="{DE0632F_0.tmp"/>
          <p:cNvPicPr/>
          <p:nvPr/>
        </p:nvPicPr>
        <p:blipFill>
          <a:blip r:embed="rId3"/>
          <a:srcRect l="0" t="0" r="79" b="0"/>
          <a:stretch/>
        </p:blipFill>
        <p:spPr>
          <a:xfrm>
            <a:off x="642960" y="1214280"/>
            <a:ext cx="2571840" cy="2079720"/>
          </a:xfrm>
          <a:prstGeom prst="rect">
            <a:avLst/>
          </a:prstGeom>
          <a:ln w="0">
            <a:noFill/>
          </a:ln>
        </p:spPr>
      </p:pic>
      <p:sp>
        <p:nvSpPr>
          <p:cNvPr id="227" name="TextBox 7"/>
          <p:cNvSpPr/>
          <p:nvPr/>
        </p:nvSpPr>
        <p:spPr>
          <a:xfrm>
            <a:off x="642960" y="364320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Constantia"/>
              </a:rPr>
              <a:t>По рисунку опишите порядок действий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Что делать?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9" name="TextBox 3"/>
          <p:cNvSpPr/>
          <p:nvPr/>
        </p:nvSpPr>
        <p:spPr>
          <a:xfrm>
            <a:off x="3071880" y="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Первая помощь при утоплении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0" name="Picture 3" descr=""/>
          <p:cNvPicPr/>
          <p:nvPr/>
        </p:nvPicPr>
        <p:blipFill>
          <a:blip r:embed="rId2"/>
          <a:srcRect l="0" t="0" r="-2832" b="-11818"/>
          <a:stretch/>
        </p:blipFill>
        <p:spPr>
          <a:xfrm>
            <a:off x="3786120" y="1214280"/>
            <a:ext cx="5419800" cy="385776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1" descr="C:\Users\Учитель\Desktop\C&amp;M\ELVT\Files\0A\{0A30B3BF-B8AD-488B-BFEE-FC6F37A37E27}.JPG"/>
          <p:cNvPicPr/>
          <p:nvPr/>
        </p:nvPicPr>
        <p:blipFill>
          <a:blip r:embed="rId3"/>
          <a:srcRect l="0" t="0" r="-81" b="-20"/>
          <a:stretch/>
        </p:blipFill>
        <p:spPr>
          <a:xfrm>
            <a:off x="285840" y="1214280"/>
            <a:ext cx="3348000" cy="342900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2" descr="C:\Users\Учитель\Desktop\C&amp;M\ELVT\Files\1D\{1D92560A-75A6-4FAB-80CB-3A4887BFF5FB}.jpg"/>
          <p:cNvPicPr/>
          <p:nvPr/>
        </p:nvPicPr>
        <p:blipFill>
          <a:blip r:embed="rId4"/>
          <a:srcRect l="0" t="0" r="-17" b="30"/>
          <a:stretch/>
        </p:blipFill>
        <p:spPr>
          <a:xfrm>
            <a:off x="-357120" y="1214280"/>
            <a:ext cx="4000320" cy="3429000"/>
          </a:xfrm>
          <a:prstGeom prst="rect">
            <a:avLst/>
          </a:prstGeom>
          <a:ln w="0">
            <a:noFill/>
          </a:ln>
        </p:spPr>
      </p:pic>
      <p:sp>
        <p:nvSpPr>
          <p:cNvPr id="233" name="Стрелка вправо 8"/>
          <p:cNvSpPr/>
          <p:nvPr/>
        </p:nvSpPr>
        <p:spPr>
          <a:xfrm>
            <a:off x="3357720" y="1857240"/>
            <a:ext cx="500040" cy="6429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4" name="TextBox 9"/>
          <p:cNvSpPr/>
          <p:nvPr/>
        </p:nvSpPr>
        <p:spPr>
          <a:xfrm>
            <a:off x="1000080" y="5000760"/>
            <a:ext cx="14288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1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2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3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4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5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ИТАК…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TextBox 3"/>
          <p:cNvSpPr/>
          <p:nvPr/>
        </p:nvSpPr>
        <p:spPr>
          <a:xfrm>
            <a:off x="142920" y="1214280"/>
            <a:ext cx="90010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00000"/>
                </a:solidFill>
                <a:uFillTx/>
                <a:latin typeface="Constantia"/>
              </a:rPr>
              <a:t>Сегодня на уроке мы узнали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buClr>
                <a:srgbClr val="00206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Constantia"/>
              </a:rPr>
              <a:t>Какие бывают опасности на водоемах в разное время год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buClr>
                <a:srgbClr val="00206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Constantia"/>
              </a:rPr>
              <a:t>Правилами купания в оборудованных и необорудованных местах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buClr>
                <a:srgbClr val="00206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Constantia"/>
              </a:rPr>
              <a:t>Мерах предосторожности при движении по льду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buClr>
                <a:srgbClr val="00206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Constantia"/>
              </a:rPr>
              <a:t>Действия при спасении на воде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buClr>
                <a:srgbClr val="00206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Constantia"/>
              </a:rPr>
              <a:t>Порядок оказания первой помощи при утоплении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00000"/>
                </a:solidFill>
                <a:uFillTx/>
                <a:latin typeface="Constantia"/>
              </a:rPr>
              <a:t>Домашнее задание: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buClr>
                <a:srgbClr val="00206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Constantia"/>
              </a:rPr>
              <a:t>Подготовить сообщение о правилах проведения ИВЛ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buClr>
                <a:srgbClr val="00206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Constantia"/>
              </a:rPr>
              <a:t>Подготовить сообщение о правилах проведения ЗМС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TextBox 4"/>
          <p:cNvSpPr/>
          <p:nvPr/>
        </p:nvSpPr>
        <p:spPr>
          <a:xfrm>
            <a:off x="2428920" y="372960"/>
            <a:ext cx="3357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0000"/>
                </a:solidFill>
                <a:uFillTx/>
                <a:latin typeface="Constantia"/>
              </a:rPr>
              <a:t> </a:t>
            </a:r>
            <a:r>
              <a:rPr b="1" lang="en-US" sz="4400" spc="-1" strike="noStrike" u="sng">
                <a:solidFill>
                  <a:srgbClr val="ff0000"/>
                </a:solidFill>
                <a:uFillTx/>
                <a:latin typeface="Constantia"/>
              </a:rPr>
              <a:t>главное…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8" name="Picture 1" descr="C:\Users\Учитель\Desktop\5.jpg"/>
          <p:cNvPicPr/>
          <p:nvPr/>
        </p:nvPicPr>
        <p:blipFill>
          <a:blip r:embed="rId2"/>
          <a:stretch/>
        </p:blipFill>
        <p:spPr>
          <a:xfrm>
            <a:off x="0" y="1071720"/>
            <a:ext cx="9144000" cy="51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2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2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2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40" name="Picture 2" descr="D:\Киреев\к презентациям\к презентациям\Безопасность на воде\купание в лесу www.aquaexpert.ru.jpg"/>
          <p:cNvPicPr/>
          <p:nvPr/>
        </p:nvPicPr>
        <p:blipFill>
          <a:blip r:embed="rId2"/>
          <a:stretch/>
        </p:blipFill>
        <p:spPr>
          <a:xfrm>
            <a:off x="357120" y="1857240"/>
            <a:ext cx="5605560" cy="4214880"/>
          </a:xfrm>
          <a:prstGeom prst="rect">
            <a:avLst/>
          </a:prstGeom>
          <a:ln w="0">
            <a:noFill/>
          </a:ln>
        </p:spPr>
      </p:pic>
      <p:sp>
        <p:nvSpPr>
          <p:cNvPr id="241" name="TextBox 4"/>
          <p:cNvSpPr/>
          <p:nvPr/>
        </p:nvSpPr>
        <p:spPr>
          <a:xfrm>
            <a:off x="357120" y="6286680"/>
            <a:ext cx="2286000" cy="368280"/>
          </a:xfrm>
          <a:prstGeom prst="rect">
            <a:avLst/>
          </a:prstGeom>
          <a:solidFill>
            <a:srgbClr val="034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БЕЗ ТЕЧЕНИЯ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2" name="Picture 3" descr="D:\Киреев\фото\эксп2 показ\PICT3528.JPG"/>
          <p:cNvPicPr/>
          <p:nvPr/>
        </p:nvPicPr>
        <p:blipFill>
          <a:blip r:embed="rId3"/>
          <a:stretch/>
        </p:blipFill>
        <p:spPr>
          <a:xfrm>
            <a:off x="3071880" y="214200"/>
            <a:ext cx="585792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6T11:18:02Z</dcterms:created>
  <dc:creator>Учитель</dc:creator>
  <dc:description>allprezentation.ru</dc:description>
  <dc:language>en-US</dc:language>
  <cp:lastModifiedBy>Gorod</cp:lastModifiedBy>
  <dcterms:modified xsi:type="dcterms:W3CDTF">2010-11-23T06:14:20Z</dcterms:modified>
  <cp:revision>99</cp:revision>
  <dc:subject/>
  <dc:title>На водоёме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c40d000000000001024140</vt:lpwstr>
  </property>
</Properties>
</file>