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C368-AB78-4D75-A278-7D549DA69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E5DA-F164-442A-9726-A1F4BED7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2137-B0A4-44A4-B96C-A53EAA96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D68F-BDF7-4F50-8B9A-EED29DEC1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CE74-39AD-4D3B-8EDC-636B78119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3EB8-81C8-46B7-A455-1FCB8810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4373-A170-485D-9588-C9546533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620A-09BA-401F-ABD4-95EA7E40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BA57-5D7B-4FAE-94F0-74158546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2772-1049-4BC0-8AB2-2AED929C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4FFE-3AE4-47F2-BE04-8895C5F1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193D-802D-42AB-BC8A-6613CB47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D33A-A34E-45DA-92BE-B8F029BE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84A9-11B7-4A38-B4AC-A93C159A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8F89-B7AB-413E-950A-DB7E5F65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4D8C-6998-42CF-9DA2-0944F3CC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AA38-4CD8-484F-8D98-B39A3D4B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775D1-A223-4460-B330-25C687F93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513D9-10D6-4EF9-A917-CC670989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A8A2F-BD73-4DBF-A5FE-1C89A90B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A175B-E0B6-4812-9B92-BBD31398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5E5FE-3517-4B23-8BC7-98937DC6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E394-1E14-4634-A22E-680E688C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D7C15-9FF0-4A4E-8494-2B4E6DC8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22BCB-3811-4A50-A378-D43692D7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76C9A-ACDF-447E-AFC7-47513777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B9052-6498-448A-A613-4FA2B499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24CF4-C5D1-433F-8184-DB07FA58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A2182-67D0-4329-BA1B-146D948B2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8F990-F6A8-4FC4-BA7C-7040039D3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B9C80-593D-4ECB-955A-0E79691B0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CF42B-001C-4F0F-991D-3A20AA1B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8CF55-38D3-40B6-957E-D9C02C2D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6568-896B-4E91-8493-AA3079DA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0C2CA-E136-4AD8-A75B-7AA0F91C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41716-931F-4668-B3DF-9004DFEC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C0315-55CC-4BF3-B114-38FB3E19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2EF29-5247-4D81-8910-35155E4F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EB9C7-0644-4698-B183-D8ECA00F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27EAD-E942-4DBD-BE34-3D02E3A8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24786-9E7E-4A93-87F7-C414D413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A3FF0-22CD-429B-80EA-809C5230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022EC-FF0D-4602-8A18-9F64F90F4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59B4-B596-42A3-862E-BA45D552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6CC3-ADFC-4A8B-97E5-B0C31923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D94C-19B7-48EE-B3C0-9984FA71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C307-9272-4B9A-B841-864BF770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F6D2-6687-428E-9DB5-AB3ECB3D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A2DD-8150-418E-BD22-C66DD81ECF1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3FF9-9946-4711-85AC-5C7C59140BF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3731-AACE-429E-A927-7A818233F72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3658-8D9A-43E0-A27F-B1BFB0811B9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hyperlink" Target="http://900igr.net/" TargetMode="External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6480" y="84240"/>
            <a:ext cx="8375400" cy="1898640"/>
          </a:xfrm>
          <a:prstGeom prst="rect">
            <a:avLst/>
          </a:prstGeom>
          <a:ln w="0">
            <a:noFill/>
          </a:ln>
        </p:spPr>
      </p:pic>
      <p:pic>
        <p:nvPicPr>
          <p:cNvPr id="196" name="Подзаголовок 2" descr=""/>
          <p:cNvPicPr/>
          <p:nvPr/>
        </p:nvPicPr>
        <p:blipFill>
          <a:blip r:embed="rId3"/>
          <a:stretch/>
        </p:blipFill>
        <p:spPr>
          <a:xfrm>
            <a:off x="0" y="2319480"/>
            <a:ext cx="8955000" cy="4152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D:\Киреев\к презентациям\к презентациям\Безопасность на воде\пляж www.gorod63.ru.jpg"/>
          <p:cNvPicPr/>
          <p:nvPr/>
        </p:nvPicPr>
        <p:blipFill>
          <a:blip r:embed="rId4"/>
          <a:stretch/>
        </p:blipFill>
        <p:spPr>
          <a:xfrm>
            <a:off x="6715080" y="1042920"/>
            <a:ext cx="2225880" cy="145116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5857920" y="0"/>
            <a:ext cx="32860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пылов А.И. преподаватель-организатор ОБЖ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У Новоюрьевская СОШ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">
            <a:hlinkClick r:id="rId5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Picture 7" descr="SS850825"/>
          <p:cNvPicPr/>
          <p:nvPr/>
        </p:nvPicPr>
        <p:blipFill>
          <a:blip r:embed="rId2"/>
          <a:srcRect l="0" t="0" r="6" b="15"/>
          <a:stretch/>
        </p:blipFill>
        <p:spPr>
          <a:xfrm>
            <a:off x="3000240" y="2143080"/>
            <a:ext cx="5902560" cy="4429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19_07_2006 150"/>
          <p:cNvPicPr/>
          <p:nvPr/>
        </p:nvPicPr>
        <p:blipFill>
          <a:blip r:embed="rId3"/>
          <a:stretch/>
        </p:blipFill>
        <p:spPr>
          <a:xfrm>
            <a:off x="285840" y="285840"/>
            <a:ext cx="5141880" cy="3857400"/>
          </a:xfrm>
          <a:prstGeom prst="rect">
            <a:avLst/>
          </a:prstGeom>
          <a:ln w="0">
            <a:noFill/>
          </a:ln>
        </p:spPr>
      </p:pic>
      <p:sp>
        <p:nvSpPr>
          <p:cNvPr id="246" name="TextBox 5"/>
          <p:cNvSpPr/>
          <p:nvPr/>
        </p:nvSpPr>
        <p:spPr>
          <a:xfrm>
            <a:off x="214200" y="5429160"/>
            <a:ext cx="2428920" cy="368280"/>
          </a:xfrm>
          <a:prstGeom prst="rect">
            <a:avLst/>
          </a:prstGeom>
          <a:solidFill>
            <a:srgbClr val="023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С  ТЕЧЕНИЕ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7030a0"/>
                </a:solidFill>
                <a:latin typeface="Calibri"/>
              </a:rPr>
              <a:t>Водоемы – это…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57200" y="1935000"/>
          <a:ext cx="8229600" cy="2286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ИД ВОДОЕ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ЧЕМ ОПАС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ЕТ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ИМ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зеро  (пруд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е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202" name="TextBox 4"/>
          <p:cNvSpPr/>
          <p:nvPr/>
        </p:nvSpPr>
        <p:spPr>
          <a:xfrm>
            <a:off x="428760" y="1071720"/>
            <a:ext cx="81439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По состоянию воды водоемы бывают: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3" action="ppaction://hlinksldjump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500040" y="45007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Основные опасности на водоемах: 1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Прямоугольник 6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Учимся определять опасности на водоемах в разное время год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Купаться или не купаться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Прямоугольник 4"/>
          <p:cNvSpPr/>
          <p:nvPr/>
        </p:nvSpPr>
        <p:spPr>
          <a:xfrm>
            <a:off x="2071800" y="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Правила купания в оборудованных и необорудованных местах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2" descr="D:\Киреев\к презентациям\к презентациям\Безопасность на воде\прыжок в воду www.mchs-yug.ru.jpg"/>
          <p:cNvPicPr/>
          <p:nvPr/>
        </p:nvPicPr>
        <p:blipFill>
          <a:blip r:embed="rId2"/>
          <a:stretch/>
        </p:blipFill>
        <p:spPr>
          <a:xfrm>
            <a:off x="6715080" y="1143000"/>
            <a:ext cx="2209680" cy="32004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6"/>
          <p:cNvSpPr/>
          <p:nvPr/>
        </p:nvSpPr>
        <p:spPr>
          <a:xfrm>
            <a:off x="428760" y="142884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Constantia"/>
              </a:rPr>
              <a:t>МОЖНО ЕСЛ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TextBox 8"/>
          <p:cNvSpPr/>
          <p:nvPr/>
        </p:nvSpPr>
        <p:spPr>
          <a:xfrm>
            <a:off x="428760" y="407196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onstantia"/>
              </a:rPr>
              <a:t>НЕЛЬЗЯ ЕСЛ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Лед – только скользко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8" descr="D:\Киреев\к презентациям\к презентациям\Безопасность на воде\измерение льда  www.i-ola.ru.JPG"/>
          <p:cNvPicPr/>
          <p:nvPr/>
        </p:nvPicPr>
        <p:blipFill>
          <a:blip r:embed="rId2"/>
          <a:stretch/>
        </p:blipFill>
        <p:spPr>
          <a:xfrm>
            <a:off x="1357200" y="1285920"/>
            <a:ext cx="6500880" cy="487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2" name="TextBox 5"/>
          <p:cNvSpPr/>
          <p:nvPr/>
        </p:nvSpPr>
        <p:spPr>
          <a:xfrm>
            <a:off x="4000680" y="564372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Мониторинг состояния льд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3"/>
          <a:stretch/>
        </p:blipFill>
        <p:spPr>
          <a:xfrm>
            <a:off x="1357200" y="1285920"/>
            <a:ext cx="6500880" cy="4875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4"/>
          <a:stretch/>
        </p:blipFill>
        <p:spPr>
          <a:xfrm>
            <a:off x="1357200" y="1214280"/>
            <a:ext cx="6643800" cy="49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Лед – только скользко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2428920" y="0"/>
            <a:ext cx="67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Предосторожности при движении по льду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Прямоугольник 6"/>
          <p:cNvSpPr/>
          <p:nvPr/>
        </p:nvSpPr>
        <p:spPr>
          <a:xfrm>
            <a:off x="0" y="53802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Помните!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Без крайней необходимости не следует выходить н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Весенний пористый лед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Во время оттепели, изморози, дождя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Если он становится более белым и матовы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Rectangle 4"/>
          <p:cNvSpPr/>
          <p:nvPr/>
        </p:nvSpPr>
        <p:spPr>
          <a:xfrm flipV="1" rot="10800000">
            <a:off x="-360" y="1235160"/>
            <a:ext cx="60721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 проламывании льда необходимо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• Избавиться от тяжелых, сковывающих движение веще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• Не терять времени на освобождение от одежды, т.к. в первые минуты, до полного намокания, она удерживает человека на поверхност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• Выбираться на лед в месте где произошло падени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• Выползать на лет методом «вкручивания», т.е. перекатываясь со спины на живо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• Втыкать в лед острые предметы, подтягиваясь к ни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• Удаляться от полыньи ползком, по собственным следам.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едует помни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• Наиболее продуктивны первые минуты пребывания в холодной воде, пока еще не намокла одежда, не замерзли руки, не развились характерные для переохлаждения слабость и безразличи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• Оказывать помощь провалившемуся под лед человеку следует только одному, в крайней мере двум его товарищам. Скапливаться на краю полыньи всем не только бесполезно, но и опасно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• После извлечения пострадавшего из ледяной воды его необходимо незамедлительно отогреть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4576680" y="-22035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6" descr="D:\Киреев\к презентациям\к презентациям\Безопасность на воде\провалившийся под лед vestivrn.ru.jpg"/>
          <p:cNvPicPr/>
          <p:nvPr/>
        </p:nvPicPr>
        <p:blipFill>
          <a:blip r:embed="rId2"/>
          <a:stretch/>
        </p:blipFill>
        <p:spPr>
          <a:xfrm>
            <a:off x="5929200" y="128592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D:\Киреев\к презентациям\к презентациям\Безопасность на воде\спас на воде www.govoritmoskva.ru.jpg"/>
          <p:cNvPicPr/>
          <p:nvPr/>
        </p:nvPicPr>
        <p:blipFill>
          <a:blip r:embed="rId3"/>
          <a:stretch/>
        </p:blipFill>
        <p:spPr>
          <a:xfrm>
            <a:off x="5929200" y="1143000"/>
            <a:ext cx="3000600" cy="30002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" descr=""/>
          <p:cNvPicPr/>
          <p:nvPr/>
        </p:nvPicPr>
        <p:blipFill>
          <a:blip r:embed="rId4"/>
          <a:stretch/>
        </p:blipFill>
        <p:spPr>
          <a:xfrm>
            <a:off x="5929200" y="1214280"/>
            <a:ext cx="297684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Спасение – чьих рук дело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571680" y="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Действия по  оказанию само- и взаимо­помощи терпящим бедствие на вод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Рисунок 8" descr="{ECBF9BD_0.tmp"/>
          <p:cNvPicPr/>
          <p:nvPr/>
        </p:nvPicPr>
        <p:blipFill>
          <a:blip r:embed="rId2"/>
          <a:srcRect l="0" t="0" r="69" b="0"/>
          <a:stretch/>
        </p:blipFill>
        <p:spPr>
          <a:xfrm>
            <a:off x="642960" y="1214280"/>
            <a:ext cx="7500960" cy="536904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9" descr="{DE0632F_0.tmp"/>
          <p:cNvPicPr/>
          <p:nvPr/>
        </p:nvPicPr>
        <p:blipFill>
          <a:blip r:embed="rId3"/>
          <a:srcRect l="0" t="0" r="79" b="0"/>
          <a:stretch/>
        </p:blipFill>
        <p:spPr>
          <a:xfrm>
            <a:off x="642960" y="1214280"/>
            <a:ext cx="2571840" cy="20797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7"/>
          <p:cNvSpPr/>
          <p:nvPr/>
        </p:nvSpPr>
        <p:spPr>
          <a:xfrm>
            <a:off x="642960" y="3643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По рисунку опишите порядок действ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Что делать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3071880" y="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Первая помощь при утоплени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2"/>
          <a:srcRect l="0" t="0" r="-2832" b="-11818"/>
          <a:stretch/>
        </p:blipFill>
        <p:spPr>
          <a:xfrm>
            <a:off x="3786120" y="1214280"/>
            <a:ext cx="5419800" cy="38577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" descr="C:\Users\Учитель\Desktop\C&amp;M\ELVT\Files\0A\{0A30B3BF-B8AD-488B-BFEE-FC6F37A37E27}.JPG"/>
          <p:cNvPicPr/>
          <p:nvPr/>
        </p:nvPicPr>
        <p:blipFill>
          <a:blip r:embed="rId3"/>
          <a:srcRect l="0" t="0" r="-81" b="-20"/>
          <a:stretch/>
        </p:blipFill>
        <p:spPr>
          <a:xfrm>
            <a:off x="285840" y="1214280"/>
            <a:ext cx="3348000" cy="3429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C:\Users\Учитель\Desktop\C&amp;M\ELVT\Files\1D\{1D92560A-75A6-4FAB-80CB-3A4887BFF5FB}.jpg"/>
          <p:cNvPicPr/>
          <p:nvPr/>
        </p:nvPicPr>
        <p:blipFill>
          <a:blip r:embed="rId4"/>
          <a:srcRect l="0" t="0" r="-17" b="30"/>
          <a:stretch/>
        </p:blipFill>
        <p:spPr>
          <a:xfrm>
            <a:off x="-357120" y="1214280"/>
            <a:ext cx="4000320" cy="3429000"/>
          </a:xfrm>
          <a:prstGeom prst="rect">
            <a:avLst/>
          </a:prstGeom>
          <a:ln w="0">
            <a:noFill/>
          </a:ln>
        </p:spPr>
      </p:pic>
      <p:sp>
        <p:nvSpPr>
          <p:cNvPr id="233" name="Стрелка вправо 8"/>
          <p:cNvSpPr/>
          <p:nvPr/>
        </p:nvSpPr>
        <p:spPr>
          <a:xfrm>
            <a:off x="3357720" y="1857240"/>
            <a:ext cx="500040" cy="642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TextBox 9"/>
          <p:cNvSpPr/>
          <p:nvPr/>
        </p:nvSpPr>
        <p:spPr>
          <a:xfrm>
            <a:off x="1000080" y="5000760"/>
            <a:ext cx="1428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ИТАК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142920" y="1214280"/>
            <a:ext cx="9001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onstantia"/>
              </a:rPr>
              <a:t>Сегодня на уроке мы узнал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20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Какие бывают опасности на водоемах в разное время год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20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Правилами купания в оборудованных и необорудованных места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20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Мерах предосторожности при движении по льд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20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Действия при спасении на вод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20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Порядок оказания первой помощи при утоплен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onstantia"/>
              </a:rPr>
              <a:t>Домашнее задание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20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Подготовить сообщение о правилах проведения ИВ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20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Подготовить сообщение о правилах проведения ЗМС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2428920" y="372960"/>
            <a:ext cx="335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onstantia"/>
              </a:rPr>
              <a:t>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Constantia"/>
              </a:rPr>
              <a:t>главное…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1" descr="C:\Users\Учитель\Desktop\5.jpg"/>
          <p:cNvPicPr/>
          <p:nvPr/>
        </p:nvPicPr>
        <p:blipFill>
          <a:blip r:embed="rId2"/>
          <a:stretch/>
        </p:blipFill>
        <p:spPr>
          <a:xfrm>
            <a:off x="0" y="1071720"/>
            <a:ext cx="9144000" cy="51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0" name="Picture 2" descr="D:\Киреев\к презентациям\к презентациям\Безопасность на воде\купание в лесу www.aquaexpert.ru.jpg"/>
          <p:cNvPicPr/>
          <p:nvPr/>
        </p:nvPicPr>
        <p:blipFill>
          <a:blip r:embed="rId2"/>
          <a:stretch/>
        </p:blipFill>
        <p:spPr>
          <a:xfrm>
            <a:off x="357120" y="1857240"/>
            <a:ext cx="5605560" cy="4214880"/>
          </a:xfrm>
          <a:prstGeom prst="rect">
            <a:avLst/>
          </a:prstGeom>
          <a:ln w="0">
            <a:noFill/>
          </a:ln>
        </p:spPr>
      </p:pic>
      <p:sp>
        <p:nvSpPr>
          <p:cNvPr id="241" name="TextBox 4"/>
          <p:cNvSpPr/>
          <p:nvPr/>
        </p:nvSpPr>
        <p:spPr>
          <a:xfrm>
            <a:off x="357120" y="6286680"/>
            <a:ext cx="2286000" cy="368280"/>
          </a:xfrm>
          <a:prstGeom prst="rect">
            <a:avLst/>
          </a:prstGeom>
          <a:solidFill>
            <a:srgbClr val="034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БЕЗ ТЕЧЕНИЯ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3" descr="D:\Киреев\фото\эксп2 показ\PICT3528.JPG"/>
          <p:cNvPicPr/>
          <p:nvPr/>
        </p:nvPicPr>
        <p:blipFill>
          <a:blip r:embed="rId3"/>
          <a:stretch/>
        </p:blipFill>
        <p:spPr>
          <a:xfrm>
            <a:off x="3071880" y="214200"/>
            <a:ext cx="5857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1:18:02Z</dcterms:created>
  <dc:creator>Учитель</dc:creator>
  <dc:description>allprezentation.ru</dc:description>
  <dc:language>en-US</dc:language>
  <cp:lastModifiedBy>Gorod</cp:lastModifiedBy>
  <dcterms:modified xsi:type="dcterms:W3CDTF">2010-11-23T06:14:20Z</dcterms:modified>
  <cp:revision>99</cp:revision>
  <dc:subject/>
  <dc:title>На водоём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40d000000000001024140</vt:lpwstr>
  </property>
</Properties>
</file>