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60D-9700-4D90-9EE6-E90CF8FE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77A-FCAE-4BD5-A5D1-8571402D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EA3-D579-47F2-9C8E-FBEDE54C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F7B-4993-4AB7-BF48-FB293CFD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5B22-5F3B-4979-BC1C-56F03E6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D70C-F4DE-4509-874A-E85EFFF2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E770-FAFB-4B01-8F04-F9AC1784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FCF9-E27A-458D-882A-5862FD69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BCEE-4DC8-4EE3-BAE6-5ABE6EEC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7E4F-09CD-4746-8864-C2EF0728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D597-705A-425A-9D73-B9B17E7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8DD-182F-4058-B77B-BB326A76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A94-A70E-408C-91E8-E8E4E143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2699-E7A8-4E8E-BF29-90102137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9DDF-D21F-4FE9-8C82-B67AEA0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8D1E-61DE-4E16-B629-7F1464ED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9AA-1281-401E-9201-C0692C10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831-FAD4-416E-B789-9A41599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C10-7880-45A1-B6FB-4859C2B3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64A-C4D6-4775-92C7-2FC1E09F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B79-E345-438E-9256-FA841A54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EB9-51C7-4138-9727-C5CDCF8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42E-E471-429A-9B5D-E3519DA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50D-7739-45DF-A060-BEDF4F68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1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3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91A7-B7CE-4E84-A400-1803A4D494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53FC-9413-4BAB-8F83-9299C74CD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1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v.foto.radikal.ru/0703/41/acd76c604d2e.png"/>
          <p:cNvPicPr/>
          <p:nvPr/>
        </p:nvPicPr>
        <p:blipFill>
          <a:blip r:embed="rId2"/>
          <a:stretch/>
        </p:blipFill>
        <p:spPr>
          <a:xfrm>
            <a:off x="0" y="4726080"/>
            <a:ext cx="20574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602-E207-49B9-8D1D-2AA1953E1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5DF5-58B6-4221-97CB-F054302DA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« Детский сад  № 25» пгт Кавалерово Кавалеров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« Добрый мир сказ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Segoe Print"/>
              </a:rPr>
              <a:t>Корнея Чуковског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–Фадеева Е.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буклетов для родител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таем книги К.Чуковского всей семь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:« Роль сказки в жизни ребёнка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казки читаем- речь развиваем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казкотерап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заня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сказкам Корнея Чуковск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 на сайте детского с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 Семёнова« Сказка, как средство духовно-нравственного воспитания дошкольник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Ф Непомнящая« Сказкотерапия в детском са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 Шорыгина « Беседы об основах безопасности с детьми 5-8 л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Афонькин, Е.Афонькина  «Оригами. Бумажный зоопар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ы « Дошкольное воспитание», « Ребёнок в детском са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 проекта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 краткосрочный, коллектив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екта: с 13 по 24 нояб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информационно-практико-ориентированный, твор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и 5-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чивый интерес детей к произведениям художественной литературы, отсутствие традиции семейного чтения, а также недостаточное развитие коммуникативных навыков и навыков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К.И.Чуковского пронизаны гуманизмом, верой в победу добра и справедливости, в торжество прав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ое общение с творчеством К.И.Чуковского будет способствовать развитию интереса к книге, что будет являться неотъемлемой частью системы образования дошкольников на этапе становления современной личност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ободной творческой личности ребенка, формирование устойчивого интереса к чтению и художественной литературе через знакомство с произведениями К.Чуковск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жизнью и творчеством К.Чуковского. Формировать у них устойчивый интерес к чтению и художественной литературе, как виду искус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выразительно декламировать стихи, драматизировать, инсценировать, передавать образы героев сказок в рисовании, лепке, аппликации. Развивать традиции семейного ч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детей чувство сострадания к слабым и беззащитн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екта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дготовительный этап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 изучение методической литературы по теме проек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ыставки книг в уголке чт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аудио и видео материал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 - пространственной развивающей среды в груп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работы по проек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ий этап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1219320"/>
          <a:ext cx="8610480" cy="5562360"/>
        </p:xfrm>
        <a:graphic>
          <a:graphicData uri="http://schemas.openxmlformats.org/drawingml/2006/table">
            <a:tbl>
              <a:tblPr/>
              <a:tblGrid>
                <a:gridCol w="2895480"/>
                <a:gridCol w="57150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метод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« Писатель - сказочник К.И. Чуковски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: « В гостях у бабушки Федоры», « Животные Африки» ( на примере сказки « Айболит», « Мир насекомых» ( на примере сказки «Муха-Цокотуха», « Чем опасны спички» ( на примере сказки «Путаница», « Встреча с незнакомцем» ( на примере сказки « Бармалей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 мультфильмов « Сказки Корнея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а «Дорогами сказок К. Чуковског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игра « Найди лишнего геро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злы « По сказкам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но-ролевые игры: « Ветеринарная клиника доктора Айболита», « Мы- пожарные», « Каф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инсценировка «У меня зазвонил телефон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ы по сказ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28600" y="609480"/>
          <a:ext cx="8839080" cy="6172200"/>
        </p:xfrm>
        <a:graphic>
          <a:graphicData uri="http://schemas.openxmlformats.org/drawingml/2006/table">
            <a:tbl>
              <a:tblPr/>
              <a:tblGrid>
                <a:gridCol w="2738520"/>
                <a:gridCol w="6100560"/>
              </a:tblGrid>
              <a:tr h="30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ированное занятие « Путешествие по сказкам Чуковско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жи сказку по картин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ые игры: « Узнай героя», « Всё наоборот», « Четвёртый лишний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Отгадай сказку», « Путаница» ( что перепутал художни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ок  К.И.Чуковского: «Тараканище»,  «Бармалей», «Краденое солнце», «Лимпопо», «Крокодил», «Мурк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»,  «Муха – Цокотух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тихов: «Бутерброд»,  «Черепаха», «Чудо-дерево», «Туфелька», «Путаница», «Закалялка»,  «Бебека», «Храбрецы»,  «Обжора», «Радость», «Слониха читает», «Поросенок», «Федотка», «Песня о бедных сапожках», «Муха в бане», «Приключения Бибигон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ликация ( мозаика) «Муха-Цокотуха-именинниц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« Посуда бабушки Федо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гами « Животные Афр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: « Пожарные на ученье!», « Хитрая лиса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Охотники и звери», « Поймай комара», «Бездомный заяц», «Ловля обезьян», « Медведь и пчёл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« Доктор Айболит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Дети приобрели и углубили знания о жизни и творчестве К. И. Чуковск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Желание у дошкольников обращаться к книге не только для развлечения, но и для приобретения знаний, значительно возросл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Увеличился интерес детей к чтению литературных произвед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Учетная запись Майкрософт</cp:lastModifiedBy>
  <dcterms:modified xsi:type="dcterms:W3CDTF">2024-01-19T05:37:55Z</dcterms:modified>
  <cp:revision>76</cp:revision>
  <dc:subject/>
  <dc:title>Слайд 1</dc:title>
</cp:coreProperties>
</file>