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49C-2AC8-483C-B7D4-BEE16838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69F-360F-4842-B457-F3EE068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199-36B3-4D68-BDED-B7395ECA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95B-7671-4E70-82E4-0011DAE0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78D3-5354-4D2A-8746-6454DCEB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6224-14B0-49EA-A09B-2304CC4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1983-F2C2-4AD6-A9BE-5DD88DE0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734-8BB8-4463-AD26-040AB5E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364B-707C-4771-8A76-09E7E93C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8C9-2706-4BE9-AC77-12E23492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3A1-C986-424D-98BA-22B265C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1EA-6791-44FD-BCDA-F37BC52D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1F8-ECBF-482C-A402-91E5B13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00CB-6975-4B7C-A260-AE49652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CE5-B1E7-47A1-9781-6DA4F171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A72-588C-496C-ADA0-4DDE7354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0CD-BF2F-41DE-8C27-E6587173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C5B-1131-40F5-B9C1-BC967B5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770-ADB8-4EC4-86C7-6EB1EC0F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F86-9129-4398-BDE6-DBD6107F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353-E83D-4E66-BE30-F98CF41D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1AC-BC41-4887-B14A-8449B72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27D-4AA6-445F-9B45-C56B03A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ECE-C13D-40D8-9DAC-182CBBB1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1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DAE-9854-4433-8F51-F10E8A470D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7EA-E3E8-4A0D-819E-0FE3B33ED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1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2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4515-1C46-46A6-A6A9-5BDCFEB736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112F-DE3D-4724-BFEB-45A85E76A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« Детский сад  № 25» пгт Кавалерово Кавалеров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« Добрый мир сказ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Корнея Чуковског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–Фадеева Е.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буклетов для родител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книги К.Чуковского всей семь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:« Роль сказки в жизни ребёнка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казки читаем- речь развиваем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казкотерап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зан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сказкам Корнея Чуковск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 на сайте детского с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 Семёнова« Сказка, как средство духовно-нравственного воспитания дошкольник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Ф Непомнящая« Сказкотерапия в детском са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 Шорыгина « Беседы об основах безопасности с детьми 5-8 л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Афонькин, Е.Афонькина  «Оригами. Бумажный зоопар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ы « Дошкольное воспитание», « Ребёнок в детском са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 проекта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 краткосрочный, коллектив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екта: с 13 по 24 но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нформационно-практико-ориентированный, твор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5-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ый интерес детей к произведениям художественной литературы, отсутствие традиции семейного чтения, а также недостаточное развитие коммуникативных навыков и навыков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К.И.Чуковского пронизаны гуманизмом, верой в победу добра и справедливости, в торжество прав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ое общение с творчеством К.И.Чуковского будет способствовать развитию интереса к книге, что будет являться неотъемлемой частью системы образования дошкольников на этапе становления современной личност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ободной творческой личности ребенка, формирование устойчивого интереса к чтению и художественной литературе через знакомство с произведениями К.Чуковск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жизнью и творчеством К.Чуковского. Формировать у них устойчивый интерес к чтению и художественной литературе, как виду искус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выразительно декламировать стихи, драматизировать, инсценировать, передавать образы героев сказок в рисовании, лепке, аппликации. Развивать традиции семейного ч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чувство сострадания к слабым и беззащит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екта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дготовительный эта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 изучение методической литературы по теме проек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книг в уголке чт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аудио и видео материал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 - пространственной развивающей среды в груп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аботы по проек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ий этап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219320"/>
          <a:ext cx="8610480" cy="5562360"/>
        </p:xfrm>
        <a:graphic>
          <a:graphicData uri="http://schemas.openxmlformats.org/drawingml/2006/table">
            <a:tbl>
              <a:tblPr/>
              <a:tblGrid>
                <a:gridCol w="2895480"/>
                <a:gridCol w="57150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метод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« Писатель - сказочник К.И. Чуковски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 В гостях у бабушки Федоры», « Животные Африки» ( на примере сказки « Айболит», « Мир насекомых» ( на примере сказки «Муха-Цокотуха», « Чем опасны спички» ( на примере сказки «Путаница», « Встреча с незнакомцем» ( на примере сказки « Бармалей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мультфильмов « Сказки Корнея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 «Дорогами сказок К. Чуковског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игра « Найди лишнего геро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злы « По сказкам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о-ролевые игры: « Ветеринарная клиника доктора Айболита», « Мы- пожарные», « Каф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инсценировка «У меня зазвонил телефон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ы по сказ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28600" y="609480"/>
          <a:ext cx="8839080" cy="6172200"/>
        </p:xfrm>
        <a:graphic>
          <a:graphicData uri="http://schemas.openxmlformats.org/drawingml/2006/table">
            <a:tbl>
              <a:tblPr/>
              <a:tblGrid>
                <a:gridCol w="2738520"/>
                <a:gridCol w="6100560"/>
              </a:tblGrid>
              <a:tr h="30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ированное занятие « Путешествие по сказкам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жи сказку по картин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е игры: « Узнай героя», « Всё наоборот», « Четвёртый лишний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Отгадай сказку», « Путаница» ( что перепутал художни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ок  К.И.Чуковского: «Тараканище»,  «Бармалей», «Краденое солнце», «Лимпопо», «Крокодил», «Мурк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»,  «Муха – Цокотух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тихов: «Бутерброд»,  «Черепаха», «Чудо-дерево», «Туфелька», «Путаница», «Закалялка»,  «Бебека», «Храбрецы»,  «Обжора», «Радость», «Слониха читает», «Поросенок», «Федотка», «Песня о бедных сапожках», «Муха в бане», «Приключения Бибигон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я ( мозаика) «Муха-Цокотуха-именинниц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« Посуда бабушки Федо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гами « Животные Афр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: « Пожарные на ученье!», « Хитрая лиса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Охотники и звери», « Поймай комара», «Бездомный заяц», «Ловля обезьян», « Медведь и пчё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 Доктор Айболит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Дети приобрели и углубили знания о жизни и творчестве К. И. Чуковск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Желание у дошкольников обращаться к книге не только для развлечения, но и для приобретения знаний, значительно возросл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Увеличился интерес детей к чтению литературных произвед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Учетная запись Майкрософт</cp:lastModifiedBy>
  <dcterms:modified xsi:type="dcterms:W3CDTF">2024-01-19T05:37:55Z</dcterms:modified>
  <cp:revision>76</cp:revision>
  <dc:subject/>
  <dc:title>Слайд 1</dc:title>
</cp:coreProperties>
</file>