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4DF-69F4-4412-AC3E-3D1C6646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195-1908-4436-B9BB-C2BE004C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040-7E60-401F-B141-E67930EB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5E1-EDA1-4C8F-AC95-893CE756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2ED3-8844-4882-93CA-24185DDF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95E-C508-4FEC-AD22-2ABDD522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8825-1349-4B2A-A272-50B4F150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260D-F96D-477C-B36D-FC109759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54D7-B2A0-4CA9-B96E-E94C2181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9780-D880-40BC-A4CA-475CFCF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4520-006E-472C-B86C-44D4286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6E7-E7DA-4D46-A5EA-5C642236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48A1-D510-4CA1-B349-559769E8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72CA-2B36-43A5-8986-0074E2C3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A5CD-81CC-45B8-840E-5ABBFE3F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589E-3946-4FFA-8ED1-B28B96A8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85A8-4230-4345-BF1D-465E3750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BE0-ED10-4550-9E09-2024D24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3A3-BFE1-40F9-A711-C634B5AF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1A3-0946-4937-BEBF-30144C6A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E54-4555-4F60-8FD5-E73B205F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4D1-74A4-4CC3-8034-425BD99C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1D9-1F7E-4327-8C72-FD0B4503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8E2-A821-4D61-B903-A1FA052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1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3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9063-F253-49FC-8271-2CA605549E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45FA-5CD9-42D6-A9F7-3E74D74F4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1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v.foto.radikal.ru/0703/41/acd76c604d2e.png"/>
          <p:cNvPicPr/>
          <p:nvPr/>
        </p:nvPicPr>
        <p:blipFill>
          <a:blip r:embed="rId2"/>
          <a:stretch/>
        </p:blipFill>
        <p:spPr>
          <a:xfrm>
            <a:off x="0" y="4726080"/>
            <a:ext cx="205740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A42F-7E88-4682-AC82-F8187882C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3D7-599A-4FD7-938C-AA1CCA1A6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« Детский сад  № 25» пгт Кавалерово Кавалеров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« Добрый мир сказ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Корнея Чуковског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–Фадеева Е.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буклетов для родител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таем книги К.Чуковского всей семье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:« Роль сказки в жизни ребёнка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казки читаем- речь развиваем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казкотерап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ительны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заня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сказкам Корнея Чуковск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 на сайте детского с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И Семёнова« Сказка, как средство духовно-нравственного воспитания дошкольник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Ф Непомнящая« Сказкотерапия в детском сад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А Шорыгина « Беседы об основах безопасности с детьми 5-8 л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Афонькин, Е.Афонькина  «Оригами. Бумажный зоопар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ы « Дошкольное воспитание», « Ребёнок в детском сад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 проекта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 краткосрочный, коллектив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оекта: с 13 по 24 нояб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нформационно-практико-ориентированный, творче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5-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чивый интерес детей к произведениям художественной литературы, отсутствие традиции семейного чтения, а также недостаточное развитие коммуникативных навыков и навыков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К.И.Чуковского пронизаны гуманизмом, верой в победу добра и справедливости, в торжество прав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ое общение с творчеством К.И.Чуковского будет способствовать развитию интереса к книге, что будет являться неотъемлемой частью системы образования дошкольников на этапе становления современной личност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ободной творческой личности ребенка, формирование устойчивого интереса к чтению и художественной литературе через знакомство с произведениями К.Чуковск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жизнью и творчеством К.Чуковского. Формировать у них устойчивый интерес к чтению и художественной литературе, как виду искус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выразительно декламировать стихи, драматизировать, инсценировать, передавать образы героев сказок в рисовании, лепке, аппликации. Развивать традиции семейного ч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детей чувство сострадания к слабым и беззащитн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роекта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дготовительный этап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 изучение методической литературы по теме проек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выставки книг в уголке чт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аудио и видео материал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 - пространственной развивающей среды в груп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работы по проек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ческий этап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1219320"/>
          <a:ext cx="8610480" cy="5562360"/>
        </p:xfrm>
        <a:graphic>
          <a:graphicData uri="http://schemas.openxmlformats.org/drawingml/2006/table">
            <a:tbl>
              <a:tblPr/>
              <a:tblGrid>
                <a:gridCol w="2895480"/>
                <a:gridCol w="57150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метод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2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« Писатель - сказочник К.И. Чуковски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: « В гостях у бабушки Федоры», « Животные Африки» ( на примере сказки « Айболит», « Мир насекомых» ( на примере сказки «Муха-Цокотуха», « Чем опасны спички» ( на примере сказки «Путаница», « Встреча с незнакомцем» ( на примере сказки « Бармалей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мотр мультфильмов « Сказки Корнея Чуковск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2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коммуникатив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на «Дорогами сказок К. Чуковског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ая игра « Найди лишнего геро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злы « По сказкам Чуковск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но-ролевые игры: « Ветеринарная клиника доктора Айболита», « Мы- пожарные», « Каф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инсценировка «У меня зазвонил телефон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ссворды по сказ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28600" y="609480"/>
          <a:ext cx="8839080" cy="6172200"/>
        </p:xfrm>
        <a:graphic>
          <a:graphicData uri="http://schemas.openxmlformats.org/drawingml/2006/table">
            <a:tbl>
              <a:tblPr/>
              <a:tblGrid>
                <a:gridCol w="2738520"/>
                <a:gridCol w="6100560"/>
              </a:tblGrid>
              <a:tr h="30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ированное занятие « Путешествие по сказкам Чуковск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жи сказку по картин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ые игры: « Узнай героя», « Всё наоборот», « Четвёртый лишний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Отгадай сказку», « Путаница» ( что перепутал художни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ок  К.И.Чуковского: «Тараканище»,  «Бармалей», «Краденое солнце», «Лимпопо», «Крокодил», «Мурки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»,  «Муха – Цокотух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тихов: «Бутерброд»,  «Черепаха», «Чудо-дерево», «Туфелька», «Путаница», «Закалялка»,  «Бебека», «Храбрецы»,  «Обжора», «Радость», «Слониха читает», «Поросенок», «Федотка», «Песня о бедных сапожках», «Муха в бане», «Приключения Бибигон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ликация ( мозаика) «Муха-Цокотуха-именинниц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 « Посуда бабушки Федор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гами « Животные Афр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: « Пожарные на ученье!», « Хитрая лиса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Охотники и звери», « Поймай комара», «Бездомный заяц», «Ловля обезьян», « Медведь и пчёл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 « Доктор Айболит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Дети приобрели и углубили знания о жизни и творчестве К. И. Чуковск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Желание у дошкольников обращаться к книге не только для развлечения, но и для приобретения знаний, значительно возросл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Увеличился интерес детей к чтению литературных произвед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Учетная запись Майкрософт</cp:lastModifiedBy>
  <dcterms:modified xsi:type="dcterms:W3CDTF">2024-01-19T05:37:55Z</dcterms:modified>
  <cp:revision>76</cp:revision>
  <dc:subject/>
  <dc:title>Слайд 1</dc:title>
</cp:coreProperties>
</file>