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5.jpeg" ContentType="image/jpeg"/>
  <Override PartName="/ppt/media/image54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4B9-A4C2-4A67-A17B-2BE804C0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97A-F753-42AD-95AC-DCD48864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BD90-2E0D-4BEE-8B1D-07E10ECA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CC2-5F77-438E-9B64-9130CC81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E923-CB50-473E-9E5A-420AC738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2C5C-CE00-4EEE-87A0-00327686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6128-D901-488A-BBCD-9553BB96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ACE-B20F-4427-AD32-50ED4E1D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F24C-1736-4681-97CC-071FC5EE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9716-8A19-4FCB-AD71-392D0BCF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4128-5E8B-4CA0-B793-03508493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0220-89F1-41EB-80D3-2CEBB0F3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3F14-0C23-4275-9A24-29AB6FE538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6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2160" y="15541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ОСОБЕННОСТИ ПОДРОСТКОВОГО ВОЗРАС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39621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тупление на родительском собр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-психолог Орлова Н.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371600" y="33804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ОУ СОШ №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Когал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езультате возникает кризис подросткового возраст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ть подросткового кризиса составляет свойственные этому возрасту подростковые поведенческие реакции. К ним относятс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реакция эмансипации - тип поведения, посредством которого подросток старается высвободиться из- под опеки взрослых, их контроля, покровитель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реакция группирования со сверстни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реакция увлечения (хобби). В подростковом возрасте весьма высокого уровня развития достигают все без исключения познавательные процессы. Становится возможным научение подростка самым различным видам практической и умственн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42-1"/>
          <p:cNvPicPr/>
          <p:nvPr/>
        </p:nvPicPr>
        <p:blipFill>
          <a:blip r:embed="rId1"/>
          <a:stretch/>
        </p:blipFill>
        <p:spPr>
          <a:xfrm>
            <a:off x="4495680" y="41148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perehod"/>
          <p:cNvPicPr/>
          <p:nvPr/>
        </p:nvPicPr>
        <p:blipFill>
          <a:blip r:embed="rId2"/>
          <a:stretch/>
        </p:blipFill>
        <p:spPr>
          <a:xfrm>
            <a:off x="762120" y="457200"/>
            <a:ext cx="3333600" cy="4429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dumayut"/>
          <p:cNvPicPr/>
          <p:nvPr/>
        </p:nvPicPr>
        <p:blipFill>
          <a:blip r:embed="rId3"/>
          <a:stretch/>
        </p:blipFill>
        <p:spPr>
          <a:xfrm>
            <a:off x="4648320" y="1066680"/>
            <a:ext cx="289548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ая новая черта, появляющаяся в психологии подростка - формирование  самосознания,   самооценки,   возникновение   потребностей   в самовоспитании. У подростка возникает интерес к себе, к качествам собственной личности, потребность сопоставления себя с другими людьми, потребность в самооценке. Они начинают подолгу изучать себя перед зеркалом, гримасничая и апробируя какие-то мимические и пантомимические средства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а потребность в самопознании ярко выражается в исследовании проявления своих телесных возможностей, своего физического «Я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Общение подростка со взрослым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трочестве общение с родителями, учителями и другими взрослыми начин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ладываться под влиянием возникающего чувства взрослости. Эта  взрослость  первоначально вырисовывается в отрицательном плане как требования свободы от зависимости и ограничений, свойственных положению ребенка. Отсюда бурная и порой драматическая «переоценка ценностей» и, прежде всего перестройка отношений с родителями. Подростковый возраст традиционно считается самым трудным в воспитательном отнош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89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94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дорога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701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остки начинают оказывать сопротивление по отношению к ранее выполняемым требованиям со стороны взрослых, активнее отстаивать свои права на самостоятельность, отождествляемую в их понимании со взрослостью. Они болезненно реагируют на реальные  или кажущиеся ущемления своих прав, пытаются ограничить претензии взрослых по отношению к себе. Большое значение в этот период имеют единые требования к подростку в семье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смотря на внешний протест, подросток испытывает потребность в поддержке, поделиться своими переживаниями, рассказать о событиях своей жизни, но самому ему трудно начать столь близкое общение. Особо благоприятной является ситуация, когда взрослый выступает в качестве  дру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72679621_1169016544aog7042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33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ение подростка во многом обуславливается изменчивостью его настроения. На протяжении небольшого промежутка времени оно может меняться на прямо противоположное. Изменчивость настроений ведет к неадекватности реакций подрост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арактерными для подросткового возраста являются имитация чьего-либо поведения. Чаще имитируется поведение значимого взрослого, достигшего определенного успеха, причем в первую очередь обращается внимание на внешнюю сторо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 из главных тенденций переходного возраста - переориентация общения с родителями, учителями, вообще со старшими, на более или менее равных по положени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Общение подростков со сверстникам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развитие самооценки подростка влияют взаимоотношения со сверстниками, с классным коллективом. Он дорожит мнением сверстников, предпочитая их общество, а не общество взрослых, критику которых он отверг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иентация на сверстника связана с потребностью быть принятыми признанным в группе, коллективе, с потребностью иметь друг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кольку общение с товарищами начинает приносить подростку больше пользы в удовлетворении его актуальных интересов и потребностей, он отходит от школы и от семьи, начинает больше времени проводить со сверстниками.  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0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0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1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178679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065240" y="914400"/>
            <a:ext cx="7608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Физиологические и психологические особ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росткового возра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Общение подростков со взросл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Общение подростков со сверстни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Общение подростков со сверстник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тивоположного по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тношениях со сверстниками подросток стремится реализовать свою личность, определить свои возможности в общении.         В переходном возрасте меняются  представления  о  содержании  таких понятий, как «одиночество» и «уединение». Подростки  же  наполняют  эти слова психологическим смыслом, приписывая им не только отрицательную,  но  и положительную цен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увство  одиночества  и  неприкаянности,  связанное  с  возрастными трудностями становления личности, порождает у  подростков  неутолимую  жажду общения и группирования со сверстни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осток жаждет новых знакомств, приключений,  переживаний.  Внутреннее  беспокойство гонит его прочь из дома, из  привычной,  устоявшейся  атмосф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49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54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59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2603[1]"/>
          <p:cNvPicPr/>
          <p:nvPr/>
        </p:nvPicPr>
        <p:blipFill>
          <a:blip r:embed="rId1"/>
          <a:stretch/>
        </p:blipFill>
        <p:spPr>
          <a:xfrm>
            <a:off x="4343400" y="0"/>
            <a:ext cx="4792680" cy="10896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813f817d9bc1f62690612c0d2decd0d[1]"/>
          <p:cNvPicPr/>
          <p:nvPr/>
        </p:nvPicPr>
        <p:blipFill>
          <a:blip r:embed="rId2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8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52280" y="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ходство интересов и проблем, которые волнуют подростков, возможность открыто их обсуждать, не опасаясь быть осмеянным и находясь в равных отношениях с товарищами, - вот что делает атмосферу в таких группах более привлекательной для детей, чем сообщества взрослых люд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одросткового возраста характерную особенность составляет увлечение (хобби). Увлечения необходимы для становления личности подростка, т.к. благодаря увлечениям формируются склонности, интересы, индивидуальные способности подростков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и делятся 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ующие вид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Интеллектуально - эстетические увлечения (музыка, рисование, радиотехника, электроника, история и т. д.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Накопительные увлечения (коллекционирование марок, пластинок, открыток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Эксцентрические (желание подростка быть в центре внимания ведет к увлечению экстравагантной одеждой)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51753_39665"/>
          <p:cNvPicPr/>
          <p:nvPr/>
        </p:nvPicPr>
        <p:blipFill>
          <a:blip r:embed="rId1"/>
          <a:stretch/>
        </p:blipFill>
        <p:spPr>
          <a:xfrm>
            <a:off x="0" y="2514600"/>
            <a:ext cx="2948040" cy="4572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_42591931_sexgirlsbody203"/>
          <p:cNvPicPr/>
          <p:nvPr/>
        </p:nvPicPr>
        <p:blipFill>
          <a:blip r:embed="rId2"/>
          <a:stretch/>
        </p:blipFill>
        <p:spPr>
          <a:xfrm>
            <a:off x="7343640" y="5514840"/>
            <a:ext cx="1800360" cy="1343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"/>
          <p:cNvPicPr/>
          <p:nvPr/>
        </p:nvPicPr>
        <p:blipFill>
          <a:blip r:embed="rId3"/>
          <a:stretch/>
        </p:blipFill>
        <p:spPr>
          <a:xfrm>
            <a:off x="2971800" y="2819520"/>
            <a:ext cx="4444920" cy="4038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7d537df05e"/>
          <p:cNvPicPr/>
          <p:nvPr/>
        </p:nvPicPr>
        <p:blipFill>
          <a:blip r:embed="rId4"/>
          <a:stretch/>
        </p:blipFill>
        <p:spPr>
          <a:xfrm>
            <a:off x="2971800" y="-76320"/>
            <a:ext cx="3255840" cy="3571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150px-Visualkei"/>
          <p:cNvPicPr/>
          <p:nvPr/>
        </p:nvPicPr>
        <p:blipFill>
          <a:blip r:embed="rId5"/>
          <a:stretch/>
        </p:blipFill>
        <p:spPr>
          <a:xfrm>
            <a:off x="6477120" y="1981080"/>
            <a:ext cx="2666880" cy="2590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180px-Cosplay"/>
          <p:cNvPicPr/>
          <p:nvPr/>
        </p:nvPicPr>
        <p:blipFill>
          <a:blip r:embed="rId6"/>
          <a:stretch/>
        </p:blipFill>
        <p:spPr>
          <a:xfrm>
            <a:off x="0" y="0"/>
            <a:ext cx="2971800" cy="2516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200px-Versaiiles-band"/>
          <p:cNvPicPr/>
          <p:nvPr/>
        </p:nvPicPr>
        <p:blipFill>
          <a:blip r:embed="rId7"/>
          <a:stretch/>
        </p:blipFill>
        <p:spPr>
          <a:xfrm>
            <a:off x="6248520" y="0"/>
            <a:ext cx="2895480" cy="2205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180px-Eightband"/>
          <p:cNvPicPr/>
          <p:nvPr/>
        </p:nvPicPr>
        <p:blipFill>
          <a:blip r:embed="rId8"/>
          <a:stretch/>
        </p:blipFill>
        <p:spPr>
          <a:xfrm>
            <a:off x="6858000" y="396252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4dc3666b53"/>
          <p:cNvPicPr/>
          <p:nvPr/>
        </p:nvPicPr>
        <p:blipFill>
          <a:blip r:embed="rId1"/>
          <a:stretch/>
        </p:blipFill>
        <p:spPr>
          <a:xfrm>
            <a:off x="-304920" y="0"/>
            <a:ext cx="472464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150px-Miyavi_in_Sao_Paulo_Brazil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3352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529782bc_1"/>
          <p:cNvPicPr/>
          <p:nvPr/>
        </p:nvPicPr>
        <p:blipFill>
          <a:blip r:embed="rId3"/>
          <a:stretch/>
        </p:blipFill>
        <p:spPr>
          <a:xfrm>
            <a:off x="4419720" y="3886200"/>
            <a:ext cx="3238560" cy="2971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f38c4ee06c"/>
          <p:cNvPicPr/>
          <p:nvPr/>
        </p:nvPicPr>
        <p:blipFill>
          <a:blip r:embed="rId4"/>
          <a:stretch/>
        </p:blipFill>
        <p:spPr>
          <a:xfrm>
            <a:off x="4419720" y="0"/>
            <a:ext cx="2666880" cy="3962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b79fbad4f7"/>
          <p:cNvPicPr/>
          <p:nvPr/>
        </p:nvPicPr>
        <p:blipFill>
          <a:blip r:embed="rId5"/>
          <a:stretch/>
        </p:blipFill>
        <p:spPr>
          <a:xfrm>
            <a:off x="7086600" y="3352680"/>
            <a:ext cx="23986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6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дростковых группах вырабатываются и апробируются навыки социального взаимодействия, умение подчиняться коллективной дисциплине, умение завоевывать авторитет и занять желаемый статус. В подростковых объединениях в зависимости от общего уровня развития и воспитания стихийно формируются свои кодексы чести. Здесь высоко ценятся верность, честность и караются предательство, измена, нарушение данного слова, эгоизм, жадность и т.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уппа создает чувство «Мы», которое поддерживает подростка и укрепляет его внутренние позиции. Очень часто подростки для усиления этого «Мы» прибегают к автономной групповой речи, к автономным невербальным знакам; в этом возрасте подростки начинают носить одного стиля и вида одежду, чтобы подчеркнуть свою причастность друг к друг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8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3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8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CA4TIZSD"/>
          <p:cNvPicPr/>
          <p:nvPr/>
        </p:nvPicPr>
        <p:blipFill>
          <a:blip r:embed="rId1"/>
          <a:stretch/>
        </p:blipFill>
        <p:spPr>
          <a:xfrm>
            <a:off x="2438280" y="4114800"/>
            <a:ext cx="3276720" cy="2743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podrostki[1]"/>
          <p:cNvPicPr/>
          <p:nvPr/>
        </p:nvPicPr>
        <p:blipFill>
          <a:blip r:embed="rId2"/>
          <a:stretch/>
        </p:blipFill>
        <p:spPr>
          <a:xfrm>
            <a:off x="0" y="0"/>
            <a:ext cx="2646360" cy="2438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CAQS6IXX"/>
          <p:cNvPicPr/>
          <p:nvPr/>
        </p:nvPicPr>
        <p:blipFill>
          <a:blip r:embed="rId3"/>
          <a:stretch/>
        </p:blipFill>
        <p:spPr>
          <a:xfrm>
            <a:off x="0" y="4114800"/>
            <a:ext cx="2895480" cy="2743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15_12_youth4_600"/>
          <p:cNvPicPr/>
          <p:nvPr/>
        </p:nvPicPr>
        <p:blipFill>
          <a:blip r:embed="rId4"/>
          <a:stretch/>
        </p:blipFill>
        <p:spPr>
          <a:xfrm>
            <a:off x="0" y="2438280"/>
            <a:ext cx="2133720" cy="1676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дети[1]"/>
          <p:cNvPicPr/>
          <p:nvPr/>
        </p:nvPicPr>
        <p:blipFill>
          <a:blip r:embed="rId5"/>
          <a:stretch/>
        </p:blipFill>
        <p:spPr>
          <a:xfrm>
            <a:off x="2666880" y="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17044"/>
          <p:cNvPicPr/>
          <p:nvPr/>
        </p:nvPicPr>
        <p:blipFill>
          <a:blip r:embed="rId6"/>
          <a:stretch/>
        </p:blipFill>
        <p:spPr>
          <a:xfrm>
            <a:off x="5715000" y="4038480"/>
            <a:ext cx="3429000" cy="3162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pic_small[1]"/>
          <p:cNvPicPr/>
          <p:nvPr/>
        </p:nvPicPr>
        <p:blipFill>
          <a:blip r:embed="rId7"/>
          <a:stretch/>
        </p:blipFill>
        <p:spPr>
          <a:xfrm>
            <a:off x="2133720" y="2386080"/>
            <a:ext cx="2133360" cy="1728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7f66adc5a9"/>
          <p:cNvPicPr/>
          <p:nvPr/>
        </p:nvPicPr>
        <p:blipFill>
          <a:blip r:embed="rId8"/>
          <a:stretch/>
        </p:blipFill>
        <p:spPr>
          <a:xfrm>
            <a:off x="4267080" y="0"/>
            <a:ext cx="50292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группах подростков обычно устанавливаются отношения лидерства. Личное внимание со стороны лидера особенно ценно для подростка, который не находится в центре внимания сверстников. Личной дружбой с лидером он всегда особенно дорожит и во что бы то ни стало стремится ее завоева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благополучные личные взаимоотношения с товарищами воспринимаются и переживаются подростками очень тяжело. Для того, чтобы завоевать друзей, привлечь к себе внимание товарищей, подросток старается сделать все возможное:  это могут быть демонстрации собственных качеств,  как  прямым  способом,  так  и путем нарушения требований взрослых, а также паясничанье, кривляние,  разные развлекательные действия, рассказы о всевозможных былях и небылицах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0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5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avatar5230_1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6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А каковы психологические функции общества подростков?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 Общение  со  сверстниками  очень  важный  специфический   канал информации; по нему подростки узнают многие  необходимые  вещи,  которых  по тем или иным причинам им не сообщают взросл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Это специфический вид деятельности  и  межличностных  отношений, который вырабатывает у ребенка необходимые навыки социального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 Это  специфический  вид   эмоционального   контакта.   Сознание групповой принадлежности, не  только облегчает подростку автономизацию от взрослых, но  и  дает  ему  чрезвычайно важное для него чувство эмоционального благополучия и устойчив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рочество – это беспокойство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друг я не такой как все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 ужас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друг я такой как все?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1202114496348595_200_200"/>
          <p:cNvPicPr/>
          <p:nvPr/>
        </p:nvPicPr>
        <p:blipFill>
          <a:blip r:embed="rId1"/>
          <a:stretch/>
        </p:blipFill>
        <p:spPr>
          <a:xfrm>
            <a:off x="342900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1172679573_1169016004891520001[1]"/>
          <p:cNvPicPr/>
          <p:nvPr/>
        </p:nvPicPr>
        <p:blipFill>
          <a:blip r:embed="rId2"/>
          <a:stretch/>
        </p:blipFill>
        <p:spPr>
          <a:xfrm>
            <a:off x="1676520" y="3429000"/>
            <a:ext cx="1600200" cy="220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17560519"/>
          <p:cNvPicPr/>
          <p:nvPr/>
        </p:nvPicPr>
        <p:blipFill>
          <a:blip r:embed="rId3"/>
          <a:stretch/>
        </p:blipFill>
        <p:spPr>
          <a:xfrm>
            <a:off x="5334120" y="1600200"/>
            <a:ext cx="2181240" cy="3305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15_12_youth4_600"/>
          <p:cNvPicPr/>
          <p:nvPr/>
        </p:nvPicPr>
        <p:blipFill>
          <a:blip r:embed="rId4"/>
          <a:stretch/>
        </p:blipFill>
        <p:spPr>
          <a:xfrm>
            <a:off x="3276720" y="342900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15_12_youth4_600"/>
          <p:cNvPicPr/>
          <p:nvPr/>
        </p:nvPicPr>
        <p:blipFill>
          <a:blip r:embed="rId5"/>
          <a:stretch/>
        </p:blipFill>
        <p:spPr>
          <a:xfrm>
            <a:off x="1752480" y="5624640"/>
            <a:ext cx="1524240" cy="12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x_72833578e7"/>
          <p:cNvPicPr/>
          <p:nvPr/>
        </p:nvPicPr>
        <p:blipFill>
          <a:blip r:embed="rId6"/>
          <a:stretch/>
        </p:blipFill>
        <p:spPr>
          <a:xfrm>
            <a:off x="0" y="5486400"/>
            <a:ext cx="175248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18279830"/>
          <p:cNvPicPr/>
          <p:nvPr/>
        </p:nvPicPr>
        <p:blipFill>
          <a:blip r:embed="rId7"/>
          <a:stretch/>
        </p:blipFill>
        <p:spPr>
          <a:xfrm>
            <a:off x="304920" y="1676520"/>
            <a:ext cx="3352680" cy="1765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x_7f7b39be"/>
          <p:cNvPicPr/>
          <p:nvPr/>
        </p:nvPicPr>
        <p:blipFill>
          <a:blip r:embed="rId8"/>
          <a:stretch/>
        </p:blipFill>
        <p:spPr>
          <a:xfrm>
            <a:off x="0" y="3429000"/>
            <a:ext cx="1676520" cy="2209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x_e91019fbdc"/>
          <p:cNvPicPr/>
          <p:nvPr/>
        </p:nvPicPr>
        <p:blipFill>
          <a:blip r:embed="rId9"/>
          <a:stretch/>
        </p:blipFill>
        <p:spPr>
          <a:xfrm>
            <a:off x="6858000" y="4257720"/>
            <a:ext cx="2657520" cy="260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x_3aa1fb7320"/>
          <p:cNvPicPr/>
          <p:nvPr/>
        </p:nvPicPr>
        <p:blipFill>
          <a:blip r:embed="rId10"/>
          <a:stretch/>
        </p:blipFill>
        <p:spPr>
          <a:xfrm>
            <a:off x="7467480" y="2743200"/>
            <a:ext cx="1676520" cy="1523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18546458"/>
          <p:cNvPicPr/>
          <p:nvPr/>
        </p:nvPicPr>
        <p:blipFill>
          <a:blip r:embed="rId11"/>
          <a:stretch/>
        </p:blipFill>
        <p:spPr>
          <a:xfrm>
            <a:off x="7378560" y="1219320"/>
            <a:ext cx="1765440" cy="1523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1"/>
          <p:cNvPicPr/>
          <p:nvPr/>
        </p:nvPicPr>
        <p:blipFill>
          <a:blip r:embed="rId12"/>
          <a:stretch/>
        </p:blipFill>
        <p:spPr>
          <a:xfrm>
            <a:off x="4572000" y="4724280"/>
            <a:ext cx="248904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normal_gotic_angel_2292005_1_gd"/>
          <p:cNvPicPr/>
          <p:nvPr/>
        </p:nvPicPr>
        <p:blipFill>
          <a:blip r:embed="rId13"/>
          <a:stretch/>
        </p:blipFill>
        <p:spPr>
          <a:xfrm>
            <a:off x="3276720" y="5648400"/>
            <a:ext cx="1371600" cy="120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A4TIZSD"/>
          <p:cNvPicPr/>
          <p:nvPr/>
        </p:nvPicPr>
        <p:blipFill>
          <a:blip r:embed="rId1"/>
          <a:stretch/>
        </p:blipFill>
        <p:spPr>
          <a:xfrm>
            <a:off x="5715000" y="4267080"/>
            <a:ext cx="3429000" cy="3124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17044"/>
          <p:cNvPicPr/>
          <p:nvPr/>
        </p:nvPicPr>
        <p:blipFill>
          <a:blip r:embed="rId2"/>
          <a:stretch/>
        </p:blipFill>
        <p:spPr>
          <a:xfrm>
            <a:off x="0" y="838080"/>
            <a:ext cx="571500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IMG3108[1]"/>
          <p:cNvPicPr/>
          <p:nvPr/>
        </p:nvPicPr>
        <p:blipFill>
          <a:blip r:embed="rId3"/>
          <a:stretch/>
        </p:blipFill>
        <p:spPr>
          <a:xfrm>
            <a:off x="5410080" y="3049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2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4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Общение подростка со сверстниками противоположного пол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концу подросткового возраста возникает интерес к другу противоположного пола, стремление нравиться, и как следствие этого появляется повышенное внимание к своей внешности, одежде, манере поведения, соответствуют половой идентификации: «Я как мужчина, Я как женщина». Особое значение в этой связи придается личной привлекательности - это имеет первостепенное значение в глазах сверстни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ес отрока к сверстникам другого пола ведет к увеличению возможности выделять и оценивать переживания и поступки другого, к развитию рефлексии и способности к идентифик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67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72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DSCF1040[1]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7 - 8 классах между мальчиками и девочками появляются более романтические отношения, они начинают писать друг другу записки, назначают свидания. На основе таких взаимоотношений у подростков возникает желание становиться лучше, появляется потребность к самосовершенствованию. В этом возрасте большинство детей начинают заниматься самовоспитан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мантические отношения могут возникать при совместном проведении времени: на прогулках, при посещении театров, музеев, кино и т.д. Подростки нередко отождествляют себя с популярными персонажами и стремятся соответствовать внешним формам их пове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0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3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1192191821_podrostki1[1]"/>
          <p:cNvPicPr/>
          <p:nvPr/>
        </p:nvPicPr>
        <p:blipFill>
          <a:blip r:embed="rId1"/>
          <a:stretch/>
        </p:blipFill>
        <p:spPr>
          <a:xfrm>
            <a:off x="0" y="0"/>
            <a:ext cx="483876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4110334_3969126_23010230_1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3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емление нравиться становится одним из значимых стремлений. Взгляд обретает особую цену: «Он на меня так смотрит! Я ему нравлюсь». Взаимные взгляды и улыбки уже ко многому обязывают. Если ответных взглядов нет, то подросток сильно и остро страдает. У девочек переживания прорываются в слезы и отчаянные возгласы: «Он не любит меня!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ую цену приобретают прикосновения. Руки становятся проводниками внутренней напряженности, связанной с физическим и психическим обретением те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3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8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95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7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Копия x_541e6c6a53"/>
          <p:cNvPicPr/>
          <p:nvPr/>
        </p:nvPicPr>
        <p:blipFill>
          <a:blip r:embed="rId1"/>
          <a:stretch/>
        </p:blipFill>
        <p:spPr>
          <a:xfrm>
            <a:off x="528480" y="-380880"/>
            <a:ext cx="8087040" cy="761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72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Некоторые рекомендации для педагогов и родителей, которые они могли бы использовать в своем повседневном общении и  в  воспитательной  работе  с детьми-подростками, следующие: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ть скрытую помощь, лишь «подталкивать» ребёнка в нужную сторону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давать возможность самому преодолевать свои трудности, самому или при помощи товарищей принимать решения;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для преодоления конфликтов в коллективе организовывать совместную деятельность, которая должна быть значимой  и  соответствовать  возможностям подрост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чаще обращаться к ребятам с просьбами, а не  с  приказами,  иметь чувство такта и меры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9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2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228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заботиться, чтобы одно  из  увлечений  подростков  стало  более стойким, чем другие, стало осмысленным признание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воспитательная  работа  с  подростками  должна  направляться  на развитие здорового честолюбия: уважения  и  строгости  к  себе.  Ни  в  коем случае нельзя сравнивать учеников друг с друг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не  использовать  авторитарный  стиль  руководства,   оптимальным является вариант - «всегда рядом и чуть впереди»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в процессе общения развивать потребности   «размышлять  о  себе»,изменять свой характер,  качества своей лич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тавить перед подростками такие вопросы, отвечая на которые,  они пытались бы дать характеристику коллектива и подумали бы над тем, каково  их место  в  нем,  выяснили   бы   насколько   сформировано   у   них   чувство коллективиз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не оберегать ребят от общения друг с другом, а сделать тaк, чтобы они  увидели  и  почувствовали  вкус  новых  отношений,   испытали   радость совместных забот, тревог, борьбы и побед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9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7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большее  влияние  уделять  школьному  коллективу,  способствовать сплочению подростков в классе, что помогло бы  избавить  детей  от  уличного влия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 тактично   систематически   использовать   конкретные   примеры взаимоотношений  школьников  данного  класса,   выяснять   и   анализировать проблемы, которые волнуют ученик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использовать  все  формы  коллективной  деятельности  подростков: совместное познание мира, игры, развлечения, спорт, общественные работы;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аскрывать интересы каждого ребенка, стараться включить  детей  с общими интересами в совместную деятельность,  что  помогало  бы  им  обрести новых друзей;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стоит  чаще  обращаться  к  эпическим   беседам,   также   можно организовывать диспуты на тему «Культура общения», где ребята  могут  узнать о том, как нужно общаться, чтобы стать приятными собеседни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6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1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6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1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6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5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5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0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0" y="38088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ью подросткового возраста является полово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ревание – происходит интенсивный подъём секреции. Это сопровождается внезапным увеличением роста, возмужанием организма, развитием вторичных половых признаков. Специфическими моментами  физического  развития  являются  рост в длину, увеличение веса и  окружности  грудной  клетки,  появление  вторичных половых признаков (пубертатный скачок в  росте)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Литератур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озрастная психология: Детство, отрочество, юность: Хрестоматия:Учеб. пособие для студ. пед. вузов/ Сост. и науч. ред. В. С. Мухина,  А.  А.Хвостов.- М.: Издательский  центр «Академия», 200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Диалоги  о  воспитании:  (Книга  для  родителей).  Ваш  ребенок.Педагогика семейных отношений. Когда наступает  зрелость/  Под  ред.  В.  Н.Столетова. Сост. О. Г. Свердлова.- М.: Педагогика, 197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 И. С.  Психология  ранней  юности:  Кн.  для  учителя.-  М.:Просвещение, 1989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1752480" y="60199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4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9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4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78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83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88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3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Кон И. С. Психология юношеского возраста/ проблемы формирования личности/.- М.: Просвещение,197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Мир детства: Подросток /Под ред. А. Г. Хрипковой; Отв. ред.  Г.Н. Филонов.- 2-е изд., доп.- М.: Педагогика, 19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Мудрик А. Самые трудные годы.- М.: Знание, 199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Мудрость воспитания: Книга для родителей / Сост. Б. М. Бим-Бад,Э. Д. Днепров, Г. Б. Корнетов.- 2-изд., доп.- М.: Педагогика, 198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Обухова Л. Ф. Детская (возрастная)  психология.  Учебник.-  М.,Российское педагогическое агенство. 19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хожан А. М., Толстых А. В. Подросток в учебнике и в  жизни.-М.: Знание, 199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. Психология подростка. Хрестоматия.  Сост.  Фролов  Ю.  И.-  М.:Российское педагогическое агенство,1997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1. Толстых  А.  В.  Подросток  в  неформальной   группе.-   М.:Знание,199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7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2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7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2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7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2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7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4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46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51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5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1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6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1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6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show2[1]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438280" y="304920"/>
            <a:ext cx="4267440" cy="65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5"/>
          <p:cNvSpPr/>
          <p:nvPr/>
        </p:nvSpPr>
        <p:spPr>
          <a:xfrm>
            <a:off x="609480" y="838080"/>
            <a:ext cx="8305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ходе бурного роста и физиологической перестройки организма у подростков может возникнуть чувство тревоги, повышенная возбудимость, сниженная самооценка. В качестве общих особенностей этого возрастают изменчивость настроений, эмоциональная неустойчивость, неожиданные переходы от веселья к пессимизму. Придирчивое отношение к родным сочетается с острым недовольством соб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x_bc29d27e38"/>
          <p:cNvPicPr/>
          <p:nvPr/>
        </p:nvPicPr>
        <p:blipFill>
          <a:blip r:embed="rId1"/>
          <a:stretch/>
        </p:blipFill>
        <p:spPr>
          <a:xfrm>
            <a:off x="-762120" y="-660240"/>
            <a:ext cx="5867640" cy="7518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13-web"/>
          <p:cNvPicPr/>
          <p:nvPr/>
        </p:nvPicPr>
        <p:blipFill>
          <a:blip r:embed="rId2"/>
          <a:stretch/>
        </p:blipFill>
        <p:spPr>
          <a:xfrm>
            <a:off x="5105520" y="-228600"/>
            <a:ext cx="4111560" cy="708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1066680" y="244440"/>
            <a:ext cx="2759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80880" y="0"/>
            <a:ext cx="2149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36440" y="1844640"/>
            <a:ext cx="8016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4920" y="0"/>
            <a:ext cx="624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2041560" y="1741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-87480" y="1131840"/>
            <a:ext cx="9279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нтральным психологическим новообразование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одростковом возрасте становится формирование 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остка своеобразного чувства взрослости, ка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бъективного переживания отношения к самому себ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к взрослому. Физическое возмужание д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остку ощущение взрослости, но социаль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тус его в школе и семье не меняется. И тогд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инается борьба за признание своих пра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стоятельности, что непременно приводит 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фликту между взрослыми и подросткам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36-1[1]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tn_d2[1]"/>
          <p:cNvPicPr/>
          <p:nvPr/>
        </p:nvPicPr>
        <p:blipFill>
          <a:blip r:embed="rId2"/>
          <a:stretch/>
        </p:blipFill>
        <p:spPr>
          <a:xfrm>
            <a:off x="5105520" y="-76320"/>
            <a:ext cx="4038480" cy="693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5psy.ru - первый психологический портал</dc:creator>
  <dc:description/>
  <dc:language>en-US</dc:language>
  <cp:lastModifiedBy>admin</cp:lastModifiedBy>
  <dcterms:modified xsi:type="dcterms:W3CDTF">2024-01-21T06:27:06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