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8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54760"/>
            <a:chOff x="0" y="0"/>
            <a:chExt cx="9156600" cy="685476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4840" cy="685332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168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25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78000" cy="68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624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116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168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3960" cy="685476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7800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484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5720" cy="685476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7080" cy="685476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536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380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8748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520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7764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3832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028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1120" cy="703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6600" cy="27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56600" cy="6854760"/>
            <a:chOff x="0" y="0"/>
            <a:chExt cx="9156600" cy="6854760"/>
          </a:xfrm>
        </p:grpSpPr>
        <p:sp>
          <p:nvSpPr>
            <p:cNvPr id="61" name=""/>
            <p:cNvSpPr/>
            <p:nvPr/>
          </p:nvSpPr>
          <p:spPr>
            <a:xfrm>
              <a:off x="8305920" y="1440"/>
              <a:ext cx="834840" cy="685332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0"/>
              <a:ext cx="30168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0"/>
              <a:ext cx="6825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0"/>
              <a:ext cx="378000" cy="68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0"/>
              <a:ext cx="60624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0"/>
              <a:ext cx="91116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0"/>
              <a:ext cx="30168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453960" cy="685476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9000" y="0"/>
              <a:ext cx="37800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9720" y="0"/>
              <a:ext cx="83484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0"/>
              <a:ext cx="225720" cy="685476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38720" y="0"/>
              <a:ext cx="397080" cy="685476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1520" y="0"/>
              <a:ext cx="22536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5200" y="0"/>
              <a:ext cx="106380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0"/>
              <a:ext cx="98748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0"/>
              <a:ext cx="83520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4320" y="0"/>
              <a:ext cx="37764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480" y="0"/>
              <a:ext cx="238320" cy="685476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5880" y="0"/>
              <a:ext cx="53028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0" y="6151680"/>
              <a:ext cx="9141120" cy="703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138720"/>
              <a:ext cx="9156600" cy="2732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777240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e2d700"/>
                </a:solidFill>
                <a:latin typeface="Arial"/>
                <a:ea typeface="DejaVu Sans"/>
              </a:rPr>
              <a:t>«Организация театрального кружка в ДОУ» </a:t>
            </a:r>
            <a:br>
              <a:rPr sz="1800"/>
            </a:br>
            <a:r>
              <a:rPr b="0" lang="ru-RU" sz="4200" spc="-1" strike="noStrike">
                <a:solidFill>
                  <a:srgbClr val="e2d700"/>
                </a:solidFill>
                <a:latin typeface="Arial"/>
                <a:ea typeface="DejaVu Sans"/>
              </a:rPr>
              <a:t>(</a:t>
            </a:r>
            <a:r>
              <a:rPr b="0" lang="ru-RU" sz="3200" spc="-1" strike="noStrike">
                <a:solidFill>
                  <a:srgbClr val="e2d700"/>
                </a:solidFill>
                <a:latin typeface="Arial"/>
                <a:ea typeface="DejaVu Sans"/>
              </a:rPr>
              <a:t>из опыта работы)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572000"/>
            <a:ext cx="6400800" cy="175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e2d700"/>
                </a:solidFill>
                <a:latin typeface="Arial"/>
                <a:ea typeface="DejaVu Sans"/>
              </a:rPr>
              <a:t>Музыкальный руководитель МБДОУ «Детский сад №14 «Дружба»:</a:t>
            </a:r>
            <a:r>
              <a:rPr b="0" lang="ru-RU" sz="2400" spc="-1" strike="noStrike">
                <a:solidFill>
                  <a:srgbClr val="e2d700"/>
                </a:solidFill>
                <a:latin typeface="Tahoma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e2d700"/>
                </a:solidFill>
                <a:latin typeface="Tahoma"/>
                <a:ea typeface="DejaVu Sans"/>
              </a:rPr>
              <a:t>Евстафьева А.С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r">
              <a:lnSpc>
                <a:spcPct val="10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8879" b="0"/>
          <a:stretch/>
        </p:blipFill>
        <p:spPr>
          <a:xfrm>
            <a:off x="152280" y="228600"/>
            <a:ext cx="5105520" cy="37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770280" y="2438280"/>
            <a:ext cx="5373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10056" r="0" b="0"/>
          <a:stretch/>
        </p:blipFill>
        <p:spPr>
          <a:xfrm>
            <a:off x="762120" y="914400"/>
            <a:ext cx="7962840" cy="5154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52480" y="1522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DejaVu Sans"/>
              </a:rPr>
              <a:t>Артисты, на поклон!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7920"/>
            <a:ext cx="8229600" cy="11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  <a:ea typeface="DejaVu Sans"/>
              </a:rPr>
              <a:t>Приобретаем билет в театр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22212" t="0" r="0" b="0"/>
          <a:stretch/>
        </p:blipFill>
        <p:spPr>
          <a:xfrm>
            <a:off x="4800600" y="2819520"/>
            <a:ext cx="4002120" cy="3429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4916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017720"/>
            <a:ext cx="7162560" cy="477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43000" y="26496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  <a:ea typeface="DejaVu Sans"/>
              </a:rPr>
              <a:t>«Колобок на новый лад»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5069160" cy="3378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5716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676440"/>
            <a:ext cx="819468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7920"/>
            <a:ext cx="8229600" cy="11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  <a:ea typeface="DejaVu Sans"/>
              </a:rPr>
              <a:t>«Две елочки»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9763" r="0" b="13478"/>
          <a:stretch/>
        </p:blipFill>
        <p:spPr>
          <a:xfrm>
            <a:off x="-3240" y="1371600"/>
            <a:ext cx="9077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7920"/>
            <a:ext cx="8229600" cy="56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  <a:ea typeface="DejaVu Sans"/>
              </a:rPr>
              <a:t>«Муха-цокотуха»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9760" y="1066680"/>
            <a:ext cx="76579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0" r="9182" b="24310"/>
          <a:stretch/>
        </p:blipFill>
        <p:spPr>
          <a:xfrm>
            <a:off x="1523880" y="152280"/>
            <a:ext cx="609624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167680" cy="5445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14600" y="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DejaVu Sans"/>
              </a:rPr>
              <a:t>«После спектакля…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2215800"/>
            <a:ext cx="754380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Чем театр так хорош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ты в сказку попадёшь 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верят в волшебство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дружат с чудесам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Все сказки наяву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Приходят в гости сами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6930" t="14063" r="11874" b="4241"/>
          <a:stretch/>
        </p:blipFill>
        <p:spPr>
          <a:xfrm>
            <a:off x="685800" y="914400"/>
            <a:ext cx="8064360" cy="5410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819520" y="152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DejaVu Sans"/>
              </a:rPr>
              <a:t>«Репка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14283" r="9528" b="0"/>
          <a:stretch/>
        </p:blipFill>
        <p:spPr>
          <a:xfrm>
            <a:off x="228600" y="335268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5131" t="25649" r="16245" b="0"/>
          <a:stretch/>
        </p:blipFill>
        <p:spPr>
          <a:xfrm>
            <a:off x="1905120" y="0"/>
            <a:ext cx="5076720" cy="3200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80880"/>
            <a:ext cx="670536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e2d700"/>
                </a:solidFill>
                <a:latin typeface="Arial"/>
                <a:ea typeface="DejaVu Sans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DejaVu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838080"/>
            <a:ext cx="8229600" cy="114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Arial"/>
                <a:ea typeface="DejaVu Sans"/>
              </a:rPr>
              <a:t>Цель программы кружка: развитие способностей детей средствами театрального искусства</a:t>
            </a:r>
            <a:endParaRPr b="0" lang="en-US" sz="3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27400"/>
            <a:ext cx="8229600" cy="453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1.Создать условия для развития творческой активности дет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2.Совершенствовать артистические навыки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3.Учить имитировать характерные движения сказочных животных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4.Активизировать словарь детей, совершенствовать звуковую культуру речи, интонационный строй, диалогическую речь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5.Познакомить детей с различными видами театр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  <a:ea typeface="DejaVu Sans"/>
              </a:rPr>
              <a:t>6.Обучать детей элементам художественно – образных выразительных средств (интонация, мимика, пантомимика)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81080" y="685800"/>
            <a:ext cx="6629400" cy="441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DejaVu Sans"/>
              </a:rPr>
              <a:t>:</a:t>
            </a:r>
            <a:br>
              <a:rPr sz="1800"/>
            </a:b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DejaVu Sans"/>
              </a:rPr>
              <a:t>Основные направления</a:t>
            </a:r>
            <a:br>
              <a:rPr sz="18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DejaVu Sans"/>
              </a:rPr>
              <a:t>            работы кружка</a:t>
            </a:r>
            <a:br>
              <a:rPr sz="1800"/>
            </a:b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- театрально – игровая деятельность;</a:t>
            </a: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- музыкально – творческое развитие;</a:t>
            </a: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- художественно- речевая деятельность;</a:t>
            </a: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- основы театральной культуры</a:t>
            </a:r>
            <a:br>
              <a:rPr sz="18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  <a:ea typeface="DejaVu Sans"/>
              </a:rPr>
              <a:t>-работа над спектаклем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6880" y="609480"/>
            <a:ext cx="5562720" cy="53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Tahoma"/>
                <a:ea typeface="DejaVu Sans"/>
              </a:rPr>
              <a:t>Формы работы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990720"/>
            <a:ext cx="5257800" cy="502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Речевые игры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Ритмопластик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Инсценировка песен, попевок, хороводов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Использование различных видов театра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Драматизация сказок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1280" indent="-341280">
              <a:lnSpc>
                <a:spcPct val="100000"/>
              </a:lnSpc>
              <a:spcBef>
                <a:spcPts val="711"/>
              </a:spcBef>
              <a:spcAft>
                <a:spcPts val="11"/>
              </a:spcAft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  <a:ea typeface="DejaVu Sans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7920"/>
            <a:ext cx="822960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  <a:ea typeface="DejaVu Sans"/>
              </a:rPr>
              <a:t>Играем с куклами би-ба-бо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5514" r="0" b="0"/>
          <a:stretch/>
        </p:blipFill>
        <p:spPr>
          <a:xfrm>
            <a:off x="914400" y="914400"/>
            <a:ext cx="7315200" cy="51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277920"/>
            <a:ext cx="8229600" cy="48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  <a:ea typeface="DejaVu Sans"/>
              </a:rPr>
              <a:t>Фартучковый театр </a:t>
            </a:r>
            <a:endParaRPr b="0" lang="en-US" sz="4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7497" r="0" b="0"/>
          <a:stretch/>
        </p:blipFill>
        <p:spPr>
          <a:xfrm>
            <a:off x="762120" y="914400"/>
            <a:ext cx="74689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7920"/>
            <a:ext cx="8229600" cy="11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  <a:ea typeface="DejaVu Sans"/>
              </a:rPr>
              <a:t>Создание декорации</a:t>
            </a:r>
            <a:endParaRPr b="0" lang="en-US" sz="3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467840" cy="4976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95280" y="38088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  <a:ea typeface="DejaVu Sans"/>
              </a:rPr>
              <a:t>«Рукавичка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Муз.Класс</cp:lastModifiedBy>
  <dcterms:modified xsi:type="dcterms:W3CDTF">2024-01-18T08:05:05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