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6AF-D09E-4376-8F3E-AA4DF409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138-58E2-48D8-AEB4-21B4DB2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ABC-9FF4-4523-B2C3-CBE7A4F9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D5A-8A90-4981-BE2E-6489497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D85-C427-48FA-9F7D-DD9DAF8F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D48C-FE7D-4ECA-855C-056E6BC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DDA0-AF2F-4F66-A9B5-F862E23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9334-E450-438A-B6D8-36D5CDA5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8A7E-A177-480D-ABA1-AE543465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7DD3-CE92-4566-A89B-0CE5F688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168D-EDD6-47C9-BBA3-3585A86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11C-0190-4484-B66A-05B78E4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A389-6CDD-4BBA-9060-2B83E87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DBC-8156-403D-86E0-C97CF46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188-0C44-40E1-9FEE-0314FFAE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B727-F5B6-4EC8-9381-6172577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947-39CD-4B48-90C3-8810C40F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81DC-AD06-4C06-A0C2-1857A79B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38AC-47B6-4672-B560-7565227A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6821-C587-4ABA-B1BA-3B636DA9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BFBC-CE31-4252-A915-E1F5123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AFEA-9F9F-4215-BC58-8BEBAC3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362-7720-4DA3-8698-7C94A9A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CB31-FCFB-47C3-AE10-CE490BF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C3F0-F2FA-4F57-9970-9D6F4A1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0C39-9969-432A-8C55-06019F1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3299-DE68-4D70-891B-3978E2A4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AAEF-482D-43AF-8AD6-CC9C67E7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20E5-9031-4311-8F70-A7BAD54C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DF01-B8AE-49CF-9F31-98CBB1CD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CCF-25D7-4FB1-B7DF-3FC7EFC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7CE-0391-4283-BDD3-241E7F8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557-553C-4A64-93EA-C986154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F95-828F-4151-86BB-FCD5E3C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A30-F295-4DEF-A703-2B392D0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2C3-DC90-4CDA-8DFC-7349B1B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7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5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5109549-078C-4D8F-9F4D-C3D6C759D5C1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ec85e"/>
              </a:buClr>
              <a:buSzPct val="70000"/>
              <a:buFont typeface="Wingdings" charset="2"/>
              <a:buChar char="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70000"/>
              <a:buFont typeface="Wingdings" charset="2"/>
              <a:buChar char="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809DF22-1D27-4603-B6D5-0522ED438C27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30A85F7-50A1-498B-97BC-9CD5B574F53F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040" cy="243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«Методика работы с Блоками Дьенеша»</a:t>
            </a:r>
            <a:br>
              <a:rPr sz="5400"/>
            </a:b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(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з опыта работ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в младшей группе «Карамель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48320" y="5486400"/>
            <a:ext cx="4519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, Паршин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62120" y="304920"/>
            <a:ext cx="7648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  <a:ea typeface="Arial"/>
              </a:rPr>
              <a:t>Муниципальное автономное дошкольное  общеобразовательное учреждение «Детский сад № 6  «Светл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3490920" y="6445080"/>
            <a:ext cx="28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Лесосибирск, 2022 г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MG_20220209_092846"/>
          <p:cNvPicPr/>
          <p:nvPr/>
        </p:nvPicPr>
        <p:blipFill>
          <a:blip r:embed="rId1"/>
          <a:stretch/>
        </p:blipFill>
        <p:spPr>
          <a:xfrm>
            <a:off x="1143000" y="1447920"/>
            <a:ext cx="6908400" cy="518112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21" name="Text Box 3"/>
          <p:cNvSpPr/>
          <p:nvPr/>
        </p:nvSpPr>
        <p:spPr>
          <a:xfrm>
            <a:off x="304920" y="165240"/>
            <a:ext cx="85341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корми звер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детей обобщать и выполнять игровое действие в соответствии с выделенными призн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IMG_20220208_152829"/>
          <p:cNvPicPr/>
          <p:nvPr/>
        </p:nvPicPr>
        <p:blipFill>
          <a:blip r:embed="rId1"/>
          <a:stretch/>
        </p:blipFill>
        <p:spPr>
          <a:xfrm>
            <a:off x="1447920" y="1419120"/>
            <a:ext cx="6857640" cy="5143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80880" y="281160"/>
            <a:ext cx="79243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Дорожка к доми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обобщать свойства предметов и классифициров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04920" y="304920"/>
            <a:ext cx="49525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                               «Продолжи ря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анализировать, находить закономерности в ряду и продолжать этот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543120" cy="4419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56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80880" y="380880"/>
            <a:ext cx="80769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Дьенеша как констру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воображения и повышение интереса детей к созданию конструкций и моделей из логических бл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MG_20220209_093624"/>
          <p:cNvPicPr/>
          <p:nvPr/>
        </p:nvPicPr>
        <p:blipFill>
          <a:blip r:embed="rId1"/>
          <a:stretch/>
        </p:blipFill>
        <p:spPr>
          <a:xfrm>
            <a:off x="1691640" y="1845000"/>
            <a:ext cx="6082920" cy="44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IMG_20220208_163429"/>
          <p:cNvPicPr/>
          <p:nvPr/>
        </p:nvPicPr>
        <p:blipFill>
          <a:blip r:embed="rId1"/>
          <a:stretch/>
        </p:blipFill>
        <p:spPr>
          <a:xfrm>
            <a:off x="1219320" y="1428840"/>
            <a:ext cx="6933960" cy="520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62120" y="228600"/>
            <a:ext cx="81529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с печатным материалом  и кар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находить нужный блок и выкладывать по задан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38080" y="380880"/>
            <a:ext cx="76957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наглядных кар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выделять и абстрагировать цвет, форму, величину согласно нагляд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143000" y="1657440"/>
            <a:ext cx="6933960" cy="49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9920" cy="5257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533520" y="228600"/>
            <a:ext cx="83815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Чудесный мешоч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на ощупь выделять геометрическую фиг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04920"/>
            <a:ext cx="7619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ой опыт показал, что использование логических блоков Дьенеша однозначно оказывает положительное влияние на развитие детей: улучшают память, внимание и концентрацию, способствуют формированию аналитического и логического ума, учат фантазировать, и я могу смело посоветовать широко использовать их на практике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MG_20220203_100923"/>
          <p:cNvPicPr/>
          <p:nvPr/>
        </p:nvPicPr>
        <p:blipFill>
          <a:blip r:embed="rId1"/>
          <a:stretch/>
        </p:blipFill>
        <p:spPr>
          <a:xfrm>
            <a:off x="1523880" y="2286000"/>
            <a:ext cx="59432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1- символ цвета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2- символ формы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3- символ размер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4- символ толщины</a:t>
            </a: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171840" cy="44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968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  <a:ea typeface="Arial"/>
              </a:rPr>
              <a:t>Спасибо за внимание!</a:t>
            </a: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28600" y="1067040"/>
            <a:ext cx="510516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Золтан Дьенеш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— знаменитый венгерский математик, практикующий педагог и психолог, радикально изменивший стереотипное восприятие математики как рутинной и нетворческой научной дисцип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ногие годы Золтан посвятил исследованиям, преподаванию математики детям в разных странах и в итоге выяснял, что только задействуя творческий потенциал ребенка, можно привить любовь к математике и добиться реальных успехов в изучении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Золтан Дьенеш предлагает использовать для игр «логические бло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057400" y="457200"/>
            <a:ext cx="533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 автора метод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bf40faef641d45b281c254aaaf0c695e"/>
          <p:cNvPicPr/>
          <p:nvPr/>
        </p:nvPicPr>
        <p:blipFill>
          <a:blip r:embed="rId1"/>
          <a:stretch/>
        </p:blipFill>
        <p:spPr>
          <a:xfrm>
            <a:off x="5352480" y="1921680"/>
            <a:ext cx="3539880" cy="32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Логический материал представляет собой набор из 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48 логических блоков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,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  <a:ea typeface="Arial"/>
              </a:rPr>
              <a:t>различающихся четырьмя свойствам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: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1. Формой – круглые, квадратные, треугольные, прямоугольны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2. Цветом – красные, желтые, син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3. Размером – большие и маленьк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4. Толщиной – толстые и тонкие.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8" descr="375266fd07e5e5171f4cd8bc09rw--kukly-i-igrushki-bloki-denesha-iz-dereva"/>
          <p:cNvPicPr/>
          <p:nvPr/>
        </p:nvPicPr>
        <p:blipFill>
          <a:blip r:embed="rId1"/>
          <a:stretch/>
        </p:blipFill>
        <p:spPr>
          <a:xfrm>
            <a:off x="1905120" y="2666880"/>
            <a:ext cx="5181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640" y="1700640"/>
            <a:ext cx="4525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витие познавательных, умственных и творческих способностей у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94aa3096048232c021257af51114ac67"/>
          <p:cNvPicPr/>
          <p:nvPr/>
        </p:nvPicPr>
        <p:blipFill>
          <a:blip r:embed="rId1"/>
          <a:stretch/>
        </p:blipFill>
        <p:spPr>
          <a:xfrm>
            <a:off x="5292000" y="874080"/>
            <a:ext cx="3384000" cy="51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1638360" y="1721880"/>
            <a:ext cx="5714640" cy="313848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закрепление знаний о ключевых геометрических фигу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накопление знаний о свойствах предметов: форме и цвете, размере и толщ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совершенствование мыслительных операций: анализа и синтеза, классификации, кодирования и декодирован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формирование основ алгоритм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686040" y="7920"/>
            <a:ext cx="187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794120" y="5029200"/>
            <a:ext cx="38858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воспитание настойчивости, усидчивости,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453960" y="5075280"/>
            <a:ext cx="4117680" cy="130932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вершенствование памяти, воображения, внимания, креатив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2"/>
          <p:cNvCxnSpPr/>
          <p:nvPr/>
        </p:nvCxnSpPr>
        <p:spPr>
          <a:xfrm flipH="1">
            <a:off x="914400" y="838080"/>
            <a:ext cx="2667240" cy="417708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4" name="Прямая со стрелкой 4"/>
          <p:cNvCxnSpPr/>
          <p:nvPr/>
        </p:nvCxnSpPr>
        <p:spPr>
          <a:xfrm>
            <a:off x="5333760" y="761760"/>
            <a:ext cx="2439000" cy="410256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5" name="Прямая со стрелкой 6"/>
          <p:cNvCxnSpPr/>
          <p:nvPr/>
        </p:nvCxnSpPr>
        <p:spPr>
          <a:xfrm>
            <a:off x="4572000" y="653760"/>
            <a:ext cx="360" cy="105300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762120" y="381600"/>
            <a:ext cx="80769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блоками организовывалась в три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035000" y="5018040"/>
            <a:ext cx="688932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этап -Усложнение и  дифференциация зад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зависимости от уровня интеллектуального развития и возраста  детей задания услож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066680" y="3506760"/>
            <a:ext cx="68576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этап –Иг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и знакомятся с содержанием алгоритмов и правил игры с дидактическими бло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1066680" y="974880"/>
            <a:ext cx="6857640" cy="1919160"/>
          </a:xfrm>
          <a:prstGeom prst="rect">
            <a:avLst/>
          </a:prstGeom>
          <a:noFill/>
          <a:ln w="0">
            <a:solidFill>
              <a:srgbClr val="ffffcc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1 этап –Ознаком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Даём детям возможность познакомиться с блоками: самостоятельно достать их из коробки и рассмотреть, поиграть по своему усмотрению. Дети могут построить башенки, домики и т.д. В процессе они устанавливают, что блоки имеют различную форму, цвет, размер, толщ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6"/>
          <p:cNvSpPr/>
          <p:nvPr/>
        </p:nvSpPr>
        <p:spPr>
          <a:xfrm>
            <a:off x="609480" y="1066680"/>
            <a:ext cx="8229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логическими блоками организовывалась м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зных форм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нятия (в первую очередь, это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лементарных математических представлений (ФЭМ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ы (дидактические, сюжетно-ролевые, подвиж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ятельность в свободное от занятий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конструирование, изобразительное творчество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ставление картин из блоков, их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роли предметных ориентир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4"/>
          <p:cNvCxnSpPr/>
          <p:nvPr/>
        </p:nvCxnSpPr>
        <p:spPr>
          <a:xfrm>
            <a:off x="380880" y="1600200"/>
            <a:ext cx="360" cy="2667240"/>
          </a:xfrm>
          <a:prstGeom prst="straightConnector1">
            <a:avLst/>
          </a:prstGeom>
          <a:ln w="57150">
            <a:solidFill>
              <a:srgbClr val="ffff00"/>
            </a:solidFill>
            <a:miter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80880" y="21333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3" name="Прямая со стрелкой 8"/>
          <p:cNvCxnSpPr/>
          <p:nvPr/>
        </p:nvCxnSpPr>
        <p:spPr>
          <a:xfrm>
            <a:off x="380880" y="312408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4" name="Прямая со стрелкой 10"/>
          <p:cNvCxnSpPr/>
          <p:nvPr/>
        </p:nvCxnSpPr>
        <p:spPr>
          <a:xfrm>
            <a:off x="380880" y="41907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IMG_20220203_101041"/>
          <p:cNvPicPr/>
          <p:nvPr/>
        </p:nvPicPr>
        <p:blipFill>
          <a:blip r:embed="rId1"/>
          <a:stretch/>
        </p:blipFill>
        <p:spPr>
          <a:xfrm>
            <a:off x="1043640" y="1498320"/>
            <a:ext cx="6887160" cy="516528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380880" y="0"/>
            <a:ext cx="8534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й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слухоречевого внимания, памяти, а также умения сравнивать геометрические фигуры между собой и находить фигуру по заданному призна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MG_20220203_100824"/>
          <p:cNvPicPr/>
          <p:nvPr/>
        </p:nvPicPr>
        <p:blipFill>
          <a:blip r:embed="rId1"/>
          <a:stretch/>
        </p:blipFill>
        <p:spPr>
          <a:xfrm>
            <a:off x="4038480" y="609480"/>
            <a:ext cx="4800240" cy="3600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36440" y="622440"/>
            <a:ext cx="388584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Сор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закрепление знаний детей об основных цветах и геометрических фигурах; изучение и обобщение блоков по призна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IMG_20220203_100840"/>
          <p:cNvPicPr/>
          <p:nvPr/>
        </p:nvPicPr>
        <p:blipFill>
          <a:blip r:embed="rId2"/>
          <a:stretch/>
        </p:blipFill>
        <p:spPr>
          <a:xfrm>
            <a:off x="228600" y="3048120"/>
            <a:ext cx="480024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tegral</Template>
  <TotalTime>1091</TotalTime>
  <Application>LibreOffice/7.4.7.2$Linux_X86_64 LibreOffice_project/40$Build-2</Application>
  <AppVersion>15.0000</AppVersion>
  <Words>599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5T13:45:27Z</dcterms:created>
  <dc:creator>1</dc:creator>
  <dc:description/>
  <dc:language>en-US</dc:language>
  <cp:lastModifiedBy>Пользователь</cp:lastModifiedBy>
  <dcterms:modified xsi:type="dcterms:W3CDTF">2024-01-22T06:35:56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Version">
    <vt:r8>1</vt:r8>
  </property>
</Properties>
</file>