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E35-2454-477E-B663-BB7AB470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152-388B-47EF-B870-BB8D6E8B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CB5-B510-4EF0-B74D-96B17B8D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4E7-7AAF-410F-B7BA-D1D8CD12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5005-EE9B-4420-A7FD-258B25C6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8742-1FA8-40DD-BA15-3C59A5A9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7C14-67C2-486E-8142-32553E18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C48D-68DC-4788-B2CE-9FB1F71C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311D-354A-4E2B-A0A2-787844A8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D249-0993-4593-B328-14FCEFE8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E2DB-8013-48B9-9E12-93ADC4E1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ACD-E09D-4A46-A5E7-009BB39D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7123-6888-48DD-A8B7-FD66FF56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DFAE-D0D1-4672-87FF-9F592CB5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44DD-FBA8-4A13-921A-96B5DE85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A5C9-C869-4F26-93CE-CC9F564F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8981-655F-4ED5-A048-315AE905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1908-2B86-419E-82F0-21F35C34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C087-94D0-4D86-B8C3-54E91CEB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7CF4A-513A-4775-AF4C-5B7074FC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8BDFA-ACDD-4C25-BCF8-189F557E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BCF6D-C78C-41A4-9AE3-F7CCFF04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A486-D2B4-4D4B-BF4A-3D56A473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5070-5098-43A3-A47B-5BA536DC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E42A-5E44-4FE4-B44A-F5DFFE7D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73F1-4C44-4801-B362-B9282169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8865-C4F4-4E55-BEC7-B309C663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A01C-7647-4AD4-B62F-195D7968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27345-3CF3-47B9-9138-DF091ED5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8CAC5-16E1-4094-A6E2-F6D2E74C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BCC-5A5D-4EEE-9DC3-47106C61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066-3E06-43CC-AFFB-A01E5D18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8BA-0EEF-4D03-B212-CB6D8DCB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80C-63D8-45D1-BEF4-7D190CBC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844-9B71-49D7-B546-55ECBACE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C88-0A53-4B35-B3FE-F47A4F81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280" cy="1512360"/>
            <a:chOff x="4716360" y="5345280"/>
            <a:chExt cx="4427280" cy="151236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280" cy="151236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40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240" cy="121716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56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7680" cy="96948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600" cy="60912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16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584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068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320" cy="39960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4680" cy="2091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076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000" cy="151236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Group 2"/>
          <p:cNvGrpSpPr/>
          <p:nvPr/>
        </p:nvGrpSpPr>
        <p:grpSpPr>
          <a:xfrm>
            <a:off x="4716360" y="5345280"/>
            <a:ext cx="4427280" cy="1512360"/>
            <a:chOff x="4716360" y="5345280"/>
            <a:chExt cx="4427280" cy="1512360"/>
          </a:xfrm>
        </p:grpSpPr>
        <p:sp>
          <p:nvSpPr>
            <p:cNvPr id="17" name="Freeform 3"/>
            <p:cNvSpPr/>
            <p:nvPr/>
          </p:nvSpPr>
          <p:spPr>
            <a:xfrm>
              <a:off x="4716360" y="5345280"/>
              <a:ext cx="4427280" cy="151236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"/>
            <p:cNvSpPr/>
            <p:nvPr/>
          </p:nvSpPr>
          <p:spPr>
            <a:xfrm>
              <a:off x="7305840" y="637236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5"/>
            <p:cNvSpPr/>
            <p:nvPr/>
          </p:nvSpPr>
          <p:spPr>
            <a:xfrm>
              <a:off x="7296120" y="634356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6"/>
            <p:cNvSpPr/>
            <p:nvPr/>
          </p:nvSpPr>
          <p:spPr>
            <a:xfrm>
              <a:off x="8223120" y="5678640"/>
              <a:ext cx="48240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7"/>
            <p:cNvSpPr/>
            <p:nvPr/>
          </p:nvSpPr>
          <p:spPr>
            <a:xfrm>
              <a:off x="7807320" y="5640480"/>
              <a:ext cx="498240" cy="121716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8"/>
            <p:cNvSpPr/>
            <p:nvPr/>
          </p:nvSpPr>
          <p:spPr>
            <a:xfrm>
              <a:off x="7461360" y="5869080"/>
              <a:ext cx="436320" cy="98856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"/>
            <p:cNvSpPr/>
            <p:nvPr/>
          </p:nvSpPr>
          <p:spPr>
            <a:xfrm>
              <a:off x="7178760" y="5888160"/>
              <a:ext cx="337680" cy="96948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0"/>
            <p:cNvSpPr/>
            <p:nvPr/>
          </p:nvSpPr>
          <p:spPr>
            <a:xfrm>
              <a:off x="6813720" y="6248520"/>
              <a:ext cx="264600" cy="60912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1"/>
            <p:cNvSpPr/>
            <p:nvPr/>
          </p:nvSpPr>
          <p:spPr>
            <a:xfrm>
              <a:off x="6508800" y="6381720"/>
              <a:ext cx="26316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"/>
            <p:cNvSpPr/>
            <p:nvPr/>
          </p:nvSpPr>
          <p:spPr>
            <a:xfrm>
              <a:off x="6207120" y="6410160"/>
              <a:ext cx="37584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13"/>
            <p:cNvSpPr/>
            <p:nvPr/>
          </p:nvSpPr>
          <p:spPr>
            <a:xfrm>
              <a:off x="5832360" y="6486480"/>
              <a:ext cx="31068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14"/>
            <p:cNvSpPr/>
            <p:nvPr/>
          </p:nvSpPr>
          <p:spPr>
            <a:xfrm>
              <a:off x="5518080" y="6458040"/>
              <a:ext cx="301320" cy="39960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15"/>
            <p:cNvSpPr/>
            <p:nvPr/>
          </p:nvSpPr>
          <p:spPr>
            <a:xfrm>
              <a:off x="5032440" y="6648480"/>
              <a:ext cx="364680" cy="2091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16"/>
            <p:cNvSpPr/>
            <p:nvPr/>
          </p:nvSpPr>
          <p:spPr>
            <a:xfrm>
              <a:off x="4832280" y="6696000"/>
              <a:ext cx="14076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17"/>
            <p:cNvSpPr/>
            <p:nvPr/>
          </p:nvSpPr>
          <p:spPr>
            <a:xfrm>
              <a:off x="8702640" y="5345280"/>
              <a:ext cx="441000" cy="151236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  <a:ea typeface="Arial"/>
              </a:rPr>
              <a:t>Образец заголовка</a:t>
            </a:r>
            <a:endParaRPr b="0" lang="ru-RU" sz="5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DCDB03F-C9F3-4B37-8C3C-3763626A03D8}" type="slidenum"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ru-RU" sz="2400" spc="-1" strike="noStrike">
              <a:solidFill>
                <a:srgbClr val="eaeaea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4716360" y="5345280"/>
            <a:ext cx="4427280" cy="1512360"/>
            <a:chOff x="4716360" y="5345280"/>
            <a:chExt cx="4427280" cy="151236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280" cy="151236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40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240" cy="121716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56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7680" cy="96948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600" cy="60912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16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584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068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320" cy="39960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4680" cy="2091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076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000" cy="151236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eec85e"/>
              </a:buClr>
              <a:buSzPct val="70000"/>
              <a:buFont typeface="Wingdings" charset="2"/>
              <a:buChar char=""/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eaeaea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70000"/>
              <a:buFont typeface="Wingdings" charset="2"/>
              <a:buChar char=""/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eaeaea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5ED30D4-720A-4D69-B82C-FF3EAA8F32AF}" type="slidenum"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716360" y="5345280"/>
            <a:ext cx="4427280" cy="1512360"/>
            <a:chOff x="4716360" y="5345280"/>
            <a:chExt cx="4427280" cy="1512360"/>
          </a:xfrm>
        </p:grpSpPr>
        <p:sp>
          <p:nvSpPr>
            <p:cNvPr id="131" name="Freeform 3"/>
            <p:cNvSpPr/>
            <p:nvPr/>
          </p:nvSpPr>
          <p:spPr>
            <a:xfrm>
              <a:off x="4716360" y="5345280"/>
              <a:ext cx="4427280" cy="151236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7305840" y="637236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7296120" y="634356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8223120" y="5678640"/>
              <a:ext cx="48240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7807320" y="5640480"/>
              <a:ext cx="498240" cy="121716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7461360" y="5869080"/>
              <a:ext cx="436320" cy="98856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7178760" y="5888160"/>
              <a:ext cx="337680" cy="96948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6813720" y="6248520"/>
              <a:ext cx="264600" cy="60912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6508800" y="6381720"/>
              <a:ext cx="26316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6207120" y="6410160"/>
              <a:ext cx="37584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832360" y="6486480"/>
              <a:ext cx="31068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5518080" y="6458040"/>
              <a:ext cx="301320" cy="39960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5032440" y="6648480"/>
              <a:ext cx="364680" cy="2091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4832280" y="6696000"/>
              <a:ext cx="14076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8702640" y="5345280"/>
              <a:ext cx="441000" cy="151236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06A9777-ACBD-43B8-8EC2-04F599E12B84}" type="slidenum"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ru-RU" sz="2400" spc="-1" strike="noStrike">
              <a:solidFill>
                <a:srgbClr val="eaeaea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7772040" cy="2437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  <a:ea typeface="Arial"/>
              </a:rPr>
              <a:t>«Методика работы с Блоками Дьенеша»</a:t>
            </a:r>
            <a:br>
              <a:rPr sz="5400"/>
            </a:br>
            <a:endParaRPr b="0" lang="ru-RU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640044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(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з опыта работы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в младшей группе «Карамельки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648320" y="5486400"/>
            <a:ext cx="4519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олни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оспитатель, Паршина Елена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762120" y="304920"/>
            <a:ext cx="7648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  <a:ea typeface="Arial"/>
              </a:rPr>
              <a:t>Муниципальное автономное дошкольное  общеобразовательное учреждение «Детский сад № 6  «Светляч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3490920" y="6445080"/>
            <a:ext cx="281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Лесосибирск, 2022 г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IMG_20220209_092846"/>
          <p:cNvPicPr/>
          <p:nvPr/>
        </p:nvPicPr>
        <p:blipFill>
          <a:blip r:embed="rId1"/>
          <a:stretch/>
        </p:blipFill>
        <p:spPr>
          <a:xfrm>
            <a:off x="1143000" y="1447920"/>
            <a:ext cx="6908400" cy="5181120"/>
          </a:xfrm>
          <a:prstGeom prst="rect">
            <a:avLst/>
          </a:prstGeom>
          <a:ln w="3175">
            <a:solidFill>
              <a:srgbClr val="000000"/>
            </a:solidFill>
            <a:miter/>
          </a:ln>
        </p:spPr>
      </p:pic>
      <p:sp>
        <p:nvSpPr>
          <p:cNvPr id="221" name="Text Box 3"/>
          <p:cNvSpPr/>
          <p:nvPr/>
        </p:nvSpPr>
        <p:spPr>
          <a:xfrm>
            <a:off x="304920" y="165240"/>
            <a:ext cx="853416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«Накорми зверуше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й детей обобщать и выполнять игровое действие в соответствии с выделенными призна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IMG_20220208_152829"/>
          <p:cNvPicPr/>
          <p:nvPr/>
        </p:nvPicPr>
        <p:blipFill>
          <a:blip r:embed="rId1"/>
          <a:stretch/>
        </p:blipFill>
        <p:spPr>
          <a:xfrm>
            <a:off x="1447920" y="1419120"/>
            <a:ext cx="6857640" cy="51433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380880" y="281160"/>
            <a:ext cx="792432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«Дорожка к домик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й обобщать свойства предметов и классифицировать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304920" y="304920"/>
            <a:ext cx="49525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                                «Продолжи ря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я анализировать, находить закономерности в ряду и продолжать этот р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5257800" y="304920"/>
            <a:ext cx="3543120" cy="4419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3561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380880" y="380880"/>
            <a:ext cx="807696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Использование блоков Дьенеша как констру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воображения и повышение интереса детей к созданию конструкций и моделей из логических бл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IMG_20220209_093624"/>
          <p:cNvPicPr/>
          <p:nvPr/>
        </p:nvPicPr>
        <p:blipFill>
          <a:blip r:embed="rId1"/>
          <a:stretch/>
        </p:blipFill>
        <p:spPr>
          <a:xfrm>
            <a:off x="1691640" y="1845000"/>
            <a:ext cx="6082920" cy="44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IMG_20220208_163429"/>
          <p:cNvPicPr/>
          <p:nvPr/>
        </p:nvPicPr>
        <p:blipFill>
          <a:blip r:embed="rId1"/>
          <a:stretch/>
        </p:blipFill>
        <p:spPr>
          <a:xfrm>
            <a:off x="1219320" y="1428840"/>
            <a:ext cx="6933960" cy="5200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762120" y="228600"/>
            <a:ext cx="815292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Использование блоков с печатным материалом  и карточ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я находить нужный блок и выкладывать по заданному образ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38080" y="380880"/>
            <a:ext cx="769572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Использование наглядных карт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й у детей выделять и абстрагировать цвет, форму, величину согласно наглядному образ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1143000" y="1657440"/>
            <a:ext cx="6933960" cy="49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09920" cy="52574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533520" y="228600"/>
            <a:ext cx="838152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 «Чудесный мешоче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й у детей на ощупь выделять геометрическую фигу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533520" y="304920"/>
            <a:ext cx="7619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Мой опыт показал, что использование логических блоков Дьенеша однозначно оказывает положительное влияние на развитие детей: улучшают память, внимание и концентрацию, способствуют формированию аналитического и логического ума, учат фантазировать, и я могу смело посоветовать широко использовать их на практике в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IMG_20220203_100923"/>
          <p:cNvPicPr/>
          <p:nvPr/>
        </p:nvPicPr>
        <p:blipFill>
          <a:blip r:embed="rId1"/>
          <a:stretch/>
        </p:blipFill>
        <p:spPr>
          <a:xfrm>
            <a:off x="1523880" y="2286000"/>
            <a:ext cx="594324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1055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1- символ цвета;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2- символ формы;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3- символ размера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4- символ толщины</a:t>
            </a: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8" name="Объект 4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171840" cy="44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968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  <a:ea typeface="Arial"/>
              </a:rPr>
              <a:t>Спасибо за внимание!</a:t>
            </a:r>
            <a:endParaRPr b="0" lang="ru-RU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228600" y="1067040"/>
            <a:ext cx="510516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Золтан Дьенеш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— знаменитый венгерский математик, практикующий педагог и психолог, радикально изменивший стереотипное восприятие математики как рутинной и нетворческой научной дисципл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Многие годы Золтан посвятил исследованиям, преподаванию математики детям в разных странах и в итоге выяснял, что только задействуя творческий потенциал ребенка, можно привить любовь к математике и добиться реальных успехов в изучении этой на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Золтан Дьенеш предлагает использовать для игр «логические блок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2057400" y="457200"/>
            <a:ext cx="5333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 автора метод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bf40faef641d45b281c254aaaf0c695e"/>
          <p:cNvPicPr/>
          <p:nvPr/>
        </p:nvPicPr>
        <p:blipFill>
          <a:blip r:embed="rId1"/>
          <a:stretch/>
        </p:blipFill>
        <p:spPr>
          <a:xfrm>
            <a:off x="5352480" y="1921680"/>
            <a:ext cx="3539880" cy="325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240" cy="251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Логический материал представляет собой набор из 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48 логических блоков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,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Times New Roman"/>
                <a:ea typeface="Arial"/>
              </a:rPr>
              <a:t>различающихся четырьмя свойствами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: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1. Формой – круглые, квадратные, треугольные, прямоугольные;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2. Цветом – красные, желтые, синие;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3. Размером – большие и маленькие;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4. Толщиной – толстые и тонкие.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8" descr="375266fd07e5e5171f4cd8bc09rw--kukly-i-igrushki-bloki-denesha-iz-dereva"/>
          <p:cNvPicPr/>
          <p:nvPr/>
        </p:nvPicPr>
        <p:blipFill>
          <a:blip r:embed="rId1"/>
          <a:stretch/>
        </p:blipFill>
        <p:spPr>
          <a:xfrm>
            <a:off x="1905120" y="2666880"/>
            <a:ext cx="518112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611640" y="1700640"/>
            <a:ext cx="45255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звитие познавательных, умственных и творческих способностей у детей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94aa3096048232c021257af51114ac67"/>
          <p:cNvPicPr/>
          <p:nvPr/>
        </p:nvPicPr>
        <p:blipFill>
          <a:blip r:embed="rId1"/>
          <a:stretch/>
        </p:blipFill>
        <p:spPr>
          <a:xfrm>
            <a:off x="5292000" y="874080"/>
            <a:ext cx="3384000" cy="51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1638360" y="1721880"/>
            <a:ext cx="5714640" cy="313848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закрепление знаний о ключевых геометрических фигу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накопление знаний о свойствах предметов: форме и цвете, размере и толщи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совершенствование мыслительных операций: анализа и синтеза, классификации, кодирования и декодирования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формирование основ алгоритмического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3686040" y="7920"/>
            <a:ext cx="1875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дач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4794120" y="5029200"/>
            <a:ext cx="3885840" cy="100440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спитатель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воспитание настойчивости, усидчивости, самосто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453960" y="5075280"/>
            <a:ext cx="4117680" cy="130932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ивающ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овершенствование памяти, воображения, внимания, креативны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Прямая со стрелкой 2"/>
          <p:cNvCxnSpPr/>
          <p:nvPr/>
        </p:nvCxnSpPr>
        <p:spPr>
          <a:xfrm flipH="1">
            <a:off x="914400" y="838080"/>
            <a:ext cx="2667240" cy="4177080"/>
          </a:xfrm>
          <a:prstGeom prst="straightConnector1">
            <a:avLst/>
          </a:prstGeom>
          <a:ln w="381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4" name="Прямая со стрелкой 4"/>
          <p:cNvCxnSpPr/>
          <p:nvPr/>
        </p:nvCxnSpPr>
        <p:spPr>
          <a:xfrm>
            <a:off x="5333760" y="761760"/>
            <a:ext cx="2439000" cy="4102560"/>
          </a:xfrm>
          <a:prstGeom prst="straightConnector1">
            <a:avLst/>
          </a:prstGeom>
          <a:ln w="381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5" name="Прямая со стрелкой 6"/>
          <p:cNvCxnSpPr/>
          <p:nvPr/>
        </p:nvCxnSpPr>
        <p:spPr>
          <a:xfrm>
            <a:off x="4572000" y="653760"/>
            <a:ext cx="360" cy="1053000"/>
          </a:xfrm>
          <a:prstGeom prst="straightConnector1">
            <a:avLst/>
          </a:prstGeom>
          <a:ln w="3810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762120" y="381600"/>
            <a:ext cx="807696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 с блоками организовывалась в три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1035000" y="5018040"/>
            <a:ext cx="6889320" cy="100440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этап -Усложнение и  дифференциация зад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зависимости от уровня интеллектуального развития и возраста  детей задания усложн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1066680" y="3506760"/>
            <a:ext cx="6857640" cy="100440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 этап –Игр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ети знакомятся с содержанием алгоритмов и правил игры с дидактическими бло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4"/>
          <p:cNvSpPr/>
          <p:nvPr/>
        </p:nvSpPr>
        <p:spPr>
          <a:xfrm>
            <a:off x="1066680" y="974880"/>
            <a:ext cx="6857640" cy="1919160"/>
          </a:xfrm>
          <a:prstGeom prst="rect">
            <a:avLst/>
          </a:prstGeom>
          <a:noFill/>
          <a:ln w="0">
            <a:solidFill>
              <a:srgbClr val="ffffcc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1 этап –Ознаком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Даём детям возможность познакомиться с блоками: самостоятельно достать их из коробки и рассмотреть, поиграть по своему усмотрению. Дети могут построить башенки, домики и т.д. В процессе они устанавливают, что блоки имеют различную форму, цвет, размер, толщ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6"/>
          <p:cNvSpPr/>
          <p:nvPr/>
        </p:nvSpPr>
        <p:spPr>
          <a:xfrm>
            <a:off x="609480" y="1066680"/>
            <a:ext cx="8229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 с логическими блоками организовывалась мн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разных форм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u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занятия (в первую очередь, это форм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элементарных математических представлений (ФЭМП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u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гры (дидактические, сюжетно-ролевые, подвижн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u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еятельность в свободное от занятий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конструирование, изобразительное творчество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ставление картин из блоков, их исполь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 роли предметных ориентиров и п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Прямая соединительная линия 4"/>
          <p:cNvCxnSpPr/>
          <p:nvPr/>
        </p:nvCxnSpPr>
        <p:spPr>
          <a:xfrm>
            <a:off x="380880" y="1600200"/>
            <a:ext cx="360" cy="2667240"/>
          </a:xfrm>
          <a:prstGeom prst="straightConnector1">
            <a:avLst/>
          </a:prstGeom>
          <a:ln w="57150">
            <a:solidFill>
              <a:srgbClr val="ffff00"/>
            </a:solidFill>
            <a:miter/>
          </a:ln>
        </p:spPr>
      </p:cxnSp>
      <p:cxnSp>
        <p:nvCxnSpPr>
          <p:cNvPr id="212" name="Прямая со стрелкой 6"/>
          <p:cNvCxnSpPr/>
          <p:nvPr/>
        </p:nvCxnSpPr>
        <p:spPr>
          <a:xfrm>
            <a:off x="380880" y="2133360"/>
            <a:ext cx="228960" cy="360"/>
          </a:xfrm>
          <a:prstGeom prst="straightConnector1">
            <a:avLst/>
          </a:prstGeom>
          <a:ln w="5715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3" name="Прямая со стрелкой 8"/>
          <p:cNvCxnSpPr/>
          <p:nvPr/>
        </p:nvCxnSpPr>
        <p:spPr>
          <a:xfrm>
            <a:off x="380880" y="3124080"/>
            <a:ext cx="228960" cy="360"/>
          </a:xfrm>
          <a:prstGeom prst="straightConnector1">
            <a:avLst/>
          </a:prstGeom>
          <a:ln w="5715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4" name="Прямая со стрелкой 10"/>
          <p:cNvCxnSpPr/>
          <p:nvPr/>
        </p:nvCxnSpPr>
        <p:spPr>
          <a:xfrm>
            <a:off x="380880" y="4190760"/>
            <a:ext cx="228960" cy="360"/>
          </a:xfrm>
          <a:prstGeom prst="straightConnector1">
            <a:avLst/>
          </a:prstGeom>
          <a:ln w="5715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IMG_20220203_101041"/>
          <p:cNvPicPr/>
          <p:nvPr/>
        </p:nvPicPr>
        <p:blipFill>
          <a:blip r:embed="rId1"/>
          <a:stretch/>
        </p:blipFill>
        <p:spPr>
          <a:xfrm>
            <a:off x="1043640" y="1498320"/>
            <a:ext cx="6887160" cy="5165280"/>
          </a:xfrm>
          <a:prstGeom prst="rect">
            <a:avLst/>
          </a:prstGeom>
          <a:ln w="3175">
            <a:solidFill>
              <a:srgbClr val="000000"/>
            </a:solidFill>
            <a:miter/>
          </a:ln>
        </p:spPr>
      </p:pic>
      <p:sp>
        <p:nvSpPr>
          <p:cNvPr id="216" name="Text Box 6"/>
          <p:cNvSpPr/>
          <p:nvPr/>
        </p:nvSpPr>
        <p:spPr>
          <a:xfrm>
            <a:off x="380880" y="0"/>
            <a:ext cx="853416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«Най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слухоречевого внимания, памяти, а также умения сравнивать геометрические фигуры между собой и находить фигуру по заданному призна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IMG_20220203_100824"/>
          <p:cNvPicPr/>
          <p:nvPr/>
        </p:nvPicPr>
        <p:blipFill>
          <a:blip r:embed="rId1"/>
          <a:stretch/>
        </p:blipFill>
        <p:spPr>
          <a:xfrm>
            <a:off x="4038480" y="609480"/>
            <a:ext cx="4800240" cy="3600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136440" y="622440"/>
            <a:ext cx="388584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 «Сор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закрепление знаний детей об основных цветах и геометрических фигурах; изучение и обобщение блоков по призна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IMG_20220203_100840"/>
          <p:cNvPicPr/>
          <p:nvPr/>
        </p:nvPicPr>
        <p:blipFill>
          <a:blip r:embed="rId2"/>
          <a:stretch/>
        </p:blipFill>
        <p:spPr>
          <a:xfrm>
            <a:off x="228600" y="3048120"/>
            <a:ext cx="4800240" cy="36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клон">
  <a:themeElements>
    <a:clrScheme name="Склон 5">
      <a:dk1>
        <a:srgbClr val="009999"/>
      </a:dk1>
      <a:lt1>
        <a:srgbClr val="eaeaea"/>
      </a:lt1>
      <a:dk2>
        <a:srgbClr val="006666"/>
      </a:dk2>
      <a:lt2>
        <a:srgbClr val="ffffcc"/>
      </a:lt2>
      <a:accent1>
        <a:srgbClr val="339966"/>
      </a:accent1>
      <a:accent2>
        <a:srgbClr val="5e855b"/>
      </a:accent2>
      <a:accent3>
        <a:srgbClr val="aab8b8"/>
      </a:accent3>
      <a:accent4>
        <a:srgbClr val="c8c8c8"/>
      </a:accent4>
      <a:accent5>
        <a:srgbClr val="adcab8"/>
      </a:accent5>
      <a:accent6>
        <a:srgbClr val="547852"/>
      </a:accent6>
      <a:hlink>
        <a:srgbClr val="eec85e"/>
      </a:hlink>
      <a:folHlink>
        <a:srgbClr val="aa845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клон">
  <a:themeElements>
    <a:clrScheme name="Склон 5">
      <a:dk1>
        <a:srgbClr val="009999"/>
      </a:dk1>
      <a:lt1>
        <a:srgbClr val="eaeaea"/>
      </a:lt1>
      <a:dk2>
        <a:srgbClr val="006666"/>
      </a:dk2>
      <a:lt2>
        <a:srgbClr val="ffffcc"/>
      </a:lt2>
      <a:accent1>
        <a:srgbClr val="339966"/>
      </a:accent1>
      <a:accent2>
        <a:srgbClr val="5e855b"/>
      </a:accent2>
      <a:accent3>
        <a:srgbClr val="aab8b8"/>
      </a:accent3>
      <a:accent4>
        <a:srgbClr val="c8c8c8"/>
      </a:accent4>
      <a:accent5>
        <a:srgbClr val="adcab8"/>
      </a:accent5>
      <a:accent6>
        <a:srgbClr val="547852"/>
      </a:accent6>
      <a:hlink>
        <a:srgbClr val="eec85e"/>
      </a:hlink>
      <a:folHlink>
        <a:srgbClr val="aa845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клон">
  <a:themeElements>
    <a:clrScheme name="Склон 5">
      <a:dk1>
        <a:srgbClr val="009999"/>
      </a:dk1>
      <a:lt1>
        <a:srgbClr val="eaeaea"/>
      </a:lt1>
      <a:dk2>
        <a:srgbClr val="006666"/>
      </a:dk2>
      <a:lt2>
        <a:srgbClr val="ffffcc"/>
      </a:lt2>
      <a:accent1>
        <a:srgbClr val="339966"/>
      </a:accent1>
      <a:accent2>
        <a:srgbClr val="5e855b"/>
      </a:accent2>
      <a:accent3>
        <a:srgbClr val="aab8b8"/>
      </a:accent3>
      <a:accent4>
        <a:srgbClr val="c8c8c8"/>
      </a:accent4>
      <a:accent5>
        <a:srgbClr val="adcab8"/>
      </a:accent5>
      <a:accent6>
        <a:srgbClr val="547852"/>
      </a:accent6>
      <a:hlink>
        <a:srgbClr val="eec85e"/>
      </a:hlink>
      <a:folHlink>
        <a:srgbClr val="aa845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ntegral</Template>
  <TotalTime>1091</TotalTime>
  <Application>LibreOffice/7.4.7.2$Linux_X86_64 LibreOffice_project/40$Build-2</Application>
  <AppVersion>15.0000</AppVersion>
  <Words>599</Words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5T13:45:27Z</dcterms:created>
  <dc:creator>1</dc:creator>
  <dc:description/>
  <dc:language>en-US</dc:language>
  <cp:lastModifiedBy>Пользователь</cp:lastModifiedBy>
  <dcterms:modified xsi:type="dcterms:W3CDTF">2024-01-22T06:35:56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  <property fmtid="{D5CDD505-2E9C-101B-9397-08002B2CF9AE}" pid="4" name="Version">
    <vt:r8>1</vt:r8>
  </property>
</Properties>
</file>