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498-B7B4-4F25-BD28-34B3EC61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0AE-DC70-4764-B9FF-67E09AF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1B3-6051-4EC5-997F-6EBC42DD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944-84D3-4C9F-A9AB-8B4F0915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5B4F-3A3F-4B4A-BDF3-6E77DFEC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087-6E8F-420C-AFBC-620DB47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95B7-40A6-4832-B9FE-401F1828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697-7BF4-4EDB-8F25-1F72C821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FE43-38FD-4012-A6F5-6556528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0D8-370A-4B6D-B68C-49D015D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73B-F122-4772-B3C9-024058F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240-8582-4CED-B82E-0BC2A53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F861-8F16-4178-AFA0-5438F5B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97D6-886A-4899-9EEE-0BE5B47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F23-D032-4F0B-8FC0-BB332BA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A0CA-5B82-45B6-A814-84C72380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A56E-708C-44E0-9A26-1D691272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7917-CE98-4A74-8AD2-24085A5E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02C2-96DD-4612-A954-6DD495A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EDCC-4DA5-4823-885E-8A16F32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5DCD-0747-49C8-8B96-C229B42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7311-3D98-4101-A0FE-AD765B4E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C99-F87C-45F1-BFA4-31E3A66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FA5B-1EF2-45CE-8583-04DBCF7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DD26-A410-44FF-B662-B1EEF01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0D48-BC39-4A71-B40E-B81D25E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80E6-372D-4A74-8EE1-FFD3F540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F60B-BF8B-4A6A-9476-AAF289B0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E572-1E42-4BDA-B090-5A350D4C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351B-8F6E-4E61-A6B9-9B03259A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0E6-EC71-4DEB-A458-09C97D6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DB7-58E1-412B-8D2F-E064A31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847-B57A-4886-BD32-182382BF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16C-D753-41DD-AFBF-E3C58F0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CC9-366E-4F62-8F0D-D6EB4BE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BF3-15FC-4857-98FC-60C7F71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7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5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BB88C9D-89F3-4483-A06B-D7C12915CFA5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Образец заголовка</a:t>
            </a:r>
            <a:endParaRPr b="0" lang="ru-RU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eec85e"/>
              </a:buClr>
              <a:buSzPct val="70000"/>
              <a:buFont typeface="Wingdings" charset="2"/>
              <a:buChar char="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  <a:ea typeface="Arial"/>
              </a:rPr>
              <a:t>Образец текста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Второй уровень</a:t>
            </a: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70000"/>
              <a:buFont typeface="Wingdings" charset="2"/>
              <a:buChar char="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  <a:ea typeface="Arial"/>
              </a:rPr>
              <a:t>Третий уровень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eaeaea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0D22259-8671-4AFF-ABDA-9DBEC19D555D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280" cy="1512360"/>
            <a:chOff x="4716360" y="5345280"/>
            <a:chExt cx="4427280" cy="151236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280" cy="151236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40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240" cy="121716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56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7680" cy="96948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600" cy="60912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16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584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068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320" cy="39960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4680" cy="2091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076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000" cy="151236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eaeaea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9DBA56C-BD45-4AA1-9CDA-0B18D8BA244A}" type="slidenum">
              <a:rPr b="0" lang="ru-RU" sz="1200" spc="-1" strike="noStrike">
                <a:solidFill>
                  <a:srgbClr val="eaeae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040" cy="243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«Методика работы с Блоками Дьенеша»</a:t>
            </a:r>
            <a:br>
              <a:rPr sz="5400"/>
            </a:b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(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з опыта работ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в младшей группе «Карамель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48320" y="5486400"/>
            <a:ext cx="4519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атель, Паршин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762120" y="304920"/>
            <a:ext cx="7648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  <a:ea typeface="Arial"/>
              </a:rPr>
              <a:t>Муниципальное автономное дошкольное  общеобразовательное учреждение «Детский сад № 6  «Светля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3490920" y="6445080"/>
            <a:ext cx="28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Лесосибирск, 2022 г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IMG_20220209_092846"/>
          <p:cNvPicPr/>
          <p:nvPr/>
        </p:nvPicPr>
        <p:blipFill>
          <a:blip r:embed="rId1"/>
          <a:stretch/>
        </p:blipFill>
        <p:spPr>
          <a:xfrm>
            <a:off x="1143000" y="1447920"/>
            <a:ext cx="6908400" cy="518112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21" name="Text Box 3"/>
          <p:cNvSpPr/>
          <p:nvPr/>
        </p:nvSpPr>
        <p:spPr>
          <a:xfrm>
            <a:off x="304920" y="165240"/>
            <a:ext cx="85341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корми звер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детей обобщать и выполнять игровое действие в соответствии с выделенными призн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IMG_20220208_152829"/>
          <p:cNvPicPr/>
          <p:nvPr/>
        </p:nvPicPr>
        <p:blipFill>
          <a:blip r:embed="rId1"/>
          <a:stretch/>
        </p:blipFill>
        <p:spPr>
          <a:xfrm>
            <a:off x="1447920" y="1419120"/>
            <a:ext cx="6857640" cy="5143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80880" y="281160"/>
            <a:ext cx="79243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Дорожка к доми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обобщать свойства предметов и классифициров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304920" y="304920"/>
            <a:ext cx="49525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                               «Продолжи ря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анализировать, находить закономерности в ряду и продолжать этот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543120" cy="4419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56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80880" y="380880"/>
            <a:ext cx="80769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Дьенеша как констру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воображения и повышение интереса детей к созданию конструкций и моделей из логических бл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MG_20220209_093624"/>
          <p:cNvPicPr/>
          <p:nvPr/>
        </p:nvPicPr>
        <p:blipFill>
          <a:blip r:embed="rId1"/>
          <a:stretch/>
        </p:blipFill>
        <p:spPr>
          <a:xfrm>
            <a:off x="1691640" y="1845000"/>
            <a:ext cx="6082920" cy="44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IMG_20220208_163429"/>
          <p:cNvPicPr/>
          <p:nvPr/>
        </p:nvPicPr>
        <p:blipFill>
          <a:blip r:embed="rId1"/>
          <a:stretch/>
        </p:blipFill>
        <p:spPr>
          <a:xfrm>
            <a:off x="1219320" y="1428840"/>
            <a:ext cx="6933960" cy="520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762120" y="228600"/>
            <a:ext cx="81529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блоков с печатным материалом  и карт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я находить нужный блок и выкладывать по задан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38080" y="380880"/>
            <a:ext cx="76957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Использование наглядных кар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выделять и абстрагировать цвет, форму, величину согласно наглядному образ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143000" y="1657440"/>
            <a:ext cx="6933960" cy="49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09920" cy="5257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533520" y="228600"/>
            <a:ext cx="838152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Чудесный мешоч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умений у детей на ощупь выделять геометрическую фиг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04920"/>
            <a:ext cx="7619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ой опыт показал, что использование логических блоков Дьенеша однозначно оказывает положительное влияние на развитие детей: улучшают память, внимание и концентрацию, способствуют формированию аналитического и логического ума, учат фантазировать, и я могу смело посоветовать широко использовать их на практике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MG_20220203_100923"/>
          <p:cNvPicPr/>
          <p:nvPr/>
        </p:nvPicPr>
        <p:blipFill>
          <a:blip r:embed="rId1"/>
          <a:stretch/>
        </p:blipFill>
        <p:spPr>
          <a:xfrm>
            <a:off x="1523880" y="2286000"/>
            <a:ext cx="59432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1055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1- символ цвета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2- символ формы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3- символ размер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4- символ толщины</a:t>
            </a: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171840" cy="44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968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  <a:ea typeface="Arial"/>
              </a:rPr>
              <a:t>Спасибо за внимание!</a:t>
            </a: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228600" y="1067040"/>
            <a:ext cx="510516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Золтан Дьенеш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— знаменитый венгерский математик, практикующий педагог и психолог, радикально изменивший стереотипное восприятие математики как рутинной и нетворческой научной дисцип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Многие годы Золтан посвятил исследованиям, преподаванию математики детям в разных странах и в итоге выяснял, что только задействуя творческий потенциал ребенка, можно привить любовь к математике и добиться реальных успехов в изучении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Золтан Дьенеш предлагает использовать для игр «логические бло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057400" y="457200"/>
            <a:ext cx="533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 автора метод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bf40faef641d45b281c254aaaf0c695e"/>
          <p:cNvPicPr/>
          <p:nvPr/>
        </p:nvPicPr>
        <p:blipFill>
          <a:blip r:embed="rId1"/>
          <a:stretch/>
        </p:blipFill>
        <p:spPr>
          <a:xfrm>
            <a:off x="5352480" y="1921680"/>
            <a:ext cx="3539880" cy="32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Логический материал представляет собой набор из 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48 логических блоков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,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  <a:ea typeface="Arial"/>
              </a:rPr>
              <a:t>различающихся четырьмя свойствам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: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1. Формой – круглые, квадратные, треугольные, прямоугольны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2. Цветом – красные, желтые, син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3. Размером – большие и маленькие;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4. Толщиной – толстые и тонкие.</a:t>
            </a: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8" descr="375266fd07e5e5171f4cd8bc09rw--kukly-i-igrushki-bloki-denesha-iz-dereva"/>
          <p:cNvPicPr/>
          <p:nvPr/>
        </p:nvPicPr>
        <p:blipFill>
          <a:blip r:embed="rId1"/>
          <a:stretch/>
        </p:blipFill>
        <p:spPr>
          <a:xfrm>
            <a:off x="1905120" y="2666880"/>
            <a:ext cx="5181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640" y="1700640"/>
            <a:ext cx="45255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витие познавательных, умственных и творческих способностей у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94aa3096048232c021257af51114ac67"/>
          <p:cNvPicPr/>
          <p:nvPr/>
        </p:nvPicPr>
        <p:blipFill>
          <a:blip r:embed="rId1"/>
          <a:stretch/>
        </p:blipFill>
        <p:spPr>
          <a:xfrm>
            <a:off x="5292000" y="874080"/>
            <a:ext cx="3384000" cy="51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1638360" y="1721880"/>
            <a:ext cx="5714640" cy="313848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закрепление знаний о ключевых геометрических фигу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накопление знаний о свойствах предметов: форме и цвете, размере и толщ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совершенствование мыслительных операций: анализа и синтеза, классификации, кодирования и декодирован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формирование основ алгоритм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686040" y="7920"/>
            <a:ext cx="1875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794120" y="5029200"/>
            <a:ext cx="38858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воспитание настойчивости, усидчивости,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453960" y="5075280"/>
            <a:ext cx="4117680" cy="130932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овершенствование памяти, воображения, внимания, креатив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2"/>
          <p:cNvCxnSpPr/>
          <p:nvPr/>
        </p:nvCxnSpPr>
        <p:spPr>
          <a:xfrm flipH="1">
            <a:off x="914400" y="838080"/>
            <a:ext cx="2667240" cy="417708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4" name="Прямая со стрелкой 4"/>
          <p:cNvCxnSpPr/>
          <p:nvPr/>
        </p:nvCxnSpPr>
        <p:spPr>
          <a:xfrm>
            <a:off x="5333760" y="761760"/>
            <a:ext cx="2439000" cy="410256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05" name="Прямая со стрелкой 6"/>
          <p:cNvCxnSpPr/>
          <p:nvPr/>
        </p:nvCxnSpPr>
        <p:spPr>
          <a:xfrm>
            <a:off x="4572000" y="653760"/>
            <a:ext cx="360" cy="1053000"/>
          </a:xfrm>
          <a:prstGeom prst="straightConnector1">
            <a:avLst/>
          </a:prstGeom>
          <a:ln w="381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762120" y="381600"/>
            <a:ext cx="807696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блоками организовывалась в три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035000" y="5018040"/>
            <a:ext cx="688932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этап -Усложнение и  дифференциация зад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зависимости от уровня интеллектуального развития и возраста  детей задания услож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1066680" y="3506760"/>
            <a:ext cx="6857640" cy="100440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этап –Иг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ти знакомятся с содержанием алгоритмов и правил игры с дидактическими бло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1066680" y="974880"/>
            <a:ext cx="6857640" cy="1919160"/>
          </a:xfrm>
          <a:prstGeom prst="rect">
            <a:avLst/>
          </a:prstGeom>
          <a:noFill/>
          <a:ln w="0">
            <a:solidFill>
              <a:srgbClr val="ffffcc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1 этап –Ознаком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Даём детям возможность познакомиться с блоками: самостоятельно достать их из коробки и рассмотреть, поиграть по своему усмотрению. Дети могут построить башенки, домики и т.д. В процессе они устанавливают, что блоки имеют различную форму, цвет, размер, толщ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6"/>
          <p:cNvSpPr/>
          <p:nvPr/>
        </p:nvSpPr>
        <p:spPr>
          <a:xfrm>
            <a:off x="609480" y="1066680"/>
            <a:ext cx="8229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с логическими блоками организовывалась м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азных форм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нятия (в первую очередь, это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лементарных математических представлений (ФЭМ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ы (дидактические, сюжетно-ролевые, подвиж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u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еятельность в свободное от занятий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конструирование, изобразительное творчество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ставление картин из блоков, их ис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роли предметных ориентиров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4"/>
          <p:cNvCxnSpPr/>
          <p:nvPr/>
        </p:nvCxnSpPr>
        <p:spPr>
          <a:xfrm>
            <a:off x="380880" y="1600200"/>
            <a:ext cx="360" cy="2667240"/>
          </a:xfrm>
          <a:prstGeom prst="straightConnector1">
            <a:avLst/>
          </a:prstGeom>
          <a:ln w="57150">
            <a:solidFill>
              <a:srgbClr val="ffff00"/>
            </a:solidFill>
            <a:miter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80880" y="21333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3" name="Прямая со стрелкой 8"/>
          <p:cNvCxnSpPr/>
          <p:nvPr/>
        </p:nvCxnSpPr>
        <p:spPr>
          <a:xfrm>
            <a:off x="380880" y="312408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4" name="Прямая со стрелкой 10"/>
          <p:cNvCxnSpPr/>
          <p:nvPr/>
        </p:nvCxnSpPr>
        <p:spPr>
          <a:xfrm>
            <a:off x="380880" y="4190760"/>
            <a:ext cx="228960" cy="360"/>
          </a:xfrm>
          <a:prstGeom prst="straightConnector1">
            <a:avLst/>
          </a:prstGeom>
          <a:ln w="5715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IMG_20220203_101041"/>
          <p:cNvPicPr/>
          <p:nvPr/>
        </p:nvPicPr>
        <p:blipFill>
          <a:blip r:embed="rId1"/>
          <a:stretch/>
        </p:blipFill>
        <p:spPr>
          <a:xfrm>
            <a:off x="1043640" y="1498320"/>
            <a:ext cx="6887160" cy="5165280"/>
          </a:xfrm>
          <a:prstGeom prst="rect">
            <a:avLst/>
          </a:prstGeom>
          <a:ln w="3175">
            <a:solidFill>
              <a:srgbClr val="00000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380880" y="0"/>
            <a:ext cx="8534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«Най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развитие слухоречевого внимания, памяти, а также умения сравнивать геометрические фигуры между собой и находить фигуру по заданному призна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IMG_20220203_100824"/>
          <p:cNvPicPr/>
          <p:nvPr/>
        </p:nvPicPr>
        <p:blipFill>
          <a:blip r:embed="rId1"/>
          <a:stretch/>
        </p:blipFill>
        <p:spPr>
          <a:xfrm>
            <a:off x="4038480" y="609480"/>
            <a:ext cx="4800240" cy="3600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36440" y="622440"/>
            <a:ext cx="388584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дактическая игра  «Сор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Arial"/>
              </a:rPr>
              <a:t>Цель: закрепление знаний детей об основных цветах и геометрических фигурах; изучение и обобщение блоков по призна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IMG_20220203_100840"/>
          <p:cNvPicPr/>
          <p:nvPr/>
        </p:nvPicPr>
        <p:blipFill>
          <a:blip r:embed="rId2"/>
          <a:stretch/>
        </p:blipFill>
        <p:spPr>
          <a:xfrm>
            <a:off x="228600" y="3048120"/>
            <a:ext cx="480024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клон">
  <a:themeElements>
    <a:clrScheme name="Склон 5">
      <a:dk1>
        <a:srgbClr val="009999"/>
      </a:dk1>
      <a:lt1>
        <a:srgbClr val="eaeaea"/>
      </a:lt1>
      <a:dk2>
        <a:srgbClr val="006666"/>
      </a:dk2>
      <a:lt2>
        <a:srgbClr val="ffffcc"/>
      </a:lt2>
      <a:accent1>
        <a:srgbClr val="339966"/>
      </a:accent1>
      <a:accent2>
        <a:srgbClr val="5e855b"/>
      </a:accent2>
      <a:accent3>
        <a:srgbClr val="aab8b8"/>
      </a:accent3>
      <a:accent4>
        <a:srgbClr val="c8c8c8"/>
      </a:accent4>
      <a:accent5>
        <a:srgbClr val="adcab8"/>
      </a:accent5>
      <a:accent6>
        <a:srgbClr val="547852"/>
      </a:accent6>
      <a:hlink>
        <a:srgbClr val="eec85e"/>
      </a:hlink>
      <a:folHlink>
        <a:srgbClr val="aa84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tegral</Template>
  <TotalTime>1091</TotalTime>
  <Application>LibreOffice/7.4.7.2$Linux_X86_64 LibreOffice_project/40$Build-2</Application>
  <AppVersion>15.0000</AppVersion>
  <Words>599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5T13:45:27Z</dcterms:created>
  <dc:creator>1</dc:creator>
  <dc:description/>
  <dc:language>en-US</dc:language>
  <cp:lastModifiedBy>Пользователь</cp:lastModifiedBy>
  <dcterms:modified xsi:type="dcterms:W3CDTF">2024-01-22T06:35:56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  <property fmtid="{D5CDD505-2E9C-101B-9397-08002B2CF9AE}" pid="4" name="Version">
    <vt:r8>1</vt:r8>
  </property>
</Properties>
</file>