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33D-72D1-44F2-9D73-BCC42985F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B8C-5FDC-4F06-940C-470FF5FE0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AF2C-7102-4D59-BE67-33129F48B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207-EB34-47C1-868E-B86BC5DA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89D-BC5B-49C4-9B93-81BD7C76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75F-7F78-459D-8096-458ED954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71E-C04E-41C1-9660-2125D752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E8-1254-4A9F-BBC9-FE1604F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A4D-A43A-4C4F-8952-09DBACD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7C-FD5B-4292-88F1-BEDBA6D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043-C9B1-4F93-BD7D-985F615B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A18-4D5E-44EA-8FAF-0AB0C993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6BC-BA81-486D-AD40-64E2AE7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291-AB17-4BDD-BA4F-812EC9A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DF6-3992-487C-AA36-D9EBF45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BAAC-4152-40F4-AC15-51BE743A0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 rot="21420000">
            <a:off x="152316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28800" y="1219320"/>
          <a:ext cx="6781680" cy="3809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разработка по проекту экспериментальной деятельности для детей   с тяжелыми нарушениями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айны вулкана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86200" y="4986360"/>
          <a:ext cx="4670280" cy="1371600"/>
        </p:xfrm>
        <a:graphic>
          <a:graphicData uri="http://schemas.openxmlformats.org/drawingml/2006/table">
            <a:tbl>
              <a:tblPr/>
              <a:tblGrid>
                <a:gridCol w="46702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ли: Воспитатели: Капустина Е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ырянова Н.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:Лушкина С. 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1479600" y="30492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г. Иркутска детский сад №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00200" y="228600"/>
          <a:ext cx="7162920" cy="50529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505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 данного проекта можно определить по итогам проведения такого рода исследовательски-экспериментальной деятельности. Проведение таких нетрадиционных мероприятий, вызывает у детей много позитивных эмоций, более ярких, запоминающихся впечатлений, формирует стремление вызывать много нового, интересного, наглядно представлять то или иное явление. Расширяет кругозор детей, формирует разнообразные знания умения и навыки детей, как теоретические, так и практическ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, сделанные в ходе выполнения проекта, выводы свидетельствуют о его научности и практической значимости. О перспективах дальнейшего развития детей, их познавательной актив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133720" y="1523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76520" y="609480"/>
          <a:ext cx="6781680" cy="274320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экспериментальн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ратковременный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недел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ети с тяжелыми нарушениями речи, родители и педаго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388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371600" y="339840"/>
            <a:ext cx="5181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905120" y="339840"/>
          <a:ext cx="6553080" cy="64008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64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деятельность в дошкольном учреждении направлена на развитие личности ребенка в целом (умение сравнить и обобщать собственные наблюдения, видеть и понимать красоту окружающего мира), а также на совершенствование речи детей, их мышление. Знание о вулканах помогает ребенку осмыслить, что на земле и в нашей стране есть такие природные объекты как – вулканы, которые влияют на климат земли, на живые организмы, на изменения рельефа земли. Знания не самоцель в воспитании, но она необходимое условие выработки такого отношения к окружающему миру, которое носит эмоционально – действенный характер и выражается в форме познавательного интереса.</a:t>
                      </a:r>
                      <a:br>
                        <a:rPr sz="20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идея создания проекта родилась во время исследовательской деятельности, когда детям рассказывалось про камни вулканического происхождения. Дети стали задавать вопросы: «Что такое вулкан? Как он выглядит?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828800" y="533520"/>
          <a:ext cx="6858000" cy="21333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познакомить детей с природными явлениями – вулкан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0" name="Рисунок 14" descr=""/>
          <p:cNvPicPr/>
          <p:nvPr/>
        </p:nvPicPr>
        <p:blipFill>
          <a:blip r:embed="rId3"/>
          <a:stretch/>
        </p:blipFill>
        <p:spPr>
          <a:xfrm>
            <a:off x="2743200" y="3200400"/>
            <a:ext cx="533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70320" y="56988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ы бывают изверга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у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676520" y="274680"/>
          <a:ext cx="6933960" cy="42973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формировать представления о типах вулканов, опасностях и пользе вулканических изверж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мочь детям понять, почему вулканы – это грозное явление природ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ктивизировать в речи детей слова: очаг, магма, жерло, кратер, л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познавательную активность детей в процессе выполнения опы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ощрять детей за самостоятельное формирование выводов по итогам эксперимента с опорой на полученные ранее представления и собственные предлож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ывать интерес к познавательно-исследовательской деятельности, волевые качества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леустремленность, настойчивость, организованность, самостоятельность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3584520" y="4175280"/>
            <a:ext cx="32734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47720" y="569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бывают подводны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400480" y="2286000"/>
          <a:ext cx="5257800" cy="256068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бор информации, наблюд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ксперимен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общ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зентаци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75240" y="264960"/>
            <a:ext cx="56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ящие» вулканы мало отличаются от других г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3505320" y="3730680"/>
            <a:ext cx="3644640" cy="27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828800" y="274680"/>
          <a:ext cx="7162920" cy="32925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тение детской энциклопедии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 всё на свете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ред. Феданова Ю., Скиба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ссматривание иллюстраций с изображением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еседы о видах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зготовление макета вулк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8" dur="184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1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20880" cy="289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3017880" y="3600360"/>
            <a:ext cx="36208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38080" y="438624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752480" y="380880"/>
          <a:ext cx="6553440" cy="236232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экспериментальной деятельности гипотеза подтвердилась: можно создать искусственный вулкан путем опытно-экспериментальной деятель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981080" y="2955960"/>
            <a:ext cx="297180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26478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Windows User</cp:lastModifiedBy>
  <dcterms:modified xsi:type="dcterms:W3CDTF">2024-01-22T08:33:1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