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28F2-CBA4-4DBC-B2F0-04DD571E1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8036-6B8B-46F4-B4AB-887C7ECAE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D5D-FB30-49CC-A3E7-5E414E54E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1DC-2887-405F-9DB1-A11D5208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ACD-CE85-436D-8D89-81602B7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81F-CB86-43F6-BCF2-5C1AB022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832-92C7-4B24-AF7C-1133C145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B16-32FE-4AAC-8E11-9875EBFF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72E-717D-4B88-B613-556C0E93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AA7-DBB5-4855-BCC3-F63EB07D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867-2AF8-4BD8-8668-978AE52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D7C-53BF-41B7-9CA3-B3FBAE6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05B-F1F7-4A8E-8A00-968561F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C13-675F-4971-B86C-C1DB3C2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A61-E2BA-4525-9818-76B3B00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307D-2FC2-4A35-8B8A-572E4FA0B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 rot="21420000">
            <a:off x="1523160" y="1905120"/>
            <a:ext cx="558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486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28800" y="1219320"/>
          <a:ext cx="6781680" cy="38098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разработка по проекту экспериментальной деятельности для детей   с тяжелыми нарушениями 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айны вулкана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86200" y="4986360"/>
          <a:ext cx="4670280" cy="1371600"/>
        </p:xfrm>
        <a:graphic>
          <a:graphicData uri="http://schemas.openxmlformats.org/drawingml/2006/table">
            <a:tbl>
              <a:tblPr/>
              <a:tblGrid>
                <a:gridCol w="46702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ли: Воспитатели: Капустина Е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ырянова Н.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 :Лушкина С. 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" name="TextBox 1"/>
          <p:cNvSpPr/>
          <p:nvPr/>
        </p:nvSpPr>
        <p:spPr>
          <a:xfrm>
            <a:off x="1479600" y="30492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г. Иркутска детский сад №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600200" y="228600"/>
          <a:ext cx="7162920" cy="50529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505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 данного проекта можно определить по итогам проведения такого рода исследовательски-экспериментальной деятельности. Проведение таких нетрадиционных мероприятий, вызывает у детей много позитивных эмоций, более ярких, запоминающихся впечатлений, формирует стремление вызывать много нового, интересного, наглядно представлять то или иное явление. Расширяет кругозор детей, формирует разнообразные знания умения и навыки детей, как теоретические, так и практическ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образом, сделанные в ходе выполнения проекта, выводы свидетельствуют о его научности и практической значимости. О перспективах дальнейшего развития детей, их познавательной актив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133720" y="1523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76520" y="609480"/>
          <a:ext cx="6781680" cy="274320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роекта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экспериментальн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ратковременный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неделя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проекта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дети с тяжелыми нарушениями речи, родители и педаго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23880" y="1905120"/>
            <a:ext cx="558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971800" y="5486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371600" y="339840"/>
            <a:ext cx="5181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905120" y="339840"/>
          <a:ext cx="6553080" cy="64008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64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деятельность в дошкольном учреждении направлена на развитие личности ребенка в целом (умение сравнить и обобщать собственные наблюдения, видеть и понимать красоту окружающего мира), а также на совершенствование речи детей, их мышление. Знание о вулканах помогает ребенку осмыслить, что на земле и в нашей стране есть такие природные объекты как – вулканы, которые влияют на климат земли, на живые организмы, на изменения рельефа земли. Знания не самоцель в воспитании, но она необходимое условие выработки такого отношения к окружающему миру, которое носит эмоционально – действенный характер и выражается в форме познавательного интереса.</a:t>
                      </a:r>
                      <a:br>
                        <a:rPr sz="20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идея создания проекта родилась во время исследовательской деятельности, когда детям рассказывалось про камни вулканического происхождения. Дети стали задавать вопросы: «Что такое вулкан? Как он выглядит?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828800" y="533520"/>
          <a:ext cx="6858000" cy="213336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познакомить детей с природными явлениями – вулкан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0" name="Рисунок 14" descr=""/>
          <p:cNvPicPr/>
          <p:nvPr/>
        </p:nvPicPr>
        <p:blipFill>
          <a:blip r:embed="rId3"/>
          <a:stretch/>
        </p:blipFill>
        <p:spPr>
          <a:xfrm>
            <a:off x="2743200" y="3200400"/>
            <a:ext cx="533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70320" y="56988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ы бывают изверга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у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676520" y="274680"/>
          <a:ext cx="6933960" cy="42973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формировать представления о типах вулканов, опасностях и пользе вулканических изверже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мочь детям понять, почему вулканы – это грозное явление природ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ктивизировать в речи детей слова: очаг, магма, жерло, кратер, ла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ивать познавательную активность детей в процессе выполнения опыт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ощрять детей за самостоятельное формирование выводов по итогам эксперимента с опорой на полученные ранее представления и собственные предлож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оспитывать интерес к познавательно-исследовательской деятельности, волевые качества 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леустремленность, настойчивость, организованность, самостоятельность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3584520" y="4175280"/>
            <a:ext cx="32734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47720" y="569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бывают подводны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400480" y="2286000"/>
          <a:ext cx="5257800" cy="256068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бор информации, наблюдени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ксперимент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общени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зентаци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75240" y="264960"/>
            <a:ext cx="56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пящие» вулканы мало отличаются от других г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3505320" y="3730680"/>
            <a:ext cx="3644640" cy="27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828800" y="274680"/>
          <a:ext cx="7162920" cy="329256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тение детской энциклопедии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 всё на свете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ред. Феданова Ю., Скиба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ссматривание иллюстраций с изображением вулкан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еседы о видах вулкан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зготовление макета вулк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8" dur="184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" dur="1845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0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1" dur="1845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2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20880" cy="289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3017880" y="3600360"/>
            <a:ext cx="36208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38080" y="438624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752480" y="380880"/>
          <a:ext cx="6553440" cy="236232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экспериментальной деятельности гипотеза подтвердилась: можно создать искусственный вулкан путем опытно-экспериментальной деятель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981080" y="2955960"/>
            <a:ext cx="297180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26478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Windows User</cp:lastModifiedBy>
  <dcterms:modified xsi:type="dcterms:W3CDTF">2024-01-22T08:33:1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