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11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19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F4D4-A8AE-4C32-8647-3A333B95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A460-95C6-404F-A436-A09ECF96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5594-9A17-45E4-B234-B9DD5484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8CA3-426E-497F-97BD-35B4A7F1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2FAD-95AF-4466-849B-CF182D1D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5901-3522-42C0-8326-C3B6DC54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C0DE-38C0-472C-8CBB-6A422F02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0AE9-AB51-49E9-A56B-3B9FF4A1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0955-8A46-410C-B10B-3D286913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F315-1A4B-4C31-8F43-DC476785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ACDA-8C6F-497F-A070-C66FE4D1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3B5E-7D4F-488F-9888-38652738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6F76-D40D-47A6-8AF6-DD7AA4EB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E263-D83B-402B-80AF-992550AF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49CB-70AC-4490-A4D0-FFA1A6CA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7F79-4109-4A67-9683-E6A9DC11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3CB2-8848-42E7-9E5C-F90B0BA0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EA13A-F65B-465A-8577-8244CC3F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E0AF1-3DEC-4327-B022-6174B9A8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77276-F060-463A-9783-5DB378B0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A347E-4824-484E-9457-79C18E7A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F6FCC-FAFA-405D-AF49-FB54A7D1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3002-38F1-4838-A4D5-7B008CC3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2A135-0D6B-4CC2-B79F-D4477C9F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C279C-6798-40C0-AF58-D8279B9D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6E51B-4941-4F7B-971F-5BDB1287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278AF-CD90-4A1B-BF2F-CCA6712E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7936A-8730-4B1C-A485-7CCFDF69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AC880-5BD1-4A54-8AEA-9DD5E16F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310A5-7A00-402B-980E-6D19F164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76922-BF87-470C-BBC2-279A6068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8A4FC-765A-4876-BFDA-30B2B2D8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22E5B-0312-42AB-8540-035E965F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0684-A303-4198-9ACD-9C2184ED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6F56A-65AD-4F8D-86EB-98D8BD23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1FCFA-C7EA-4451-BD64-66D6CB58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FEF25-B7BC-416F-B7A1-6180A413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CE426-ECCF-45A1-BF2A-F67A5ECF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53F7C-9EF8-4AE7-A7E9-4A36312D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0335F-FAB2-49E5-972F-28A75A3D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653D6-9981-494C-991B-ECDAB93B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3FB51-2AFB-4B58-8D0E-F9C0E54F5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35FCA-2B52-4DCB-AED5-6BB866FE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B1E21-8E07-472B-BFA5-ADCE7A76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F8D3-D002-4643-B275-2778F5FD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ECB7C-6DE4-4A41-AFCE-B04AD9AB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9C04B-D2B1-410B-9444-E75207DC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3096C-59C5-4D83-87D7-76385C02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B2B33-A6EF-4C3C-8AD1-FDB38E06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E437C-3F06-46A3-887C-8F7D3E94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98209-222E-4195-B464-60166413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6E34D-15D2-4C65-ACD2-A4A2349E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1F03F-788E-463A-9E88-23B1467E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685A4-DF08-4C41-90A1-12226D08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3AFDA-429D-442D-99D8-63D46C94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CDA9-96C6-44B3-9BE3-69F8F826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948F5-3B7A-4154-9BDD-2EC96392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9A47D-1A24-4BCF-B322-84E91D59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2170D-AE92-4E74-8A8D-6C7726E8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8F90F-5A69-4148-99FC-1FC74547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29364-E213-4D68-AA68-D5108312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44763-7A09-4C2D-970D-AC509E2A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BE5B9-B808-4C50-B7D1-15CD02AA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A1882-7CD6-449E-9491-C766986C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C7969-5189-4CE4-96F5-9A628099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8C2D2-E432-46A9-A9E5-D6236949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1188-414D-4757-B70B-39A4318E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5FC02-AFE8-4498-A443-7339EA07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0CB13-363A-439D-A5B9-AE2386C9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7059D-9204-47A6-8613-81AC11DF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27628-22EF-48AA-93CC-F972EF03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FA6AE-8782-4CBF-B53B-8E11510F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4534F-DDDF-4EF7-A420-3A9E5674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048BD-F0CF-4A95-8650-C230953E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EAED7-3E32-4A3F-B051-E366EA0A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D22AB-981A-432E-BF9F-F26DF681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444DC-B0E9-4ADC-A29B-E6028E9A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41AA-9CBA-47B5-954C-D15D1C08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74C24-5B59-4590-A369-19CC5F65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CC43C-6EE4-4C89-8A2E-37C224BA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C93A5-4A86-4BDD-9AF4-6CB3B8E6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D14AB-5F33-4312-A7C9-9361716C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FA9B9-CF3F-4FF0-A2ED-FCF3883C5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0D24-1953-46F1-A495-855998FB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DD2E-2BB4-4919-BF5C-8D13F4E0092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22C0-BBB7-4D4E-948F-1455C46453D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998D-C4DC-4767-AA42-2ED444E86F9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CF1A-3769-443A-AE2E-3F873692EEA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15B0-EA4B-422A-8B27-112A3464B9E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72B7-CEED-48E8-8D18-BD788F78392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0EE7-73DA-4856-ACC1-36B66C4487E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2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C:\Users\Женя\AppData\Local\Microsoft\Windows\Temporary Internet Files\Content.IE5\TPN5T86L\MC900423585[1].wmf"/>
          <p:cNvPicPr/>
          <p:nvPr/>
        </p:nvPicPr>
        <p:blipFill>
          <a:blip r:embed="rId1"/>
          <a:stretch/>
        </p:blipFill>
        <p:spPr>
          <a:xfrm>
            <a:off x="7020000" y="333360"/>
            <a:ext cx="1535040" cy="18273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ndara"/>
              </a:rPr>
              <a:t>Презентация к занятию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Candara"/>
              </a:rPr>
              <a:t> по дорожному движению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ndara"/>
              </a:rPr>
              <a:t>                                                                  </a:t>
            </a:r>
            <a:r>
              <a:rPr b="0" lang="ru-RU" sz="1800" spc="-1" strike="noStrike">
                <a:solidFill>
                  <a:srgbClr val="c00000"/>
                </a:solidFill>
                <a:latin typeface="Candara"/>
              </a:rPr>
              <a:t>Воспитатель: Сафронова И.А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914040" y="981000"/>
            <a:ext cx="33526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Мы выходим со двора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Ножки топают топ, топ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Но перед дорогой – стоп!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Все идут по тротуару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С правой стороны по парам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Ищем, ищем. Где же? Вот!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Пешеходный переход!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На поребрик не заходим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Нет здесь места пешеходам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Переход со светофором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Красный загорится скоро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Глазки ждут зелёный свет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На другой прохода нет!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И три раза – раз, два, три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Влево, вправо посмотри!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Нет автомобилей вроде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Быстрым шагом переходим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Быстрым шагом – не бегом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Строго под прямым углом!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914400" y="259920"/>
            <a:ext cx="7618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«Мы выходим со двора…»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5" name="Picture 5" descr="C:\Users\Женя\Desktop\DSCN0581.JPG"/>
          <p:cNvPicPr/>
          <p:nvPr/>
        </p:nvPicPr>
        <p:blipFill>
          <a:blip r:embed="rId1"/>
          <a:stretch/>
        </p:blipFill>
        <p:spPr>
          <a:xfrm>
            <a:off x="3530520" y="1413000"/>
            <a:ext cx="54342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ndara"/>
              </a:rPr>
              <a:t>Вид проекта: </a:t>
            </a: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творческо – информационный</a:t>
            </a:r>
            <a:br>
              <a:rPr sz="2800"/>
            </a:br>
            <a:r>
              <a:rPr b="0" lang="ru-RU" sz="3200" spc="-1" strike="noStrike">
                <a:solidFill>
                  <a:srgbClr val="990000"/>
                </a:solidFill>
                <a:latin typeface="Candara"/>
              </a:rPr>
              <a:t>Продолжительность: </a:t>
            </a: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долгосрочный</a:t>
            </a:r>
            <a:br>
              <a:rPr sz="2800"/>
            </a:br>
            <a:r>
              <a:rPr b="0" lang="ru-RU" sz="3200" spc="-1" strike="noStrike">
                <a:solidFill>
                  <a:srgbClr val="990000"/>
                </a:solidFill>
                <a:latin typeface="Candara"/>
              </a:rPr>
              <a:t>Участники проекта:</a:t>
            </a: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 дети подготовительной группы, родители, воспитатели.</a:t>
            </a:r>
            <a:br>
              <a:rPr sz="2800"/>
            </a:br>
            <a:r>
              <a:rPr b="0" lang="ru-RU" sz="3200" spc="-1" strike="noStrike">
                <a:solidFill>
                  <a:srgbClr val="990000"/>
                </a:solidFill>
                <a:latin typeface="Candara"/>
              </a:rPr>
              <a:t>Образовательная область:</a:t>
            </a: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 обучить детей необходимому минимуму Правил дорожного движения и дорожных знаков – три цвета светофора, пешеходный переход – надземный, наземный, подземный – пешеходная дорожк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C:\Users\Женя\AppData\Local\Microsoft\Windows\Temporary Internet Files\Content.IE5\NBNILI3T\MC900251965[1].wmf"/>
          <p:cNvPicPr/>
          <p:nvPr/>
        </p:nvPicPr>
        <p:blipFill>
          <a:blip r:embed="rId1"/>
          <a:stretch/>
        </p:blipFill>
        <p:spPr>
          <a:xfrm>
            <a:off x="6732720" y="4797360"/>
            <a:ext cx="18270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ndara"/>
              </a:rPr>
              <a:t>Паспорт проекта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Актуальность:</a:t>
            </a:r>
            <a:r>
              <a:rPr b="0" lang="ru-RU" sz="1600" spc="-1" strike="noStrike">
                <a:solidFill>
                  <a:srgbClr val="990000"/>
                </a:solidFill>
                <a:latin typeface="Candara"/>
              </a:rPr>
              <a:t> обеспечение безопасности детей становится всё актуальнее. Для маленького гражданина повседневная жизнь таит множество опасностей. Чаще это связано с невыполнением Правил дорожного движения: ведь ребёнку трудно понять, что такое тормозной путь, время реакции водителя или транспортный поток. Важно в дошкольном возрасте заложить фундамент жизненных ориентировок в окружающем, и всё, что ребёнок усвоит в детском саду, прочно останется у него навсегда. Поэтому учить детей дорожной грамоте, культуре поведения в общественном транспорте, следует с самого раннего детства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48320" y="1600200"/>
            <a:ext cx="403848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задачи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Candara"/>
              </a:rPr>
              <a:t>воспитание грамотного пешехода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Candara"/>
              </a:rPr>
              <a:t>создать условия для сознательного изучения детьми Правил дорожного движения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Candara"/>
              </a:rPr>
              <a:t>Развивать у детей умение ориентироваться в различной обстановке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Candara"/>
              </a:rPr>
              <a:t>вырабатывать  у дошкольников привычку правильно вести себя на дороге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42920" y="4652640"/>
            <a:ext cx="40388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Цель: </a:t>
            </a: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сформировать у детей дошкольного возраста основы безопасного поведения как на дороге, так и в транспорт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4" name="Picture 9" descr="C:\Users\Женя\AppData\Local\Microsoft\Windows\Temporary Internet Files\Content.IE5\R2PZJRP0\MC900432549[1].png"/>
          <p:cNvPicPr/>
          <p:nvPr/>
        </p:nvPicPr>
        <p:blipFill>
          <a:blip r:embed="rId1"/>
          <a:stretch/>
        </p:blipFill>
        <p:spPr>
          <a:xfrm>
            <a:off x="7020000" y="1159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6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andara"/>
              </a:rPr>
              <a:t>Предварительная работа.</a:t>
            </a:r>
            <a:br>
              <a:rPr sz="3600"/>
            </a:b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1. Знакомство с литературными произведениями: М. Пожарский «Машины», М. Приходкин «По улицам города»; М. Дружинина «Служебные машины», «Моя улица»; Н. Носова «Автомобиль»; С. Волкова «Правила дорожного движения».</a:t>
            </a:r>
            <a:br>
              <a:rPr sz="3600"/>
            </a:b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2. Рассматривание плакатов с изображениями различных дорожных ситуаций, плакаты «Нарушения Правил дорожного движения». Иллюстрации – водители, дорога, транспорт.</a:t>
            </a:r>
            <a:br>
              <a:rPr sz="2400"/>
            </a:b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3. Макеты дорожных знаков:</a:t>
            </a:r>
            <a:br>
              <a:rPr sz="2400"/>
            </a:b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«Пешеходный переход», «Автозаправочная станция», «Остановка». </a:t>
            </a:r>
            <a:br>
              <a:rPr sz="2400"/>
            </a:b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3. Использование дидактических  и настольных игр:</a:t>
            </a:r>
            <a:br>
              <a:rPr sz="2400"/>
            </a:b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«Собери машину», «Светофор», «Правила дорожного движения», «Дорожные знаки», «Азбука пешехода»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ndara"/>
              </a:rPr>
              <a:t>Ожидаемый результат.</a:t>
            </a:r>
            <a:br>
              <a:rPr sz="3200"/>
            </a:b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- </a:t>
            </a: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знать алгоритм перехода дороги «остановись-посмотри-перейди»;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- иметь представления о видах транспорта(воздушный, наземный, водный); 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- различать на дороге транспортные средства(пассажирские, грузовые, специальные, оперативные);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- уметь выбрать способ перехода проезжей части дороги, различать пешеходные переходы(наземный, надземный, подземный, регулируемый, нерегулируемый) и средства регулирования дорожного движения(светофор, регулировщик), а так-же дорожные знаки;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- знать правила перехода проезжей части(три фиксации поворота головы – в сторону движущегося транспорта, в противоположную и опять в сторону транспорта) по регулируемому и нерегулируемому пешеходным переходам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7" name="Picture 8" descr="C:\Users\Женя\AppData\Local\Microsoft\Windows\Temporary Internet Files\Content.IE5\SVA4QND3\MC900343741[1].wmf"/>
          <p:cNvPicPr/>
          <p:nvPr/>
        </p:nvPicPr>
        <p:blipFill>
          <a:blip r:embed="rId1"/>
          <a:stretch/>
        </p:blipFill>
        <p:spPr>
          <a:xfrm>
            <a:off x="6819840" y="5157720"/>
            <a:ext cx="16034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626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andara"/>
              </a:rPr>
              <a:t>Обеспечение:</a:t>
            </a:r>
            <a:br>
              <a:rPr sz="3600"/>
            </a:b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настольно – печатные игры;</a:t>
            </a:r>
            <a:br>
              <a:rPr sz="2800"/>
            </a:b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специальная методическая литература;</a:t>
            </a:r>
            <a:br>
              <a:rPr sz="2800"/>
            </a:b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аудио – и видеозаписи по теме.</a:t>
            </a:r>
            <a:br>
              <a:rPr sz="2800"/>
            </a:br>
            <a:r>
              <a:rPr b="0" lang="ru-RU" sz="3600" spc="-1" strike="noStrike">
                <a:solidFill>
                  <a:srgbClr val="990000"/>
                </a:solidFill>
                <a:latin typeface="Candara"/>
              </a:rPr>
              <a:t>Продукт проектной деятельности:</a:t>
            </a:r>
            <a:br>
              <a:rPr sz="2800"/>
            </a:b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изготовление коллажа «Улица города»;</a:t>
            </a:r>
            <a:br>
              <a:rPr sz="2800"/>
            </a:b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оформление фотоальбома «Мы -  пешеходы».</a:t>
            </a:r>
            <a:br>
              <a:rPr sz="2800"/>
            </a:br>
            <a:r>
              <a:rPr b="0" lang="ru-RU" sz="3600" spc="-1" strike="noStrike">
                <a:solidFill>
                  <a:srgbClr val="990000"/>
                </a:solidFill>
                <a:latin typeface="Candara"/>
              </a:rPr>
              <a:t>Презентация проекта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633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andara"/>
              </a:rPr>
              <a:t>Правила перехода через улицу.</a:t>
            </a:r>
            <a:br>
              <a:rPr sz="36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1.Когда переходишь дорогу, посмотри сначала налево, потом направо.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2.Дорогу переходи в том месте, где расположена пешеходная дорожка или установлен светофор.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3.Если нет пешеходной дорожки и светофора, переходи улицу тогда, когда машины далеко от места перехода и ничего не мешает хорошо видеть дорогу.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4.Переходи улицу только при зелёном сигнале светофора.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5.Переходи улицу спокойным шагом, по прямой, а не наискосок.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6.Переходя улицу, следи за сигналом светофора.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7.Не успел перейти улицу – остановись на «Островке безопасности».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8.Переходить перекрёсток надо только по пешеходным переходам.</a:t>
            </a:r>
            <a:br>
              <a:rPr sz="36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ndara"/>
              </a:rPr>
              <a:t>Мнемотаблица «Город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Г- </a:t>
            </a: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город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улицы в город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светофор-три сигнал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машины-городской транспорт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остановки-для транспор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М</a:t>
            </a: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-вход в метро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пешеходы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пешеходный переход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дорожные знак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2" name="Picture 8" descr="MC900435504[1]"/>
          <p:cNvPicPr/>
          <p:nvPr/>
        </p:nvPicPr>
        <p:blipFill>
          <a:blip r:embed="rId1"/>
          <a:stretch/>
        </p:blipFill>
        <p:spPr>
          <a:xfrm>
            <a:off x="4716360" y="1628640"/>
            <a:ext cx="1224000" cy="135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3" name=""/>
          <p:cNvGraphicFramePr/>
          <p:nvPr/>
        </p:nvGraphicFramePr>
        <p:xfrm>
          <a:off x="4648320" y="1557360"/>
          <a:ext cx="4038480" cy="45766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5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4" name="Picture 28" descr="MC900432549[1]"/>
          <p:cNvPicPr/>
          <p:nvPr/>
        </p:nvPicPr>
        <p:blipFill>
          <a:blip r:embed="rId2"/>
          <a:stretch/>
        </p:blipFill>
        <p:spPr>
          <a:xfrm>
            <a:off x="6056280" y="1625760"/>
            <a:ext cx="1297080" cy="14396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0" descr="MC900423411[1]"/>
          <p:cNvPicPr/>
          <p:nvPr/>
        </p:nvPicPr>
        <p:blipFill>
          <a:blip r:embed="rId3"/>
          <a:stretch/>
        </p:blipFill>
        <p:spPr>
          <a:xfrm>
            <a:off x="6227640" y="3141720"/>
            <a:ext cx="833400" cy="1366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1" descr="C:\Users\Женя\AppData\Local\Microsoft\Windows\Temporary Internet Files\Content.IE5\SVA4QND3\MC900432029[1].wmf"/>
          <p:cNvPicPr/>
          <p:nvPr/>
        </p:nvPicPr>
        <p:blipFill>
          <a:blip r:embed="rId4"/>
          <a:stretch/>
        </p:blipFill>
        <p:spPr>
          <a:xfrm>
            <a:off x="5987880" y="4687920"/>
            <a:ext cx="1312920" cy="1440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2" descr="C:\Users\Женя\AppData\Local\Microsoft\Windows\Temporary Internet Files\Content.IE5\R2PZJRP0\MC900435480[1].wmf"/>
          <p:cNvPicPr/>
          <p:nvPr/>
        </p:nvPicPr>
        <p:blipFill>
          <a:blip r:embed="rId5"/>
          <a:stretch/>
        </p:blipFill>
        <p:spPr>
          <a:xfrm>
            <a:off x="4788000" y="3141720"/>
            <a:ext cx="1168200" cy="14428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3" descr="C:\Users\Женя\AppData\Local\Microsoft\Windows\Temporary Internet Files\Content.IE5\NBNILI3T\MC900198378[1].wmf"/>
          <p:cNvPicPr/>
          <p:nvPr/>
        </p:nvPicPr>
        <p:blipFill>
          <a:blip r:embed="rId6"/>
          <a:stretch/>
        </p:blipFill>
        <p:spPr>
          <a:xfrm>
            <a:off x="7424640" y="1625760"/>
            <a:ext cx="1251000" cy="1442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4" descr="C:\Users\Женя\AppData\Local\Microsoft\Windows\Temporary Internet Files\Content.IE5\TPN5T86L\MC900435500[1].wmf"/>
          <p:cNvPicPr/>
          <p:nvPr/>
        </p:nvPicPr>
        <p:blipFill>
          <a:blip r:embed="rId7"/>
          <a:stretch/>
        </p:blipFill>
        <p:spPr>
          <a:xfrm>
            <a:off x="7424640" y="3170160"/>
            <a:ext cx="1251000" cy="1414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5" descr="C:\Users\Женя\AppData\Local\Microsoft\Windows\Temporary Internet Files\Content.IE5\R2PZJRP0\MC900233307[1].wmf"/>
          <p:cNvPicPr/>
          <p:nvPr/>
        </p:nvPicPr>
        <p:blipFill>
          <a:blip r:embed="rId8"/>
          <a:stretch/>
        </p:blipFill>
        <p:spPr>
          <a:xfrm>
            <a:off x="4716360" y="4724280"/>
            <a:ext cx="1239840" cy="13669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6" descr="C:\Users\Женя\AppData\Local\Microsoft\Windows\Temporary Internet Files\Content.IE5\R2PZJRP0\MC900411288[1].wmf"/>
          <p:cNvPicPr/>
          <p:nvPr/>
        </p:nvPicPr>
        <p:blipFill>
          <a:blip r:embed="rId9"/>
          <a:stretch/>
        </p:blipFill>
        <p:spPr>
          <a:xfrm>
            <a:off x="7424640" y="4687920"/>
            <a:ext cx="125100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871560" y="1844640"/>
          <a:ext cx="7408800" cy="4897440"/>
        </p:xfrm>
        <a:graphic>
          <a:graphicData uri="http://schemas.openxmlformats.org/drawingml/2006/table">
            <a:tbl>
              <a:tblPr/>
              <a:tblGrid>
                <a:gridCol w="2469960"/>
                <a:gridCol w="2468880"/>
                <a:gridCol w="2469960"/>
              </a:tblGrid>
              <a:tr h="16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63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16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andara"/>
              </a:rPr>
              <a:t>Знаки дорожного движения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4" name="Picture 2" descr="C:\Users\Женя\AppData\Local\Microsoft\Windows\Temporary Internet Files\Content.IE5\NBNILI3T\MC900432029[1].wmf"/>
          <p:cNvPicPr/>
          <p:nvPr/>
        </p:nvPicPr>
        <p:blipFill>
          <a:blip r:embed="rId1"/>
          <a:stretch/>
        </p:blipFill>
        <p:spPr>
          <a:xfrm>
            <a:off x="1332000" y="1989000"/>
            <a:ext cx="1827000" cy="1368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C:\Users\Женя\AppData\Local\Microsoft\Windows\Temporary Internet Files\Content.IE5\R2PZJRP0\MC900411256[1].wmf"/>
          <p:cNvPicPr/>
          <p:nvPr/>
        </p:nvPicPr>
        <p:blipFill>
          <a:blip r:embed="rId2"/>
          <a:stretch/>
        </p:blipFill>
        <p:spPr>
          <a:xfrm>
            <a:off x="3851280" y="1989000"/>
            <a:ext cx="1657440" cy="1368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C:\Users\Женя\AppData\Local\Microsoft\Windows\Temporary Internet Files\Content.IE5\SVA4QND3\MC900432033[1].wmf"/>
          <p:cNvPicPr/>
          <p:nvPr/>
        </p:nvPicPr>
        <p:blipFill>
          <a:blip r:embed="rId3"/>
          <a:stretch/>
        </p:blipFill>
        <p:spPr>
          <a:xfrm>
            <a:off x="6156360" y="1989000"/>
            <a:ext cx="1827000" cy="13687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5" descr="C:\Users\Женя\AppData\Local\Microsoft\Windows\Temporary Internet Files\Content.IE5\TPN5T86L\MC900411288[1].wmf"/>
          <p:cNvPicPr/>
          <p:nvPr/>
        </p:nvPicPr>
        <p:blipFill>
          <a:blip r:embed="rId4"/>
          <a:stretch/>
        </p:blipFill>
        <p:spPr>
          <a:xfrm>
            <a:off x="1116000" y="3573360"/>
            <a:ext cx="1792440" cy="13683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C:\Users\Женя\AppData\Local\Microsoft\Windows\Temporary Internet Files\Content.IE5\SVA4QND3\MC900411284[1].wmf"/>
          <p:cNvPicPr/>
          <p:nvPr/>
        </p:nvPicPr>
        <p:blipFill>
          <a:blip r:embed="rId5"/>
          <a:stretch/>
        </p:blipFill>
        <p:spPr>
          <a:xfrm>
            <a:off x="3708360" y="3573360"/>
            <a:ext cx="1655640" cy="1368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C:\Users\Женя\AppData\Local\Microsoft\Windows\Temporary Internet Files\Content.IE5\R2PZJRP0\MC900286959[1].wmf"/>
          <p:cNvPicPr/>
          <p:nvPr/>
        </p:nvPicPr>
        <p:blipFill>
          <a:blip r:embed="rId6"/>
          <a:stretch/>
        </p:blipFill>
        <p:spPr>
          <a:xfrm>
            <a:off x="6256440" y="5229360"/>
            <a:ext cx="1726920" cy="13474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9" descr="C:\Users\Женя\AppData\Local\Microsoft\Windows\Temporary Internet Files\Content.IE5\TPN5T86L\MC900432025[1].wmf"/>
          <p:cNvPicPr/>
          <p:nvPr/>
        </p:nvPicPr>
        <p:blipFill>
          <a:blip r:embed="rId7"/>
          <a:stretch/>
        </p:blipFill>
        <p:spPr>
          <a:xfrm>
            <a:off x="1116000" y="530064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" descr="C:\Users\Женя\AppData\Local\Microsoft\Windows\Temporary Internet Files\Content.IE5\NBNILI3T\MC900431985[1].wmf"/>
          <p:cNvPicPr/>
          <p:nvPr/>
        </p:nvPicPr>
        <p:blipFill>
          <a:blip r:embed="rId8"/>
          <a:stretch/>
        </p:blipFill>
        <p:spPr>
          <a:xfrm>
            <a:off x="6226200" y="3573360"/>
            <a:ext cx="1687320" cy="1440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2" descr="C:\Users\Женя\AppData\Local\Microsoft\Windows\Temporary Internet Files\Content.IE5\R2PZJRP0\MC900435480[2].wmf"/>
          <p:cNvPicPr/>
          <p:nvPr/>
        </p:nvPicPr>
        <p:blipFill>
          <a:blip r:embed="rId9"/>
          <a:stretch/>
        </p:blipFill>
        <p:spPr>
          <a:xfrm>
            <a:off x="3708360" y="5300640"/>
            <a:ext cx="18414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5:09:43Z</dcterms:created>
  <dc:creator>Женя</dc:creator>
  <dc:description/>
  <dc:language>en-US</dc:language>
  <cp:lastModifiedBy>СОЛНЫШКО</cp:lastModifiedBy>
  <dcterms:modified xsi:type="dcterms:W3CDTF">2024-01-22T10:02:37Z</dcterms:modified>
  <cp:revision>53</cp:revision>
  <dc:subject/>
  <dc:title>Проек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