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CE6-DF22-4328-8419-9623DB6B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A22-BD75-4DC6-9288-1FE013F6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747-576F-4F9E-A375-9334A51A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F2C-4D26-4BBC-856A-34814CC4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99BC-0A1F-45CD-8233-DEE038EE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D199-6C51-4A2C-9C6D-45AF92A7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9582-A83E-4486-9813-75D6555A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213C-A973-469D-86BF-25048787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6172-1A96-4E68-8604-8E7DD9D3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AF9F-7D65-47BB-85F4-43019192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3A3B-1968-4BC6-983A-8595D9D2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BBE-E7BD-4330-8899-A930C198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F33E-7A6B-4AAC-AFDE-87A054D7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2217-B732-4E3A-A3C9-D04B9FBA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1FDC-D1B8-4A73-BEBC-CDAFA318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6907-4DEA-41C0-ADBD-A1AB2E98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90D9-3789-455B-8CD1-ACE432A6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3CE0-0023-486C-9E0E-D253ED63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55F91-92E5-4369-8EC6-22E9A3ED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3F66C-56D4-48FA-A8C0-7C9905BE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AB94D-8112-485A-9521-46040A72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3057C-DF12-4D2E-8D55-FB512B84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393-3EF8-46E5-9019-A6714CAF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BE685-862F-4148-A0AF-3252CBBA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68575-AD22-438F-A752-A722E50A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2159-9B3C-46F5-A09E-A58A2E38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70E47-ACC8-498F-BD02-E1F06884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D1EC7-3148-4EDB-9CC2-C84D2EAA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FAC63-166C-4E21-8C0D-CC52CD1F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E6EE1-D1C9-4D4D-96D7-64D62C8F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79A8C-E995-47B8-B832-054534D0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9AA13-F77B-488F-BDCA-40D9A5F1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35C58-A528-4D7C-BF8D-7C44BF86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782-9A2A-4C6C-9695-54E527DD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5B7A5-B460-46E7-9271-CC4720A6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A9BBD-4816-4714-8916-1623A3B4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9ED3E-1238-4931-A6CB-42355CC8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5B8D9-72A4-4691-8481-F349BB86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B4F51-5917-49FD-A2D2-BA4BE65C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B8DBA-E42D-4F37-B3A8-99D6A781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6D719-B12D-4434-8F03-72EFE384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F6993-7A62-4A99-9297-EA4BEDC3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2B93A-B5F8-4E54-AC90-2A038128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40A86-2FD0-4CA8-98D2-6A06DDA6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98F-761F-4F8D-A160-EB76D549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157B5-76CB-4C51-A164-C57C4482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3B290-AF6F-4605-9B92-1960129E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C6477-ECA1-4581-A848-4663136B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B52CD-6380-436B-91E6-EB1F1041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CCC5C-FD7A-40F8-B247-3EDD71F2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EB4F2-1964-41B2-9E6D-C0776DEE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1795C-2CE7-45B7-A5A7-972D4EF8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23561-E295-4FC0-956B-4F50F2BD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E5702-404A-49DC-A02F-18B93B06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957BD-15C9-4C6B-B5C2-47E2BA33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536-A82E-466E-A552-A5EE59C7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A57EF-45C9-4F3A-8883-E88113E2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D109F-0676-435A-8086-21E22A3F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84B60-5974-4181-9D6F-2760C74B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D0F5F-FB5E-4538-87FD-6848FB95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FDB5D-F4A9-470B-B4E3-5B3F4114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B5282-07FC-4F15-AD91-6E9A45E7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F4A51-51B8-460E-8DE2-77DED56F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E34A6-5BE9-4288-8F2E-C2E5A6B6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A73E4-D193-4812-9CEC-80885175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4B6A5-0D23-45FF-A7CF-3988ADAB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753-73D0-444B-9699-4F7DB205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DF27B-9BBD-4C50-AEDB-840D9F54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2DB41-00D2-4368-B868-BFB56460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D5DB6-ADDC-4CD5-ABF6-F465B092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33773-00E2-4DE0-98D3-E7D029B7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D4CD1-70BA-4118-942F-4930D730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94247-5809-4BD5-B5EF-436E7647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1EDB2-352B-4363-AC0B-7CFF98E3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73C54-E6D4-4C21-AD4E-CEED6A93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7DDD2-D9C2-4CE7-9D3C-D7083990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D1464-E6DD-4762-8FBA-D7E42D2C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A03-5F25-433E-A7A4-0052DA6D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96B5F-90A0-46FB-8AC9-02B0DA43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CD04A-E06E-4EBA-A6EA-BDA27A04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323E4-59D6-4AF9-B399-F23FA6FD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ACD90-56DB-445A-9991-D34EEC08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8C994-EDEE-446D-9E4F-5970C2A3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97A-0306-4229-81B6-0FCAFB76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328F-6FFE-4E8F-8939-E86CA1CE962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7EAA-6CAE-465F-9B1C-08407FAB3BD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481D-97BB-4497-A466-4919EDE82C7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ED78-9859-49BC-A8C0-12825E744BE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D9E9-9ABE-4978-B748-4187DBC5F2C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5530-AC8B-4D22-BF62-3AF681F7086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17A3-25EC-4F7E-8F84-3B47428B14C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2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C:\Users\Женя\AppData\Local\Microsoft\Windows\Temporary Internet Files\Content.IE5\TPN5T86L\MC900423585[1].wmf"/>
          <p:cNvPicPr/>
          <p:nvPr/>
        </p:nvPicPr>
        <p:blipFill>
          <a:blip r:embed="rId1"/>
          <a:stretch/>
        </p:blipFill>
        <p:spPr>
          <a:xfrm>
            <a:off x="7020000" y="333360"/>
            <a:ext cx="1535040" cy="18273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ndara"/>
              </a:rPr>
              <a:t>Презентация к занятию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Candara"/>
              </a:rPr>
              <a:t> по дорожному движению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ndara"/>
              </a:rPr>
              <a:t>                                            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andara"/>
              </a:rPr>
              <a:t>Воспитатель: Сафронова И.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914040" y="981000"/>
            <a:ext cx="33526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Мы выходим со двора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ожки топают топ, топ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о перед дорогой – стоп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Все идут по тротуару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С правой стороны по парам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Ищем, ищем. Где же? Вот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Пешеходный переход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а поребрик не заходим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ет здесь места пешеходам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Переход со светофором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Красный загорится скоро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Глазки ждут зелёный свет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а другой прохода нет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И три раза – раз, два, три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Влево, вправо посмотри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Нет автомобилей вроде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Быстрым шагом переходим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Быстрым шагом – не бегом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ndara"/>
              </a:rPr>
              <a:t>Строго под прямым углом!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914400" y="259920"/>
            <a:ext cx="7618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«Мы выходим со двора…»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5" name="Picture 5" descr="C:\Users\Женя\Desktop\DSCN0581.JPG"/>
          <p:cNvPicPr/>
          <p:nvPr/>
        </p:nvPicPr>
        <p:blipFill>
          <a:blip r:embed="rId1"/>
          <a:stretch/>
        </p:blipFill>
        <p:spPr>
          <a:xfrm>
            <a:off x="3530520" y="1413000"/>
            <a:ext cx="54342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Вид проекта: </a:t>
            </a: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творческо – информационный</a:t>
            </a:r>
            <a:br>
              <a:rPr sz="2800"/>
            </a:b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Продолжительность: </a:t>
            </a: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долгосрочный</a:t>
            </a:r>
            <a:br>
              <a:rPr sz="2800"/>
            </a:b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Участники проекта:</a:t>
            </a: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 дети подготовительной группы, родители, воспитатели.</a:t>
            </a:r>
            <a:br>
              <a:rPr sz="2800"/>
            </a:b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Образовательная область:</a:t>
            </a: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 обучить детей необходимому минимуму Правил дорожного движения и дорожных знаков – три цвета светофора, пешеходный переход – надземный, наземный, подземный – пешеходная дорожк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C:\Users\Женя\AppData\Local\Microsoft\Windows\Temporary Internet Files\Content.IE5\NBNILI3T\MC900251965[1].wmf"/>
          <p:cNvPicPr/>
          <p:nvPr/>
        </p:nvPicPr>
        <p:blipFill>
          <a:blip r:embed="rId1"/>
          <a:stretch/>
        </p:blipFill>
        <p:spPr>
          <a:xfrm>
            <a:off x="6732720" y="4797360"/>
            <a:ext cx="1827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Паспорт проекта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Актуальность:</a:t>
            </a:r>
            <a:r>
              <a:rPr b="0" lang="ru-RU" sz="1600" spc="-1" strike="noStrike">
                <a:solidFill>
                  <a:srgbClr val="990000"/>
                </a:solidFill>
                <a:latin typeface="Candara"/>
              </a:rPr>
              <a:t> обеспечение безопасности детей становится всё актуальнее. Для маленького гражданина повседневная жизнь таит множество опасностей. Чаще это связано с невыполнением Правил дорожного движения: ведь ребёнку трудно понять, что такое тормозной путь, время реакции водителя или транспортный поток. Важно в дошкольном возрасте заложить фундамент жизненных ориентировок в окружающем, и всё, что ребёнок усвоит в детском саду, прочно останется у него навсегда. Поэтому учить детей дорожной грамоте, культуре поведения в общественном транспорте, следует с самого раннего детства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48320" y="1600200"/>
            <a:ext cx="40384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задачи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ndara"/>
              </a:rPr>
              <a:t>воспитание грамотного пешеход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ndara"/>
              </a:rPr>
              <a:t>создать условия для сознательного изучения детьми Правил дорожного движения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ndara"/>
              </a:rPr>
              <a:t>Развивать у детей умение ориентироваться в различной обстановке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Candara"/>
              </a:rPr>
              <a:t>вырабатывать  у дошкольников привычку правильно вести себя на дороге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42920" y="4652640"/>
            <a:ext cx="40388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Цель: </a:t>
            </a: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сформировать у детей дошкольного возраста основы безопасного поведения как на дороге, так и в транспорт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Picture 9" descr="C:\Users\Женя\AppData\Local\Microsoft\Windows\Temporary Internet Files\Content.IE5\R2PZJRP0\MC900432549[1].png"/>
          <p:cNvPicPr/>
          <p:nvPr/>
        </p:nvPicPr>
        <p:blipFill>
          <a:blip r:embed="rId1"/>
          <a:stretch/>
        </p:blipFill>
        <p:spPr>
          <a:xfrm>
            <a:off x="7020000" y="115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Предварительная работа.</a:t>
            </a:r>
            <a:br>
              <a:rPr sz="36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1. Знакомство с литературными произведениями: М. Пожарский «Машины», М. Приходкин «По улицам города»; М. Дружинина «Служебные машины», «Моя улица»; Н. Носова «Автомобиль»; С. Волкова «Правила дорожного движения».</a:t>
            </a:r>
            <a:br>
              <a:rPr sz="36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2. Рассматривание плакатов с изображениями различных дорожных ситуаций, плакаты «Нарушения Правил дорожного движения». Иллюстрации – водители, дорога, транспорт.</a:t>
            </a:r>
            <a:br>
              <a:rPr sz="24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3. Макеты дорожных знаков:</a:t>
            </a:r>
            <a:br>
              <a:rPr sz="24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«Пешеходный переход», «Автозаправочная станция», «Остановка». </a:t>
            </a:r>
            <a:br>
              <a:rPr sz="24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3. Использование дидактических  и настольных игр:</a:t>
            </a:r>
            <a:br>
              <a:rPr sz="24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«Собери машину», «Светофор», «Правила дорожного движения», «Дорожные знаки», «Азбука пешехода»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ndara"/>
              </a:rPr>
              <a:t>Ожидаемый результат.</a:t>
            </a:r>
            <a:br>
              <a:rPr sz="3200"/>
            </a:b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- </a:t>
            </a: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знать алгоритм перехода дороги «остановись-посмотри-перейди»;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- иметь представления о видах транспорта(воздушный, наземный, водный); 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- различать на дороге транспортные средства(пассажирские, грузовые, специальные, оперативные);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- уметь выбрать способ перехода проезжей части дороги, различать пешеходные переходы(наземный, надземный, подземный, регулируемый, нерегулируемый) и средства регулирования дорожного движения(светофор, регулировщик), а так-же дорожные знаки;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- знать правила перехода проезжей части(три фиксации поворота головы – в сторону движущегося транспорта, в противоположную и опять в сторону транспорта) по регулируемому и нерегулируемому пешеходным переходам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7" name="Picture 8" descr="C:\Users\Женя\AppData\Local\Microsoft\Windows\Temporary Internet Files\Content.IE5\SVA4QND3\MC900343741[1].wmf"/>
          <p:cNvPicPr/>
          <p:nvPr/>
        </p:nvPicPr>
        <p:blipFill>
          <a:blip r:embed="rId1"/>
          <a:stretch/>
        </p:blipFill>
        <p:spPr>
          <a:xfrm>
            <a:off x="6819840" y="5157720"/>
            <a:ext cx="1603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626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Обеспечение:</a:t>
            </a:r>
            <a:br>
              <a:rPr sz="3600"/>
            </a:b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настольно – печатные игры;</a:t>
            </a:r>
            <a:br>
              <a:rPr sz="2800"/>
            </a:b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специальная методическая литература;</a:t>
            </a:r>
            <a:br>
              <a:rPr sz="2800"/>
            </a:b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аудио – и видеозаписи по теме.</a:t>
            </a:r>
            <a:br>
              <a:rPr sz="2800"/>
            </a:b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Продукт проектной деятельности:</a:t>
            </a:r>
            <a:br>
              <a:rPr sz="2800"/>
            </a:b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изготовление коллажа «Улица города»;</a:t>
            </a:r>
            <a:br>
              <a:rPr sz="2800"/>
            </a:b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оформление фотоальбома «Мы -  пешеходы».</a:t>
            </a:r>
            <a:br>
              <a:rPr sz="2800"/>
            </a:b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Презентация проекта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63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Правила перехода через улицу.</a:t>
            </a:r>
            <a:br>
              <a:rPr sz="36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1.Когда переходишь дорогу, посмотри сначала налево, потом направо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2.Дорогу переходи в том месте, где расположена пешеходная дорожка или установлен светофор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3.Если нет пешеходной дорожки и светофора, переходи улицу тогда, когда машины далеко от места перехода и ничего не мешает хорошо видеть дорогу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4.Переходи улицу только при зелёном сигнале светофора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5.Переходи улицу спокойным шагом, по прямой, а не наискосок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6.Переходя улицу, следи за сигналом светофора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7.Не успел перейти улицу – остановись на «Островке безопасности».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Candara"/>
              </a:rPr>
              <a:t>8.Переходить перекрёсток надо только по пешеходным переходам.</a:t>
            </a:r>
            <a:br>
              <a:rPr sz="36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ndara"/>
              </a:rPr>
              <a:t>Мнемотаблица «Город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Г- </a:t>
            </a: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город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улицы в город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светофор-три сигнал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машины-городской транспорт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остановки-для транспор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ndara"/>
              </a:rPr>
              <a:t>М</a:t>
            </a: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-вход в метро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пешеходы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пешеходный переход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ndara"/>
              </a:rPr>
              <a:t>дорожные знак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2" name="Picture 8" descr="MC900435504[1]"/>
          <p:cNvPicPr/>
          <p:nvPr/>
        </p:nvPicPr>
        <p:blipFill>
          <a:blip r:embed="rId1"/>
          <a:stretch/>
        </p:blipFill>
        <p:spPr>
          <a:xfrm>
            <a:off x="4716360" y="1628640"/>
            <a:ext cx="1224000" cy="135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4648320" y="1557360"/>
          <a:ext cx="4038480" cy="45766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5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4" name="Picture 28" descr="MC900432549[1]"/>
          <p:cNvPicPr/>
          <p:nvPr/>
        </p:nvPicPr>
        <p:blipFill>
          <a:blip r:embed="rId2"/>
          <a:stretch/>
        </p:blipFill>
        <p:spPr>
          <a:xfrm>
            <a:off x="6056280" y="162576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0" descr="MC900423411[1]"/>
          <p:cNvPicPr/>
          <p:nvPr/>
        </p:nvPicPr>
        <p:blipFill>
          <a:blip r:embed="rId3"/>
          <a:stretch/>
        </p:blipFill>
        <p:spPr>
          <a:xfrm>
            <a:off x="6227640" y="3141720"/>
            <a:ext cx="833400" cy="1366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1" descr="C:\Users\Женя\AppData\Local\Microsoft\Windows\Temporary Internet Files\Content.IE5\SVA4QND3\MC900432029[1].wmf"/>
          <p:cNvPicPr/>
          <p:nvPr/>
        </p:nvPicPr>
        <p:blipFill>
          <a:blip r:embed="rId4"/>
          <a:stretch/>
        </p:blipFill>
        <p:spPr>
          <a:xfrm>
            <a:off x="5987880" y="4687920"/>
            <a:ext cx="1312920" cy="1440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" descr="C:\Users\Женя\AppData\Local\Microsoft\Windows\Temporary Internet Files\Content.IE5\R2PZJRP0\MC900435480[1].wmf"/>
          <p:cNvPicPr/>
          <p:nvPr/>
        </p:nvPicPr>
        <p:blipFill>
          <a:blip r:embed="rId5"/>
          <a:stretch/>
        </p:blipFill>
        <p:spPr>
          <a:xfrm>
            <a:off x="4788000" y="3141720"/>
            <a:ext cx="1168200" cy="1442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3" descr="C:\Users\Женя\AppData\Local\Microsoft\Windows\Temporary Internet Files\Content.IE5\NBNILI3T\MC900198378[1].wmf"/>
          <p:cNvPicPr/>
          <p:nvPr/>
        </p:nvPicPr>
        <p:blipFill>
          <a:blip r:embed="rId6"/>
          <a:stretch/>
        </p:blipFill>
        <p:spPr>
          <a:xfrm>
            <a:off x="7424640" y="1625760"/>
            <a:ext cx="1251000" cy="1442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4" descr="C:\Users\Женя\AppData\Local\Microsoft\Windows\Temporary Internet Files\Content.IE5\TPN5T86L\MC900435500[1].wmf"/>
          <p:cNvPicPr/>
          <p:nvPr/>
        </p:nvPicPr>
        <p:blipFill>
          <a:blip r:embed="rId7"/>
          <a:stretch/>
        </p:blipFill>
        <p:spPr>
          <a:xfrm>
            <a:off x="7424640" y="3170160"/>
            <a:ext cx="1251000" cy="1414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5" descr="C:\Users\Женя\AppData\Local\Microsoft\Windows\Temporary Internet Files\Content.IE5\R2PZJRP0\MC900233307[1].wmf"/>
          <p:cNvPicPr/>
          <p:nvPr/>
        </p:nvPicPr>
        <p:blipFill>
          <a:blip r:embed="rId8"/>
          <a:stretch/>
        </p:blipFill>
        <p:spPr>
          <a:xfrm>
            <a:off x="4716360" y="4724280"/>
            <a:ext cx="1239840" cy="1366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6" descr="C:\Users\Женя\AppData\Local\Microsoft\Windows\Temporary Internet Files\Content.IE5\R2PZJRP0\MC900411288[1].wmf"/>
          <p:cNvPicPr/>
          <p:nvPr/>
        </p:nvPicPr>
        <p:blipFill>
          <a:blip r:embed="rId9"/>
          <a:stretch/>
        </p:blipFill>
        <p:spPr>
          <a:xfrm>
            <a:off x="7424640" y="4687920"/>
            <a:ext cx="12510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871560" y="1844640"/>
          <a:ext cx="7408800" cy="4897440"/>
        </p:xfrm>
        <a:graphic>
          <a:graphicData uri="http://schemas.openxmlformats.org/drawingml/2006/table">
            <a:tbl>
              <a:tblPr/>
              <a:tblGrid>
                <a:gridCol w="2469960"/>
                <a:gridCol w="2468880"/>
                <a:gridCol w="2469960"/>
              </a:tblGrid>
              <a:tr h="16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andara"/>
              </a:rPr>
              <a:t>Знаки дорожного движе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Picture 2" descr="C:\Users\Женя\AppData\Local\Microsoft\Windows\Temporary Internet Files\Content.IE5\NBNILI3T\MC900432029[1].wmf"/>
          <p:cNvPicPr/>
          <p:nvPr/>
        </p:nvPicPr>
        <p:blipFill>
          <a:blip r:embed="rId1"/>
          <a:stretch/>
        </p:blipFill>
        <p:spPr>
          <a:xfrm>
            <a:off x="1332000" y="1989000"/>
            <a:ext cx="1827000" cy="1368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Женя\AppData\Local\Microsoft\Windows\Temporary Internet Files\Content.IE5\R2PZJRP0\MC900411256[1].wmf"/>
          <p:cNvPicPr/>
          <p:nvPr/>
        </p:nvPicPr>
        <p:blipFill>
          <a:blip r:embed="rId2"/>
          <a:stretch/>
        </p:blipFill>
        <p:spPr>
          <a:xfrm>
            <a:off x="3851280" y="1989000"/>
            <a:ext cx="1657440" cy="1368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Женя\AppData\Local\Microsoft\Windows\Temporary Internet Files\Content.IE5\SVA4QND3\MC900432033[1].wmf"/>
          <p:cNvPicPr/>
          <p:nvPr/>
        </p:nvPicPr>
        <p:blipFill>
          <a:blip r:embed="rId3"/>
          <a:stretch/>
        </p:blipFill>
        <p:spPr>
          <a:xfrm>
            <a:off x="6156360" y="1989000"/>
            <a:ext cx="1827000" cy="1368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C:\Users\Женя\AppData\Local\Microsoft\Windows\Temporary Internet Files\Content.IE5\TPN5T86L\MC900411288[1].wmf"/>
          <p:cNvPicPr/>
          <p:nvPr/>
        </p:nvPicPr>
        <p:blipFill>
          <a:blip r:embed="rId4"/>
          <a:stretch/>
        </p:blipFill>
        <p:spPr>
          <a:xfrm>
            <a:off x="1116000" y="3573360"/>
            <a:ext cx="1792440" cy="1368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C:\Users\Женя\AppData\Local\Microsoft\Windows\Temporary Internet Files\Content.IE5\SVA4QND3\MC900411284[1].wmf"/>
          <p:cNvPicPr/>
          <p:nvPr/>
        </p:nvPicPr>
        <p:blipFill>
          <a:blip r:embed="rId5"/>
          <a:stretch/>
        </p:blipFill>
        <p:spPr>
          <a:xfrm>
            <a:off x="3708360" y="357336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C:\Users\Женя\AppData\Local\Microsoft\Windows\Temporary Internet Files\Content.IE5\R2PZJRP0\MC900286959[1].wmf"/>
          <p:cNvPicPr/>
          <p:nvPr/>
        </p:nvPicPr>
        <p:blipFill>
          <a:blip r:embed="rId6"/>
          <a:stretch/>
        </p:blipFill>
        <p:spPr>
          <a:xfrm>
            <a:off x="6256440" y="5229360"/>
            <a:ext cx="1726920" cy="1347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C:\Users\Женя\AppData\Local\Microsoft\Windows\Temporary Internet Files\Content.IE5\TPN5T86L\MC900432025[1].wmf"/>
          <p:cNvPicPr/>
          <p:nvPr/>
        </p:nvPicPr>
        <p:blipFill>
          <a:blip r:embed="rId7"/>
          <a:stretch/>
        </p:blipFill>
        <p:spPr>
          <a:xfrm>
            <a:off x="1116000" y="530064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C:\Users\Женя\AppData\Local\Microsoft\Windows\Temporary Internet Files\Content.IE5\NBNILI3T\MC900431985[1].wmf"/>
          <p:cNvPicPr/>
          <p:nvPr/>
        </p:nvPicPr>
        <p:blipFill>
          <a:blip r:embed="rId8"/>
          <a:stretch/>
        </p:blipFill>
        <p:spPr>
          <a:xfrm>
            <a:off x="6226200" y="3573360"/>
            <a:ext cx="1687320" cy="144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C:\Users\Женя\AppData\Local\Microsoft\Windows\Temporary Internet Files\Content.IE5\R2PZJRP0\MC900435480[2].wmf"/>
          <p:cNvPicPr/>
          <p:nvPr/>
        </p:nvPicPr>
        <p:blipFill>
          <a:blip r:embed="rId9"/>
          <a:stretch/>
        </p:blipFill>
        <p:spPr>
          <a:xfrm>
            <a:off x="3708360" y="5300640"/>
            <a:ext cx="18414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5:09:43Z</dcterms:created>
  <dc:creator>Женя</dc:creator>
  <dc:description/>
  <dc:language>en-US</dc:language>
  <cp:lastModifiedBy>СОЛНЫШКО</cp:lastModifiedBy>
  <dcterms:modified xsi:type="dcterms:W3CDTF">2024-01-22T10:02:37Z</dcterms:modified>
  <cp:revision>53</cp:revision>
  <dc:subject/>
  <dc:title>Проек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