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11.wmf" ContentType="image/x-wmf"/>
  <Override PartName="/ppt/media/image3.png" ContentType="image/png"/>
  <Override PartName="/ppt/media/image4.wmf" ContentType="image/x-wmf"/>
  <Override PartName="/ppt/media/image5.wmf" ContentType="image/x-wmf"/>
  <Override PartName="/ppt/media/image10.wmf" ContentType="image/x-wmf"/>
  <Override PartName="/ppt/media/image19.jpeg" ContentType="image/jpeg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4BB1-D141-44F3-B1C6-968A64005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AAF7-F8C2-45D1-9148-723819CFC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87F5-1284-4A56-BDBE-76DC6F1E7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2DCB-EC24-4285-AE7C-2921E2A61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4C073-A751-4C9B-91C8-AA1D6EFF8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497DC-76CD-4DFA-BB15-2D0C202BA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B6D47-E79C-466B-8FE9-B0CFE45C2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B90C2-E28D-4C00-87B6-9C0D2BFEE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65247-D635-43D1-809F-A95445838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2C9F0-5615-41D6-AA09-EABC70340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2B928-DCB5-451B-9CFA-B9AB1AFDF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D851-03F7-4269-9DFF-BED62C85E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66E88-2139-4E37-9581-0757E9348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8EC63-111F-40B7-96C4-7863DF107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BCE19-E839-42F4-A5F6-A631483E5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71DFB-1E34-431D-B2FD-B83F4F03D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8C43D-D077-483A-9B15-A5EF6A509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E39529-0237-468F-A91A-42AB0113A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2571DC-993B-4A58-8D84-525947E5A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95F8C8-7426-4621-8979-8B9195A5D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6D2F18-3B76-4ED5-8F77-84A0A347D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2C5CFB-DE30-4F2D-88D2-9087048A2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B60E-5C69-4E44-BFE4-C2B19594A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1358F4-317D-4C9E-BDB6-2EAC32AE4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6D9E35-692E-4588-97DF-D758C1B33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DC1DE4-6157-4897-B42C-B8CEB40B0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B04D58-B56A-4131-8573-D90382C2D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48E895-3E4D-4AFF-ADF4-1FB51DA04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A248C4-C32D-415A-8B0D-04081EC00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8031F3-C94D-490B-BE73-8543AE6C5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21BFB0-51B7-4B62-95F8-3E76999F1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F8BDCD-E545-4105-88C0-0C345E657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22396B-5F5D-4FCA-AAF0-C252E3B79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848D-8BBC-4496-BA38-9A6457E3D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CB3990-ADC2-4D5A-8CBE-609317FF4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314DCC-B9E1-42DF-86B0-4ED1C13B1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CC0B28-FFFA-4264-88F3-6B3A1AFFC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9BC91F-B82A-4F53-9340-13E886EEF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C05F7F-6CDF-457F-9721-3E71CE310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632374-9502-4EC4-B946-DA48CB9AA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43D7A2-691B-466A-AD5D-A7CA05972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AF60C3-72F6-41AF-8228-4A78C0305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CA0746-95CA-4FE6-8500-CB6C05579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8C1518-4568-4CD7-B264-7CAB47995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0DE6-9569-4295-A9D3-B0478CD4A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525BAE-85AE-44D5-9A5C-261663E00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9DA502-1DFF-431F-A3B0-8658F4186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56C1C7-119C-412D-BF37-598612DE9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44A96D-3B80-4CBD-AF9A-F60B30E4D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DF491E-AF44-4828-A5D3-D91619BB5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368ED2-CA73-4A8A-9A01-CBF7A6171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F0E145-756A-4F17-AE55-4737A95DF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67F54E-9B3C-4A77-80BC-1C7FAFD6E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4C00E7-0F02-45E1-AF75-02F32201D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18BA41-EE0A-4974-AE2E-65C6AA39B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7DDB-995D-4C90-AD08-11FB89359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83C43F-471B-4A45-8D7D-860591B9B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BD2D32-01EB-40BC-B08E-A3B8B8659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FDCF66-348C-4C4B-BA38-E8240B42E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00E11C-9BC8-4A53-A272-7CDFDF9B9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454FB4-FD0D-4C36-938B-9E08E4355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8E55AB-A76C-4E18-A5A5-F66B22909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667097-905C-4292-8D9A-1F1DF6B2F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AD9BB1-1FC7-4F0D-AF24-69B89E2DA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3DAAC7-BFFD-459D-9CEF-48CF8D46B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3DE477-E041-4B24-897B-2E6D8E8CA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EEDD-832B-4790-8BDA-A08C86BAF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D50043-5325-41ED-A808-C9B4E2A36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00DCD6-14B6-4B5E-B9E3-CC188AEF1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E9FAF6-228A-4EEE-9087-73FD2CF34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6FEA02-BF46-4AAA-B3A0-4C0B4C045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7D2922-B6A6-4300-BDC2-E17B02DFB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7E35D2-9E98-470C-B1F2-F9B15212C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79994D-F47D-47AC-9E04-1B5033975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29426D-EC29-4C06-9BF7-69C1B01F3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C865A7-122D-444A-BAB3-A24537929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FDBA82-C911-493A-9999-65EA55FF3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23D0-AB81-4499-8098-A3C8B9776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0424FC-A76A-4211-9D15-8BFD813FB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72875E-CCD9-4EC3-B764-28A3CCDE2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978E7E-B90D-4F76-8DA2-5CA8851B1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D7FBF2-852A-447E-B674-3C087C0A9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1D8289-E3D0-4BE6-8DA1-278CD2A42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BC99-F74B-4241-814D-C6450D827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>
                <a:gd name="textAreaLeft" fmla="*/ 0 w 2876400"/>
                <a:gd name="textAreaRight" fmla="*/ 2876760 w 287640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>
                <a:gd name="textAreaLeft" fmla="*/ 0 w 5544720"/>
                <a:gd name="textAreaRight" fmla="*/ 5545080 w 55447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>
                <a:gd name="textAreaLeft" fmla="*/ 0 w 5468040"/>
                <a:gd name="textAreaRight" fmla="*/ 5468400 w 546804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>
                <a:gd name="textAreaLeft" fmla="*/ 0 w 3308040"/>
                <a:gd name="textAreaRight" fmla="*/ 3308400 w 3308040"/>
                <a:gd name="textAreaTop" fmla="*/ 0 h 651960"/>
                <a:gd name="textAreaBottom" fmla="*/ 652320 h 65196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560"/>
                <a:gd name="textAreaBottom" fmla="*/ 1330920 h 133056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CE014-4642-402B-BBA0-A6C3A3304727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>
                <a:gd name="textAreaLeft" fmla="*/ 0 w 2880000"/>
                <a:gd name="textAreaRight" fmla="*/ 2880000 w 288000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>
                <a:gd name="textAreaLeft" fmla="*/ 0 w 5551920"/>
                <a:gd name="textAreaRight" fmla="*/ 5552280 w 5551920"/>
                <a:gd name="textAreaTop" fmla="*/ 0 h 850320"/>
                <a:gd name="textAreaBottom" fmla="*/ 850680 h 85032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>
                <a:gd name="textAreaLeft" fmla="*/ 0 w 5475240"/>
                <a:gd name="textAreaRight" fmla="*/ 5475600 w 5475240"/>
                <a:gd name="textAreaTop" fmla="*/ 0 h 774360"/>
                <a:gd name="textAreaBottom" fmla="*/ 774720 h 77436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>
                <a:gd name="textAreaLeft" fmla="*/ 0 w 3312360"/>
                <a:gd name="textAreaRight" fmla="*/ 3312720 w 3312360"/>
                <a:gd name="textAreaTop" fmla="*/ 0 h 651600"/>
                <a:gd name="textAreaBottom" fmla="*/ 651600 h 65160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200"/>
                <a:gd name="textAreaBottom" fmla="*/ 1330560 h 13302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7CE4E-2BD2-4AE9-A1A2-0E54AF9D2769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>
              <a:gd name="textAreaLeft" fmla="*/ 0 w 2876400"/>
              <a:gd name="textAreaRight" fmla="*/ 2876760 w 2876400"/>
              <a:gd name="textAreaTop" fmla="*/ 0 h 714240"/>
              <a:gd name="textAreaBottom" fmla="*/ 714600 h 714240"/>
            </a:gdLst>
            <a:ahLst/>
            <a:rect l="textAreaLeft" t="textAreaTop" r="textAreaRight" b="textAreaBottom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>
              <a:gd name="textAreaLeft" fmla="*/ 0 w 5545080"/>
              <a:gd name="textAreaRight" fmla="*/ 5545440 w 5545080"/>
              <a:gd name="textAreaTop" fmla="*/ 0 h 850680"/>
              <a:gd name="textAreaBottom" fmla="*/ 851040 h 850680"/>
            </a:gdLst>
            <a:ahLst/>
            <a:rect l="textAreaLeft" t="textAreaTop" r="textAreaRight" b="textAreaBottom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>
              <a:gd name="textAreaLeft" fmla="*/ 0 w 5467320"/>
              <a:gd name="textAreaRight" fmla="*/ 5467680 w 5467320"/>
              <a:gd name="textAreaTop" fmla="*/ 0 h 774720"/>
              <a:gd name="textAreaBottom" fmla="*/ 775080 h 774720"/>
            </a:gdLst>
            <a:ahLst/>
            <a:rect l="textAreaLeft" t="textAreaTop" r="textAreaRight" b="textAreaBottom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>
              <a:gd name="textAreaLeft" fmla="*/ 0 w 3306600"/>
              <a:gd name="textAreaRight" fmla="*/ 3306960 w 3306600"/>
              <a:gd name="textAreaTop" fmla="*/ 0 h 652680"/>
              <a:gd name="textAreaBottom" fmla="*/ 653040 h 652680"/>
            </a:gdLst>
            <a:ahLst/>
            <a:rect l="textAreaLeft" t="textAreaTop" r="textAreaRight" b="textAreaBottom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>
              <a:gd name="textAreaLeft" fmla="*/ 0 w 8723520"/>
              <a:gd name="textAreaRight" fmla="*/ 8723880 w 8723520"/>
              <a:gd name="textAreaTop" fmla="*/ 0 h 1328760"/>
              <a:gd name="textAreaBottom" fmla="*/ 1329120 h 1328760"/>
            </a:gdLst>
            <a:ahLst/>
            <a:rect l="textAreaLeft" t="textAreaTop" r="textAreaRight" b="textAreaBottom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97478-4A79-4AED-B47E-D5854F119966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>
                <a:gd name="textAreaLeft" fmla="*/ 0 w 2876400"/>
                <a:gd name="textAreaRight" fmla="*/ 2876760 w 287640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>
                <a:gd name="textAreaLeft" fmla="*/ 0 w 5544720"/>
                <a:gd name="textAreaRight" fmla="*/ 5545080 w 55447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>
                <a:gd name="textAreaLeft" fmla="*/ 0 w 5468040"/>
                <a:gd name="textAreaRight" fmla="*/ 5468400 w 546804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>
                <a:gd name="textAreaLeft" fmla="*/ 0 w 3308040"/>
                <a:gd name="textAreaRight" fmla="*/ 3308400 w 3308040"/>
                <a:gd name="textAreaTop" fmla="*/ 0 h 651960"/>
                <a:gd name="textAreaBottom" fmla="*/ 652320 h 65196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560"/>
                <a:gd name="textAreaBottom" fmla="*/ 1330920 h 133056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0EBDD-C354-4DE3-8D6A-390D4DCD5A0B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>
                <a:gd name="textAreaLeft" fmla="*/ 0 w 2880000"/>
                <a:gd name="textAreaRight" fmla="*/ 2880000 w 2880000"/>
                <a:gd name="textAreaTop" fmla="*/ 0 h 715320"/>
                <a:gd name="textAreaBottom" fmla="*/ 715680 h 71532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>
                <a:gd name="textAreaLeft" fmla="*/ 0 w 5551920"/>
                <a:gd name="textAreaRight" fmla="*/ 5552280 w 5551920"/>
                <a:gd name="textAreaTop" fmla="*/ 0 h 851400"/>
                <a:gd name="textAreaBottom" fmla="*/ 851760 h 85140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>
                <a:gd name="textAreaLeft" fmla="*/ 0 w 5475240"/>
                <a:gd name="textAreaRight" fmla="*/ 5475600 w 5475240"/>
                <a:gd name="textAreaTop" fmla="*/ 0 h 775440"/>
                <a:gd name="textAreaBottom" fmla="*/ 775800 h 77544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>
                <a:gd name="textAreaLeft" fmla="*/ 0 w 3312360"/>
                <a:gd name="textAreaRight" fmla="*/ 3312720 w 3312360"/>
                <a:gd name="textAreaTop" fmla="*/ 0 h 652680"/>
                <a:gd name="textAreaBottom" fmla="*/ 653040 h 6526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2000"/>
                <a:gd name="textAreaBottom" fmla="*/ 1332360 h 13320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9C04F-2142-46BA-A857-D00F6E80CDFA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>
                <a:gd name="textAreaLeft" fmla="*/ 0 w 2880000"/>
                <a:gd name="textAreaRight" fmla="*/ 2880000 w 288000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>
                <a:gd name="textAreaLeft" fmla="*/ 0 w 5551920"/>
                <a:gd name="textAreaRight" fmla="*/ 5552280 w 5551920"/>
                <a:gd name="textAreaTop" fmla="*/ 0 h 850320"/>
                <a:gd name="textAreaBottom" fmla="*/ 850680 h 85032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>
                <a:gd name="textAreaLeft" fmla="*/ 0 w 5475240"/>
                <a:gd name="textAreaRight" fmla="*/ 5475600 w 5475240"/>
                <a:gd name="textAreaTop" fmla="*/ 0 h 774360"/>
                <a:gd name="textAreaBottom" fmla="*/ 774720 h 77436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>
                <a:gd name="textAreaLeft" fmla="*/ 0 w 3312360"/>
                <a:gd name="textAreaRight" fmla="*/ 3312720 w 3312360"/>
                <a:gd name="textAreaTop" fmla="*/ 0 h 651600"/>
                <a:gd name="textAreaBottom" fmla="*/ 651600 h 65160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200"/>
                <a:gd name="textAreaBottom" fmla="*/ 1330560 h 13302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72FBC-C5A6-4FF5-8A00-F3FB3CA18D0C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>
                <a:gd name="textAreaLeft" fmla="*/ 0 w 2880000"/>
                <a:gd name="textAreaRight" fmla="*/ 2880000 w 2880000"/>
                <a:gd name="textAreaTop" fmla="*/ 0 h 715320"/>
                <a:gd name="textAreaBottom" fmla="*/ 715680 h 71532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>
                <a:gd name="textAreaLeft" fmla="*/ 0 w 5551920"/>
                <a:gd name="textAreaRight" fmla="*/ 5552280 w 5551920"/>
                <a:gd name="textAreaTop" fmla="*/ 0 h 851400"/>
                <a:gd name="textAreaBottom" fmla="*/ 851760 h 85140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>
                <a:gd name="textAreaLeft" fmla="*/ 0 w 5475240"/>
                <a:gd name="textAreaRight" fmla="*/ 5475600 w 5475240"/>
                <a:gd name="textAreaTop" fmla="*/ 0 h 775440"/>
                <a:gd name="textAreaBottom" fmla="*/ 775800 h 77544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>
                <a:gd name="textAreaLeft" fmla="*/ 0 w 3312360"/>
                <a:gd name="textAreaRight" fmla="*/ 3312720 w 3312360"/>
                <a:gd name="textAreaTop" fmla="*/ 0 h 652680"/>
                <a:gd name="textAreaBottom" fmla="*/ 653040 h 6526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2000"/>
                <a:gd name="textAreaBottom" fmla="*/ 1332360 h 13320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D4113-E729-4596-BEC8-98500A648AA9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3.png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image" Target="../media/image11.wmf"/><Relationship Id="rId9" Type="http://schemas.openxmlformats.org/officeDocument/2006/relationships/image" Target="../media/image12.wmf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2.wmf"/><Relationship Id="rId5" Type="http://schemas.openxmlformats.org/officeDocument/2006/relationships/image" Target="../media/image15.wmf"/><Relationship Id="rId6" Type="http://schemas.openxmlformats.org/officeDocument/2006/relationships/image" Target="../media/image16.wmf"/><Relationship Id="rId7" Type="http://schemas.openxmlformats.org/officeDocument/2006/relationships/image" Target="../media/image17.wmf"/><Relationship Id="rId8" Type="http://schemas.openxmlformats.org/officeDocument/2006/relationships/image" Target="../media/image18.wmf"/><Relationship Id="rId9" Type="http://schemas.openxmlformats.org/officeDocument/2006/relationships/image" Target="../media/image8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4" descr="C:\Users\Женя\AppData\Local\Microsoft\Windows\Temporary Internet Files\Content.IE5\TPN5T86L\MC900423585[1].wmf"/>
          <p:cNvPicPr/>
          <p:nvPr/>
        </p:nvPicPr>
        <p:blipFill>
          <a:blip r:embed="rId1"/>
          <a:stretch/>
        </p:blipFill>
        <p:spPr>
          <a:xfrm>
            <a:off x="7020000" y="333360"/>
            <a:ext cx="1535040" cy="182736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77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andara"/>
              </a:rPr>
              <a:t>Презентация к занятию</a:t>
            </a:r>
            <a:br>
              <a:rPr sz="2800"/>
            </a:br>
            <a:r>
              <a:rPr b="0" lang="ru-RU" sz="2800" spc="-1" strike="noStrike">
                <a:solidFill>
                  <a:srgbClr val="c00000"/>
                </a:solidFill>
                <a:latin typeface="Candara"/>
              </a:rPr>
              <a:t> по дорожному движению.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1371600" y="3556080"/>
            <a:ext cx="6400800" cy="14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Candara"/>
              </a:rPr>
              <a:t>                                                                  </a:t>
            </a:r>
            <a:r>
              <a:rPr b="0" lang="ru-RU" sz="1800" spc="-1" strike="noStrike">
                <a:solidFill>
                  <a:srgbClr val="c00000"/>
                </a:solidFill>
                <a:latin typeface="Candara"/>
              </a:rPr>
              <a:t>Воспитатель: Сафронова И.А.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/>
          </p:nvPr>
        </p:nvSpPr>
        <p:spPr>
          <a:xfrm>
            <a:off x="914040" y="981000"/>
            <a:ext cx="33526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0000"/>
                </a:solidFill>
                <a:latin typeface="Candara"/>
              </a:rPr>
              <a:t>Мы выходим со двора,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0000"/>
                </a:solidFill>
                <a:latin typeface="Candara"/>
              </a:rPr>
              <a:t>Ножки топают топ, топ.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0000"/>
                </a:solidFill>
                <a:latin typeface="Candara"/>
              </a:rPr>
              <a:t>Но перед дорогой – стоп!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0000"/>
                </a:solidFill>
                <a:latin typeface="Candara"/>
              </a:rPr>
              <a:t>Все идут по тротуару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0000"/>
                </a:solidFill>
                <a:latin typeface="Candara"/>
              </a:rPr>
              <a:t>С правой стороны по парам.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0000"/>
                </a:solidFill>
                <a:latin typeface="Candara"/>
              </a:rPr>
              <a:t>Ищем, ищем. Где же? Вот!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0000"/>
                </a:solidFill>
                <a:latin typeface="Candara"/>
              </a:rPr>
              <a:t>Пешеходный переход!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0000"/>
                </a:solidFill>
                <a:latin typeface="Candara"/>
              </a:rPr>
              <a:t>На поребрик не заходим,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0000"/>
                </a:solidFill>
                <a:latin typeface="Candara"/>
              </a:rPr>
              <a:t>Нет здесь места пешеходам.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0000"/>
                </a:solidFill>
                <a:latin typeface="Candara"/>
              </a:rPr>
              <a:t>Переход со светофором: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0000"/>
                </a:solidFill>
                <a:latin typeface="Candara"/>
              </a:rPr>
              <a:t>Красный загорится скоро.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0000"/>
                </a:solidFill>
                <a:latin typeface="Candara"/>
              </a:rPr>
              <a:t>Глазки ждут зелёный свет,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0000"/>
                </a:solidFill>
                <a:latin typeface="Candara"/>
              </a:rPr>
              <a:t>На другой прохода нет!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0000"/>
                </a:solidFill>
                <a:latin typeface="Candara"/>
              </a:rPr>
              <a:t>И три раза – раз, два, три: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0000"/>
                </a:solidFill>
                <a:latin typeface="Candara"/>
              </a:rPr>
              <a:t>Влево, вправо посмотри!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0000"/>
                </a:solidFill>
                <a:latin typeface="Candara"/>
              </a:rPr>
              <a:t>Нет автомобилей вроде,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0000"/>
                </a:solidFill>
                <a:latin typeface="Candara"/>
              </a:rPr>
              <a:t>Быстрым шагом переходим.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0000"/>
                </a:solidFill>
                <a:latin typeface="Candara"/>
              </a:rPr>
              <a:t>Быстрым шагом – не бегом,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0000"/>
                </a:solidFill>
                <a:latin typeface="Candara"/>
              </a:rPr>
              <a:t>Строго под прямым углом!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title"/>
          </p:nvPr>
        </p:nvSpPr>
        <p:spPr>
          <a:xfrm>
            <a:off x="914400" y="259920"/>
            <a:ext cx="761832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Candara"/>
              </a:rPr>
              <a:t> </a:t>
            </a:r>
            <a:r>
              <a:rPr b="0" lang="ru-RU" sz="2800" spc="-1" strike="noStrike">
                <a:solidFill>
                  <a:srgbClr val="990000"/>
                </a:solidFill>
                <a:latin typeface="Candara"/>
              </a:rPr>
              <a:t>«Мы выходим со двора…»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75" name="Picture 5" descr="C:\Users\Женя\Desktop\DSCN0581.JPG"/>
          <p:cNvPicPr/>
          <p:nvPr/>
        </p:nvPicPr>
        <p:blipFill>
          <a:blip r:embed="rId1"/>
          <a:stretch/>
        </p:blipFill>
        <p:spPr>
          <a:xfrm>
            <a:off x="3530520" y="1413000"/>
            <a:ext cx="543420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2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Candara"/>
              </a:rPr>
              <a:t>Вид проекта: </a:t>
            </a:r>
            <a:r>
              <a:rPr b="0" lang="ru-RU" sz="2800" spc="-1" strike="noStrike">
                <a:solidFill>
                  <a:srgbClr val="990000"/>
                </a:solidFill>
                <a:latin typeface="Candara"/>
              </a:rPr>
              <a:t>творческо – информационный</a:t>
            </a:r>
            <a:br>
              <a:rPr sz="2800"/>
            </a:br>
            <a:r>
              <a:rPr b="0" lang="ru-RU" sz="3200" spc="-1" strike="noStrike">
                <a:solidFill>
                  <a:srgbClr val="990000"/>
                </a:solidFill>
                <a:latin typeface="Candara"/>
              </a:rPr>
              <a:t>Продолжительность: </a:t>
            </a:r>
            <a:r>
              <a:rPr b="0" lang="ru-RU" sz="2800" spc="-1" strike="noStrike">
                <a:solidFill>
                  <a:srgbClr val="990000"/>
                </a:solidFill>
                <a:latin typeface="Candara"/>
              </a:rPr>
              <a:t>долгосрочный</a:t>
            </a:r>
            <a:br>
              <a:rPr sz="2800"/>
            </a:br>
            <a:r>
              <a:rPr b="0" lang="ru-RU" sz="3200" spc="-1" strike="noStrike">
                <a:solidFill>
                  <a:srgbClr val="990000"/>
                </a:solidFill>
                <a:latin typeface="Candara"/>
              </a:rPr>
              <a:t>Участники проекта:</a:t>
            </a:r>
            <a:r>
              <a:rPr b="0" lang="ru-RU" sz="2800" spc="-1" strike="noStrike">
                <a:solidFill>
                  <a:srgbClr val="990000"/>
                </a:solidFill>
                <a:latin typeface="Candara"/>
              </a:rPr>
              <a:t> дети подготовительной группы, родители, воспитатели.</a:t>
            </a:r>
            <a:br>
              <a:rPr sz="2800"/>
            </a:br>
            <a:r>
              <a:rPr b="0" lang="ru-RU" sz="3200" spc="-1" strike="noStrike">
                <a:solidFill>
                  <a:srgbClr val="990000"/>
                </a:solidFill>
                <a:latin typeface="Candara"/>
              </a:rPr>
              <a:t>Образовательная область:</a:t>
            </a:r>
            <a:r>
              <a:rPr b="0" lang="ru-RU" sz="2800" spc="-1" strike="noStrike">
                <a:solidFill>
                  <a:srgbClr val="990000"/>
                </a:solidFill>
                <a:latin typeface="Candara"/>
              </a:rPr>
              <a:t> обучить детей необходимому минимуму Правил дорожного движения и дорожных знаков – три цвета светофора, пешеходный переход – надземный, наземный, подземный – пешеходная дорожка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39" name="Picture 5" descr="C:\Users\Женя\AppData\Local\Microsoft\Windows\Temporary Internet Files\Content.IE5\NBNILI3T\MC900251965[1].wmf"/>
          <p:cNvPicPr/>
          <p:nvPr/>
        </p:nvPicPr>
        <p:blipFill>
          <a:blip r:embed="rId1"/>
          <a:stretch/>
        </p:blipFill>
        <p:spPr>
          <a:xfrm>
            <a:off x="6732720" y="4797360"/>
            <a:ext cx="1827000" cy="18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0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Candara"/>
              </a:rPr>
              <a:t>Паспорт проекта.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457200" y="1599840"/>
            <a:ext cx="4038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00"/>
                </a:solidFill>
                <a:latin typeface="Candara"/>
              </a:rPr>
              <a:t>Актуальность:</a:t>
            </a:r>
            <a:r>
              <a:rPr b="0" lang="ru-RU" sz="1600" spc="-1" strike="noStrike">
                <a:solidFill>
                  <a:srgbClr val="990000"/>
                </a:solidFill>
                <a:latin typeface="Candara"/>
              </a:rPr>
              <a:t> обеспечение безопасности детей становится всё актуальнее. Для маленького гражданина повседневная жизнь таит множество опасностей. Чаще это связано с невыполнением Правил дорожного движения: ведь ребёнку трудно понять, что такое тормозной путь, время реакции водителя или транспортный поток. Важно в дошкольном возрасте заложить фундамент жизненных ориентировок в окружающем, и всё, что ребёнок усвоит в детском саду, прочно останется у него навсегда. Поэтому учить детей дорожной грамоте, культуре поведения в общественном транспорте, следует с самого раннего детства.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4648320" y="1600200"/>
            <a:ext cx="4038480" cy="30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00"/>
                </a:solidFill>
                <a:latin typeface="Candara"/>
              </a:rPr>
              <a:t>задачи: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00"/>
                </a:solidFill>
                <a:latin typeface="Candara"/>
              </a:rPr>
              <a:t>воспитание грамотного пешехода;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00"/>
                </a:solidFill>
                <a:latin typeface="Candara"/>
              </a:rPr>
              <a:t>создать условия для сознательного изучения детьми Правил дорожного движения;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00"/>
                </a:solidFill>
                <a:latin typeface="Candara"/>
              </a:rPr>
              <a:t>Развивать у детей умение ориентироваться в различной обстановке;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00"/>
                </a:solidFill>
                <a:latin typeface="Candara"/>
              </a:rPr>
              <a:t>вырабатывать  у дошкольников привычку правильно вести себя на дороге.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4642920" y="4652640"/>
            <a:ext cx="403884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Candara"/>
              </a:rPr>
              <a:t>Цель: </a:t>
            </a:r>
            <a:r>
              <a:rPr b="0" lang="ru-RU" sz="2000" spc="-1" strike="noStrike">
                <a:solidFill>
                  <a:srgbClr val="990000"/>
                </a:solidFill>
                <a:latin typeface="Candara"/>
              </a:rPr>
              <a:t>сформировать у детей дошкольного возраста основы безопасного поведения как на дороге, так и в транспорте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53440" indent="-253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Candara"/>
              </a:rPr>
              <a:t> 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44" name="Picture 9" descr="C:\Users\Женя\AppData\Local\Microsoft\Windows\Temporary Internet Files\Content.IE5\R2PZJRP0\MC900432549[1].png"/>
          <p:cNvPicPr/>
          <p:nvPr/>
        </p:nvPicPr>
        <p:blipFill>
          <a:blip r:embed="rId1"/>
          <a:stretch/>
        </p:blipFill>
        <p:spPr>
          <a:xfrm>
            <a:off x="7020000" y="11592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46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00"/>
                </a:solidFill>
                <a:latin typeface="Candara"/>
              </a:rPr>
              <a:t>Предварительная работа.</a:t>
            </a:r>
            <a:br>
              <a:rPr sz="3600"/>
            </a:br>
            <a:r>
              <a:rPr b="0" lang="ru-RU" sz="2400" spc="-1" strike="noStrike">
                <a:solidFill>
                  <a:srgbClr val="990000"/>
                </a:solidFill>
                <a:latin typeface="Candara"/>
              </a:rPr>
              <a:t>1. Знакомство с литературными произведениями: М. Пожарский «Машины», М. Приходкин «По улицам города»; М. Дружинина «Служебные машины», «Моя улица»; Н. Носова «Автомобиль»; С. Волкова «Правила дорожного движения».</a:t>
            </a:r>
            <a:br>
              <a:rPr sz="3600"/>
            </a:br>
            <a:r>
              <a:rPr b="0" lang="ru-RU" sz="2400" spc="-1" strike="noStrike">
                <a:solidFill>
                  <a:srgbClr val="990000"/>
                </a:solidFill>
                <a:latin typeface="Candara"/>
              </a:rPr>
              <a:t>2. Рассматривание плакатов с изображениями различных дорожных ситуаций, плакаты «Нарушения Правил дорожного движения». Иллюстрации – водители, дорога, транспорт.</a:t>
            </a:r>
            <a:br>
              <a:rPr sz="2400"/>
            </a:br>
            <a:r>
              <a:rPr b="0" lang="ru-RU" sz="2400" spc="-1" strike="noStrike">
                <a:solidFill>
                  <a:srgbClr val="990000"/>
                </a:solidFill>
                <a:latin typeface="Candara"/>
              </a:rPr>
              <a:t>3. Макеты дорожных знаков:</a:t>
            </a:r>
            <a:br>
              <a:rPr sz="2400"/>
            </a:br>
            <a:r>
              <a:rPr b="0" lang="ru-RU" sz="2400" spc="-1" strike="noStrike">
                <a:solidFill>
                  <a:srgbClr val="990000"/>
                </a:solidFill>
                <a:latin typeface="Candara"/>
              </a:rPr>
              <a:t>«Пешеходный переход», «Автозаправочная станция», «Остановка». </a:t>
            </a:r>
            <a:br>
              <a:rPr sz="2400"/>
            </a:br>
            <a:r>
              <a:rPr b="0" lang="ru-RU" sz="2400" spc="-1" strike="noStrike">
                <a:solidFill>
                  <a:srgbClr val="990000"/>
                </a:solidFill>
                <a:latin typeface="Candara"/>
              </a:rPr>
              <a:t>3. Использование дидактических  и настольных игр:</a:t>
            </a:r>
            <a:br>
              <a:rPr sz="2400"/>
            </a:br>
            <a:r>
              <a:rPr b="0" lang="ru-RU" sz="2400" spc="-1" strike="noStrike">
                <a:solidFill>
                  <a:srgbClr val="990000"/>
                </a:solidFill>
                <a:latin typeface="Candara"/>
              </a:rPr>
              <a:t>«Собери машину», «Светофор», «Правила дорожного движения», «Дорожные знаки», «Азбука пешехода».</a:t>
            </a: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4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Candara"/>
              </a:rPr>
              <a:t>Ожидаемый результат.</a:t>
            </a:r>
            <a:br>
              <a:rPr sz="3200"/>
            </a:br>
            <a:r>
              <a:rPr b="0" lang="ru-RU" sz="2400" spc="-1" strike="noStrike">
                <a:solidFill>
                  <a:srgbClr val="990000"/>
                </a:solidFill>
                <a:latin typeface="Candara"/>
              </a:rPr>
              <a:t>- </a:t>
            </a:r>
            <a:r>
              <a:rPr b="0" lang="ru-RU" sz="2000" spc="-1" strike="noStrike">
                <a:solidFill>
                  <a:srgbClr val="990000"/>
                </a:solidFill>
                <a:latin typeface="Candara"/>
              </a:rPr>
              <a:t>знать алгоритм перехода дороги «остановись-посмотри-перейди»;</a:t>
            </a:r>
            <a:br>
              <a:rPr sz="2000"/>
            </a:br>
            <a:r>
              <a:rPr b="0" lang="ru-RU" sz="2000" spc="-1" strike="noStrike">
                <a:solidFill>
                  <a:srgbClr val="990000"/>
                </a:solidFill>
                <a:latin typeface="Candara"/>
              </a:rPr>
              <a:t>- иметь представления о видах транспорта(воздушный, наземный, водный); </a:t>
            </a:r>
            <a:br>
              <a:rPr sz="2000"/>
            </a:br>
            <a:r>
              <a:rPr b="0" lang="ru-RU" sz="2000" spc="-1" strike="noStrike">
                <a:solidFill>
                  <a:srgbClr val="990000"/>
                </a:solidFill>
                <a:latin typeface="Candara"/>
              </a:rPr>
              <a:t>- различать на дороге транспортные средства(пассажирские, грузовые, специальные, оперативные);</a:t>
            </a:r>
            <a:br>
              <a:rPr sz="2000"/>
            </a:br>
            <a:r>
              <a:rPr b="0" lang="ru-RU" sz="2000" spc="-1" strike="noStrike">
                <a:solidFill>
                  <a:srgbClr val="990000"/>
                </a:solidFill>
                <a:latin typeface="Candara"/>
              </a:rPr>
              <a:t>- уметь выбрать способ перехода проезжей части дороги, различать пешеходные переходы(наземный, надземный, подземный, регулируемый, нерегулируемый) и средства регулирования дорожного движения(светофор, регулировщик), а так-же дорожные знаки;</a:t>
            </a:r>
            <a:br>
              <a:rPr sz="2000"/>
            </a:br>
            <a:r>
              <a:rPr b="0" lang="ru-RU" sz="2000" spc="-1" strike="noStrike">
                <a:solidFill>
                  <a:srgbClr val="990000"/>
                </a:solidFill>
                <a:latin typeface="Candara"/>
              </a:rPr>
              <a:t>- знать правила перехода проезжей части(три фиксации поворота головы – в сторону движущегося транспорта, в противоположную и опять в сторону транспорта) по регулируемому и нерегулируемому пешеходным переходам.</a:t>
            </a: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47" name="Picture 8" descr="C:\Users\Женя\AppData\Local\Microsoft\Windows\Temporary Internet Files\Content.IE5\SVA4QND3\MC900343741[1].wmf"/>
          <p:cNvPicPr/>
          <p:nvPr/>
        </p:nvPicPr>
        <p:blipFill>
          <a:blip r:embed="rId1"/>
          <a:stretch/>
        </p:blipFill>
        <p:spPr>
          <a:xfrm>
            <a:off x="6819840" y="5157720"/>
            <a:ext cx="1603440" cy="14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9600" cy="626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00"/>
                </a:solidFill>
                <a:latin typeface="Candara"/>
              </a:rPr>
              <a:t>Обеспечение:</a:t>
            </a:r>
            <a:br>
              <a:rPr sz="3600"/>
            </a:br>
            <a:r>
              <a:rPr b="0" lang="ru-RU" sz="2800" spc="-1" strike="noStrike">
                <a:solidFill>
                  <a:srgbClr val="990000"/>
                </a:solidFill>
                <a:latin typeface="Candara"/>
              </a:rPr>
              <a:t>настольно – печатные игры;</a:t>
            </a:r>
            <a:br>
              <a:rPr sz="2800"/>
            </a:br>
            <a:r>
              <a:rPr b="0" lang="ru-RU" sz="2800" spc="-1" strike="noStrike">
                <a:solidFill>
                  <a:srgbClr val="990000"/>
                </a:solidFill>
                <a:latin typeface="Candara"/>
              </a:rPr>
              <a:t>специальная методическая литература;</a:t>
            </a:r>
            <a:br>
              <a:rPr sz="2800"/>
            </a:br>
            <a:r>
              <a:rPr b="0" lang="ru-RU" sz="2800" spc="-1" strike="noStrike">
                <a:solidFill>
                  <a:srgbClr val="990000"/>
                </a:solidFill>
                <a:latin typeface="Candara"/>
              </a:rPr>
              <a:t>аудио – и видеозаписи по теме.</a:t>
            </a:r>
            <a:br>
              <a:rPr sz="2800"/>
            </a:br>
            <a:r>
              <a:rPr b="0" lang="ru-RU" sz="3600" spc="-1" strike="noStrike">
                <a:solidFill>
                  <a:srgbClr val="990000"/>
                </a:solidFill>
                <a:latin typeface="Candara"/>
              </a:rPr>
              <a:t>Продукт проектной деятельности:</a:t>
            </a:r>
            <a:br>
              <a:rPr sz="2800"/>
            </a:br>
            <a:r>
              <a:rPr b="0" lang="ru-RU" sz="2800" spc="-1" strike="noStrike">
                <a:solidFill>
                  <a:srgbClr val="990000"/>
                </a:solidFill>
                <a:latin typeface="Candara"/>
              </a:rPr>
              <a:t>изготовление коллажа «Улица города»;</a:t>
            </a:r>
            <a:br>
              <a:rPr sz="2800"/>
            </a:br>
            <a:r>
              <a:rPr b="0" lang="ru-RU" sz="2800" spc="-1" strike="noStrike">
                <a:solidFill>
                  <a:srgbClr val="990000"/>
                </a:solidFill>
                <a:latin typeface="Candara"/>
              </a:rPr>
              <a:t>оформление фотоальбома «Мы -  пешеходы».</a:t>
            </a:r>
            <a:br>
              <a:rPr sz="2800"/>
            </a:br>
            <a:r>
              <a:rPr b="0" lang="ru-RU" sz="3600" spc="-1" strike="noStrike">
                <a:solidFill>
                  <a:srgbClr val="990000"/>
                </a:solidFill>
                <a:latin typeface="Candara"/>
              </a:rPr>
              <a:t>Презентация проекта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633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00"/>
                </a:solidFill>
                <a:latin typeface="Candara"/>
              </a:rPr>
              <a:t>Правила перехода через улицу.</a:t>
            </a:r>
            <a:br>
              <a:rPr sz="3600"/>
            </a:br>
            <a:r>
              <a:rPr b="0" lang="ru-RU" sz="2000" spc="-1" strike="noStrike">
                <a:solidFill>
                  <a:srgbClr val="990000"/>
                </a:solidFill>
                <a:latin typeface="Candara"/>
              </a:rPr>
              <a:t>1.Когда переходишь дорогу, посмотри сначала налево, потом направо.</a:t>
            </a:r>
            <a:br>
              <a:rPr sz="2000"/>
            </a:br>
            <a:r>
              <a:rPr b="0" lang="ru-RU" sz="2000" spc="-1" strike="noStrike">
                <a:solidFill>
                  <a:srgbClr val="990000"/>
                </a:solidFill>
                <a:latin typeface="Candara"/>
              </a:rPr>
              <a:t>2.Дорогу переходи в том месте, где расположена пешеходная дорожка или установлен светофор.</a:t>
            </a:r>
            <a:br>
              <a:rPr sz="2000"/>
            </a:br>
            <a:r>
              <a:rPr b="0" lang="ru-RU" sz="2000" spc="-1" strike="noStrike">
                <a:solidFill>
                  <a:srgbClr val="990000"/>
                </a:solidFill>
                <a:latin typeface="Candara"/>
              </a:rPr>
              <a:t>3.Если нет пешеходной дорожки и светофора, переходи улицу тогда, когда машины далеко от места перехода и ничего не мешает хорошо видеть дорогу.</a:t>
            </a:r>
            <a:br>
              <a:rPr sz="2000"/>
            </a:br>
            <a:r>
              <a:rPr b="0" lang="ru-RU" sz="2000" spc="-1" strike="noStrike">
                <a:solidFill>
                  <a:srgbClr val="990000"/>
                </a:solidFill>
                <a:latin typeface="Candara"/>
              </a:rPr>
              <a:t>4.Переходи улицу только при зелёном сигнале светофора.</a:t>
            </a:r>
            <a:br>
              <a:rPr sz="2000"/>
            </a:br>
            <a:r>
              <a:rPr b="0" lang="ru-RU" sz="2000" spc="-1" strike="noStrike">
                <a:solidFill>
                  <a:srgbClr val="990000"/>
                </a:solidFill>
                <a:latin typeface="Candara"/>
              </a:rPr>
              <a:t>5.Переходи улицу спокойным шагом, по прямой, а не наискосок.</a:t>
            </a:r>
            <a:br>
              <a:rPr sz="2000"/>
            </a:br>
            <a:r>
              <a:rPr b="0" lang="ru-RU" sz="2000" spc="-1" strike="noStrike">
                <a:solidFill>
                  <a:srgbClr val="990000"/>
                </a:solidFill>
                <a:latin typeface="Candara"/>
              </a:rPr>
              <a:t>6.Переходя улицу, следи за сигналом светофора.</a:t>
            </a:r>
            <a:br>
              <a:rPr sz="2000"/>
            </a:br>
            <a:r>
              <a:rPr b="0" lang="ru-RU" sz="2000" spc="-1" strike="noStrike">
                <a:solidFill>
                  <a:srgbClr val="990000"/>
                </a:solidFill>
                <a:latin typeface="Candara"/>
              </a:rPr>
              <a:t>7.Не успел перейти улицу – остановись на «Островке безопасности».</a:t>
            </a:r>
            <a:br>
              <a:rPr sz="2000"/>
            </a:br>
            <a:r>
              <a:rPr b="0" lang="ru-RU" sz="2000" spc="-1" strike="noStrike">
                <a:solidFill>
                  <a:srgbClr val="990000"/>
                </a:solidFill>
                <a:latin typeface="Candara"/>
              </a:rPr>
              <a:t>8.Переходить перекрёсток надо только по пешеходным переходам.</a:t>
            </a:r>
            <a:br>
              <a:rPr sz="3600"/>
            </a:b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00"/>
                </a:solidFill>
                <a:latin typeface="Candara"/>
              </a:rPr>
              <a:t>Мнемотаблица «Город»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Candara"/>
              </a:rPr>
              <a:t>Г- </a:t>
            </a:r>
            <a:r>
              <a:rPr b="0" lang="ru-RU" sz="2400" spc="-1" strike="noStrike">
                <a:solidFill>
                  <a:srgbClr val="990000"/>
                </a:solidFill>
                <a:latin typeface="Candara"/>
              </a:rPr>
              <a:t>город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Candara"/>
              </a:rPr>
              <a:t>улицы в городе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Candara"/>
              </a:rPr>
              <a:t>светофор-три сигнала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Candara"/>
              </a:rPr>
              <a:t>машины-городской транспорт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Candara"/>
              </a:rPr>
              <a:t>остановки-для транспорта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Candara"/>
              </a:rPr>
              <a:t>М</a:t>
            </a:r>
            <a:r>
              <a:rPr b="0" lang="ru-RU" sz="2400" spc="-1" strike="noStrike">
                <a:solidFill>
                  <a:srgbClr val="990000"/>
                </a:solidFill>
                <a:latin typeface="Candara"/>
              </a:rPr>
              <a:t>-вход в метро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Candara"/>
              </a:rPr>
              <a:t>пешеходы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Candara"/>
              </a:rPr>
              <a:t>пешеходный переход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Candara"/>
              </a:rPr>
              <a:t>дорожные знаки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52" name="Picture 8" descr="MC900435504[1]"/>
          <p:cNvPicPr/>
          <p:nvPr/>
        </p:nvPicPr>
        <p:blipFill>
          <a:blip r:embed="rId1"/>
          <a:stretch/>
        </p:blipFill>
        <p:spPr>
          <a:xfrm>
            <a:off x="4716360" y="1628640"/>
            <a:ext cx="1224000" cy="1359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53" name=""/>
          <p:cNvGraphicFramePr/>
          <p:nvPr/>
        </p:nvGraphicFramePr>
        <p:xfrm>
          <a:off x="4648320" y="1557360"/>
          <a:ext cx="4038480" cy="4576680"/>
        </p:xfrm>
        <a:graphic>
          <a:graphicData uri="http://schemas.openxmlformats.org/drawingml/2006/table">
            <a:tbl>
              <a:tblPr/>
              <a:tblGrid>
                <a:gridCol w="1346040"/>
                <a:gridCol w="1346400"/>
                <a:gridCol w="1346040"/>
              </a:tblGrid>
              <a:tr h="153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1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1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54" name="Picture 28" descr="MC900432549[1]"/>
          <p:cNvPicPr/>
          <p:nvPr/>
        </p:nvPicPr>
        <p:blipFill>
          <a:blip r:embed="rId2"/>
          <a:stretch/>
        </p:blipFill>
        <p:spPr>
          <a:xfrm>
            <a:off x="6056280" y="1625760"/>
            <a:ext cx="1297080" cy="143964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30" descr="MC900423411[1]"/>
          <p:cNvPicPr/>
          <p:nvPr/>
        </p:nvPicPr>
        <p:blipFill>
          <a:blip r:embed="rId3"/>
          <a:stretch/>
        </p:blipFill>
        <p:spPr>
          <a:xfrm>
            <a:off x="6227640" y="3141720"/>
            <a:ext cx="833400" cy="136692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31" descr="C:\Users\Женя\AppData\Local\Microsoft\Windows\Temporary Internet Files\Content.IE5\SVA4QND3\MC900432029[1].wmf"/>
          <p:cNvPicPr/>
          <p:nvPr/>
        </p:nvPicPr>
        <p:blipFill>
          <a:blip r:embed="rId4"/>
          <a:stretch/>
        </p:blipFill>
        <p:spPr>
          <a:xfrm>
            <a:off x="5987880" y="4687920"/>
            <a:ext cx="1312920" cy="144000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32" descr="C:\Users\Женя\AppData\Local\Microsoft\Windows\Temporary Internet Files\Content.IE5\R2PZJRP0\MC900435480[1].wmf"/>
          <p:cNvPicPr/>
          <p:nvPr/>
        </p:nvPicPr>
        <p:blipFill>
          <a:blip r:embed="rId5"/>
          <a:stretch/>
        </p:blipFill>
        <p:spPr>
          <a:xfrm>
            <a:off x="4788000" y="3141720"/>
            <a:ext cx="1168200" cy="144288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33" descr="C:\Users\Женя\AppData\Local\Microsoft\Windows\Temporary Internet Files\Content.IE5\NBNILI3T\MC900198378[1].wmf"/>
          <p:cNvPicPr/>
          <p:nvPr/>
        </p:nvPicPr>
        <p:blipFill>
          <a:blip r:embed="rId6"/>
          <a:stretch/>
        </p:blipFill>
        <p:spPr>
          <a:xfrm>
            <a:off x="7424640" y="1625760"/>
            <a:ext cx="1251000" cy="144288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34" descr="C:\Users\Женя\AppData\Local\Microsoft\Windows\Temporary Internet Files\Content.IE5\TPN5T86L\MC900435500[1].wmf"/>
          <p:cNvPicPr/>
          <p:nvPr/>
        </p:nvPicPr>
        <p:blipFill>
          <a:blip r:embed="rId7"/>
          <a:stretch/>
        </p:blipFill>
        <p:spPr>
          <a:xfrm>
            <a:off x="7424640" y="3170160"/>
            <a:ext cx="1251000" cy="141444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35" descr="C:\Users\Женя\AppData\Local\Microsoft\Windows\Temporary Internet Files\Content.IE5\R2PZJRP0\MC900233307[1].wmf"/>
          <p:cNvPicPr/>
          <p:nvPr/>
        </p:nvPicPr>
        <p:blipFill>
          <a:blip r:embed="rId8"/>
          <a:stretch/>
        </p:blipFill>
        <p:spPr>
          <a:xfrm>
            <a:off x="4716360" y="4724280"/>
            <a:ext cx="1239840" cy="136692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36" descr="C:\Users\Женя\AppData\Local\Microsoft\Windows\Temporary Internet Files\Content.IE5\R2PZJRP0\MC900411288[1].wmf"/>
          <p:cNvPicPr/>
          <p:nvPr/>
        </p:nvPicPr>
        <p:blipFill>
          <a:blip r:embed="rId9"/>
          <a:stretch/>
        </p:blipFill>
        <p:spPr>
          <a:xfrm>
            <a:off x="7424640" y="4687920"/>
            <a:ext cx="1251000" cy="14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2" name=""/>
          <p:cNvGraphicFramePr/>
          <p:nvPr/>
        </p:nvGraphicFramePr>
        <p:xfrm>
          <a:off x="871560" y="1844640"/>
          <a:ext cx="7408800" cy="4897440"/>
        </p:xfrm>
        <a:graphic>
          <a:graphicData uri="http://schemas.openxmlformats.org/drawingml/2006/table">
            <a:tbl>
              <a:tblPr/>
              <a:tblGrid>
                <a:gridCol w="2469960"/>
                <a:gridCol w="2468880"/>
                <a:gridCol w="2469960"/>
              </a:tblGrid>
              <a:tr h="1631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</a:tr>
              <a:tr h="1633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  <a:tr h="1631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</a:tr>
            </a:tbl>
          </a:graphicData>
        </a:graphic>
      </p:graphicFrame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00"/>
                </a:solidFill>
                <a:latin typeface="Candara"/>
              </a:rPr>
              <a:t>Знаки дорожного движения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64" name="Picture 2" descr="C:\Users\Женя\AppData\Local\Microsoft\Windows\Temporary Internet Files\Content.IE5\NBNILI3T\MC900432029[1].wmf"/>
          <p:cNvPicPr/>
          <p:nvPr/>
        </p:nvPicPr>
        <p:blipFill>
          <a:blip r:embed="rId1"/>
          <a:stretch/>
        </p:blipFill>
        <p:spPr>
          <a:xfrm>
            <a:off x="1332000" y="1989000"/>
            <a:ext cx="1827000" cy="136872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3" descr="C:\Users\Женя\AppData\Local\Microsoft\Windows\Temporary Internet Files\Content.IE5\R2PZJRP0\MC900411256[1].wmf"/>
          <p:cNvPicPr/>
          <p:nvPr/>
        </p:nvPicPr>
        <p:blipFill>
          <a:blip r:embed="rId2"/>
          <a:stretch/>
        </p:blipFill>
        <p:spPr>
          <a:xfrm>
            <a:off x="3851280" y="1989000"/>
            <a:ext cx="1657440" cy="136872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4" descr="C:\Users\Женя\AppData\Local\Microsoft\Windows\Temporary Internet Files\Content.IE5\SVA4QND3\MC900432033[1].wmf"/>
          <p:cNvPicPr/>
          <p:nvPr/>
        </p:nvPicPr>
        <p:blipFill>
          <a:blip r:embed="rId3"/>
          <a:stretch/>
        </p:blipFill>
        <p:spPr>
          <a:xfrm>
            <a:off x="6156360" y="1989000"/>
            <a:ext cx="1827000" cy="136872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5" descr="C:\Users\Женя\AppData\Local\Microsoft\Windows\Temporary Internet Files\Content.IE5\TPN5T86L\MC900411288[1].wmf"/>
          <p:cNvPicPr/>
          <p:nvPr/>
        </p:nvPicPr>
        <p:blipFill>
          <a:blip r:embed="rId4"/>
          <a:stretch/>
        </p:blipFill>
        <p:spPr>
          <a:xfrm>
            <a:off x="1116000" y="3573360"/>
            <a:ext cx="1792440" cy="136836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6" descr="C:\Users\Женя\AppData\Local\Microsoft\Windows\Temporary Internet Files\Content.IE5\SVA4QND3\MC900411284[1].wmf"/>
          <p:cNvPicPr/>
          <p:nvPr/>
        </p:nvPicPr>
        <p:blipFill>
          <a:blip r:embed="rId5"/>
          <a:stretch/>
        </p:blipFill>
        <p:spPr>
          <a:xfrm>
            <a:off x="3708360" y="3573360"/>
            <a:ext cx="1655640" cy="136836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7" descr="C:\Users\Женя\AppData\Local\Microsoft\Windows\Temporary Internet Files\Content.IE5\R2PZJRP0\MC900286959[1].wmf"/>
          <p:cNvPicPr/>
          <p:nvPr/>
        </p:nvPicPr>
        <p:blipFill>
          <a:blip r:embed="rId6"/>
          <a:stretch/>
        </p:blipFill>
        <p:spPr>
          <a:xfrm>
            <a:off x="6256440" y="5229360"/>
            <a:ext cx="1726920" cy="134748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9" descr="C:\Users\Женя\AppData\Local\Microsoft\Windows\Temporary Internet Files\Content.IE5\TPN5T86L\MC900432025[1].wmf"/>
          <p:cNvPicPr/>
          <p:nvPr/>
        </p:nvPicPr>
        <p:blipFill>
          <a:blip r:embed="rId7"/>
          <a:stretch/>
        </p:blipFill>
        <p:spPr>
          <a:xfrm>
            <a:off x="1116000" y="5300640"/>
            <a:ext cx="1584360" cy="136836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0" descr="C:\Users\Женя\AppData\Local\Microsoft\Windows\Temporary Internet Files\Content.IE5\NBNILI3T\MC900431985[1].wmf"/>
          <p:cNvPicPr/>
          <p:nvPr/>
        </p:nvPicPr>
        <p:blipFill>
          <a:blip r:embed="rId8"/>
          <a:stretch/>
        </p:blipFill>
        <p:spPr>
          <a:xfrm>
            <a:off x="6226200" y="3573360"/>
            <a:ext cx="1687320" cy="144000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12" descr="C:\Users\Женя\AppData\Local\Microsoft\Windows\Temporary Internet Files\Content.IE5\R2PZJRP0\MC900435480[2].wmf"/>
          <p:cNvPicPr/>
          <p:nvPr/>
        </p:nvPicPr>
        <p:blipFill>
          <a:blip r:embed="rId9"/>
          <a:stretch/>
        </p:blipFill>
        <p:spPr>
          <a:xfrm>
            <a:off x="3708360" y="5300640"/>
            <a:ext cx="184140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3T15:09:43Z</dcterms:created>
  <dc:creator>Женя</dc:creator>
  <dc:description/>
  <dc:language>en-US</dc:language>
  <cp:lastModifiedBy>СОЛНЫШКО</cp:lastModifiedBy>
  <dcterms:modified xsi:type="dcterms:W3CDTF">2024-01-22T10:02:37Z</dcterms:modified>
  <cp:revision>53</cp:revision>
  <dc:subject/>
  <dc:title>Проект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