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2C60-006A-4BF0-BD4C-BDAFF13D82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07AC-AC2A-4928-B15F-CE7F861382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C5D1-DD15-4C72-9A04-406B756B37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4B5-0A1C-4A7B-B8E9-96EB5CDB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D76-B4E3-4C48-A1E0-4D44ACA8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2D6-5E38-4029-9E75-D3023693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A03-C33B-472E-9024-ABA292C0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72F3-8DDA-4BEE-9F6A-A43A99CC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5C71-615C-42EF-BDC1-24680251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7CDE-1346-4C93-B792-FFA4D21B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9A00-22AA-4C20-B222-837F8535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33B6-BDF3-43DD-B4FC-F3919AC9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94A1-04BE-4BE2-AC20-B59784A9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F4E0-30CC-45F7-93A0-59B8FFFD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B5D-260B-4279-8C56-6BD9A7F2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BAD9-F444-42EF-83A7-7DB3A78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0721-073B-4962-9CF4-D4547511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01A5-C8A7-49A7-813F-BF42F3A4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B752-9FBD-4773-B0CE-42D238E2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0C0A-9667-4A17-A49F-2AC93032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9B0-AD8C-42B0-AAA3-0156B3F6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7CC-A827-4D3F-9524-5182D22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586-FD65-4EE9-A994-1632D32D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E55-C9D1-4C76-9836-2D2B04D8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DAA-6A98-41A0-8F67-3AD94708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09A-9044-4251-A80C-14B7120F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19A-8BE5-4312-948D-60BE6C4C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3C3F-A39C-42DF-B17E-9ED5ADD9E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еминар №1                                                  "Проект и  исследование: отличие и взаимосвязь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DBBB-A0F9-4D1C-8007-CFFD758C9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buchonok.ru/aktualnos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obuchonok.ru/node/425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buchonok.ru/zadachi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2130120"/>
            <a:ext cx="835812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Ы ИССЛЕДОВАТЕЛЬСКОЙ ДЕЯТЕЛЬНОСТ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мендации при выборе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7120" y="1500120"/>
            <a:ext cx="8072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ма должна быть такой, чтобы работа была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ыполнена качественн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но относительно быстро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тема должна быть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доступна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студент должен понимать то, что он пытается проанализировать и описать)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тема должна вызывать интерес не только у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студента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но и у его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руководител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работа над темой должна быть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обеспечена ресурса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т.е. по выбранной теме должны быть доступны исторические источники и литератур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мендации при выборе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7120" y="1500120"/>
            <a:ext cx="8072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ая ошибка студентов – написать много и обо вс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ажным этапом работы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онкретизац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ако формулировка темы не должна быть слишком узкой, так как в ходе исследования могут открыться новые факты и круг вопросов может расшир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мендации при выборе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500120"/>
            <a:ext cx="8072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ажное правил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в заглавии должна бы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Что и почему исследу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заглавие не формулируется, то в самой работе есть некоторая ошиб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этому в процессе работы нужно всегда соотносить содержание исследования и загла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мендации при выборе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7120" y="1500120"/>
            <a:ext cx="8072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ировка темы (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аглав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есть развернутое пон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ы и перспективы развития быстроты у юных легкоатлетов на учебно- тенировочных занятиях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главие – это имя работы, которое кратко передает ее 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о должно быть однозначным, ясным, академическим, терминологическим и отражать суть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комендации при выборе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500120"/>
            <a:ext cx="8072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объему и содержанию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эмпирической (опытной) части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темы можно разделить на две группы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Поисковы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Теоретическ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buClr>
                <a:srgbClr val="2b44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В некоторых случаях допускаются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компилятивные</a:t>
            </a: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 работы, то есть критическое осмысление литературы и сопоставление точек зр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buClr>
                <a:srgbClr val="2b44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В зависимости от наличия/отсутствия практических рекомендаций или собственных разработок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работа может быть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прикладной</a:t>
            </a: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 или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фундаментальной</a:t>
            </a:r>
            <a:r>
              <a:rPr b="0" lang="ru-RU" sz="2500" spc="-1" strike="noStrike">
                <a:solidFill>
                  <a:srgbClr val="2b4450"/>
                </a:solidFill>
                <a:latin typeface="Calibri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80000"/>
              </a:lnSpc>
              <a:spcBef>
                <a:spcPts val="624"/>
              </a:spcBef>
              <a:buClr>
                <a:srgbClr val="2b44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Задание 1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Сформулируйте тему вашей курсовой рабо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ранной темы обосновывает необходимость проведения исследования в контексте общего процесса научного познания.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ение актуальности темы исследования – обязательное требование к любой работе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ем актуальности является наличие в данной области исследования какой-либо проблемы, т.е. некой противоречивой ситуации, требующей разреш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ктуальность темы исследов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3840" y="1357200"/>
            <a:ext cx="8929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ктуальностью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является степень его важности на данный момент и в данной ситуации для решения определенной проблемы, задачи или вопроса. Это же относится и к актуальности научного исследования или обоснованию актуальности темы научного иссле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сследовательском проекте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снование актуальности исслед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- это объяснение необходимости изучения данной темы и проведения исследовательской работы в процессе общего по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обоснования актуальности тем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3840" y="1356840"/>
            <a:ext cx="8929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звитие координационных способностей у детей 11 -  13 ле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 занятиях легкой атлетик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ее время понятие «координационные способности» выделяется из общего и менее определенного понятия «ловкость», широко распространенного в обиходе и в литературе по физическому воспитанию. Представим себе воспитанника, который успешно справляется с разучиванием новой комбинации движений, но оказывается не в состоянии качественно продемонстрировать ее, как только внезапно меняется условие выполнения. Поэтому средний школьный возраст является «фундаментом» для развития координационных способностей, а также приобретением знаний, умений и навыков при выполнении упражнений на координацию. Этот возрастной период называется «золотым возрастом», имея в виду темп развития координационных способнос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обоснования актуальности темы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оциональный компонент оптимального боевого состояния спортсменок дзюдоис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Актуальность исследован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заключается в изучении особенностей становления оптимального боевого состояния дзюдоисток, которое в практике женского российского дзюдо широкого применения не имеет, в том числе и в национальной сборной, что показывает нам статистика неудовлетворительных результатов на международной арене. Это связано с тем, что основную часть психологической подготовки составляют беседы с тренером, чего явно не достаточно для предотвращения эмоционального возбужд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обоснования актуальности темы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Исследование целесообразности применения спортивного питания спортсменами на отделении фехтова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 В основе стратегии питания спортсменов лежат общие принципы здорового питания, однако имеются и специальные задачи. Специфика питания спортсменов должна соответствовать целому ряду положений, учитывать повышенный расход энергии, связанный с высокими физическими нагрузками, распределение количества калорий по видам основных пищевых веществ, соответствовать принципу сбалансированности между количеством базовых пищевых веществ, микроэлементами и витаминам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портсмены, нуждаются в рациональной организации питания, с учетом анатомо-физиологических особенностей организма, характера и интенсивности выполняемых физических нагрузок. Повышение спортивной работоспособности и уровня адаптации к физическим нагрузкам, укрепление и поддержка общего состояния здоровья спортсменов обеспечивается, в том числе, контролем массы тела. Важное значение эта проблематика имеет в период непосредственной подготовки к соревнования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жим питания является неотъемлемой частью успешного подведения спортсмена к соревнованиям в оптимальной «спортивной форме», что свидетельствуют о необходимости создания индивидуализированной программы диетологической поддержки, которая позволит максимально сбалансировать потребность организма спортсмена в пищевых веществах в соответствии с тренировочным циклом и исключить негативное влияние интенсивных физических нагрузок, предотвратить состояние перетренирован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39290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tvoyrebenok.ru/images/presentation/school/b/017.jpg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75722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сследователь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ловек, находящийся в процессе поиска ответов на вопросы, творческая ли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сследовательская деятельность</a:t>
            </a: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ятельность, связанная с решением учащимися творческой, исследовательской задачи с заранее неизвестным результатом и предполагающая наличие основных этапов, характерных для исследования в научной сфе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обоснования актуальности темы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Совершенствование техники бега на короткие дистанции у детей 10-12 лет средствами комплексов специальных легкоатлетических упражнен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дной из наиболее важных проблем повышения скорости бега на короткие дистанции является то, что большинство учителей по физической культуре, а так же тренеров детских юношеских спортивных школ, работающих с молодыми легкоатлетами, уделяют недостаточное внимание использованию комплексов специальных беговых и прыжковых упражнений для совершенствования техники бега занимающихс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анные упражнения рассматриваются ими как «разминающие» и «общеразвивающие», направленные на совершенствование только двигательных качеств – быстроты и сил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днако, совершенствуя технику бега, важно не просто применять комплексы таких упражнений, а подбирать специальные беговые и прыжковые задания  таким образом, что бы они по своей структуре выполнения стали подводящими к упражнениям основной части занятия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ановится очевидной острая нехватка инновационных подходов к реорганизации и оптимизации тренировочного процесса. Требуется проведение дополнительных исследований в целях поиска не использованных резервов в организации и содержании тренировочного процесса с учетом требований сегодняшнего дня, а главное, разработки технологии возможного снижения степени риска для здоровья человека профессиональной спортивной деятель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ская позиция – ясно объяснить (доказать), почему это актуаль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ельство – наличие научной проблем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в начале работы автор должен идти от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е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роблеме (конкретному аспекту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становится очевидной, если аспект темы содержит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онфли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фликт формулируется путем выдвижения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ипотез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чему был выбран данный аспект и как автор пришел к нему?</a:t>
            </a:r>
            <a:br>
              <a:rPr sz="2400"/>
            </a:br>
            <a:r>
              <a:rPr b="0" lang="ru-RU" sz="2400" spc="-1" strike="noStrike">
                <a:solidFill>
                  <a:srgbClr val="2b4450"/>
                </a:solidFill>
                <a:latin typeface="Calibri"/>
              </a:rPr>
              <a:t>Поиск проблемы сложен, но для любого исследования необходим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адание 2.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формулируйте три аргумента в обоснование актуальности темы вашей диплом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500040" y="356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ъектная область исследования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фера науки и практики, в которой находится объект исслед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285840" y="207180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ъект исследова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бласть, в рамках которой ведется исследование совокупности связей, отношений и свойств как источника необходимой для исследователя информ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6"/>
          <p:cNvSpPr/>
          <p:nvPr/>
        </p:nvSpPr>
        <p:spPr>
          <a:xfrm>
            <a:off x="357120" y="400068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едмет исследова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конкретен и включает только те связи и отношения, которые подлежат непосредственному изучению в данной раб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бъект и предмет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13840" y="85680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Объект исследования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 -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это то, что будет взято учащимся для изучения и исследования. Это не обязательно может быть какой-либо неживой предмет или живое сущест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исследовательской деятельности объектом исследования является не всегда предмет или живое существо, это может быть процесс или явление действительности. Обычно название объекта исследования содержится в ответе на вопрос: 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рассматриваетс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Предмет исследован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это особая проблема, отдельные стороны объекта, его свойства и особенности, которые, не выходя за рамки исследуемого объекта, будут исследованы в работе (проекте). Обычно название предмета исследования содержится в ответе на вопрос: что изучаетс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объекта и предмета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285920"/>
            <a:ext cx="8400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тренировочный процесс хоккеистов 15- 16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етодика развития силовых способностей хоккеистов 15-16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физкультурные занятия детей старшего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танцевальная деятельность как средство развития координации движений старших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наблюдений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ая подготовка  женской сборной команды Самарской области по дзю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едства и методы формирования оптимального боевого состояния через эмоциональный компонент у дзюдоист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наблюдений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икроклимат в спортивной команде баскетбо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условия микроклимата в спортивных командах баскетбо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ние 3. Сформулируйте объект и предмет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ение цели и задач исследова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13840" y="1599840"/>
            <a:ext cx="8929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исследовательской работы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изучении фактов, событий и установлении закономерностей, которые их связывают между собой. Как правило, цель начинается с глаголов: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яснить», «сформулировать», «установить», «обосновать», «провести», «выявить»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то, что надо сделать, чтобы достичь цели, разрешить проблему исследования. Задачи лучше всего формулировать в виде утверждения того, что необходимо сделать, чтобы цель была достигнута. Постановка задач основывается на дроблении цели исследования на подцел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составления цели исследовательской работ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599840"/>
            <a:ext cx="840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одно из слов, которое больше подходит к тому, что вы исследуете: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, исследовать, выяснить, выявить, определить, проанализировать, установить, показать, проверить, привлечь к проблеме, обосновать, обобщить, описать, узнать и др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права добавьте название вашего объекта исследования (того, что вы исследуете, за кем или чем наблюдаете, что изучаете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ая формулировка цели в исследовательской работе записывается та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тельской работы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ngXian"/>
              </a:rPr>
              <a:t>изучить как профессионализм персонала фитнес клуба влияет на мотивационный компонент занятиями физической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так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ей исследовательской работы: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ое обоснование методики психорегуляции, применяемой в тренировочном процессе, до и во время соревн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формулировок цели исследовательской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ость применения психологической техники ОБС через эмоциональный компонент при подготовке спортсменок дзюдоист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ен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ности баскетболистов разного игрового амплу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я круговой тренировки футболистов с целью повышение координ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формулировок цели исследовательск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уч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экспериментальной методики воспитания быстроты хоккеистов 13-14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уч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комплекса специальных упражнений на основе барьерного бега на развитие координационных способностей у детей 11-13 лет на этапе нач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уч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-психологические особенности спортсменов в условиях стресса и влияние ментального трен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формулировок цели исследовательской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в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лияние танцевальной деятельности на уровень развития координации движений у детей старшего дошкольного возра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в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упражнений с координационной лестнице на развитие быстроты у футболистов 9-10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в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предложенного комплекса упражнений, направленного на развитие скоростно-силовых способностей баскетболистов 12-13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392904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ww.tvoyrebenok.ru/images/presentation/school/b/017.jpg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75722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Что такое проек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ект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– это разработанный план для создания чего-либ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ект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– это предварительный текст какого-либо докум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ект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– реалистичный замысел о желаемом будущем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формулировок цели исследовательск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работа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упражнений, направленный на развитие скоростных способностей волейболистов 10-11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снова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применения комплекса упражнений, направленного на совершенствование старта при плавании старта в плавании способом баттерфля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бщи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ко-методические аспекты технико-тактической подготовки футбольных вратарей 10-13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714240" y="564372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дание 4. Сформулируйте цель вашей курсов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Задачи исследовательской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дачи исследовательской работы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- это все последовательные этапы теоретической и экспериментальной работы учащегося с начало до конца, в рамках взятой темы проекта и поставленной цели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тобы определить задачи исследовательской работы, нужно последовательно отвечать себе на вопрос «Что мне сделать, чтобы достичь цели исследования?» или "Что я должен сделать по порядку для осуществления задуманного результата?"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ычно 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дачи исследовательского проект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перечисляются и начинаются словами: </a:t>
            </a:r>
            <a:r>
              <a:rPr b="0" lang="ru-RU" sz="2500" spc="-1" strike="noStrike">
                <a:solidFill>
                  <a:srgbClr val="ff0000"/>
                </a:solidFill>
                <a:latin typeface="Calibri"/>
              </a:rPr>
              <a:t>выяснить, изучить, провести, узнать, проанализировать, исследовать, определить, рассмотреть, найти, предложить, выявить, измерить, сравнить, показать, собрать, сделать, составить, обобщить, описать, установить, разработать, познакомиться и т.п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исследовательской работы(пример)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4560" y="1600200"/>
            <a:ext cx="865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на основе анализа литературных источников характерные особенности проявления скоростно-силовых качеств в спортивной деятельности баскетболис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возрастные особенности развития скоростно-силовых качеств у мальчиков 12-13 ле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омплекс упражнений для развития скоростно-силовых качеств баскетболистов в соответствии с сенситивными период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о обосновать эффективность и результативность предложенного комплекса упражнений для развития скоростно – силовых качеств баскетболистов 12-13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ние: формулировка задачи 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ование физической подготовки тхэквондистов на  этапе начальной подготов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ая подготовка спортсмена к соревнования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ФК  как средство профилактики заболеваний органов дыхания и повышения работоспособности у детей 6-8 лет в процессе занятий спор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выносливости у фехтовальщиков  11-13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физических качеств на начальном этапе подготовки посредством игрового метода на занятиях тхэквонд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быстроты футболистов на начальном этапе  подготовки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адание 5. Сформулируйте задачи вашей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движение гипотезы (научного предположе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ание, предположение, суждение о закономерной связи явлений.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ипотеза исследования представляет соб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тверждение, нуждающееся в проверке.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должна быть проверяемой, содержать предположение, быть логически непротиворечивой, соответствовать факта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результате исследования гипотеза подтверждается, то она становится теорией, если нет – она оказывается ложным предположение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ы гипотез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сательны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едположение о структуре объекта или процесса; о форме связей между элементами изучаемого объекта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яснительны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едположение о причинно-следственных связях в изучаемом объекте, которое требуется экспериментально проверить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записывается с помощью следующих клише: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редположить …; если …, то; предполагается, что …; допустим …; возможно …; при условии что… и т.д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457200" y="307800"/>
            <a:ext cx="699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4492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ипотеза предполаг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что предложенный нами комплекс упражнений  позволит развивать скоростно-силовые качества баскетболистов 12-13 лет на более высоком уровне и повысит спортивные результаты занимаю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826920" y="2013120"/>
            <a:ext cx="6780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760"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бъективные особенности проявления стрессового раздражения будут зависеть от индивидуальных психологических черт личности спортсме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446040" y="3424320"/>
            <a:ext cx="7589880" cy="28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9680" indent="44784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 основана на том, что процесс подготовки юных дзюдоистов 7-8 лет становится более эффективным, ес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9680" indent="447840" algn="just">
              <a:lnSpc>
                <a:spcPts val="1599"/>
              </a:lnSpc>
              <a:buClr>
                <a:srgbClr val="000000"/>
              </a:buClr>
              <a:buSzPct val="77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тся анатомо-физиологические особенности этого возрас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9680" indent="447840" algn="just">
              <a:lnSpc>
                <a:spcPct val="150000"/>
              </a:lnSpc>
              <a:spcBef>
                <a:spcPts val="814"/>
              </a:spcBef>
              <a:buClr>
                <a:srgbClr val="000000"/>
              </a:buClr>
              <a:buSzPct val="77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ются сенситивные периоды развития физических качеств у дзюдоис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9680" indent="447840" algn="just">
              <a:lnSpc>
                <a:spcPct val="150000"/>
              </a:lnSpc>
              <a:buClr>
                <a:srgbClr val="000000"/>
              </a:buClr>
              <a:buSzPct val="77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ются новые движения с помощью специальных игровы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ормулирование гипотезы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4284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потеза возникает из первичных знаний и представлений о предмет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актически, гипотеза – это авторское видение проблемы с вариантом ее развития или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а правила выдвижения гипоте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должна быть н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на проверяться при помощ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етода и сред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2b44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450"/>
                </a:solidFill>
                <a:latin typeface="Calibri"/>
              </a:rPr>
              <a:t>Гипотеза формулируется развернутым однозначным суждением, но всегда как предпо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Задание 6. Сформулируйте гипотезу вашей курсовой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ение методов исследован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етод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способ достижения цели исслед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ыбора метода зависит возможность реализации исследования – его проведения и получения определенного результата. Традиционно методы делятся на два класса: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учение и сбор информаци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. методы её обработ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методы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зучение литературы и других источников информ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от метод исследования представляет собой сбор информации по теме исследования (проекта) из книг, журналов, газет, дисков и сети Интернет. Прежде чем приступать к сбору информации, необходимо выделить основные понятия, важные для исследования, и найди их опреде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ывайте, что информация может иметь разную степень достоверности, особенно в сети Интернет. В тексте исследовательской работы ставьте ссылки на источники информ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6DD7-47BF-4037-B41F-783F53D3DB5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024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Характеристики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роектирования 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773360"/>
          <a:ext cx="8893080" cy="4694040"/>
        </p:xfrm>
        <a:graphic>
          <a:graphicData uri="http://schemas.openxmlformats.org/drawingml/2006/table">
            <a:tbl>
              <a:tblPr/>
              <a:tblGrid>
                <a:gridCol w="1935000"/>
                <a:gridCol w="2500560"/>
                <a:gridCol w="4457520"/>
              </a:tblGrid>
              <a:tr h="33480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ание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крите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а, алгорит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мет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блюд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т метод исследования представляет собой целенаправленное восприятие какого-либо явления, в процессе которого исследователь получает информацию. Прежде чем приступать к наблюдению, необходимо составить пла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ветьте на вопросы: когда, где, сколько по времени и за чем именно будете наблюдать. Результаты наблюдений записывайте. Записи можно делать в форме текста или таблиц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новные мет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480" y="928800"/>
            <a:ext cx="8643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ществует 3 основные вида опроса: 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беседа, интервью, анкетирова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еда проводится по заранее намеченному плану с выделением вопросов, требующих выяснения. Она ведется в свободной форме без записи ответов собеседни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проведении интервью исследователь придерживается заранее намеченных вопросов, задаваемых в определенной последовательности. Во время интервью ответы записы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кетирование представляет собой массовый сбор материала с помощью анкеты. Те, кому адресованы анкеты, дают ответы на вопросы письменно. Анкеты могут быть на бумажном носителе или онлайн. Готовясь к опросу, четко сформулируйте вопросы, на которые хотите получить ответы, и определите, кому будете их задавать. Результаты опроса могут быть представлены текстом или в форме диаграмм, показывающих, сколько процентов опрошенных выбрали тот или иной вариант отв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-35712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методы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680" y="142848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т метод исследования заключается в проведении серии опытов. Опыт включает в себя создание определенных условий, наблюдение за происходящим и фиксацию результатов. И условия, и ход эксперимента, и полученные результаты должны быть подробно описаны в исследовательской работе (проекте). Результаты могут быть представлены в форме текста, графиков, диаграмм. Необходимо помнить, что учебные эксперименты над животными и людьми категорически запрещены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методы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нализ текс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анный метод исследования представляет собой процесс получения информации через интерпретацию текста. В тексте можно найти слова с тем или иным значением, слова разных частей речи, повторы, рифмы, средства художественной выразительности, ошибки, несоответствие содержания текста иллюстрациям и т.д. Все это влияет на наше восприятие и понимание текста. Можно сопоставить текст на иностранном языке и его перевод. Интересно, что текстом ученые считают сегодня не только словесно выраженную информацию, но и графические изображения, и даже музык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записи методов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мер </a:t>
            </a:r>
            <a:br>
              <a:rPr sz="3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из научно-методической литера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дагогические наблюд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дагогический эксперимен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Тестирование двигательных способнос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етоды математической статист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мер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 научно-методической литературы, документальных и архивных материало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ое наблюд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седа, интервью, анкетирова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ые испыта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ий эксперимент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09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еляют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еоретиче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эмпириче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ет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теоретическим –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нали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опоставл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истематиза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лассифика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оде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эмпирическим –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аблюд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равн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опис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измере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эксперимен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объяснить, как методы используются в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связь метода и проблемы образует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ле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Что изучает авт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Как он это дел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Средст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совокупность методических и технических инструментов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ние 7. Назовите основные методы исслед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Вывод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ложения или тезисы, выносимые на защит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– это главный результат работы, ее суть, главная цен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сжато и емко формулирует научные достижения, все но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вижение защищаемых положений – логичный финал исследования, они либо подтверждают, либо опровергают гипотез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воды напрямую связаны с поставленными задач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воды не являются кратким обобщением всего содержания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должны вытекать из научного текста, строиться на его основе и закрывать аспект 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форме выводы – несколько самостоятельных суждений, смысл которых ясен вне кон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должны быть однозначными, безупречными терминологически, логичными и максимально содержательны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листика выводов должна быть академичной, каждый должен понимать, о чем речь, и что доказывает ав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понимание затруднено, следует улучшить логическое строение мыслей и достичь максимальной четкости формулиров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ские затруднения при формулировке выводов – серьезная пробл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пущены методологические оши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екорректно названа 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еверно выбраны объект и предм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еточно поставлены 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Зачем автор выполнял работу, если не знает, что хочет сказа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Без выводов нет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выводов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5840" y="1285560"/>
            <a:ext cx="8400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441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рвых лет жизни ребенка необходимо начинать воспитание с развития хореографического творчества и чувства музыки в нем, что в свою очередь способствует всестороннему развитию ребенка, его ритмических движений и более успешной работе мозга, а сам процесс занятий танцевальной деятельности приносит детям истинную радость и способность к самовыражению в творчеств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441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ские танцы – это изучение основных средств выразительности (движения и позы, пластика и мимика, ритм), которые связаны с эмоциональными впечатлениями маленького человека от окружающего ми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441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анцевальные движения  для детей способствуют формированию  координации движений, правильной осанки, укреплению мышц спины и улучшению подвижности суставов. Танцевальные движения закладывают надёжный фундамент для дальнейшего физического совершенствования ребён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44136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етские танцы - это изучение основных средств выразительности (движения и позы, пластика и мимика, ритм), которые связаны с эмоциональными впечатлениями маленького человека от окружающего мира. Детский танец начинается с ритмики, где изучение танца начинается с простых движений, зачастую, занятия больше похожи на игру, но в этой игре ребёнок научится тем вещам, которые очень пригодятся ему в жизни.  Движения под музыку можно рассматривать как важнейшее средство развития телесного опыта ребенка и, следовательно, развития его личности в целом, в этом и поможет детская ритми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44136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44136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49D8-4E52-4EEA-942A-F529A8138A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024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Характеристики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проектирования 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773360"/>
          <a:ext cx="8893080" cy="4694040"/>
        </p:xfrm>
        <a:graphic>
          <a:graphicData uri="http://schemas.openxmlformats.org/drawingml/2006/table">
            <a:tbl>
              <a:tblPr/>
              <a:tblGrid>
                <a:gridCol w="1935000"/>
                <a:gridCol w="2500560"/>
                <a:gridCol w="44575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метр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ание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целено в будущее, имеет четкие временные рам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меет жестких временных рам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актический результа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крите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 реализуе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й исти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рганизационную фор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 идеальный объект -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а, алгорит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ысел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изация замысла, рефлексия реализации, переосмысление замысл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вопроса, выдвижение гипотезы проверка гипотезы на материале (создание источниковой базы, конструирование и проведение эксперимента и т. д.), моделирование объекта, сопоставление своего способа работы с культурным образц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выводов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85840" y="1285560"/>
            <a:ext cx="7215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нализе данных контрольного тестирования обеих групп и результатов в начале и конце тестирования данные позволяют убедиться, что были разработаны эффективные комплексы упражнений, которые показали достоверный прирост по всем показателям тестов экспериментальной груп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полученных результатов можно сделать вывод, что в экспериментальной группе внедренный комплекс упражнений способствовал динамике показателей уровня развития силовых способностей у хоккеистов 15 – 16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ы выводов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85840" y="1285560"/>
            <a:ext cx="7215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ий день, несмотря на научное обоснование, упражнения с отягощениями для развития скоростно-силовых способностей у юношей 14-15 лет занимающихся велоспортом, практически в тренировочном процессе не использу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зрастной период 14-15 лет является наиболее благоприятным для скоростно-силовых способностей при помощи упражнений с отягоще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ходе анализа проведенного исследования, мы приходим к выводу, что включение в тренировочный процесс упражнений с отягощениями оказывает эффективное влияние на развитие скоростно-силовых способностей велосипедистов 14-15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ние 8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формулируйте три основных предполагаемых вывода ваш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но-практическая значимость исследования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2855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езность работы для научного и педагогического сообщ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заключаться в рекомендациях (методических указаниях) для исследователей или практиков, материал и выводы могут использоваться в экономике (производстве), или при создании учебных дисциплин, монографий, учебных пособий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исследование можно переработать в научную книгу или положить в основу более сложн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Задание 9. Сформулируйте значимость темы ваше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тавление плана исследовательск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Названия глав тесно связаны с задачами работы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ования к формулировкам названий схожи с требованиями к формулировке темы: они должны быть лаконичны, логически взаимосвязаны друг с другом, а объем рассматриваемых в главах вопросов должен быть по возможности равнозначным. В объемных главах могут быть подгла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разец содержания исследовательской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14200" y="1143000"/>
          <a:ext cx="7239240" cy="5572080"/>
        </p:xfrm>
        <a:graphic>
          <a:graphicData uri="http://schemas.openxmlformats.org/drawingml/2006/table">
            <a:tbl>
              <a:tblPr/>
              <a:tblGrid>
                <a:gridCol w="6713640"/>
                <a:gridCol w="525600"/>
              </a:tblGrid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…………………………………………………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428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а 1. Особенности использования подвижных игр в дзюдо для развития двигательных навыков……………………………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 Характеристика дзюдо…………………………………………………….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 Особенности подготовки детей 7 – 8 лет…………………………………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428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 Использование подвижных игр для развития двигательных способностей в дзюдо………………………………………………………….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37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а 2. Организация и методы исследований……………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. Организация исследования……………………………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520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 Методы исследования…………………………………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а 3. Результаты исследования и их анализ………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935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. Экспериментальная методика развития двигательных способностей дзюдоистов 7 – 8лет на основе применения специализированных игровых комплексов………………………………………………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23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 Анализ эффективности экспериментальной методики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лючение……………………………………………………………………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ктические рекомендации………………………………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232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сок используемой литературы…………………………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91960">
                <a:tc>
                  <a:txBody>
                    <a:bodyPr lIns="56520" rIns="565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ложение .………………………………………………………………….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азнороден и подразделяется на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теоретические и практические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еоретические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методы применяются при изучении письменных источников и литературы по теме (анализ, синтез, моделирование и др.).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актические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(эмпирические) методы исследования связаны с действиями исследователя, направленными на проведение практики (наблюдение, интервью, беседа, видеосъемка и др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работка информ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делятся н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ичествен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тематические, статистические и др.)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честве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держательны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зор источников информ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механическое переписыв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анализ сведений, имеющихся в литературе, интерне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использование принципа сравним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показатель, что знакомы с нескольким источника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зор источников информ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Если фраза цитируется дословно…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берется в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«»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</a:t>
            </a:r>
            <a:r>
              <a:rPr b="1" lang="ru-RU" sz="2400" spc="-1" strike="noStrike">
                <a:solidFill>
                  <a:srgbClr val="cc0000"/>
                </a:solidFill>
                <a:latin typeface="Calibri"/>
              </a:rPr>
              <a:t>«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елается ссылка на первоисточник и указывается страниц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сылки на использованную литературу в тексте КР оформляются в виде [8], где цифра – номер данного источника в списке использованной литературы. При использовании цитат ссылки на использованную литературу в тексте ВКР оформляются в виде [8,159], где первая цифра – номер данного источника в списке использованной литературы, вторая – номер страницы в этом источн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оформлению курсовой работы</a:t>
            </a: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я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ерхнее– 20 мм, правое– 15 мм, левое 20мм и нижнее –20м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риф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NewRoma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размер шрифта (кегль) – 14, через 1,5 интервала. Цвет шрифта черный. Содержание каждой строки не более 60 – 65 знаков, включая интервалы между слов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бзац: 1,25 см; выравнивание текста по ширине, без перено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ицы курсовой работы следует нумеровать арабскими цифрами, соблюдая сквозную нумерацию по всему тексту работы. Номер страницы проставляют в центре нижней части листа без точки. Титульный лист включают в общую нумерацию страниц работы. Номер страницы на титульном листе не проставляют. Номера страниц указывают, начиная с цифры 2 на втором ли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оловки структурных элементов работы печатают прописными (заглавными) буквами (СОДЕРЖАНИЕ, ВВЕДЕНИЕ, ГЛАВЫ, ЗАКЛЮЧЕНИЕ, СПИСОК ИСПОЛЬЗОВАННОЙ ЛИТЕРАТУРЫ, ПРИЛОЖЕНИЕ), без точки в конце, без подчеркивания, форматирование по центру, отделяя их от основного текста сверху двумя и снизу одним интервал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ый структурный элемент следует начинать с новой страниц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C4CB-02B1-46C0-90CE-5BC53F66D9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заимосвязь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оектирования и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2666520"/>
            <a:ext cx="647676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Исследование            сред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486400" y="17524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новых объектов и я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1752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 р о е к т и р о в а н и 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914400" y="4952880"/>
            <a:ext cx="7696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504d"/>
                </a:solidFill>
                <a:latin typeface="Arial"/>
              </a:rPr>
              <a:t>Проектирование             сре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153040" y="37162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новых знаний о существующих объектах и яв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219320" y="3962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 с л е д о в а н и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4000680" y="300024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343400" y="5257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оформлению курсовой работы</a:t>
            </a: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ы должны иметь порядковую нумерацию и обозначаться арабскими цифрами и точкой, например, 1.,2., и т.д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 главы  проставляются номера  подглав, которые должны состоять из номера главы и порядкового номера самого подраздела, например, 1.1., 1.2.,и т.д.  Номер пункта включает в себя номер главы, номер подраздела порядковый номер пункта, например, 1.2.1.,1.2.2. и т.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списка литературы с текстом осуществляется с помощью ссылок, для нумерации которых используются арабские цифры. Например, если автор ссылается на работу, представленную в списке использованной литературы под номером семь, то эта цифра должна ставится в тексте работы, она заключается в квадратные скобки: «В.И. Николаев[7] утверждает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оформлению курсовой работы</a:t>
            </a: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афический материал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статистическому анализу и обобщению результатов являются иллюстрации (рисунки) в виде диаграмм, графиков, схем, фотографий. Рисунки имеют отдельную нумерацию. Подпись рисунка делается внизу в следующем порядке: сокращенное слово (Рис.), порядковый номер (Рис.2.) Располагать иллюстрации в работе необходимо после ссылки в тексте, в которой они упоминаются вперв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2. Структура сознания, предложенная П.П. Петровы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Диаграмма 4" descr=""/>
          <p:cNvPicPr/>
          <p:nvPr/>
        </p:nvPicPr>
        <p:blipFill>
          <a:blip r:embed="rId2"/>
          <a:stretch/>
        </p:blipFill>
        <p:spPr>
          <a:xfrm>
            <a:off x="2286000" y="4071960"/>
            <a:ext cx="4473720" cy="201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оформлению курсовой работы</a:t>
            </a: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ормляется в соответствии с требованиями ГОСТ 7.1.84 и обычно содержит не менее 20 источников, из которых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50%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сточников литературы должны быть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не старше 5 л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на момент подготовки К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ложения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ует оформлять как продолжение курсовой работы на ее последующих страницах или отдельно, располагая их в порядке появления на них ссылок в тексте работы. Каждое приложение должно начинаться с новой страницы и иметь содержательный заголовок, напечатанный прописными буквами. В правом верхнем углу над заголовком прописными буквами пишется слово «Приложение». Если приложений в работе несколько, то их следует нумеровать арабскими цифрами порядковой нумерацией без точки на конце -  «Приложение 1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ГОТОВКА И ЗАЩИТА КУРСОВЫХ РАБОТ 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щита курсовой работы может происходить на практическом занятии по дисциплине, научно-практической конференции или конкурсе курсовых рабо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ющийся к защите курсовой работы готовит текст доклада, рассчитанный на 7- 10 минут, в котор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сновывает актуальность темы, объект и предмет исслед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и задачи, рабочую гипотез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емые мето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основных экспериментальных данны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выв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временно с подготовкой доклада необходимо подготовить презентацию курсовой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ктура доклада</a:t>
            </a:r>
            <a:br>
              <a:rPr sz="2800"/>
            </a:br>
            <a:br>
              <a:rPr sz="2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 уважаемые Председатель и члены комисс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3с1 курса, отделение 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ортивн ое з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вашему вниманию курсовую работу по те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ординационных способностей у детей 11 -  1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легкой атлет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ктуальность темы исследования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понятие «координационные способности» выделяется из общего и менее определенного понятия «ловкость», широко распространенного в обиходе и в литературе по физическому воспитанию. Представим себе воспитанника, который успешно справляется с разучиванием новой комбинации движений, но оказывается не в состоянии качественно продемонстрировать ее, как только внезапно меняется условие выполнения. Поэтому средний школьный возраст является «фундаментом» для развития координационных способностей, а также приобретением знаний, умений и навыков при выполнении упражнений на координацию. Этот возрастной период называется «золотым возрастом», имея в виду темп развития координационны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работать комплекс специальных упражнений на основе барьерного бега и оценить его влияние на развитие координационных способностей у детей 11-13 лет на этапе нач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ить научно-методическую литературу по тем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работать комплекс специальных упражнений с элементами барьерного бега, направленный на развитие координационных способностей у детей 11 – 13 лет на этапе нач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вить влияние упражнений барьерного бега на координационные способности у детей 11 – 13 лет на этапе нач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ктура доклада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Прямоугольник 4"/>
          <p:cNvSpPr/>
          <p:nvPr/>
        </p:nvSpPr>
        <p:spPr>
          <a:xfrm>
            <a:off x="571680" y="785880"/>
            <a:ext cx="721512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 уважаемые Председатель и члены комиссии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3с1 курса, отделение 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портивное звание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вашему вниманию курсовую работу по теме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ординационных способностей у детей 11 -  13 л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анятиях легкой атлетико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300"/>
            </a:b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2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Актуальность темы исследования -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понятие «координационные способности» выделяется из общего и менее определенного понятия «ловкость», широко распространенного в обиходе и в литературе по физическому воспитанию. Представим себе воспитанника, который успешно справляется с разучиванием новой комбинации движений, но оказывается не в состоянии качественно продемонстрировать ее, как только внезапно меняется условие выполнения. Поэтому средний школьный возраст является «фундаментом» для развития координационных способностей, а также приобретением знаний, умений и навыков при выполнении упражнений на координацию. Этот возрастной период называется «золотым возрастом», имея в виду темп развития координационных способност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зработать комплекс специальных упражнений на основе барьерного бега и оценить его влияние на развитие координационных способностей у детей 11-13 лет на этапе начальной подготов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ить научно-методическую литературу по теме исследования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работать комплекс специальных упражнений с элементами барьерного бега, направленный на развитие координационных способностей у детей 11 – 13 лет на этапе начальной подготов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вить влияние упражнений барьерного бега на координационные способности у детей 11 – 13 лет на этапе начальной подготов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ктура доклада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785880" y="790920"/>
            <a:ext cx="6643800" cy="56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4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 исследования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цесс развития координационных способностей у детей 11-13 лет на этапе начальной подготов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мплекс специальных упражнений с элементами барьерного бега на развитие координационных способностей у детей 11-13 лет на этапе начальной подготов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олагает, что применение комплекса упражнений, связанных с выполнением предполагаем барьерного бега, положительно влияют на развитие координационных способностей у детей 11-13 лет на этапе начальной подготов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5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поставленных в работе задач были использованы следующие методы исследовани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из научно-методической литератур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дагогическое наблюдени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дагогический эксперимент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атематико-статистические мет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6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начале и по окончанию педагогического исследования проходило педагогическое тестирование в испытуемой группе. Для оценки развития общих и специальных способностей были использованы следующие тесты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елночный бег, 3 х 10 м, сек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елночный бег по треугольнику (усложнённый вариант челночного бега), сек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ри кувырка вперед, сек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7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ниципальное бюджетное учреждение городского округа Самара Спортивная школа олимпийского резерва № 2 (тренировочный процесс проводился во дворце спорта легкой атлетики, ул.Физкультурная, д.101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проводился в период с января 2022 года по май 2022 го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следовании принимали участие две группы по 10 человек (5 девочек, 5 мальчиков) - экспериментальная и контрольная, с примерно одинаковой координационной подготовко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ктура доклада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785880" y="807480"/>
            <a:ext cx="66438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включал использование на тренировках (два раза в неделю), кроме элементов существующей типовой программы, упражнений с элементами барьерного бега в начале основной части тренировки. Разработанная нами методика барьерных упражнений заключалась в следующ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хождение барьеров правым или левым бо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хождение барьеров правым или левым боком, по звуковому сигналу смена направления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хождение барьеров лицом вперед правой или левой ног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использовались следующие виды упражнений как «Змейка», «Хлопок», «Квадра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я контрольные тестирования до начала эксперимента, мы выяснили, что: сравнение показателей в челночном беге 3 раза по 10 метров испытуемых экспериментальной и контрольной групп перед началом эксперимента показало, что различия между группами по данному показателю статистически незначимы. Среднегрупповые показатели экспериментальной группы в челночном беге 3х10 м улучшились по сравнению с январем с 9.2 с до 8.8 с (на 0.4 с), а в контрольной группе – с 9.18 с до 9.11 с (на 0.07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ение показателей в челночном беге по треугольнику показало, что различия между группами по данному показателю статистически незначимы. Среднегрупповые показатели экспериментальной группы в челночном беге по треугольнику улучшились по сравнению с январем с 21.03 с д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09 с (на 1.94 с), а в контрольной группе – с 21.08 с до 20.48 с (на0.6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уктура доклада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785880" y="536040"/>
            <a:ext cx="66438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показателей в контрольном тесте три кувырка вперёд показало, что различия между группами по данному показателю также статистически незначимы. Среднегрупповые показатели экспериментальной группы в тесте три кувырка вперёд также улучшились по сравнению с январём с 5.34 с до 4.33 с (на 1,01 с), а в контрольной группе – с 5.33 с до 4.9 с (на 0,43 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 данным нашего педагогического наблюдения выяснилось, что использование методики барьерных упражнений на тренировках вызвало существенный интерес у воспитанников. Повысилась посещаемость занятий благодаря именно этим нововведениям. Дети стали с удовольствием выполнять некоторые комплексы вольных, общеразвивающих упражнений, которые ранее они выполняли с неох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роведенного эксперимента, исследовав уровень развития координационных способностей после использования упражнений с элементами барьерного бега, в экспериментальной группе на конечном этапе наблюдается существенный прирост, по отношению к контрольной группе. Мы можем утверждать об эффективности использования нашей методики для развития координационных способностей у детей 11-13 лет, что в свою очередь подтвердило рабочую гипотезу нашего иссле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1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 Готов ответить на Ваши вопро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щие требования к презентац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500040" y="987120"/>
            <a:ext cx="6929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ичество слайдов от 5 до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вый слайд презентации должен содержать название проекта, ФИО обучающегося, груп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торой слайд должен содержать цели и задачи работы, предмет и объект исслед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етий и последующий слайды – важное, на что необходимо обратить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ледний слайд – Спасибо за внимание (без восклицательного зна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зентация должна быть содер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ть единый стиль оформления. На слайдах поля, не менее 1 см с каждой стороны. «Светлый текст на темном фоне» или «Темный текст на светлом фоне». Допускаемый размер шрифта  для информации – не менее 18 пт., рекомендуемый размер шрифта для заголовков - не менее 20 п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тапы исследовательской деятельност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0040" y="178560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Calibri"/>
              </a:rPr>
              <a:t>Подготовка к проведению учебного исследования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выбор, формулировка и обоснование темы исследов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определение объектной области, объекта, предмета исследования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определение цели и задач исследования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определение гипотез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) составление плана исследовательской работы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) определение методов исследо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ебования к оформлению презентаци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785880" y="93060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формление слай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1680" y="1785960"/>
          <a:ext cx="7286400" cy="4500720"/>
        </p:xfrm>
        <a:graphic>
          <a:graphicData uri="http://schemas.openxmlformats.org/drawingml/2006/table">
            <a:tbl>
              <a:tblPr/>
              <a:tblGrid>
                <a:gridCol w="812520"/>
                <a:gridCol w="6473880"/>
              </a:tblGrid>
              <a:tr h="13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Соблюдать единый стиль оформ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Избегать стилей, которые будут отвлекать от самой 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Вспомогательная информация (управляющие кнопки) не должны преобладать над основной информацией (текстом, иллюстрациям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фона предпочтительны холодные т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ц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На одном слайде рекомендуется использовать не более трех цветов: один для фона, один для заголовка, один для тек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Для фона и текста использовать контрастные цве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имационные эфф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Использовать возможности компьютерной анимации для представления информации на слай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Не стоит злоупотреблять различными анимационными эффектами, они не должны отвлекать внимание от содержания информации на слай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ебования к оформлению презентаций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785880" y="93060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ление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85880" y="1397160"/>
          <a:ext cx="7072200" cy="5246640"/>
        </p:xfrm>
        <a:graphic>
          <a:graphicData uri="http://schemas.openxmlformats.org/drawingml/2006/table">
            <a:tbl>
              <a:tblPr/>
              <a:tblGrid>
                <a:gridCol w="1162080"/>
                <a:gridCol w="5910120"/>
              </a:tblGrid>
              <a:tr h="68400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информаци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Использовать короткие слова и предло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Минимизировать количество предлогов, наречий, прилагатель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Заголовки должны привлекать внимание аудитор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1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информации на страниц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чтительно горизонтальное расположение информ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более важная информация должна располагаться в центре экра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на слайде располагается картинка, надпись должна располагаться под н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552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риф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Для заголовков – не менее 2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Для информации не менее 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Шрифты без засечек легче читать с большого расстоя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Нельзя смешивать разные типы шрифтов в одной 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Для выделения информации следует использовать жирный шрифт, курсив или подчеркив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Не злоупотреблять прописными буквами (они читаются хуже строчных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8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Не стоит заполнять один слайд слишком большим объемом информации: люди могут единовременно запомнить не более трех фактов, выводов, определений.·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97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слай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обеспечения разнообразия следует использовать разные виды слайд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текстом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фото- или видео- материалам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таблицам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иаграмма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D237-2F10-4F2E-82DE-560147B958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   учебно-исследовательск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394488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ведени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держательный анализ источников информ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етодика работ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зультаты и их обсужд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исок  источников информ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лож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643280" y="1785960"/>
            <a:ext cx="4114800" cy="4114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вед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оретическая ча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спериментальная ча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исок источников информ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SzPct val="76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tvoyrebenok.ru/images/presentation/school/b/017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56800" y="1571400"/>
            <a:ext cx="7572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тема должна быт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актуальной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(затрагивать наиболее дискуссионные аспекты рассматриваемой проблемы);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тема должна быт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интересной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студенту, она должна его увлечь;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тема должна быт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выполнима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решение её должно принести реальную пользу участникам исследования; 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тема должна быт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оригинальн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й, в ней должен быть элемент неожиданности, необычности;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094760" y="214200"/>
            <a:ext cx="70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комендации при выборе те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следователь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19:56:33Z</dcterms:created>
  <dc:creator>маришка</dc:creator>
  <dc:description/>
  <dc:language>en-US</dc:language>
  <cp:lastModifiedBy>1</cp:lastModifiedBy>
  <dcterms:modified xsi:type="dcterms:W3CDTF">2024-01-10T10:23:36Z</dcterms:modified>
  <cp:revision>52</cp:revision>
  <dc:subject/>
  <dc:title>Параметры страниц исследовательской работы</dc:title>
</cp:coreProperties>
</file>