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72DC-4193-4BB3-A1D3-113B623AC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FC38-3423-4A67-9E17-6ED3C2BFF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0BDF-4013-47BC-B585-FD8197A6F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34F-B099-4396-BECD-FF3F992E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08B-DF25-405F-BD89-C77AD6AC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F7E-B274-4F99-AC67-6CC82AC2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3A2-A677-4DBA-B527-48A7CDA9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920-6C87-44A6-A754-C07A46A6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431-93A4-43C4-BA8B-E68819D1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A87-00E6-4774-AFB6-32EA8262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0AC-15CC-4530-8123-F3A71623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409-559C-42CD-830F-4149F0B3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10B-370C-4BDB-8E75-A49785E0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B80-2EF5-4531-A537-B0938CD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F97-9919-44BC-944B-E5E8AA9F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B907-24A3-4315-9141-8A7D246DBD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2"/>
          <a:stretch/>
        </p:blipFill>
        <p:spPr>
          <a:xfrm>
            <a:off x="2425680" y="1073160"/>
            <a:ext cx="4572000" cy="706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ниципальное автономное дошкольное 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ода Калининграда центр развития ребёнка – детский сад № 5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Организ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дней здоровья в ДО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зентацию выполн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структор по Ф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инько Га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19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214200"/>
            <a:ext cx="620244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Таким образ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08000" y="1052280"/>
            <a:ext cx="705672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чески правильно организованная работа по физическому воспитанию призвана удовлетворить естественную потребность детей в движении и способствовать своевременному овладению ими двигательными навыками и умениями, формировать положительную самооценку к себе и деятельности товарищ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74680"/>
            <a:ext cx="57150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Результа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42720" y="1643040"/>
            <a:ext cx="671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ая работа с детьми дошкольного возраста создает условия для эмоционально - психологического благополучия и оказывает большое влияние на развитие ума, воспитание характера, воли, нравственности, создает определенный духовный настрой, пробуждает интерес к самовыражению, способствует не только лучшему усвоению знаний и закреплению навыков, но и благотворно влияет на детскую псих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План реализ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Непосредственно образовательная деятельность дошколь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 занятие «Путешествие в страну Витаминию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-исследовательская деятельность «Что я знаю о себ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близлежащую парковую зону «За здоровьем в лес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«Что такое здоровый образ жизни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-сеанс «Смешарики. Ежик и здоровье», «Мойдодыр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амостоятельная деятельность дошкольников и их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ллюстраций о ЗО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ословиц, поговорок, загадок, стихов и оформление творчески-познавательной картоте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и создание библиотечки о здоровь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мины рецепты» – создание книги о здоровой пищ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ставление разнообразных методов оценивания достижения различных ц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тихи о здоровье и ЗО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 «Жить здорово!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Вопрос на засыпку»  (с родителя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ая эстафета «Здоровые дети в здоровой семь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G:\117_0704\IMGP2670.JPG"/>
          <p:cNvPicPr/>
          <p:nvPr/>
        </p:nvPicPr>
        <p:blipFill>
          <a:blip r:embed="rId1"/>
          <a:stretch/>
        </p:blipFill>
        <p:spPr>
          <a:xfrm>
            <a:off x="2552760" y="1125360"/>
            <a:ext cx="3024000" cy="251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G:\117_0704\IMGP2658.JPG"/>
          <p:cNvPicPr/>
          <p:nvPr/>
        </p:nvPicPr>
        <p:blipFill>
          <a:blip r:embed="rId2"/>
          <a:stretch/>
        </p:blipFill>
        <p:spPr>
          <a:xfrm>
            <a:off x="5796000" y="3860640"/>
            <a:ext cx="3168720" cy="2664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гры с Айболи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3280" y="142560"/>
            <a:ext cx="584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Здоровые дет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 здоровой семь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G:\117_0704\IMG_4731.JPG"/>
          <p:cNvPicPr/>
          <p:nvPr/>
        </p:nvPicPr>
        <p:blipFill>
          <a:blip r:embed="rId2"/>
          <a:stretch/>
        </p:blipFill>
        <p:spPr>
          <a:xfrm>
            <a:off x="1079640" y="1197000"/>
            <a:ext cx="6984720" cy="5183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35287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Спортивные игр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G:\117_0704\IMGP2671.JPG"/>
          <p:cNvPicPr/>
          <p:nvPr/>
        </p:nvPicPr>
        <p:blipFill>
          <a:blip r:embed="rId1"/>
          <a:stretch/>
        </p:blipFill>
        <p:spPr>
          <a:xfrm>
            <a:off x="2806560" y="1484280"/>
            <a:ext cx="3168720" cy="201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G:\117_0704\IMGP2693.JPG"/>
          <p:cNvPicPr/>
          <p:nvPr/>
        </p:nvPicPr>
        <p:blipFill>
          <a:blip r:embed="rId2"/>
          <a:stretch/>
        </p:blipFill>
        <p:spPr>
          <a:xfrm>
            <a:off x="4390920" y="3838680"/>
            <a:ext cx="328464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Контроль результатов работы и качества работы дошкольников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Выставка рисунков «Детский взгля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Изготовление книги «О здоровой пищ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буклет с рецептами ма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C:\Users\Евгений\Documents\orig_d54daaf6ff88c0d1e98e14b88ff04c80.jpg"/>
          <p:cNvPicPr/>
          <p:nvPr/>
        </p:nvPicPr>
        <p:blipFill>
          <a:blip r:embed="rId2"/>
          <a:stretch/>
        </p:blipFill>
        <p:spPr>
          <a:xfrm>
            <a:off x="5867280" y="1773360"/>
            <a:ext cx="2768760" cy="3854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60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Быть в движении — значит укреплять здоровь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В дошкольном детстве  формируются здоровье, общая выносливость, работоспособность организма, и другие качества, необходимые для всестороннего гармоничного развития лич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дной из форм физкультурно-оздоровительной работы являются дни здоровья и каникул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Дни здоровья и каникулы содействуют оздоровлению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В эти дни отменяются все учебные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Режим дня насыщается активной двигательной деятельностью, самостоятельными играми, музыкальными развлечения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В холодное время года пребывание на открытом воздухе по возможности удлиня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В теплое - вся жизнь детей выносится на открытый воздух</a:t>
            </a: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360" y="620640"/>
            <a:ext cx="61927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2971"/>
                </a:solidFill>
                <a:latin typeface="Times New Roman"/>
                <a:ea typeface="Times New Roman"/>
              </a:rPr>
              <a:t>День здоровья в детском саду – это не просто часть воспитательной работы,  это еще и праздник для малышей,  их родителей и сотрудни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0" y="3500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7 апреля - официальный праздник, посвященный дню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Цель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интереса и положительного отношения к здоровому образу жизни, укрепление физического и психического здоровья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71840" y="1700280"/>
            <a:ext cx="6248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знания детей о здоровье и здоровом образе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представления детей о гигиенической культу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отивацию к сбережению своего здоровья и здоровья  окружающих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двигательный опыт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ть родителей в сотрудничестве с ДОУ по сохранению, укреплению здоровья дет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лан мероприят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тренний прием  с пожеланиями здоровья Встреча со сказочными персонажами, клоунам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курс для родителей с загад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олоса препятствий» вместе с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селая разминка с музы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1-я половина дн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28920" y="2060280"/>
            <a:ext cx="621504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казочно - здоровое меню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тешествие по «Маршруту Здоров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стреча с Айболитом, беседы о здоровье с Феями, загадки и конкурс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еселые старт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оревнования и эстафеты с  клоуна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льт-сеанс: «Смешарики. Ежик и здоров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а здоровьем в лес» (прогулка в близлежащей парковой зо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Aharoni"/>
              </a:rPr>
              <a:t>2-я половина д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84000" y="1600200"/>
            <a:ext cx="6202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здничные мероприятия в группах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южетно-ролевые, подвижные игры, проблемно-игровые и практические ситуации, направленные на формирование представлений о ЗОЖ, сохранение и укрепление физического, психического, соматического здоровь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Вече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357360" y="1600200"/>
            <a:ext cx="546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одители делятся рецептами, которые оформляются в специальной книге «О здоровой и полезной пищ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сихологическая гостиная для родителей воспитанников подготовительных групп. (Беседы о подготовке к школ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Здоровые дети в здоровой семье» спортивный праздник с привлечением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Салют здоровья» - салют из воздушных шаров на территории детского с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6:59:35Z</dcterms:created>
  <dc:creator>Марина</dc:creator>
  <dc:description/>
  <dc:language>en-US</dc:language>
  <cp:lastModifiedBy>Г С</cp:lastModifiedBy>
  <dcterms:modified xsi:type="dcterms:W3CDTF">2024-01-23T14:30:19Z</dcterms:modified>
  <cp:revision>65</cp:revision>
  <dc:subject/>
  <dc:title>Слайд 1</dc:title>
</cp:coreProperties>
</file>