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561C-BA5F-44E0-8621-6215485C2B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1E18-C186-4084-AFE3-9C8AD0D2AD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B4C8-0277-4B99-B757-79E4CAB7E0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39E7-995E-4B9A-86E9-EB46CF628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479A-60E6-4794-9E69-0533A92C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1CE4-2657-4812-8E38-028CC6CB2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5696-A2AB-42A8-9890-1809FC55A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2778-C3A2-4D1E-85CE-03295ADD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6EFB-1DB7-46C4-B378-C2216F8B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591E-F478-4F1E-A624-E64C62FE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36FC-43D1-4564-8266-432ED6B8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C70D-63F6-45AD-81FF-1C12EFD6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6D15-0787-467B-AF9A-46DFF5BA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1B7C-9EBE-4CCB-ACF6-1E36D8D2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6652-0E3B-46A4-934C-3C0210A0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6469-2792-4DB1-B13A-0B17AC232C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1" descr=""/>
          <p:cNvPicPr/>
          <p:nvPr/>
        </p:nvPicPr>
        <p:blipFill>
          <a:blip r:embed="rId2"/>
          <a:stretch/>
        </p:blipFill>
        <p:spPr>
          <a:xfrm>
            <a:off x="2425680" y="1073160"/>
            <a:ext cx="4572000" cy="7063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12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униципальное автономное дошкольное образовательное учреждение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орода Калининграда центр развития ребёнка – детский сад № 53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Организац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дней здоровья в ДОУ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зентацию выполнил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структор по Ф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ринько Гал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019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84000" y="214200"/>
            <a:ext cx="6202440" cy="47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Таким образо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908000" y="1052280"/>
            <a:ext cx="7056720" cy="56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тодически правильно организованная работа по физическому воспитанию призвана удовлетворить естественную потребность детей в движении и способствовать своевременному овладению ими двигательными навыками и умениями, формировать положительную самооценку к себе и деятельности товарищ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5640" y="274680"/>
            <a:ext cx="57150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Результаты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142720" y="1643040"/>
            <a:ext cx="6715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акая работа с детьми дошкольного возраста создает условия для эмоционально - психологического благополучия и оказывает большое влияние на развитие ума, воспитание характера, воли, нравственности, создает определенный духовный настрой, пробуждает интерес к самовыражению, способствует не только лучшему усвоению знаний и закреплению навыков, но и благотворно влияет на детскую психи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План реализаци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35712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Непосредственно образовательная деятельность дошкольни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- занятие «Путешествие в страну Витаминию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о-исследовательская деятельность «Что я знаю о себе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курсия в близлежащую парковую зону «За здоровьем в лес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а «Что такое здоровый образ жизни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льт-сеанс «Смешарики. Ежик и здоровье», «Мойдодыр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художественной литератур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игр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амостоятельная деятельность дошкольников и их родител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иллюстраций о ЗОЖ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пословиц, поговорок, загадок, стихов и оформление творчески-познавательной картоте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художественной литературы и создание библиотечки о здоровь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мины рецепты» – создание книги о здоровой пищ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едставление разнообразных методов оценивания достижения различных цел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учить стихи о здоровье и ЗОЖ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торина «Жить здорово!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Вопрос на засыпку»  (с родителями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ивная эстафета «Здоровые дети в здоровой семье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G:\117_0704\IMGP2670.JPG"/>
          <p:cNvPicPr/>
          <p:nvPr/>
        </p:nvPicPr>
        <p:blipFill>
          <a:blip r:embed="rId1"/>
          <a:stretch/>
        </p:blipFill>
        <p:spPr>
          <a:xfrm>
            <a:off x="2552760" y="1125360"/>
            <a:ext cx="3024000" cy="2519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G:\117_0704\IMGP2658.JPG"/>
          <p:cNvPicPr/>
          <p:nvPr/>
        </p:nvPicPr>
        <p:blipFill>
          <a:blip r:embed="rId2"/>
          <a:stretch/>
        </p:blipFill>
        <p:spPr>
          <a:xfrm>
            <a:off x="5796000" y="3860640"/>
            <a:ext cx="3168720" cy="2664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Игры с Айболит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43280" y="142560"/>
            <a:ext cx="58435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Здоровые дети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в здоровой семь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99972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5" descr="G:\117_0704\IMG_4731.JPG"/>
          <p:cNvPicPr/>
          <p:nvPr/>
        </p:nvPicPr>
        <p:blipFill>
          <a:blip r:embed="rId2"/>
          <a:stretch/>
        </p:blipFill>
        <p:spPr>
          <a:xfrm>
            <a:off x="1079640" y="1197000"/>
            <a:ext cx="6984720" cy="5183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59280" y="-360"/>
            <a:ext cx="352872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Calibri"/>
              </a:rPr>
              <a:t>Спортивные игры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G:\117_0704\IMGP2671.JPG"/>
          <p:cNvPicPr/>
          <p:nvPr/>
        </p:nvPicPr>
        <p:blipFill>
          <a:blip r:embed="rId1"/>
          <a:stretch/>
        </p:blipFill>
        <p:spPr>
          <a:xfrm>
            <a:off x="2806560" y="1484280"/>
            <a:ext cx="3168720" cy="2016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G:\117_0704\IMGP2693.JPG"/>
          <p:cNvPicPr/>
          <p:nvPr/>
        </p:nvPicPr>
        <p:blipFill>
          <a:blip r:embed="rId2"/>
          <a:stretch/>
        </p:blipFill>
        <p:spPr>
          <a:xfrm>
            <a:off x="4390920" y="3838680"/>
            <a:ext cx="328464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Контроль результатов работы и качества работы дошкольников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Calibri"/>
              </a:rPr>
              <a:t>Выставка рисунков «Детский взгляд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Calibri"/>
              </a:rPr>
              <a:t>Изготовление книги «О здоровой пище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буклет с рецептами мам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C:\Users\Евгений\Documents\orig_d54daaf6ff88c0d1e98e14b88ff04c80.jpg"/>
          <p:cNvPicPr/>
          <p:nvPr/>
        </p:nvPicPr>
        <p:blipFill>
          <a:blip r:embed="rId2"/>
          <a:stretch/>
        </p:blipFill>
        <p:spPr>
          <a:xfrm>
            <a:off x="5867280" y="1773360"/>
            <a:ext cx="2768760" cy="3854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603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00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alibri"/>
              </a:rPr>
              <a:t>Быть в движении — значит укреплять здоровь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0800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alibri"/>
              </a:rPr>
              <a:t>В дошкольном детстве  формируются здоровье, общая выносливость, работоспособность организма, и другие качества, необходимые для всестороннего гармоничного развития личност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Одной из форм физкультурно-оздоровительной работы являются дни здоровья и каникул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Дни здоровья и каникулы содействуют оздоровлению дет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В эти дни отменяются все учебные занят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Режим дня насыщается активной двигательной деятельностью, самостоятельными играми, музыкальными развлечения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В холодное время года пребывание на открытом воздухе по возможности удлиняетс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В теплое - вся жизнь детей выносится на открытый воздух</a:t>
            </a:r>
            <a:r>
              <a:rPr b="1" i="1" lang="ru-RU" sz="2800" spc="-1" strike="noStrike">
                <a:solidFill>
                  <a:srgbClr val="00b05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00360" y="620640"/>
            <a:ext cx="619272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2971"/>
                </a:solidFill>
                <a:latin typeface="Times New Roman"/>
                <a:ea typeface="Times New Roman"/>
              </a:rPr>
              <a:t>День здоровья в детском саду – это не просто часть воспитательной работы,  это еще и праздник для малышей,  их родителей и сотрудник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286000" y="3500280"/>
            <a:ext cx="64008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7 апреля - официальный праздник, посвященный дню здоровь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23640" y="260280"/>
            <a:ext cx="676908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mic Sans MS"/>
              </a:rPr>
              <a:t>Цель: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ирование интереса и положительного отношения к здоровому образу жизни, укрепление физического и психического здоровья воспитан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71840" y="1700280"/>
            <a:ext cx="6248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гащать знания детей о здоровье и здоровом образе жиз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гащать представления детей о гигиенической культур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мотивацию к сбережению своего здоровья и здоровья  окружающих люд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гащать двигательный опыт де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интересовать родителей в сотрудничестве с ДОУ по сохранению, укреплению здоровья дете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План мероприятий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тренний прием  с пожеланиями здоровья Встреча со сказочными персонажами, клоунами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нкурс для родителей с загадк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Полоса препятствий» вместе с родителя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еселая разминка с музык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28560" y="571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1-я половина дн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428920" y="2060280"/>
            <a:ext cx="6215040" cy="45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Сказочно - здоровое меню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утешествие по «Маршруту Здоровь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Встреча с Айболитом, беседы о здоровье с Феями, загадки и конкурсы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Веселые старт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соревнования и эстафеты с  клоунам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ульт-сеанс: «Смешарики. Ежик и здоровь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За здоровьем в лес» (прогулка в близлежащей парковой зон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  <a:ea typeface="Aharoni"/>
              </a:rPr>
              <a:t>2-я половина дн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484000" y="1600200"/>
            <a:ext cx="6202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аздничные мероприятия в группах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южетно-ролевые, подвижные игры, проблемно-игровые и практические ситуации, направленные на формирование представлений о ЗОЖ, сохранение и укрепление физического, психического, соматического здоровь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Вечер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357360" y="1600200"/>
            <a:ext cx="5462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одители делятся рецептами, которые оформляются в специальной книге «О здоровой и полезной пище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сихологическая гостиная для родителей воспитанников подготовительных групп. (Беседы о подготовке к школ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«Здоровые дети в здоровой семье» спортивный праздник с привлечением родител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«Салют здоровья» - салют из воздушных шаров на территории детского са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7T16:59:35Z</dcterms:created>
  <dc:creator>Марина</dc:creator>
  <dc:description/>
  <dc:language>en-US</dc:language>
  <cp:lastModifiedBy>Г С</cp:lastModifiedBy>
  <dcterms:modified xsi:type="dcterms:W3CDTF">2024-01-23T14:30:19Z</dcterms:modified>
  <cp:revision>65</cp:revision>
  <dc:subject/>
  <dc:title>Слайд 1</dc:title>
</cp:coreProperties>
</file>