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E82-DE82-4935-825E-EEF09641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B16-011E-46D8-A0C6-848BC36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246-3D44-46C8-AC06-B26AB8E2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A02-7BF6-4560-8951-7D6E2CF6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BFB-92A7-41C1-8D7F-0E0E806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C58-DB67-403D-B262-5460BB5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504-C560-40DD-AD8F-6D9ECFC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2BE-E90A-4792-AFFA-85DFD64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3BE-E970-4ECD-A92B-CE43F5B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642-1CDB-4EE8-872C-081F6B6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C06-A553-4FAF-88F8-1C617C0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032-51FA-41F4-AD6B-9371BC7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70B3-BFB2-465B-85A1-C8DA0B38E5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79640" y="2276640"/>
            <a:ext cx="60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оинские зв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С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596360" y="630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ит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003640" y="479736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435640" y="479736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рм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86728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яд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148360" y="328464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рш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едер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56000" y="2708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Повторим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58000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фрейт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ад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0:18:09Z</dcterms:created>
  <dc:creator>Дима и Игорь</dc:creator>
  <dc:description/>
  <dc:language>en-US</dc:language>
  <cp:lastModifiedBy>Технология</cp:lastModifiedBy>
  <dcterms:modified xsi:type="dcterms:W3CDTF">2024-01-22T12:27:25Z</dcterms:modified>
  <cp:revision>5</cp:revision>
  <dc:subject/>
  <dc:title>Слайд 1</dc:title>
</cp:coreProperties>
</file>