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4.png" ContentType="image/pn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E4874-724C-4BD7-8F2A-03C726AEF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B49E-DAA2-4846-AF08-C1E17FFB06E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3A836-3A26-4494-9ABB-DC8B3E99F1F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F08AC-D7FE-4E28-8F87-86B36357143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453F9-30CB-422A-9266-F2010D5B414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ED15A-C3A4-439D-B91F-87ED29E172C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96E47-60CF-4F87-BD96-5B870F4E137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43652-A74B-4DBF-AADF-CCE0B09176F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19A80-8DA5-493B-B35E-FD50B0986E8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744AF-E694-415F-940E-6BBC759EA25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24B84-0D53-438B-9B2A-30C047EDF90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44092-E63C-4DD4-9051-C3625D8E6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867E9-09AB-422E-ABA2-CC927264829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BEFD1-ABFC-462E-86B8-FECA1148956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E9A01-D6FB-49FC-92EB-25E034EE03E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C79CF-EF8B-49AC-8E1B-69DECCC1336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9CFE8-7AD8-4B74-8D8E-5F89C68B8BA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44617-83F1-49FE-B63A-DF1CE209D59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926EA-9CD5-41AE-AE4C-F1B07C6E98E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7BA2B-011A-429E-809B-A4DF4CC649E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D6366-93E9-427C-A9A0-840A100024E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D0010-573D-48B4-A920-4B0EAF4F4B1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7AD49-3009-42CD-9AC0-01B52B0BE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AD2F-B8AA-412A-92AB-6FB84DF1416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08CF0-BF15-4FA5-A119-5C2E8BBCAE2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507D2A-E2C5-4A95-A3C8-2E2ABDBD3EE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6B20BE-C9D0-4F7B-8486-A85DDA9C5D8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998366-47E9-4CAB-9405-6082174D6DF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DB93AC-838A-4666-B39D-1C0690A3F2B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3FCF6D-F17F-4674-B770-D132D953CF6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75DDC4-C088-46C6-938D-2DFD9497996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0BAC5F-825F-49CF-BABF-92DCFF01372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6B86CE-E0C1-4820-99C9-AB50FE09086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EFAE0A-C53F-4621-9690-5EAA38916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579E87-61AA-4032-A5A4-A965EBA78D2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EDEB56-80F1-4858-AD1C-DED4EED1D07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D1B198-B768-42C3-AF02-7E768CBA32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7309-5773-4DE0-9C62-9BE55E754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BE0D2-5FFC-48CB-86F3-5AFADA0D0D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F514D-4D71-4D38-B174-D72ADD61991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F5F66-5A10-4DF8-A361-A7739138C9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2F48E-B1AA-477D-B53A-6D06E53FE0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AFEFA-7E7A-4BD6-9799-C497FF4DD3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DDEE-F79C-4C19-BD17-CCDAD98764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42921-61E9-44AC-A8C9-A5479F7E70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0232A-E901-4B9A-8694-A7D4B97AAF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81554-B1DD-4CAF-B4AE-09D2FD16E1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1F60D-422B-4570-A384-7222A91507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29D64-08DA-40C5-94A9-CDCE6D2747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0324A-39BF-41E9-AFF4-499707ED75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E905C-588F-43AC-B670-603E716293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89C6-BA73-4787-B856-7930325186D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215A-21F2-4C74-B1E6-B1D62AE39A1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26F7-6354-4DBF-BF24-B5C240A14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1156-105B-4B83-9808-B944FE1EFAA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AEF0-28CA-4D02-B95D-E190E35DD95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001B-1173-4AEA-B97A-90FDFBF5B4D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849-B1FA-466B-893F-9684790602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6A0E-F26B-414A-92D4-37F017A365C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ED2-8643-46BB-B204-DEE5C1127CC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076F-2F74-4B88-8D26-7310A9558B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C186-EA46-4444-93DE-7A23F95AD8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667-9F35-4320-98B6-7F71CDA66F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DFC1-894A-43D4-9881-AF43F269114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4698B-8C9C-4D95-BB7A-A46110D05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73BC-302E-4163-85F1-9AF3364A64C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7D3D3-4DC3-4842-B753-95E142942F4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F53B3-A3B2-4CC2-93C7-40B9FEE4122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FA071-FB19-4CDC-91C2-D6ACC19DDEA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A344E-723C-4F23-A280-0096890B44F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19EFD-F844-46CE-8A70-6D0F31C0533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010A0-5880-4C9F-B3AA-A3E229B2733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DFE49-56F6-44D2-B178-07DEE92084B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D853F-B29F-4868-B2A6-7E4307A1219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265C3-26BC-4552-A0BD-79CE1859569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0A70D-CE2F-4FE8-8403-7FC1BF3D1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7D5A-FB76-4194-BE69-8781D4EA306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64C7E-56D2-407F-8F74-9FDFA346618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4870C-5AC9-4743-8EE8-885AD72AD5A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BE826-14BD-4FE3-A44B-B6B03A8B89A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95B21-06FD-455B-9CA1-E39BDE35BC9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FF22C-1DEE-4201-AC8B-5DD50DC09D9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10ADC-0922-42E4-9668-6CE0E776132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0CDFB-8436-4644-A1D5-5BC6C26C157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38522-168D-4E15-9DB0-690498755CD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C2826-5CAD-4C0F-AA87-32BBB5EFD7C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0EF39-57F2-4F77-900F-069B51DF39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C186-4C16-40D4-955A-97F017478CB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7AF2C-D3D5-4B32-876E-7E26B578967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8CB74-FDB4-4391-A0BF-00EE4D07ED3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F631B-1287-4BFC-AE66-10712D0FCD9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155A-639B-4DF7-AD1E-E896B9FB6CA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F8E5-F1F5-4335-AC3E-D2A9D051FF4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435F-6001-4E12-9361-A0C56D52A14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38C0-4D2D-4801-B763-6CED465B795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069C-F9C2-4862-8EE1-A13839AEEF5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0FD9-297D-463D-8A0A-1556E8D937D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CBD1-331E-4FBB-9D85-BD72DE9BC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EA11E-F8BE-4AD2-B427-AAD29700ACF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64D4-FA21-4DF9-B28D-AF420394C1A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F983-81E2-41E7-B144-A2C4BA70BB3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BD85-737D-4E02-BD7F-B7D937B7062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EBD0-0D92-4B28-9C6C-BCF0F6E0AF5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B361-03A0-4A9F-B5FF-434E2FE1364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858A61-B2E7-4ECE-8E41-8209667C0EF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7F252F-6FE0-45D8-AEA5-28BB0506131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346189-642A-4E67-9676-A73DB06A139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DACD57-B539-4719-9278-BFA77E56247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0F2405-44D2-4BF3-9372-27264B3C3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56996-D578-4E37-95D7-C77320F5E95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D611D0-FE2D-4A33-927D-0BC946558ED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88BC1C-896D-415C-84ED-2018000BA66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178119-1285-4D83-8959-2B677F82FA7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FE618D-89C9-423F-87AA-571CCE860D0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FB3B02-91D5-47C1-BA8E-9F9DDF02F71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6C3A66-4835-4DE1-BEAF-DFD783EC3B9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D61D1A-8A30-4DE1-86B2-4E14FEF7AE6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8C8382-FF36-4F1D-B772-D52112FE619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E69F9-6CCE-4BBF-82EE-ADE12584D9E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C1FEE-6041-41BD-AE68-8BF0BF93C3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80520" y="467352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Lato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D9C3-D0AE-4C71-94E3-08573A494C70}" type="slidenum">
              <a:rPr b="0" lang="ru-RU" sz="1800" spc="-1" strike="noStrike">
                <a:solidFill>
                  <a:srgbClr val="ffffff"/>
                </a:solidFill>
                <a:latin typeface="Lato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Shape 40" descr="paint_transparent1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9"/>
          </p:nvPr>
        </p:nvSpPr>
        <p:spPr>
          <a:xfrm>
            <a:off x="8480520" y="467352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1C84-A710-4058-B9A5-E3D535BD2EF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Shape 51" descr="paint_transparent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0"/>
          </p:nvPr>
        </p:nvSpPr>
        <p:spPr>
          <a:xfrm>
            <a:off x="4297320" y="444816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D2C4-0818-4CA7-8481-EF05593A3B32}" type="slidenum">
              <a:rPr b="0" lang="ru-RU" sz="24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Shape 22" descr="paint_transparent1.png"/>
          <p:cNvPicPr/>
          <p:nvPr/>
        </p:nvPicPr>
        <p:blipFill>
          <a:blip r:embed="rId3"/>
          <a:stretch/>
        </p:blipFill>
        <p:spPr>
          <a:xfrm>
            <a:off x="996840" y="0"/>
            <a:ext cx="8136000" cy="51436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5"/>
          <p:cNvSpPr/>
          <p:nvPr/>
        </p:nvSpPr>
        <p:spPr>
          <a:xfrm>
            <a:off x="0" y="0"/>
            <a:ext cx="100656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2"/>
          </p:nvPr>
        </p:nvSpPr>
        <p:spPr>
          <a:xfrm>
            <a:off x="8480520" y="467352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C4A2-6C2E-45A6-810B-18960330129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Shape 22" descr="paint_transparent1.png"/>
          <p:cNvPicPr/>
          <p:nvPr/>
        </p:nvPicPr>
        <p:blipFill>
          <a:blip r:embed="rId3"/>
          <a:stretch/>
        </p:blipFill>
        <p:spPr>
          <a:xfrm>
            <a:off x="4592520" y="0"/>
            <a:ext cx="4540320" cy="5143680"/>
          </a:xfrm>
          <a:prstGeom prst="rect">
            <a:avLst/>
          </a:prstGeom>
          <a:ln w="0">
            <a:noFill/>
          </a:ln>
        </p:spPr>
      </p:pic>
      <p:pic>
        <p:nvPicPr>
          <p:cNvPr id="119" name="Shape 22" descr="paint_transparent1.png"/>
          <p:cNvPicPr/>
          <p:nvPr/>
        </p:nvPicPr>
        <p:blipFill>
          <a:blip r:embed="rId4"/>
          <a:stretch/>
        </p:blipFill>
        <p:spPr>
          <a:xfrm>
            <a:off x="-11160" y="730080"/>
            <a:ext cx="6954840" cy="44262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6"/>
          <p:cNvSpPr/>
          <p:nvPr/>
        </p:nvSpPr>
        <p:spPr>
          <a:xfrm>
            <a:off x="0" y="0"/>
            <a:ext cx="5029200" cy="8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3"/>
          </p:nvPr>
        </p:nvSpPr>
        <p:spPr>
          <a:xfrm>
            <a:off x="8480520" y="467352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671F-423D-45B1-9677-88F82A1FF37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Shape 22" descr="paint_transparent1.png"/>
          <p:cNvPicPr/>
          <p:nvPr/>
        </p:nvPicPr>
        <p:blipFill>
          <a:blip r:embed="rId3"/>
          <a:stretch/>
        </p:blipFill>
        <p:spPr>
          <a:xfrm>
            <a:off x="182520" y="-15840"/>
            <a:ext cx="8972640" cy="211464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5"/>
          <p:cNvSpPr/>
          <p:nvPr/>
        </p:nvSpPr>
        <p:spPr>
          <a:xfrm>
            <a:off x="0" y="1951200"/>
            <a:ext cx="9144000" cy="319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0" y="0"/>
            <a:ext cx="1006560" cy="324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4"/>
          </p:nvPr>
        </p:nvSpPr>
        <p:spPr>
          <a:xfrm>
            <a:off x="8480520" y="467352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662B-24BB-4566-B1DB-D5EEF885DDE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Shape 27" descr="paint_transparent1.png"/>
          <p:cNvPicPr/>
          <p:nvPr/>
        </p:nvPicPr>
        <p:blipFill>
          <a:blip r:embed="rId3"/>
          <a:stretch/>
        </p:blipFill>
        <p:spPr>
          <a:xfrm>
            <a:off x="2360520" y="0"/>
            <a:ext cx="6783480" cy="370044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5"/>
          <p:cNvSpPr/>
          <p:nvPr/>
        </p:nvSpPr>
        <p:spPr>
          <a:xfrm>
            <a:off x="0" y="0"/>
            <a:ext cx="26100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6"/>
          <p:cNvSpPr/>
          <p:nvPr/>
        </p:nvSpPr>
        <p:spPr>
          <a:xfrm>
            <a:off x="2610000" y="3686040"/>
            <a:ext cx="6534000" cy="14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5"/>
          </p:nvPr>
        </p:nvSpPr>
        <p:spPr>
          <a:xfrm>
            <a:off x="8480520" y="467352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E1C2-9528-49A1-8B9B-ACBE0265422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Shape 33" descr="paint_transparent1.png"/>
          <p:cNvPicPr/>
          <p:nvPr/>
        </p:nvPicPr>
        <p:blipFill>
          <a:blip r:embed="rId3"/>
          <a:srcRect l="0" t="-261" r="-28580" b="0"/>
          <a:stretch/>
        </p:blipFill>
        <p:spPr>
          <a:xfrm rot="16437600">
            <a:off x="5148720" y="-826200"/>
            <a:ext cx="5337360" cy="304020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5"/>
          <p:cNvSpPr/>
          <p:nvPr/>
        </p:nvSpPr>
        <p:spPr>
          <a:xfrm>
            <a:off x="0" y="0"/>
            <a:ext cx="638964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6"/>
          <p:cNvSpPr/>
          <p:nvPr/>
        </p:nvSpPr>
        <p:spPr>
          <a:xfrm>
            <a:off x="5302080" y="2700360"/>
            <a:ext cx="3841920" cy="257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8480520" y="467352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5FD7-C326-456C-A3DA-30DAA28684A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Shape 33" descr="paint_transparent1.png"/>
          <p:cNvPicPr/>
          <p:nvPr/>
        </p:nvPicPr>
        <p:blipFill>
          <a:blip r:embed="rId3"/>
          <a:srcRect l="0" t="-261" r="-28580" b="0"/>
          <a:stretch/>
        </p:blipFill>
        <p:spPr>
          <a:xfrm rot="16437600">
            <a:off x="5271840" y="-879480"/>
            <a:ext cx="5337000" cy="304164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5"/>
          <p:cNvSpPr/>
          <p:nvPr/>
        </p:nvSpPr>
        <p:spPr>
          <a:xfrm>
            <a:off x="0" y="-436680"/>
            <a:ext cx="651348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6"/>
          <p:cNvSpPr/>
          <p:nvPr/>
        </p:nvSpPr>
        <p:spPr>
          <a:xfrm>
            <a:off x="5302080" y="2700360"/>
            <a:ext cx="3841920" cy="244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7"/>
          </p:nvPr>
        </p:nvSpPr>
        <p:spPr>
          <a:xfrm>
            <a:off x="8480520" y="467352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208D-7068-4049-97C6-CBFB0E28D6C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Shape 22" descr="paint_transparent1.png"/>
          <p:cNvPicPr/>
          <p:nvPr/>
        </p:nvPicPr>
        <p:blipFill>
          <a:blip r:embed="rId3"/>
          <a:stretch/>
        </p:blipFill>
        <p:spPr>
          <a:xfrm>
            <a:off x="2598840" y="0"/>
            <a:ext cx="6545160" cy="514368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5"/>
          <p:cNvSpPr/>
          <p:nvPr/>
        </p:nvSpPr>
        <p:spPr>
          <a:xfrm>
            <a:off x="0" y="0"/>
            <a:ext cx="259884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8"/>
          </p:nvPr>
        </p:nvSpPr>
        <p:spPr>
          <a:xfrm>
            <a:off x="8480520" y="467352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027A-A2BD-480F-B327-67F8E13555B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nsportal.ru/shmat" TargetMode="External"/><Relationship Id="rId2" Type="http://schemas.openxmlformats.org/officeDocument/2006/relationships/hyperlink" Target="https://kladraz.ru/users/Shmatova74" TargetMode="External"/><Relationship Id="rId3" Type="http://schemas.openxmlformats.org/officeDocument/2006/relationships/hyperlink" Target="https://infourok.ru/user/shmatova-viktoriya-vasilevna" TargetMode="External"/><Relationship Id="rId4" Type="http://schemas.openxmlformats.org/officeDocument/2006/relationships/hyperlink" Target="https://www.maam.ru/users/873684/zakaz.html" TargetMode="External"/><Relationship Id="rId5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Shape 13" descr="paint_transparent4.png"/>
          <p:cNvPicPr/>
          <p:nvPr/>
        </p:nvPicPr>
        <p:blipFill>
          <a:blip r:embed="rId1"/>
          <a:stretch/>
        </p:blipFill>
        <p:spPr>
          <a:xfrm>
            <a:off x="1187280" y="0"/>
            <a:ext cx="4577040" cy="5143680"/>
          </a:xfrm>
          <a:prstGeom prst="rect">
            <a:avLst/>
          </a:prstGeom>
          <a:ln w="0">
            <a:noFill/>
          </a:ln>
        </p:spPr>
      </p:pic>
      <p:sp>
        <p:nvSpPr>
          <p:cNvPr id="450" name="Shape 14"/>
          <p:cNvSpPr/>
          <p:nvPr/>
        </p:nvSpPr>
        <p:spPr>
          <a:xfrm flipH="1">
            <a:off x="4033800" y="0"/>
            <a:ext cx="530064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7"/>
          <p:cNvSpPr/>
          <p:nvPr/>
        </p:nvSpPr>
        <p:spPr>
          <a:xfrm>
            <a:off x="4071960" y="2355840"/>
            <a:ext cx="5286240" cy="17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Yu Gothic UI Semibold"/>
              </a:rPr>
              <a:t>Шматовой Виктории Василье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Yu Gothic UI Semibold"/>
              </a:rPr>
              <a:t>музыкального руководите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Yu Gothic UI Semibold"/>
              </a:rPr>
              <a:t>МБДОУ ЦРР-Д/С «Сказк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Yu Gothic UI Semibold"/>
              </a:rPr>
              <a:t>Тамбовской обл., г. Мичурин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9"/>
          <p:cNvSpPr/>
          <p:nvPr/>
        </p:nvSpPr>
        <p:spPr>
          <a:xfrm>
            <a:off x="4581360" y="1042920"/>
            <a:ext cx="54612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94a6"/>
                </a:solidFill>
                <a:latin typeface="Arial Black"/>
                <a:ea typeface="Yu Gothic UI Semibold"/>
              </a:rPr>
              <a:t>ПОРТФОЛИ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ая соединительная линия 12"/>
          <p:cNvSpPr/>
          <p:nvPr/>
        </p:nvSpPr>
        <p:spPr>
          <a:xfrm>
            <a:off x="4695840" y="2662200"/>
            <a:ext cx="3776760" cy="0"/>
          </a:xfrm>
          <a:prstGeom prst="line">
            <a:avLst/>
          </a:prstGeom>
          <a:ln w="12600">
            <a:solidFill>
              <a:srgbClr val="0194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10" descr="D:\флешка\фото\z\Фото 086.jpg"/>
          <p:cNvPicPr/>
          <p:nvPr/>
        </p:nvPicPr>
        <p:blipFill>
          <a:blip r:embed="rId2"/>
          <a:stretch/>
        </p:blipFill>
        <p:spPr>
          <a:xfrm rot="21432600">
            <a:off x="496440" y="971280"/>
            <a:ext cx="2243160" cy="3379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Заголовок 1"/>
          <p:cNvSpPr/>
          <p:nvPr/>
        </p:nvSpPr>
        <p:spPr>
          <a:xfrm>
            <a:off x="368280" y="146160"/>
            <a:ext cx="927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РАБОТА С РОДИТЕЛЯМИ ВОСПИТАН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hape 145"/>
          <p:cNvSpPr/>
          <p:nvPr/>
        </p:nvSpPr>
        <p:spPr>
          <a:xfrm>
            <a:off x="468360" y="1676520"/>
            <a:ext cx="3887640" cy="1272960"/>
          </a:xfrm>
          <a:prstGeom prst="rect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Папки-передвижки с  меняющейся  информацией (статьи, рекомендации, знакомство с муз. репертуаром, с возрастными  особенности  муз. развития детей и т.д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Индивидуальные  встречи  по желанию  родителей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Знакомство  с  результатами  музыкальной диагностик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Групповые консультации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1"/>
          <p:cNvSpPr/>
          <p:nvPr/>
        </p:nvSpPr>
        <p:spPr>
          <a:xfrm>
            <a:off x="393840" y="1120680"/>
            <a:ext cx="399888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0022"/>
                </a:solidFill>
                <a:latin typeface="Arial Black"/>
                <a:ea typeface="Yu Gothic UI Semibold"/>
              </a:rPr>
              <a:t>КОНСУЛЬТ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0022"/>
                </a:solidFill>
                <a:latin typeface="Arial Black"/>
                <a:ea typeface="Yu Gothic UI Semibold"/>
              </a:rPr>
              <a:t>ДЛЯ  РОД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hape 145"/>
          <p:cNvSpPr/>
          <p:nvPr/>
        </p:nvSpPr>
        <p:spPr>
          <a:xfrm>
            <a:off x="4572000" y="1676520"/>
            <a:ext cx="3887640" cy="1272960"/>
          </a:xfrm>
          <a:prstGeom prst="rect">
            <a:avLst/>
          </a:prstGeom>
          <a:solidFill>
            <a:srgbClr val="0194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Создание  домашней  фонотеки,  подбор  произведений  </a:t>
            </a: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для  семейного  прослушивания, рекомендации  </a:t>
            </a: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по слушанию  музык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Помощь в создании  домашнего театра,  в  организации  </a:t>
            </a: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детских праздников дома  в  кругу  друзе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Помощь  в  подборе  детских  музыкальных  инструментов </a:t>
            </a: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для  совместного  музицирования  в  кругу  семьи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15"/>
          <p:cNvSpPr/>
          <p:nvPr/>
        </p:nvSpPr>
        <p:spPr>
          <a:xfrm>
            <a:off x="4497480" y="1120680"/>
            <a:ext cx="399888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94a6"/>
                </a:solidFill>
                <a:latin typeface="Arial Black"/>
                <a:ea typeface="Yu Gothic UI Semibold"/>
              </a:rPr>
              <a:t>ПОМОЩЬ В РАЗВИТИИ  МУЗЫКАЛЬНЫХ  СПОСОБ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hape 145"/>
          <p:cNvSpPr/>
          <p:nvPr/>
        </p:nvSpPr>
        <p:spPr>
          <a:xfrm>
            <a:off x="504720" y="3627360"/>
            <a:ext cx="3888000" cy="127332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Тематические  выставки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Календарь  с указанием  дат  основных  мероприятий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Тетрадь  отзывов и пожелани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Передвижная фонотека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Передвижная  библиотека (знакомство  с композиторами, жанрами,  музыкальными  инструментами, с  народными   праздниками,  обрядами,  с  детскими  популярными  песнями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оугольник 17"/>
          <p:cNvSpPr/>
          <p:nvPr/>
        </p:nvSpPr>
        <p:spPr>
          <a:xfrm>
            <a:off x="393840" y="3083040"/>
            <a:ext cx="399888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b320"/>
                </a:solidFill>
                <a:latin typeface="Arial Black"/>
                <a:ea typeface="Yu Gothic UI Semibold"/>
              </a:rPr>
              <a:t>НАГЛЯДНАЯ  </a:t>
            </a:r>
            <a:br>
              <a:rPr sz="1400"/>
            </a:br>
            <a:r>
              <a:rPr b="1" lang="ru-RU" sz="1400" spc="-1" strike="noStrike">
                <a:solidFill>
                  <a:srgbClr val="ffb320"/>
                </a:solidFill>
                <a:latin typeface="Arial Black"/>
                <a:ea typeface="Yu Gothic UI Semibold"/>
              </a:rPr>
              <a:t>АГИТ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hape 145"/>
          <p:cNvSpPr/>
          <p:nvPr/>
        </p:nvSpPr>
        <p:spPr>
          <a:xfrm>
            <a:off x="4608360" y="3627360"/>
            <a:ext cx="3888000" cy="1273320"/>
          </a:xfrm>
          <a:prstGeom prst="rect">
            <a:avLst/>
          </a:prstGeom>
          <a:solidFill>
            <a:srgbClr val="d006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Изготовление  костюмов, декораций, украшение  зала и т.д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Участие родителей  в роли  артистов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Помощь  в организации,  проведении,  активное  участие  </a:t>
            </a: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в  представлениях (пение,  танцы, игры  и т.д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19"/>
          <p:cNvSpPr/>
          <p:nvPr/>
        </p:nvSpPr>
        <p:spPr>
          <a:xfrm>
            <a:off x="4533840" y="3083040"/>
            <a:ext cx="399744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0068b"/>
                </a:solidFill>
                <a:latin typeface="Arial Black"/>
                <a:ea typeface="Yu Gothic UI Semibold"/>
              </a:rPr>
              <a:t>ПРИВЛЕЧЕНИЕ РОДИТЕЛЕЙ </a:t>
            </a:r>
            <a:br>
              <a:rPr sz="1400"/>
            </a:br>
            <a:r>
              <a:rPr b="1" lang="ru-RU" sz="1400" spc="-1" strike="noStrike">
                <a:solidFill>
                  <a:srgbClr val="d0068b"/>
                </a:solidFill>
                <a:latin typeface="Arial Black"/>
                <a:ea typeface="Yu Gothic UI Semibold"/>
              </a:rPr>
              <a:t>К СОВМЕСТНЫМ РАЗВЛЕЧЕНИ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Заголовок 1"/>
          <p:cNvSpPr/>
          <p:nvPr/>
        </p:nvSpPr>
        <p:spPr>
          <a:xfrm>
            <a:off x="368280" y="146160"/>
            <a:ext cx="927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ИСПОЛЬЗОВАНИЕ ИКТ В МУЗЫКАЛЬНОМ </a:t>
            </a:r>
            <a:br>
              <a:rPr sz="2200"/>
            </a:b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ВОСПИТАНИИ ДОШКОЛЬНИК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hape 145"/>
          <p:cNvSpPr/>
          <p:nvPr/>
        </p:nvSpPr>
        <p:spPr>
          <a:xfrm>
            <a:off x="393840" y="1751040"/>
            <a:ext cx="19634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Подбор иллюстративного материала к занятиям, родительских уголков группы, информационного материала для оформления стендов,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папок-передвижек, подбор нотного материала и пр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hape 145"/>
          <p:cNvSpPr/>
          <p:nvPr/>
        </p:nvSpPr>
        <p:spPr>
          <a:xfrm>
            <a:off x="2354400" y="1751040"/>
            <a:ext cx="19634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Подбор дополнительного познавательного материала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к занятиям, знакомство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со сценариями развлечений, праздников и других мероприятий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hape 145"/>
          <p:cNvSpPr/>
          <p:nvPr/>
        </p:nvSpPr>
        <p:spPr>
          <a:xfrm>
            <a:off x="2354400" y="3792600"/>
            <a:ext cx="196344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Обмен опытом, знакомство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с периодикой, наработками других педагого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hape 145"/>
          <p:cNvSpPr/>
          <p:nvPr/>
        </p:nvSpPr>
        <p:spPr>
          <a:xfrm>
            <a:off x="6275520" y="1751040"/>
            <a:ext cx="19634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Создание презентаций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(в программе Рower Рoint)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для повышения эффективности образовательной работы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с детьми и педагогической компетенции у педагогов, родителей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hape 145"/>
          <p:cNvSpPr/>
          <p:nvPr/>
        </p:nvSpPr>
        <p:spPr>
          <a:xfrm>
            <a:off x="6267600" y="3760920"/>
            <a:ext cx="196524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Наличие собственного сайта музыкального руководителя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в сети Интернет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hape 145"/>
          <p:cNvSpPr/>
          <p:nvPr/>
        </p:nvSpPr>
        <p:spPr>
          <a:xfrm>
            <a:off x="4303800" y="3792600"/>
            <a:ext cx="196380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Создание электронной почты, ведение сайта ДОУ (налич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странички музыкального руководителя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hape 145"/>
          <p:cNvSpPr/>
          <p:nvPr/>
        </p:nvSpPr>
        <p:spPr>
          <a:xfrm>
            <a:off x="4314960" y="1719360"/>
            <a:ext cx="196344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Создание медиатеки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по вопросам развития музыкального развития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детей дошкольного возраста, которые представляют интерес не только для музыкального руководителя, педагогов,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но и для родителей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hape 145"/>
          <p:cNvSpPr/>
          <p:nvPr/>
        </p:nvSpPr>
        <p:spPr>
          <a:xfrm>
            <a:off x="411120" y="3792600"/>
            <a:ext cx="196380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Оформление буклетов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по вопросам развития музыкальности детей с ОВЗ, материалов по различным направлениям деятельност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hape 276"/>
          <p:cNvSpPr/>
          <p:nvPr/>
        </p:nvSpPr>
        <p:spPr>
          <a:xfrm>
            <a:off x="488880" y="1308240"/>
            <a:ext cx="387360" cy="342720"/>
          </a:xfrm>
          <a:prstGeom prst="pie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hape 298"/>
          <p:cNvSpPr/>
          <p:nvPr/>
        </p:nvSpPr>
        <p:spPr>
          <a:xfrm>
            <a:off x="2446200" y="1297080"/>
            <a:ext cx="365400" cy="366480"/>
          </a:xfrm>
          <a:prstGeom prst="pie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hape 305"/>
          <p:cNvSpPr/>
          <p:nvPr/>
        </p:nvSpPr>
        <p:spPr>
          <a:xfrm>
            <a:off x="509760" y="3341520"/>
            <a:ext cx="345960" cy="347760"/>
          </a:xfrm>
          <a:prstGeom prst="pie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hape 312"/>
          <p:cNvSpPr/>
          <p:nvPr/>
        </p:nvSpPr>
        <p:spPr>
          <a:xfrm>
            <a:off x="4424400" y="1306440"/>
            <a:ext cx="376200" cy="346320"/>
          </a:xfrm>
          <a:prstGeom prst="pie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hape 331"/>
          <p:cNvSpPr/>
          <p:nvPr/>
        </p:nvSpPr>
        <p:spPr>
          <a:xfrm>
            <a:off x="6307200" y="1312920"/>
            <a:ext cx="382680" cy="334800"/>
          </a:xfrm>
          <a:prstGeom prst="pie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hape 295"/>
          <p:cNvSpPr/>
          <p:nvPr/>
        </p:nvSpPr>
        <p:spPr>
          <a:xfrm>
            <a:off x="4403880" y="3313080"/>
            <a:ext cx="417240" cy="405000"/>
          </a:xfrm>
          <a:prstGeom prst="pie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hape 332"/>
          <p:cNvSpPr/>
          <p:nvPr/>
        </p:nvSpPr>
        <p:spPr>
          <a:xfrm>
            <a:off x="6307200" y="3303720"/>
            <a:ext cx="419040" cy="423720"/>
          </a:xfrm>
          <a:prstGeom prst="pie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hape 289"/>
          <p:cNvSpPr/>
          <p:nvPr/>
        </p:nvSpPr>
        <p:spPr>
          <a:xfrm>
            <a:off x="2446200" y="3346560"/>
            <a:ext cx="365400" cy="336600"/>
          </a:xfrm>
          <a:prstGeom prst="pie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Заголовок 1"/>
          <p:cNvSpPr/>
          <p:nvPr/>
        </p:nvSpPr>
        <p:spPr>
          <a:xfrm>
            <a:off x="271440" y="0"/>
            <a:ext cx="927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ОБОБЩЕНИЕ И РАСПРОСТРАНЕ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ПЕДАГОГИЧЕСКОГО ОПЫТА   2017 - 2022 Г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0" y="919080"/>
          <a:ext cx="8978760" cy="3971880"/>
        </p:xfrm>
        <a:graphic>
          <a:graphicData uri="http://schemas.openxmlformats.org/drawingml/2006/table">
            <a:tbl>
              <a:tblPr/>
              <a:tblGrid>
                <a:gridCol w="5767560"/>
                <a:gridCol w="1066680"/>
                <a:gridCol w="214452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a20000"/>
                          </a:solidFill>
                          <a:latin typeface="Arial"/>
                        </a:rPr>
                        <a:t>Наименование мероприятия (заседание МО, педсовет, семинар, конфер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a20000"/>
                          </a:solidFill>
                          <a:latin typeface="Arial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a20000"/>
                          </a:solidFill>
                          <a:latin typeface="Arial"/>
                        </a:rPr>
                        <a:t>Форма учас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ПО по музыкальному развитию дошкольников. Доклад: «Современные образовательные технологии в работе музыкального руководителя ДОУ»                                                 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0.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ладч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ПО по физическому развитию дошкольников. Доклад: «Музыкальное сопровождение зарядк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05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ладч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ПО по ИКТ. Доклад: «Применение электронных таблиц в работе музыкального руководител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0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ладч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вый педсовет МБДОУ ЦРР-Д/С «Сказка». Анализ работы музыкального руководител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05.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ПО по работе с одаренными детьми «Развитие музыкально-одаренных детей». Мастер-класс :»Музыкальные игры, как средство активизации музыкального развития ребенк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2.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ультация для воспитателей ДОУ «Значение музыкального воспитания для дошкольнико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03.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упающ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инар-практикум по социально-коммуникативному развитию дошкольников. Открытое занятие «Создание предпосылок ранней профориентации дошкольников средствами РПП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04.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упающ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 зан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и обобщение опыта работы. «Путешествие в страну танце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05.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зентация работы кружка «Веселый каблучок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Овал 11"/>
          <p:cNvSpPr/>
          <p:nvPr/>
        </p:nvSpPr>
        <p:spPr>
          <a:xfrm>
            <a:off x="368280" y="1147680"/>
            <a:ext cx="3530520" cy="353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Заголовок 1"/>
          <p:cNvSpPr/>
          <p:nvPr/>
        </p:nvSpPr>
        <p:spPr>
          <a:xfrm>
            <a:off x="368280" y="146160"/>
            <a:ext cx="927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0022"/>
                </a:solidFill>
                <a:latin typeface="Arial Black"/>
              </a:rPr>
              <a:t>МОИ ДОСТ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20"/>
          <p:cNvSpPr/>
          <p:nvPr/>
        </p:nvSpPr>
        <p:spPr>
          <a:xfrm>
            <a:off x="2970360" y="4653000"/>
            <a:ext cx="505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hape 312"/>
          <p:cNvSpPr/>
          <p:nvPr/>
        </p:nvSpPr>
        <p:spPr>
          <a:xfrm>
            <a:off x="1308240" y="2151000"/>
            <a:ext cx="1652400" cy="152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14" descr="C:\Users\User\Desktop\аттестация 2022\2020 0 диплом.jpeg"/>
          <p:cNvPicPr/>
          <p:nvPr/>
        </p:nvPicPr>
        <p:blipFill>
          <a:blip r:embed="rId1"/>
          <a:stretch/>
        </p:blipFill>
        <p:spPr>
          <a:xfrm>
            <a:off x="0" y="2612880"/>
            <a:ext cx="1789200" cy="25308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5" descr="C:\Users\User\Desktop\аттестация 2022\Binder1__22_aa327.jpg"/>
          <p:cNvPicPr/>
          <p:nvPr/>
        </p:nvPicPr>
        <p:blipFill>
          <a:blip r:embed="rId2"/>
          <a:stretch/>
        </p:blipFill>
        <p:spPr>
          <a:xfrm>
            <a:off x="1498680" y="857160"/>
            <a:ext cx="1900080" cy="26877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6" descr="C:\Users\User\Desktop\аттестация 2022\диплом 2019.jpg"/>
          <p:cNvPicPr/>
          <p:nvPr/>
        </p:nvPicPr>
        <p:blipFill>
          <a:blip r:embed="rId3"/>
          <a:stretch/>
        </p:blipFill>
        <p:spPr>
          <a:xfrm>
            <a:off x="3228840" y="2641680"/>
            <a:ext cx="1731960" cy="2502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7" descr="C:\Users\User\Desktop\аттестация 2022\Binder1__11_861e1.jpg"/>
          <p:cNvPicPr/>
          <p:nvPr/>
        </p:nvPicPr>
        <p:blipFill>
          <a:blip r:embed="rId4"/>
          <a:stretch/>
        </p:blipFill>
        <p:spPr>
          <a:xfrm>
            <a:off x="4919760" y="792000"/>
            <a:ext cx="2125440" cy="30592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0" descr=""/>
          <p:cNvPicPr/>
          <p:nvPr/>
        </p:nvPicPr>
        <p:blipFill>
          <a:blip r:embed="rId5"/>
          <a:stretch/>
        </p:blipFill>
        <p:spPr>
          <a:xfrm>
            <a:off x="7048440" y="2244600"/>
            <a:ext cx="2095560" cy="3035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11" descr=""/>
          <p:cNvPicPr/>
          <p:nvPr/>
        </p:nvPicPr>
        <p:blipFill>
          <a:blip r:embed="rId1"/>
          <a:stretch/>
        </p:blipFill>
        <p:spPr>
          <a:xfrm>
            <a:off x="1547640" y="2598840"/>
            <a:ext cx="1851120" cy="2544840"/>
          </a:xfrm>
          <a:prstGeom prst="rect">
            <a:avLst/>
          </a:prstGeom>
          <a:ln w="0">
            <a:noFill/>
          </a:ln>
        </p:spPr>
      </p:pic>
      <p:sp>
        <p:nvSpPr>
          <p:cNvPr id="562" name="Заголовок 1"/>
          <p:cNvSpPr/>
          <p:nvPr/>
        </p:nvSpPr>
        <p:spPr>
          <a:xfrm>
            <a:off x="368280" y="146160"/>
            <a:ext cx="927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ДОСТИЖЕНИЯ ВОСПИТАН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9" descr="D:\флешка\сценарии 2020-2021\искорки тамбовщины\Диплом Искорки Костикова  1 место.jpg"/>
          <p:cNvPicPr/>
          <p:nvPr/>
        </p:nvPicPr>
        <p:blipFill>
          <a:blip r:embed="rId2"/>
          <a:stretch/>
        </p:blipFill>
        <p:spPr>
          <a:xfrm>
            <a:off x="0" y="963720"/>
            <a:ext cx="1846440" cy="26161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0" descr="D:\флешка\сценарии 2020-2021\искорки тамбовщины\Диплом Искорки Растрыгина  2 место.jpg"/>
          <p:cNvPicPr/>
          <p:nvPr/>
        </p:nvPicPr>
        <p:blipFill>
          <a:blip r:embed="rId3"/>
          <a:stretch/>
        </p:blipFill>
        <p:spPr>
          <a:xfrm>
            <a:off x="4300560" y="2487600"/>
            <a:ext cx="1887480" cy="26560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2" descr=""/>
          <p:cNvPicPr/>
          <p:nvPr/>
        </p:nvPicPr>
        <p:blipFill>
          <a:blip r:embed="rId4"/>
          <a:stretch/>
        </p:blipFill>
        <p:spPr>
          <a:xfrm>
            <a:off x="6176880" y="687240"/>
            <a:ext cx="2967120" cy="20764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3" descr=""/>
          <p:cNvPicPr/>
          <p:nvPr/>
        </p:nvPicPr>
        <p:blipFill>
          <a:blip r:embed="rId5"/>
          <a:stretch/>
        </p:blipFill>
        <p:spPr>
          <a:xfrm>
            <a:off x="3021120" y="874800"/>
            <a:ext cx="1698480" cy="21985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4" descr=""/>
          <p:cNvPicPr/>
          <p:nvPr/>
        </p:nvPicPr>
        <p:blipFill>
          <a:blip r:embed="rId6"/>
          <a:stretch/>
        </p:blipFill>
        <p:spPr>
          <a:xfrm>
            <a:off x="7081920" y="2681280"/>
            <a:ext cx="1741320" cy="246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5511960" cy="85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94a6"/>
                </a:solidFill>
                <a:latin typeface="Arial Black"/>
                <a:ea typeface="Yu Gothic UI Semibold"/>
              </a:rPr>
              <a:t>МОИ ПУБЛ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"/>
          <p:cNvSpPr/>
          <p:nvPr/>
        </p:nvSpPr>
        <p:spPr>
          <a:xfrm>
            <a:off x="685800" y="1351080"/>
            <a:ext cx="60991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айт музыкального руководителя - </a:t>
            </a:r>
            <a:r>
              <a:rPr b="0" lang="en-US" sz="1600" spc="-1" strike="noStrike" u="sng">
                <a:solidFill>
                  <a:srgbClr val="1155cc"/>
                </a:solidFill>
                <a:uFillTx/>
                <a:latin typeface="Arial"/>
                <a:hlinkClick r:id="rId1"/>
              </a:rPr>
              <a:t>https://nsportal.ru/sh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лог педагога - </a:t>
            </a:r>
            <a:r>
              <a:rPr b="0" lang="en-US" sz="1600" spc="-1" strike="noStrike" u="sng">
                <a:solidFill>
                  <a:srgbClr val="1155cc"/>
                </a:solidFill>
                <a:uFillTx/>
                <a:latin typeface="Arial"/>
                <a:hlinkClick r:id="rId2"/>
              </a:rPr>
              <a:t>https://kladraz.ru/users/Shmatova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ский сайт - </a:t>
            </a:r>
            <a:r>
              <a:rPr b="0" lang="en-US" sz="1600" spc="-1" strike="noStrike" u="sng">
                <a:solidFill>
                  <a:srgbClr val="1155cc"/>
                </a:solidFill>
                <a:uFillTx/>
                <a:latin typeface="Arial"/>
                <a:hlinkClick r:id="rId3"/>
              </a:rPr>
              <a:t>https://infourok.ru/user/shmatova-viktoriya-vasilev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лог   музыкального руководителя - </a:t>
            </a:r>
            <a:r>
              <a:rPr b="0" lang="en-US" sz="1600" spc="-1" strike="noStrike" u="sng">
                <a:solidFill>
                  <a:srgbClr val="1155cc"/>
                </a:solidFill>
                <a:uFillTx/>
                <a:latin typeface="Arial"/>
                <a:hlinkClick r:id="rId4"/>
              </a:rPr>
              <a:t>https://www.maam.ru/users/873684/zakaz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727200" y="1112760"/>
          <a:ext cx="8012160" cy="3773520"/>
        </p:xfrm>
        <a:graphic>
          <a:graphicData uri="http://schemas.openxmlformats.org/drawingml/2006/table">
            <a:tbl>
              <a:tblPr/>
              <a:tblGrid>
                <a:gridCol w="2522520"/>
                <a:gridCol w="5489640"/>
              </a:tblGrid>
              <a:tr h="57168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29b33"/>
                          </a:solidFill>
                          <a:latin typeface="Arial"/>
                          <a:ea typeface="Calibri"/>
                        </a:rPr>
                        <a:t>ФИ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матова Виктория Васи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72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29b33"/>
                          </a:solidFill>
                          <a:latin typeface="Arial"/>
                          <a:ea typeface="Calibri"/>
                        </a:rPr>
                        <a:t>Дол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льный руково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652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29b33"/>
                          </a:solidFill>
                          <a:latin typeface="Arial"/>
                          <a:ea typeface="Calibri"/>
                        </a:rPr>
                        <a:t>Наименование дошкольной образовательной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ДОУ ЦРР-Д/С «Сказка» г.Мичуринска, Тамбовской об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29b33"/>
                          </a:solidFill>
                          <a:latin typeface="Arial"/>
                        </a:rPr>
                        <a:t>Стаж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й - 30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ический - 15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данном ДОУ - 30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80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29b33"/>
                          </a:solidFill>
                          <a:latin typeface="Arial"/>
                        </a:rPr>
                        <a:t>Квалификационная кате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ате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3840" y="169560"/>
            <a:ext cx="5510160" cy="85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94a6"/>
                </a:solidFill>
                <a:latin typeface="Arial Black"/>
                <a:ea typeface="Yu Gothic UI Semibold"/>
              </a:rPr>
              <a:t>ЛИЧНЫЕ ДА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79440" y="155160"/>
            <a:ext cx="5511600" cy="85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94a6"/>
                </a:solidFill>
                <a:latin typeface="Arial Black"/>
                <a:ea typeface="Yu Gothic UI Semibold"/>
              </a:rPr>
              <a:t>ОБРАЗ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hape 286"/>
          <p:cNvSpPr/>
          <p:nvPr/>
        </p:nvSpPr>
        <p:spPr>
          <a:xfrm>
            <a:off x="579600" y="1747800"/>
            <a:ext cx="1020600" cy="878040"/>
          </a:xfrm>
          <a:prstGeom prst="pie">
            <a:avLst/>
          </a:prstGeom>
          <a:solidFill>
            <a:srgbClr val="029b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hape 327"/>
          <p:cNvSpPr/>
          <p:nvPr/>
        </p:nvSpPr>
        <p:spPr>
          <a:xfrm>
            <a:off x="566640" y="3333600"/>
            <a:ext cx="1046160" cy="849600"/>
          </a:xfrm>
          <a:prstGeom prst="pie">
            <a:avLst/>
          </a:prstGeom>
          <a:solidFill>
            <a:srgbClr val="029b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16"/>
          <p:cNvSpPr/>
          <p:nvPr/>
        </p:nvSpPr>
        <p:spPr>
          <a:xfrm>
            <a:off x="2158920" y="1611360"/>
            <a:ext cx="52005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9b33"/>
                </a:solidFill>
                <a:latin typeface="Arial Black"/>
                <a:ea typeface="Yu Gothic UI Semibold"/>
              </a:rPr>
              <a:t>199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Yu Gothic UI Semibold"/>
              </a:rPr>
              <a:t>Липецкое музыкальное училище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Yu Gothic UI Semibold"/>
              </a:rPr>
              <a:t>педагог ДМШ, концертмейс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7"/>
          <p:cNvSpPr/>
          <p:nvPr/>
        </p:nvSpPr>
        <p:spPr>
          <a:xfrm>
            <a:off x="2158920" y="3214800"/>
            <a:ext cx="58183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9b33"/>
                </a:solidFill>
                <a:latin typeface="Arial Black"/>
                <a:ea typeface="Yu Gothic UI Semibold"/>
              </a:rPr>
              <a:t>200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Yu Gothic UI Semibold"/>
              </a:rPr>
              <a:t>Мичуринский государственный институт, учитель русского языка и литера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67920" y="285840"/>
            <a:ext cx="7419960" cy="128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9b33"/>
                </a:solidFill>
                <a:latin typeface="Arial Black"/>
                <a:ea typeface="Yu Gothic UI Semibold"/>
              </a:rPr>
              <a:t>КУРСЫ ПОВЫШЕНИЯ КВАЛИФИК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5"/>
          <p:cNvSpPr/>
          <p:nvPr/>
        </p:nvSpPr>
        <p:spPr>
          <a:xfrm>
            <a:off x="0" y="3235320"/>
            <a:ext cx="2887560" cy="1908360"/>
          </a:xfrm>
          <a:prstGeom prst="rect">
            <a:avLst/>
          </a:prstGeom>
          <a:solidFill>
            <a:srgbClr val="d006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7"/>
          <p:cNvSpPr/>
          <p:nvPr/>
        </p:nvSpPr>
        <p:spPr>
          <a:xfrm>
            <a:off x="2889360" y="2624040"/>
            <a:ext cx="3133440" cy="2519640"/>
          </a:xfrm>
          <a:prstGeom prst="rect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8"/>
          <p:cNvSpPr/>
          <p:nvPr/>
        </p:nvSpPr>
        <p:spPr>
          <a:xfrm>
            <a:off x="5904000" y="2011320"/>
            <a:ext cx="3240000" cy="313236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9"/>
          <p:cNvSpPr/>
          <p:nvPr/>
        </p:nvSpPr>
        <p:spPr>
          <a:xfrm>
            <a:off x="0" y="2651040"/>
            <a:ext cx="287964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94a6"/>
                </a:solidFill>
                <a:latin typeface="Arial Black"/>
                <a:ea typeface="Yu Gothic UI Semibold"/>
              </a:rPr>
              <a:t>2014 ГОД </a:t>
            </a:r>
            <a:br>
              <a:rPr sz="1400"/>
            </a:br>
            <a:r>
              <a:rPr b="1" lang="ru-RU" sz="1400" spc="-1" strike="noStrike">
                <a:solidFill>
                  <a:srgbClr val="0194a6"/>
                </a:solidFill>
                <a:latin typeface="Arial Black"/>
                <a:ea typeface="Yu Gothic UI Semibold"/>
              </a:rPr>
              <a:t>104 ЧА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Yu Gothic UI Semibold"/>
              </a:rPr>
              <a:t>«Музыкальное образование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Yu Gothic UI Semibold"/>
              </a:rPr>
              <a:t>и воспитание дошкольник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12"/>
          <p:cNvSpPr/>
          <p:nvPr/>
        </p:nvSpPr>
        <p:spPr>
          <a:xfrm>
            <a:off x="6848640" y="2263680"/>
            <a:ext cx="23032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14"/>
          <p:cNvSpPr/>
          <p:nvPr/>
        </p:nvSpPr>
        <p:spPr>
          <a:xfrm>
            <a:off x="5904000" y="1494000"/>
            <a:ext cx="32400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0068b"/>
                </a:solidFill>
                <a:latin typeface="Arial Black"/>
                <a:ea typeface="Yu Gothic UI Semibold"/>
              </a:rPr>
              <a:t>2020 ГОД </a:t>
            </a:r>
            <a:br>
              <a:rPr sz="1400"/>
            </a:br>
            <a:r>
              <a:rPr b="1" lang="ru-RU" sz="1400" spc="-1" strike="noStrike">
                <a:solidFill>
                  <a:srgbClr val="d0068b"/>
                </a:solidFill>
                <a:latin typeface="Arial Black"/>
                <a:ea typeface="Yu Gothic UI Semibold"/>
              </a:rPr>
              <a:t>102 ЧА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Yu Gothic UI Semibold"/>
              </a:rPr>
              <a:t>«Музыкальное образование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Yu Gothic UI Semibold"/>
              </a:rPr>
              <a:t>и воспитание дошкольник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16"/>
          <p:cNvSpPr/>
          <p:nvPr/>
        </p:nvSpPr>
        <p:spPr>
          <a:xfrm>
            <a:off x="2884320" y="2055960"/>
            <a:ext cx="3137040" cy="21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94a6"/>
                </a:solidFill>
                <a:latin typeface="Arial Black"/>
                <a:ea typeface="Yu Gothic UI Semibold"/>
              </a:rPr>
              <a:t>2016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94a6"/>
                </a:solidFill>
                <a:latin typeface="Arial Black"/>
                <a:ea typeface="Yu Gothic UI Semibold"/>
              </a:rPr>
              <a:t>72 ЧА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Yu Gothic UI Semibold"/>
              </a:rPr>
              <a:t>«Деятельность музыкального руководителя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Yu Gothic UI Semibold"/>
              </a:rPr>
              <a:t>в условиях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Yu Gothic UI Semibold"/>
              </a:rPr>
              <a:t>реализации ФГО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Прямоугольник 20"/>
          <p:cNvSpPr/>
          <p:nvPr/>
        </p:nvSpPr>
        <p:spPr>
          <a:xfrm>
            <a:off x="77760" y="1195560"/>
            <a:ext cx="2451240" cy="3759120"/>
          </a:xfrm>
          <a:prstGeom prst="rect">
            <a:avLst/>
          </a:prstGeom>
          <a:solidFill>
            <a:srgbClr val="0194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19"/>
          <p:cNvSpPr/>
          <p:nvPr/>
        </p:nvSpPr>
        <p:spPr>
          <a:xfrm>
            <a:off x="2622600" y="1195560"/>
            <a:ext cx="6448320" cy="3814560"/>
          </a:xfrm>
          <a:prstGeom prst="rect">
            <a:avLst/>
          </a:prstGeom>
          <a:solidFill>
            <a:srgbClr val="01d3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6360" y="-360"/>
            <a:ext cx="8531280" cy="128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9b33"/>
                </a:solidFill>
                <a:latin typeface="Arial Black"/>
                <a:ea typeface="Yu Gothic UI Semibold"/>
              </a:rPr>
              <a:t>ЦЕЛИ И ЗАДАЧИ </a:t>
            </a:r>
            <a:br>
              <a:rPr sz="3200"/>
            </a:br>
            <a:r>
              <a:rPr b="1" lang="ru-RU" sz="3200" spc="-1" strike="noStrike">
                <a:solidFill>
                  <a:srgbClr val="029b33"/>
                </a:solidFill>
                <a:latin typeface="Arial Black"/>
                <a:ea typeface="Yu Gothic UI Semibold"/>
              </a:rPr>
              <a:t>МУЗЫКАЛЬНОГО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6" descr="https://avatanplus.com/files/resources/original/5895eef000e0715a09ad5984.png"/>
          <p:cNvPicPr/>
          <p:nvPr/>
        </p:nvPicPr>
        <p:blipFill>
          <a:blip r:embed="rId1"/>
          <a:stretch/>
        </p:blipFill>
        <p:spPr>
          <a:xfrm>
            <a:off x="-270000" y="1755720"/>
            <a:ext cx="2799000" cy="3198960"/>
          </a:xfrm>
          <a:prstGeom prst="rect">
            <a:avLst/>
          </a:prstGeom>
          <a:ln w="0">
            <a:noFill/>
          </a:ln>
        </p:spPr>
      </p:pic>
      <p:sp>
        <p:nvSpPr>
          <p:cNvPr id="474" name="Shape 302"/>
          <p:cNvSpPr/>
          <p:nvPr/>
        </p:nvSpPr>
        <p:spPr>
          <a:xfrm>
            <a:off x="468360" y="1724040"/>
            <a:ext cx="1911240" cy="2700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18"/>
          <p:cNvSpPr/>
          <p:nvPr/>
        </p:nvSpPr>
        <p:spPr>
          <a:xfrm>
            <a:off x="2622600" y="1208160"/>
            <a:ext cx="652140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10394964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  <a:ea typeface="Calibri"/>
              </a:rPr>
              <a:t>Цель: </a:t>
            </a:r>
            <a:r>
              <a:rPr b="1" lang="ru-RU" sz="1200" spc="-1" strike="noStrike">
                <a:solidFill>
                  <a:srgbClr val="333333"/>
                </a:solidFill>
                <a:latin typeface="Arial"/>
                <a:ea typeface="Calibri"/>
              </a:rPr>
              <a:t>подготовка к школе эстетически воспитанного и развитого ребенка, умеющего эмоционально воспринимать содержание музыкального произведения, проникаться его настроением, мыслями, чувств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10394964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  <a:ea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03949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Воспитывать любовь и интерес к музы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03949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Обогащать впечатления детей, знакомя их в определенно организованной системе с разнообразными музыкальными произведениями и используемыми средствами выраз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03949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Приобщать детей к разнообразным видам музыкальной деятельности, формируя восприятие музыки и простейшие исполнительские навыки в области пения, ритмики, игры на детских инструментах. Знакомить с начальными элементами музыкальной грамо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03949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Развивать общую музыкальность детей (сенсорные способности, ладовысотный слух, чувство ритма), формировать певческий голос и выразительность движ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03949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Содействовать первоначальному развитию музыкального вку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03949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Развивать творческое отношение к музыке, прежде всего, в такой доступной для детей деятельности, как передача образов в музыкальных играх и хороводах, применение новых сочетаний знакомых танцевальных движ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Shape 40" descr="paint_transparent1.png"/>
          <p:cNvPicPr/>
          <p:nvPr/>
        </p:nvPicPr>
        <p:blipFill>
          <a:blip r:embed="rId1"/>
          <a:stretch/>
        </p:blipFill>
        <p:spPr>
          <a:xfrm>
            <a:off x="2357280" y="407880"/>
            <a:ext cx="5013360" cy="5143680"/>
          </a:xfrm>
          <a:prstGeom prst="rect">
            <a:avLst/>
          </a:prstGeom>
          <a:ln w="0">
            <a:noFill/>
          </a:ln>
        </p:spPr>
      </p:pic>
      <p:sp>
        <p:nvSpPr>
          <p:cNvPr id="477" name="Заголовок 1"/>
          <p:cNvSpPr/>
          <p:nvPr/>
        </p:nvSpPr>
        <p:spPr>
          <a:xfrm>
            <a:off x="1430280" y="558720"/>
            <a:ext cx="555624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9b33"/>
                </a:solidFill>
                <a:latin typeface="Arial Black"/>
                <a:ea typeface="Yu Gothic UI Semibold"/>
              </a:rPr>
              <a:t>МУЗЫКАЛЬНО-ОЗДОРОВИТЕЛЬНЫЕ 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6"/>
          <p:cNvSpPr/>
          <p:nvPr/>
        </p:nvSpPr>
        <p:spPr>
          <a:xfrm>
            <a:off x="200160" y="2104920"/>
            <a:ext cx="610380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29b33"/>
              </a:buClr>
              <a:buSzPct val="10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Улучшение общего эмоционального состояния детей, оздоровление псих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29b33"/>
              </a:buClr>
              <a:buSzPct val="10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Развитие и коррекция познавательной сфе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29b33"/>
              </a:buClr>
              <a:buSzPct val="10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ормализация психических процессов и свойств: памяти, внимания, мышления, речи, развитие произвольности психически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29b33"/>
              </a:buClr>
              <a:buSzPct val="10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Физическое развитие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29b33"/>
              </a:buClr>
              <a:buSzPct val="10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Укрепление, тренировка двигательного аппар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29b33"/>
              </a:buClr>
              <a:buSzPct val="10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Формирование качества дви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29b33"/>
              </a:buClr>
              <a:buSzPct val="10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Развитие эмоционально-волевой 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29b33"/>
              </a:buClr>
              <a:buSzPct val="10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Воспитание уверенности в своих силах, выдержки, волевых черт харак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hape 305"/>
          <p:cNvSpPr/>
          <p:nvPr/>
        </p:nvSpPr>
        <p:spPr>
          <a:xfrm>
            <a:off x="7875720" y="3898800"/>
            <a:ext cx="969840" cy="976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67920" y="-295200"/>
            <a:ext cx="7419960" cy="128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МУЗЫКАЛЬНО-ОЗДОРОВИТЕЛЬНАЯ </a:t>
            </a:r>
            <a:br>
              <a:rPr sz="2200"/>
            </a:b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РАБОТА С ДЕТЬ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hape 145"/>
          <p:cNvSpPr/>
          <p:nvPr/>
        </p:nvSpPr>
        <p:spPr>
          <a:xfrm>
            <a:off x="468360" y="1120680"/>
            <a:ext cx="176364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Дыхательная </a:t>
            </a:r>
            <a:br>
              <a:rPr sz="1000"/>
            </a:b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гимна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hape 145"/>
          <p:cNvSpPr/>
          <p:nvPr/>
        </p:nvSpPr>
        <p:spPr>
          <a:xfrm>
            <a:off x="2382840" y="1120680"/>
            <a:ext cx="176544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Музыкально-ритмическая гимна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hape 145"/>
          <p:cNvSpPr/>
          <p:nvPr/>
        </p:nvSpPr>
        <p:spPr>
          <a:xfrm>
            <a:off x="4299120" y="1120680"/>
            <a:ext cx="176364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Пальчиковые </a:t>
            </a:r>
            <a:br>
              <a:rPr sz="1000"/>
            </a:b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иг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hape 145"/>
          <p:cNvSpPr/>
          <p:nvPr/>
        </p:nvSpPr>
        <p:spPr>
          <a:xfrm>
            <a:off x="6213600" y="1120680"/>
            <a:ext cx="176508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Игротанцы </a:t>
            </a:r>
            <a:br>
              <a:rPr sz="1000"/>
            </a:b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и игроритм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hape 145"/>
          <p:cNvSpPr/>
          <p:nvPr/>
        </p:nvSpPr>
        <p:spPr>
          <a:xfrm>
            <a:off x="468360" y="2355840"/>
            <a:ext cx="176364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Цветотерап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hape 145"/>
          <p:cNvSpPr/>
          <p:nvPr/>
        </p:nvSpPr>
        <p:spPr>
          <a:xfrm>
            <a:off x="2382840" y="2330280"/>
            <a:ext cx="176544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Музыкотерап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hape 145"/>
          <p:cNvSpPr/>
          <p:nvPr/>
        </p:nvSpPr>
        <p:spPr>
          <a:xfrm>
            <a:off x="4299120" y="2330280"/>
            <a:ext cx="176364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Игровой </a:t>
            </a:r>
            <a:br>
              <a:rPr sz="1000"/>
            </a:b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самомасса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hape 145"/>
          <p:cNvSpPr/>
          <p:nvPr/>
        </p:nvSpPr>
        <p:spPr>
          <a:xfrm>
            <a:off x="6213600" y="2330280"/>
            <a:ext cx="176508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Игропла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Рисунок 1" descr=""/>
          <p:cNvPicPr/>
          <p:nvPr/>
        </p:nvPicPr>
        <p:blipFill>
          <a:blip r:embed="rId1"/>
          <a:stretch/>
        </p:blipFill>
        <p:spPr>
          <a:xfrm>
            <a:off x="1138320" y="1190520"/>
            <a:ext cx="423720" cy="424080"/>
          </a:xfrm>
          <a:prstGeom prst="rect">
            <a:avLst/>
          </a:prstGeom>
          <a:ln w="0">
            <a:noFill/>
          </a:ln>
        </p:spPr>
      </p:pic>
      <p:pic>
        <p:nvPicPr>
          <p:cNvPr id="490" name="Рисунок 5" descr=""/>
          <p:cNvPicPr/>
          <p:nvPr/>
        </p:nvPicPr>
        <p:blipFill>
          <a:blip r:embed="rId2"/>
          <a:stretch/>
        </p:blipFill>
        <p:spPr>
          <a:xfrm>
            <a:off x="4968720" y="1190520"/>
            <a:ext cx="424080" cy="424080"/>
          </a:xfrm>
          <a:prstGeom prst="rect">
            <a:avLst/>
          </a:prstGeom>
          <a:ln w="0">
            <a:noFill/>
          </a:ln>
        </p:spPr>
      </p:pic>
      <p:pic>
        <p:nvPicPr>
          <p:cNvPr id="491" name="Рисунок 8" descr=""/>
          <p:cNvPicPr/>
          <p:nvPr/>
        </p:nvPicPr>
        <p:blipFill>
          <a:blip r:embed="rId3"/>
          <a:stretch/>
        </p:blipFill>
        <p:spPr>
          <a:xfrm>
            <a:off x="6883560" y="1190520"/>
            <a:ext cx="423720" cy="424080"/>
          </a:xfrm>
          <a:prstGeom prst="rect">
            <a:avLst/>
          </a:prstGeom>
          <a:ln w="0">
            <a:noFill/>
          </a:ln>
        </p:spPr>
      </p:pic>
      <p:pic>
        <p:nvPicPr>
          <p:cNvPr id="492" name="Рисунок 9" descr=""/>
          <p:cNvPicPr/>
          <p:nvPr/>
        </p:nvPicPr>
        <p:blipFill>
          <a:blip r:embed="rId4"/>
          <a:stretch/>
        </p:blipFill>
        <p:spPr>
          <a:xfrm>
            <a:off x="4968720" y="2454120"/>
            <a:ext cx="424080" cy="425520"/>
          </a:xfrm>
          <a:prstGeom prst="rect">
            <a:avLst/>
          </a:prstGeom>
          <a:ln w="0">
            <a:noFill/>
          </a:ln>
        </p:spPr>
      </p:pic>
      <p:pic>
        <p:nvPicPr>
          <p:cNvPr id="493" name="Рисунок 29" descr=""/>
          <p:cNvPicPr/>
          <p:nvPr/>
        </p:nvPicPr>
        <p:blipFill>
          <a:blip r:embed="rId5"/>
          <a:stretch/>
        </p:blipFill>
        <p:spPr>
          <a:xfrm>
            <a:off x="3013200" y="245412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494" name="Shape 145"/>
          <p:cNvSpPr/>
          <p:nvPr/>
        </p:nvSpPr>
        <p:spPr>
          <a:xfrm>
            <a:off x="468360" y="3591000"/>
            <a:ext cx="1763640" cy="107928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Музыкально-</a:t>
            </a:r>
            <a:br>
              <a:rPr sz="1000"/>
            </a:b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подвижные иг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hape 145"/>
          <p:cNvSpPr/>
          <p:nvPr/>
        </p:nvSpPr>
        <p:spPr>
          <a:xfrm>
            <a:off x="2382840" y="3565440"/>
            <a:ext cx="176544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Психогимна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hape 145"/>
          <p:cNvSpPr/>
          <p:nvPr/>
        </p:nvSpPr>
        <p:spPr>
          <a:xfrm>
            <a:off x="4299120" y="3565440"/>
            <a:ext cx="176364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Креативная </a:t>
            </a:r>
            <a:br>
              <a:rPr sz="1000"/>
            </a:b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гимна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hape 145"/>
          <p:cNvSpPr/>
          <p:nvPr/>
        </p:nvSpPr>
        <p:spPr>
          <a:xfrm>
            <a:off x="6213600" y="3565440"/>
            <a:ext cx="176508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Хоровое оздоровительное п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Рисунок 7" descr=""/>
          <p:cNvPicPr/>
          <p:nvPr/>
        </p:nvPicPr>
        <p:blipFill>
          <a:blip r:embed="rId6"/>
          <a:stretch/>
        </p:blipFill>
        <p:spPr>
          <a:xfrm>
            <a:off x="1049400" y="3645000"/>
            <a:ext cx="503280" cy="504720"/>
          </a:xfrm>
          <a:prstGeom prst="rect">
            <a:avLst/>
          </a:prstGeom>
          <a:ln w="0">
            <a:noFill/>
          </a:ln>
        </p:spPr>
      </p:pic>
      <p:sp>
        <p:nvSpPr>
          <p:cNvPr id="499" name="Shape 317"/>
          <p:cNvSpPr/>
          <p:nvPr/>
        </p:nvSpPr>
        <p:spPr>
          <a:xfrm>
            <a:off x="1057320" y="2550960"/>
            <a:ext cx="587160" cy="328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hape 292"/>
          <p:cNvSpPr/>
          <p:nvPr/>
        </p:nvSpPr>
        <p:spPr>
          <a:xfrm>
            <a:off x="3036960" y="1165320"/>
            <a:ext cx="457200" cy="45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Рисунок 6" descr=""/>
          <p:cNvPicPr/>
          <p:nvPr/>
        </p:nvPicPr>
        <p:blipFill>
          <a:blip r:embed="rId7"/>
          <a:stretch/>
        </p:blipFill>
        <p:spPr>
          <a:xfrm>
            <a:off x="3070080" y="3662280"/>
            <a:ext cx="424080" cy="424080"/>
          </a:xfrm>
          <a:prstGeom prst="rect">
            <a:avLst/>
          </a:prstGeom>
          <a:ln w="0">
            <a:noFill/>
          </a:ln>
        </p:spPr>
      </p:pic>
      <p:sp>
        <p:nvSpPr>
          <p:cNvPr id="502" name="Shape 312"/>
          <p:cNvSpPr/>
          <p:nvPr/>
        </p:nvSpPr>
        <p:spPr>
          <a:xfrm>
            <a:off x="6921360" y="2514600"/>
            <a:ext cx="376200" cy="345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hape 313"/>
          <p:cNvSpPr/>
          <p:nvPr/>
        </p:nvSpPr>
        <p:spPr>
          <a:xfrm>
            <a:off x="5008680" y="3641760"/>
            <a:ext cx="344520" cy="41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hape 352"/>
          <p:cNvSpPr/>
          <p:nvPr/>
        </p:nvSpPr>
        <p:spPr>
          <a:xfrm>
            <a:off x="6772320" y="3687840"/>
            <a:ext cx="557280" cy="323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Заголовок 1"/>
          <p:cNvSpPr/>
          <p:nvPr/>
        </p:nvSpPr>
        <p:spPr>
          <a:xfrm>
            <a:off x="368280" y="146160"/>
            <a:ext cx="927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ФОРМЫ МУЗЫКАЛЬНОГО </a:t>
            </a:r>
            <a:br>
              <a:rPr sz="2200"/>
            </a:b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РАЗВИТИЯ ДОШКОЛЬ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hape 145"/>
          <p:cNvSpPr/>
          <p:nvPr/>
        </p:nvSpPr>
        <p:spPr>
          <a:xfrm>
            <a:off x="479520" y="1428840"/>
            <a:ext cx="3887640" cy="47916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0022"/>
                </a:solidFill>
                <a:latin typeface="Arial Black"/>
                <a:ea typeface="Yu Gothic UI Semibold"/>
              </a:rPr>
              <a:t>ПРАЗДНИКИ И РАЗВЛ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hape 145"/>
          <p:cNvSpPr/>
          <p:nvPr/>
        </p:nvSpPr>
        <p:spPr>
          <a:xfrm>
            <a:off x="468360" y="2000160"/>
            <a:ext cx="3887640" cy="126540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0022"/>
                </a:solidFill>
                <a:latin typeface="Arial Black"/>
                <a:ea typeface="Yu Gothic UI Semibold"/>
              </a:rPr>
              <a:t>ФРОНТАЛЬНЫЕ </a:t>
            </a:r>
            <a:br>
              <a:rPr sz="1400"/>
            </a:br>
            <a:r>
              <a:rPr b="1" lang="ru-RU" sz="1400" spc="-1" strike="noStrike">
                <a:solidFill>
                  <a:srgbClr val="f10022"/>
                </a:solidFill>
                <a:latin typeface="Arial Black"/>
                <a:ea typeface="Yu Gothic UI Semibold"/>
              </a:rPr>
              <a:t>МУЗЫКАЛЬНЫЕ ЗАН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Комплекс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Тематическ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Традицион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hape 145"/>
          <p:cNvSpPr/>
          <p:nvPr/>
        </p:nvSpPr>
        <p:spPr>
          <a:xfrm>
            <a:off x="4473720" y="1428840"/>
            <a:ext cx="3887640" cy="47916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0022"/>
                </a:solidFill>
                <a:latin typeface="Arial Black"/>
                <a:ea typeface="Yu Gothic UI Semibold"/>
              </a:rPr>
              <a:t>МУЗЫКА НА Н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hape 145"/>
          <p:cNvSpPr/>
          <p:nvPr/>
        </p:nvSpPr>
        <p:spPr>
          <a:xfrm>
            <a:off x="468360" y="3363840"/>
            <a:ext cx="3887640" cy="126540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0022"/>
                </a:solidFill>
                <a:latin typeface="Arial Black"/>
                <a:ea typeface="Yu Gothic UI Semibold"/>
              </a:rPr>
              <a:t>ИГРОВАЯ МУЗЫКАЛЬН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Театрализованные музыкальные иг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Музыкальные дидактическ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Игры с пени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hape 145"/>
          <p:cNvSpPr/>
          <p:nvPr/>
        </p:nvSpPr>
        <p:spPr>
          <a:xfrm>
            <a:off x="4473720" y="3363840"/>
            <a:ext cx="3887640" cy="126540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0022"/>
                </a:solidFill>
                <a:latin typeface="Arial Black"/>
                <a:ea typeface="Yu Gothic UI Semibold"/>
              </a:rPr>
              <a:t>ИНДИВИДУАЛЬНЫЕ МУЗЫКАЛЬНЫЕ ЗАН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Развитие слуха и голос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Упражнения и освоение танцевальных движен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Обучение игре на музыкальных инструмента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hape 145"/>
          <p:cNvSpPr/>
          <p:nvPr/>
        </p:nvSpPr>
        <p:spPr>
          <a:xfrm>
            <a:off x="4473720" y="2000160"/>
            <a:ext cx="3887640" cy="126540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0022"/>
                </a:solidFill>
                <a:latin typeface="Arial Black"/>
                <a:ea typeface="Yu Gothic UI Semibold"/>
              </a:rPr>
              <a:t>СОВМЕСТНАЯ ДЕЯТЕЛЬНОСТЬ ВЗРОСЛЫХ И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Театрализованная деятельн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Оркест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Ансамбл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Заголовок 1"/>
          <p:cNvSpPr/>
          <p:nvPr/>
        </p:nvSpPr>
        <p:spPr>
          <a:xfrm>
            <a:off x="368280" y="146160"/>
            <a:ext cx="927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ВЗАИМОДЕЙСТВИЕ </a:t>
            </a:r>
            <a:br>
              <a:rPr sz="2200"/>
            </a:b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С ПЕДАГОГИЧЕСКИМ КОЛЛЕКТИВ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hape 145"/>
          <p:cNvSpPr/>
          <p:nvPr/>
        </p:nvSpPr>
        <p:spPr>
          <a:xfrm>
            <a:off x="468360" y="2092320"/>
            <a:ext cx="2440080" cy="170352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Проведение открытых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музыкальных занятий, вечеров досуга с последующим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их обсуждением и анализ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hape 145"/>
          <p:cNvSpPr/>
          <p:nvPr/>
        </p:nvSpPr>
        <p:spPr>
          <a:xfrm>
            <a:off x="468360" y="1398600"/>
            <a:ext cx="7943760" cy="51768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Практические занятия педагогического коллектива по разучиванию музыкального реперту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hape 145"/>
          <p:cNvSpPr/>
          <p:nvPr/>
        </p:nvSpPr>
        <p:spPr>
          <a:xfrm>
            <a:off x="468360" y="3973680"/>
            <a:ext cx="3851280" cy="52524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Индивидуальные и групповы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(по 2–4 человека) консуль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hape 145"/>
          <p:cNvSpPr/>
          <p:nvPr/>
        </p:nvSpPr>
        <p:spPr>
          <a:xfrm>
            <a:off x="3219480" y="2092320"/>
            <a:ext cx="2440080" cy="1703520"/>
          </a:xfrm>
          <a:prstGeom prst="rect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  <a:ea typeface="Calibri"/>
              </a:rPr>
              <a:t>ФОРМЫ 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  <a:ea typeface="Calibri"/>
              </a:rPr>
              <a:t>ВЗАИМОДЕЙСТВИЯ МУЗЫКАЛЬНОГО РУКОВОДИТЕЛЯ 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  <a:ea typeface="Calibri"/>
              </a:rPr>
              <a:t>И ПЕДАГОГИЧЕСКОГО КОЛЛЕКТИ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hape 145"/>
          <p:cNvSpPr/>
          <p:nvPr/>
        </p:nvSpPr>
        <p:spPr>
          <a:xfrm>
            <a:off x="4543560" y="3973680"/>
            <a:ext cx="3851280" cy="52524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Выступления на педагогических советах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с докладами, тематическими сообщ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hape 145"/>
          <p:cNvSpPr/>
          <p:nvPr/>
        </p:nvSpPr>
        <p:spPr>
          <a:xfrm>
            <a:off x="5970600" y="2092320"/>
            <a:ext cx="2441520" cy="170352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Ознакомление с новой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музыкально-методической литерату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Прямая со стрелкой 3"/>
          <p:cNvCxnSpPr>
            <a:stCxn id="516" idx="0"/>
            <a:endCxn id="514" idx="2"/>
          </p:cNvCxnSpPr>
          <p:nvPr/>
        </p:nvCxnSpPr>
        <p:spPr>
          <a:xfrm flipV="1">
            <a:off x="4439880" y="1915560"/>
            <a:ext cx="1080" cy="176760"/>
          </a:xfrm>
          <a:prstGeom prst="straightConnector1">
            <a:avLst/>
          </a:prstGeom>
          <a:ln w="9360">
            <a:solidFill>
              <a:srgbClr val="f10022"/>
            </a:solidFill>
            <a:miter/>
            <a:tailEnd len="med" type="oval" w="med"/>
          </a:ln>
        </p:spPr>
      </p:cxnSp>
      <p:cxnSp>
        <p:nvCxnSpPr>
          <p:cNvPr id="520" name="Прямая со стрелкой 13"/>
          <p:cNvCxnSpPr>
            <a:stCxn id="516" idx="3"/>
            <a:endCxn id="518" idx="1"/>
          </p:cNvCxnSpPr>
          <p:nvPr/>
        </p:nvCxnSpPr>
        <p:spPr>
          <a:xfrm>
            <a:off x="5659560" y="2944440"/>
            <a:ext cx="311760" cy="1080"/>
          </a:xfrm>
          <a:prstGeom prst="straightConnector1">
            <a:avLst/>
          </a:prstGeom>
          <a:ln w="9360">
            <a:solidFill>
              <a:srgbClr val="f10022"/>
            </a:solidFill>
            <a:miter/>
            <a:tailEnd len="med" type="oval" w="med"/>
          </a:ln>
        </p:spPr>
      </p:cxnSp>
      <p:cxnSp>
        <p:nvCxnSpPr>
          <p:cNvPr id="521" name="Прямая со стрелкой 16"/>
          <p:cNvCxnSpPr>
            <a:stCxn id="516" idx="1"/>
            <a:endCxn id="513" idx="3"/>
          </p:cNvCxnSpPr>
          <p:nvPr/>
        </p:nvCxnSpPr>
        <p:spPr>
          <a:xfrm flipH="1">
            <a:off x="2908080" y="2944440"/>
            <a:ext cx="311760" cy="1080"/>
          </a:xfrm>
          <a:prstGeom prst="straightConnector1">
            <a:avLst/>
          </a:prstGeom>
          <a:ln w="9360">
            <a:solidFill>
              <a:srgbClr val="f10022"/>
            </a:solidFill>
            <a:miter/>
            <a:tailEnd len="med" type="oval" w="med"/>
          </a:ln>
        </p:spPr>
      </p:cxnSp>
      <p:cxnSp>
        <p:nvCxnSpPr>
          <p:cNvPr id="522" name="Прямая со стрелкой 25"/>
          <p:cNvCxnSpPr/>
          <p:nvPr/>
        </p:nvCxnSpPr>
        <p:spPr>
          <a:xfrm>
            <a:off x="5095440" y="3795840"/>
            <a:ext cx="1080" cy="178200"/>
          </a:xfrm>
          <a:prstGeom prst="straightConnector1">
            <a:avLst/>
          </a:prstGeom>
          <a:ln w="9360">
            <a:solidFill>
              <a:srgbClr val="f10022"/>
            </a:solidFill>
            <a:miter/>
            <a:tailEnd len="med" type="oval" w="med"/>
          </a:ln>
        </p:spPr>
      </p:cxnSp>
      <p:cxnSp>
        <p:nvCxnSpPr>
          <p:cNvPr id="523" name="Прямая со стрелкой 27"/>
          <p:cNvCxnSpPr/>
          <p:nvPr/>
        </p:nvCxnSpPr>
        <p:spPr>
          <a:xfrm>
            <a:off x="3784320" y="3795840"/>
            <a:ext cx="1080" cy="178200"/>
          </a:xfrm>
          <a:prstGeom prst="straightConnector1">
            <a:avLst/>
          </a:prstGeom>
          <a:ln w="9360">
            <a:solidFill>
              <a:srgbClr val="f10022"/>
            </a:solidFill>
            <a:miter/>
            <a:tailEnd len="med" type="oval" w="med"/>
          </a:ln>
        </p:spPr>
      </p:cxn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</dc:creator>
  <dc:description/>
  <dc:language>en-US</dc:language>
  <cp:lastModifiedBy>User</cp:lastModifiedBy>
  <dcterms:modified xsi:type="dcterms:W3CDTF">2024-01-27T18:04:55Z</dcterms:modified>
  <cp:revision>81</cp:revision>
  <dc:subject/>
  <dc:title>Презентация PowerPoint</dc:title>
</cp:coreProperties>
</file>