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4.png" ContentType="image/pn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CE40-C534-49F1-9C0A-3206D11E1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F223-55BE-4999-94C3-D7F795BB60C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D80EF-F3F6-4BBD-A5B8-CA3A9BF3342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3B581-3F3F-449A-BB65-158DFFD56D0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0F107-9C68-43ED-9AB9-768AF41FAE2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14A34-4C2E-4CE7-8139-0CA012D91ED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786E2-17DC-480A-97F5-CC5933CD2B7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5ABA5-F83F-4462-B158-F93BA7E3437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BDA6A-235F-48CE-8DE8-1BC6983246E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F2B96-C31E-4421-B36D-230FFC48F8E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1A57E-1EC5-46CF-832C-281E5DA1080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C1239-46CF-489D-B575-F69A23617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4A83-4E37-4E39-A5A4-77E0F1A5A2F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A377F-C11C-486B-8AE9-5A800772D4E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9C80C-2331-4B1C-9E01-62F16E109CA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D22A-F434-43CC-8069-174EF55A971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91D93-5F10-4A73-ADDB-BB0EF3B990D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3F931-5A3A-44A6-91D5-180535E67E8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8CB20-4C7B-43B0-A801-181AB88D7EA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E4D19-6D24-4BF2-9890-A6A7F8994B1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B106-73DA-4386-AB6A-F686199B15F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DF91-5C4C-47C0-BA97-1BF9C7DD69D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23926-3EBD-4859-9323-91C7A4E4B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48B3-3A15-489E-9E13-27DBB80B9D9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02E5-E83C-46C6-BF71-197B6AB64B4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88F19A-CB81-430E-9087-762BDBC7BAA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7DDE4-B3D5-437B-B9E4-A0C6F6F4330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202627-8C03-4D0F-950E-DA0CEAC8513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1EB052-BD4C-42D3-90B7-6CBBEA0BBD1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7A9457-5680-4787-B1DB-BA16CDADC5D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3026D-B5DD-409C-B294-E39F08D2FE9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D8424A-8226-4FD1-866C-76B4363F8AD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2F9586-90FD-46CF-9EFC-9C9804D0435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AAB8F-4D0B-4649-B9CA-038FBBD0C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99D661-7C1E-42E4-BB24-C61B20E6BAF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75A1B-473A-4D1B-A1DA-F67D063B20B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705C06-614C-4E87-B500-350D7FB635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3F1B-5EA0-4D35-AD2A-0404B0B6F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E20F2-B12D-4592-B72B-D38154BA97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F34C-9C5A-4756-BEF5-9518A81571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C956B-2DDA-431D-8C0C-8B3D2D5004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50D60-D7B2-46BB-AB53-6DF7B6DDAC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5C5B1-94BE-4AA3-9C86-6120C7E82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7280-99B1-42CF-AAD0-32CFDC78BB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41618-BD90-412D-91E9-8560F3F763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B017B-07A1-4E10-A69E-65AEF6E779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0ED84-B739-469E-A81E-BCA84B40E4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388A2-DB0B-4501-9476-ADE4E33166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6141-BA63-4D7F-AA19-0D826AF2BD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CE908-5671-42FD-A36A-238006F693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549F-29B4-4C91-BF3D-82A0215657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237-1697-4532-9586-B473788FA9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F34-1996-4446-8E2B-03250F4D69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11E-13CC-4BD2-A766-5FE20A800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EFD14-6A36-443F-96F4-BBE4F6A907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B49-FD56-4671-9140-73479F7F23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427-94DB-4AAE-B9F1-677067A35B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D04-FEF4-4A88-9692-F709BA8535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4F1-21B6-4008-A298-144BBAAAC3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8261-4FC3-4930-AC79-25EBEC7F8A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20D-DA14-4C22-A016-6C8C048E62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FBD-8399-4B95-AA75-D1D53C1D7D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D88-E704-4F9B-AB7F-F8CF1944B2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FC9-BA37-4DC8-AFE3-1D7D43BF5BB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14F12-EFFC-479B-89A4-693C604BA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18A6-0368-4473-A8DE-4B753F3339D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4A0F8-BB99-44D0-B499-2C96016E389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80DA0-6E5D-468E-83EB-D3054297960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52992-1789-4C90-B990-E262D95830B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0C3F3-8438-4586-8A78-B0928CD122C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5D775-7F90-4645-9694-3B69D14755C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B62A4-C951-42B1-846B-99ADD65504C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81DFF-C4C3-4868-9134-A2D2195199D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01C66-5587-4A1E-A184-7F32424EBF2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81C51-E893-4113-990F-80616D447E3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417E5-5193-4383-8DB5-DBB0CD2C5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4756-31D2-4587-8F70-C7F84C80B58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B28E5-974B-4793-9B32-59C94955F81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12F3F-DA89-40AF-9C6F-7AC5A5C3680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BFD57-BC9B-4AF1-B9A2-E67B5D7FD7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92E46-B1A4-4914-88B1-A969A0EA74A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E1403-CE74-46ED-B6E6-5BEEB51ED28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DAF9E-CC82-4E25-8FF4-D7EDE1D232C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46A62-C0EB-4AD6-AFCF-AEBCC2CF5FF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455E8-4441-4BB0-8C9D-DE4640F7D52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E6A0C-1345-4CC4-BA36-23C8B97672F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2FBFE-A439-4AC9-97D1-B3F2DB2C2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AC94-8F74-44A2-A852-CA7B22DC4A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9F334-A038-4D05-9480-CC7D4710E9E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DBEDB-BDCE-46EC-A756-7583B4C1A61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4DCF5-8617-4570-9567-24F67D252D8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7AB2-35A8-458D-AA65-624B583F604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9D50-6B51-41A5-9E49-08644D6C21B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C644-0F5D-4960-8AB3-29890AF9756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C12B-E444-45A5-BCE8-BC242367F95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E813-3D27-468E-B2B1-20CEDC6BC36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812D-1BE6-4823-AC9B-B490D719B69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E47F-76D5-472E-A6FB-F9E7C1667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94C4-C5D7-4A85-9D78-61579BB5735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2578-C472-4B90-90FB-EDF7B284163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A4B1-E0AD-4C68-95E7-957A239B21A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9DC6-C2F6-402C-8B94-F0E0323CFE6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FD11-5CF9-445F-9202-BB02BCA6F83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8226-CC6A-4B05-920F-F8AD8D24EB1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F11FFB-E5E5-49C8-8E83-D70682A1B45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571014-CB8C-43C2-889F-CC511828AFD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BF4124-A834-40A6-A93A-64D8F1C5AEC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366D3B-9BE2-40F2-AA86-BD8735893B2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F935A4-DAA2-4069-94BB-FC0712337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226D-34E5-45CC-9A5A-3B035A99A8E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1CFF8-E457-44C5-8BD5-AA516A6903C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F5D88D-1EA5-4494-A473-A2BFF8AB936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ADD0F5-69B4-4EF7-9C15-576AF78146F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8302CF-6A27-4053-8DE8-FC60DA7FE6D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2B7EDF-C5EA-46E3-9073-250F46921F9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C2D3D7-0360-4964-A72F-23237CD95A2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38A942-53B1-4BE5-82CB-976C3E28047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CEBA2-BD2B-489E-B8EF-A76A2008ECC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E80AC-BC71-4EFE-8338-EF44F7628C9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E73BD-D382-4164-8004-BE9E55294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Lato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7A58-CA81-4377-B213-7E6F7F6FBDAC}" type="slidenum">
              <a:rPr b="0" lang="ru-RU" sz="1800" spc="-1" strike="noStrike">
                <a:solidFill>
                  <a:srgbClr val="ffffff"/>
                </a:solidFill>
                <a:latin typeface="Lato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Shape 40" descr="paint_transparent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9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D08D-6829-459A-9C0F-3C0FC24C584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Shape 51" descr="paint_transparent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0"/>
          </p:nvPr>
        </p:nvSpPr>
        <p:spPr>
          <a:xfrm>
            <a:off x="4297320" y="444816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9AE5-0E25-4FFD-AD7F-59F21952DC86}" type="slidenum">
              <a:rPr b="0" lang="ru-RU" sz="24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hape 22" descr="paint_transparent1.png"/>
          <p:cNvPicPr/>
          <p:nvPr/>
        </p:nvPicPr>
        <p:blipFill>
          <a:blip r:embed="rId3"/>
          <a:stretch/>
        </p:blipFill>
        <p:spPr>
          <a:xfrm>
            <a:off x="996840" y="0"/>
            <a:ext cx="8136000" cy="51436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0" y="0"/>
            <a:ext cx="100656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2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4F87-2A5A-4925-A0C4-F90777F5C1A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Shape 22" descr="paint_transparent1.png"/>
          <p:cNvPicPr/>
          <p:nvPr/>
        </p:nvPicPr>
        <p:blipFill>
          <a:blip r:embed="rId3"/>
          <a:stretch/>
        </p:blipFill>
        <p:spPr>
          <a:xfrm>
            <a:off x="4592520" y="0"/>
            <a:ext cx="4540320" cy="5143680"/>
          </a:xfrm>
          <a:prstGeom prst="rect">
            <a:avLst/>
          </a:prstGeom>
          <a:ln w="0">
            <a:noFill/>
          </a:ln>
        </p:spPr>
      </p:pic>
      <p:pic>
        <p:nvPicPr>
          <p:cNvPr id="119" name="Shape 22" descr="paint_transparent1.png"/>
          <p:cNvPicPr/>
          <p:nvPr/>
        </p:nvPicPr>
        <p:blipFill>
          <a:blip r:embed="rId4"/>
          <a:stretch/>
        </p:blipFill>
        <p:spPr>
          <a:xfrm>
            <a:off x="-11160" y="730080"/>
            <a:ext cx="6954840" cy="44262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0" y="0"/>
            <a:ext cx="5029200" cy="8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3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F22F-91A0-4C59-95EE-B1350AFCC17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Shape 22" descr="paint_transparent1.png"/>
          <p:cNvPicPr/>
          <p:nvPr/>
        </p:nvPicPr>
        <p:blipFill>
          <a:blip r:embed="rId3"/>
          <a:stretch/>
        </p:blipFill>
        <p:spPr>
          <a:xfrm>
            <a:off x="182520" y="-15840"/>
            <a:ext cx="8972640" cy="21146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5"/>
          <p:cNvSpPr/>
          <p:nvPr/>
        </p:nvSpPr>
        <p:spPr>
          <a:xfrm>
            <a:off x="0" y="1951200"/>
            <a:ext cx="9144000" cy="31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0" y="0"/>
            <a:ext cx="1006560" cy="32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4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2BCF-12C3-4978-B559-67ACB3F1E58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Shape 27" descr="paint_transparent1.png"/>
          <p:cNvPicPr/>
          <p:nvPr/>
        </p:nvPicPr>
        <p:blipFill>
          <a:blip r:embed="rId3"/>
          <a:stretch/>
        </p:blipFill>
        <p:spPr>
          <a:xfrm>
            <a:off x="2360520" y="0"/>
            <a:ext cx="6783480" cy="37004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5"/>
          <p:cNvSpPr/>
          <p:nvPr/>
        </p:nvSpPr>
        <p:spPr>
          <a:xfrm>
            <a:off x="0" y="0"/>
            <a:ext cx="2610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2610000" y="3686040"/>
            <a:ext cx="6534000" cy="14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5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645A-7FB5-443D-B21F-607EB312A8B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Shape 33" descr="paint_transparent1.png"/>
          <p:cNvPicPr/>
          <p:nvPr/>
        </p:nvPicPr>
        <p:blipFill>
          <a:blip r:embed="rId3"/>
          <a:srcRect l="0" t="-261" r="-28580" b="0"/>
          <a:stretch/>
        </p:blipFill>
        <p:spPr>
          <a:xfrm rot="16437600">
            <a:off x="5148720" y="-826200"/>
            <a:ext cx="5337360" cy="30402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5"/>
          <p:cNvSpPr/>
          <p:nvPr/>
        </p:nvSpPr>
        <p:spPr>
          <a:xfrm>
            <a:off x="0" y="0"/>
            <a:ext cx="63896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5302080" y="2700360"/>
            <a:ext cx="3841920" cy="257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6872-707C-4F19-9AAD-E9721CADDC5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Shape 33" descr="paint_transparent1.png"/>
          <p:cNvPicPr/>
          <p:nvPr/>
        </p:nvPicPr>
        <p:blipFill>
          <a:blip r:embed="rId3"/>
          <a:srcRect l="0" t="-261" r="-28580" b="0"/>
          <a:stretch/>
        </p:blipFill>
        <p:spPr>
          <a:xfrm rot="16437600">
            <a:off x="5271840" y="-879480"/>
            <a:ext cx="5337000" cy="304164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5"/>
          <p:cNvSpPr/>
          <p:nvPr/>
        </p:nvSpPr>
        <p:spPr>
          <a:xfrm>
            <a:off x="0" y="-436680"/>
            <a:ext cx="65134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5302080" y="2700360"/>
            <a:ext cx="3841920" cy="244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7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4CDF-B56E-4585-B3D9-D2ADBE17657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Shape 22" descr="paint_transparent1.png"/>
          <p:cNvPicPr/>
          <p:nvPr/>
        </p:nvPicPr>
        <p:blipFill>
          <a:blip r:embed="rId3"/>
          <a:stretch/>
        </p:blipFill>
        <p:spPr>
          <a:xfrm>
            <a:off x="2598840" y="0"/>
            <a:ext cx="6545160" cy="514368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5"/>
          <p:cNvSpPr/>
          <p:nvPr/>
        </p:nvSpPr>
        <p:spPr>
          <a:xfrm>
            <a:off x="0" y="0"/>
            <a:ext cx="25988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8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B3D0-E005-4C67-BED4-4EFDF27B3CC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nsportal.ru/shmat" TargetMode="External"/><Relationship Id="rId2" Type="http://schemas.openxmlformats.org/officeDocument/2006/relationships/hyperlink" Target="https://kladraz.ru/users/Shmatova74" TargetMode="External"/><Relationship Id="rId3" Type="http://schemas.openxmlformats.org/officeDocument/2006/relationships/hyperlink" Target="https://infourok.ru/user/shmatova-viktoriya-vasilevna" TargetMode="External"/><Relationship Id="rId4" Type="http://schemas.openxmlformats.org/officeDocument/2006/relationships/hyperlink" Target="https://www.maam.ru/users/873684/zakaz.html" TargetMode="External"/><Relationship Id="rId5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Shape 13" descr="paint_transparent4.png"/>
          <p:cNvPicPr/>
          <p:nvPr/>
        </p:nvPicPr>
        <p:blipFill>
          <a:blip r:embed="rId1"/>
          <a:stretch/>
        </p:blipFill>
        <p:spPr>
          <a:xfrm>
            <a:off x="1187280" y="0"/>
            <a:ext cx="4577040" cy="5143680"/>
          </a:xfrm>
          <a:prstGeom prst="rect">
            <a:avLst/>
          </a:prstGeom>
          <a:ln w="0">
            <a:noFill/>
          </a:ln>
        </p:spPr>
      </p:pic>
      <p:sp>
        <p:nvSpPr>
          <p:cNvPr id="450" name="Shape 14"/>
          <p:cNvSpPr/>
          <p:nvPr/>
        </p:nvSpPr>
        <p:spPr>
          <a:xfrm flipH="1">
            <a:off x="4033800" y="0"/>
            <a:ext cx="53006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7"/>
          <p:cNvSpPr/>
          <p:nvPr/>
        </p:nvSpPr>
        <p:spPr>
          <a:xfrm>
            <a:off x="4071960" y="2355840"/>
            <a:ext cx="5286240" cy="17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Yu Gothic UI Semibold"/>
              </a:rPr>
              <a:t>Шматовой Виктории Василье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музыкального руководи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МБДОУ ЦРР-Д/С «Сказк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Тамбовской обл., г. Мичурин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9"/>
          <p:cNvSpPr/>
          <p:nvPr/>
        </p:nvSpPr>
        <p:spPr>
          <a:xfrm>
            <a:off x="4581360" y="1042920"/>
            <a:ext cx="54612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ПОРТФОЛИ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12"/>
          <p:cNvSpPr/>
          <p:nvPr/>
        </p:nvSpPr>
        <p:spPr>
          <a:xfrm>
            <a:off x="4695840" y="2662200"/>
            <a:ext cx="3776760" cy="0"/>
          </a:xfrm>
          <a:prstGeom prst="line">
            <a:avLst/>
          </a:prstGeom>
          <a:ln w="12600">
            <a:solidFill>
              <a:srgbClr val="0194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10" descr="D:\флешка\фото\z\Фото 086.jpg"/>
          <p:cNvPicPr/>
          <p:nvPr/>
        </p:nvPicPr>
        <p:blipFill>
          <a:blip r:embed="rId2"/>
          <a:stretch/>
        </p:blipFill>
        <p:spPr>
          <a:xfrm rot="21432600">
            <a:off x="496440" y="971280"/>
            <a:ext cx="2243160" cy="337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РАБОТА С РОДИТЕЛЯМИ ВОСПИТАН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hape 145"/>
          <p:cNvSpPr/>
          <p:nvPr/>
        </p:nvSpPr>
        <p:spPr>
          <a:xfrm>
            <a:off x="468360" y="1676520"/>
            <a:ext cx="3887640" cy="1272960"/>
          </a:xfrm>
          <a:prstGeom prst="rect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апки-передвижки с  меняющейся  информацией (статьи, рекомендации, знакомство с муз. репертуаром, с возрастными  особенности  муз. развития детей и т.д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Индивидуальные  встречи  по желанию  родителей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Знакомство  с  результатами  музыкальной диагности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Групповые консультаци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1"/>
          <p:cNvSpPr/>
          <p:nvPr/>
        </p:nvSpPr>
        <p:spPr>
          <a:xfrm>
            <a:off x="393840" y="1120680"/>
            <a:ext cx="399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КОНСУЛЬТ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ДЛЯ  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hape 145"/>
          <p:cNvSpPr/>
          <p:nvPr/>
        </p:nvSpPr>
        <p:spPr>
          <a:xfrm>
            <a:off x="4572000" y="1676520"/>
            <a:ext cx="3887640" cy="1272960"/>
          </a:xfrm>
          <a:prstGeom prst="rect">
            <a:avLst/>
          </a:prstGeom>
          <a:solidFill>
            <a:srgbClr val="019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Создание  домашней  фонотеки,  подбор  произведений  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для  семейного  прослушивания, рекомендации  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о слушанию  музы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омощь в создании  домашнего театра,  в  организации  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детских праздников дома  в  кругу  друзе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омощь  в  подборе  детских  музыкальных  инструментов 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для  совместного  музицирования  в  кругу  семьи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15"/>
          <p:cNvSpPr/>
          <p:nvPr/>
        </p:nvSpPr>
        <p:spPr>
          <a:xfrm>
            <a:off x="4497480" y="1120680"/>
            <a:ext cx="399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ПОМОЩЬ В РАЗВИТИИ  МУЗЫКАЛЬНЫХ  СПОСОБ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hape 145"/>
          <p:cNvSpPr/>
          <p:nvPr/>
        </p:nvSpPr>
        <p:spPr>
          <a:xfrm>
            <a:off x="504720" y="3627360"/>
            <a:ext cx="3888000" cy="127332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Тематические  выставк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Календарь  с указанием  дат  основных  мероприяти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Тетрадь  отзывов и пожелан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ередвижная фонотек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ередвижная  библиотека (знакомство  с композиторами, жанрами,  музыкальными  инструментами, с  народными   праздниками,  обрядами,  с  детскими  популярными  песнями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17"/>
          <p:cNvSpPr/>
          <p:nvPr/>
        </p:nvSpPr>
        <p:spPr>
          <a:xfrm>
            <a:off x="393840" y="3083040"/>
            <a:ext cx="399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b320"/>
                </a:solidFill>
                <a:latin typeface="Arial Black"/>
                <a:ea typeface="Yu Gothic UI Semibold"/>
              </a:rPr>
              <a:t>НАГЛЯДНАЯ  </a:t>
            </a:r>
            <a:br>
              <a:rPr sz="1400"/>
            </a:br>
            <a:r>
              <a:rPr b="1" lang="ru-RU" sz="1400" spc="-1" strike="noStrike">
                <a:solidFill>
                  <a:srgbClr val="ffb320"/>
                </a:solidFill>
                <a:latin typeface="Arial Black"/>
                <a:ea typeface="Yu Gothic UI Semibold"/>
              </a:rPr>
              <a:t>АГИ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hape 145"/>
          <p:cNvSpPr/>
          <p:nvPr/>
        </p:nvSpPr>
        <p:spPr>
          <a:xfrm>
            <a:off x="4608360" y="3627360"/>
            <a:ext cx="3888000" cy="1273320"/>
          </a:xfrm>
          <a:prstGeom prst="rect">
            <a:avLst/>
          </a:prstGeom>
          <a:solidFill>
            <a:srgbClr val="d006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Изготовление  костюмов, декораций, украшение  зала и т.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Участие родителей  в роли  артистов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омощь  в организации,  проведении,  активное  участие  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в  представлениях (пение,  танцы, игры  и т.д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19"/>
          <p:cNvSpPr/>
          <p:nvPr/>
        </p:nvSpPr>
        <p:spPr>
          <a:xfrm>
            <a:off x="4533840" y="3083040"/>
            <a:ext cx="399744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0068b"/>
                </a:solidFill>
                <a:latin typeface="Arial Black"/>
                <a:ea typeface="Yu Gothic UI Semibold"/>
              </a:rPr>
              <a:t>ПРИВЛЕЧЕНИЕ РОДИТЕЛЕЙ </a:t>
            </a:r>
            <a:br>
              <a:rPr sz="1400"/>
            </a:br>
            <a:r>
              <a:rPr b="1" lang="ru-RU" sz="1400" spc="-1" strike="noStrike">
                <a:solidFill>
                  <a:srgbClr val="d0068b"/>
                </a:solidFill>
                <a:latin typeface="Arial Black"/>
                <a:ea typeface="Yu Gothic UI Semibold"/>
              </a:rPr>
              <a:t>К СОВМЕСТНЫМ РАЗВЛЕЧЕН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ИСПОЛЬЗОВАНИЕ ИКТ В МУЗЫКАЛЬНОМ </a:t>
            </a:r>
            <a:br>
              <a:rPr sz="2200"/>
            </a:b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ВОСПИТАНИИ ДОШКОЛЬНИК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hape 145"/>
          <p:cNvSpPr/>
          <p:nvPr/>
        </p:nvSpPr>
        <p:spPr>
          <a:xfrm>
            <a:off x="393840" y="1751040"/>
            <a:ext cx="19634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Подбор иллюстративного материала к занятиям, родительских уголков группы, информационного материала для оформления стендов,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папок-передвижек, подбор нотного материала и пр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hape 145"/>
          <p:cNvSpPr/>
          <p:nvPr/>
        </p:nvSpPr>
        <p:spPr>
          <a:xfrm>
            <a:off x="2354400" y="1751040"/>
            <a:ext cx="19634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Подбор дополнительного познавательного материала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к занятиям, знакомство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о сценариями развлечений, праздников и других мероприяти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hape 145"/>
          <p:cNvSpPr/>
          <p:nvPr/>
        </p:nvSpPr>
        <p:spPr>
          <a:xfrm>
            <a:off x="2354400" y="3792600"/>
            <a:ext cx="196344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Обмен опытом, знакомство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 периодикой, наработками других педагого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hape 145"/>
          <p:cNvSpPr/>
          <p:nvPr/>
        </p:nvSpPr>
        <p:spPr>
          <a:xfrm>
            <a:off x="6275520" y="1751040"/>
            <a:ext cx="19634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оздание презентаций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(в программе Рower Рoint)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для повышения эффективности образовательной работы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 детьми и педагогической компетенции у педагогов, родителе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hape 145"/>
          <p:cNvSpPr/>
          <p:nvPr/>
        </p:nvSpPr>
        <p:spPr>
          <a:xfrm>
            <a:off x="6267600" y="3760920"/>
            <a:ext cx="196524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Наличие собственного сайта музыкального руководителя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в сети Интернет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hape 145"/>
          <p:cNvSpPr/>
          <p:nvPr/>
        </p:nvSpPr>
        <p:spPr>
          <a:xfrm>
            <a:off x="4303800" y="3792600"/>
            <a:ext cx="196380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оздание электронной почты, ведение сайта ДОУ (налич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транички музыкального руководителя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hape 145"/>
          <p:cNvSpPr/>
          <p:nvPr/>
        </p:nvSpPr>
        <p:spPr>
          <a:xfrm>
            <a:off x="4314960" y="1719360"/>
            <a:ext cx="196344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оздание медиатеки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по вопросам развития музыкального развития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детей дошкольного возраста, которые представляют интерес не только для музыкального руководителя, педагогов,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но и для родителе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hape 145"/>
          <p:cNvSpPr/>
          <p:nvPr/>
        </p:nvSpPr>
        <p:spPr>
          <a:xfrm>
            <a:off x="411120" y="3792600"/>
            <a:ext cx="196380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Оформление буклетов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по вопросам развития музыкальности детей с ОВЗ, материалов по различным направлениям деятельност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hape 276"/>
          <p:cNvSpPr/>
          <p:nvPr/>
        </p:nvSpPr>
        <p:spPr>
          <a:xfrm>
            <a:off x="488880" y="1308240"/>
            <a:ext cx="387360" cy="34272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hape 298"/>
          <p:cNvSpPr/>
          <p:nvPr/>
        </p:nvSpPr>
        <p:spPr>
          <a:xfrm>
            <a:off x="2446200" y="1297080"/>
            <a:ext cx="365400" cy="36648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hape 305"/>
          <p:cNvSpPr/>
          <p:nvPr/>
        </p:nvSpPr>
        <p:spPr>
          <a:xfrm>
            <a:off x="509760" y="3341520"/>
            <a:ext cx="345960" cy="34776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hape 312"/>
          <p:cNvSpPr/>
          <p:nvPr/>
        </p:nvSpPr>
        <p:spPr>
          <a:xfrm>
            <a:off x="4424400" y="1306440"/>
            <a:ext cx="376200" cy="34632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hape 331"/>
          <p:cNvSpPr/>
          <p:nvPr/>
        </p:nvSpPr>
        <p:spPr>
          <a:xfrm>
            <a:off x="6307200" y="1312920"/>
            <a:ext cx="382680" cy="33480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hape 295"/>
          <p:cNvSpPr/>
          <p:nvPr/>
        </p:nvSpPr>
        <p:spPr>
          <a:xfrm>
            <a:off x="4403880" y="3313080"/>
            <a:ext cx="417240" cy="40500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hape 332"/>
          <p:cNvSpPr/>
          <p:nvPr/>
        </p:nvSpPr>
        <p:spPr>
          <a:xfrm>
            <a:off x="6307200" y="3303720"/>
            <a:ext cx="419040" cy="42372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hape 289"/>
          <p:cNvSpPr/>
          <p:nvPr/>
        </p:nvSpPr>
        <p:spPr>
          <a:xfrm>
            <a:off x="2446200" y="3346560"/>
            <a:ext cx="365400" cy="33660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Заголовок 1"/>
          <p:cNvSpPr/>
          <p:nvPr/>
        </p:nvSpPr>
        <p:spPr>
          <a:xfrm>
            <a:off x="271440" y="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ОБОБЩЕНИЕ И РАСПРОСТРАН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ПЕДАГОГИЧЕСКОГО ОПЫТА   2017 - 2022 Г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0" y="919080"/>
          <a:ext cx="8978760" cy="3971880"/>
        </p:xfrm>
        <a:graphic>
          <a:graphicData uri="http://schemas.openxmlformats.org/drawingml/2006/table">
            <a:tbl>
              <a:tblPr/>
              <a:tblGrid>
                <a:gridCol w="5767560"/>
                <a:gridCol w="1066680"/>
                <a:gridCol w="21445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a20000"/>
                          </a:solidFill>
                          <a:latin typeface="Arial"/>
                        </a:rPr>
                        <a:t>Наименование мероприятия (заседание МО, педсовет, семинар, конфер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a20000"/>
                          </a:solidFill>
                          <a:latin typeface="Arial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a20000"/>
                          </a:solidFill>
                          <a:latin typeface="Arial"/>
                        </a:rPr>
                        <a:t>Форма учас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ПО по музыкальному развитию дошкольников. Доклад: «Современные образовательные технологии в работе музыкального руководителя ДОУ»                                              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0.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ладч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ПО по физическому развитию дошкольников. Доклад: «Музыкальное сопровождение зарядк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5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ладч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ПО по ИКТ. Доклад: «Применение электронных таблиц в работе музыкального руководител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0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ладч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ый педсовет МБДОУ ЦРР-Д/С «Сказка». Анализ работы музыкального руководител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5.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ПО по работе с одаренными детьми «Развитие музыкально-одаренных детей». Мастер-класс :»Музыкальные игры, как средство активизации музыкального развития ребен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2.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я для воспитателей ДОУ «Значение музыкального воспитания для дошкольник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3.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аю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-практикум по социально-коммуникативному развитию дошкольников. Открытое занятие «Создание предпосылок ранней профориентации дошкольников средствами РПП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4.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ающ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 за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и обобщение опыта работы. «Путешествие в страну танце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5.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ация работы кружка «Веселый каблучок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Овал 11"/>
          <p:cNvSpPr/>
          <p:nvPr/>
        </p:nvSpPr>
        <p:spPr>
          <a:xfrm>
            <a:off x="368280" y="1147680"/>
            <a:ext cx="3530520" cy="353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0022"/>
                </a:solidFill>
                <a:latin typeface="Arial Black"/>
              </a:rPr>
              <a:t>МОИ ДОСТ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20"/>
          <p:cNvSpPr/>
          <p:nvPr/>
        </p:nvSpPr>
        <p:spPr>
          <a:xfrm>
            <a:off x="2970360" y="4653000"/>
            <a:ext cx="505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hape 312"/>
          <p:cNvSpPr/>
          <p:nvPr/>
        </p:nvSpPr>
        <p:spPr>
          <a:xfrm>
            <a:off x="1308240" y="2151000"/>
            <a:ext cx="1652400" cy="152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4" descr="C:\Users\User\Desktop\аттестация 2022\2020 0 диплом.jpeg"/>
          <p:cNvPicPr/>
          <p:nvPr/>
        </p:nvPicPr>
        <p:blipFill>
          <a:blip r:embed="rId1"/>
          <a:stretch/>
        </p:blipFill>
        <p:spPr>
          <a:xfrm>
            <a:off x="0" y="2612880"/>
            <a:ext cx="1789200" cy="25308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5" descr="C:\Users\User\Desktop\аттестация 2022\Binder1__22_aa327.jpg"/>
          <p:cNvPicPr/>
          <p:nvPr/>
        </p:nvPicPr>
        <p:blipFill>
          <a:blip r:embed="rId2"/>
          <a:stretch/>
        </p:blipFill>
        <p:spPr>
          <a:xfrm>
            <a:off x="1498680" y="857160"/>
            <a:ext cx="1900080" cy="26877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6" descr="C:\Users\User\Desktop\аттестация 2022\диплом 2019.jpg"/>
          <p:cNvPicPr/>
          <p:nvPr/>
        </p:nvPicPr>
        <p:blipFill>
          <a:blip r:embed="rId3"/>
          <a:stretch/>
        </p:blipFill>
        <p:spPr>
          <a:xfrm>
            <a:off x="3228840" y="2641680"/>
            <a:ext cx="1731960" cy="2502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C:\Users\User\Desktop\аттестация 2022\Binder1__11_861e1.jpg"/>
          <p:cNvPicPr/>
          <p:nvPr/>
        </p:nvPicPr>
        <p:blipFill>
          <a:blip r:embed="rId4"/>
          <a:stretch/>
        </p:blipFill>
        <p:spPr>
          <a:xfrm>
            <a:off x="4919760" y="792000"/>
            <a:ext cx="2125440" cy="3059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0" descr=""/>
          <p:cNvPicPr/>
          <p:nvPr/>
        </p:nvPicPr>
        <p:blipFill>
          <a:blip r:embed="rId5"/>
          <a:stretch/>
        </p:blipFill>
        <p:spPr>
          <a:xfrm>
            <a:off x="7048440" y="2244600"/>
            <a:ext cx="2095560" cy="3035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11" descr=""/>
          <p:cNvPicPr/>
          <p:nvPr/>
        </p:nvPicPr>
        <p:blipFill>
          <a:blip r:embed="rId1"/>
          <a:stretch/>
        </p:blipFill>
        <p:spPr>
          <a:xfrm>
            <a:off x="1547640" y="2598840"/>
            <a:ext cx="1851120" cy="2544840"/>
          </a:xfrm>
          <a:prstGeom prst="rect">
            <a:avLst/>
          </a:prstGeom>
          <a:ln w="0">
            <a:noFill/>
          </a:ln>
        </p:spPr>
      </p:pic>
      <p:sp>
        <p:nvSpPr>
          <p:cNvPr id="562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ДОСТИЖЕНИЯ ВОСПИТАН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9" descr="D:\флешка\сценарии 2020-2021\искорки тамбовщины\Диплом Искорки Костикова  1 место.jpg"/>
          <p:cNvPicPr/>
          <p:nvPr/>
        </p:nvPicPr>
        <p:blipFill>
          <a:blip r:embed="rId2"/>
          <a:stretch/>
        </p:blipFill>
        <p:spPr>
          <a:xfrm>
            <a:off x="0" y="963720"/>
            <a:ext cx="1846440" cy="26161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0" descr="D:\флешка\сценарии 2020-2021\искорки тамбовщины\Диплом Искорки Растрыгина  2 место.jpg"/>
          <p:cNvPicPr/>
          <p:nvPr/>
        </p:nvPicPr>
        <p:blipFill>
          <a:blip r:embed="rId3"/>
          <a:stretch/>
        </p:blipFill>
        <p:spPr>
          <a:xfrm>
            <a:off x="4300560" y="2487600"/>
            <a:ext cx="1887480" cy="26560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2" descr=""/>
          <p:cNvPicPr/>
          <p:nvPr/>
        </p:nvPicPr>
        <p:blipFill>
          <a:blip r:embed="rId4"/>
          <a:stretch/>
        </p:blipFill>
        <p:spPr>
          <a:xfrm>
            <a:off x="6176880" y="687240"/>
            <a:ext cx="2967120" cy="20764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3" descr=""/>
          <p:cNvPicPr/>
          <p:nvPr/>
        </p:nvPicPr>
        <p:blipFill>
          <a:blip r:embed="rId5"/>
          <a:stretch/>
        </p:blipFill>
        <p:spPr>
          <a:xfrm>
            <a:off x="3021120" y="874800"/>
            <a:ext cx="1698480" cy="21985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4" descr=""/>
          <p:cNvPicPr/>
          <p:nvPr/>
        </p:nvPicPr>
        <p:blipFill>
          <a:blip r:embed="rId6"/>
          <a:stretch/>
        </p:blipFill>
        <p:spPr>
          <a:xfrm>
            <a:off x="7081920" y="2681280"/>
            <a:ext cx="1741320" cy="24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551196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МОИ ПУБЛ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"/>
          <p:cNvSpPr/>
          <p:nvPr/>
        </p:nvSpPr>
        <p:spPr>
          <a:xfrm>
            <a:off x="685800" y="1351080"/>
            <a:ext cx="6099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йт музыкального руководителя - </a:t>
            </a:r>
            <a:r>
              <a:rPr b="0" lang="en-US" sz="1600" spc="-1" strike="noStrike" u="sng">
                <a:solidFill>
                  <a:srgbClr val="1155cc"/>
                </a:solidFill>
                <a:uFillTx/>
                <a:latin typeface="Arial"/>
                <a:hlinkClick r:id="rId1"/>
              </a:rPr>
              <a:t>https://nsportal.ru/sh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ог педагога - </a:t>
            </a:r>
            <a:r>
              <a:rPr b="0" lang="en-US" sz="1600" spc="-1" strike="noStrike" u="sng">
                <a:solidFill>
                  <a:srgbClr val="1155cc"/>
                </a:solidFill>
                <a:uFillTx/>
                <a:latin typeface="Arial"/>
                <a:hlinkClick r:id="rId2"/>
              </a:rPr>
              <a:t>https://kladraz.ru/users/Shmatova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ский сайт - </a:t>
            </a:r>
            <a:r>
              <a:rPr b="0" lang="en-US" sz="1600" spc="-1" strike="noStrike" u="sng">
                <a:solidFill>
                  <a:srgbClr val="1155cc"/>
                </a:solidFill>
                <a:uFillTx/>
                <a:latin typeface="Arial"/>
                <a:hlinkClick r:id="rId3"/>
              </a:rPr>
              <a:t>https://infourok.ru/user/shmatova-viktoriya-vasilev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ог   музыкального руководителя - </a:t>
            </a:r>
            <a:r>
              <a:rPr b="0" lang="en-US" sz="1600" spc="-1" strike="noStrike" u="sng">
                <a:solidFill>
                  <a:srgbClr val="1155cc"/>
                </a:solidFill>
                <a:uFillTx/>
                <a:latin typeface="Arial"/>
                <a:hlinkClick r:id="rId4"/>
              </a:rPr>
              <a:t>https://www.maam.ru/users/873684/zakaz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727200" y="1112760"/>
          <a:ext cx="8012160" cy="3773520"/>
        </p:xfrm>
        <a:graphic>
          <a:graphicData uri="http://schemas.openxmlformats.org/drawingml/2006/table">
            <a:tbl>
              <a:tblPr/>
              <a:tblGrid>
                <a:gridCol w="2522520"/>
                <a:gridCol w="5489640"/>
              </a:tblGrid>
              <a:tr h="57168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9b33"/>
                          </a:solidFill>
                          <a:latin typeface="Arial"/>
                          <a:ea typeface="Calibri"/>
                        </a:rPr>
                        <a:t>Ф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матова Виктория Васи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9b33"/>
                          </a:solidFill>
                          <a:latin typeface="Arial"/>
                          <a:ea typeface="Calibri"/>
                        </a:rPr>
                        <a:t>Дол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ый 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652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9b33"/>
                          </a:solidFill>
                          <a:latin typeface="Arial"/>
                          <a:ea typeface="Calibri"/>
                        </a:rPr>
                        <a:t>Наименование дошкольной образовательной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ДОУ ЦРР-Д/С «Сказка» г.Мичуринска, Тамбовской об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9b33"/>
                          </a:solidFill>
                          <a:latin typeface="Arial"/>
                        </a:rPr>
                        <a:t>Стаж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й - 3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ический - 1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данном ДОУ - 3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80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9b33"/>
                          </a:solidFill>
                          <a:latin typeface="Arial"/>
                        </a:rPr>
                        <a:t>Квалификационная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3840" y="169560"/>
            <a:ext cx="551016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ЛИЧНЫЕ ДА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79440" y="155160"/>
            <a:ext cx="5511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ОБРАЗ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hape 286"/>
          <p:cNvSpPr/>
          <p:nvPr/>
        </p:nvSpPr>
        <p:spPr>
          <a:xfrm>
            <a:off x="579600" y="1747800"/>
            <a:ext cx="1020600" cy="878040"/>
          </a:xfrm>
          <a:prstGeom prst="pie">
            <a:avLst/>
          </a:prstGeom>
          <a:solidFill>
            <a:srgbClr val="029b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hape 327"/>
          <p:cNvSpPr/>
          <p:nvPr/>
        </p:nvSpPr>
        <p:spPr>
          <a:xfrm>
            <a:off x="566640" y="3333600"/>
            <a:ext cx="1046160" cy="849600"/>
          </a:xfrm>
          <a:prstGeom prst="pie">
            <a:avLst/>
          </a:prstGeom>
          <a:solidFill>
            <a:srgbClr val="029b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6"/>
          <p:cNvSpPr/>
          <p:nvPr/>
        </p:nvSpPr>
        <p:spPr>
          <a:xfrm>
            <a:off x="2158920" y="1611360"/>
            <a:ext cx="52005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199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Липецкое музыкальное училище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педагог ДМШ, концертмейс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7"/>
          <p:cNvSpPr/>
          <p:nvPr/>
        </p:nvSpPr>
        <p:spPr>
          <a:xfrm>
            <a:off x="2158920" y="3214800"/>
            <a:ext cx="58183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200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Мичуринский государственный институт, 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67920" y="285840"/>
            <a:ext cx="7419960" cy="128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КУРСЫ ПОВЫШЕНИЯ КВАЛ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5"/>
          <p:cNvSpPr/>
          <p:nvPr/>
        </p:nvSpPr>
        <p:spPr>
          <a:xfrm>
            <a:off x="0" y="3235320"/>
            <a:ext cx="2887560" cy="1908360"/>
          </a:xfrm>
          <a:prstGeom prst="rect">
            <a:avLst/>
          </a:prstGeom>
          <a:solidFill>
            <a:srgbClr val="d006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7"/>
          <p:cNvSpPr/>
          <p:nvPr/>
        </p:nvSpPr>
        <p:spPr>
          <a:xfrm>
            <a:off x="2889360" y="2624040"/>
            <a:ext cx="3133440" cy="2519640"/>
          </a:xfrm>
          <a:prstGeom prst="rect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8"/>
          <p:cNvSpPr/>
          <p:nvPr/>
        </p:nvSpPr>
        <p:spPr>
          <a:xfrm>
            <a:off x="5904000" y="2011320"/>
            <a:ext cx="3240000" cy="313236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9"/>
          <p:cNvSpPr/>
          <p:nvPr/>
        </p:nvSpPr>
        <p:spPr>
          <a:xfrm>
            <a:off x="0" y="2651040"/>
            <a:ext cx="287964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2014 ГОД </a:t>
            </a:r>
            <a:br>
              <a:rPr sz="1400"/>
            </a:br>
            <a:r>
              <a:rPr b="1" lang="ru-RU" sz="1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104 ЧА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«Музыкальное образование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и воспитание дошкольник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12"/>
          <p:cNvSpPr/>
          <p:nvPr/>
        </p:nvSpPr>
        <p:spPr>
          <a:xfrm>
            <a:off x="6848640" y="2263680"/>
            <a:ext cx="23032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5904000" y="1494000"/>
            <a:ext cx="32400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0068b"/>
                </a:solidFill>
                <a:latin typeface="Arial Black"/>
                <a:ea typeface="Yu Gothic UI Semibold"/>
              </a:rPr>
              <a:t>2020 ГОД </a:t>
            </a:r>
            <a:br>
              <a:rPr sz="1400"/>
            </a:br>
            <a:r>
              <a:rPr b="1" lang="ru-RU" sz="1400" spc="-1" strike="noStrike">
                <a:solidFill>
                  <a:srgbClr val="d0068b"/>
                </a:solidFill>
                <a:latin typeface="Arial Black"/>
                <a:ea typeface="Yu Gothic UI Semibold"/>
              </a:rPr>
              <a:t>102 ЧА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«Музыкальное образование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и воспитание дошкольник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6"/>
          <p:cNvSpPr/>
          <p:nvPr/>
        </p:nvSpPr>
        <p:spPr>
          <a:xfrm>
            <a:off x="2884320" y="2055960"/>
            <a:ext cx="313704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201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72 ЧА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«Деятельность музыкального руководителя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в условиях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реализации ФГО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рямоугольник 20"/>
          <p:cNvSpPr/>
          <p:nvPr/>
        </p:nvSpPr>
        <p:spPr>
          <a:xfrm>
            <a:off x="77760" y="1195560"/>
            <a:ext cx="2451240" cy="3759120"/>
          </a:xfrm>
          <a:prstGeom prst="rect">
            <a:avLst/>
          </a:prstGeom>
          <a:solidFill>
            <a:srgbClr val="019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19"/>
          <p:cNvSpPr/>
          <p:nvPr/>
        </p:nvSpPr>
        <p:spPr>
          <a:xfrm>
            <a:off x="2622600" y="1195560"/>
            <a:ext cx="6448320" cy="3814560"/>
          </a:xfrm>
          <a:prstGeom prst="rect">
            <a:avLst/>
          </a:prstGeom>
          <a:solidFill>
            <a:srgbClr val="01d3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6360" y="-360"/>
            <a:ext cx="8531280" cy="128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ЦЕЛИ И ЗАДАЧИ </a:t>
            </a:r>
            <a:br>
              <a:rPr sz="3200"/>
            </a:br>
            <a:r>
              <a:rPr b="1" lang="ru-RU" sz="32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МУЗЫКАЛЬНОГО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https://avatanplus.com/files/resources/original/5895eef000e0715a09ad5984.png"/>
          <p:cNvPicPr/>
          <p:nvPr/>
        </p:nvPicPr>
        <p:blipFill>
          <a:blip r:embed="rId1"/>
          <a:stretch/>
        </p:blipFill>
        <p:spPr>
          <a:xfrm>
            <a:off x="-270000" y="1755720"/>
            <a:ext cx="2799000" cy="3198960"/>
          </a:xfrm>
          <a:prstGeom prst="rect">
            <a:avLst/>
          </a:prstGeom>
          <a:ln w="0">
            <a:noFill/>
          </a:ln>
        </p:spPr>
      </p:pic>
      <p:sp>
        <p:nvSpPr>
          <p:cNvPr id="474" name="Shape 302"/>
          <p:cNvSpPr/>
          <p:nvPr/>
        </p:nvSpPr>
        <p:spPr>
          <a:xfrm>
            <a:off x="468360" y="1724040"/>
            <a:ext cx="1911240" cy="2700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18"/>
          <p:cNvSpPr/>
          <p:nvPr/>
        </p:nvSpPr>
        <p:spPr>
          <a:xfrm>
            <a:off x="2622600" y="1208160"/>
            <a:ext cx="652140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10394964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  <a:ea typeface="Calibri"/>
              </a:rPr>
              <a:t>Цель: </a:t>
            </a:r>
            <a:r>
              <a:rPr b="1" lang="ru-RU" sz="1200" spc="-1" strike="noStrike">
                <a:solidFill>
                  <a:srgbClr val="333333"/>
                </a:solidFill>
                <a:latin typeface="Arial"/>
                <a:ea typeface="Calibri"/>
              </a:rPr>
              <a:t>подготовка к школе эстетически воспитанного и развитого ребенка, умеющего эмоционально воспринимать содержание музыкального произведения, проникаться его настроением, мыслями, чувст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10394964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  <a:ea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Воспитывать любовь и интерес к музы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Обогащать впечатления детей, знакомя их в определенно организованной системе с разнообразными музыкальными произведениями и используемыми средствами выраз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Приобщать детей к разнообразным видам музыкальной деятельности, формируя восприятие музыки и простейшие исполнительские навыки в области пения, ритмики, игры на детских инструментах. Знакомить с начальными элементами музыкальной грам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Развивать общую музыкальность детей (сенсорные способности, ладовысотный слух, чувство ритма), формировать певческий голос и выразительность дви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Содействовать первоначальному развитию музыкального вку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Развивать творческое отношение к музыке, прежде всего, в такой доступной для детей деятельности, как передача образов в музыкальных играх и хороводах, применение новых сочетаний знакомых танцевальных дви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Shape 40" descr="paint_transparent1.png"/>
          <p:cNvPicPr/>
          <p:nvPr/>
        </p:nvPicPr>
        <p:blipFill>
          <a:blip r:embed="rId1"/>
          <a:stretch/>
        </p:blipFill>
        <p:spPr>
          <a:xfrm>
            <a:off x="2357280" y="407880"/>
            <a:ext cx="5013360" cy="5143680"/>
          </a:xfrm>
          <a:prstGeom prst="rect">
            <a:avLst/>
          </a:prstGeom>
          <a:ln w="0">
            <a:noFill/>
          </a:ln>
        </p:spPr>
      </p:pic>
      <p:sp>
        <p:nvSpPr>
          <p:cNvPr id="477" name="Заголовок 1"/>
          <p:cNvSpPr/>
          <p:nvPr/>
        </p:nvSpPr>
        <p:spPr>
          <a:xfrm>
            <a:off x="1430280" y="558720"/>
            <a:ext cx="55562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МУЗЫКАЛЬНО-ОЗДОРОВИТЕЛЬНЫЕ 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6"/>
          <p:cNvSpPr/>
          <p:nvPr/>
        </p:nvSpPr>
        <p:spPr>
          <a:xfrm>
            <a:off x="200160" y="2104920"/>
            <a:ext cx="61038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Улучшение общего эмоционального состояния детей, оздоровление псих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Развитие и коррекция познавательной сфе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ормализация психических процессов и свойств: памяти, внимания, мышления, речи, развитие произвольности психически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Физическое развитие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Укрепление, тренировка двигательного аппар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Формирование качества дви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Развитие эмоционально-волевой 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Воспитание уверенности в своих силах, выдержки, волевых черт харак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hape 305"/>
          <p:cNvSpPr/>
          <p:nvPr/>
        </p:nvSpPr>
        <p:spPr>
          <a:xfrm>
            <a:off x="7875720" y="3898800"/>
            <a:ext cx="969840" cy="9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67920" y="-295200"/>
            <a:ext cx="7419960" cy="128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МУЗЫКАЛЬНО-ОЗДОРОВИТЕЛЬНАЯ </a:t>
            </a:r>
            <a:br>
              <a:rPr sz="2200"/>
            </a:b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РАБОТА С ДЕТЬ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hape 145"/>
          <p:cNvSpPr/>
          <p:nvPr/>
        </p:nvSpPr>
        <p:spPr>
          <a:xfrm>
            <a:off x="468360" y="1120680"/>
            <a:ext cx="17636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Дыхательная 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гимна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hape 145"/>
          <p:cNvSpPr/>
          <p:nvPr/>
        </p:nvSpPr>
        <p:spPr>
          <a:xfrm>
            <a:off x="2382840" y="1120680"/>
            <a:ext cx="17654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Музыкально-ритмическая гимна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hape 145"/>
          <p:cNvSpPr/>
          <p:nvPr/>
        </p:nvSpPr>
        <p:spPr>
          <a:xfrm>
            <a:off x="4299120" y="1120680"/>
            <a:ext cx="17636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Пальчиковые 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иг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hape 145"/>
          <p:cNvSpPr/>
          <p:nvPr/>
        </p:nvSpPr>
        <p:spPr>
          <a:xfrm>
            <a:off x="6213600" y="1120680"/>
            <a:ext cx="176508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Игротанцы 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и игроритм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hape 145"/>
          <p:cNvSpPr/>
          <p:nvPr/>
        </p:nvSpPr>
        <p:spPr>
          <a:xfrm>
            <a:off x="468360" y="2355840"/>
            <a:ext cx="17636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Цветотерап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hape 145"/>
          <p:cNvSpPr/>
          <p:nvPr/>
        </p:nvSpPr>
        <p:spPr>
          <a:xfrm>
            <a:off x="2382840" y="2330280"/>
            <a:ext cx="17654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Музыкотерап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hape 145"/>
          <p:cNvSpPr/>
          <p:nvPr/>
        </p:nvSpPr>
        <p:spPr>
          <a:xfrm>
            <a:off x="4299120" y="2330280"/>
            <a:ext cx="17636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Игровой 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самомасса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hape 145"/>
          <p:cNvSpPr/>
          <p:nvPr/>
        </p:nvSpPr>
        <p:spPr>
          <a:xfrm>
            <a:off x="6213600" y="2330280"/>
            <a:ext cx="176508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Игропла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Рисунок 1" descr=""/>
          <p:cNvPicPr/>
          <p:nvPr/>
        </p:nvPicPr>
        <p:blipFill>
          <a:blip r:embed="rId1"/>
          <a:stretch/>
        </p:blipFill>
        <p:spPr>
          <a:xfrm>
            <a:off x="1138320" y="1190520"/>
            <a:ext cx="423720" cy="42408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5" descr=""/>
          <p:cNvPicPr/>
          <p:nvPr/>
        </p:nvPicPr>
        <p:blipFill>
          <a:blip r:embed="rId2"/>
          <a:stretch/>
        </p:blipFill>
        <p:spPr>
          <a:xfrm>
            <a:off x="4968720" y="1190520"/>
            <a:ext cx="424080" cy="42408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8" descr=""/>
          <p:cNvPicPr/>
          <p:nvPr/>
        </p:nvPicPr>
        <p:blipFill>
          <a:blip r:embed="rId3"/>
          <a:stretch/>
        </p:blipFill>
        <p:spPr>
          <a:xfrm>
            <a:off x="6883560" y="1190520"/>
            <a:ext cx="423720" cy="42408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9" descr=""/>
          <p:cNvPicPr/>
          <p:nvPr/>
        </p:nvPicPr>
        <p:blipFill>
          <a:blip r:embed="rId4"/>
          <a:stretch/>
        </p:blipFill>
        <p:spPr>
          <a:xfrm>
            <a:off x="4968720" y="2454120"/>
            <a:ext cx="424080" cy="42552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29" descr=""/>
          <p:cNvPicPr/>
          <p:nvPr/>
        </p:nvPicPr>
        <p:blipFill>
          <a:blip r:embed="rId5"/>
          <a:stretch/>
        </p:blipFill>
        <p:spPr>
          <a:xfrm>
            <a:off x="3013200" y="245412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494" name="Shape 145"/>
          <p:cNvSpPr/>
          <p:nvPr/>
        </p:nvSpPr>
        <p:spPr>
          <a:xfrm>
            <a:off x="468360" y="3591000"/>
            <a:ext cx="1763640" cy="107928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Музыкально-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подвижные иг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hape 145"/>
          <p:cNvSpPr/>
          <p:nvPr/>
        </p:nvSpPr>
        <p:spPr>
          <a:xfrm>
            <a:off x="2382840" y="3565440"/>
            <a:ext cx="17654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Психогимна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hape 145"/>
          <p:cNvSpPr/>
          <p:nvPr/>
        </p:nvSpPr>
        <p:spPr>
          <a:xfrm>
            <a:off x="4299120" y="3565440"/>
            <a:ext cx="17636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Креативная 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гимна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hape 145"/>
          <p:cNvSpPr/>
          <p:nvPr/>
        </p:nvSpPr>
        <p:spPr>
          <a:xfrm>
            <a:off x="6213600" y="3565440"/>
            <a:ext cx="176508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Хоровое оздоровительное п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Рисунок 7" descr=""/>
          <p:cNvPicPr/>
          <p:nvPr/>
        </p:nvPicPr>
        <p:blipFill>
          <a:blip r:embed="rId6"/>
          <a:stretch/>
        </p:blipFill>
        <p:spPr>
          <a:xfrm>
            <a:off x="1049400" y="3645000"/>
            <a:ext cx="503280" cy="504720"/>
          </a:xfrm>
          <a:prstGeom prst="rect">
            <a:avLst/>
          </a:prstGeom>
          <a:ln w="0">
            <a:noFill/>
          </a:ln>
        </p:spPr>
      </p:pic>
      <p:sp>
        <p:nvSpPr>
          <p:cNvPr id="499" name="Shape 317"/>
          <p:cNvSpPr/>
          <p:nvPr/>
        </p:nvSpPr>
        <p:spPr>
          <a:xfrm>
            <a:off x="1057320" y="2550960"/>
            <a:ext cx="587160" cy="32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hape 292"/>
          <p:cNvSpPr/>
          <p:nvPr/>
        </p:nvSpPr>
        <p:spPr>
          <a:xfrm>
            <a:off x="3036960" y="1165320"/>
            <a:ext cx="457200" cy="45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Рисунок 6" descr=""/>
          <p:cNvPicPr/>
          <p:nvPr/>
        </p:nvPicPr>
        <p:blipFill>
          <a:blip r:embed="rId7"/>
          <a:stretch/>
        </p:blipFill>
        <p:spPr>
          <a:xfrm>
            <a:off x="3070080" y="3662280"/>
            <a:ext cx="424080" cy="424080"/>
          </a:xfrm>
          <a:prstGeom prst="rect">
            <a:avLst/>
          </a:prstGeom>
          <a:ln w="0">
            <a:noFill/>
          </a:ln>
        </p:spPr>
      </p:pic>
      <p:sp>
        <p:nvSpPr>
          <p:cNvPr id="502" name="Shape 312"/>
          <p:cNvSpPr/>
          <p:nvPr/>
        </p:nvSpPr>
        <p:spPr>
          <a:xfrm>
            <a:off x="6921360" y="2514600"/>
            <a:ext cx="376200" cy="345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hape 313"/>
          <p:cNvSpPr/>
          <p:nvPr/>
        </p:nvSpPr>
        <p:spPr>
          <a:xfrm>
            <a:off x="5008680" y="3641760"/>
            <a:ext cx="34452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hape 352"/>
          <p:cNvSpPr/>
          <p:nvPr/>
        </p:nvSpPr>
        <p:spPr>
          <a:xfrm>
            <a:off x="6772320" y="3687840"/>
            <a:ext cx="557280" cy="323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ФОРМЫ МУЗЫКАЛЬНОГО </a:t>
            </a:r>
            <a:br>
              <a:rPr sz="2200"/>
            </a:b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РАЗВИТИЯ ДОШКОЛЬ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hape 145"/>
          <p:cNvSpPr/>
          <p:nvPr/>
        </p:nvSpPr>
        <p:spPr>
          <a:xfrm>
            <a:off x="479520" y="1428840"/>
            <a:ext cx="3887640" cy="47916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ПРАЗДНИКИ И РАЗВЛ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hape 145"/>
          <p:cNvSpPr/>
          <p:nvPr/>
        </p:nvSpPr>
        <p:spPr>
          <a:xfrm>
            <a:off x="468360" y="2000160"/>
            <a:ext cx="3887640" cy="126540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ФРОНТАЛЬНЫЕ </a:t>
            </a:r>
            <a:br>
              <a:rPr sz="1400"/>
            </a:b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МУЗЫКАЛЬНЫЕ ЗА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Комплекс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Тематическ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Традицио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hape 145"/>
          <p:cNvSpPr/>
          <p:nvPr/>
        </p:nvSpPr>
        <p:spPr>
          <a:xfrm>
            <a:off x="4473720" y="1428840"/>
            <a:ext cx="3887640" cy="47916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МУЗЫКА НА Н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hape 145"/>
          <p:cNvSpPr/>
          <p:nvPr/>
        </p:nvSpPr>
        <p:spPr>
          <a:xfrm>
            <a:off x="468360" y="3363840"/>
            <a:ext cx="3887640" cy="126540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ИГРОВАЯ МУЗЫКАЛЬН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Театрализованные музыкальные иг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Музыкальные дидактическ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Игры с пен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hape 145"/>
          <p:cNvSpPr/>
          <p:nvPr/>
        </p:nvSpPr>
        <p:spPr>
          <a:xfrm>
            <a:off x="4473720" y="3363840"/>
            <a:ext cx="3887640" cy="126540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ИНДИВИДУАЛЬНЫЕ МУЗЫКАЛЬНЫЕ ЗА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Развитие слуха и голос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Упражнения и освоение танцевальных движе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Обучение игре на музыкальных инструмента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hape 145"/>
          <p:cNvSpPr/>
          <p:nvPr/>
        </p:nvSpPr>
        <p:spPr>
          <a:xfrm>
            <a:off x="4473720" y="2000160"/>
            <a:ext cx="3887640" cy="126540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СОВМЕСТНАЯ ДЕЯТЕЛЬНОСТЬ ВЗРОСЛЫХ И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Театрализованная деятель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Оркест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Ансамб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ВЗАИМОДЕЙСТВИЕ </a:t>
            </a:r>
            <a:br>
              <a:rPr sz="2200"/>
            </a:b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С ПЕДАГОГИЧЕСКИМ КОЛЛЕКТИВ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hape 145"/>
          <p:cNvSpPr/>
          <p:nvPr/>
        </p:nvSpPr>
        <p:spPr>
          <a:xfrm>
            <a:off x="468360" y="2092320"/>
            <a:ext cx="2440080" cy="170352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Проведение открытых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музыкальных занятий, вечеров досуга с последующим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х обсуждением и анали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hape 145"/>
          <p:cNvSpPr/>
          <p:nvPr/>
        </p:nvSpPr>
        <p:spPr>
          <a:xfrm>
            <a:off x="468360" y="1398600"/>
            <a:ext cx="7943760" cy="51768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Практические занятия педагогического коллектива по разучиванию музыкального реперту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5"/>
          <p:cNvSpPr/>
          <p:nvPr/>
        </p:nvSpPr>
        <p:spPr>
          <a:xfrm>
            <a:off x="468360" y="3973680"/>
            <a:ext cx="3851280" cy="52524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ндивидуальные и группов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по 2–4 человека) консуль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hape 145"/>
          <p:cNvSpPr/>
          <p:nvPr/>
        </p:nvSpPr>
        <p:spPr>
          <a:xfrm>
            <a:off x="3219480" y="2092320"/>
            <a:ext cx="2440080" cy="1703520"/>
          </a:xfrm>
          <a:prstGeom prst="rect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Calibri"/>
              </a:rPr>
              <a:t>ФОРМЫ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Calibri"/>
              </a:rPr>
              <a:t>ВЗАИМОДЕЙСТВИЯ МУЗЫКАЛЬНОГО РУКОВОДИТЕЛЯ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Calibri"/>
              </a:rPr>
              <a:t>И ПЕДАГОГИЧЕСКОГО КОЛЛЕКТИ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hape 145"/>
          <p:cNvSpPr/>
          <p:nvPr/>
        </p:nvSpPr>
        <p:spPr>
          <a:xfrm>
            <a:off x="4543560" y="3973680"/>
            <a:ext cx="3851280" cy="52524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Выступления на педагогических советах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с докладами, тематическими сообщ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hape 145"/>
          <p:cNvSpPr/>
          <p:nvPr/>
        </p:nvSpPr>
        <p:spPr>
          <a:xfrm>
            <a:off x="5970600" y="2092320"/>
            <a:ext cx="2441520" cy="170352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Ознакомление с новой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музыкально-методической литерату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Прямая со стрелкой 3"/>
          <p:cNvCxnSpPr>
            <a:stCxn id="516" idx="0"/>
            <a:endCxn id="514" idx="2"/>
          </p:cNvCxnSpPr>
          <p:nvPr/>
        </p:nvCxnSpPr>
        <p:spPr>
          <a:xfrm flipV="1">
            <a:off x="4439880" y="1915560"/>
            <a:ext cx="1080" cy="176760"/>
          </a:xfrm>
          <a:prstGeom prst="straightConnector1">
            <a:avLst/>
          </a:prstGeom>
          <a:ln w="9360">
            <a:solidFill>
              <a:srgbClr val="f10022"/>
            </a:solidFill>
            <a:miter/>
            <a:tailEnd len="med" type="oval" w="med"/>
          </a:ln>
        </p:spPr>
      </p:cxnSp>
      <p:cxnSp>
        <p:nvCxnSpPr>
          <p:cNvPr id="520" name="Прямая со стрелкой 13"/>
          <p:cNvCxnSpPr>
            <a:stCxn id="516" idx="3"/>
            <a:endCxn id="518" idx="1"/>
          </p:cNvCxnSpPr>
          <p:nvPr/>
        </p:nvCxnSpPr>
        <p:spPr>
          <a:xfrm>
            <a:off x="5659560" y="2944440"/>
            <a:ext cx="311760" cy="1080"/>
          </a:xfrm>
          <a:prstGeom prst="straightConnector1">
            <a:avLst/>
          </a:prstGeom>
          <a:ln w="9360">
            <a:solidFill>
              <a:srgbClr val="f10022"/>
            </a:solidFill>
            <a:miter/>
            <a:tailEnd len="med" type="oval" w="med"/>
          </a:ln>
        </p:spPr>
      </p:cxnSp>
      <p:cxnSp>
        <p:nvCxnSpPr>
          <p:cNvPr id="521" name="Прямая со стрелкой 16"/>
          <p:cNvCxnSpPr>
            <a:stCxn id="516" idx="1"/>
            <a:endCxn id="513" idx="3"/>
          </p:cNvCxnSpPr>
          <p:nvPr/>
        </p:nvCxnSpPr>
        <p:spPr>
          <a:xfrm flipH="1">
            <a:off x="2908080" y="2944440"/>
            <a:ext cx="311760" cy="1080"/>
          </a:xfrm>
          <a:prstGeom prst="straightConnector1">
            <a:avLst/>
          </a:prstGeom>
          <a:ln w="9360">
            <a:solidFill>
              <a:srgbClr val="f10022"/>
            </a:solidFill>
            <a:miter/>
            <a:tailEnd len="med" type="oval" w="med"/>
          </a:ln>
        </p:spPr>
      </p:cxnSp>
      <p:cxnSp>
        <p:nvCxnSpPr>
          <p:cNvPr id="522" name="Прямая со стрелкой 25"/>
          <p:cNvCxnSpPr/>
          <p:nvPr/>
        </p:nvCxnSpPr>
        <p:spPr>
          <a:xfrm>
            <a:off x="5095440" y="3795840"/>
            <a:ext cx="1080" cy="178200"/>
          </a:xfrm>
          <a:prstGeom prst="straightConnector1">
            <a:avLst/>
          </a:prstGeom>
          <a:ln w="9360">
            <a:solidFill>
              <a:srgbClr val="f10022"/>
            </a:solidFill>
            <a:miter/>
            <a:tailEnd len="med" type="oval" w="med"/>
          </a:ln>
        </p:spPr>
      </p:cxnSp>
      <p:cxnSp>
        <p:nvCxnSpPr>
          <p:cNvPr id="523" name="Прямая со стрелкой 27"/>
          <p:cNvCxnSpPr/>
          <p:nvPr/>
        </p:nvCxnSpPr>
        <p:spPr>
          <a:xfrm>
            <a:off x="3784320" y="3795840"/>
            <a:ext cx="1080" cy="178200"/>
          </a:xfrm>
          <a:prstGeom prst="straightConnector1">
            <a:avLst/>
          </a:prstGeom>
          <a:ln w="9360">
            <a:solidFill>
              <a:srgbClr val="f10022"/>
            </a:solidFill>
            <a:miter/>
            <a:tailEnd len="med" type="oval" w="med"/>
          </a:ln>
        </p:spPr>
      </p:cxn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User</cp:lastModifiedBy>
  <dcterms:modified xsi:type="dcterms:W3CDTF">2024-01-27T18:04:55Z</dcterms:modified>
  <cp:revision>81</cp:revision>
  <dc:subject/>
  <dc:title>Презентация PowerPoint</dc:title>
</cp:coreProperties>
</file>