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4.png" ContentType="image/pn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944C6-71F6-4BF1-A707-69E3C6E9D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66CD-3D23-44EA-B7AC-C99EAF95B51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8FD5D0-65B4-4599-88B7-EE2383483A9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06159E-43AD-4BDD-8987-BDA2DFC0CB1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EB260-8B2F-4D61-A81D-A7E549AB2B1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6A5154-07FC-484A-8A0D-3FE80DD57C9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98831-1971-4835-8A0D-9118226032D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07559-CF30-42EB-8049-F42B0AD76F2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FD8D74-6EAB-4D5F-8B88-5C28B329D1F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E51DB-119C-4CAE-BF30-1BF1391FAC4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BF1D82-BC4E-44DC-A9C2-1244447CEF4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E2047-A415-4A8B-A388-07A897634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3CB73-DF0B-45FC-83D2-1173C94D924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1CCBA-BA65-4B47-B02E-00BA4CAA762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37BF5-9A00-4463-B7B3-448585A106B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2ACD4-509E-4C8F-AFB4-E7BD9C774F2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37463-4DAA-402B-98A0-5DBBDE77509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3E558-9B8E-4E14-A41F-A579DEBC429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6F109-D0D7-4B90-8A07-E86252041EE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4ADD4-B2DD-4A78-9168-A49353C60C3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98684-2F9C-46B2-AFB8-470CB42D553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9890A-1B1A-4DFD-91CD-716923727C9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4A21B-AEFE-4BBD-BEAD-AC3F21008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9D26-FDC1-4C42-AF50-4D19CF8DEB6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FC815-32A1-439F-9216-65D9856751B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818D13-26E6-4B68-830B-E6959D0A0D1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C8DB36-583E-463E-A352-CE325EB81C9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980169-F63D-4594-B5C5-F750C060C6C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9E867E-8AA7-4B67-82AE-D9B599AEB03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31352E-C1DF-42BE-B081-94E86828705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A6AB8E-D5FE-4B46-BD18-9F3A6C95420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3898AC-8581-4099-B052-AA1A6F368E8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E02C5A-9201-449C-A41D-9A76AE0BD20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0FCE4E-BE43-42C9-8E6D-6C9CB09F9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4D2022-A8C0-448B-A566-0BEC644FD7B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4882E1-79B0-4329-B7C1-BDC4D854781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B10D1F-DC04-4F4F-B41D-0A95D7E06F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A8CC-3FA9-40ED-A804-F843A3A77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5ECA0-3E49-4577-B46F-7DE9DFA70D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6F18F-8569-4D1D-937A-ED69A75089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6336E-D961-4456-B793-2B864799E5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2A000-BFFC-46AD-8E65-6541E9F7CA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5CDAE-A40F-48D4-8197-66C91115C1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A391-4F16-46CA-85A3-F155B6D157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ECAE1-F48D-4987-8556-D612A69A91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358F0-5CE4-49C3-95D6-5AE0D213A6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02581-9419-450C-8A35-BFC7804905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CFA2C-4C34-4CF2-BA71-88C90BB5C2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4FC28-8159-4486-ABBD-58B2BB8E97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E52EC-FC92-4CCF-B503-EFBBFDA876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1492C-EA2B-4479-8D79-0EC922FC825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CE5D-D019-4681-85CF-874FE3C91E0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B47F-4725-4AB4-9A3F-4AD2A1EE0D6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EB02-D7AE-4C50-8B05-C4CACA33A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7F34-E364-468F-81D2-2135621C06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86B-E5D3-4064-AAFE-7BB7F588145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42D5-6027-4B5F-BA53-4CC68543A6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93C7-D378-4DE3-A190-FD3A67D3B4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386A-6032-4737-9173-B031E51521B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8A41-C119-45E5-B8B6-8A3376665F7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AF8-97D8-4689-9FEC-AF478492082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AD6-8F1F-4FB6-B691-3CBF77266A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1E94-D792-4832-A186-C03AA2A1D6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1FF0-1E43-4E6A-8174-DF3F3A5AF80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BC06E-3FF9-41F7-95ED-F6BDDF209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71AC-89B3-4C6D-BA16-D5887DCF26A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B2FAB-7ABD-4716-BB62-E3B6AB3CDC9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335CD-1849-43EA-B066-60E4549D139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E5052-D840-4C13-8B88-E4C39490320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B5547-17B0-4CE1-9AEC-96489845752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2C8E4-3552-4ADA-BB86-960A324D505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82A60-813D-4362-88FD-4B81B339520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F6F2A-E62A-446C-BE3A-1C8873DA92C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5444C-6AE5-415E-A7AB-BEF04213B6C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2352A-F188-48BA-8958-CA6A2A59947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E9AB0-028E-4EC1-AC66-70D0BBA3A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9135-37FF-43A3-B800-0D410F16BB4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755DA-FAE6-41D7-A9C6-1E36FB61154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79FF0-4D6B-45C8-A659-C918D08DDB0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EA0C5-C388-47A2-BF97-530687B30D4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B043C-7359-4ADE-B251-E71CCB8F4F6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E7C4F-F4C0-4D53-930F-B90A0EB0311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C89F9-40D5-42A3-AEA3-5CAD6713420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8DE5D-81FB-45B9-B55B-1F8E5507670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52B4F-0A98-4CC0-947D-EEA989B3A1B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58A54-4942-4F54-98E2-18150208F3F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E3214-A12C-4047-B898-E5878A9FB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5C705-18F3-4CFB-97DB-03CB96E6AD7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25FB9-0B9D-4645-879E-6FDA4B3526E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198B8-157C-4539-BFD4-308FEB076A3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25BAC-F9F6-45CF-B1E4-2186E16F873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7712-45C0-4B3C-AC63-36F124CDA58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F643-E7D3-4A80-8648-E49D0364E28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8F51-3848-4FB5-BC7E-572A4D8B529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5D41-35A2-489D-BFA8-1D5EDB5ACE6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18E3-7458-43E6-838F-C0838F72A08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AEEE-FDC4-439F-AB82-8EB9C3F99BC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D597-0271-4029-827B-707A35483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4DC25-9AB4-4CF9-B755-A197B72C2D2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A892-87DE-4B82-8F2E-7802836772E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995E-E897-489C-AE90-21655A4EDA8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F4C5-6EC7-4D39-A60C-88D81BE6C42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9E7B-1D61-4DC3-8490-AF75D10EFEE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5391-8C57-4ECD-807A-6A721219B66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5EF76C-1DB7-47E9-9942-780182750CE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39EC2E-C1CC-44C1-9E18-6D3C2966E91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A82005-C8E6-47D0-B144-BF98A724ABB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B0579B-1F83-4C9D-9EDB-93FA0BD83DF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99C498-AEFA-4798-BDB8-6A27B0BDD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EC137-0870-4EEF-93F9-B3703DC1D4D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1349280"/>
            <a:ext cx="5511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36D408-038F-4898-B302-E250E132D19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667109-6F39-416F-82E6-7B1295FA514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53BEC1-271C-4D1F-83EF-CFB24707DEA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7586D7-2E99-444B-B2A7-402ACE98165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605400"/>
            <a:ext cx="55119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C91B88-A37D-4800-BC67-6AA5CDF28E5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81400" y="224424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281400" y="3605400"/>
            <a:ext cx="268956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6F489D-BBCC-490F-9B8E-7253419251B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32056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183920" y="224424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232056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4183920" y="3605400"/>
            <a:ext cx="1774440" cy="124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EFAFAA-0967-46C5-A88E-00E7BADABC7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F0B0C-C401-434A-91CE-05AE0D97842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56055-7804-43D8-AADC-0A90941F29B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62E7EF-9EC9-4819-AC6A-EB1CF70CC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80520" y="467352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Lato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86EA-7C74-4C5B-94F8-B4F936E00864}" type="slidenum">
              <a:rPr b="0" lang="ru-RU" sz="1800" spc="-1" strike="noStrike">
                <a:solidFill>
                  <a:srgbClr val="ffffff"/>
                </a:solidFill>
                <a:latin typeface="Lato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Shape 40" descr="paint_transparent1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9"/>
          </p:nvPr>
        </p:nvSpPr>
        <p:spPr>
          <a:xfrm>
            <a:off x="8480520" y="467352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CA97-0779-46B4-BE90-068FE515C61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Shape 51" descr="paint_transparent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0"/>
          </p:nvPr>
        </p:nvSpPr>
        <p:spPr>
          <a:xfrm>
            <a:off x="4297320" y="444816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823C-DCEC-40AB-B9EB-F11EE57B9FAA}" type="slidenum">
              <a:rPr b="0" lang="ru-RU" sz="24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Shape 22" descr="paint_transparent1.png"/>
          <p:cNvPicPr/>
          <p:nvPr/>
        </p:nvPicPr>
        <p:blipFill>
          <a:blip r:embed="rId3"/>
          <a:stretch/>
        </p:blipFill>
        <p:spPr>
          <a:xfrm>
            <a:off x="996840" y="0"/>
            <a:ext cx="8136000" cy="51436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5"/>
          <p:cNvSpPr/>
          <p:nvPr/>
        </p:nvSpPr>
        <p:spPr>
          <a:xfrm>
            <a:off x="0" y="0"/>
            <a:ext cx="100656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2"/>
          </p:nvPr>
        </p:nvSpPr>
        <p:spPr>
          <a:xfrm>
            <a:off x="8480520" y="467352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BCF9-93DC-4B0E-B481-150EACA41E3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Shape 22" descr="paint_transparent1.png"/>
          <p:cNvPicPr/>
          <p:nvPr/>
        </p:nvPicPr>
        <p:blipFill>
          <a:blip r:embed="rId3"/>
          <a:stretch/>
        </p:blipFill>
        <p:spPr>
          <a:xfrm>
            <a:off x="4592520" y="0"/>
            <a:ext cx="4540320" cy="5143680"/>
          </a:xfrm>
          <a:prstGeom prst="rect">
            <a:avLst/>
          </a:prstGeom>
          <a:ln w="0">
            <a:noFill/>
          </a:ln>
        </p:spPr>
      </p:pic>
      <p:pic>
        <p:nvPicPr>
          <p:cNvPr id="119" name="Shape 22" descr="paint_transparent1.png"/>
          <p:cNvPicPr/>
          <p:nvPr/>
        </p:nvPicPr>
        <p:blipFill>
          <a:blip r:embed="rId4"/>
          <a:stretch/>
        </p:blipFill>
        <p:spPr>
          <a:xfrm>
            <a:off x="-11160" y="730080"/>
            <a:ext cx="6954840" cy="44262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6"/>
          <p:cNvSpPr/>
          <p:nvPr/>
        </p:nvSpPr>
        <p:spPr>
          <a:xfrm>
            <a:off x="0" y="0"/>
            <a:ext cx="5029200" cy="8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3"/>
          </p:nvPr>
        </p:nvSpPr>
        <p:spPr>
          <a:xfrm>
            <a:off x="8480520" y="467352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007F-A7EF-415C-A1AB-C7249027B55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Shape 22" descr="paint_transparent1.png"/>
          <p:cNvPicPr/>
          <p:nvPr/>
        </p:nvPicPr>
        <p:blipFill>
          <a:blip r:embed="rId3"/>
          <a:stretch/>
        </p:blipFill>
        <p:spPr>
          <a:xfrm>
            <a:off x="182520" y="-15840"/>
            <a:ext cx="8972640" cy="211464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5"/>
          <p:cNvSpPr/>
          <p:nvPr/>
        </p:nvSpPr>
        <p:spPr>
          <a:xfrm>
            <a:off x="0" y="1951200"/>
            <a:ext cx="9144000" cy="319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0" y="0"/>
            <a:ext cx="1006560" cy="324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4"/>
          </p:nvPr>
        </p:nvSpPr>
        <p:spPr>
          <a:xfrm>
            <a:off x="8480520" y="467352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8F24-849F-425C-9986-C4721EAAF78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Shape 27" descr="paint_transparent1.png"/>
          <p:cNvPicPr/>
          <p:nvPr/>
        </p:nvPicPr>
        <p:blipFill>
          <a:blip r:embed="rId3"/>
          <a:stretch/>
        </p:blipFill>
        <p:spPr>
          <a:xfrm>
            <a:off x="2360520" y="0"/>
            <a:ext cx="6783480" cy="370044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5"/>
          <p:cNvSpPr/>
          <p:nvPr/>
        </p:nvSpPr>
        <p:spPr>
          <a:xfrm>
            <a:off x="0" y="0"/>
            <a:ext cx="26100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6"/>
          <p:cNvSpPr/>
          <p:nvPr/>
        </p:nvSpPr>
        <p:spPr>
          <a:xfrm>
            <a:off x="2610000" y="3686040"/>
            <a:ext cx="6534000" cy="14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5"/>
          </p:nvPr>
        </p:nvSpPr>
        <p:spPr>
          <a:xfrm>
            <a:off x="8480520" y="467352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01DF-C0D9-468E-B105-45C77DD94C9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Shape 33" descr="paint_transparent1.png"/>
          <p:cNvPicPr/>
          <p:nvPr/>
        </p:nvPicPr>
        <p:blipFill>
          <a:blip r:embed="rId3"/>
          <a:srcRect l="0" t="-261" r="-28580" b="0"/>
          <a:stretch/>
        </p:blipFill>
        <p:spPr>
          <a:xfrm rot="16437600">
            <a:off x="5148720" y="-826200"/>
            <a:ext cx="5337360" cy="304020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5"/>
          <p:cNvSpPr/>
          <p:nvPr/>
        </p:nvSpPr>
        <p:spPr>
          <a:xfrm>
            <a:off x="0" y="0"/>
            <a:ext cx="638964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6"/>
          <p:cNvSpPr/>
          <p:nvPr/>
        </p:nvSpPr>
        <p:spPr>
          <a:xfrm>
            <a:off x="5302080" y="2700360"/>
            <a:ext cx="3841920" cy="257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8480520" y="467352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B9B4-EFA1-4805-94CA-2F463D3D43F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Shape 33" descr="paint_transparent1.png"/>
          <p:cNvPicPr/>
          <p:nvPr/>
        </p:nvPicPr>
        <p:blipFill>
          <a:blip r:embed="rId3"/>
          <a:srcRect l="0" t="-261" r="-28580" b="0"/>
          <a:stretch/>
        </p:blipFill>
        <p:spPr>
          <a:xfrm rot="16437600">
            <a:off x="5271840" y="-879480"/>
            <a:ext cx="5337000" cy="304164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5"/>
          <p:cNvSpPr/>
          <p:nvPr/>
        </p:nvSpPr>
        <p:spPr>
          <a:xfrm>
            <a:off x="0" y="-436680"/>
            <a:ext cx="651348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6"/>
          <p:cNvSpPr/>
          <p:nvPr/>
        </p:nvSpPr>
        <p:spPr>
          <a:xfrm>
            <a:off x="5302080" y="2700360"/>
            <a:ext cx="3841920" cy="244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7"/>
          </p:nvPr>
        </p:nvSpPr>
        <p:spPr>
          <a:xfrm>
            <a:off x="8480520" y="467352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8883-8F0E-4F3C-9B95-0BBEB3684D6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Shape 22" descr="paint_transparent1.png"/>
          <p:cNvPicPr/>
          <p:nvPr/>
        </p:nvPicPr>
        <p:blipFill>
          <a:blip r:embed="rId3"/>
          <a:stretch/>
        </p:blipFill>
        <p:spPr>
          <a:xfrm>
            <a:off x="2598840" y="0"/>
            <a:ext cx="6545160" cy="514368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5"/>
          <p:cNvSpPr/>
          <p:nvPr/>
        </p:nvSpPr>
        <p:spPr>
          <a:xfrm>
            <a:off x="0" y="0"/>
            <a:ext cx="259884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349280"/>
            <a:ext cx="551196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6840" y="2244240"/>
            <a:ext cx="5511960" cy="260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8"/>
          </p:nvPr>
        </p:nvSpPr>
        <p:spPr>
          <a:xfrm>
            <a:off x="8480520" y="467352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7568-CCA9-4E93-BF59-044CF5F23CD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nsportal.ru/shmat" TargetMode="External"/><Relationship Id="rId2" Type="http://schemas.openxmlformats.org/officeDocument/2006/relationships/hyperlink" Target="https://kladraz.ru/users/Shmatova74" TargetMode="External"/><Relationship Id="rId3" Type="http://schemas.openxmlformats.org/officeDocument/2006/relationships/hyperlink" Target="https://infourok.ru/user/shmatova-viktoriya-vasilevna" TargetMode="External"/><Relationship Id="rId4" Type="http://schemas.openxmlformats.org/officeDocument/2006/relationships/hyperlink" Target="https://www.maam.ru/users/873684/zakaz.html" TargetMode="External"/><Relationship Id="rId5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Shape 13" descr="paint_transparent4.png"/>
          <p:cNvPicPr/>
          <p:nvPr/>
        </p:nvPicPr>
        <p:blipFill>
          <a:blip r:embed="rId1"/>
          <a:stretch/>
        </p:blipFill>
        <p:spPr>
          <a:xfrm>
            <a:off x="1187280" y="0"/>
            <a:ext cx="4577040" cy="5143680"/>
          </a:xfrm>
          <a:prstGeom prst="rect">
            <a:avLst/>
          </a:prstGeom>
          <a:ln w="0">
            <a:noFill/>
          </a:ln>
        </p:spPr>
      </p:pic>
      <p:sp>
        <p:nvSpPr>
          <p:cNvPr id="450" name="Shape 14"/>
          <p:cNvSpPr/>
          <p:nvPr/>
        </p:nvSpPr>
        <p:spPr>
          <a:xfrm flipH="1">
            <a:off x="4033800" y="0"/>
            <a:ext cx="530064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7"/>
          <p:cNvSpPr/>
          <p:nvPr/>
        </p:nvSpPr>
        <p:spPr>
          <a:xfrm>
            <a:off x="4071960" y="2355840"/>
            <a:ext cx="5286240" cy="17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Yu Gothic UI Semibold"/>
              </a:rPr>
              <a:t>Шматовой Виктории Василье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Yu Gothic UI Semibold"/>
              </a:rPr>
              <a:t>музыкального руководите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Yu Gothic UI Semibold"/>
              </a:rPr>
              <a:t>МБДОУ ЦРР-Д/С «Сказк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Yu Gothic UI Semibold"/>
              </a:rPr>
              <a:t>Тамбовской обл., г. Мичурин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9"/>
          <p:cNvSpPr/>
          <p:nvPr/>
        </p:nvSpPr>
        <p:spPr>
          <a:xfrm>
            <a:off x="4581360" y="1042920"/>
            <a:ext cx="54612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94a6"/>
                </a:solidFill>
                <a:latin typeface="Arial Black"/>
                <a:ea typeface="Yu Gothic UI Semibold"/>
              </a:rPr>
              <a:t>ПОРТФОЛИ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ая соединительная линия 12"/>
          <p:cNvSpPr/>
          <p:nvPr/>
        </p:nvSpPr>
        <p:spPr>
          <a:xfrm>
            <a:off x="4695840" y="2662200"/>
            <a:ext cx="3776760" cy="0"/>
          </a:xfrm>
          <a:prstGeom prst="line">
            <a:avLst/>
          </a:prstGeom>
          <a:ln w="12600">
            <a:solidFill>
              <a:srgbClr val="0194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10" descr="D:\флешка\фото\z\Фото 086.jpg"/>
          <p:cNvPicPr/>
          <p:nvPr/>
        </p:nvPicPr>
        <p:blipFill>
          <a:blip r:embed="rId2"/>
          <a:stretch/>
        </p:blipFill>
        <p:spPr>
          <a:xfrm rot="21432600">
            <a:off x="496440" y="971280"/>
            <a:ext cx="2243160" cy="3379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Заголовок 1"/>
          <p:cNvSpPr/>
          <p:nvPr/>
        </p:nvSpPr>
        <p:spPr>
          <a:xfrm>
            <a:off x="368280" y="146160"/>
            <a:ext cx="927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РАБОТА С РОДИТЕЛЯМИ ВОСПИТАН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hape 145"/>
          <p:cNvSpPr/>
          <p:nvPr/>
        </p:nvSpPr>
        <p:spPr>
          <a:xfrm>
            <a:off x="468360" y="1676520"/>
            <a:ext cx="3887640" cy="1272960"/>
          </a:xfrm>
          <a:prstGeom prst="rect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Папки-передвижки с  меняющейся  информацией (статьи, рекомендации, знакомство с муз. репертуаром, с возрастными  особенности  муз. развития детей и т.д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Индивидуальные  встречи  по желанию  родителей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Знакомство  с  результатами  музыкальной диагностик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Групповые консультации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1"/>
          <p:cNvSpPr/>
          <p:nvPr/>
        </p:nvSpPr>
        <p:spPr>
          <a:xfrm>
            <a:off x="393840" y="1120680"/>
            <a:ext cx="399888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0022"/>
                </a:solidFill>
                <a:latin typeface="Arial Black"/>
                <a:ea typeface="Yu Gothic UI Semibold"/>
              </a:rPr>
              <a:t>КОНСУЛЬТ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0022"/>
                </a:solidFill>
                <a:latin typeface="Arial Black"/>
                <a:ea typeface="Yu Gothic UI Semibold"/>
              </a:rPr>
              <a:t>ДЛЯ  РОД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hape 145"/>
          <p:cNvSpPr/>
          <p:nvPr/>
        </p:nvSpPr>
        <p:spPr>
          <a:xfrm>
            <a:off x="4572000" y="1676520"/>
            <a:ext cx="3887640" cy="1272960"/>
          </a:xfrm>
          <a:prstGeom prst="rect">
            <a:avLst/>
          </a:prstGeom>
          <a:solidFill>
            <a:srgbClr val="0194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Создание  домашней  фонотеки,  подбор  произведений  </a:t>
            </a: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для  семейного  прослушивания, рекомендации  </a:t>
            </a: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по слушанию  музык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Помощь в создании  домашнего театра,  в  организации  </a:t>
            </a: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детских праздников дома  в  кругу  друзе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Помощь  в  подборе  детских  музыкальных  инструментов </a:t>
            </a: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для  совместного  музицирования  в  кругу  семьи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15"/>
          <p:cNvSpPr/>
          <p:nvPr/>
        </p:nvSpPr>
        <p:spPr>
          <a:xfrm>
            <a:off x="4497480" y="1120680"/>
            <a:ext cx="399888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94a6"/>
                </a:solidFill>
                <a:latin typeface="Arial Black"/>
                <a:ea typeface="Yu Gothic UI Semibold"/>
              </a:rPr>
              <a:t>ПОМОЩЬ В РАЗВИТИИ  МУЗЫКАЛЬНЫХ  СПОСОБ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hape 145"/>
          <p:cNvSpPr/>
          <p:nvPr/>
        </p:nvSpPr>
        <p:spPr>
          <a:xfrm>
            <a:off x="504720" y="3627360"/>
            <a:ext cx="3888000" cy="127332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Тематические  выставки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Календарь  с указанием  дат  основных  мероприятий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Тетрадь  отзывов и пожелани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Передвижная фонотека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Передвижная  библиотека (знакомство  с композиторами, жанрами,  музыкальными  инструментами, с  народными   праздниками,  обрядами,  с  детскими  популярными  песнями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оугольник 17"/>
          <p:cNvSpPr/>
          <p:nvPr/>
        </p:nvSpPr>
        <p:spPr>
          <a:xfrm>
            <a:off x="393840" y="3083040"/>
            <a:ext cx="399888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b320"/>
                </a:solidFill>
                <a:latin typeface="Arial Black"/>
                <a:ea typeface="Yu Gothic UI Semibold"/>
              </a:rPr>
              <a:t>НАГЛЯДНАЯ  </a:t>
            </a:r>
            <a:br>
              <a:rPr sz="1400"/>
            </a:br>
            <a:r>
              <a:rPr b="1" lang="ru-RU" sz="1400" spc="-1" strike="noStrike">
                <a:solidFill>
                  <a:srgbClr val="ffb320"/>
                </a:solidFill>
                <a:latin typeface="Arial Black"/>
                <a:ea typeface="Yu Gothic UI Semibold"/>
              </a:rPr>
              <a:t>АГИТ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hape 145"/>
          <p:cNvSpPr/>
          <p:nvPr/>
        </p:nvSpPr>
        <p:spPr>
          <a:xfrm>
            <a:off x="4608360" y="3627360"/>
            <a:ext cx="3888000" cy="1273320"/>
          </a:xfrm>
          <a:prstGeom prst="rect">
            <a:avLst/>
          </a:prstGeom>
          <a:solidFill>
            <a:srgbClr val="d006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Изготовление  костюмов, декораций, украшение  зала и т.д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Участие родителей  в роли  артистов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Помощь  в организации,  проведении,  активное  участие  </a:t>
            </a: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Arial"/>
                <a:ea typeface="Calibri"/>
              </a:rPr>
              <a:t>в  представлениях (пение,  танцы, игры  и т.д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19"/>
          <p:cNvSpPr/>
          <p:nvPr/>
        </p:nvSpPr>
        <p:spPr>
          <a:xfrm>
            <a:off x="4533840" y="3083040"/>
            <a:ext cx="399744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0068b"/>
                </a:solidFill>
                <a:latin typeface="Arial Black"/>
                <a:ea typeface="Yu Gothic UI Semibold"/>
              </a:rPr>
              <a:t>ПРИВЛЕЧЕНИЕ РОДИТЕЛЕЙ </a:t>
            </a:r>
            <a:br>
              <a:rPr sz="1400"/>
            </a:br>
            <a:r>
              <a:rPr b="1" lang="ru-RU" sz="1400" spc="-1" strike="noStrike">
                <a:solidFill>
                  <a:srgbClr val="d0068b"/>
                </a:solidFill>
                <a:latin typeface="Arial Black"/>
                <a:ea typeface="Yu Gothic UI Semibold"/>
              </a:rPr>
              <a:t>К СОВМЕСТНЫМ РАЗВЛЕЧЕНИ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Заголовок 1"/>
          <p:cNvSpPr/>
          <p:nvPr/>
        </p:nvSpPr>
        <p:spPr>
          <a:xfrm>
            <a:off x="368280" y="146160"/>
            <a:ext cx="927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ИСПОЛЬЗОВАНИЕ ИКТ В МУЗЫКАЛЬНОМ </a:t>
            </a:r>
            <a:br>
              <a:rPr sz="2200"/>
            </a:b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ВОСПИТАНИИ ДОШКОЛЬНИК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hape 145"/>
          <p:cNvSpPr/>
          <p:nvPr/>
        </p:nvSpPr>
        <p:spPr>
          <a:xfrm>
            <a:off x="393840" y="1751040"/>
            <a:ext cx="19634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Подбор иллюстративного материала к занятиям, родительских уголков группы, информационного материала для оформления стендов,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папок-передвижек, подбор нотного материала и пр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hape 145"/>
          <p:cNvSpPr/>
          <p:nvPr/>
        </p:nvSpPr>
        <p:spPr>
          <a:xfrm>
            <a:off x="2354400" y="1751040"/>
            <a:ext cx="19634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Подбор дополнительного познавательного материала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к занятиям, знакомство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со сценариями развлечений, праздников и других мероприятий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hape 145"/>
          <p:cNvSpPr/>
          <p:nvPr/>
        </p:nvSpPr>
        <p:spPr>
          <a:xfrm>
            <a:off x="2354400" y="3792600"/>
            <a:ext cx="196344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Обмен опытом, знакомство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с периодикой, наработками других педагого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hape 145"/>
          <p:cNvSpPr/>
          <p:nvPr/>
        </p:nvSpPr>
        <p:spPr>
          <a:xfrm>
            <a:off x="6275520" y="1751040"/>
            <a:ext cx="19634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Создание презентаций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(в программе Рower Рoint)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для повышения эффективности образовательной работы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с детьми и педагогической компетенции у педагогов, родителей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hape 145"/>
          <p:cNvSpPr/>
          <p:nvPr/>
        </p:nvSpPr>
        <p:spPr>
          <a:xfrm>
            <a:off x="6267600" y="3760920"/>
            <a:ext cx="196524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Наличие собственного сайта музыкального руководителя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в сети Интернет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hape 145"/>
          <p:cNvSpPr/>
          <p:nvPr/>
        </p:nvSpPr>
        <p:spPr>
          <a:xfrm>
            <a:off x="4303800" y="3792600"/>
            <a:ext cx="196380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Создание электронной почты, ведение сайта ДОУ (налич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странички музыкального руководителя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hape 145"/>
          <p:cNvSpPr/>
          <p:nvPr/>
        </p:nvSpPr>
        <p:spPr>
          <a:xfrm>
            <a:off x="4314960" y="1719360"/>
            <a:ext cx="196344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Создание медиатеки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по вопросам развития музыкального развития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детей дошкольного возраста, которые представляют интерес не только для музыкального руководителя, педагогов,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но и для родителей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hape 145"/>
          <p:cNvSpPr/>
          <p:nvPr/>
        </p:nvSpPr>
        <p:spPr>
          <a:xfrm>
            <a:off x="411120" y="3792600"/>
            <a:ext cx="196380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Оформление буклетов </a:t>
            </a:r>
            <a:br>
              <a:rPr sz="900"/>
            </a:br>
            <a:r>
              <a:rPr b="1" lang="ru-RU" sz="900" spc="-1" strike="noStrike">
                <a:solidFill>
                  <a:srgbClr val="434343"/>
                </a:solidFill>
                <a:latin typeface="Arial"/>
                <a:ea typeface="Calibri"/>
              </a:rPr>
              <a:t>по вопросам развития музыкальности детей с ОВЗ, материалов по различным направлениям деятельност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hape 276"/>
          <p:cNvSpPr/>
          <p:nvPr/>
        </p:nvSpPr>
        <p:spPr>
          <a:xfrm>
            <a:off x="488880" y="1308240"/>
            <a:ext cx="387360" cy="342720"/>
          </a:xfrm>
          <a:prstGeom prst="pie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hape 298"/>
          <p:cNvSpPr/>
          <p:nvPr/>
        </p:nvSpPr>
        <p:spPr>
          <a:xfrm>
            <a:off x="2446200" y="1297080"/>
            <a:ext cx="365400" cy="366480"/>
          </a:xfrm>
          <a:prstGeom prst="pie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hape 305"/>
          <p:cNvSpPr/>
          <p:nvPr/>
        </p:nvSpPr>
        <p:spPr>
          <a:xfrm>
            <a:off x="509760" y="3341520"/>
            <a:ext cx="345960" cy="347760"/>
          </a:xfrm>
          <a:prstGeom prst="pie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hape 312"/>
          <p:cNvSpPr/>
          <p:nvPr/>
        </p:nvSpPr>
        <p:spPr>
          <a:xfrm>
            <a:off x="4424400" y="1306440"/>
            <a:ext cx="376200" cy="346320"/>
          </a:xfrm>
          <a:prstGeom prst="pie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hape 331"/>
          <p:cNvSpPr/>
          <p:nvPr/>
        </p:nvSpPr>
        <p:spPr>
          <a:xfrm>
            <a:off x="6307200" y="1312920"/>
            <a:ext cx="382680" cy="334800"/>
          </a:xfrm>
          <a:prstGeom prst="pie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hape 295"/>
          <p:cNvSpPr/>
          <p:nvPr/>
        </p:nvSpPr>
        <p:spPr>
          <a:xfrm>
            <a:off x="4403880" y="3313080"/>
            <a:ext cx="417240" cy="405000"/>
          </a:xfrm>
          <a:prstGeom prst="pie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hape 332"/>
          <p:cNvSpPr/>
          <p:nvPr/>
        </p:nvSpPr>
        <p:spPr>
          <a:xfrm>
            <a:off x="6307200" y="3303720"/>
            <a:ext cx="419040" cy="423720"/>
          </a:xfrm>
          <a:prstGeom prst="pie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hape 289"/>
          <p:cNvSpPr/>
          <p:nvPr/>
        </p:nvSpPr>
        <p:spPr>
          <a:xfrm>
            <a:off x="2446200" y="3346560"/>
            <a:ext cx="365400" cy="336600"/>
          </a:xfrm>
          <a:prstGeom prst="pie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Заголовок 1"/>
          <p:cNvSpPr/>
          <p:nvPr/>
        </p:nvSpPr>
        <p:spPr>
          <a:xfrm>
            <a:off x="271440" y="0"/>
            <a:ext cx="927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ОБОБЩЕНИЕ И РАСПРОСТРАНЕ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ПЕДАГОГИЧЕСКОГО ОПЫТА   2017 - 2022 Г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0" y="919080"/>
          <a:ext cx="8978760" cy="3971880"/>
        </p:xfrm>
        <a:graphic>
          <a:graphicData uri="http://schemas.openxmlformats.org/drawingml/2006/table">
            <a:tbl>
              <a:tblPr/>
              <a:tblGrid>
                <a:gridCol w="5767560"/>
                <a:gridCol w="1066680"/>
                <a:gridCol w="214452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a20000"/>
                          </a:solidFill>
                          <a:latin typeface="Arial"/>
                        </a:rPr>
                        <a:t>Наименование мероприятия (заседание МО, педсовет, семинар, конфер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a20000"/>
                          </a:solidFill>
                          <a:latin typeface="Arial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a20000"/>
                          </a:solidFill>
                          <a:latin typeface="Arial"/>
                        </a:rPr>
                        <a:t>Форма учас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ПО по музыкальному развитию дошкольников. Доклад: «Современные образовательные технологии в работе музыкального руководителя ДОУ»                                                 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0.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ладч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ПО по физическому развитию дошкольников. Доклад: «Музыкальное сопровождение зарядк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05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ладч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ПО по ИКТ. Доклад: «Применение электронных таблиц в работе музыкального руководител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0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ладч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вый педсовет МБДОУ ЦРР-Д/С «Сказка». Анализ работы музыкального руководител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05.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ПО по работе с одаренными детьми «Развитие музыкально-одаренных детей». Мастер-класс :»Музыкальные игры, как средство активизации музыкального развития ребенк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2.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ультация для воспитателей ДОУ «Значение музыкального воспитания для дошкольнико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03.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упающ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инар-практикум по социально-коммуникативному развитию дошкольников. Открытое занятие «Создание предпосылок ранней профориентации дошкольников средствами РПП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04.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упающ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 зан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и обобщение опыта работы. «Путешествие в страну танце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05.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зентация работы кружка «Веселый каблучок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Овал 11"/>
          <p:cNvSpPr/>
          <p:nvPr/>
        </p:nvSpPr>
        <p:spPr>
          <a:xfrm>
            <a:off x="368280" y="1147680"/>
            <a:ext cx="3530520" cy="353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Заголовок 1"/>
          <p:cNvSpPr/>
          <p:nvPr/>
        </p:nvSpPr>
        <p:spPr>
          <a:xfrm>
            <a:off x="368280" y="146160"/>
            <a:ext cx="927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0022"/>
                </a:solidFill>
                <a:latin typeface="Arial Black"/>
              </a:rPr>
              <a:t>МОИ ДОСТ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20"/>
          <p:cNvSpPr/>
          <p:nvPr/>
        </p:nvSpPr>
        <p:spPr>
          <a:xfrm>
            <a:off x="2970360" y="4653000"/>
            <a:ext cx="505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hape 312"/>
          <p:cNvSpPr/>
          <p:nvPr/>
        </p:nvSpPr>
        <p:spPr>
          <a:xfrm>
            <a:off x="1308240" y="2151000"/>
            <a:ext cx="1652400" cy="152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14" descr="C:\Users\User\Desktop\аттестация 2022\2020 0 диплом.jpeg"/>
          <p:cNvPicPr/>
          <p:nvPr/>
        </p:nvPicPr>
        <p:blipFill>
          <a:blip r:embed="rId1"/>
          <a:stretch/>
        </p:blipFill>
        <p:spPr>
          <a:xfrm>
            <a:off x="0" y="2612880"/>
            <a:ext cx="1789200" cy="25308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5" descr="C:\Users\User\Desktop\аттестация 2022\Binder1__22_aa327.jpg"/>
          <p:cNvPicPr/>
          <p:nvPr/>
        </p:nvPicPr>
        <p:blipFill>
          <a:blip r:embed="rId2"/>
          <a:stretch/>
        </p:blipFill>
        <p:spPr>
          <a:xfrm>
            <a:off x="1498680" y="857160"/>
            <a:ext cx="1900080" cy="26877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6" descr="C:\Users\User\Desktop\аттестация 2022\диплом 2019.jpg"/>
          <p:cNvPicPr/>
          <p:nvPr/>
        </p:nvPicPr>
        <p:blipFill>
          <a:blip r:embed="rId3"/>
          <a:stretch/>
        </p:blipFill>
        <p:spPr>
          <a:xfrm>
            <a:off x="3228840" y="2641680"/>
            <a:ext cx="1731960" cy="2502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7" descr="C:\Users\User\Desktop\аттестация 2022\Binder1__11_861e1.jpg"/>
          <p:cNvPicPr/>
          <p:nvPr/>
        </p:nvPicPr>
        <p:blipFill>
          <a:blip r:embed="rId4"/>
          <a:stretch/>
        </p:blipFill>
        <p:spPr>
          <a:xfrm>
            <a:off x="4919760" y="792000"/>
            <a:ext cx="2125440" cy="30592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0" descr=""/>
          <p:cNvPicPr/>
          <p:nvPr/>
        </p:nvPicPr>
        <p:blipFill>
          <a:blip r:embed="rId5"/>
          <a:stretch/>
        </p:blipFill>
        <p:spPr>
          <a:xfrm>
            <a:off x="7048440" y="2244600"/>
            <a:ext cx="2095560" cy="3035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11" descr=""/>
          <p:cNvPicPr/>
          <p:nvPr/>
        </p:nvPicPr>
        <p:blipFill>
          <a:blip r:embed="rId1"/>
          <a:stretch/>
        </p:blipFill>
        <p:spPr>
          <a:xfrm>
            <a:off x="1547640" y="2598840"/>
            <a:ext cx="1851120" cy="2544840"/>
          </a:xfrm>
          <a:prstGeom prst="rect">
            <a:avLst/>
          </a:prstGeom>
          <a:ln w="0">
            <a:noFill/>
          </a:ln>
        </p:spPr>
      </p:pic>
      <p:sp>
        <p:nvSpPr>
          <p:cNvPr id="562" name="Заголовок 1"/>
          <p:cNvSpPr/>
          <p:nvPr/>
        </p:nvSpPr>
        <p:spPr>
          <a:xfrm>
            <a:off x="368280" y="146160"/>
            <a:ext cx="927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ДОСТИЖЕНИЯ ВОСПИТАН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9" descr="D:\флешка\сценарии 2020-2021\искорки тамбовщины\Диплом Искорки Костикова  1 место.jpg"/>
          <p:cNvPicPr/>
          <p:nvPr/>
        </p:nvPicPr>
        <p:blipFill>
          <a:blip r:embed="rId2"/>
          <a:stretch/>
        </p:blipFill>
        <p:spPr>
          <a:xfrm>
            <a:off x="0" y="963720"/>
            <a:ext cx="1846440" cy="26161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0" descr="D:\флешка\сценарии 2020-2021\искорки тамбовщины\Диплом Искорки Растрыгина  2 место.jpg"/>
          <p:cNvPicPr/>
          <p:nvPr/>
        </p:nvPicPr>
        <p:blipFill>
          <a:blip r:embed="rId3"/>
          <a:stretch/>
        </p:blipFill>
        <p:spPr>
          <a:xfrm>
            <a:off x="4300560" y="2487600"/>
            <a:ext cx="1887480" cy="26560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2" descr=""/>
          <p:cNvPicPr/>
          <p:nvPr/>
        </p:nvPicPr>
        <p:blipFill>
          <a:blip r:embed="rId4"/>
          <a:stretch/>
        </p:blipFill>
        <p:spPr>
          <a:xfrm>
            <a:off x="6176880" y="687240"/>
            <a:ext cx="2967120" cy="20764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3" descr=""/>
          <p:cNvPicPr/>
          <p:nvPr/>
        </p:nvPicPr>
        <p:blipFill>
          <a:blip r:embed="rId5"/>
          <a:stretch/>
        </p:blipFill>
        <p:spPr>
          <a:xfrm>
            <a:off x="3021120" y="874800"/>
            <a:ext cx="1698480" cy="21985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4" descr=""/>
          <p:cNvPicPr/>
          <p:nvPr/>
        </p:nvPicPr>
        <p:blipFill>
          <a:blip r:embed="rId6"/>
          <a:stretch/>
        </p:blipFill>
        <p:spPr>
          <a:xfrm>
            <a:off x="7081920" y="2681280"/>
            <a:ext cx="1741320" cy="246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5511960" cy="85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94a6"/>
                </a:solidFill>
                <a:latin typeface="Arial Black"/>
                <a:ea typeface="Yu Gothic UI Semibold"/>
              </a:rPr>
              <a:t>МОИ ПУБЛ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"/>
          <p:cNvSpPr/>
          <p:nvPr/>
        </p:nvSpPr>
        <p:spPr>
          <a:xfrm>
            <a:off x="685800" y="1351080"/>
            <a:ext cx="60991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айт музыкального руководителя - </a:t>
            </a:r>
            <a:r>
              <a:rPr b="0" lang="en-US" sz="1600" spc="-1" strike="noStrike" u="sng">
                <a:solidFill>
                  <a:srgbClr val="1155cc"/>
                </a:solidFill>
                <a:uFillTx/>
                <a:latin typeface="Arial"/>
                <a:hlinkClick r:id="rId1"/>
              </a:rPr>
              <a:t>https://nsportal.ru/sh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лог педагога - </a:t>
            </a:r>
            <a:r>
              <a:rPr b="0" lang="en-US" sz="1600" spc="-1" strike="noStrike" u="sng">
                <a:solidFill>
                  <a:srgbClr val="1155cc"/>
                </a:solidFill>
                <a:uFillTx/>
                <a:latin typeface="Arial"/>
                <a:hlinkClick r:id="rId2"/>
              </a:rPr>
              <a:t>https://kladraz.ru/users/Shmatova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ский сайт - </a:t>
            </a:r>
            <a:r>
              <a:rPr b="0" lang="en-US" sz="1600" spc="-1" strike="noStrike" u="sng">
                <a:solidFill>
                  <a:srgbClr val="1155cc"/>
                </a:solidFill>
                <a:uFillTx/>
                <a:latin typeface="Arial"/>
                <a:hlinkClick r:id="rId3"/>
              </a:rPr>
              <a:t>https://infourok.ru/user/shmatova-viktoriya-vasilev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лог   музыкального руководителя - </a:t>
            </a:r>
            <a:r>
              <a:rPr b="0" lang="en-US" sz="1600" spc="-1" strike="noStrike" u="sng">
                <a:solidFill>
                  <a:srgbClr val="1155cc"/>
                </a:solidFill>
                <a:uFillTx/>
                <a:latin typeface="Arial"/>
                <a:hlinkClick r:id="rId4"/>
              </a:rPr>
              <a:t>https://www.maam.ru/users/873684/zakaz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727200" y="1112760"/>
          <a:ext cx="8012160" cy="3773520"/>
        </p:xfrm>
        <a:graphic>
          <a:graphicData uri="http://schemas.openxmlformats.org/drawingml/2006/table">
            <a:tbl>
              <a:tblPr/>
              <a:tblGrid>
                <a:gridCol w="2522520"/>
                <a:gridCol w="5489640"/>
              </a:tblGrid>
              <a:tr h="57168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29b33"/>
                          </a:solidFill>
                          <a:latin typeface="Arial"/>
                          <a:ea typeface="Calibri"/>
                        </a:rPr>
                        <a:t>ФИ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матова Виктория Васи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72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29b33"/>
                          </a:solidFill>
                          <a:latin typeface="Arial"/>
                          <a:ea typeface="Calibri"/>
                        </a:rPr>
                        <a:t>Дол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льный руково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652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29b33"/>
                          </a:solidFill>
                          <a:latin typeface="Arial"/>
                          <a:ea typeface="Calibri"/>
                        </a:rPr>
                        <a:t>Наименование дошкольной образовательной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ДОУ ЦРР-Д/С «Сказка» г.Мичуринска, Тамбовской об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29b33"/>
                          </a:solidFill>
                          <a:latin typeface="Arial"/>
                        </a:rPr>
                        <a:t>Стаж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й - 30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ический - 15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данном ДОУ - 30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80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29b33"/>
                          </a:solidFill>
                          <a:latin typeface="Arial"/>
                        </a:rPr>
                        <a:t>Квалификационная кате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ате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567b"/>
                      </a:solidFill>
                    </a:lnL>
                    <a:lnR w="5760">
                      <a:solidFill>
                        <a:srgbClr val="00567b"/>
                      </a:solidFill>
                    </a:lnR>
                    <a:lnT w="5760">
                      <a:solidFill>
                        <a:srgbClr val="00567b"/>
                      </a:solidFill>
                    </a:lnT>
                    <a:lnB w="5760">
                      <a:solidFill>
                        <a:srgbClr val="00567b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3840" y="169560"/>
            <a:ext cx="5510160" cy="85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94a6"/>
                </a:solidFill>
                <a:latin typeface="Arial Black"/>
                <a:ea typeface="Yu Gothic UI Semibold"/>
              </a:rPr>
              <a:t>ЛИЧНЫЕ ДА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79440" y="155160"/>
            <a:ext cx="5511600" cy="85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94a6"/>
                </a:solidFill>
                <a:latin typeface="Arial Black"/>
                <a:ea typeface="Yu Gothic UI Semibold"/>
              </a:rPr>
              <a:t>ОБРАЗ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hape 286"/>
          <p:cNvSpPr/>
          <p:nvPr/>
        </p:nvSpPr>
        <p:spPr>
          <a:xfrm>
            <a:off x="579600" y="1747800"/>
            <a:ext cx="1020600" cy="878040"/>
          </a:xfrm>
          <a:prstGeom prst="pie">
            <a:avLst/>
          </a:prstGeom>
          <a:solidFill>
            <a:srgbClr val="029b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hape 327"/>
          <p:cNvSpPr/>
          <p:nvPr/>
        </p:nvSpPr>
        <p:spPr>
          <a:xfrm>
            <a:off x="566640" y="3333600"/>
            <a:ext cx="1046160" cy="849600"/>
          </a:xfrm>
          <a:prstGeom prst="pie">
            <a:avLst/>
          </a:prstGeom>
          <a:solidFill>
            <a:srgbClr val="029b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16"/>
          <p:cNvSpPr/>
          <p:nvPr/>
        </p:nvSpPr>
        <p:spPr>
          <a:xfrm>
            <a:off x="2158920" y="1611360"/>
            <a:ext cx="52005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9b33"/>
                </a:solidFill>
                <a:latin typeface="Arial Black"/>
                <a:ea typeface="Yu Gothic UI Semibold"/>
              </a:rPr>
              <a:t>199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Yu Gothic UI Semibold"/>
              </a:rPr>
              <a:t>Липецкое музыкальное училище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Yu Gothic UI Semibold"/>
              </a:rPr>
              <a:t>педагог ДМШ, концертмейс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7"/>
          <p:cNvSpPr/>
          <p:nvPr/>
        </p:nvSpPr>
        <p:spPr>
          <a:xfrm>
            <a:off x="2158920" y="3214800"/>
            <a:ext cx="58183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9b33"/>
                </a:solidFill>
                <a:latin typeface="Arial Black"/>
                <a:ea typeface="Yu Gothic UI Semibold"/>
              </a:rPr>
              <a:t>200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Yu Gothic UI Semibold"/>
              </a:rPr>
              <a:t>Мичуринский государственный институт, учитель русского языка и литера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67920" y="285840"/>
            <a:ext cx="7419960" cy="128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9b33"/>
                </a:solidFill>
                <a:latin typeface="Arial Black"/>
                <a:ea typeface="Yu Gothic UI Semibold"/>
              </a:rPr>
              <a:t>КУРСЫ ПОВЫШЕНИЯ КВАЛИФИК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5"/>
          <p:cNvSpPr/>
          <p:nvPr/>
        </p:nvSpPr>
        <p:spPr>
          <a:xfrm>
            <a:off x="0" y="3235320"/>
            <a:ext cx="2887560" cy="1908360"/>
          </a:xfrm>
          <a:prstGeom prst="rect">
            <a:avLst/>
          </a:prstGeom>
          <a:solidFill>
            <a:srgbClr val="d006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7"/>
          <p:cNvSpPr/>
          <p:nvPr/>
        </p:nvSpPr>
        <p:spPr>
          <a:xfrm>
            <a:off x="2889360" y="2624040"/>
            <a:ext cx="3133440" cy="2519640"/>
          </a:xfrm>
          <a:prstGeom prst="rect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8"/>
          <p:cNvSpPr/>
          <p:nvPr/>
        </p:nvSpPr>
        <p:spPr>
          <a:xfrm>
            <a:off x="5904000" y="2011320"/>
            <a:ext cx="3240000" cy="313236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9"/>
          <p:cNvSpPr/>
          <p:nvPr/>
        </p:nvSpPr>
        <p:spPr>
          <a:xfrm>
            <a:off x="0" y="2651040"/>
            <a:ext cx="287964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94a6"/>
                </a:solidFill>
                <a:latin typeface="Arial Black"/>
                <a:ea typeface="Yu Gothic UI Semibold"/>
              </a:rPr>
              <a:t>2014 ГОД </a:t>
            </a:r>
            <a:br>
              <a:rPr sz="1400"/>
            </a:br>
            <a:r>
              <a:rPr b="1" lang="ru-RU" sz="1400" spc="-1" strike="noStrike">
                <a:solidFill>
                  <a:srgbClr val="0194a6"/>
                </a:solidFill>
                <a:latin typeface="Arial Black"/>
                <a:ea typeface="Yu Gothic UI Semibold"/>
              </a:rPr>
              <a:t>104 ЧА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Yu Gothic UI Semibold"/>
              </a:rPr>
              <a:t>«Музыкальное образование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Yu Gothic UI Semibold"/>
              </a:rPr>
              <a:t>и воспитание дошкольник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12"/>
          <p:cNvSpPr/>
          <p:nvPr/>
        </p:nvSpPr>
        <p:spPr>
          <a:xfrm>
            <a:off x="6848640" y="2263680"/>
            <a:ext cx="23032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14"/>
          <p:cNvSpPr/>
          <p:nvPr/>
        </p:nvSpPr>
        <p:spPr>
          <a:xfrm>
            <a:off x="5904000" y="1494000"/>
            <a:ext cx="32400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0068b"/>
                </a:solidFill>
                <a:latin typeface="Arial Black"/>
                <a:ea typeface="Yu Gothic UI Semibold"/>
              </a:rPr>
              <a:t>2020 ГОД </a:t>
            </a:r>
            <a:br>
              <a:rPr sz="1400"/>
            </a:br>
            <a:r>
              <a:rPr b="1" lang="ru-RU" sz="1400" spc="-1" strike="noStrike">
                <a:solidFill>
                  <a:srgbClr val="d0068b"/>
                </a:solidFill>
                <a:latin typeface="Arial Black"/>
                <a:ea typeface="Yu Gothic UI Semibold"/>
              </a:rPr>
              <a:t>102 ЧА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Yu Gothic UI Semibold"/>
              </a:rPr>
              <a:t>«Музыкальное образование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Yu Gothic UI Semibold"/>
              </a:rPr>
              <a:t>и воспитание дошкольник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16"/>
          <p:cNvSpPr/>
          <p:nvPr/>
        </p:nvSpPr>
        <p:spPr>
          <a:xfrm>
            <a:off x="2884320" y="2055960"/>
            <a:ext cx="3137040" cy="21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94a6"/>
                </a:solidFill>
                <a:latin typeface="Arial Black"/>
                <a:ea typeface="Yu Gothic UI Semibold"/>
              </a:rPr>
              <a:t>2016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94a6"/>
                </a:solidFill>
                <a:latin typeface="Arial Black"/>
                <a:ea typeface="Yu Gothic UI Semibold"/>
              </a:rPr>
              <a:t>72 ЧА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Yu Gothic UI Semibold"/>
              </a:rPr>
              <a:t>«Деятельность музыкального руководителя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Yu Gothic UI Semibold"/>
              </a:rPr>
              <a:t>в условиях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Yu Gothic UI Semibold"/>
              </a:rPr>
              <a:t>реализации ФГО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Прямоугольник 20"/>
          <p:cNvSpPr/>
          <p:nvPr/>
        </p:nvSpPr>
        <p:spPr>
          <a:xfrm>
            <a:off x="77760" y="1195560"/>
            <a:ext cx="2451240" cy="3759120"/>
          </a:xfrm>
          <a:prstGeom prst="rect">
            <a:avLst/>
          </a:prstGeom>
          <a:solidFill>
            <a:srgbClr val="0194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19"/>
          <p:cNvSpPr/>
          <p:nvPr/>
        </p:nvSpPr>
        <p:spPr>
          <a:xfrm>
            <a:off x="2622600" y="1195560"/>
            <a:ext cx="6448320" cy="3814560"/>
          </a:xfrm>
          <a:prstGeom prst="rect">
            <a:avLst/>
          </a:prstGeom>
          <a:solidFill>
            <a:srgbClr val="01d3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6360" y="-360"/>
            <a:ext cx="8531280" cy="128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9b33"/>
                </a:solidFill>
                <a:latin typeface="Arial Black"/>
                <a:ea typeface="Yu Gothic UI Semibold"/>
              </a:rPr>
              <a:t>ЦЕЛИ И ЗАДАЧИ </a:t>
            </a:r>
            <a:br>
              <a:rPr sz="3200"/>
            </a:br>
            <a:r>
              <a:rPr b="1" lang="ru-RU" sz="3200" spc="-1" strike="noStrike">
                <a:solidFill>
                  <a:srgbClr val="029b33"/>
                </a:solidFill>
                <a:latin typeface="Arial Black"/>
                <a:ea typeface="Yu Gothic UI Semibold"/>
              </a:rPr>
              <a:t>МУЗЫКАЛЬНОГО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6" descr="https://avatanplus.com/files/resources/original/5895eef000e0715a09ad5984.png"/>
          <p:cNvPicPr/>
          <p:nvPr/>
        </p:nvPicPr>
        <p:blipFill>
          <a:blip r:embed="rId1"/>
          <a:stretch/>
        </p:blipFill>
        <p:spPr>
          <a:xfrm>
            <a:off x="-270000" y="1755720"/>
            <a:ext cx="2799000" cy="3198960"/>
          </a:xfrm>
          <a:prstGeom prst="rect">
            <a:avLst/>
          </a:prstGeom>
          <a:ln w="0">
            <a:noFill/>
          </a:ln>
        </p:spPr>
      </p:pic>
      <p:sp>
        <p:nvSpPr>
          <p:cNvPr id="474" name="Shape 302"/>
          <p:cNvSpPr/>
          <p:nvPr/>
        </p:nvSpPr>
        <p:spPr>
          <a:xfrm>
            <a:off x="468360" y="1724040"/>
            <a:ext cx="1911240" cy="2700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18"/>
          <p:cNvSpPr/>
          <p:nvPr/>
        </p:nvSpPr>
        <p:spPr>
          <a:xfrm>
            <a:off x="2622600" y="1208160"/>
            <a:ext cx="652140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10394964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  <a:ea typeface="Calibri"/>
              </a:rPr>
              <a:t>Цель: </a:t>
            </a:r>
            <a:r>
              <a:rPr b="1" lang="ru-RU" sz="1200" spc="-1" strike="noStrike">
                <a:solidFill>
                  <a:srgbClr val="333333"/>
                </a:solidFill>
                <a:latin typeface="Arial"/>
                <a:ea typeface="Calibri"/>
              </a:rPr>
              <a:t>подготовка к школе эстетически воспитанного и развитого ребенка, умеющего эмоционально воспринимать содержание музыкального произведения, проникаться его настроением, мыслями, чувств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10394964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  <a:ea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03949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Воспитывать любовь и интерес к музы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03949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Обогащать впечатления детей, знакомя их в определенно организованной системе с разнообразными музыкальными произведениями и используемыми средствами выраз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03949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Приобщать детей к разнообразным видам музыкальной деятельности, формируя восприятие музыки и простейшие исполнительские навыки в области пения, ритмики, игры на детских инструментах. Знакомить с начальными элементами музыкальной грамо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03949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Развивать общую музыкальность детей (сенсорные способности, ладовысотный слух, чувство ритма), формировать певческий голос и выразительность движ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03949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Содействовать первоначальному развитию музыкального вку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03949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Развивать творческое отношение к музыке, прежде всего, в такой доступной для детей деятельности, как передача образов в музыкальных играх и хороводах, применение новых сочетаний знакомых танцевальных движ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Shape 40" descr="paint_transparent1.png"/>
          <p:cNvPicPr/>
          <p:nvPr/>
        </p:nvPicPr>
        <p:blipFill>
          <a:blip r:embed="rId1"/>
          <a:stretch/>
        </p:blipFill>
        <p:spPr>
          <a:xfrm>
            <a:off x="2357280" y="407880"/>
            <a:ext cx="5013360" cy="5143680"/>
          </a:xfrm>
          <a:prstGeom prst="rect">
            <a:avLst/>
          </a:prstGeom>
          <a:ln w="0">
            <a:noFill/>
          </a:ln>
        </p:spPr>
      </p:pic>
      <p:sp>
        <p:nvSpPr>
          <p:cNvPr id="477" name="Заголовок 1"/>
          <p:cNvSpPr/>
          <p:nvPr/>
        </p:nvSpPr>
        <p:spPr>
          <a:xfrm>
            <a:off x="1430280" y="558720"/>
            <a:ext cx="555624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9b33"/>
                </a:solidFill>
                <a:latin typeface="Arial Black"/>
                <a:ea typeface="Yu Gothic UI Semibold"/>
              </a:rPr>
              <a:t>МУЗЫКАЛЬНО-ОЗДОРОВИТЕЛЬНЫЕ 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6"/>
          <p:cNvSpPr/>
          <p:nvPr/>
        </p:nvSpPr>
        <p:spPr>
          <a:xfrm>
            <a:off x="200160" y="2104920"/>
            <a:ext cx="610380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29b33"/>
              </a:buClr>
              <a:buSzPct val="10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Улучшение общего эмоционального состояния детей, оздоровление псих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29b33"/>
              </a:buClr>
              <a:buSzPct val="10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Развитие и коррекция познавательной сфе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29b33"/>
              </a:buClr>
              <a:buSzPct val="10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ормализация психических процессов и свойств: памяти, внимания, мышления, речи, развитие произвольности психически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29b33"/>
              </a:buClr>
              <a:buSzPct val="10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Физическое развитие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29b33"/>
              </a:buClr>
              <a:buSzPct val="10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Укрепление, тренировка двигательного аппар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29b33"/>
              </a:buClr>
              <a:buSzPct val="10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Формирование качества дви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29b33"/>
              </a:buClr>
              <a:buSzPct val="10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Развитие эмоционально-волевой 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29b33"/>
              </a:buClr>
              <a:buSzPct val="10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Воспитание уверенности в своих силах, выдержки, волевых черт харак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hape 305"/>
          <p:cNvSpPr/>
          <p:nvPr/>
        </p:nvSpPr>
        <p:spPr>
          <a:xfrm>
            <a:off x="7875720" y="3898800"/>
            <a:ext cx="969840" cy="976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67920" y="-295200"/>
            <a:ext cx="7419960" cy="128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МУЗЫКАЛЬНО-ОЗДОРОВИТЕЛЬНАЯ </a:t>
            </a:r>
            <a:br>
              <a:rPr sz="2200"/>
            </a:b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РАБОТА С ДЕТЬ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hape 145"/>
          <p:cNvSpPr/>
          <p:nvPr/>
        </p:nvSpPr>
        <p:spPr>
          <a:xfrm>
            <a:off x="468360" y="1120680"/>
            <a:ext cx="176364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Дыхательная </a:t>
            </a:r>
            <a:br>
              <a:rPr sz="1000"/>
            </a:b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гимна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hape 145"/>
          <p:cNvSpPr/>
          <p:nvPr/>
        </p:nvSpPr>
        <p:spPr>
          <a:xfrm>
            <a:off x="2382840" y="1120680"/>
            <a:ext cx="176544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Музыкально-ритмическая гимна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hape 145"/>
          <p:cNvSpPr/>
          <p:nvPr/>
        </p:nvSpPr>
        <p:spPr>
          <a:xfrm>
            <a:off x="4299120" y="1120680"/>
            <a:ext cx="176364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Пальчиковые </a:t>
            </a:r>
            <a:br>
              <a:rPr sz="1000"/>
            </a:b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иг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hape 145"/>
          <p:cNvSpPr/>
          <p:nvPr/>
        </p:nvSpPr>
        <p:spPr>
          <a:xfrm>
            <a:off x="6213600" y="1120680"/>
            <a:ext cx="176508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Игротанцы </a:t>
            </a:r>
            <a:br>
              <a:rPr sz="1000"/>
            </a:b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и игроритм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hape 145"/>
          <p:cNvSpPr/>
          <p:nvPr/>
        </p:nvSpPr>
        <p:spPr>
          <a:xfrm>
            <a:off x="468360" y="2355840"/>
            <a:ext cx="176364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Цветотерап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hape 145"/>
          <p:cNvSpPr/>
          <p:nvPr/>
        </p:nvSpPr>
        <p:spPr>
          <a:xfrm>
            <a:off x="2382840" y="2330280"/>
            <a:ext cx="176544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Музыкотерап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hape 145"/>
          <p:cNvSpPr/>
          <p:nvPr/>
        </p:nvSpPr>
        <p:spPr>
          <a:xfrm>
            <a:off x="4299120" y="2330280"/>
            <a:ext cx="176364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Игровой </a:t>
            </a:r>
            <a:br>
              <a:rPr sz="1000"/>
            </a:b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самомасса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hape 145"/>
          <p:cNvSpPr/>
          <p:nvPr/>
        </p:nvSpPr>
        <p:spPr>
          <a:xfrm>
            <a:off x="6213600" y="2330280"/>
            <a:ext cx="176508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Игропла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Рисунок 1" descr=""/>
          <p:cNvPicPr/>
          <p:nvPr/>
        </p:nvPicPr>
        <p:blipFill>
          <a:blip r:embed="rId1"/>
          <a:stretch/>
        </p:blipFill>
        <p:spPr>
          <a:xfrm>
            <a:off x="1138320" y="1190520"/>
            <a:ext cx="423720" cy="424080"/>
          </a:xfrm>
          <a:prstGeom prst="rect">
            <a:avLst/>
          </a:prstGeom>
          <a:ln w="0">
            <a:noFill/>
          </a:ln>
        </p:spPr>
      </p:pic>
      <p:pic>
        <p:nvPicPr>
          <p:cNvPr id="490" name="Рисунок 5" descr=""/>
          <p:cNvPicPr/>
          <p:nvPr/>
        </p:nvPicPr>
        <p:blipFill>
          <a:blip r:embed="rId2"/>
          <a:stretch/>
        </p:blipFill>
        <p:spPr>
          <a:xfrm>
            <a:off x="4968720" y="1190520"/>
            <a:ext cx="424080" cy="424080"/>
          </a:xfrm>
          <a:prstGeom prst="rect">
            <a:avLst/>
          </a:prstGeom>
          <a:ln w="0">
            <a:noFill/>
          </a:ln>
        </p:spPr>
      </p:pic>
      <p:pic>
        <p:nvPicPr>
          <p:cNvPr id="491" name="Рисунок 8" descr=""/>
          <p:cNvPicPr/>
          <p:nvPr/>
        </p:nvPicPr>
        <p:blipFill>
          <a:blip r:embed="rId3"/>
          <a:stretch/>
        </p:blipFill>
        <p:spPr>
          <a:xfrm>
            <a:off x="6883560" y="1190520"/>
            <a:ext cx="423720" cy="424080"/>
          </a:xfrm>
          <a:prstGeom prst="rect">
            <a:avLst/>
          </a:prstGeom>
          <a:ln w="0">
            <a:noFill/>
          </a:ln>
        </p:spPr>
      </p:pic>
      <p:pic>
        <p:nvPicPr>
          <p:cNvPr id="492" name="Рисунок 9" descr=""/>
          <p:cNvPicPr/>
          <p:nvPr/>
        </p:nvPicPr>
        <p:blipFill>
          <a:blip r:embed="rId4"/>
          <a:stretch/>
        </p:blipFill>
        <p:spPr>
          <a:xfrm>
            <a:off x="4968720" y="2454120"/>
            <a:ext cx="424080" cy="425520"/>
          </a:xfrm>
          <a:prstGeom prst="rect">
            <a:avLst/>
          </a:prstGeom>
          <a:ln w="0">
            <a:noFill/>
          </a:ln>
        </p:spPr>
      </p:pic>
      <p:pic>
        <p:nvPicPr>
          <p:cNvPr id="493" name="Рисунок 29" descr=""/>
          <p:cNvPicPr/>
          <p:nvPr/>
        </p:nvPicPr>
        <p:blipFill>
          <a:blip r:embed="rId5"/>
          <a:stretch/>
        </p:blipFill>
        <p:spPr>
          <a:xfrm>
            <a:off x="3013200" y="245412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494" name="Shape 145"/>
          <p:cNvSpPr/>
          <p:nvPr/>
        </p:nvSpPr>
        <p:spPr>
          <a:xfrm>
            <a:off x="468360" y="3591000"/>
            <a:ext cx="1763640" cy="107928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Музыкально-</a:t>
            </a:r>
            <a:br>
              <a:rPr sz="1000"/>
            </a:b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подвижные иг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hape 145"/>
          <p:cNvSpPr/>
          <p:nvPr/>
        </p:nvSpPr>
        <p:spPr>
          <a:xfrm>
            <a:off x="2382840" y="3565440"/>
            <a:ext cx="176544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Психогимна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hape 145"/>
          <p:cNvSpPr/>
          <p:nvPr/>
        </p:nvSpPr>
        <p:spPr>
          <a:xfrm>
            <a:off x="4299120" y="3565440"/>
            <a:ext cx="176364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Креативная </a:t>
            </a:r>
            <a:br>
              <a:rPr sz="1000"/>
            </a:b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гимна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hape 145"/>
          <p:cNvSpPr/>
          <p:nvPr/>
        </p:nvSpPr>
        <p:spPr>
          <a:xfrm>
            <a:off x="6213600" y="3565440"/>
            <a:ext cx="1765080" cy="1079640"/>
          </a:xfrm>
          <a:prstGeom prst="rect">
            <a:avLst/>
          </a:prstGeom>
          <a:solidFill>
            <a:srgbClr val="fec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43"/>
                </a:solidFill>
                <a:latin typeface="Arial"/>
                <a:ea typeface="Calibri"/>
              </a:rPr>
              <a:t>Хоровое оздоровительное п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Рисунок 7" descr=""/>
          <p:cNvPicPr/>
          <p:nvPr/>
        </p:nvPicPr>
        <p:blipFill>
          <a:blip r:embed="rId6"/>
          <a:stretch/>
        </p:blipFill>
        <p:spPr>
          <a:xfrm>
            <a:off x="1049400" y="3645000"/>
            <a:ext cx="503280" cy="504720"/>
          </a:xfrm>
          <a:prstGeom prst="rect">
            <a:avLst/>
          </a:prstGeom>
          <a:ln w="0">
            <a:noFill/>
          </a:ln>
        </p:spPr>
      </p:pic>
      <p:sp>
        <p:nvSpPr>
          <p:cNvPr id="499" name="Shape 317"/>
          <p:cNvSpPr/>
          <p:nvPr/>
        </p:nvSpPr>
        <p:spPr>
          <a:xfrm>
            <a:off x="1057320" y="2550960"/>
            <a:ext cx="587160" cy="328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hape 292"/>
          <p:cNvSpPr/>
          <p:nvPr/>
        </p:nvSpPr>
        <p:spPr>
          <a:xfrm>
            <a:off x="3036960" y="1165320"/>
            <a:ext cx="457200" cy="45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Рисунок 6" descr=""/>
          <p:cNvPicPr/>
          <p:nvPr/>
        </p:nvPicPr>
        <p:blipFill>
          <a:blip r:embed="rId7"/>
          <a:stretch/>
        </p:blipFill>
        <p:spPr>
          <a:xfrm>
            <a:off x="3070080" y="3662280"/>
            <a:ext cx="424080" cy="424080"/>
          </a:xfrm>
          <a:prstGeom prst="rect">
            <a:avLst/>
          </a:prstGeom>
          <a:ln w="0">
            <a:noFill/>
          </a:ln>
        </p:spPr>
      </p:pic>
      <p:sp>
        <p:nvSpPr>
          <p:cNvPr id="502" name="Shape 312"/>
          <p:cNvSpPr/>
          <p:nvPr/>
        </p:nvSpPr>
        <p:spPr>
          <a:xfrm>
            <a:off x="6921360" y="2514600"/>
            <a:ext cx="376200" cy="345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hape 313"/>
          <p:cNvSpPr/>
          <p:nvPr/>
        </p:nvSpPr>
        <p:spPr>
          <a:xfrm>
            <a:off x="5008680" y="3641760"/>
            <a:ext cx="344520" cy="41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hape 352"/>
          <p:cNvSpPr/>
          <p:nvPr/>
        </p:nvSpPr>
        <p:spPr>
          <a:xfrm>
            <a:off x="6772320" y="3687840"/>
            <a:ext cx="557280" cy="323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Заголовок 1"/>
          <p:cNvSpPr/>
          <p:nvPr/>
        </p:nvSpPr>
        <p:spPr>
          <a:xfrm>
            <a:off x="368280" y="146160"/>
            <a:ext cx="927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ФОРМЫ МУЗЫКАЛЬНОГО </a:t>
            </a:r>
            <a:br>
              <a:rPr sz="2200"/>
            </a:b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РАЗВИТИЯ ДОШКОЛЬ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hape 145"/>
          <p:cNvSpPr/>
          <p:nvPr/>
        </p:nvSpPr>
        <p:spPr>
          <a:xfrm>
            <a:off x="479520" y="1428840"/>
            <a:ext cx="3887640" cy="47916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0022"/>
                </a:solidFill>
                <a:latin typeface="Arial Black"/>
                <a:ea typeface="Yu Gothic UI Semibold"/>
              </a:rPr>
              <a:t>ПРАЗДНИКИ И РАЗВЛ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hape 145"/>
          <p:cNvSpPr/>
          <p:nvPr/>
        </p:nvSpPr>
        <p:spPr>
          <a:xfrm>
            <a:off x="468360" y="2000160"/>
            <a:ext cx="3887640" cy="126540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0022"/>
                </a:solidFill>
                <a:latin typeface="Arial Black"/>
                <a:ea typeface="Yu Gothic UI Semibold"/>
              </a:rPr>
              <a:t>ФРОНТАЛЬНЫЕ </a:t>
            </a:r>
            <a:br>
              <a:rPr sz="1400"/>
            </a:br>
            <a:r>
              <a:rPr b="1" lang="ru-RU" sz="1400" spc="-1" strike="noStrike">
                <a:solidFill>
                  <a:srgbClr val="f10022"/>
                </a:solidFill>
                <a:latin typeface="Arial Black"/>
                <a:ea typeface="Yu Gothic UI Semibold"/>
              </a:rPr>
              <a:t>МУЗЫКАЛЬНЫЕ ЗАН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Комплекс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Тематическ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Традицион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hape 145"/>
          <p:cNvSpPr/>
          <p:nvPr/>
        </p:nvSpPr>
        <p:spPr>
          <a:xfrm>
            <a:off x="4473720" y="1428840"/>
            <a:ext cx="3887640" cy="47916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0022"/>
                </a:solidFill>
                <a:latin typeface="Arial Black"/>
                <a:ea typeface="Yu Gothic UI Semibold"/>
              </a:rPr>
              <a:t>МУЗЫКА НА Н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hape 145"/>
          <p:cNvSpPr/>
          <p:nvPr/>
        </p:nvSpPr>
        <p:spPr>
          <a:xfrm>
            <a:off x="468360" y="3363840"/>
            <a:ext cx="3887640" cy="126540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0022"/>
                </a:solidFill>
                <a:latin typeface="Arial Black"/>
                <a:ea typeface="Yu Gothic UI Semibold"/>
              </a:rPr>
              <a:t>ИГРОВАЯ МУЗЫКАЛЬН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Театрализованные музыкальные иг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Музыкальные дидактическ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Игры с пени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hape 145"/>
          <p:cNvSpPr/>
          <p:nvPr/>
        </p:nvSpPr>
        <p:spPr>
          <a:xfrm>
            <a:off x="4473720" y="3363840"/>
            <a:ext cx="3887640" cy="126540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0022"/>
                </a:solidFill>
                <a:latin typeface="Arial Black"/>
                <a:ea typeface="Yu Gothic UI Semibold"/>
              </a:rPr>
              <a:t>ИНДИВИДУАЛЬНЫЕ МУЗЫКАЛЬНЫЕ ЗАН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Развитие слуха и голос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Упражнения и освоение танцевальных движен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Обучение игре на музыкальных инструмента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hape 145"/>
          <p:cNvSpPr/>
          <p:nvPr/>
        </p:nvSpPr>
        <p:spPr>
          <a:xfrm>
            <a:off x="4473720" y="2000160"/>
            <a:ext cx="3887640" cy="126540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0022"/>
                </a:solidFill>
                <a:latin typeface="Arial Black"/>
                <a:ea typeface="Yu Gothic UI Semibold"/>
              </a:rPr>
              <a:t>СОВМЕСТНАЯ ДЕЯТЕЛЬНОСТЬ ВЗРОСЛЫХ И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Театрализованная деятельн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Оркест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Ансамбл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Заголовок 1"/>
          <p:cNvSpPr/>
          <p:nvPr/>
        </p:nvSpPr>
        <p:spPr>
          <a:xfrm>
            <a:off x="368280" y="146160"/>
            <a:ext cx="927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ВЗАИМОДЕЙСТВИЕ </a:t>
            </a:r>
            <a:br>
              <a:rPr sz="2200"/>
            </a:br>
            <a:r>
              <a:rPr b="1" lang="ru-RU" sz="2200" spc="-1" strike="noStrike">
                <a:solidFill>
                  <a:srgbClr val="b64404"/>
                </a:solidFill>
                <a:latin typeface="Arial Black"/>
                <a:ea typeface="Yu Gothic UI Semibold"/>
              </a:rPr>
              <a:t>С ПЕДАГОГИЧЕСКИМ КОЛЛЕКТИВ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hape 145"/>
          <p:cNvSpPr/>
          <p:nvPr/>
        </p:nvSpPr>
        <p:spPr>
          <a:xfrm>
            <a:off x="468360" y="2092320"/>
            <a:ext cx="2440080" cy="170352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Проведение открытых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музыкальных занятий, вечеров досуга с последующим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их обсуждением и анализ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hape 145"/>
          <p:cNvSpPr/>
          <p:nvPr/>
        </p:nvSpPr>
        <p:spPr>
          <a:xfrm>
            <a:off x="468360" y="1398600"/>
            <a:ext cx="7943760" cy="51768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Практические занятия педагогического коллектива по разучиванию музыкального реперту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hape 145"/>
          <p:cNvSpPr/>
          <p:nvPr/>
        </p:nvSpPr>
        <p:spPr>
          <a:xfrm>
            <a:off x="468360" y="3973680"/>
            <a:ext cx="3851280" cy="52524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Индивидуальные и групповы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(по 2–4 человека) консуль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hape 145"/>
          <p:cNvSpPr/>
          <p:nvPr/>
        </p:nvSpPr>
        <p:spPr>
          <a:xfrm>
            <a:off x="3219480" y="2092320"/>
            <a:ext cx="2440080" cy="1703520"/>
          </a:xfrm>
          <a:prstGeom prst="rect">
            <a:avLst/>
          </a:prstGeom>
          <a:solidFill>
            <a:srgbClr val="f1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  <a:ea typeface="Calibri"/>
              </a:rPr>
              <a:t>ФОРМЫ 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  <a:ea typeface="Calibri"/>
              </a:rPr>
              <a:t>ВЗАИМОДЕЙСТВИЯ МУЗЫКАЛЬНОГО РУКОВОДИТЕЛЯ 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  <a:ea typeface="Calibri"/>
              </a:rPr>
              <a:t>И ПЕДАГОГИЧЕСКОГО КОЛЛЕКТИ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hape 145"/>
          <p:cNvSpPr/>
          <p:nvPr/>
        </p:nvSpPr>
        <p:spPr>
          <a:xfrm>
            <a:off x="4543560" y="3973680"/>
            <a:ext cx="3851280" cy="52524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Выступления на педагогических советах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с докладами, тематическими сообщ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hape 145"/>
          <p:cNvSpPr/>
          <p:nvPr/>
        </p:nvSpPr>
        <p:spPr>
          <a:xfrm>
            <a:off x="5970600" y="2092320"/>
            <a:ext cx="2441520" cy="1703520"/>
          </a:xfrm>
          <a:prstGeom prst="rect">
            <a:avLst/>
          </a:prstGeom>
          <a:solidFill>
            <a:srgbClr val="ffb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Ознакомление с новой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музыкально-методической литерату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Прямая со стрелкой 3"/>
          <p:cNvCxnSpPr>
            <a:stCxn id="516" idx="0"/>
            <a:endCxn id="514" idx="2"/>
          </p:cNvCxnSpPr>
          <p:nvPr/>
        </p:nvCxnSpPr>
        <p:spPr>
          <a:xfrm flipV="1">
            <a:off x="4439880" y="1915560"/>
            <a:ext cx="1080" cy="176760"/>
          </a:xfrm>
          <a:prstGeom prst="straightConnector1">
            <a:avLst/>
          </a:prstGeom>
          <a:ln w="9360">
            <a:solidFill>
              <a:srgbClr val="f10022"/>
            </a:solidFill>
            <a:miter/>
            <a:tailEnd len="med" type="oval" w="med"/>
          </a:ln>
        </p:spPr>
      </p:cxnSp>
      <p:cxnSp>
        <p:nvCxnSpPr>
          <p:cNvPr id="520" name="Прямая со стрелкой 13"/>
          <p:cNvCxnSpPr>
            <a:stCxn id="516" idx="3"/>
            <a:endCxn id="518" idx="1"/>
          </p:cNvCxnSpPr>
          <p:nvPr/>
        </p:nvCxnSpPr>
        <p:spPr>
          <a:xfrm>
            <a:off x="5659560" y="2944440"/>
            <a:ext cx="311760" cy="1080"/>
          </a:xfrm>
          <a:prstGeom prst="straightConnector1">
            <a:avLst/>
          </a:prstGeom>
          <a:ln w="9360">
            <a:solidFill>
              <a:srgbClr val="f10022"/>
            </a:solidFill>
            <a:miter/>
            <a:tailEnd len="med" type="oval" w="med"/>
          </a:ln>
        </p:spPr>
      </p:cxnSp>
      <p:cxnSp>
        <p:nvCxnSpPr>
          <p:cNvPr id="521" name="Прямая со стрелкой 16"/>
          <p:cNvCxnSpPr>
            <a:stCxn id="516" idx="1"/>
            <a:endCxn id="513" idx="3"/>
          </p:cNvCxnSpPr>
          <p:nvPr/>
        </p:nvCxnSpPr>
        <p:spPr>
          <a:xfrm flipH="1">
            <a:off x="2908080" y="2944440"/>
            <a:ext cx="311760" cy="1080"/>
          </a:xfrm>
          <a:prstGeom prst="straightConnector1">
            <a:avLst/>
          </a:prstGeom>
          <a:ln w="9360">
            <a:solidFill>
              <a:srgbClr val="f10022"/>
            </a:solidFill>
            <a:miter/>
            <a:tailEnd len="med" type="oval" w="med"/>
          </a:ln>
        </p:spPr>
      </p:cxnSp>
      <p:cxnSp>
        <p:nvCxnSpPr>
          <p:cNvPr id="522" name="Прямая со стрелкой 25"/>
          <p:cNvCxnSpPr/>
          <p:nvPr/>
        </p:nvCxnSpPr>
        <p:spPr>
          <a:xfrm>
            <a:off x="5095440" y="3795840"/>
            <a:ext cx="1080" cy="178200"/>
          </a:xfrm>
          <a:prstGeom prst="straightConnector1">
            <a:avLst/>
          </a:prstGeom>
          <a:ln w="9360">
            <a:solidFill>
              <a:srgbClr val="f10022"/>
            </a:solidFill>
            <a:miter/>
            <a:tailEnd len="med" type="oval" w="med"/>
          </a:ln>
        </p:spPr>
      </p:cxnSp>
      <p:cxnSp>
        <p:nvCxnSpPr>
          <p:cNvPr id="523" name="Прямая со стрелкой 27"/>
          <p:cNvCxnSpPr/>
          <p:nvPr/>
        </p:nvCxnSpPr>
        <p:spPr>
          <a:xfrm>
            <a:off x="3784320" y="3795840"/>
            <a:ext cx="1080" cy="178200"/>
          </a:xfrm>
          <a:prstGeom prst="straightConnector1">
            <a:avLst/>
          </a:prstGeom>
          <a:ln w="9360">
            <a:solidFill>
              <a:srgbClr val="f10022"/>
            </a:solidFill>
            <a:miter/>
            <a:tailEnd len="med" type="oval" w="med"/>
          </a:ln>
        </p:spPr>
      </p:cxn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</dc:creator>
  <dc:description/>
  <dc:language>en-US</dc:language>
  <cp:lastModifiedBy>User</cp:lastModifiedBy>
  <dcterms:modified xsi:type="dcterms:W3CDTF">2024-01-27T18:04:55Z</dcterms:modified>
  <cp:revision>81</cp:revision>
  <dc:subject/>
  <dc:title>Презентация PowerPoint</dc:title>
</cp:coreProperties>
</file>