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91E-39AA-4344-9CC7-0BD3AA55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554-602D-4154-96BE-FB215897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4ED-4140-4458-8461-E3E62123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126-E312-432D-809D-BDBBA906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85AA-BF3E-4EFB-956A-EA0DAE89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8066-30DE-44C4-8F69-308CA4F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9D68-96C1-43E5-A9D8-6257CD04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713-30F5-45C6-A013-86C88CD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19CB-2917-4CA8-B409-4FC48345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B944-A669-4D01-BC9C-C8CF58E1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A69-39AE-434C-8BBA-058CAF7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5D4-90D4-49D5-9E93-70A38A08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F624-9B9A-4959-ACD2-6348C4C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F886-34D1-4AB1-9B1B-9AE7175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7653-1AAC-4837-B198-83F48C36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BD7A-DCDE-4198-8538-1C023CA1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332-2019-4FB9-A48A-C0567C0C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F06D-A6B8-4416-85B4-4C21FF34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F306-70D3-4047-A691-88840CCC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017F-758E-4C71-8C87-EDE2C076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1CFB-186B-4AAC-8EC3-30223C33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EBC5B-0D35-4E1E-B0BB-CC819D7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C80-B345-42CE-B619-54625E3D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E2A2-925A-496D-94A0-1184D181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1E23-86B3-4F01-8346-AB0F3EA5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8DF1-276C-48F4-B48E-CA1D3C4E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C63F-8CDF-43E5-AE7E-85BCC552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2299-F185-41CE-B56C-9E02800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A331B-F7A7-4232-B851-AAEE8476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CCBE-E251-4A0E-8D48-4E7201DF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9DB2-6770-4138-B441-F8484A45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C0B4-6372-4622-B37F-015444EF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04C5-83AC-48C2-9CA7-6612EFE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8D1-0491-45BB-9652-253F4B2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F767-D45D-4DD9-8915-AA3CA76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812C-F0AB-4B8D-B5B1-13A2D257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6BC8-6532-4481-9CB7-4EDB75C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371E7-2284-4D9A-BAE4-574A9B7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882D-2F15-4CB0-A6CA-2CDB47F7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1C3C-C9BC-4B85-A21E-C35CAA3D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FC69-F108-4AEA-BEC9-9AADC1EE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F242E-EDFA-4532-BAF0-665B7119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D46D-180A-4C79-9AFF-75E1CEF8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8A4E7-2E25-4E93-B8A0-469A8745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C8B-BF3F-4858-8246-8578494F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1299-AEC5-42DB-98E3-34AD37E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A8B3-D355-4545-961E-527C119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ECE3C-2AF9-419F-9961-E7A4245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0A0DF-05AD-49D8-9A22-9DA09DE7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4F5BD-26CD-43AE-9A40-C0D5F750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A0812-05AA-4A61-9328-C9F1FE3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5FEA-F927-46A9-8E0C-937896C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CCE27-0ABE-4859-9A67-2448CB7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F7DF-6643-4AAC-9B38-2EDA2E13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0B6B-E123-4C39-8177-1ADDC122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81F-2715-40FA-B2CC-206FA947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0D5B-6CA1-4DF1-AD9C-C0F6EA47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0D33-CF5E-4BF4-8293-3BCB0B83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96B00-6647-4C9B-B4A2-543AA9C6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2BD4-5C1C-4819-9A22-EDFCBDEF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A227-6FCA-4114-A3D5-ACB3D9D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6A9A-60E4-427A-BDF4-341119B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8C8A-7432-40EE-AD36-5BD95C3A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60B0-1646-4060-9FE5-9C0A734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A7FCC-8FF0-48AC-B1D0-B786575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2E2D-F96D-4691-B6FB-CE8AA2C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0D5-74D0-4E69-9F3C-1F1FA776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02837-98BF-4F35-B0EA-ED971DEB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3480F-2375-46A9-B6E1-2306B824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4B31-D095-418A-AE72-B53AEB5A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5BDC-EB43-4957-9F79-39E8493D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F085B-CD43-4573-863C-FAFD6F6D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CA3CC-7D56-436E-A793-E2A3BD9D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BD35-57A7-4E4F-85CD-76A34260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E95A7-12F7-4FE7-BEC9-D6C7D5FE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EBD3-CC12-4508-8B82-55DAA1A2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A588-A515-4088-BBE0-B1AA35C5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D7D-F776-4171-A3AB-E3C7D9A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D9AB4-356B-4C1F-BEA9-5146A52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F911C-97F0-45A8-9CAB-657DDB6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8189-3766-45C8-8981-37958A18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0454-1B5C-401C-8787-8EE1A43F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33A3-3260-41AF-A9C2-20D6FE47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A675-FB74-4545-A881-30BF1123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8C146-1D32-42DF-B36E-332F219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CBBD-4B5E-4F29-924E-10AD28A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B8B90-A7B8-459C-AAFB-A3F1A02A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0D882-9761-4068-B2E8-54D32B2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3BF-AF5B-4363-A600-C7B1C90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2517-F902-40CD-847C-37CEF834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3837-BF3F-43F6-AD2E-8C5B4B5F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B6D0-A6F7-435C-99B1-E9FE229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0D2C3-5E4C-49A0-A2F2-0299769B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AD19C-8691-4333-B80A-385F74A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371C-46DD-4BD4-B2BB-AB0B68E1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80082-8AC5-4C8E-923E-0A696060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0408-ED8D-4173-B10E-9F6380FA16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8BF5-7115-40C1-B333-E44ED169893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643-BDD3-4006-8EFF-3EBF7D8BCF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6088-E025-4C23-8430-26F56A5EF3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6AFC-852E-44AF-BD2F-8593D3E010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502-05DC-4E3C-AF71-4DC4D2FE0B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7D18-BD08-484A-B745-8342CFDD68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36F-8E92-4F39-BE58-082A048835A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200680" y="1484280"/>
            <a:ext cx="44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чин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карт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Золотая ос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3"/>
          <p:cNvSpPr/>
          <p:nvPr/>
        </p:nvSpPr>
        <p:spPr>
          <a:xfrm>
            <a:off x="1261080" y="98100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часть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621800" y="2708280"/>
            <a:ext cx="537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хо и грустно в ле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"/>
          <p:cNvSpPr/>
          <p:nvPr/>
        </p:nvSpPr>
        <p:spPr>
          <a:xfrm>
            <a:off x="1182240" y="927000"/>
            <a:ext cx="7431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ртине художник изобраз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ую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есной полянке стоят краси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я. Они нарядились в яр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ёлтые платья. Холодный 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ывает с них золотые лис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емле лежит разноцветный ков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истьев. На лесной тропинке си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бокие соро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хо и грустно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539640" y="204840"/>
            <a:ext cx="8261640" cy="62276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6"/>
          <p:cNvSpPr/>
          <p:nvPr/>
        </p:nvSpPr>
        <p:spPr>
          <a:xfrm>
            <a:off x="395280" y="6093000"/>
            <a:ext cx="5184720" cy="6267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С.Остроухов «Золотая ос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grpSp>
        <p:nvGrpSpPr>
          <p:cNvPr id="377" name="Organization Chart 3"/>
          <p:cNvGrpSpPr/>
          <p:nvPr/>
        </p:nvGrpSpPr>
        <p:grpSpPr>
          <a:xfrm>
            <a:off x="431640" y="1341360"/>
            <a:ext cx="8208360" cy="4707000"/>
            <a:chOff x="431640" y="1341360"/>
            <a:chExt cx="8208360" cy="4707000"/>
          </a:xfrm>
        </p:grpSpPr>
        <p:cxnSp>
          <p:nvCxnSpPr>
            <p:cNvPr id="378" name="_s1028"/>
            <p:cNvCxnSpPr>
              <a:stCxn id="379" idx="0"/>
              <a:endCxn id="380" idx="2"/>
            </p:cNvCxnSpPr>
            <p:nvPr/>
          </p:nvCxnSpPr>
          <p:spPr>
            <a:xfrm flipV="1" rot="16200000">
              <a:off x="5501160" y="2257560"/>
              <a:ext cx="942120" cy="287352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1" name="_s1029"/>
            <p:cNvCxnSpPr>
              <a:stCxn id="382" idx="0"/>
              <a:endCxn id="380" idx="2"/>
            </p:cNvCxnSpPr>
            <p:nvPr/>
          </p:nvCxnSpPr>
          <p:spPr>
            <a:xfrm flipV="1">
              <a:off x="4536000" y="3223440"/>
              <a:ext cx="3600" cy="94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3" name="_s1030"/>
            <p:cNvCxnSpPr>
              <a:stCxn id="384" idx="0"/>
              <a:endCxn id="380" idx="2"/>
            </p:cNvCxnSpPr>
            <p:nvPr/>
          </p:nvCxnSpPr>
          <p:spPr>
            <a:xfrm flipH="1" flipV="1" rot="5400000">
              <a:off x="2628360" y="2257920"/>
              <a:ext cx="942120" cy="2873520"/>
            </a:xfrm>
            <a:prstGeom prst="bentConnector3">
              <a:avLst>
                <a:gd name="adj1" fmla="val 128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0" name="_s1031"/>
            <p:cNvSpPr/>
            <p:nvPr/>
          </p:nvSpPr>
          <p:spPr>
            <a:xfrm>
              <a:off x="3304440" y="13413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Arial"/>
                </a:rPr>
                <a:t>Текст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32"/>
            <p:cNvSpPr/>
            <p:nvPr/>
          </p:nvSpPr>
          <p:spPr>
            <a:xfrm>
              <a:off x="43164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Начало –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водн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ступитель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асть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1033"/>
            <p:cNvSpPr/>
            <p:nvPr/>
          </p:nvSpPr>
          <p:spPr>
            <a:xfrm>
              <a:off x="330444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Середина –</a:t>
              </a:r>
              <a:r>
                <a:rPr b="0" lang="en-US" sz="21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ая, ключевая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лавная част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скрывает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ую мысл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1034"/>
            <p:cNvSpPr/>
            <p:nvPr/>
          </p:nvSpPr>
          <p:spPr>
            <a:xfrm>
              <a:off x="6177600" y="4165560"/>
              <a:ext cx="2462400" cy="1882800"/>
            </a:xfrm>
            <a:prstGeom prst="roundRect">
              <a:avLst>
                <a:gd name="adj" fmla="val 16667"/>
              </a:avLst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Концовка –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ключитель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асть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держит выво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руктура текста</a:t>
            </a:r>
            <a:r>
              <a:rPr b="0" lang="ru-RU" sz="44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87" name="Line 3"/>
          <p:cNvSpPr/>
          <p:nvPr/>
        </p:nvSpPr>
        <p:spPr>
          <a:xfrm>
            <a:off x="1763640" y="17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4427640" y="17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4427640" y="1989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93800" y="11253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4283640" y="112536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образ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1261080" y="3860640"/>
            <a:ext cx="69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ртине худож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бразил золотую ос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1403280" y="2924280"/>
            <a:ext cx="604836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477440" y="306864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на картине, золотая, 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383840" y="39852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500720" y="191628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2340000" y="19162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2343600" y="10987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о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431240" y="1170000"/>
            <a:ext cx="22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903600" y="4005360"/>
            <a:ext cx="71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лесной поляне сто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ивые дере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403280" y="2924280"/>
            <a:ext cx="648180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1476360" y="306864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красивые, на  поляне,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387440" y="37296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07" name="Line 3"/>
          <p:cNvSpPr/>
          <p:nvPr/>
        </p:nvSpPr>
        <p:spPr>
          <a:xfrm>
            <a:off x="2484360" y="1844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500720" y="1773360"/>
            <a:ext cx="28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4427640" y="1989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980000" y="1049400"/>
            <a:ext cx="188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287960" y="1027080"/>
            <a:ext cx="32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ядил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1694520" y="4437000"/>
            <a:ext cx="58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и  нарядились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рко-жёлтые пла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1547640" y="2997360"/>
            <a:ext cx="604872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1980000" y="3068640"/>
            <a:ext cx="47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платья, ярко-жёл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16" name="Line 3"/>
          <p:cNvSpPr/>
          <p:nvPr/>
        </p:nvSpPr>
        <p:spPr>
          <a:xfrm>
            <a:off x="2411280" y="2060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4500720" y="198900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4500720" y="220500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1621800" y="1268280"/>
            <a:ext cx="22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4215240" y="1268280"/>
            <a:ext cx="23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191600" y="4292640"/>
            <a:ext cx="71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ный ветер ср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них золотые листочк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1547640" y="2852640"/>
            <a:ext cx="6048720" cy="12240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1547280" y="2852640"/>
            <a:ext cx="59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листочки, золотые,  с 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25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572000" y="2060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2340000" y="220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342520" y="1341360"/>
            <a:ext cx="170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ж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429440" y="141300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вё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1044000" y="4005360"/>
            <a:ext cx="7328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земле лежит разноцве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вёр из лист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1403280" y="2492280"/>
            <a:ext cx="6481800" cy="1152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765080" y="256536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на земле, разноцве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из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34" name="Line 3"/>
          <p:cNvSpPr/>
          <p:nvPr/>
        </p:nvSpPr>
        <p:spPr>
          <a:xfrm>
            <a:off x="2411280" y="20606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"/>
          <p:cNvSpPr/>
          <p:nvPr/>
        </p:nvSpPr>
        <p:spPr>
          <a:xfrm>
            <a:off x="4572000" y="2060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"/>
          <p:cNvSpPr/>
          <p:nvPr/>
        </p:nvSpPr>
        <p:spPr>
          <a:xfrm>
            <a:off x="2340000" y="220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2343240" y="1268280"/>
            <a:ext cx="164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429800" y="134136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94880" y="4076640"/>
            <a:ext cx="6334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лесной тропинке сидя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обокие со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1403280" y="2492280"/>
            <a:ext cx="6481800" cy="1152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829520" y="2565360"/>
            <a:ext cx="52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белобокие, на тропин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464646"/>
                </a:solidFill>
                <a:latin typeface="Arial"/>
              </a:rPr>
              <a:t>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985040" y="5734080"/>
            <a:ext cx="57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часть.   Тихо и грустно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8:45:50Z</dcterms:created>
  <dc:creator>User</dc:creator>
  <dc:description/>
  <dc:language>en-US</dc:language>
  <cp:lastModifiedBy>Home</cp:lastModifiedBy>
  <dcterms:modified xsi:type="dcterms:W3CDTF">2024-01-27T10:55:03Z</dcterms:modified>
  <cp:revision>5</cp:revision>
  <dc:subject/>
  <dc:title>Слайд 1</dc:title>
</cp:coreProperties>
</file>