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D093-7334-4A47-A25E-F6BBEC1AE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4F14-59F9-4C6D-BF3D-C41762C4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C6D9-8532-4469-BFE3-66ED8BFE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33E2-B7F5-436F-B08A-CA6212D9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4DCC-B093-49DB-A267-8E32DE19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7EA5-1E4E-4062-8413-EA5E23EF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5A3C-3F9E-4019-A47C-9777AF6B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52FA-E6B7-4416-A8B4-9DD9228F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165E-C8D3-4135-8364-1E75D51F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9C44-9F6E-4EE1-A4B7-B697EF05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E50A-2782-4618-A6BD-75BC562E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9B65-8470-49C8-8A8B-F0A8DB50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A5A5-AC06-4470-B5AF-02AE6D7F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86B7-525E-43AF-AD79-4AD69768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51BD-F988-4595-902B-A8F1077D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7094-8DEE-4233-8B1F-820FB087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E252-B8B3-4492-AEC1-90C706DA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C4BAF-12B1-4893-B2B0-445BC18B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A8555-D2FB-46FF-B896-72DAD27F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87524-7542-45C1-8B31-EBD3F953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EFFC1-0EA2-46A5-8034-D75B0F2D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A1178-15CD-4B18-A573-4F24CC92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46F6-E590-47DB-9ACC-6DB7E332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5A20B-D1B9-47E3-866A-CA6B0FF6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0CE5F-78E9-4D09-84F8-5A03BC8A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C8D54-E799-496B-9A3A-A2DF639C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71BE0-7CCD-4999-9CAB-3A6AC06D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9616D-32E4-41DF-9425-D34D0D1F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46070-A00A-4DD5-982C-202E0CB5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5B8FF-9AD8-4997-9504-D50427AE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E4F26-457E-4994-BECA-0B6DD848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D3ED5-CD25-4D68-BEEC-EDAA6EEA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25D71-6AB8-4CDF-9900-E0C2BA1A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D528-E4DA-4ABD-8AF0-74F6E41C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73EA7-2FE2-420C-A2D0-DCED5AF5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48D5C-D8C0-45B9-A945-3DC4122C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2634F-4B17-41E2-B30A-0BF24FBF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C73C6-5D9C-48A7-8F64-AB6DEC5F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F88F6-9A1B-4F47-AD16-2DA775E8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32F86-9F9A-4B8A-BCB6-62F6C8DB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B3E59-1D25-42C4-8900-52E0BBE3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34506-161B-4BC8-85A1-346AF0AB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E2BCC-EE6F-4C43-AF7A-385AF50F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FB060-2AE7-45F7-A1D4-B90D4BE2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20CE-2CA8-41A1-8177-0751FD89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16FE6-45E1-4EC4-A59D-FF25888B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26B7D-24F4-4302-8FF8-CCE38CBB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053D7-A2EF-4822-8D88-A19D8719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DEAC1-26EF-4EC2-81A0-ED45912F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33614-39FA-4E6D-B8BA-DCB9C99E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DD80B-76B5-4802-9E68-7D6E510C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C9436-E2DA-4DE2-B1FB-05DE4861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01FAA-2E14-463C-89E1-7B6355F8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52159-9287-4ABD-98D9-DDDFBDEE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F433C-A410-4859-9BB7-5006F0AF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031E-B8F7-4EE6-AF6E-113E831A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1A71C-1954-4BB1-9BF2-71B7C959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52E79-3910-4D54-8BBC-DA33A9B9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59542-FC49-4541-B73D-1D7DDA19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1EEAA-AC11-4E89-9F82-885564B6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E6180-8515-46F0-8DF0-845B85B9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AB0D3-9008-4A2C-AD15-1A896303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DCF67-7B8B-4AA6-BCD2-627A6801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49890-0111-4FD8-B37B-2A8D13DB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C943F-EDD9-412C-B317-5C2E77C8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ABB3A-843A-4A08-B0F0-983AF4B4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FCF3-AF12-4017-9CBB-97BEEB26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E5309-AE82-469A-B0E7-F0BBFFC4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10716-FE9A-4ADF-B5AF-F5CFD6CA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5CDE4-19F4-46E5-B348-18AE21E1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073ED-AF87-461B-AFDB-7E2F9EBF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BC274-FFD8-405C-85DC-C63D0E64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B4204-88C0-4C69-A0F7-DF1D1E9F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68330-30BE-4866-B765-4B882E1E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FA621-EA92-4DE8-B2A4-ECFA5918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858EA-7B87-4615-806F-A6BAB562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99790-34E8-4D6A-A406-A746423D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119B-AE68-46CD-860A-165C639C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656E4-FF50-43F0-8351-B5CFDDE7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BFE92-8ADA-4626-9505-3D0BCD20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502C2-5BDC-4A64-B002-D72F2AD6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61710-A254-4211-9498-550ED675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F3BBE-52A6-4D41-AF50-14047463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79C0D-DCAD-4CF0-BFC8-40AF958C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87325-42B4-4615-BF13-E5177AF1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4D2A9-405D-4FA1-9CCC-1DB18738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EFB61-E0F9-42DA-B4C3-962F93B0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B72C5-4D05-4892-B22F-1FB31497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3733-3671-4352-81E2-1A0C10AB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DFD85-A3F6-42BC-9278-A60950C2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3063D-6DA7-4849-9BCE-EBE24911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91FE8-F8B6-4C70-8C77-4593C70B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BB835-68EA-4101-9C86-69ADBFAD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9C884-F337-468F-BED3-E8236DDF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8580F-2477-4CB9-84F6-CD9111C6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4937F-2931-44CC-915F-18332AD1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02A0-8B1F-40A0-83F7-DA6973C0C70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1AE3-3B09-4EE2-9850-3E82E5A8148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36E3-7940-42B2-9E91-B2B6DCB1C75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9A47-BC62-4591-B290-60B244F5D02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3E31-7E36-4BB5-9A9E-EDD88304317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B5C8-B434-4B60-B547-020386C4EFA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4718-12E7-4D17-BCDA-AAB40265B62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4A71-C596-4B1A-8068-3B7435D4C57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2200680" y="1484280"/>
            <a:ext cx="44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чин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 карти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Золотая осен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3"/>
          <p:cNvSpPr/>
          <p:nvPr/>
        </p:nvSpPr>
        <p:spPr>
          <a:xfrm>
            <a:off x="1261080" y="981000"/>
            <a:ext cx="22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часть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1621800" y="2708280"/>
            <a:ext cx="537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ихо и грустно в лес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447" name="TextBox 3"/>
          <p:cNvSpPr/>
          <p:nvPr/>
        </p:nvSpPr>
        <p:spPr>
          <a:xfrm>
            <a:off x="1182240" y="927000"/>
            <a:ext cx="7431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ртине художник изобраз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олотую ос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лесной полянке стоят красив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евья. Они нарядились в ярк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ёлтые платья. Холодный вете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ывает с них золотые лист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земле лежит разноцветный ков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листьев. На лесной тропинке сид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обокие соро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хо и грустно в ле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"/>
          <p:cNvPicPr/>
          <p:nvPr/>
        </p:nvPicPr>
        <p:blipFill>
          <a:blip r:embed="rId2"/>
          <a:stretch/>
        </p:blipFill>
        <p:spPr>
          <a:xfrm>
            <a:off x="539640" y="204840"/>
            <a:ext cx="8261640" cy="622764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6"/>
          <p:cNvSpPr/>
          <p:nvPr/>
        </p:nvSpPr>
        <p:spPr>
          <a:xfrm>
            <a:off x="395280" y="6093000"/>
            <a:ext cx="5184720" cy="62676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.С.Остроухов «Золотая осен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grpSp>
        <p:nvGrpSpPr>
          <p:cNvPr id="377" name="Organization Chart 3"/>
          <p:cNvGrpSpPr/>
          <p:nvPr/>
        </p:nvGrpSpPr>
        <p:grpSpPr>
          <a:xfrm>
            <a:off x="431640" y="1341360"/>
            <a:ext cx="8208360" cy="4707000"/>
            <a:chOff x="431640" y="1341360"/>
            <a:chExt cx="8208360" cy="4707000"/>
          </a:xfrm>
        </p:grpSpPr>
        <p:cxnSp>
          <p:nvCxnSpPr>
            <p:cNvPr id="378" name="_s1028"/>
            <p:cNvCxnSpPr>
              <a:stCxn id="379" idx="0"/>
              <a:endCxn id="380" idx="2"/>
            </p:cNvCxnSpPr>
            <p:nvPr/>
          </p:nvCxnSpPr>
          <p:spPr>
            <a:xfrm flipV="1" rot="16200000">
              <a:off x="5501160" y="2257560"/>
              <a:ext cx="942120" cy="2873520"/>
            </a:xfrm>
            <a:prstGeom prst="bentConnector3">
              <a:avLst>
                <a:gd name="adj1" fmla="val 128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1" name="_s1029"/>
            <p:cNvCxnSpPr>
              <a:stCxn id="382" idx="0"/>
              <a:endCxn id="380" idx="2"/>
            </p:cNvCxnSpPr>
            <p:nvPr/>
          </p:nvCxnSpPr>
          <p:spPr>
            <a:xfrm flipV="1">
              <a:off x="4536000" y="3223440"/>
              <a:ext cx="3600" cy="942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3" name="_s1030"/>
            <p:cNvCxnSpPr>
              <a:stCxn id="384" idx="0"/>
              <a:endCxn id="380" idx="2"/>
            </p:cNvCxnSpPr>
            <p:nvPr/>
          </p:nvCxnSpPr>
          <p:spPr>
            <a:xfrm flipH="1" flipV="1" rot="5400000">
              <a:off x="2628360" y="2257920"/>
              <a:ext cx="942120" cy="2873520"/>
            </a:xfrm>
            <a:prstGeom prst="bentConnector3">
              <a:avLst>
                <a:gd name="adj1" fmla="val 128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0" name="_s1031"/>
            <p:cNvSpPr/>
            <p:nvPr/>
          </p:nvSpPr>
          <p:spPr>
            <a:xfrm>
              <a:off x="3304440" y="1341360"/>
              <a:ext cx="2462400" cy="1882800"/>
            </a:xfrm>
            <a:prstGeom prst="roundRect">
              <a:avLst>
                <a:gd name="adj" fmla="val 16667"/>
              </a:avLst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000000"/>
                  </a:solidFill>
                  <a:latin typeface="Arial"/>
                </a:rPr>
                <a:t>Текст 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_s1032"/>
            <p:cNvSpPr/>
            <p:nvPr/>
          </p:nvSpPr>
          <p:spPr>
            <a:xfrm>
              <a:off x="431640" y="4165560"/>
              <a:ext cx="2462400" cy="1882800"/>
            </a:xfrm>
            <a:prstGeom prst="roundRect">
              <a:avLst>
                <a:gd name="adj" fmla="val 16667"/>
              </a:avLst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3300"/>
                  </a:solidFill>
                  <a:latin typeface="Arial"/>
                </a:rPr>
                <a:t>Начало –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водная,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ступительна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часть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_s1033"/>
            <p:cNvSpPr/>
            <p:nvPr/>
          </p:nvSpPr>
          <p:spPr>
            <a:xfrm>
              <a:off x="3304440" y="4165560"/>
              <a:ext cx="2462400" cy="1882800"/>
            </a:xfrm>
            <a:prstGeom prst="roundRect">
              <a:avLst>
                <a:gd name="adj" fmla="val 16667"/>
              </a:avLst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3300"/>
                  </a:solidFill>
                  <a:latin typeface="Arial"/>
                </a:rPr>
                <a:t>Середина –</a:t>
              </a:r>
              <a:r>
                <a:rPr b="0" lang="en-US" sz="21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сновная, ключевая,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главная часть.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аскрывает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сновную мысль.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_s1034"/>
            <p:cNvSpPr/>
            <p:nvPr/>
          </p:nvSpPr>
          <p:spPr>
            <a:xfrm>
              <a:off x="6177600" y="4165560"/>
              <a:ext cx="2462400" cy="1882800"/>
            </a:xfrm>
            <a:prstGeom prst="roundRect">
              <a:avLst>
                <a:gd name="adj" fmla="val 16667"/>
              </a:avLst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3300"/>
                  </a:solidFill>
                  <a:latin typeface="Arial"/>
                </a:rPr>
                <a:t>Концовка –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заключительна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часть.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одержит выводы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Rectangle 1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труктура текста</a:t>
            </a:r>
            <a:r>
              <a:rPr b="0" lang="ru-RU" sz="4400" spc="-1" strike="noStrike">
                <a:solidFill>
                  <a:srgbClr val="46464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387" name="Line 3"/>
          <p:cNvSpPr/>
          <p:nvPr/>
        </p:nvSpPr>
        <p:spPr>
          <a:xfrm>
            <a:off x="1763640" y="177336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4"/>
          <p:cNvSpPr/>
          <p:nvPr/>
        </p:nvSpPr>
        <p:spPr>
          <a:xfrm>
            <a:off x="4427640" y="177336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5"/>
          <p:cNvSpPr/>
          <p:nvPr/>
        </p:nvSpPr>
        <p:spPr>
          <a:xfrm>
            <a:off x="4427640" y="198900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1693800" y="1125360"/>
            <a:ext cx="21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удож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4283640" y="1125360"/>
            <a:ext cx="23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образ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1261080" y="3860640"/>
            <a:ext cx="692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картине худож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зобразил золотую осе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"/>
          <p:cNvSpPr/>
          <p:nvPr/>
        </p:nvSpPr>
        <p:spPr>
          <a:xfrm>
            <a:off x="1403280" y="2924280"/>
            <a:ext cx="6048360" cy="9144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1477440" y="3068640"/>
            <a:ext cx="59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на картине, золотая, ос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1383840" y="398520"/>
            <a:ext cx="117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ча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>
            <a:off x="2411280" y="206064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500720" y="1916280"/>
            <a:ext cx="20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5"/>
          <p:cNvSpPr/>
          <p:nvPr/>
        </p:nvSpPr>
        <p:spPr>
          <a:xfrm>
            <a:off x="2340000" y="191628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2343600" y="1098720"/>
            <a:ext cx="156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оя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4431240" y="1170000"/>
            <a:ext cx="22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рев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903600" y="4005360"/>
            <a:ext cx="712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лесной поляне стоя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асивые дерев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1403280" y="2924280"/>
            <a:ext cx="6481800" cy="9144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"/>
          <p:cNvSpPr/>
          <p:nvPr/>
        </p:nvSpPr>
        <p:spPr>
          <a:xfrm>
            <a:off x="1476360" y="3068640"/>
            <a:ext cx="62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красивые, на  поляне, ле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1"/>
          <p:cNvSpPr/>
          <p:nvPr/>
        </p:nvSpPr>
        <p:spPr>
          <a:xfrm>
            <a:off x="1387440" y="37296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407" name="Line 3"/>
          <p:cNvSpPr/>
          <p:nvPr/>
        </p:nvSpPr>
        <p:spPr>
          <a:xfrm>
            <a:off x="2484360" y="184464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4"/>
          <p:cNvSpPr/>
          <p:nvPr/>
        </p:nvSpPr>
        <p:spPr>
          <a:xfrm>
            <a:off x="4500720" y="1773360"/>
            <a:ext cx="28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5"/>
          <p:cNvSpPr/>
          <p:nvPr/>
        </p:nvSpPr>
        <p:spPr>
          <a:xfrm>
            <a:off x="4427640" y="198900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1980000" y="1049400"/>
            <a:ext cx="188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4287960" y="1027080"/>
            <a:ext cx="323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рядили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1694520" y="4437000"/>
            <a:ext cx="583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ни  нарядились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рко-жёлтые плат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9"/>
          <p:cNvSpPr/>
          <p:nvPr/>
        </p:nvSpPr>
        <p:spPr>
          <a:xfrm>
            <a:off x="1547640" y="2997360"/>
            <a:ext cx="6048720" cy="9144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1980000" y="3068640"/>
            <a:ext cx="476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платья, ярко-жёл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0" y="-1440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416" name="Line 3"/>
          <p:cNvSpPr/>
          <p:nvPr/>
        </p:nvSpPr>
        <p:spPr>
          <a:xfrm>
            <a:off x="2411280" y="206064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"/>
          <p:cNvSpPr/>
          <p:nvPr/>
        </p:nvSpPr>
        <p:spPr>
          <a:xfrm>
            <a:off x="4500720" y="1989000"/>
            <a:ext cx="158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5"/>
          <p:cNvSpPr/>
          <p:nvPr/>
        </p:nvSpPr>
        <p:spPr>
          <a:xfrm>
            <a:off x="4500720" y="2205000"/>
            <a:ext cx="158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1621800" y="1268280"/>
            <a:ext cx="22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4215240" y="1268280"/>
            <a:ext cx="232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рыва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1191600" y="4292640"/>
            <a:ext cx="712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олодный ветер срыва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 них золотые листочки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1547640" y="2852640"/>
            <a:ext cx="6048720" cy="12240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1547280" y="2852640"/>
            <a:ext cx="594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листочки, золотые,  с  н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холо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425" name="Line 3"/>
          <p:cNvSpPr/>
          <p:nvPr/>
        </p:nvSpPr>
        <p:spPr>
          <a:xfrm>
            <a:off x="2411280" y="206064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4572000" y="206064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"/>
          <p:cNvSpPr/>
          <p:nvPr/>
        </p:nvSpPr>
        <p:spPr>
          <a:xfrm>
            <a:off x="2340000" y="2205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2342520" y="1341360"/>
            <a:ext cx="170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еж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4429440" y="1413000"/>
            <a:ext cx="164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вё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1044000" y="4005360"/>
            <a:ext cx="7328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земле лежит разноцвет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вёр из листье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1403280" y="2492280"/>
            <a:ext cx="6481800" cy="11527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1765080" y="2565360"/>
            <a:ext cx="542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на земле, разноцвет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из лист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434" name="Line 3"/>
          <p:cNvSpPr/>
          <p:nvPr/>
        </p:nvSpPr>
        <p:spPr>
          <a:xfrm>
            <a:off x="2411280" y="206064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4"/>
          <p:cNvSpPr/>
          <p:nvPr/>
        </p:nvSpPr>
        <p:spPr>
          <a:xfrm>
            <a:off x="4572000" y="206064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5"/>
          <p:cNvSpPr/>
          <p:nvPr/>
        </p:nvSpPr>
        <p:spPr>
          <a:xfrm>
            <a:off x="2340000" y="2205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6"/>
          <p:cNvSpPr/>
          <p:nvPr/>
        </p:nvSpPr>
        <p:spPr>
          <a:xfrm>
            <a:off x="2343240" y="1268280"/>
            <a:ext cx="164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дя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4429800" y="1341360"/>
            <a:ext cx="195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ро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1694880" y="4076640"/>
            <a:ext cx="6334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лесной тропинке сидя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елобокие соро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1403280" y="2492280"/>
            <a:ext cx="6481800" cy="11527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0"/>
          <p:cNvSpPr/>
          <p:nvPr/>
        </p:nvSpPr>
        <p:spPr>
          <a:xfrm>
            <a:off x="1829520" y="2565360"/>
            <a:ext cx="52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белобокие, на тропин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ле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1985040" y="5734080"/>
            <a:ext cx="573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часть.   Тихо и грустно в л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08:45:50Z</dcterms:created>
  <dc:creator>User</dc:creator>
  <dc:description/>
  <dc:language>en-US</dc:language>
  <cp:lastModifiedBy>Home</cp:lastModifiedBy>
  <dcterms:modified xsi:type="dcterms:W3CDTF">2024-01-27T10:55:03Z</dcterms:modified>
  <cp:revision>5</cp:revision>
  <dc:subject/>
  <dc:title>Слайд 1</dc:title>
</cp:coreProperties>
</file>