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BD6-AC5F-476D-9A58-334BF5BE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B93-72C9-46F9-973F-162CDDD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6C3-57B7-4CCC-ADFE-2D1426A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0F9-D1C6-48B4-BB96-B0B8F50B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ED49-5A9D-445E-927A-269B0907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202-326F-45B0-BAAD-A04289CB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6DC-E394-4057-B951-FAC3B385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784-31E5-4757-9CB0-8AE6CBFE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F4AF-1372-4F3C-9257-774D7B7E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FA5-0D2F-4281-BE91-7F0EBCC8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3F40-5F3E-45AF-8D92-BDA48D9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D01-C90B-412F-A1D2-CCAE77C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554-DB58-4D40-97A3-CB346BF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2677-3ADC-40B5-BB2E-B1BCAE7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EE1E-B95D-4DF5-A405-064D90F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13F7-AB40-4643-9D1A-4E11F26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7262-7576-442C-BBBB-BFBFA74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26D2-33EA-4A6E-A78B-95BAB9B2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0D43-2822-483F-806F-8DBDBE5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5E54-7CCE-4037-94C3-FE2B157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70E1-887A-470D-913E-86089B2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EEBB-02F3-4757-B066-59412AA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496-9075-40AF-8665-C5E59019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F81A-E411-457F-8F14-C9FBD191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87BA-1B18-479C-90F4-3BA21A2A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BD5A-FE6C-4E66-979D-1CC1F3A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35D7-2FF2-4707-8903-3AB67BC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58E8-DC1A-4CB6-A3A6-922C1EB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5F9A-2B72-4838-987A-6682C8E8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FB7A-9507-455E-93B4-9595D02B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69D7-B01F-4AC2-8B4D-647CAA2D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CFEE-8F74-49D9-B2A9-7A7C619B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F8A1-7238-4748-85FB-1BED2D1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86B-7FC3-4AA0-9A6B-487B0A5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3CF2-30D8-4FB5-9DFC-8029233E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DAA8-CFC7-44B8-B826-03267F9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DED1-8DDC-4C72-8E9F-538858E8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90AF-85BC-45BE-BC30-74B7FA36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669A-0B8C-4220-88C9-76D2BC0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5EDA-B16F-4B7F-9D58-7DDD7BAD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AFDD-D4F0-4CBE-BE9C-5DCC460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1B21-F007-4B22-871E-78A0B0D2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F784-A12E-46E6-97B4-B439F41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00E8-9AB6-4B9F-AF45-84B7AF44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46E-F61F-4B91-BD9A-D7DF6F6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A2A4-3279-49D9-A492-168135AF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C5C8-D88C-4126-B9DE-5266639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4CBE-3A39-49A8-A71C-4E9352D0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7A0D-0C16-4E8F-88AE-93F4B47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58C5-F1FD-4DDD-B3EC-736BB05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079F-D32C-45C3-AB21-A908B87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9B2D-9D2F-47B6-AAFA-8A12069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8DCC-D600-493F-9BB4-9352140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80F4-040E-4B40-9097-BC70873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5D32-31F2-4C94-A11A-BB6B3F85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F7-5467-4F48-88EE-85B08892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1817-CC0C-4C3B-8FFE-5111EF1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723E-03BF-44CB-B9DE-BE57384C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B688-639C-4E1B-8BF7-037DFB1F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2FBA-B8E6-499B-85F1-243D835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DB62-A7CE-4C23-AF42-4ADB609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95A27-FD07-4D53-B97A-26D26E6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DF85-11C6-40A9-BEF2-9E59EFB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C9A8-4A02-481A-A3BA-1B13E23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6AC7-91A0-41BA-8641-B167AF7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0CB4-FFF3-413E-ACE0-AD28AFA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ABB-7427-478D-ACEF-23AC7A6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AEBE-2FD3-41CF-98C5-E057566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BCEC-3E49-4D8E-A138-94271BA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053B-4DEC-4B4C-A7BE-BF041615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A8C77-F4EE-4936-839D-94111123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BA77-5A7F-47F6-B988-936F1EC3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5EC2-C70F-435F-B24C-B315F91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CF85-74B9-4A7B-8D42-AED04FC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C086-55EC-44FD-BB73-913BFF8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B290-0713-424E-9B4E-B67B578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361F-4F6F-4E34-9346-549A2AC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15A-2ECA-497D-82A8-AC07CAC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DC59-D66C-4460-B0C3-E8D4408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2C9E-42E0-4289-B588-491588A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A75D-DD25-4E09-A8E0-068168F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0D59-B982-4AFF-9107-19E32A12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BA79-FB3F-4923-A3E9-0F1EFA8B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9A8C-25C8-4437-8EDF-CFC461DE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40D20-8067-42E4-82DD-FD7A268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9175-F9FA-472D-8106-9C37A822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A5E9-680D-4182-AC1E-D035322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94D6E-F5AC-4C88-9A00-EF28C482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AD1-4485-47AF-A46B-DCFA1A2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E3D48-2F72-4BB3-A93C-1D72173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F561-C761-4D9E-BAC0-A68900A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7FA77-0DC2-4CC4-ADFF-87DBA9C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90D5-2312-41FD-8042-7F1B706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6172-EBBA-4F78-8D2A-B6C7FA0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994C-4A54-4455-8E2C-AABF0517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4168-527E-48E3-935B-7C6485E1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6F4-B83A-4DA6-87EE-52D289D64A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1D0-D503-415E-8CCA-95C1AF23BED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95C-DE43-44CF-9879-0AFF7E3EF0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0F89-916B-4EE1-8E6E-56B7F3DBB7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665-5894-4C09-97F9-A708256EC6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A9F-6EB7-46BB-8231-94B8C8767A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931-3B33-4B94-9DDA-B94ADD4AB1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A87-D93E-4DB5-9EA7-9440BC4C9BD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00680" y="1484280"/>
            <a:ext cx="44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чи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олотая ос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"/>
          <p:cNvSpPr/>
          <p:nvPr/>
        </p:nvSpPr>
        <p:spPr>
          <a:xfrm>
            <a:off x="1261080" y="98100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часть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621800" y="2708280"/>
            <a:ext cx="53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"/>
          <p:cNvSpPr/>
          <p:nvPr/>
        </p:nvSpPr>
        <p:spPr>
          <a:xfrm>
            <a:off x="1182240" y="927000"/>
            <a:ext cx="7431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ртине художник 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ую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есной полянке стоят краси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. Они нарядились в яр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ёлтые платья. Холодный 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ывает с них золотые лис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емле лежит разноцветный ков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истьев. На лесной тропинке с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бокие со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539640" y="204840"/>
            <a:ext cx="8261640" cy="6227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6"/>
          <p:cNvSpPr/>
          <p:nvPr/>
        </p:nvSpPr>
        <p:spPr>
          <a:xfrm>
            <a:off x="395280" y="6093000"/>
            <a:ext cx="5184720" cy="6267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С.Остроух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377" name="Organization Chart 3"/>
          <p:cNvGrpSpPr/>
          <p:nvPr/>
        </p:nvGrpSpPr>
        <p:grpSpPr>
          <a:xfrm>
            <a:off x="431640" y="1341360"/>
            <a:ext cx="8208360" cy="4707000"/>
            <a:chOff x="431640" y="1341360"/>
            <a:chExt cx="8208360" cy="4707000"/>
          </a:xfrm>
        </p:grpSpPr>
        <p:cxnSp>
          <p:nvCxnSpPr>
            <p:cNvPr id="378" name="_s1028"/>
            <p:cNvCxnSpPr>
              <a:stCxn id="379" idx="0"/>
              <a:endCxn id="380" idx="2"/>
            </p:cNvCxnSpPr>
            <p:nvPr/>
          </p:nvCxnSpPr>
          <p:spPr>
            <a:xfrm flipV="1" rot="16200000">
              <a:off x="5501160" y="225756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029"/>
            <p:cNvCxnSpPr>
              <a:stCxn id="382" idx="0"/>
              <a:endCxn id="380" idx="2"/>
            </p:cNvCxnSpPr>
            <p:nvPr/>
          </p:nvCxnSpPr>
          <p:spPr>
            <a:xfrm flipV="1">
              <a:off x="4536000" y="3223440"/>
              <a:ext cx="3600" cy="94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3" name="_s1030"/>
            <p:cNvCxnSpPr>
              <a:stCxn id="384" idx="0"/>
              <a:endCxn id="380" idx="2"/>
            </p:cNvCxnSpPr>
            <p:nvPr/>
          </p:nvCxnSpPr>
          <p:spPr>
            <a:xfrm flipH="1" flipV="1" rot="5400000">
              <a:off x="2628360" y="225792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0" name="_s1031"/>
            <p:cNvSpPr/>
            <p:nvPr/>
          </p:nvSpPr>
          <p:spPr>
            <a:xfrm>
              <a:off x="3304440" y="13413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</a:rPr>
                <a:t>Текст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32"/>
            <p:cNvSpPr/>
            <p:nvPr/>
          </p:nvSpPr>
          <p:spPr>
            <a:xfrm>
              <a:off x="4316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Начало –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водн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ступ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1033"/>
            <p:cNvSpPr/>
            <p:nvPr/>
          </p:nvSpPr>
          <p:spPr>
            <a:xfrm>
              <a:off x="33044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Середина –</a:t>
              </a:r>
              <a:r>
                <a:rPr b="0" lang="en-US" sz="21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ая, ключев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авная 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крывает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ую мысл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4"/>
            <p:cNvSpPr/>
            <p:nvPr/>
          </p:nvSpPr>
          <p:spPr>
            <a:xfrm>
              <a:off x="617760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Концовка –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ключ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держит выво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уктура текста</a:t>
            </a:r>
            <a:r>
              <a:rPr b="0" lang="ru-RU" sz="44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87" name="Line 3"/>
          <p:cNvSpPr/>
          <p:nvPr/>
        </p:nvSpPr>
        <p:spPr>
          <a:xfrm>
            <a:off x="1763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4427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427640" y="1989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93800" y="11253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4283640" y="112536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261080" y="3860640"/>
            <a:ext cx="69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ртине худ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бразил золотую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1403280" y="2924280"/>
            <a:ext cx="604836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477440" y="306864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картине, золотая, 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383840" y="39852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500720" y="191628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2340000" y="1916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2343600" y="1098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431240" y="1170000"/>
            <a:ext cx="22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903600" y="400536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лесной поляне 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ивые дере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403280" y="2924280"/>
            <a:ext cx="648180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476360" y="306864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красивые, на  поляне,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387440" y="3729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07" name="Line 3"/>
          <p:cNvSpPr/>
          <p:nvPr/>
        </p:nvSpPr>
        <p:spPr>
          <a:xfrm>
            <a:off x="2484360" y="1844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500720" y="177336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4427640" y="198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980000" y="1049400"/>
            <a:ext cx="18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287960" y="10270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яд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694520" y="4437000"/>
            <a:ext cx="58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и  нарядились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рко-жёлтые пла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1547640" y="2997360"/>
            <a:ext cx="604872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1980000" y="306864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платья, ярко-жёл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>
            <a:off x="2411280" y="2060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4500720" y="1989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4500720" y="2205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621800" y="1268280"/>
            <a:ext cx="22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215240" y="1268280"/>
            <a:ext cx="23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191600" y="429264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ый ветер 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них золотые листочк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1547640" y="2852640"/>
            <a:ext cx="6048720" cy="1224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547280" y="2852640"/>
            <a:ext cx="59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источки, золотые,  с 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25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342520" y="134136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ж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429440" y="141300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вё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1044000" y="4005360"/>
            <a:ext cx="7328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земле лежит разноцве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вёр из лист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765080" y="256536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земле, разноц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из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34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2343240" y="1268280"/>
            <a:ext cx="16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429800" y="13413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94880" y="4076640"/>
            <a:ext cx="6334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лесной тропинке сид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обокие со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829520" y="2565360"/>
            <a:ext cx="52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белобокие, на тропин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85040" y="573408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часть.   Тихо и грустно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45:50Z</dcterms:created>
  <dc:creator>User</dc:creator>
  <dc:description/>
  <dc:language>en-US</dc:language>
  <cp:lastModifiedBy>Home</cp:lastModifiedBy>
  <dcterms:modified xsi:type="dcterms:W3CDTF">2024-01-27T10:55:03Z</dcterms:modified>
  <cp:revision>5</cp:revision>
  <dc:subject/>
  <dc:title>Слайд 1</dc:title>
</cp:coreProperties>
</file>