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74683-6D84-41CD-A7A2-43E8C6B239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D1E24-355D-40A5-9FD3-BDEFB8042B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65F-1959-416F-AE60-696FFE5C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EE3-CE4A-4FA8-B11F-991C4C11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C80ED-50AF-456A-9F79-185EAE25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E7D1E-04FD-45A2-91CC-8F1EA41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19AA9-EAC1-400C-AD99-ECFFBEA7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F44BF-63E9-42D1-933F-8E7D88A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DBD1F-3DB2-4B8D-A4F7-FF6DB2B8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FF754-0B68-4AB0-9AB3-FF37806D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A8449-F8DA-43DB-BB6E-5A078D82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9C59E-85CC-46DF-84A8-938DF987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D6637-97BA-4F35-94EF-55E335AA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5D13B-3E6F-4DC3-BDA1-1F1BE8D5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B71-AD16-4680-9C21-58ABF4B9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84A1A-8BDC-4C73-A589-D805DF0E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008D6-265E-4A80-9888-DC8C6730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AAF66-B7AB-43DE-993C-75966054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C9F09-4AC3-471D-8F40-2135D4DD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399C2-91ED-4888-A00A-D5C6EDF4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E132E-8481-43BC-A8D9-A7CB931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9F71E-DD88-4B95-A455-B5EB22EE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F9C52-8239-4EEF-977B-D5827218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C7A2B-062D-460D-93B3-7D93119E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EA96D-C79E-4D78-8316-99106469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CE3-B1FE-4DB2-A8FE-4BD8B32E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F11CE-F165-49E9-B7D8-4C8398C3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C72E-C674-4697-B6C6-F7287982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6541-56B6-4C71-AED8-33FCF659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FF4A-ECDE-462C-BF34-6E37E8CA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F7CE-9470-49D9-BCD1-68A60392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5E84-0D08-41D0-8035-D447F6CD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EA89-4A72-4C71-9151-56ED6D8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A232-054F-46DE-9AE6-4FA47A40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0D3-919C-4361-8B01-A8635C4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1A13-6287-4FE7-A337-F4AC2DA9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D440-12ED-448A-91E9-4B7A047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8215-45DE-4602-8E1C-E5382B2A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8BE6-FA3F-45F5-9B13-23A4456F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E180-3312-4863-A806-173DE30B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E197-9E75-4EDF-B7B9-E81CA720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398B-1BCF-4A33-87D2-30CEDDD1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3387-02C5-47CA-B8A4-F6DB3B3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FF20-B58A-4E5C-A697-A91D592F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38E2-BDDF-456F-978C-7E410BA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52D-B293-4957-88BA-33839003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AA203-EE9D-4016-85D5-287B05DA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989BE-6FDD-4E64-AE01-DD9811A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6A24-1202-4B52-844F-4CF0597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90F0-2349-440B-84D5-C6220FB0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12D8-32D6-4449-870A-1AE2F891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082A-53DC-422F-924B-9623EAFE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DE362-4DF9-456E-BDA1-36B7728C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E359-EE65-4850-A470-F35978D6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7891-9731-494B-8C0A-300F2185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4033-8CDF-4AA5-9DAB-B5EC5D94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BD2-D1D7-43F4-9F65-E612E134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A3A9-3307-47D9-A2A5-ACA6D67B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D067F-E5F9-4A6F-97CD-5EBC8CCB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FCB7-4574-4BB1-89BB-2528B93C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53EF-C929-4551-8D1E-3F41669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390BD-E47E-46BF-A55D-FBCC615F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C002-25FB-43A5-876D-7AA197E9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F331-4935-45B9-AA50-B74B3CBD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38EF-58D9-4594-9880-9BE936D6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E444-0B76-47ED-A14D-016BC3E0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041DC-AA9D-437F-AE75-5DDAE37D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EBC-048A-496F-910D-E3946D2F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C4173-6526-49AC-9924-BF29E1AD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02057-8169-47EE-AD21-D9355960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3758B-C767-4A6F-B2DB-A2B292B9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06BDF-4630-4F29-9174-2429FC45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DB127-AB24-4EF1-8C0B-6E271A68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719F3-B919-4C35-85C6-3C3CFB1F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BD285-3F83-4B81-8266-02879F8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F7B38-82B9-4259-84DD-966A9EE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2FCA5-432E-4021-8F48-A20AC2D3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CC3D-801B-4873-844C-DCA7BAC9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A93-E4E6-441B-86FD-E6E7B3B5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F9EA3-D66D-483F-B1BC-12797ADA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A2EFD-E35C-47D7-B626-01202059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FA19-DF0C-446B-BF83-20FC257A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388E-C31A-43E2-AB97-3D4363BC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BF2DC-29AA-4FE3-9221-CA6A5544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6103D-CE7E-4A67-AC0E-6E065DEA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A44A4-DABA-46F1-BC53-485D55CD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5A7A-B2A4-46CA-8607-2BB0B54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281C2-F131-4565-A631-F6FA85B8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4B071-CBE1-4551-A7F2-35CF95DA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305-5B3A-4EE7-A284-CCE1525D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225F9-F317-41BB-AB76-693D4683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ED5E5-564E-4E81-B3DB-9089F820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1676B-7E2C-4609-A13E-E9F0D356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DA332-120D-428D-9220-CBEF3BD9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B7AD4-46EC-43A0-8793-27AD710D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B45CD-C6BE-4AC1-8218-756B8760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33664-7B33-4EC0-912C-5B82F46C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B7FD-F6C0-47E8-B50C-823A2CD0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C3F2-001F-4ACA-A953-070C75C7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112ED-A2BD-4413-B495-D246884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0FF-EF7D-427D-AB99-59A605E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CCEF-9412-48E4-B68B-0FF43F3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30B9E-1AFE-4BED-8D26-84439BCD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8CBA-F4E9-45B3-9297-A032653D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2CAC4-9101-4676-96CC-7AB417D3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42256-2DD2-4468-8BC8-69AA1AF6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7EFD3-276D-47C4-8A5D-B9623A08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868D1-E254-4458-AD5D-894EF1D1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C0513-D68F-4F45-8C3E-0DE16A1A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64FAD-42CE-4DEE-A12C-A1E05E2A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81249-C3E3-459F-9E57-EFF156F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75C-E656-4627-B4E9-FF3822B1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3AC79-B76C-4CF6-93CE-D7C2FFE0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F40F2-E755-477A-B9AB-8BBCE250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D1ED7-9087-436C-8045-3FFBE415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C229-FB41-4951-BA72-8A55D16A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F365B-6CE7-4D01-9B42-6C9DC24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7B63A-DD6E-455E-8B72-FBB2EE57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C7C07-B379-46F8-B8B9-7FD0549D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811D9-394E-464D-951E-0056EBA8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4BA01-D12E-4846-BA49-98969A5F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0DFAA-05BD-4D40-920E-C71DCF82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FBB7B-ED3B-4B84-93C1-F5B29AEE1B00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55c2eb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98428-4FB6-4094-B5B4-C371F5A03E73}" type="slidenum">
              <a:rPr b="0" lang="ru-RU" sz="900" spc="-1" strike="noStrike">
                <a:solidFill>
                  <a:srgbClr val="55c2eb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55c2eb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49BCF-30A0-4C08-9187-6AD20B96C44C}" type="slidenum">
              <a:rPr b="0" lang="ru-RU" sz="900" spc="-1" strike="noStrike">
                <a:solidFill>
                  <a:srgbClr val="55c2eb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99825-ABF0-4F01-B8AF-749C8B891442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55c2eb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BAD70-DCD4-4ADE-9C2C-10AEF3FC38F7}" type="slidenum">
              <a:rPr b="0" lang="ru-RU" sz="900" spc="-1" strike="noStrike">
                <a:solidFill>
                  <a:srgbClr val="55c2eb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4EDCC-CA43-4C55-84EE-FFE9570CA67C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53C41-C1CB-45E8-BD59-861BAC182F4E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8C3CD-4070-4D98-BD6F-69F9278FFE38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55c2eb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AA324-C85B-434A-9FF7-10D0FECBC341}" type="slidenum">
              <a:rPr b="0" lang="ru-RU" sz="900" spc="-1" strike="noStrike">
                <a:solidFill>
                  <a:srgbClr val="55c2eb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20447-8C5F-44F8-8BCA-8447094BED41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5880" y="701280"/>
            <a:ext cx="7572240" cy="302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900"/>
            </a:br>
            <a:r>
              <a:rPr b="1" lang="ru-RU" sz="22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ИСПОЛЬЗОВАНИЕ </a:t>
            </a:r>
            <a:br>
              <a:rPr sz="2200"/>
            </a:br>
            <a:r>
              <a:rPr b="1" lang="ru-RU" sz="22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АЛГОРИТМОВ</a:t>
            </a:r>
            <a:br>
              <a:rPr sz="2200"/>
            </a:br>
            <a:r>
              <a:rPr b="1" lang="ru-RU" sz="22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 КАК СРЕДСТВО ПОВЫШЕНИЯ ОРФОГРАФИЧЕСКОЙ ГРАМОТНОСТИ НА УРОКАХ РУССКОГО ЯЗЫКА У ОБУЧАЮЩИХСЯ С УМСТВЕННОЙ ОТСТАЛОСТЬЮ (ИНТЕЛЛЕКТУАЛЬНЫМИ НАРУШЕНИЯМИ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563640" y="4626000"/>
            <a:ext cx="53578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marL="262800" indent="-203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янникова Н.Н.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чтения ООШ №7 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Сергиев – Посад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 Гуманитарного цикла, 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1.11.2023 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a1acb2"/>
                </a:solidFill>
                <a:latin typeface="Corbe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5b74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22240" y="5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Й АЛГОРИТМ ПО ТЕМЕ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ОСТАВ СЛОВА»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900000" y="2205000"/>
          <a:ext cx="7421760" cy="3940200"/>
        </p:xfrm>
        <a:graphic>
          <a:graphicData uri="http://schemas.openxmlformats.org/drawingml/2006/table">
            <a:tbl>
              <a:tblPr/>
              <a:tblGrid>
                <a:gridCol w="1013040"/>
                <a:gridCol w="2803320"/>
                <a:gridCol w="3605400"/>
              </a:tblGrid>
              <a:tr h="40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ЯС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ХОЖУ ОКО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ля этого изменяю форму слова, задавая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ХОЖУ 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ля этого подбираю однокоренн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ХОЖУ ПРИСТАВ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ля этого подбираю однокоренные слова без приставки. Приставка стоит перед кор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4136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ХОЖУ СУФФИ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ффикс стоит после кор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Ь СЕБ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зови все части слова по поряд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2240" y="5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Й АЛГОРИТМ ПО ТЕМЕ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ЗБОР СЛОВА ПО СОСТАВУ»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468360" y="2205000"/>
          <a:ext cx="6912000" cy="3005280"/>
        </p:xfrm>
        <a:graphic>
          <a:graphicData uri="http://schemas.openxmlformats.org/drawingml/2006/table">
            <a:tbl>
              <a:tblPr/>
              <a:tblGrid>
                <a:gridCol w="690480"/>
                <a:gridCol w="62215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ЧИТАЙ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ЗМЕНИ СЛОВО И ВЫДЕЛИ ОО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БЕРИ ОДНОКОРЕННЫЕ СЛОВА И ВЫДЕЛИ 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ДЕЛИ ПРИСТАВ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ДЕЛИ СУФФИ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sp>
        <p:nvSpPr>
          <p:cNvPr id="519" name="Прямоугольник 7"/>
          <p:cNvSpPr/>
          <p:nvPr/>
        </p:nvSpPr>
        <p:spPr>
          <a:xfrm>
            <a:off x="7783560" y="2205000"/>
            <a:ext cx="647640" cy="5763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Стрелка: вниз 8"/>
          <p:cNvSpPr/>
          <p:nvPr/>
        </p:nvSpPr>
        <p:spPr>
          <a:xfrm>
            <a:off x="8089920" y="2852640"/>
            <a:ext cx="46080" cy="2890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7729560" y="3198960"/>
            <a:ext cx="824040" cy="460080"/>
          </a:xfrm>
          <a:prstGeom prst="rect">
            <a:avLst/>
          </a:prstGeom>
          <a:ln w="0">
            <a:noFill/>
          </a:ln>
        </p:spPr>
      </p:pic>
      <p:sp>
        <p:nvSpPr>
          <p:cNvPr id="522" name="Прямая соединительная линия 13"/>
          <p:cNvSpPr/>
          <p:nvPr/>
        </p:nvSpPr>
        <p:spPr>
          <a:xfrm>
            <a:off x="7729560" y="4149720"/>
            <a:ext cx="863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Прямая соединительная линия 15"/>
          <p:cNvSpPr/>
          <p:nvPr/>
        </p:nvSpPr>
        <p:spPr>
          <a:xfrm>
            <a:off x="8593200" y="4149720"/>
            <a:ext cx="0" cy="287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Стрелка: вниз 19"/>
          <p:cNvSpPr/>
          <p:nvPr/>
        </p:nvSpPr>
        <p:spPr>
          <a:xfrm>
            <a:off x="8115480" y="3728880"/>
            <a:ext cx="45720" cy="287640"/>
          </a:xfrm>
          <a:prstGeom prst="downArrow">
            <a:avLst>
              <a:gd name="adj1" fmla="val 50000"/>
              <a:gd name="adj2" fmla="val 50389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Стрелка: вниз 20"/>
          <p:cNvSpPr/>
          <p:nvPr/>
        </p:nvSpPr>
        <p:spPr>
          <a:xfrm>
            <a:off x="8093160" y="4408560"/>
            <a:ext cx="44280" cy="28728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Прямая соединительная линия 21"/>
          <p:cNvSpPr/>
          <p:nvPr/>
        </p:nvSpPr>
        <p:spPr>
          <a:xfrm flipV="1">
            <a:off x="7596360" y="4869000"/>
            <a:ext cx="493560" cy="341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Прямая соединительная линия 23"/>
          <p:cNvSpPr/>
          <p:nvPr/>
        </p:nvSpPr>
        <p:spPr>
          <a:xfrm>
            <a:off x="8089920" y="4869000"/>
            <a:ext cx="503280" cy="2966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2240" y="5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Й АЛГОРИТМ ПО ТЕМЕ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ЕЗУДАРНЫЕ ГЛАСНЫЕ»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900000" y="2205000"/>
          <a:ext cx="7421760" cy="3414600"/>
        </p:xfrm>
        <a:graphic>
          <a:graphicData uri="http://schemas.openxmlformats.org/drawingml/2006/table">
            <a:tbl>
              <a:tblPr/>
              <a:tblGrid>
                <a:gridCol w="1013040"/>
                <a:gridCol w="64087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555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ИЗНЕСЁМ ИЛИ ПРОЧИТАЕМ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ТАВИМ УД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555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ДЕЛИМ 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БЕРЕМ ПРОВЕРОЧ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АВИМ БУК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905040" y="5619600"/>
          <a:ext cx="7416720" cy="514440"/>
        </p:xfrm>
        <a:graphic>
          <a:graphicData uri="http://schemas.openxmlformats.org/drawingml/2006/table">
            <a:tbl>
              <a:tblPr/>
              <a:tblGrid>
                <a:gridCol w="1002960"/>
                <a:gridCol w="6413760"/>
              </a:tblGrid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ЗНАЧИМ ОРФОГРАМ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ДИАГРАММА № </a:t>
            </a:r>
            <a:r>
              <a:rPr b="1" lang="en-US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. </a:t>
            </a:r>
            <a:br>
              <a:rPr sz="1800"/>
            </a:br>
            <a:r>
              <a:rPr b="1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СНИЖЕНИЕ УРОВНЯ ОРФОГРАФИЧЕСКИХ ОШИБОК В ДИКТАНТАХ ПОСЛЕ ИСПОЛЬЗОВАНИЯ АЛГОРИТМОВ</a:t>
            </a:r>
            <a:br>
              <a:rPr sz="1800"/>
            </a:br>
            <a:r>
              <a:rPr b="1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(СРЕДНИЙ ПОКАЗАТЕЛЬ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32" name="Диаграмма 9"/>
          <p:cNvGraphicFramePr/>
          <p:nvPr/>
        </p:nvGraphicFramePr>
        <p:xfrm>
          <a:off x="1352520" y="2073240"/>
          <a:ext cx="619776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3" name="Диаграмма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073240"/>
                    <a:ext cx="61977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Выноска со стрелкой вниз 5"/>
          <p:cNvSpPr/>
          <p:nvPr/>
        </p:nvSpPr>
        <p:spPr>
          <a:xfrm>
            <a:off x="2050920" y="609480"/>
            <a:ext cx="4786560" cy="1571760"/>
          </a:xfrm>
          <a:prstGeom prst="downArrowCallout">
            <a:avLst>
              <a:gd name="adj1" fmla="val 82260"/>
              <a:gd name="adj2" fmla="val 86679"/>
              <a:gd name="adj3" fmla="val 25000"/>
              <a:gd name="adj4" fmla="val 64977"/>
            </a:avLst>
          </a:prstGeom>
          <a:solidFill>
            <a:srgbClr val="a1acb2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786040" y="609120"/>
            <a:ext cx="36432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АЛГОРИТМЫ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00080" y="1785960"/>
            <a:ext cx="7934400" cy="44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37" name="Горизонтальный свиток 6"/>
          <p:cNvSpPr/>
          <p:nvPr/>
        </p:nvSpPr>
        <p:spPr>
          <a:xfrm>
            <a:off x="1071720" y="4857840"/>
            <a:ext cx="3143160" cy="1500120"/>
          </a:xfrm>
          <a:prstGeom prst="horizontalScroll">
            <a:avLst>
              <a:gd name="adj" fmla="val 12500"/>
            </a:avLst>
          </a:prstGeom>
          <a:solidFill>
            <a:srgbClr val="dfe3e5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Способствуют повышению уровня грамотност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Горизонтальный свиток 7"/>
          <p:cNvSpPr/>
          <p:nvPr/>
        </p:nvSpPr>
        <p:spPr>
          <a:xfrm>
            <a:off x="3357720" y="3365640"/>
            <a:ext cx="3143160" cy="1533240"/>
          </a:xfrm>
          <a:prstGeom prst="horizontalScroll">
            <a:avLst>
              <a:gd name="adj" fmla="val 12500"/>
            </a:avLst>
          </a:prstGeom>
          <a:solidFill>
            <a:srgbClr val="dfe3e5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Развивают логическое мышление учени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Горизонтальный свиток 8"/>
          <p:cNvSpPr/>
          <p:nvPr/>
        </p:nvSpPr>
        <p:spPr>
          <a:xfrm>
            <a:off x="5765760" y="1816200"/>
            <a:ext cx="2857680" cy="1500120"/>
          </a:xfrm>
          <a:prstGeom prst="horizontalScroll">
            <a:avLst>
              <a:gd name="adj" fmla="val 12500"/>
            </a:avLst>
          </a:prstGeom>
          <a:solidFill>
            <a:srgbClr val="dfe3e5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Дисциплинируют работу мысл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rcRect l="0" t="0" r="0" b="11169"/>
          <a:stretch/>
        </p:blipFill>
        <p:spPr>
          <a:xfrm>
            <a:off x="4929120" y="3214800"/>
            <a:ext cx="3076560" cy="3165480"/>
          </a:xfrm>
          <a:prstGeom prst="rect">
            <a:avLst/>
          </a:prstGeom>
          <a:ln w="0">
            <a:noFill/>
          </a:ln>
        </p:spPr>
      </p:pic>
      <p:pic>
        <p:nvPicPr>
          <p:cNvPr id="541" name="Заголовок 4" descr=""/>
          <p:cNvPicPr/>
          <p:nvPr/>
        </p:nvPicPr>
        <p:blipFill>
          <a:blip r:embed="rId2"/>
          <a:stretch/>
        </p:blipFill>
        <p:spPr>
          <a:xfrm>
            <a:off x="1925640" y="1146240"/>
            <a:ext cx="7218360" cy="1639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2240" y="549360"/>
            <a:ext cx="749952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ЗАТРУДНЕНИЙ УСВОЕНИЯ ОСНОВНЫХ ПРАВИЛ ПРАВОПИСАНИЯ ПО РУССКОМУ ЯЗЫКУ У ОБУЧАЮЩИХСЯ 5 – ГО, 6 – ГО КЛАССОВ С УМСТВЕННОЙ ОТСТАЛОСТЬЮ (ИНТЕЛЛЕКТУАЛЬНЫМИ НАРУШЕНИЯМИ):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8000" y="2708280"/>
            <a:ext cx="856764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ой объём правил;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зкий объём концентрации внимания;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ывчивость и неточность воспроизведения материала;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аналитико – синтетической деятельности;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всех мыслительных операций (обобщение и абстрагирование).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Выноска со стрелкой вниз 3"/>
          <p:cNvSpPr/>
          <p:nvPr/>
        </p:nvSpPr>
        <p:spPr>
          <a:xfrm>
            <a:off x="1785960" y="142920"/>
            <a:ext cx="6286320" cy="2214360"/>
          </a:xfrm>
          <a:prstGeom prst="downArrowCallout">
            <a:avLst>
              <a:gd name="adj1" fmla="val 94559"/>
              <a:gd name="adj2" fmla="val 68698"/>
              <a:gd name="adj3" fmla="val 27921"/>
              <a:gd name="adj4" fmla="val 57444"/>
            </a:avLst>
          </a:prstGeom>
          <a:solidFill>
            <a:srgbClr val="a1acb2"/>
          </a:solidFill>
          <a:ln cap="rnd" w="22320">
            <a:solidFill>
              <a:srgbClr val="75b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50560" y="2707920"/>
            <a:ext cx="8893080" cy="2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82600" algn="ctr">
              <a:lnSpc>
                <a:spcPct val="100000"/>
              </a:lnSpc>
              <a:spcBef>
                <a:spcPts val="45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 на уроках русского языка </a:t>
            </a:r>
            <a:r>
              <a:rPr b="0" lang="ru-RU" sz="2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способ действия, указывающий, что и в какой последовательности следует выполнять ученику, чтобы применить то или иное правило.</a:t>
            </a:r>
            <a:endParaRPr b="0" lang="en-US" sz="28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700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5b74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Содержимое 5"/>
          <p:cNvSpPr/>
          <p:nvPr/>
        </p:nvSpPr>
        <p:spPr>
          <a:xfrm>
            <a:off x="125280" y="1628640"/>
            <a:ext cx="889344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65040" indent="-282600" algn="ctr">
              <a:lnSpc>
                <a:spcPct val="100000"/>
              </a:lnSpc>
              <a:spcBef>
                <a:spcPts val="425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о теории Владимира Павловича Беспалько советского и российского ученого педагога «основными свойствами алгоритма»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определённость (простота и однозначность операций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массовость (решение целого класса задач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результативность (обязательное подведение к ответу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дискретность (членение на элементарные шаг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07720" y="3071880"/>
            <a:ext cx="7643880" cy="292896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71600" y="29340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помни и применяй:</a:t>
            </a:r>
            <a:endParaRPr b="0" lang="en-US" sz="36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65" name="Блок-схема: процесс 3"/>
          <p:cNvSpPr/>
          <p:nvPr/>
        </p:nvSpPr>
        <p:spPr>
          <a:xfrm>
            <a:off x="1258920" y="4071960"/>
            <a:ext cx="2736720" cy="928800"/>
          </a:xfrm>
          <a:prstGeom prst="flowChartProcess">
            <a:avLst/>
          </a:prstGeom>
          <a:solidFill>
            <a:srgbClr val="c6cdd1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Блок-схема: процесс 4"/>
          <p:cNvSpPr/>
          <p:nvPr/>
        </p:nvSpPr>
        <p:spPr>
          <a:xfrm>
            <a:off x="5975280" y="4106880"/>
            <a:ext cx="2592360" cy="928800"/>
          </a:xfrm>
          <a:prstGeom prst="flowChartProcess">
            <a:avLst/>
          </a:prstGeom>
          <a:solidFill>
            <a:srgbClr val="c6cdd1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Прямая соединительная линия 11"/>
          <p:cNvSpPr/>
          <p:nvPr/>
        </p:nvSpPr>
        <p:spPr>
          <a:xfrm>
            <a:off x="2627280" y="3429000"/>
            <a:ext cx="4643640" cy="0"/>
          </a:xfrm>
          <a:prstGeom prst="line">
            <a:avLst/>
          </a:prstGeom>
          <a:ln cap="rnd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Прямая соединительная линия 16"/>
          <p:cNvSpPr/>
          <p:nvPr/>
        </p:nvSpPr>
        <p:spPr>
          <a:xfrm>
            <a:off x="2627280" y="3429000"/>
            <a:ext cx="0" cy="642960"/>
          </a:xfrm>
          <a:prstGeom prst="line">
            <a:avLst/>
          </a:prstGeom>
          <a:ln cap="rnd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Прямая соединительная линия 20"/>
          <p:cNvSpPr/>
          <p:nvPr/>
        </p:nvSpPr>
        <p:spPr>
          <a:xfrm>
            <a:off x="7270920" y="3429000"/>
            <a:ext cx="0" cy="642960"/>
          </a:xfrm>
          <a:prstGeom prst="line">
            <a:avLst/>
          </a:prstGeom>
          <a:ln cap="rnd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Блок-схема: процесс 10"/>
          <p:cNvSpPr/>
          <p:nvPr/>
        </p:nvSpPr>
        <p:spPr>
          <a:xfrm>
            <a:off x="2567160" y="1700280"/>
            <a:ext cx="4500360" cy="1071360"/>
          </a:xfrm>
          <a:prstGeom prst="flowChartProcess">
            <a:avLst/>
          </a:prstGeom>
          <a:solidFill>
            <a:srgbClr val="dfe3e5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алгоритмо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 АЛГОРИТМ ПО ТЕМЕ «ИМЯ СУЩЕСТВИТЕЛЬНОЕ»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Прямоугольник: скругленные углы 3"/>
          <p:cNvSpPr/>
          <p:nvPr/>
        </p:nvSpPr>
        <p:spPr>
          <a:xfrm>
            <a:off x="1258920" y="2060640"/>
            <a:ext cx="69134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Я СУЩЕСТВИТЕЛЬНОЕ обозначает предмет и отвечает на следующие вопрос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Стрелка: вниз 5"/>
          <p:cNvSpPr/>
          <p:nvPr/>
        </p:nvSpPr>
        <p:spPr>
          <a:xfrm>
            <a:off x="2916360" y="2708280"/>
            <a:ext cx="576000" cy="7920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Стрелка: вниз 8"/>
          <p:cNvSpPr/>
          <p:nvPr/>
        </p:nvSpPr>
        <p:spPr>
          <a:xfrm>
            <a:off x="6156360" y="270828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Прямоугольник: скругленные углы 6"/>
          <p:cNvSpPr/>
          <p:nvPr/>
        </p:nvSpPr>
        <p:spPr>
          <a:xfrm>
            <a:off x="2232000" y="3587760"/>
            <a:ext cx="1944720" cy="3938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Прямоугольник: скругленные углы 10"/>
          <p:cNvSpPr/>
          <p:nvPr/>
        </p:nvSpPr>
        <p:spPr>
          <a:xfrm>
            <a:off x="5472000" y="3581280"/>
            <a:ext cx="194472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Стрелка: вниз 7"/>
          <p:cNvSpPr/>
          <p:nvPr/>
        </p:nvSpPr>
        <p:spPr>
          <a:xfrm>
            <a:off x="3132000" y="4076640"/>
            <a:ext cx="71640" cy="7923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Стрелка: вниз 12"/>
          <p:cNvSpPr/>
          <p:nvPr/>
        </p:nvSpPr>
        <p:spPr>
          <a:xfrm>
            <a:off x="6443640" y="4054320"/>
            <a:ext cx="73080" cy="7923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Прямоугольник: скругленные углы 13"/>
          <p:cNvSpPr/>
          <p:nvPr/>
        </p:nvSpPr>
        <p:spPr>
          <a:xfrm>
            <a:off x="1258920" y="4938840"/>
            <a:ext cx="3637080" cy="39348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, ПТИЦА, МУРАВ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Прямоугольник: скругленные углы 14"/>
          <p:cNvSpPr/>
          <p:nvPr/>
        </p:nvSpPr>
        <p:spPr>
          <a:xfrm>
            <a:off x="4997520" y="4925880"/>
            <a:ext cx="363672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О, ДОМ, РЕ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: скругленные углы 3"/>
          <p:cNvSpPr/>
          <p:nvPr/>
        </p:nvSpPr>
        <p:spPr>
          <a:xfrm>
            <a:off x="1258920" y="2060640"/>
            <a:ext cx="69134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А СУЩЕСТВИТЕЛЬНЫЕ БЫВАЮ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 АЛГОРИТМ ПО ТЕМЕ «ИМЯ СУЩЕСТВИТЕЛЬНОЕ»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3" name="Стрелка: вниз 5"/>
          <p:cNvSpPr/>
          <p:nvPr/>
        </p:nvSpPr>
        <p:spPr>
          <a:xfrm>
            <a:off x="2916360" y="2708280"/>
            <a:ext cx="576000" cy="7920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Стрелка: вниз 6"/>
          <p:cNvSpPr/>
          <p:nvPr/>
        </p:nvSpPr>
        <p:spPr>
          <a:xfrm>
            <a:off x="6156360" y="270828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Прямоугольник: скругленные углы 7"/>
          <p:cNvSpPr/>
          <p:nvPr/>
        </p:nvSpPr>
        <p:spPr>
          <a:xfrm>
            <a:off x="2050920" y="3587760"/>
            <a:ext cx="2233800" cy="3938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СТВЕННЫ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Прямоугольник: скругленные углы 8"/>
          <p:cNvSpPr/>
          <p:nvPr/>
        </p:nvSpPr>
        <p:spPr>
          <a:xfrm>
            <a:off x="5364000" y="3581280"/>
            <a:ext cx="223236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ИЦАТЕЛЬНЫ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Стрелка: вниз 9"/>
          <p:cNvSpPr/>
          <p:nvPr/>
        </p:nvSpPr>
        <p:spPr>
          <a:xfrm>
            <a:off x="3132000" y="4076640"/>
            <a:ext cx="71640" cy="7923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Стрелка: вниз 10"/>
          <p:cNvSpPr/>
          <p:nvPr/>
        </p:nvSpPr>
        <p:spPr>
          <a:xfrm>
            <a:off x="6443640" y="4054320"/>
            <a:ext cx="73080" cy="7923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Прямоугольник: скругленные углы 11"/>
          <p:cNvSpPr/>
          <p:nvPr/>
        </p:nvSpPr>
        <p:spPr>
          <a:xfrm>
            <a:off x="1258920" y="4938840"/>
            <a:ext cx="3637080" cy="39348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ия, Анн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Прямоугольник: скругленные углы 12"/>
          <p:cNvSpPr/>
          <p:nvPr/>
        </p:nvSpPr>
        <p:spPr>
          <a:xfrm>
            <a:off x="4997520" y="4925880"/>
            <a:ext cx="363672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на, девоч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 АЛГОРИТМ ПО ТЕМЕ «ИМЯ СУЩЕСТВИТЕЛЬНОЕ»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2" name="Прямоугольник: скругленные углы 4"/>
          <p:cNvSpPr/>
          <p:nvPr/>
        </p:nvSpPr>
        <p:spPr>
          <a:xfrm>
            <a:off x="1258920" y="2060640"/>
            <a:ext cx="69134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А СУЩЕСТВИТЕЛЬНЫЕ БЫВАЮ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Стрелка: вниз 5"/>
          <p:cNvSpPr/>
          <p:nvPr/>
        </p:nvSpPr>
        <p:spPr>
          <a:xfrm>
            <a:off x="2916360" y="2708280"/>
            <a:ext cx="576000" cy="7920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Стрелка: вниз 6"/>
          <p:cNvSpPr/>
          <p:nvPr/>
        </p:nvSpPr>
        <p:spPr>
          <a:xfrm>
            <a:off x="6156360" y="270828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Прямоугольник: скругленные углы 7"/>
          <p:cNvSpPr/>
          <p:nvPr/>
        </p:nvSpPr>
        <p:spPr>
          <a:xfrm>
            <a:off x="1979640" y="3570120"/>
            <a:ext cx="2448000" cy="3938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УШЕВЛЁННЫЕ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Прямоугольник: скругленные углы 8"/>
          <p:cNvSpPr/>
          <p:nvPr/>
        </p:nvSpPr>
        <p:spPr>
          <a:xfrm>
            <a:off x="5364000" y="3581280"/>
            <a:ext cx="252108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ДУШЕВЛЁННЫ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Стрелка: вниз 9"/>
          <p:cNvSpPr/>
          <p:nvPr/>
        </p:nvSpPr>
        <p:spPr>
          <a:xfrm>
            <a:off x="3132000" y="4076640"/>
            <a:ext cx="71640" cy="7923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Стрелка: вниз 10"/>
          <p:cNvSpPr/>
          <p:nvPr/>
        </p:nvSpPr>
        <p:spPr>
          <a:xfrm>
            <a:off x="6443640" y="4054320"/>
            <a:ext cx="73080" cy="7923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Прямоугольник: скругленные углы 11"/>
          <p:cNvSpPr/>
          <p:nvPr/>
        </p:nvSpPr>
        <p:spPr>
          <a:xfrm>
            <a:off x="1258920" y="4938840"/>
            <a:ext cx="3637080" cy="39348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рос, учени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Прямоугольник: скругленные углы 12"/>
          <p:cNvSpPr/>
          <p:nvPr/>
        </p:nvSpPr>
        <p:spPr>
          <a:xfrm>
            <a:off x="4997520" y="4925880"/>
            <a:ext cx="363672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нь, работ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 АЛГОРИТМ ПО ТЕМЕ «ИМЯ СУЩЕСТВИТЕЛЬНОЕ»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Прямоугольник: скругленные углы 4"/>
          <p:cNvSpPr/>
          <p:nvPr/>
        </p:nvSpPr>
        <p:spPr>
          <a:xfrm>
            <a:off x="1258920" y="2060640"/>
            <a:ext cx="69134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А СУЩЕСТВИТЕЛЬНЫЕ БЫВАЮ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Стрелка: вниз 5"/>
          <p:cNvSpPr/>
          <p:nvPr/>
        </p:nvSpPr>
        <p:spPr>
          <a:xfrm>
            <a:off x="1835280" y="2708280"/>
            <a:ext cx="477720" cy="11523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Стрелка: вниз 6"/>
          <p:cNvSpPr/>
          <p:nvPr/>
        </p:nvSpPr>
        <p:spPr>
          <a:xfrm>
            <a:off x="4389480" y="2708280"/>
            <a:ext cx="477720" cy="11523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Стрелка: вниз 7"/>
          <p:cNvSpPr/>
          <p:nvPr/>
        </p:nvSpPr>
        <p:spPr>
          <a:xfrm>
            <a:off x="6945480" y="2708280"/>
            <a:ext cx="477720" cy="11523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Прямоугольник: скругленные углы 8"/>
          <p:cNvSpPr/>
          <p:nvPr/>
        </p:nvSpPr>
        <p:spPr>
          <a:xfrm>
            <a:off x="993600" y="3927600"/>
            <a:ext cx="23036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ЖСКОГО РОД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Н МОЙ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Прямоугольник: скругленные углы 9"/>
          <p:cNvSpPr/>
          <p:nvPr/>
        </p:nvSpPr>
        <p:spPr>
          <a:xfrm>
            <a:off x="3562200" y="3889440"/>
            <a:ext cx="2303640" cy="57456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НСКОГО РОДА (ОНА МО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Прямоугольник: скругленные углы 10"/>
          <p:cNvSpPr/>
          <p:nvPr/>
        </p:nvSpPr>
        <p:spPr>
          <a:xfrm>
            <a:off x="6172200" y="3905280"/>
            <a:ext cx="2271600" cy="57636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ЕГО РОДА (ОНО МО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Стрелка: вниз 11"/>
          <p:cNvSpPr/>
          <p:nvPr/>
        </p:nvSpPr>
        <p:spPr>
          <a:xfrm>
            <a:off x="2084400" y="4552920"/>
            <a:ext cx="7128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Стрелка: вниз 12"/>
          <p:cNvSpPr/>
          <p:nvPr/>
        </p:nvSpPr>
        <p:spPr>
          <a:xfrm>
            <a:off x="4678200" y="4552920"/>
            <a:ext cx="71640" cy="7923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Стрелка: вниз 13"/>
          <p:cNvSpPr/>
          <p:nvPr/>
        </p:nvSpPr>
        <p:spPr>
          <a:xfrm>
            <a:off x="7236000" y="4552920"/>
            <a:ext cx="72720" cy="792360"/>
          </a:xfrm>
          <a:prstGeom prst="downArrow">
            <a:avLst>
              <a:gd name="adj1" fmla="val 50000"/>
              <a:gd name="adj2" fmla="val 50243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Прямоугольник: скругленные углы 14"/>
          <p:cNvSpPr/>
          <p:nvPr/>
        </p:nvSpPr>
        <p:spPr>
          <a:xfrm>
            <a:off x="1028880" y="5423040"/>
            <a:ext cx="2232000" cy="3920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, ДО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Прямоугольник: скругленные углы 15"/>
          <p:cNvSpPr/>
          <p:nvPr/>
        </p:nvSpPr>
        <p:spPr>
          <a:xfrm>
            <a:off x="3714840" y="5415120"/>
            <a:ext cx="2232000" cy="3920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А, КОМНАТ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Прямоугольник: скругленные углы 16"/>
          <p:cNvSpPr/>
          <p:nvPr/>
        </p:nvSpPr>
        <p:spPr>
          <a:xfrm>
            <a:off x="6240600" y="5405400"/>
            <a:ext cx="2232000" cy="3920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РО, НЕБО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35:53Z</dcterms:created>
  <dc:creator>Елена</dc:creator>
  <dc:description/>
  <dc:language>en-US</dc:language>
  <cp:lastModifiedBy>Сс</cp:lastModifiedBy>
  <cp:lastPrinted>2023-11-21T06:05:41Z</cp:lastPrinted>
  <dcterms:modified xsi:type="dcterms:W3CDTF">2023-11-21T06:07:47Z</dcterms:modified>
  <cp:revision>132</cp:revision>
  <dc:subject/>
  <dc:title>Глушенко Елена Николаевна, учитель русского языка и литературы, МОУ СОШ № 14 с. Орловки буденновского района</dc:title>
</cp:coreProperties>
</file>