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dt" idx="3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ftr" idx="3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 type="sldNum" idx="3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FE8466-9442-42B7-9067-017E08AE21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734116-FEC1-42CE-BDAF-9F651670A63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DDBE-6DCC-4791-BF9F-965191D3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DFD7-C763-4A5F-87C5-49C78FE6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70A6A-3C84-44F2-ADBD-51CB38C1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1897C-A99E-4411-B482-9F886187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23FE0-A22D-44A3-B07D-13938A22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7D278-1D4E-452C-AD18-431F69E9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034AA-149C-4E2C-BAE7-57E209F2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25184-59B0-4367-9672-F906E776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E23A9-E65B-4E13-B94C-818D48FA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41506-A218-4F42-A0FC-133DDF920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84595-FCF0-45E2-828D-1AAFB55C9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EEA47-CFB5-4CCE-B0DB-471FF3C28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3E5B-66CA-44BC-9F3B-4AF1F7C97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6E538-8A63-496A-A9BC-916070C2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7C257-9AD3-428D-9411-C6F9D318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FFB92-8A6B-4ECA-AA99-DAB0B9C5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D461B-C518-4E38-8CE3-1C05BE01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881FB-77B3-4158-923E-3089F99B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8092C-CB71-405E-9A99-A966DFC3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79730-632E-4BCB-8D03-FCD79C21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F8A6E5-D70F-488C-B223-58A91CD8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4FBDA-80E9-40B4-A30C-2C8DA805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DD98D-4243-4995-A7CF-C4D0B1AA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652B-4845-47F7-BD69-6C6455527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2499B-8F48-4041-BF72-1EDC33D5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87F7-3978-4D74-9D7E-08251FA1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1B93-14D3-4BF5-9097-AAAA5644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FAF7-C879-4B08-8E3E-5EA3C776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D43B-24B1-4AFE-9324-04127AD1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7EEC-F558-468D-9B02-BA4BE2B7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FAAE-4092-443D-9E6D-1B5EA19A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4895-EE53-44A4-BAFB-21F59BF7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6881-F4BB-49AE-98E8-DB78E7DB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6009-D082-41F0-9C21-0293B1C9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43AA-7AC8-4F8C-928D-F2ACA048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53C6-2FD0-428C-A991-E4F8AF8A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7A85-C998-4C08-8B7A-460B406F6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C744-BEDF-4C15-9342-95971C9FA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435AA-1206-49E9-83C4-0A12F723B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06BAD-13FC-4DCB-9746-C63FD977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756F3-45E9-4F7D-BE08-7B0D3235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B7E0E-F653-426B-B038-99EB0EBC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BC23A-43E6-44A7-8F20-C7AE70D7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367B-CDEE-4D5A-9EED-96EE9075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B17CA-EC30-4093-BE5C-43094F64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B2C97-DA41-4B09-8B01-C44C4A54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BAA6A-6057-40E0-A44B-25579643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6866A-21E3-46F5-A520-ACBBA020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F533D-F3F1-42F0-B738-DDB7E9C1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16735-1A18-4257-902A-65F45A37D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DFE45-B0EA-417D-91FF-F5C42DA1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71362-CCE5-4E93-8030-09907613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40127-EA7C-497A-83FA-E48F8399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8CCFB-1B07-4A1B-B107-B91FE9F1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F0F1-6331-459A-995E-98D0F41B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28C31-35DA-4BFC-ABB2-3B3EFC96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180F4-57DC-402F-B0C4-826A35C9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13D7B-3ADD-49D1-B3FB-1976F096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9F906-5FB4-4F48-B9EF-EAF83195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AD3CF-97E4-401B-A511-FA6E27A6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AB549-429D-4817-97B2-8788FE34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82927-2375-49F2-95B5-D5911FDE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57C1F-FF9C-4E20-9E0F-55F1ADBB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DF6B7-A8AB-4664-83C8-32582880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D16D5-5F76-403B-BFA8-C02B5640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1155-89EF-46C2-9050-008ACA61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5E7C4-645E-4AF1-A695-555A6AE1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11A25-64DE-44FD-B9D6-44F73572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D87CD-14E3-4B45-9980-8737BD7D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1139B-B4ED-4380-95EA-AC14E3A2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36980-A91B-4B13-9D9F-CA785AD7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611A5-50E9-445E-B0AA-69A8DEE4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368EE-ED4D-471A-9919-171B5C03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8E4A6-A709-46C1-9331-985AC235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347A8-90B7-4C20-AC4F-B8AA47EF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494B3-0F1B-4EC2-BD55-DF6B14CE9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2C82-AD8D-40FB-8BCF-A0F36C84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CDAAB-09C3-416C-9E9F-8AA77B197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A750A-BFE9-4520-BBC1-DE14D10E5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0CB7C-C02C-4C8F-BA1B-1FC8B889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E58F2-82FD-4EDA-BDCD-72AF8F30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AC431-FFD4-41AB-A220-FB1EC5A3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0CFDD-E6CA-4D4E-8557-F9FC87A9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E5BCD-45A2-4153-8A02-359430C6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78C77-4FC8-4469-BF56-0367E1EF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90B16-BC94-4B13-9FD8-ADFA50BE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DFDFA-4787-4131-81C9-CFB188EC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0BA0-1B9B-4F44-A712-C8225C9E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5AB76-57D1-4DE8-948A-1E1AC029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0F09B-B1EA-418D-8D5C-6B8AF270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7A47F-3CD8-4A85-B66F-78DFE1649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A3D16-392A-4254-A2F7-977B02AD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6D4BA-560F-47D1-8660-7BFDB5C4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0F990-70E3-4664-87B5-513333F2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062E7-4E59-4BF9-A8DA-028F1AAA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33BBB-796E-499A-A458-71987345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686E6-262A-4B47-A7DB-71B5E359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54E8E-DCD6-47D9-A15C-12CD8F7F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6F31-1D62-4FD6-8846-B6CA53DD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0364B-253A-41B0-AA34-42069F5C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7F261-AA24-4A2C-BA7E-2ACB65EB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1BCF1-D135-42D0-A482-090B6D3A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2F46B-FF8B-4622-9D27-63C8A6B20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6B09B-1F94-4D02-BF83-F7D74490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FA54E-EF62-4699-A440-4E3D413F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BC0EC-2680-4708-AD83-B41BA35B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DA2AF-488B-4ADC-B503-7948BCC3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0F86B-2631-4EAA-82F1-6F440971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22976-3F64-41ED-9E02-84C0CA7A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24E9-E061-41B8-BF3F-F81D923C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C5A57-293F-4B7D-B72C-A78908F9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98620-C306-4EDF-B9E5-4CD89A32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77159-E488-4AF0-B789-52C64008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FE9E1-B57C-409F-AB9A-29300E85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E99EC-A18A-4CD6-A6D3-24A1EE8E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EC7DC-DC28-4410-9E25-C3967A230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9948F-6750-4340-8394-8CBA2C20A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83494-FBDC-4240-9F6E-A117BE2D6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0E421-A9DA-4F29-B297-01F87F9E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38FA3-19C0-460E-98DE-705785AB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2683c6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2683c6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2683c6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025065-458A-4BFE-938B-F23786592E9B}" type="slidenum">
              <a:rPr b="0" lang="ru-RU" sz="900" spc="-1" strike="noStrike">
                <a:solidFill>
                  <a:srgbClr val="2683c6"/>
                </a:solidFill>
                <a:latin typeface="Corbe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42ba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42ba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6629400" y="600120"/>
            <a:ext cx="2057400" cy="58165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744960" y="5955840"/>
            <a:ext cx="947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55c2eb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55c2eb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580680" y="5951520"/>
            <a:ext cx="5923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55c2eb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AC6799-A1F9-4787-93D0-D0B1F8DB1935}" type="slidenum">
              <a:rPr b="0" lang="ru-RU" sz="900" spc="-1" strike="noStrike">
                <a:solidFill>
                  <a:srgbClr val="55c2eb"/>
                </a:solidFill>
                <a:latin typeface="Corbe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42ba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47840" y="3086280"/>
            <a:ext cx="8240400" cy="33051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55c2eb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55c2eb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55c2eb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CB6678-D572-4196-8725-33E2138C8006}" type="slidenum">
              <a:rPr b="0" lang="ru-RU" sz="900" spc="-1" strike="noStrike">
                <a:solidFill>
                  <a:srgbClr val="55c2eb"/>
                </a:solidFill>
                <a:latin typeface="Corbe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42ba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2683c6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2683c6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2683c6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F21EB5-35A5-4E21-91BD-BD9D6A0E9663}" type="slidenum">
              <a:rPr b="0" lang="ru-RU" sz="900" spc="-1" strike="noStrike">
                <a:solidFill>
                  <a:srgbClr val="2683c6"/>
                </a:solidFill>
                <a:latin typeface="Corbe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42ba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452520" y="5141880"/>
            <a:ext cx="8238960" cy="12589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55c2eb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55c2eb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55c2eb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3B3BE7-268D-41ED-B3C0-78D2B199F25A}" type="slidenum">
              <a:rPr b="0" lang="ru-RU" sz="900" spc="-1" strike="noStrike">
                <a:solidFill>
                  <a:srgbClr val="55c2eb"/>
                </a:solidFill>
                <a:latin typeface="Corbe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42ba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2683c6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2683c6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2683c6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505DD4-7F32-4584-8763-369934AEC4A4}" type="slidenum">
              <a:rPr b="0" lang="ru-RU" sz="900" spc="-1" strike="noStrike">
                <a:solidFill>
                  <a:srgbClr val="2683c6"/>
                </a:solidFill>
                <a:latin typeface="Corbe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42ba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2683c6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2683c6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2683c6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FA726C-61AD-498F-9022-E35F35884FB9}" type="slidenum">
              <a:rPr b="0" lang="ru-RU" sz="900" spc="-1" strike="noStrike">
                <a:solidFill>
                  <a:srgbClr val="2683c6"/>
                </a:solidFill>
                <a:latin typeface="Corbe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42ba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2683c6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2683c6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2683c6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8F94AB-C457-4FCC-8DE3-5CDDA40AD96E}" type="slidenum">
              <a:rPr b="0" lang="ru-RU" sz="900" spc="-1" strike="noStrike">
                <a:solidFill>
                  <a:srgbClr val="2683c6"/>
                </a:solidFill>
                <a:latin typeface="Corbe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42ba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452520" y="5141880"/>
            <a:ext cx="8238960" cy="12747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55c2eb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55c2eb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55c2eb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7E671D-BAC7-4FBB-8841-58799F2C2E72}" type="slidenum">
              <a:rPr b="0" lang="ru-RU" sz="900" spc="-1" strike="noStrike">
                <a:solidFill>
                  <a:srgbClr val="55c2eb"/>
                </a:solidFill>
                <a:latin typeface="Corbe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42ba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2683c6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35b74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2683c6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2683c6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2683c6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4DDAAA-5CD7-4F25-A70B-2F9948ED3F23}" type="slidenum">
              <a:rPr b="0" lang="ru-RU" sz="900" spc="-1" strike="noStrike">
                <a:solidFill>
                  <a:srgbClr val="2683c6"/>
                </a:solidFill>
                <a:latin typeface="Corbe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85880" y="701280"/>
            <a:ext cx="7572240" cy="302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900"/>
            </a:br>
            <a:r>
              <a:rPr b="1" lang="ru-RU" sz="2200" spc="-1" strike="noStrike">
                <a:solidFill>
                  <a:srgbClr val="1d6295"/>
                </a:solidFill>
                <a:latin typeface="Times New Roman"/>
                <a:ea typeface="Times New Roman"/>
              </a:rPr>
              <a:t>ИСПОЛЬЗОВАНИЕ </a:t>
            </a:r>
            <a:br>
              <a:rPr sz="2200"/>
            </a:br>
            <a:r>
              <a:rPr b="1" lang="ru-RU" sz="2200" spc="-1" strike="noStrike">
                <a:solidFill>
                  <a:srgbClr val="1d6295"/>
                </a:solidFill>
                <a:latin typeface="Times New Roman"/>
                <a:ea typeface="Times New Roman"/>
              </a:rPr>
              <a:t>АЛГОРИТМОВ</a:t>
            </a:r>
            <a:br>
              <a:rPr sz="2200"/>
            </a:br>
            <a:r>
              <a:rPr b="1" lang="ru-RU" sz="2200" spc="-1" strike="noStrike">
                <a:solidFill>
                  <a:srgbClr val="1d6295"/>
                </a:solidFill>
                <a:latin typeface="Times New Roman"/>
                <a:ea typeface="Times New Roman"/>
              </a:rPr>
              <a:t> КАК СРЕДСТВО ПОВЫШЕНИЯ ОРФОГРАФИЧЕСКОЙ ГРАМОТНОСТИ НА УРОКАХ РУССКОГО ЯЗЫКА У ОБУЧАЮЩИХСЯ С УМСТВЕННОЙ ОТСТАЛОСТЬЮ (ИНТЕЛЛЕКТУАЛЬНЫМИ НАРУШЕНИЯМИ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563640" y="4626000"/>
            <a:ext cx="535788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marL="262800" indent="-203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335b74"/>
              </a:solidFill>
              <a:latin typeface="Gill Sans MT"/>
            </a:endParaRPr>
          </a:p>
          <a:p>
            <a:pPr marL="262800" indent="-2034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мянникова Н.Н.</a:t>
            </a:r>
            <a:endParaRPr b="0" lang="en-US" sz="1600" spc="-1" strike="noStrike">
              <a:solidFill>
                <a:srgbClr val="335b74"/>
              </a:solidFill>
              <a:latin typeface="Gill Sans MT"/>
            </a:endParaRPr>
          </a:p>
          <a:p>
            <a:pPr marL="262800" indent="-2034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русского языка</a:t>
            </a:r>
            <a:endParaRPr b="0" lang="en-US" sz="1600" spc="-1" strike="noStrike">
              <a:solidFill>
                <a:srgbClr val="335b74"/>
              </a:solidFill>
              <a:latin typeface="Gill Sans MT"/>
            </a:endParaRPr>
          </a:p>
          <a:p>
            <a:pPr marL="262800" indent="-2034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чтения ООШ №7 </a:t>
            </a:r>
            <a:endParaRPr b="0" lang="en-US" sz="1600" spc="-1" strike="noStrike">
              <a:solidFill>
                <a:srgbClr val="335b74"/>
              </a:solidFill>
              <a:latin typeface="Gill Sans MT"/>
            </a:endParaRPr>
          </a:p>
          <a:p>
            <a:pPr marL="262800" indent="-2034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 Сергиев – Посад</a:t>
            </a:r>
            <a:endParaRPr b="0" lang="en-US" sz="1600" spc="-1" strike="noStrike">
              <a:solidFill>
                <a:srgbClr val="335b74"/>
              </a:solidFill>
              <a:latin typeface="Gill Sans MT"/>
            </a:endParaRPr>
          </a:p>
          <a:p>
            <a:pPr marL="262800" indent="-2034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 Гуманитарного цикла, </a:t>
            </a:r>
            <a:endParaRPr b="0" lang="en-US" sz="1600" spc="-1" strike="noStrike">
              <a:solidFill>
                <a:srgbClr val="335b74"/>
              </a:solidFill>
              <a:latin typeface="Gill Sans MT"/>
            </a:endParaRPr>
          </a:p>
          <a:p>
            <a:pPr marL="262800" indent="-2034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1.11.2023 </a:t>
            </a:r>
            <a:endParaRPr b="0" lang="en-US" sz="1600" spc="-1" strike="noStrike">
              <a:solidFill>
                <a:srgbClr val="335b74"/>
              </a:solidFill>
              <a:latin typeface="Gill Sans MT"/>
            </a:endParaRPr>
          </a:p>
          <a:p>
            <a:pPr marL="262800" indent="-2034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335b74"/>
              </a:solidFill>
              <a:latin typeface="Gill Sans MT"/>
            </a:endParaRPr>
          </a:p>
          <a:p>
            <a:pPr marL="262800" indent="-203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a1acb2"/>
                </a:solidFill>
                <a:latin typeface="Corbe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335b74"/>
              </a:solidFill>
              <a:latin typeface="Gill Sans MT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22240" y="54900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ОВЕСНЫЙ АЛГОРИТМ ПО ТЕМЕ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ОСТАВ СЛОВА»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900000" y="2205000"/>
          <a:ext cx="7421760" cy="3940200"/>
        </p:xfrm>
        <a:graphic>
          <a:graphicData uri="http://schemas.openxmlformats.org/drawingml/2006/table">
            <a:tbl>
              <a:tblPr/>
              <a:tblGrid>
                <a:gridCol w="1013040"/>
                <a:gridCol w="2803320"/>
                <a:gridCol w="3605400"/>
              </a:tblGrid>
              <a:tr h="4078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А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ЙСТ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ЯС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ХОЖУ ОКОНЧ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ля этого изменяю форму слова, задавая 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ХОЖУ КОР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ля этого подбираю однокоренные сл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ХОЖУ ПРИСТАВ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ля этого подбираю однокоренные слова без приставки. Приставка стоит перед корн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4136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ХОЖУ СУФФИК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уффикс стоит после кор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ОВЕРЬ СЕБ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зови все части слова по поряд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</a:tbl>
          </a:graphicData>
        </a:graphic>
      </p:graphicFrame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22240" y="54900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ОВЕСНЫЙ АЛГОРИТМ ПО ТЕМЕ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АЗБОР СЛОВА ПО СОСТАВУ»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468360" y="2205000"/>
          <a:ext cx="6912000" cy="3005280"/>
        </p:xfrm>
        <a:graphic>
          <a:graphicData uri="http://schemas.openxmlformats.org/drawingml/2006/table">
            <a:tbl>
              <a:tblPr/>
              <a:tblGrid>
                <a:gridCol w="690480"/>
                <a:gridCol w="6221520"/>
              </a:tblGrid>
              <a:tr h="592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ОЧИТАЙ СЛО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</a:tr>
              <a:tr h="59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ЗМЕНИ СЛОВО И ВЫДЕЛИ ООНЧ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ДБЕРИ ОДНОКОРЕННЫЕ СЛОВА И ВЫДЕЛИ КОР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59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ЫДЕЛИ ПРИСТАВ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591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ЫДЕЛИ СУФФИК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</a:tbl>
          </a:graphicData>
        </a:graphic>
      </p:graphicFrame>
      <p:sp>
        <p:nvSpPr>
          <p:cNvPr id="519" name="Прямоугольник 7"/>
          <p:cNvSpPr/>
          <p:nvPr/>
        </p:nvSpPr>
        <p:spPr>
          <a:xfrm>
            <a:off x="7783560" y="2205000"/>
            <a:ext cx="647640" cy="576360"/>
          </a:xfrm>
          <a:prstGeom prst="rect">
            <a:avLst/>
          </a:prstGeom>
          <a:solidFill>
            <a:srgbClr val="ffffff"/>
          </a:solidFill>
          <a:ln cap="rnd"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Стрелка: вниз 8"/>
          <p:cNvSpPr/>
          <p:nvPr/>
        </p:nvSpPr>
        <p:spPr>
          <a:xfrm>
            <a:off x="8089920" y="2852640"/>
            <a:ext cx="46080" cy="2890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7729560" y="3198960"/>
            <a:ext cx="824040" cy="460080"/>
          </a:xfrm>
          <a:prstGeom prst="rect">
            <a:avLst/>
          </a:prstGeom>
          <a:ln w="0">
            <a:noFill/>
          </a:ln>
        </p:spPr>
      </p:pic>
      <p:sp>
        <p:nvSpPr>
          <p:cNvPr id="522" name="Прямая соединительная линия 13"/>
          <p:cNvSpPr/>
          <p:nvPr/>
        </p:nvSpPr>
        <p:spPr>
          <a:xfrm>
            <a:off x="7729560" y="4149720"/>
            <a:ext cx="8636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Прямая соединительная линия 15"/>
          <p:cNvSpPr/>
          <p:nvPr/>
        </p:nvSpPr>
        <p:spPr>
          <a:xfrm>
            <a:off x="8593200" y="4149720"/>
            <a:ext cx="0" cy="2872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Стрелка: вниз 19"/>
          <p:cNvSpPr/>
          <p:nvPr/>
        </p:nvSpPr>
        <p:spPr>
          <a:xfrm>
            <a:off x="8115480" y="3728880"/>
            <a:ext cx="45720" cy="287640"/>
          </a:xfrm>
          <a:prstGeom prst="downArrow">
            <a:avLst>
              <a:gd name="adj1" fmla="val 50000"/>
              <a:gd name="adj2" fmla="val 50389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Стрелка: вниз 20"/>
          <p:cNvSpPr/>
          <p:nvPr/>
        </p:nvSpPr>
        <p:spPr>
          <a:xfrm>
            <a:off x="8093160" y="4408560"/>
            <a:ext cx="44280" cy="287280"/>
          </a:xfrm>
          <a:prstGeom prst="downArrow">
            <a:avLst>
              <a:gd name="adj1" fmla="val 50000"/>
              <a:gd name="adj2" fmla="val 50190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Прямая соединительная линия 21"/>
          <p:cNvSpPr/>
          <p:nvPr/>
        </p:nvSpPr>
        <p:spPr>
          <a:xfrm flipV="1">
            <a:off x="7596360" y="4869000"/>
            <a:ext cx="493560" cy="3412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Прямая соединительная линия 23"/>
          <p:cNvSpPr/>
          <p:nvPr/>
        </p:nvSpPr>
        <p:spPr>
          <a:xfrm>
            <a:off x="8089920" y="4869000"/>
            <a:ext cx="503280" cy="2966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2240" y="54900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ОВЕСНЫЙ АЛГОРИТМ ПО ТЕМЕ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БЕЗУДАРНЫЕ ГЛАСНЫЕ»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900000" y="2205000"/>
          <a:ext cx="7421760" cy="3414600"/>
        </p:xfrm>
        <a:graphic>
          <a:graphicData uri="http://schemas.openxmlformats.org/drawingml/2006/table">
            <a:tbl>
              <a:tblPr/>
              <a:tblGrid>
                <a:gridCol w="1013040"/>
                <a:gridCol w="6408720"/>
              </a:tblGrid>
              <a:tr h="549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А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ЙСТ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</a:tr>
              <a:tr h="555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ОИЗНЕСЁМ ИЛИ ПРОЧИТАЕМ СЛО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557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СТАВИМ УДА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555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ЫДЕЛИМ КОР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557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ДБЕРЕМ ПРОВЕРОЧНОЕ СЛО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ТАВИМ БУКВ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905040" y="5619600"/>
          <a:ext cx="7416720" cy="514440"/>
        </p:xfrm>
        <a:graphic>
          <a:graphicData uri="http://schemas.openxmlformats.org/drawingml/2006/table">
            <a:tbl>
              <a:tblPr/>
              <a:tblGrid>
                <a:gridCol w="1002960"/>
                <a:gridCol w="6413760"/>
              </a:tblGrid>
              <a:tr h="514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ОЗНАЧИМ ОРФОГРАМ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</a:tr>
            </a:tbl>
          </a:graphicData>
        </a:graphic>
      </p:graphicFrame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134263"/>
                </a:solidFill>
                <a:latin typeface="Times New Roman"/>
                <a:ea typeface="Times New Roman"/>
              </a:rPr>
              <a:t>ДИАГРАММА № </a:t>
            </a:r>
            <a:r>
              <a:rPr b="1" lang="en-US" sz="1800" spc="-1" strike="noStrike">
                <a:solidFill>
                  <a:srgbClr val="134263"/>
                </a:solidFill>
                <a:latin typeface="Times New Roman"/>
                <a:ea typeface="Times New Roman"/>
              </a:rPr>
              <a:t>1</a:t>
            </a:r>
            <a:r>
              <a:rPr b="1" lang="ru-RU" sz="1800" spc="-1" strike="noStrike">
                <a:solidFill>
                  <a:srgbClr val="134263"/>
                </a:solidFill>
                <a:latin typeface="Times New Roman"/>
                <a:ea typeface="Times New Roman"/>
              </a:rPr>
              <a:t>. </a:t>
            </a:r>
            <a:br>
              <a:rPr sz="1800"/>
            </a:br>
            <a:r>
              <a:rPr b="1" lang="ru-RU" sz="1800" spc="-1" strike="noStrike">
                <a:solidFill>
                  <a:srgbClr val="134263"/>
                </a:solidFill>
                <a:latin typeface="Times New Roman"/>
                <a:ea typeface="Times New Roman"/>
              </a:rPr>
              <a:t>СНИЖЕНИЕ УРОВНЯ ОРФОГРАФИЧЕСКИХ ОШИБОК В ДИКТАНТАХ ПОСЛЕ ИСПОЛЬЗОВАНИЯ АЛГОРИТМОВ</a:t>
            </a:r>
            <a:br>
              <a:rPr sz="1800"/>
            </a:br>
            <a:r>
              <a:rPr b="1" lang="ru-RU" sz="1800" spc="-1" strike="noStrike">
                <a:solidFill>
                  <a:srgbClr val="134263"/>
                </a:solidFill>
                <a:latin typeface="Times New Roman"/>
                <a:ea typeface="Times New Roman"/>
              </a:rPr>
              <a:t>(СРЕДНИЙ ПОКАЗАТЕЛЬ)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graphicFrame>
        <p:nvGraphicFramePr>
          <p:cNvPr id="532" name="Диаграмма 9"/>
          <p:cNvGraphicFramePr/>
          <p:nvPr/>
        </p:nvGraphicFramePr>
        <p:xfrm>
          <a:off x="1352520" y="2073240"/>
          <a:ext cx="6197760" cy="416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3" name="Диаграмма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2073240"/>
                    <a:ext cx="619776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Выноска со стрелкой вниз 5"/>
          <p:cNvSpPr/>
          <p:nvPr/>
        </p:nvSpPr>
        <p:spPr>
          <a:xfrm>
            <a:off x="2050920" y="609480"/>
            <a:ext cx="4786560" cy="1571760"/>
          </a:xfrm>
          <a:prstGeom prst="downArrowCallout">
            <a:avLst>
              <a:gd name="adj1" fmla="val 82260"/>
              <a:gd name="adj2" fmla="val 86679"/>
              <a:gd name="adj3" fmla="val 25000"/>
              <a:gd name="adj4" fmla="val 64977"/>
            </a:avLst>
          </a:prstGeom>
          <a:solidFill>
            <a:srgbClr val="a1acb2"/>
          </a:solidFill>
          <a:ln cap="rnd" w="22320">
            <a:solidFill>
              <a:srgbClr val="1d62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786040" y="609120"/>
            <a:ext cx="364320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134263"/>
                </a:solidFill>
                <a:latin typeface="Times New Roman"/>
                <a:ea typeface="Times New Roman"/>
              </a:rPr>
              <a:t>АЛГОРИТМЫ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1000080" y="1785960"/>
            <a:ext cx="7934400" cy="446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-30492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537" name="Горизонтальный свиток 6"/>
          <p:cNvSpPr/>
          <p:nvPr/>
        </p:nvSpPr>
        <p:spPr>
          <a:xfrm>
            <a:off x="1071720" y="4857840"/>
            <a:ext cx="3143160" cy="1500120"/>
          </a:xfrm>
          <a:prstGeom prst="horizontalScroll">
            <a:avLst>
              <a:gd name="adj" fmla="val 12500"/>
            </a:avLst>
          </a:prstGeom>
          <a:solidFill>
            <a:srgbClr val="dfe3e5"/>
          </a:solidFill>
          <a:ln cap="rnd" w="22320">
            <a:solidFill>
              <a:srgbClr val="1d62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34263"/>
                </a:solidFill>
                <a:latin typeface="Times New Roman"/>
                <a:ea typeface="Times New Roman"/>
              </a:rPr>
              <a:t>Способствуют повышению уровня грамотности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Горизонтальный свиток 7"/>
          <p:cNvSpPr/>
          <p:nvPr/>
        </p:nvSpPr>
        <p:spPr>
          <a:xfrm>
            <a:off x="3357720" y="3365640"/>
            <a:ext cx="3143160" cy="1533240"/>
          </a:xfrm>
          <a:prstGeom prst="horizontalScroll">
            <a:avLst>
              <a:gd name="adj" fmla="val 12500"/>
            </a:avLst>
          </a:prstGeom>
          <a:solidFill>
            <a:srgbClr val="dfe3e5"/>
          </a:solidFill>
          <a:ln cap="rnd" w="22320">
            <a:solidFill>
              <a:srgbClr val="1d62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34263"/>
                </a:solidFill>
                <a:latin typeface="Times New Roman"/>
                <a:ea typeface="Times New Roman"/>
              </a:rPr>
              <a:t>Развивают логическое мышление ученик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Горизонтальный свиток 8"/>
          <p:cNvSpPr/>
          <p:nvPr/>
        </p:nvSpPr>
        <p:spPr>
          <a:xfrm>
            <a:off x="5765760" y="1816200"/>
            <a:ext cx="2857680" cy="1500120"/>
          </a:xfrm>
          <a:prstGeom prst="horizontalScroll">
            <a:avLst>
              <a:gd name="adj" fmla="val 12500"/>
            </a:avLst>
          </a:prstGeom>
          <a:solidFill>
            <a:srgbClr val="dfe3e5"/>
          </a:solidFill>
          <a:ln cap="rnd" w="22320">
            <a:solidFill>
              <a:srgbClr val="1d62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34263"/>
                </a:solidFill>
                <a:latin typeface="Times New Roman"/>
                <a:ea typeface="Times New Roman"/>
              </a:rPr>
              <a:t>Дисциплинируют работу мысли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"/>
          <p:cNvPicPr/>
          <p:nvPr/>
        </p:nvPicPr>
        <p:blipFill>
          <a:blip r:embed="rId1"/>
          <a:srcRect l="0" t="0" r="0" b="11169"/>
          <a:stretch/>
        </p:blipFill>
        <p:spPr>
          <a:xfrm>
            <a:off x="4929120" y="3214800"/>
            <a:ext cx="3076560" cy="3165480"/>
          </a:xfrm>
          <a:prstGeom prst="rect">
            <a:avLst/>
          </a:prstGeom>
          <a:ln w="0">
            <a:noFill/>
          </a:ln>
        </p:spPr>
      </p:pic>
      <p:pic>
        <p:nvPicPr>
          <p:cNvPr id="541" name="Заголовок 4" descr=""/>
          <p:cNvPicPr/>
          <p:nvPr/>
        </p:nvPicPr>
        <p:blipFill>
          <a:blip r:embed="rId2"/>
          <a:stretch/>
        </p:blipFill>
        <p:spPr>
          <a:xfrm>
            <a:off x="1925640" y="1146240"/>
            <a:ext cx="7218360" cy="1639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22240" y="549360"/>
            <a:ext cx="749952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ЧИНЫ ЗАТРУДНЕНИЙ УСВОЕНИЯ ОСНОВНЫХ ПРАВИЛ ПРАВОПИСАНИЯ ПО РУССКОМУ ЯЗЫКУ У ОБУЧАЮЩИХСЯ 5 – ГО, 6 – ГО КЛАССОВ С УМСТВЕННОЙ ОТСТАЛОСТЬЮ (ИНТЕЛЛЕКТУАЛЬНЫМИ НАРУШЕНИЯМИ):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68000" y="2708280"/>
            <a:ext cx="856764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2683c6"/>
              </a:buClr>
              <a:buSzPct val="92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льшой объём правил;</a:t>
            </a:r>
            <a:endParaRPr b="0" lang="en-US" sz="2400" spc="-1" strike="noStrike">
              <a:solidFill>
                <a:srgbClr val="335b74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2683c6"/>
              </a:buClr>
              <a:buSzPct val="92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зкий объём концентрации внимания;</a:t>
            </a:r>
            <a:endParaRPr b="0" lang="en-US" sz="2400" spc="-1" strike="noStrike">
              <a:solidFill>
                <a:srgbClr val="335b74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2683c6"/>
              </a:buClr>
              <a:buSzPct val="92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бывчивость и неточность воспроизведения материала;</a:t>
            </a:r>
            <a:endParaRPr b="0" lang="en-US" sz="2400" spc="-1" strike="noStrike">
              <a:solidFill>
                <a:srgbClr val="335b74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2683c6"/>
              </a:buClr>
              <a:buSzPct val="92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рушение аналитико – синтетической деятельности;</a:t>
            </a:r>
            <a:endParaRPr b="0" lang="en-US" sz="2400" spc="-1" strike="noStrike">
              <a:solidFill>
                <a:srgbClr val="335b74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2683c6"/>
              </a:buClr>
              <a:buSzPct val="92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рушение всех мыслительных операций (обобщение и абстрагирование).</a:t>
            </a:r>
            <a:endParaRPr b="0" lang="en-US" sz="2400" spc="-1" strike="noStrike">
              <a:solidFill>
                <a:srgbClr val="335b74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2683c6"/>
              </a:buClr>
              <a:buSzPct val="92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5b74"/>
              </a:solidFill>
              <a:latin typeface="Gill Sans MT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Выноска со стрелкой вниз 3"/>
          <p:cNvSpPr/>
          <p:nvPr/>
        </p:nvSpPr>
        <p:spPr>
          <a:xfrm>
            <a:off x="1785960" y="142920"/>
            <a:ext cx="6286320" cy="2214360"/>
          </a:xfrm>
          <a:prstGeom prst="downArrowCallout">
            <a:avLst>
              <a:gd name="adj1" fmla="val 94559"/>
              <a:gd name="adj2" fmla="val 68698"/>
              <a:gd name="adj3" fmla="val 27921"/>
              <a:gd name="adj4" fmla="val 57444"/>
            </a:avLst>
          </a:prstGeom>
          <a:solidFill>
            <a:srgbClr val="a1acb2"/>
          </a:solidFill>
          <a:ln cap="rnd" w="22320">
            <a:solidFill>
              <a:srgbClr val="75b6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ЛГОРИТМ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250560" y="2707920"/>
            <a:ext cx="8893080" cy="28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82600" algn="ctr">
              <a:lnSpc>
                <a:spcPct val="100000"/>
              </a:lnSpc>
              <a:spcBef>
                <a:spcPts val="451"/>
              </a:spcBef>
              <a:buClr>
                <a:srgbClr val="2683c6"/>
              </a:buClr>
              <a:buSzPct val="92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5b74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лгоритм на уроках русского языка </a:t>
            </a:r>
            <a:r>
              <a:rPr b="0" lang="ru-RU" sz="2800" spc="-1" strike="noStrike">
                <a:solidFill>
                  <a:srgbClr val="134263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способ действия, указывающий, что и в какой последовательности следует выполнять ученику, чтобы применить то или иное правило.</a:t>
            </a:r>
            <a:endParaRPr b="0" lang="en-US" sz="2800" spc="-1" strike="noStrike">
              <a:solidFill>
                <a:srgbClr val="335b74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35b74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700"/>
              </a:spcBef>
              <a:buClr>
                <a:srgbClr val="2683c6"/>
              </a:buClr>
              <a:buSzPct val="92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35b74"/>
              </a:solidFill>
              <a:latin typeface="Gill Sans MT"/>
            </a:endParaRP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Содержимое 5"/>
          <p:cNvSpPr/>
          <p:nvPr/>
        </p:nvSpPr>
        <p:spPr>
          <a:xfrm>
            <a:off x="125280" y="1628640"/>
            <a:ext cx="8893440" cy="38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65040" indent="-282600" algn="ctr">
              <a:lnSpc>
                <a:spcPct val="100000"/>
              </a:lnSpc>
              <a:spcBef>
                <a:spcPts val="425"/>
              </a:spcBef>
              <a:buClr>
                <a:srgbClr val="2683c6"/>
              </a:buClr>
              <a:buSzPct val="92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гласно теории Владимира Павловича Беспалько советского и российского ученого педагога «основными свойствами алгоритма» являются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49"/>
              </a:spcBef>
              <a:buClr>
                <a:srgbClr val="2683c6"/>
              </a:buClr>
              <a:buSzPct val="92000"/>
              <a:buFont typeface="Times New Roman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134263"/>
                </a:solidFill>
                <a:latin typeface="Times New Roman"/>
                <a:ea typeface="Times New Roman"/>
              </a:rPr>
              <a:t>определённость (простота и однозначность операций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49"/>
              </a:spcBef>
              <a:buClr>
                <a:srgbClr val="2683c6"/>
              </a:buClr>
              <a:buSzPct val="92000"/>
              <a:buFont typeface="Times New Roman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134263"/>
                </a:solidFill>
                <a:latin typeface="Times New Roman"/>
                <a:ea typeface="Times New Roman"/>
              </a:rPr>
              <a:t>массовость (решение целого класса задач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49"/>
              </a:spcBef>
              <a:buClr>
                <a:srgbClr val="2683c6"/>
              </a:buClr>
              <a:buSzPct val="92000"/>
              <a:buFont typeface="Times New Roman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134263"/>
                </a:solidFill>
                <a:latin typeface="Times New Roman"/>
                <a:ea typeface="Times New Roman"/>
              </a:rPr>
              <a:t>результативность (обязательное подведение к ответу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49"/>
              </a:spcBef>
              <a:buClr>
                <a:srgbClr val="2683c6"/>
              </a:buClr>
              <a:buSzPct val="92000"/>
              <a:buFont typeface="Times New Roman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134263"/>
                </a:solidFill>
                <a:latin typeface="Times New Roman"/>
                <a:ea typeface="Times New Roman"/>
              </a:rPr>
              <a:t>дискретность (членение на элементарные шаги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49"/>
              </a:spcBef>
              <a:buClr>
                <a:srgbClr val="2683c6"/>
              </a:buClr>
              <a:buSzPct val="92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07720" y="3071880"/>
            <a:ext cx="7643880" cy="292896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371600" y="293400"/>
            <a:ext cx="6400800" cy="15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049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Запомни и применяй:</a:t>
            </a:r>
            <a:endParaRPr b="0" lang="en-US" sz="3600" spc="-1" strike="noStrike">
              <a:solidFill>
                <a:srgbClr val="335b74"/>
              </a:solidFill>
              <a:latin typeface="Gill Sans MT"/>
            </a:endParaRPr>
          </a:p>
        </p:txBody>
      </p:sp>
      <p:sp>
        <p:nvSpPr>
          <p:cNvPr id="465" name="Блок-схема: процесс 3"/>
          <p:cNvSpPr/>
          <p:nvPr/>
        </p:nvSpPr>
        <p:spPr>
          <a:xfrm>
            <a:off x="1258920" y="4071960"/>
            <a:ext cx="2736720" cy="928800"/>
          </a:xfrm>
          <a:prstGeom prst="flowChartProcess">
            <a:avLst/>
          </a:prstGeom>
          <a:solidFill>
            <a:srgbClr val="c6cdd1"/>
          </a:solidFill>
          <a:ln cap="rnd" w="22320">
            <a:solidFill>
              <a:srgbClr val="1d62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ческий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Блок-схема: процесс 4"/>
          <p:cNvSpPr/>
          <p:nvPr/>
        </p:nvSpPr>
        <p:spPr>
          <a:xfrm>
            <a:off x="5975280" y="4106880"/>
            <a:ext cx="2592360" cy="928800"/>
          </a:xfrm>
          <a:prstGeom prst="flowChartProcess">
            <a:avLst/>
          </a:prstGeom>
          <a:solidFill>
            <a:srgbClr val="c6cdd1"/>
          </a:solidFill>
          <a:ln cap="rnd" w="22320">
            <a:solidFill>
              <a:srgbClr val="1d62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овесный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Прямая соединительная линия 11"/>
          <p:cNvSpPr/>
          <p:nvPr/>
        </p:nvSpPr>
        <p:spPr>
          <a:xfrm>
            <a:off x="2627280" y="3429000"/>
            <a:ext cx="4643640" cy="0"/>
          </a:xfrm>
          <a:prstGeom prst="line">
            <a:avLst/>
          </a:prstGeom>
          <a:ln cap="rnd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Прямая соединительная линия 16"/>
          <p:cNvSpPr/>
          <p:nvPr/>
        </p:nvSpPr>
        <p:spPr>
          <a:xfrm>
            <a:off x="2627280" y="3429000"/>
            <a:ext cx="0" cy="642960"/>
          </a:xfrm>
          <a:prstGeom prst="line">
            <a:avLst/>
          </a:prstGeom>
          <a:ln cap="rnd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Прямая соединительная линия 20"/>
          <p:cNvSpPr/>
          <p:nvPr/>
        </p:nvSpPr>
        <p:spPr>
          <a:xfrm>
            <a:off x="7270920" y="3429000"/>
            <a:ext cx="0" cy="642960"/>
          </a:xfrm>
          <a:prstGeom prst="line">
            <a:avLst/>
          </a:prstGeom>
          <a:ln cap="rnd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Блок-схема: процесс 10"/>
          <p:cNvSpPr/>
          <p:nvPr/>
        </p:nvSpPr>
        <p:spPr>
          <a:xfrm>
            <a:off x="2567160" y="1700280"/>
            <a:ext cx="4500360" cy="1071360"/>
          </a:xfrm>
          <a:prstGeom prst="flowChartProcess">
            <a:avLst/>
          </a:prstGeom>
          <a:solidFill>
            <a:srgbClr val="dfe3e5"/>
          </a:solidFill>
          <a:ln cap="rnd" w="22320">
            <a:solidFill>
              <a:srgbClr val="1d62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ды алгоритмов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ЧЕСКИЙ АЛГОРИТМ ПО ТЕМЕ «ИМЯ СУЩЕСТВИТЕЛЬНОЕ»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2" name="Прямоугольник: скругленные углы 3"/>
          <p:cNvSpPr/>
          <p:nvPr/>
        </p:nvSpPr>
        <p:spPr>
          <a:xfrm>
            <a:off x="1258920" y="2060640"/>
            <a:ext cx="6913440" cy="53640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Я СУЩЕСТВИТЕЛЬНОЕ обозначает предмет и отвечает на следующие вопросы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Стрелка: вниз 5"/>
          <p:cNvSpPr/>
          <p:nvPr/>
        </p:nvSpPr>
        <p:spPr>
          <a:xfrm>
            <a:off x="2916360" y="2708280"/>
            <a:ext cx="576000" cy="79200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Стрелка: вниз 8"/>
          <p:cNvSpPr/>
          <p:nvPr/>
        </p:nvSpPr>
        <p:spPr>
          <a:xfrm>
            <a:off x="6156360" y="2708280"/>
            <a:ext cx="576360" cy="79200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Прямоугольник: скругленные углы 6"/>
          <p:cNvSpPr/>
          <p:nvPr/>
        </p:nvSpPr>
        <p:spPr>
          <a:xfrm>
            <a:off x="2232000" y="3587760"/>
            <a:ext cx="1944720" cy="39384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ТО?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Прямоугольник: скругленные углы 10"/>
          <p:cNvSpPr/>
          <p:nvPr/>
        </p:nvSpPr>
        <p:spPr>
          <a:xfrm>
            <a:off x="5472000" y="3581280"/>
            <a:ext cx="1944720" cy="39240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?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Стрелка: вниз 7"/>
          <p:cNvSpPr/>
          <p:nvPr/>
        </p:nvSpPr>
        <p:spPr>
          <a:xfrm>
            <a:off x="3132000" y="4076640"/>
            <a:ext cx="71640" cy="792360"/>
          </a:xfrm>
          <a:prstGeom prst="downArrow">
            <a:avLst>
              <a:gd name="adj1" fmla="val 50000"/>
              <a:gd name="adj2" fmla="val 49874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Стрелка: вниз 12"/>
          <p:cNvSpPr/>
          <p:nvPr/>
        </p:nvSpPr>
        <p:spPr>
          <a:xfrm>
            <a:off x="6443640" y="4054320"/>
            <a:ext cx="73080" cy="79236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Прямоугольник: скругленные углы 13"/>
          <p:cNvSpPr/>
          <p:nvPr/>
        </p:nvSpPr>
        <p:spPr>
          <a:xfrm>
            <a:off x="1258920" y="4938840"/>
            <a:ext cx="3637080" cy="39348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ЛОВЕК, ПТИЦА, МУРАВЕЙ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Прямоугольник: скругленные углы 14"/>
          <p:cNvSpPr/>
          <p:nvPr/>
        </p:nvSpPr>
        <p:spPr>
          <a:xfrm>
            <a:off x="4997520" y="4925880"/>
            <a:ext cx="3636720" cy="39240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РЕВО, ДОМ, РЕК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Прямоугольник: скругленные углы 3"/>
          <p:cNvSpPr/>
          <p:nvPr/>
        </p:nvSpPr>
        <p:spPr>
          <a:xfrm>
            <a:off x="1258920" y="2060640"/>
            <a:ext cx="6913440" cy="53640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ЕНА СУЩЕСТВИТЕЛЬНЫЕ БЫВАЮ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ЧЕСКИЙ АЛГОРИТМ ПО ТЕМЕ «ИМЯ СУЩЕСТВИТЕЛЬНОЕ»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3" name="Стрелка: вниз 5"/>
          <p:cNvSpPr/>
          <p:nvPr/>
        </p:nvSpPr>
        <p:spPr>
          <a:xfrm>
            <a:off x="2916360" y="2708280"/>
            <a:ext cx="576000" cy="79200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Стрелка: вниз 6"/>
          <p:cNvSpPr/>
          <p:nvPr/>
        </p:nvSpPr>
        <p:spPr>
          <a:xfrm>
            <a:off x="6156360" y="2708280"/>
            <a:ext cx="576360" cy="79200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Прямоугольник: скругленные углы 7"/>
          <p:cNvSpPr/>
          <p:nvPr/>
        </p:nvSpPr>
        <p:spPr>
          <a:xfrm>
            <a:off x="2050920" y="3587760"/>
            <a:ext cx="2233800" cy="39384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БСТВЕННЫЕ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Прямоугольник: скругленные углы 8"/>
          <p:cNvSpPr/>
          <p:nvPr/>
        </p:nvSpPr>
        <p:spPr>
          <a:xfrm>
            <a:off x="5364000" y="3581280"/>
            <a:ext cx="2232360" cy="39240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РИЦАТЕЛЬНЫЕ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Стрелка: вниз 9"/>
          <p:cNvSpPr/>
          <p:nvPr/>
        </p:nvSpPr>
        <p:spPr>
          <a:xfrm>
            <a:off x="3132000" y="4076640"/>
            <a:ext cx="71640" cy="792360"/>
          </a:xfrm>
          <a:prstGeom prst="downArrow">
            <a:avLst>
              <a:gd name="adj1" fmla="val 50000"/>
              <a:gd name="adj2" fmla="val 49874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Стрелка: вниз 10"/>
          <p:cNvSpPr/>
          <p:nvPr/>
        </p:nvSpPr>
        <p:spPr>
          <a:xfrm>
            <a:off x="6443640" y="4054320"/>
            <a:ext cx="73080" cy="79236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Прямоугольник: скругленные углы 11"/>
          <p:cNvSpPr/>
          <p:nvPr/>
        </p:nvSpPr>
        <p:spPr>
          <a:xfrm>
            <a:off x="1258920" y="4938840"/>
            <a:ext cx="3637080" cy="39348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ссия, Анн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Прямоугольник: скругленные углы 12"/>
          <p:cNvSpPr/>
          <p:nvPr/>
        </p:nvSpPr>
        <p:spPr>
          <a:xfrm>
            <a:off x="4997520" y="4925880"/>
            <a:ext cx="3636720" cy="39240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ана, девочк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ЧЕСКИЙ АЛГОРИТМ ПО ТЕМЕ «ИМЯ СУЩЕСТВИТЕЛЬНОЕ»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2" name="Прямоугольник: скругленные углы 4"/>
          <p:cNvSpPr/>
          <p:nvPr/>
        </p:nvSpPr>
        <p:spPr>
          <a:xfrm>
            <a:off x="1258920" y="2060640"/>
            <a:ext cx="6913440" cy="53640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ЕНА СУЩЕСТВИТЕЛЬНЫЕ БЫВАЮ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Стрелка: вниз 5"/>
          <p:cNvSpPr/>
          <p:nvPr/>
        </p:nvSpPr>
        <p:spPr>
          <a:xfrm>
            <a:off x="2916360" y="2708280"/>
            <a:ext cx="576000" cy="79200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Стрелка: вниз 6"/>
          <p:cNvSpPr/>
          <p:nvPr/>
        </p:nvSpPr>
        <p:spPr>
          <a:xfrm>
            <a:off x="6156360" y="2708280"/>
            <a:ext cx="576360" cy="79200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Прямоугольник: скругленные углы 7"/>
          <p:cNvSpPr/>
          <p:nvPr/>
        </p:nvSpPr>
        <p:spPr>
          <a:xfrm>
            <a:off x="1979640" y="3570120"/>
            <a:ext cx="2448000" cy="39384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УШЕВЛЁННЫЕ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Прямоугольник: скругленные углы 8"/>
          <p:cNvSpPr/>
          <p:nvPr/>
        </p:nvSpPr>
        <p:spPr>
          <a:xfrm>
            <a:off x="5364000" y="3581280"/>
            <a:ext cx="2521080" cy="39240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ОДУШЕВЛЁННЫЕ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Стрелка: вниз 9"/>
          <p:cNvSpPr/>
          <p:nvPr/>
        </p:nvSpPr>
        <p:spPr>
          <a:xfrm>
            <a:off x="3132000" y="4076640"/>
            <a:ext cx="71640" cy="792360"/>
          </a:xfrm>
          <a:prstGeom prst="downArrow">
            <a:avLst>
              <a:gd name="adj1" fmla="val 50000"/>
              <a:gd name="adj2" fmla="val 49874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Стрелка: вниз 10"/>
          <p:cNvSpPr/>
          <p:nvPr/>
        </p:nvSpPr>
        <p:spPr>
          <a:xfrm>
            <a:off x="6443640" y="4054320"/>
            <a:ext cx="73080" cy="79236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Прямоугольник: скругленные углы 11"/>
          <p:cNvSpPr/>
          <p:nvPr/>
        </p:nvSpPr>
        <p:spPr>
          <a:xfrm>
            <a:off x="1258920" y="4938840"/>
            <a:ext cx="3637080" cy="39348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трос, ученик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Прямоугольник: скругленные углы 12"/>
          <p:cNvSpPr/>
          <p:nvPr/>
        </p:nvSpPr>
        <p:spPr>
          <a:xfrm>
            <a:off x="4997520" y="4925880"/>
            <a:ext cx="3636720" cy="39240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нь, работ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ФИЧЕСКИЙ АЛГОРИТМ ПО ТЕМЕ «ИМЯ СУЩЕСТВИТЕЛЬНОЕ»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2" name="Прямоугольник: скругленные углы 4"/>
          <p:cNvSpPr/>
          <p:nvPr/>
        </p:nvSpPr>
        <p:spPr>
          <a:xfrm>
            <a:off x="1258920" y="2060640"/>
            <a:ext cx="6913440" cy="53640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ЕНА СУЩЕСТВИТЕЛЬНЫЕ БЫВАЮ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Стрелка: вниз 5"/>
          <p:cNvSpPr/>
          <p:nvPr/>
        </p:nvSpPr>
        <p:spPr>
          <a:xfrm>
            <a:off x="1835280" y="2708280"/>
            <a:ext cx="477720" cy="115236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Стрелка: вниз 6"/>
          <p:cNvSpPr/>
          <p:nvPr/>
        </p:nvSpPr>
        <p:spPr>
          <a:xfrm>
            <a:off x="4389480" y="2708280"/>
            <a:ext cx="477720" cy="115236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Стрелка: вниз 7"/>
          <p:cNvSpPr/>
          <p:nvPr/>
        </p:nvSpPr>
        <p:spPr>
          <a:xfrm>
            <a:off x="6945480" y="2708280"/>
            <a:ext cx="477720" cy="115236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Прямоугольник: скругленные углы 8"/>
          <p:cNvSpPr/>
          <p:nvPr/>
        </p:nvSpPr>
        <p:spPr>
          <a:xfrm>
            <a:off x="993600" y="3927600"/>
            <a:ext cx="2303640" cy="53640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ЖСКОГО РОД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ОН МОЙ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Прямоугольник: скругленные углы 9"/>
          <p:cNvSpPr/>
          <p:nvPr/>
        </p:nvSpPr>
        <p:spPr>
          <a:xfrm>
            <a:off x="3562200" y="3889440"/>
            <a:ext cx="2303640" cy="57456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ЕНСКОГО РОДА (ОНА МОЯ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Прямоугольник: скругленные углы 10"/>
          <p:cNvSpPr/>
          <p:nvPr/>
        </p:nvSpPr>
        <p:spPr>
          <a:xfrm>
            <a:off x="6172200" y="3905280"/>
            <a:ext cx="2271600" cy="57636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ЕДНЕГО РОДА (ОНО МОЯ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Стрелка: вниз 11"/>
          <p:cNvSpPr/>
          <p:nvPr/>
        </p:nvSpPr>
        <p:spPr>
          <a:xfrm>
            <a:off x="2084400" y="4552920"/>
            <a:ext cx="71280" cy="792360"/>
          </a:xfrm>
          <a:prstGeom prst="downArrow">
            <a:avLst>
              <a:gd name="adj1" fmla="val 50000"/>
              <a:gd name="adj2" fmla="val 50126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Стрелка: вниз 12"/>
          <p:cNvSpPr/>
          <p:nvPr/>
        </p:nvSpPr>
        <p:spPr>
          <a:xfrm>
            <a:off x="4678200" y="4552920"/>
            <a:ext cx="71640" cy="792360"/>
          </a:xfrm>
          <a:prstGeom prst="downArrow">
            <a:avLst>
              <a:gd name="adj1" fmla="val 50000"/>
              <a:gd name="adj2" fmla="val 49874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Стрелка: вниз 13"/>
          <p:cNvSpPr/>
          <p:nvPr/>
        </p:nvSpPr>
        <p:spPr>
          <a:xfrm>
            <a:off x="7236000" y="4552920"/>
            <a:ext cx="72720" cy="792360"/>
          </a:xfrm>
          <a:prstGeom prst="downArrow">
            <a:avLst>
              <a:gd name="adj1" fmla="val 50000"/>
              <a:gd name="adj2" fmla="val 50243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Прямоугольник: скругленные углы 14"/>
          <p:cNvSpPr/>
          <p:nvPr/>
        </p:nvSpPr>
        <p:spPr>
          <a:xfrm>
            <a:off x="1028880" y="5423040"/>
            <a:ext cx="2232000" cy="39204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УГ, ДОМ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Прямоугольник: скругленные углы 15"/>
          <p:cNvSpPr/>
          <p:nvPr/>
        </p:nvSpPr>
        <p:spPr>
          <a:xfrm>
            <a:off x="3714840" y="5415120"/>
            <a:ext cx="2232000" cy="39204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НИГА, КОМНАТ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Прямоугольник: скругленные углы 16"/>
          <p:cNvSpPr/>
          <p:nvPr/>
        </p:nvSpPr>
        <p:spPr>
          <a:xfrm>
            <a:off x="6240600" y="5405400"/>
            <a:ext cx="2232000" cy="39204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cap="rnd" w="2232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ТРО, НЕБО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7:35:53Z</dcterms:created>
  <dc:creator>Елена</dc:creator>
  <dc:description/>
  <dc:language>en-US</dc:language>
  <cp:lastModifiedBy>Сс</cp:lastModifiedBy>
  <cp:lastPrinted>2023-11-21T06:05:41Z</cp:lastPrinted>
  <dcterms:modified xsi:type="dcterms:W3CDTF">2023-11-21T06:07:47Z</dcterms:modified>
  <cp:revision>132</cp:revision>
  <dc:subject/>
  <dc:title>Глушенко Елена Николаевна, учитель русского языка и литературы, МОУ СОШ № 14 с. Орловки буденновского района</dc:title>
</cp:coreProperties>
</file>