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D20-87F5-4508-BF43-8690D6C7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AC8-56E2-4321-83D7-B865F88E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FB7-7C66-4565-A881-529EB9C1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597-41A3-42A2-8C42-06518C28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BBB-0235-4F97-8663-6E4D438F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33B-BE54-4096-AB4D-A9015E99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03D-D5E8-497F-BCBD-56B30FF8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6F7-D9E6-4FEB-A0A5-8481D5D7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06E-9CF7-4943-8BC4-566C34E6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63A-8F5C-4251-A484-8FBBFC6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914-299C-4198-AD04-F9AC6B62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9EB-6919-4CC2-A72F-0BEE50AF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4607-C9F5-4A7D-B77E-176954769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commons.wikimedia.org/wiki/File:Vasnetsov_Alenushka.jpg%3Fuselang=ru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Связной\Pictures\иллюстрации к сказкам\skazochnii_fon_240x320_1_0019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е произведения худож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1829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40672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ктор Васнец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Алён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Vasnetsov Alenushk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0280"/>
            <a:ext cx="446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1829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43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ван-Царевич и серый вол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Связной\Pictures\иллюстрации к сказкам\444px-Wiktor_Michajlowitsch_Wassnezow_004.jpg"/>
          <p:cNvPicPr/>
          <p:nvPr/>
        </p:nvPicPr>
        <p:blipFill>
          <a:blip r:embed="rId2"/>
          <a:stretch/>
        </p:blipFill>
        <p:spPr>
          <a:xfrm>
            <a:off x="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1829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тязь на распуть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Связной\Pictures\иллюстрации к сказкам\800px-19-v_2h_Vasnetsov.jpg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1829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вер самоле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Связной\Pictures\иллюстрации к сказкам\image001.jpg"/>
          <p:cNvPicPr/>
          <p:nvPr/>
        </p:nvPicPr>
        <p:blipFill>
          <a:blip r:embed="rId2"/>
          <a:stretch/>
        </p:blipFill>
        <p:spPr>
          <a:xfrm>
            <a:off x="250920" y="1490760"/>
            <a:ext cx="86421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31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негурочка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героиня русских народных сказок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Связной\Pictures\иллюстрации к сказкам\image001.jpg"/>
          <p:cNvPicPr/>
          <p:nvPr/>
        </p:nvPicPr>
        <p:blipFill>
          <a:blip r:embed="rId2"/>
          <a:stretch/>
        </p:blipFill>
        <p:spPr>
          <a:xfrm>
            <a:off x="250920" y="193680"/>
            <a:ext cx="444348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31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одним автором знаменитых полотен был М. Врубель его картина «Царевна- Лебед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Связной\Pictures\image002.jpg"/>
          <p:cNvPicPr/>
          <p:nvPr/>
        </p:nvPicPr>
        <p:blipFill>
          <a:blip r:embed="rId2"/>
          <a:stretch/>
        </p:blipFill>
        <p:spPr>
          <a:xfrm>
            <a:off x="339840" y="162000"/>
            <a:ext cx="4376520" cy="64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4:01:01Z</dcterms:created>
  <dc:creator>Связной</dc:creator>
  <dc:description/>
  <dc:language>en-US</dc:language>
  <cp:lastModifiedBy>Связной</cp:lastModifiedBy>
  <dcterms:modified xsi:type="dcterms:W3CDTF">2013-03-12T09:39:43Z</dcterms:modified>
  <cp:revision>14</cp:revision>
  <dc:subject/>
  <dc:title>Слайд 1</dc:title>
</cp:coreProperties>
</file>