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684-85D8-45DF-9819-66C9ECEC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3DB-D197-48F2-86AC-6C33868D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26D-CDDF-4D51-8C71-370F85CF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0A9-BB42-4A10-95DA-4D24A1AF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F46-20B1-4285-99F4-AA3DE365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155-469A-4C5D-983B-D68C18B2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F06-D702-432B-950A-5F2E3A98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9C2B-8A92-440C-9140-10E38DC2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497-0CA9-4021-AA13-B23C17EC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6BD-FF24-48EF-81F9-DD1BE726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34D-D813-47DE-9A59-68DA20D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572-EADE-4433-980C-F9728AC7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2054-151C-4504-A0E3-F90592FA0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commons.wikimedia.org/wiki/File:Vasnetsov_Alenushka.jpg%3Fuselang=ru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Связной\Pictures\иллюстрации к сказкам\skazochnii_fon_240x320_1_0019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очные произведения худож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1829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6720" y="274680"/>
            <a:ext cx="40672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ктор Васнец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Алёнуш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Vasnetsov Alenushk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60280"/>
            <a:ext cx="446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1829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88000" y="274320"/>
            <a:ext cx="43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ван-Царевич и серый волк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Связной\Pictures\иллюстрации к сказкам\444px-Wiktor_Michajlowitsch_Wassnezow_004.jpg"/>
          <p:cNvPicPr/>
          <p:nvPr/>
        </p:nvPicPr>
        <p:blipFill>
          <a:blip r:embed="rId2"/>
          <a:stretch/>
        </p:blipFill>
        <p:spPr>
          <a:xfrm>
            <a:off x="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1829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итязь на распуть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Связной\Pictures\иллюстрации к сказкам\800px-19-v_2h_Vasnetsov.jpg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1829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вер самолет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Связной\Pictures\иллюстрации к сказкам\image001.jpg"/>
          <p:cNvPicPr/>
          <p:nvPr/>
        </p:nvPicPr>
        <p:blipFill>
          <a:blip r:embed="rId2"/>
          <a:stretch/>
        </p:blipFill>
        <p:spPr>
          <a:xfrm>
            <a:off x="250920" y="1490760"/>
            <a:ext cx="86421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31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88000" y="274680"/>
            <a:ext cx="38988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негурочка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героиня русских народных сказок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Связной\Pictures\иллюстрации к сказкам\image001.jpg"/>
          <p:cNvPicPr/>
          <p:nvPr/>
        </p:nvPicPr>
        <p:blipFill>
          <a:blip r:embed="rId2"/>
          <a:stretch/>
        </p:blipFill>
        <p:spPr>
          <a:xfrm>
            <a:off x="250920" y="193680"/>
            <a:ext cx="444348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Связной\Pictures\иллюстрации к сказкам\skazochnii_fon_240x320_1_0019.jpg"/>
          <p:cNvPicPr/>
          <p:nvPr/>
        </p:nvPicPr>
        <p:blipFill>
          <a:blip r:embed="rId1"/>
          <a:srcRect l="0" t="0" r="0" b="31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43280" y="274680"/>
            <a:ext cx="404352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одним автором знаменитых полотен был М. Врубель его картина «Царевна- Лебедь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Связной\Pictures\image002.jpg"/>
          <p:cNvPicPr/>
          <p:nvPr/>
        </p:nvPicPr>
        <p:blipFill>
          <a:blip r:embed="rId2"/>
          <a:stretch/>
        </p:blipFill>
        <p:spPr>
          <a:xfrm>
            <a:off x="339840" y="162000"/>
            <a:ext cx="4376520" cy="64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14:01:01Z</dcterms:created>
  <dc:creator>Связной</dc:creator>
  <dc:description/>
  <dc:language>en-US</dc:language>
  <cp:lastModifiedBy>Связной</cp:lastModifiedBy>
  <dcterms:modified xsi:type="dcterms:W3CDTF">2013-03-12T09:39:43Z</dcterms:modified>
  <cp:revision>14</cp:revision>
  <dc:subject/>
  <dc:title>Слайд 1</dc:title>
</cp:coreProperties>
</file>