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F8F5-7D27-4D19-918F-10EAF0E8F20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0074-DCDE-44F7-BE01-8BF8B0DAA706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7891-FD87-4501-99DE-A20F6C508413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963E-8BD6-4A88-89C5-837EF6F61B11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B5EC-047C-4F6E-A4C3-D53FFD289B50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816C-1F49-4FA3-9E7E-2AD4D3B61104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0429-BD53-44C6-B76C-7DACF51EDD97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CC18-4BCA-48D5-B77B-E84025F63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71F5-E522-4C2E-97B3-1B658BDD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C466-3376-4F05-8A6D-EF635AEEE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E088-E4A4-4500-8F62-9671530BD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B714-9C25-465D-81C9-6FC337A42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C41E-BDC0-4171-99A8-A9D7F535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800C-2C41-4E0F-9A92-E2059C69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239F-3377-4194-8813-75431D4D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0CCC3-3000-4586-BE85-0A5D2EBD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0409-C327-4F02-9BA5-90D6E9A8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4623-B9A4-4BD5-8133-B9145874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C458-2A00-4657-833B-2C524B4F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EA20-0EDE-439F-9007-474590AB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753A-6607-4EFD-B660-5C87186D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F5E7-BAE6-4A53-A763-752E0CB0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822C-E642-43A4-92CB-06B3675F1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D81C-B00B-4B44-9FE3-77EC69ABE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90F9-0A74-4E7D-B6ED-973D0D0D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9A54-DFA1-4217-A8FC-7F361164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48B6-FEF7-4F3C-947F-740EDC26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44EE-24C2-4D74-AF9C-CD5B1309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C898-7D49-4850-ABA5-FACC21C5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62FC-3BD5-48D2-B0BC-4626105B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389B-1449-4495-BAC8-C6F1C075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DF46-585F-43B3-A318-408038DA5A6C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4962-DD00-4D85-BDB3-1C4F8F98F4C6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13880" y="1071360"/>
            <a:ext cx="79297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Тема: «Моделирование как метод формирования экологической культуры у детей дошкольного возраста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Подготовил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воспитатели Дианова Е.В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Мухаметжанова В.М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3" name="Picture 5" descr="E:\Срабочего стола\САЙТ\Логотип ДОУ.png"/>
          <p:cNvPicPr/>
          <p:nvPr/>
        </p:nvPicPr>
        <p:blipFill>
          <a:blip r:embed="rId1"/>
          <a:stretch/>
        </p:blipFill>
        <p:spPr>
          <a:xfrm>
            <a:off x="1116000" y="3357720"/>
            <a:ext cx="1955880" cy="1942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Times New Roman"/>
                <a:ea typeface="隶书"/>
              </a:rPr>
              <a:t>Предметная модель «Тайга»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192720" cy="4038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f5f9"/>
                </a:solidFill>
                <a:latin typeface="Times New Roman"/>
                <a:ea typeface="隶书"/>
              </a:rPr>
              <a:t>Предметная модель «Байкал»</a:t>
            </a:r>
            <a:endParaRPr b="0" lang="en-US" sz="28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676920" cy="453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f5f9"/>
                </a:solidFill>
                <a:latin typeface="Times New Roman"/>
                <a:ea typeface="隶书"/>
              </a:rPr>
              <a:t>Предметно – схематическая модель</a:t>
            </a:r>
            <a:endParaRPr b="0" lang="en-US" sz="28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108000" y="1700280"/>
            <a:ext cx="2087640" cy="3097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2195640" y="1700280"/>
            <a:ext cx="2222280" cy="3097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"/>
          <p:cNvPicPr/>
          <p:nvPr/>
        </p:nvPicPr>
        <p:blipFill>
          <a:blip r:embed="rId3"/>
          <a:stretch/>
        </p:blipFill>
        <p:spPr>
          <a:xfrm>
            <a:off x="4643280" y="3429000"/>
            <a:ext cx="2232360" cy="3168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/>
          <p:cNvPicPr/>
          <p:nvPr/>
        </p:nvPicPr>
        <p:blipFill>
          <a:blip r:embed="rId4"/>
          <a:stretch/>
        </p:blipFill>
        <p:spPr>
          <a:xfrm>
            <a:off x="6840360" y="3429000"/>
            <a:ext cx="2052720" cy="3166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20560" y="91404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f5f9"/>
                </a:solidFill>
                <a:latin typeface="Times New Roman"/>
                <a:ea typeface="隶书"/>
              </a:rPr>
              <a:t>Графическая модель календаря природы</a:t>
            </a:r>
            <a:endParaRPr b="0" lang="en-US" sz="28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1908000" y="1557360"/>
            <a:ext cx="5400720" cy="5040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C:\Users\User\Desktop\изображение_viber_2023-10-24_17-57-33-506.jpg"/>
          <p:cNvPicPr/>
          <p:nvPr/>
        </p:nvPicPr>
        <p:blipFill>
          <a:blip r:embed="rId1"/>
          <a:stretch/>
        </p:blipFill>
        <p:spPr>
          <a:xfrm>
            <a:off x="826920" y="549360"/>
            <a:ext cx="7561440" cy="6048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0:11:32Z</dcterms:created>
  <dc:creator>Лена</dc:creator>
  <dc:description/>
  <dc:language>en-US</dc:language>
  <cp:lastModifiedBy>Лена</cp:lastModifiedBy>
  <dcterms:modified xsi:type="dcterms:W3CDTF">2024-01-29T03:13:30Z</dcterms:modified>
  <cp:revision>76</cp:revision>
  <dc:subject/>
  <dc:title>Презентация по «Методике экологического образования»</dc:title>
</cp:coreProperties>
</file>