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7B50-1D1C-476C-96EC-DF760E450B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D3D4-198C-425C-ACEA-3A588891D4C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E973-E038-4B4B-8C94-1087B5EA598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0EB9-705D-4244-9FFB-20049F319A9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18B1-82CA-4A88-B81C-0A57FFE53E0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894B-E411-4A19-863A-91978A6ECBA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6DE1-08D5-40D2-9949-D2392A3FCE3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45F-AE3A-412F-876F-390CE3D3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9F4-6165-4CB9-9423-2876312B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843-6DCF-4B69-AF2D-CB82B945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B71-8904-4C2D-8656-E1B5D56B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B201-99D4-4E9D-A39C-D4601EE5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6FB5-A7B6-4FE0-AA1E-36618640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80A6-C356-4D82-AD12-EF0AE219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CD39-CAB3-4DD4-9B1B-6260326C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3E86-0D5A-447D-B30F-C76AFADD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6FCB-6B6A-4BF5-81FB-A9309387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620C-5A96-499D-A69B-B328BB85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361-2ED7-4B6C-ADC0-0DBFB14C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6004-0086-4AC3-B6C3-A78D6F60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CBF9-6C80-435A-BC17-2606AEB6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36B3-DB21-4ED9-A7C1-BF6C7736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28FE-1498-41D6-82D3-35F8FC5E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0A64-566A-4C10-B1E5-8A44E4C0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A62-E8EA-432A-9A5D-306B7498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548-A74E-48F7-9298-1AD22642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E2C-F472-4CC4-BD9C-CAEB5BC2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CBB-9A99-4322-8DC9-D1719277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F60-F45C-4A68-98E7-041E6644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10A-09D7-46B1-8EB5-BD48EA61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BAB-50AD-4246-8BE3-C9DDF9C0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60A9-EA05-400B-ABD9-8D097BE04F11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E936-195D-417F-8481-C8E85AC851E2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13880" y="1071360"/>
            <a:ext cx="79297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Тема: «Моделирование как метод формирования экологической культуры у детей дошкольного возраст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Подготовил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воспитатели Дианова Е.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Мухаметжанова В.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3" name="Picture 5" descr="E:\Срабочего стола\САЙТ\Логотип ДОУ.png"/>
          <p:cNvPicPr/>
          <p:nvPr/>
        </p:nvPicPr>
        <p:blipFill>
          <a:blip r:embed="rId1"/>
          <a:stretch/>
        </p:blipFill>
        <p:spPr>
          <a:xfrm>
            <a:off x="1116000" y="3357720"/>
            <a:ext cx="1955880" cy="194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Times New Roman"/>
                <a:ea typeface="隶书"/>
              </a:rPr>
              <a:t>Предметная модель «Тайга»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192720" cy="403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Times New Roman"/>
                <a:ea typeface="隶书"/>
              </a:rPr>
              <a:t>Предметная модель «Байкал»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676920" cy="453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Times New Roman"/>
                <a:ea typeface="隶书"/>
              </a:rPr>
              <a:t>Предметно – схематическая модель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2087640" cy="3097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2222280" cy="3097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3"/>
          <a:stretch/>
        </p:blipFill>
        <p:spPr>
          <a:xfrm>
            <a:off x="4643280" y="3429000"/>
            <a:ext cx="2232360" cy="3168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4"/>
          <a:stretch/>
        </p:blipFill>
        <p:spPr>
          <a:xfrm>
            <a:off x="6840360" y="3429000"/>
            <a:ext cx="2052720" cy="316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20560" y="91404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Times New Roman"/>
                <a:ea typeface="隶书"/>
              </a:rPr>
              <a:t>Графическая модель календаря природы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400720" cy="504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C:\Users\User\Desktop\изображение_viber_2023-10-24_17-57-33-506.jpg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604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0:11:32Z</dcterms:created>
  <dc:creator>Лена</dc:creator>
  <dc:description/>
  <dc:language>en-US</dc:language>
  <cp:lastModifiedBy>Лена</cp:lastModifiedBy>
  <dcterms:modified xsi:type="dcterms:W3CDTF">2024-01-29T03:13:30Z</dcterms:modified>
  <cp:revision>76</cp:revision>
  <dc:subject/>
  <dc:title>Презентация по «Методике экологического образования»</dc:title>
</cp:coreProperties>
</file>