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4B77-3419-4C89-A6F3-D3E7B2F37BF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3164-CD31-4A9E-9375-AF9E7F8BA295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1729-2FCB-4127-A009-1D2F3C9D3F3E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8C71-FFA6-44FB-86E1-FC94AED71D8F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4339-5110-4008-9BEA-6297924DAFA4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8996-FCC6-408D-AB0A-52C8E6D33DE6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4829-44EC-4E52-BAA0-5CB91A4E8E32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F99D-E670-4B65-9D2F-6062A18C1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8D85-FEEC-492F-AD72-A77AAA17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6735-6667-4A5D-9949-8DE3B36CC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10FF-7130-42B0-B4B1-B513DFE09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8ACDA-C3E4-44FB-8160-A063D8CE6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2A6B-2668-4A6D-B0EB-A82E8E0C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5919-D8DE-40AE-B734-EAFAB3C0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1FCB-22DB-4FB4-A4BC-41F017D9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5A0B-B4D6-436F-BAEB-93016E87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BBE8-26A4-4AAD-9360-3455CD02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FC2CB-A106-48DC-8CA3-0D02628C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E04A-0D1F-4145-AF0F-EBD32A70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E45E-EB65-4AC6-9A2D-D3AC582C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4793-2A4C-422C-88F8-DD584179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C13B-3EEE-4CDA-B436-086A7E67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C460-E14C-45C2-A87F-48AEAD0FE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2D34-D863-4AE7-9E0C-9A7E82373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607F-1CCA-41B7-BEA6-D4F8DB9D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5B06-5A88-465F-B9AD-C2B514EE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7F83-23E0-4930-B959-B171D9B6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71AB-8F0B-431A-B94A-5AD10FA6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B3B5-1CB1-482E-AC13-FEE35D59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5565-EF1D-40FC-859D-98133EB6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16EE-554C-4977-9E40-1DE2D37E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F798-D2A3-4EF8-AD4C-FC6C4534490F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5E9F-5ED5-4046-8BC4-B027A43ED90B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13880" y="1071360"/>
            <a:ext cx="79297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Тема: «Моделирование как метод формирования экологической культуры у детей дошкольного возраста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Подготовил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воспитатели Дианова Е.В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Мухаметжанова В.М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3" name="Picture 5" descr="E:\Срабочего стола\САЙТ\Логотип ДОУ.png"/>
          <p:cNvPicPr/>
          <p:nvPr/>
        </p:nvPicPr>
        <p:blipFill>
          <a:blip r:embed="rId1"/>
          <a:stretch/>
        </p:blipFill>
        <p:spPr>
          <a:xfrm>
            <a:off x="1116000" y="3357720"/>
            <a:ext cx="1955880" cy="1942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Times New Roman"/>
                <a:ea typeface="隶书"/>
              </a:rPr>
              <a:t>Предметная модель «Тайга»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192720" cy="4038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f5f9"/>
                </a:solidFill>
                <a:latin typeface="Times New Roman"/>
                <a:ea typeface="隶书"/>
              </a:rPr>
              <a:t>Предметная модель «Байкал»</a:t>
            </a:r>
            <a:endParaRPr b="0" lang="en-US" sz="28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676920" cy="453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f5f9"/>
                </a:solidFill>
                <a:latin typeface="Times New Roman"/>
                <a:ea typeface="隶书"/>
              </a:rPr>
              <a:t>Предметно – схематическая модель</a:t>
            </a:r>
            <a:endParaRPr b="0" lang="en-US" sz="28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108000" y="1700280"/>
            <a:ext cx="2087640" cy="3097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2195640" y="1700280"/>
            <a:ext cx="2222280" cy="3097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"/>
          <p:cNvPicPr/>
          <p:nvPr/>
        </p:nvPicPr>
        <p:blipFill>
          <a:blip r:embed="rId3"/>
          <a:stretch/>
        </p:blipFill>
        <p:spPr>
          <a:xfrm>
            <a:off x="4643280" y="3429000"/>
            <a:ext cx="2232360" cy="3168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"/>
          <p:cNvPicPr/>
          <p:nvPr/>
        </p:nvPicPr>
        <p:blipFill>
          <a:blip r:embed="rId4"/>
          <a:stretch/>
        </p:blipFill>
        <p:spPr>
          <a:xfrm>
            <a:off x="6840360" y="3429000"/>
            <a:ext cx="2052720" cy="3166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20560" y="91404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f5f9"/>
                </a:solidFill>
                <a:latin typeface="Times New Roman"/>
                <a:ea typeface="隶书"/>
              </a:rPr>
              <a:t>Графическая модель календаря природы</a:t>
            </a:r>
            <a:endParaRPr b="0" lang="en-US" sz="28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1908000" y="1557360"/>
            <a:ext cx="5400720" cy="5040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C:\Users\User\Desktop\изображение_viber_2023-10-24_17-57-33-506.jpg"/>
          <p:cNvPicPr/>
          <p:nvPr/>
        </p:nvPicPr>
        <p:blipFill>
          <a:blip r:embed="rId1"/>
          <a:stretch/>
        </p:blipFill>
        <p:spPr>
          <a:xfrm>
            <a:off x="826920" y="549360"/>
            <a:ext cx="7561440" cy="6048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0:11:32Z</dcterms:created>
  <dc:creator>Лена</dc:creator>
  <dc:description/>
  <dc:language>en-US</dc:language>
  <cp:lastModifiedBy>Лена</cp:lastModifiedBy>
  <dcterms:modified xsi:type="dcterms:W3CDTF">2024-01-29T03:13:30Z</dcterms:modified>
  <cp:revision>76</cp:revision>
  <dc:subject/>
  <dc:title>Презентация по «Методике экологического образования»</dc:title>
</cp:coreProperties>
</file>