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4EDD-C2FD-4809-8C3D-691A11C93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A188-DDD1-4EF1-9D63-FA3A90D1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1531-9439-42B3-8B7D-3E2A473EF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B054-F408-4592-96A3-937FB2225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6B75-16F2-4967-8D0D-19601CA4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A550-925D-46B2-947D-7E187E77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F099-FBD7-44D5-A651-CB112670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4CFF-D6B2-48A5-BAE2-0E346680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9C9B-2D93-4A12-AB99-8136D0C7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44A6-7B36-4B1B-A34A-CDA28B5F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79A9-7720-4CD1-BF4F-D0E9CA12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06C9-C644-46FA-AE40-F306696E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D40B-C5C4-454B-97EF-C51C58BB9B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640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етодология проектной деятель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2484360" y="6394320"/>
            <a:ext cx="439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афедра теории и практики управления образованием НИ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1" descr=""/>
          <p:cNvPicPr/>
          <p:nvPr/>
        </p:nvPicPr>
        <p:blipFill>
          <a:blip r:embed="rId1"/>
          <a:stretch/>
        </p:blipFill>
        <p:spPr>
          <a:xfrm>
            <a:off x="2268360" y="1944720"/>
            <a:ext cx="436428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задаваемые внешней (по отношению к данному субъекту деятельности) средо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критерии оценки эффективнос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достижения результата (например, качества обучения и воспитания учащихся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ятые в обществе нормы (правовые, этические, гигиенические и т.п.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ципы деятель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50920" y="333360"/>
            <a:ext cx="86421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Calibri"/>
              </a:rPr>
              <a:t>Условия деятельности 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(материально-технические, финансовые, информационные и т.п.) будут относиться и к внешней среде, и в то же время могут входить в состав самой деятельности, учитывая возможности активного влияния субъекта на создание условий своей деятельности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(например, если не хватает средств на осуществление какого-либо проекта, можно попытаться найти спонсоров - заинтересованные организации, которые его профинансируют и т.д.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Методология как учени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 организации деятельности обобщает проверенные в широкой общественно-исторической практике рациональные формы организации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различные исторические периоды развития цивилизации имели место разные типы форм организации деятельности, которые в современной литературе получили название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рганизационной культур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90792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00000" y="1052640"/>
          <a:ext cx="7488360" cy="5257800"/>
        </p:xfrm>
        <a:graphic>
          <a:graphicData uri="http://schemas.openxmlformats.org/drawingml/2006/table">
            <a:tbl>
              <a:tblPr/>
              <a:tblGrid>
                <a:gridCol w="2298960"/>
                <a:gridCol w="2533680"/>
                <a:gridCol w="2655720"/>
              </a:tblGrid>
              <a:tr h="865080">
                <a:tc>
                  <a:txBody>
                    <a:bodyPr lIns="6480" rIns="6480" tIns="0" bIns="0" anchor="ctr">
                      <a:noAutofit/>
                    </a:bodyPr>
                    <a:p>
                      <a:pPr marL="584280" indent="-520920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рганизационные типы культу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пособы нормирования и трансляции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ормы общественного устройства, воспроизводящие спосо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8520">
                <a:tc>
                  <a:txBody>
                    <a:bodyPr lIns="6480" rIns="6480" tIns="0" bIns="0" anchor="ctr">
                      <a:noAutofit/>
                    </a:bodyPr>
                    <a:p>
                      <a:pPr marL="584280" indent="-520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84280" indent="-520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радицион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marL="63360" indent="44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ф и риту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мунальные группы, формируемые по принципу «свой-чужой» на отноше­ниях ро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4200">
                <a:tc>
                  <a:txBody>
                    <a:bodyPr lIns="6480" rIns="6480" tIns="0" bIns="0" anchor="ctr">
                      <a:noAutofit/>
                    </a:bodyPr>
                    <a:p>
                      <a:pPr marL="584280" indent="-520920">
                        <a:lnSpc>
                          <a:spcPts val="998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рпоративно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84280" indent="-520920">
                        <a:lnSpc>
                          <a:spcPts val="998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меслен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marL="1440" indent="-1440" algn="ctr"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ец и рецепт его воссоз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порация, имеющая формально иерархическое строение - мастер, подмастерье, уче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65240">
                <a:tc>
                  <a:txBody>
                    <a:bodyPr lIns="6480" rIns="6480" tIns="0" bIns="0" anchor="ctr">
                      <a:noAutofit/>
                    </a:bodyPr>
                    <a:p>
                      <a:pPr marL="584280" indent="-520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84280" indent="-520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фессион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marL="1440" indent="-1440"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оретические знания в форме тек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ессиональная органи­зация, построенная на принципе отнологических отнош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74760">
                <a:tc>
                  <a:txBody>
                    <a:bodyPr lIns="6480" rIns="6480" tIns="0" bIns="0" anchor="ctr">
                      <a:noAutofit/>
                    </a:bodyPr>
                    <a:p>
                      <a:pPr marL="584280" indent="-520920">
                        <a:lnSpc>
                          <a:spcPts val="998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84280" indent="-520920">
                        <a:lnSpc>
                          <a:spcPts val="998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ектно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84280" indent="-520920">
                        <a:lnSpc>
                          <a:spcPts val="998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хнологиче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marL="1422360" indent="449280">
                        <a:lnSpc>
                          <a:spcPts val="998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422360" indent="449280" algn="ctr">
                        <a:lnSpc>
                          <a:spcPts val="1049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ы, программы и технолог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хнологическое общество, структурированное по принципу коммуникативности и профессиональных отнош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1" name="TextBox 3"/>
          <p:cNvSpPr/>
          <p:nvPr/>
        </p:nvSpPr>
        <p:spPr>
          <a:xfrm>
            <a:off x="928800" y="55728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Характеристика типов организационной культуры (по В.А. Никитину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ек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это ограниченное во времени целенаправленное изменение отдельной системы с установленными требованиями к качеству результатов, возможными рамками расхода средств и ресурсов и специфической организацией» (Новиков Д.А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2395440" y="3573360"/>
            <a:ext cx="40989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Система классификаций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Тип проект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: технический, организационный, экономический, социальный, образовательный, смешанны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Класс проект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: монопроект, мультипроект, мегапроект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Монопроект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- это отдельный проект различного типа, вида и масштаб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Мультипроект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- это комплексный проект, состоящий из ряда монопроектов и требующий применения многопроектного управле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Мегапроект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- целевые программы развития регионов, отраслей и др. образований, включающие в свой состав ряд моно- и мультипроект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рупные проекты принято называть программа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лительность проек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краткосрочные (до 3-х лет), среднесрочные (от 3-х до 5-ти лет), долгосрочные (свыше 5-ти лет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ложность проек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простые, сложные, очень сложны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ид проек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инвестиционный, инновационный, образовательный, научно-исследовательский, учебный, смешанн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ная совокупность ступеней развития образует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жизненный цикл проек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Жизненный цикл принято разделять на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фаз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фазы на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тад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стадии на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этап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ектирова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это начальная фаза про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бая продуктивная (инновационная) деятельность, любой проект требуют своего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целеполага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проектир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3132000" y="3141720"/>
            <a:ext cx="223704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ехнолог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это система форм, методов и средств решения поставленной зада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бой проект реализуется определенной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овокупностью технологи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жнейшую роль в организации продуктивной деятельности играет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постоянный анализ целей, задач процесса, результа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ект строится на триединстве его фаз: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фазы проектирования – технологической фазы – рефлексивной фаз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Фаза проектирования включает следующие стади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нцептуальна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Состоит из этапов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 выявление противореч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 формулирование проблем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определение проблематик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определение цел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 выбор критерие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делирова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Состоит из этапов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остроение моделе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оптимизация моделей; выбор модели (принятие решения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нструирования систем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Состоит из этапов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декомпозиц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агрегирова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исследование условий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остроение программ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4479840" y="4437000"/>
            <a:ext cx="466560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 курс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дать слушателям ряд практических советов по планированию и организации инновационной деятельности в образовании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в логике проекто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как завершенных циклов осуществления педагогических, образовательных инноваций на любом уровне - от отдельного «нетрадиционного» урока до реформирования всей системы образования в орган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сновная цель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формирование проектной культуры руководителя образовательной орган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заимосвязь групп процес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Group 3"/>
          <p:cNvGrpSpPr/>
          <p:nvPr/>
        </p:nvGrpSpPr>
        <p:grpSpPr>
          <a:xfrm>
            <a:off x="971640" y="1494000"/>
            <a:ext cx="7200720" cy="4397040"/>
            <a:chOff x="971640" y="1494000"/>
            <a:chExt cx="7200720" cy="4397040"/>
          </a:xfrm>
        </p:grpSpPr>
        <p:sp>
          <p:nvSpPr>
            <p:cNvPr id="73" name="Oval 4"/>
            <p:cNvSpPr/>
            <p:nvPr/>
          </p:nvSpPr>
          <p:spPr>
            <a:xfrm>
              <a:off x="971640" y="1494000"/>
              <a:ext cx="2775240" cy="10260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Text Box 5"/>
            <p:cNvSpPr/>
            <p:nvPr/>
          </p:nvSpPr>
          <p:spPr>
            <a:xfrm>
              <a:off x="1289520" y="1730520"/>
              <a:ext cx="21481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Процесс инициаци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Oval 6"/>
            <p:cNvSpPr/>
            <p:nvPr/>
          </p:nvSpPr>
          <p:spPr>
            <a:xfrm>
              <a:off x="1031760" y="3088440"/>
              <a:ext cx="2775240" cy="10260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Text Box 7"/>
            <p:cNvSpPr/>
            <p:nvPr/>
          </p:nvSpPr>
          <p:spPr>
            <a:xfrm>
              <a:off x="1349640" y="3325320"/>
              <a:ext cx="21481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Процесс контроля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Oval 8"/>
            <p:cNvSpPr/>
            <p:nvPr/>
          </p:nvSpPr>
          <p:spPr>
            <a:xfrm>
              <a:off x="5130720" y="3096360"/>
              <a:ext cx="2775240" cy="10260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Text Box 9"/>
            <p:cNvSpPr/>
            <p:nvPr/>
          </p:nvSpPr>
          <p:spPr>
            <a:xfrm>
              <a:off x="5594760" y="3333240"/>
              <a:ext cx="21481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Процесс исполнения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Oval 10"/>
            <p:cNvSpPr/>
            <p:nvPr/>
          </p:nvSpPr>
          <p:spPr>
            <a:xfrm>
              <a:off x="5397120" y="1501560"/>
              <a:ext cx="2775240" cy="10260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Text Box 11"/>
            <p:cNvSpPr/>
            <p:nvPr/>
          </p:nvSpPr>
          <p:spPr>
            <a:xfrm>
              <a:off x="5715000" y="1738440"/>
              <a:ext cx="21481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Процесс планирования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Oval 12"/>
            <p:cNvSpPr/>
            <p:nvPr/>
          </p:nvSpPr>
          <p:spPr>
            <a:xfrm>
              <a:off x="2913480" y="4865040"/>
              <a:ext cx="2775240" cy="10260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 Box 13"/>
            <p:cNvSpPr/>
            <p:nvPr/>
          </p:nvSpPr>
          <p:spPr>
            <a:xfrm>
              <a:off x="3257280" y="5101560"/>
              <a:ext cx="21481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Процесс завершения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3" name="AutoShape 14"/>
            <p:cNvCxnSpPr/>
            <p:nvPr/>
          </p:nvCxnSpPr>
          <p:spPr>
            <a:xfrm>
              <a:off x="3746880" y="1982880"/>
              <a:ext cx="165888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" name="AutoShape 15"/>
            <p:cNvCxnSpPr/>
            <p:nvPr/>
          </p:nvCxnSpPr>
          <p:spPr>
            <a:xfrm flipH="1">
              <a:off x="3634920" y="2251800"/>
              <a:ext cx="1925280" cy="108216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" name="AutoShape 16"/>
            <p:cNvCxnSpPr/>
            <p:nvPr/>
          </p:nvCxnSpPr>
          <p:spPr>
            <a:xfrm>
              <a:off x="3763800" y="3467160"/>
              <a:ext cx="1384200" cy="1584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" name="AutoShape 17"/>
            <p:cNvCxnSpPr/>
            <p:nvPr/>
          </p:nvCxnSpPr>
          <p:spPr>
            <a:xfrm flipH="1">
              <a:off x="3763440" y="3719880"/>
              <a:ext cx="138420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7" name="AutoShape 18"/>
            <p:cNvCxnSpPr/>
            <p:nvPr/>
          </p:nvCxnSpPr>
          <p:spPr>
            <a:xfrm>
              <a:off x="2964600" y="4067640"/>
              <a:ext cx="851400" cy="8452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ектирование на концептуальной стадии начинается с этап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ыявления противореч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что мешает в практике обучения, воспитания достичь высоких результатов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тальный анализ наличной ситуации позволяет выявить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омплекс противоречи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Среди них надо выделить основное, главное звено, которое составляе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облемную ситуацию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т.е. такую ситуацию, когда неудовлетворительное состояние дел уже осознано, но пока неясно, что следует сделать для его измен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ле выявления проблемной ситуации начинается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ормулирование проблем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бы из проблемной ситуации сформулировать проблему, нужн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едущая иде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6546960" y="5180040"/>
            <a:ext cx="260352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Для определения проблематики необходимо охватить весь круг участников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1. Участников, принимающих решения, т.е. тех, от полномочий которых непосредственно зависит решение проблемы (руководителей образовательного учреждения, работников органов управления образованием и т.д.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2. Активных участников, чьи действия (содействия) потребуются при решении проблем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3. Пассивных по отношению к решаемой проблеме участников, на ком скажутся (положительным или отрицательным образом) последствия решения проблем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4. Участников с возможным негативным отношением к решению проблемы, которые могут предпринять враждебные действ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блемати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это ответ на вопрос: какие существующие обстоятельства и прошлый опыт - как положительный, так и отрицательный - заставляют именно этих участников, именно в данной культурной среде, включающей именно данные ценности, именно в данный момент воспринимать данное состояние дел как пробл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7188120" y="4197240"/>
            <a:ext cx="197496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атегия проекта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пирамида проект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0" descr=""/>
          <p:cNvPicPr/>
          <p:nvPr/>
        </p:nvPicPr>
        <p:blipFill>
          <a:blip r:embed="rId1"/>
          <a:stretch/>
        </p:blipFill>
        <p:spPr>
          <a:xfrm>
            <a:off x="378000" y="1717560"/>
            <a:ext cx="82278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Определение цел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ледующий этап концептуальной стадии проектирования - на основе сформулированной проблемы и установленной проблематики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определяется цель проектирования системы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в частности, педагогической, образовательной системы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 данном важнейшем этапе определяется,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что надо сделать для снятия проблемы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- все последующие стадии и этапы проектирования будут определять - как это сделат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сновная трудность определения цели заключается в том, что, как уже говорилось,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цель является как бы антиподом проблемы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ыбор критерие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держание вопроса перехода от целей к критериям становится ясным, если рассматривать критерии как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количественные модели качественных целей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т критериев требуется большее соответствие целям, сходство с ними. Но в то же время критерии не могут полностью совпадать с целями, поскольку они фиксируются по-разному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Цели просто называются, а критерии должны быть выражены в тех или иных шкалах измере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етодология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это учение об организации деятельност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еловеческая деятельность может разделяться на деятельность 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репродуктивную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продуктивную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5253120" y="4221000"/>
            <a:ext cx="38908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Calibri"/>
              </a:rPr>
              <a:t>Репродуктивная деятельность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является слепком, копией с деятельности другого человека, либо копией своей собственной деятельности, освоенной в предшествующем опыте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Calibri"/>
              </a:rPr>
              <a:t>Продуктивная, инновационная деятельность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, направленная на получение объективно нового или субъективно нового результата. Инновационная деятельность руководителя ОО может быть направлена как на объективно новый, так и на субъективно новый (для данного образовательного учреждения) результат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лучае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дуктивной деятельност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возникает необходимость ее организации, т.е. применения методолог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сс осуществления деятельности мы будем рассматривать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 рамках проек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реализуемого в определенной временной последовательности по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фазам, стадиям и этапа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временная структура организации деятельности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вершенность цикла деятельности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(проекта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определяется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тремя фазам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фаза проектировани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результатом которой является построенная модель создаваемой педагогической (образовательной) системы и план ее реализаци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- технологическая фаз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результатом которой является реализация системы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- рефлексивная фаз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результатом которой является оценка реализованной системы и определение необходимости либо ее дальнейшей коррекции, либо «запуска» нового проект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занимает особое место в структуре деятельности. Главным является вопрос -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кто дает цель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определяется самим субъектом, и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процесс целеполагани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становится довольно сложным процессом, имеющим свои собственные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стадии и этапы, методы и средств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3276720" y="1197000"/>
            <a:ext cx="19746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Управле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рассматривается как элемент, функция организованных систем различной природы: социальных, технических, обеспечивающая сохранение их определенной структуры, поддержание режима деятельности, реализацию программы, цели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Коллективная деятельность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возможна без создания определенного порядка, разделения труда, установления места и функций каждого человека в коллективе, осуществляемых с помощью управления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6732720" y="5319720"/>
            <a:ext cx="24177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68360" y="476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нятие среды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вляется важнейшей категорией системного анализа, который рассматривает, в частности, человеческую деятельность как сложную систем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ред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объекты/субъекты, ее составляющие, могут быть по отношению к системе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дружественным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онкурентным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раждебными ил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безразличны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5724360" y="3716280"/>
            <a:ext cx="284328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7T15:17:05Z</dcterms:created>
  <dc:creator>User</dc:creator>
  <dc:description/>
  <dc:language>en-US</dc:language>
  <cp:lastModifiedBy>User</cp:lastModifiedBy>
  <dcterms:modified xsi:type="dcterms:W3CDTF">2024-01-31T13:09:44Z</dcterms:modified>
  <cp:revision>143</cp:revision>
  <dc:subject/>
  <dc:title>Управленческая деятельность руководителя образовательной организации</dc:title>
</cp:coreProperties>
</file>