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E60-12B7-4A90-850D-00367468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6DE-0D56-4F12-B103-5AE5767C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3D5-A238-49DC-B3E8-36152595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3D8-50C5-4325-9954-44145550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743-7D94-44B0-A24D-1A8E9B9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897-ED54-4F0D-A5AE-935D2D8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C49-8283-4799-9B23-D3D280A2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393-F8AA-41DA-80C1-F5AF6C16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070-9163-48EE-8AB5-37C23F82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3FD-FA76-4B81-A70F-D040623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6DB-BF7B-4770-93C9-B72C3CE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F94-8ECB-4382-90EE-98AF49D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6FA-1230-4262-9D92-30E03FEAA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484360" y="6394320"/>
            <a:ext cx="43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федра теории и практики управления образованием Н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268360" y="1944720"/>
            <a:ext cx="43642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даваемые внешней (по отношению к данному субъекту деятельности) средо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стижения результата (например, качества обучения и воспитания учащих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ые в обществе нормы (правовые, этические, гигиенические и т.п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ловия деятельности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материально-технические, финансовые, информационные и т.п.) будут относиться и к внешней среде, и в то же время могут входить в состав самой деятельности, учитывая возможности активного влияния субъекта на создание условий своей деятельност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например, если не хватает средств на осуществление какого-либо проекта, можно попытаться найти спонсоров - заинтересованные организации, которые его профинансируют и т.д.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етодология как у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обобщает проверенные в широкой общественно-исторической практике рациональные формы организаци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зличные исторические периоды развития цивилизации имели место разные типы форм организации деятельности, которые в современной литературе получили назван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рганизационной культу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00000" y="1052640"/>
          <a:ext cx="7488360" cy="5257800"/>
        </p:xfrm>
        <a:graphic>
          <a:graphicData uri="http://schemas.openxmlformats.org/drawingml/2006/table">
            <a:tbl>
              <a:tblPr/>
              <a:tblGrid>
                <a:gridCol w="2298960"/>
                <a:gridCol w="2533680"/>
                <a:gridCol w="2655720"/>
              </a:tblGrid>
              <a:tr h="86508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онные типы культ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нормирования и трансляции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ы общественного устройства, воспроизводящие спосо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852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дицио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63360" indent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ф и риту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альные группы, формируемые по принципу «свой-чужой» на отноше­ниях р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420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рпоратив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месл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и рецепт его воссоз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порация, имеющая формально иерархическое строение - мастер, подмастерье,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524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есс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40" indent="-1440"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знания в форме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ая органи­зация, построенная на принципе отнологически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4760">
                <a:tc>
                  <a:txBody>
                    <a:bodyPr lIns="6480" rIns="6480" tIns="0" bIns="0" anchor="ctr">
                      <a:noAutofit/>
                    </a:bodyPr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ектно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84280" indent="-520920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хнолог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marL="1422360" indent="449280">
                        <a:lnSpc>
                          <a:spcPts val="998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422360" indent="449280" algn="ctr">
                        <a:lnSpc>
                          <a:spcPts val="1049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ы, программы и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ое общество, структурированное по принципу коммуникативности и профессиональ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1" name="TextBox 3"/>
          <p:cNvSpPr/>
          <p:nvPr/>
        </p:nvSpPr>
        <p:spPr>
          <a:xfrm>
            <a:off x="928800" y="557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актеристика типов организационной культуры (по В.А. Никитин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граниченное во времени целенаправленное изменение отдельной системы с установленными требованиями к качеству результатов, возможными рамками расхода средств и ресурсов и специфической организацией» (Новиков Д.А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395440" y="3573360"/>
            <a:ext cx="4098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истема классификац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Тип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технический, организационный, экономический, социальный, образовательный, смешан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Класс проек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монопроект, мультипроект, мегапроек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оно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отдельный проект различного типа, вида и масштаб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ульти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это комплексный проект, состоящий из ряда монопроектов и требующий применения многопроектного упр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гапроек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целевые программы развития регионов, отраслей и др. образований, включающие в свой состав ряд моно- и мультипроек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рупные проекты принято называть программ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итель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аткосрочные (до 3-х лет), среднесрочные (от 3-х до 5-ти лет), долгосрочные (свыше 5-ти ле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ожность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стые, сложные, очень слож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ид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инвестиционный, инновационный, образовательный, научно-исследовательский, учебный, смеша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ная совокупность ступеней развития образу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изненный цикл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Жизненный цикл принято разделять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фазы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тадии н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начальная фаза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ая продуктивная (инновационная) деятельность, любой проект требуют своег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еполаг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оект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2237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система форм, методов и средств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й проект реализуется определенно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овокупностью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йшую роль в организации продуктивной деятельности играе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остоянный анализ целей, задач процесса, результ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строится на триединстве его фаз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проектирования – технологической фазы – рефлексивной фа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аза проектирования включает следующие стади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цептуаль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явление противореч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формулирование пробле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проблема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ределение цел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 выбор критери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делир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мод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птимизация моделей; выбор модели (принятие реше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струирования сис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остоит из этап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екомпози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грег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сследование услов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строение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479840" y="4437000"/>
            <a:ext cx="4665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кур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дать слушателям ряд практических советов по планированию и организации инновационной деятельности в образовани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 логике проек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 завершенных циклов осуществления педагогических, образовательных инноваций на любом уровне - от отдельного «нетрадиционного» урока до реформирования всей системы образования в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ая цел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ормирование проектной культуры руководителя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связь групп процес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971640" y="1494000"/>
            <a:ext cx="7200720" cy="4397040"/>
            <a:chOff x="971640" y="1494000"/>
            <a:chExt cx="7200720" cy="4397040"/>
          </a:xfrm>
        </p:grpSpPr>
        <p:sp>
          <p:nvSpPr>
            <p:cNvPr id="73" name="Oval 4"/>
            <p:cNvSpPr/>
            <p:nvPr/>
          </p:nvSpPr>
          <p:spPr>
            <a:xfrm>
              <a:off x="971640" y="149400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1289520" y="17305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ници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6"/>
            <p:cNvSpPr/>
            <p:nvPr/>
          </p:nvSpPr>
          <p:spPr>
            <a:xfrm>
              <a:off x="1031760" y="30884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7"/>
            <p:cNvSpPr/>
            <p:nvPr/>
          </p:nvSpPr>
          <p:spPr>
            <a:xfrm>
              <a:off x="1349640" y="332532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контрол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8"/>
            <p:cNvSpPr/>
            <p:nvPr/>
          </p:nvSpPr>
          <p:spPr>
            <a:xfrm>
              <a:off x="5130720" y="30963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5594760" y="33332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исполн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5397120" y="150156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5715000" y="173844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планирова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2913480" y="4865040"/>
              <a:ext cx="2775240" cy="10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3257280" y="5101560"/>
              <a:ext cx="21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цесс заверш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3" name="AutoShape 14"/>
            <p:cNvCxnSpPr/>
            <p:nvPr/>
          </p:nvCxnSpPr>
          <p:spPr>
            <a:xfrm>
              <a:off x="3746880" y="1982880"/>
              <a:ext cx="165888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" name="AutoShape 15"/>
            <p:cNvCxnSpPr/>
            <p:nvPr/>
          </p:nvCxnSpPr>
          <p:spPr>
            <a:xfrm flipH="1">
              <a:off x="3634920" y="2251800"/>
              <a:ext cx="1925280" cy="108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16"/>
            <p:cNvCxnSpPr/>
            <p:nvPr/>
          </p:nvCxnSpPr>
          <p:spPr>
            <a:xfrm>
              <a:off x="3763800" y="3467160"/>
              <a:ext cx="1384200" cy="158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AutoShape 17"/>
            <p:cNvCxnSpPr/>
            <p:nvPr/>
          </p:nvCxnSpPr>
          <p:spPr>
            <a:xfrm flipH="1">
              <a:off x="3763440" y="3719880"/>
              <a:ext cx="1384200" cy="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8"/>
            <p:cNvCxnSpPr/>
            <p:nvPr/>
          </p:nvCxnSpPr>
          <p:spPr>
            <a:xfrm>
              <a:off x="2964600" y="4067640"/>
              <a:ext cx="851400" cy="8452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ирование на концептуальной стадии начинается с этап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ения противореч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что мешает в практике обучения, воспитания достичь высоких результат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альный анализ наличной ситуации позволяет выявить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мплекс противореч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реди них надо выделить основное, главное звено, которое со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блемную ситуа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такую ситуацию, когда неудовлетворительное состояние дел уже осознано, но пока неясно, что следует сделать для его изме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выявления проблемной ситуации начин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ирован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из проблемной ситуации сформулировать проблему, нуж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едущая иде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46960" y="5180040"/>
            <a:ext cx="26035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Для определения проблематики необходимо охватить весь круг участнико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Участников, принимающих решения, т.е. тех, от полномочий которых непосредственно зависит решение проблемы (руководителей образовательного учреждения, работников органов управления образованием и т.д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Активных участников, чьи действия (содействия) потребуются при решении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Пассивных по отношению к решаемой проблеме участников, на ком скажутся (положительным или отрицательным образом) последствия решения проблем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Участников с возможным негативным отношением к решению проблемы, которые могут предпринять враждебные 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блемат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ответ на вопрос: какие существующие обстоятельства и прошлый опыт - как положительный, так и отрицательный - заставляют именно этих участников, именно в данной культурной среде, включающей именно данные ценности, именно в данный момент воспринимать данное состояние дел как пробл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188120" y="4197240"/>
            <a:ext cx="19749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я проекта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ирамида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0" descr=""/>
          <p:cNvPicPr/>
          <p:nvPr/>
        </p:nvPicPr>
        <p:blipFill>
          <a:blip r:embed="rId1"/>
          <a:stretch/>
        </p:blipFill>
        <p:spPr>
          <a:xfrm>
            <a:off x="378000" y="1717560"/>
            <a:ext cx="8227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ение це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ующий этап концептуальной стадии проектирования - на основе сформулированной проблемы и установленной проблематик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пределяется цель проектирования сист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частности, педагогической, образовательной систем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данном важнейшем этапе определяется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что надо сделать для снятия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все последующие стадии и этапы проектирования будут определять - как это сдел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трудность определения цели заключается в том, что, как уже говорилось,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 является как бы антиподом проблем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ыбор критери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ание вопроса перехода от целей к критериям становится ясным, если рассматривать критерии как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оличественные модели качественных ц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 критериев требуется большее соответствие целям, сходство с ними. Но в то же время критерии не могут полностью совпадать с целями, поскольку они фиксируются по-разном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и просто называются, а критерии должны быть выражены в тех или иных шкалах измер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то учение об организации деятель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ловеческая деятельность может разделяться на деятельность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дуктивную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253120" y="4221000"/>
            <a:ext cx="3890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Репродуктив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является слепком, копией с деятельности другого человека, либо копией своей собственной деятельности, освоенной в предшествующем опыте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Продуктивная, инновационная деятельность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направленная на получение объективно нового или субъективно нового результата. Инновационная деятельность руководителя ОО может быть направлена как на объективно новый, так и на субъективно новый (для данного образовательного учреждения) результат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ивной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зникает необходимость ее организации, т.е. применения метод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существления деятельности мы будем рассматриват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мках проек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ализуемого в определенной временной последовательности п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азам, стадиям и этап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ременная структура организации деятель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вершенность цикла деятельност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(проекта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тремя фаз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фаза проектиров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построенная модель создаваемой педагогической (образовательной) системы и план ее реал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технологическ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реализация систем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рефлексивная фаз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результатом которой является оценка реализованной системы и определение необходимости либо ее дальнейшей коррекции, либо «запуска» нового проек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нимает особое место в структуре деятельности. Главным является вопрос 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кто дает цел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определяется самим субъектом, и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цесс целеполага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тановится довольно сложным процессом, имеющим свои собственны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тадии и этапы, методы и средст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197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ссматривается как элемент, функция организованных систем различной природы: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ллективная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озможна без создания определенного порядка, разделения труда, установления места и функций каждого человека в коллективе, осуществляемых с помощью управления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732720" y="5319720"/>
            <a:ext cx="2417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нятие сред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важнейшей категорией системного анализа, который рассматривает, в частности, человеческую деятельность как сложную систе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объекты/субъекты, ее составляющие, могут быть по отношению к систе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ружественны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нкурентны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раждебными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разли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843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5:17:05Z</dcterms:created>
  <dc:creator>User</dc:creator>
  <dc:description/>
  <dc:language>en-US</dc:language>
  <cp:lastModifiedBy>User</cp:lastModifiedBy>
  <dcterms:modified xsi:type="dcterms:W3CDTF">2024-01-31T13:09:44Z</dcterms:modified>
  <cp:revision>143</cp:revision>
  <dc:subject/>
  <dc:title>Управленческая деятельность руководителя образовательной организации</dc:title>
</cp:coreProperties>
</file>