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55A-24D8-4386-BF4C-334D7EAA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116-0CAA-42AC-B4AE-8C603B3C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003-255E-4451-A0A0-B2696C73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25D-BE9A-464B-B738-F82882F6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6C6-9AF5-4CAB-BF00-B344D1ED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79B-C01F-4CDB-A235-97D5D950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BC8-86AB-4077-81E4-A174E2B1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340-7CBF-40E8-B80C-A97F354F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A50-AF9D-4B9C-9DE9-4FA980B8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A3E-A8D2-4682-9ADE-D61EBD46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178-E5EF-4A82-8233-EDFBD172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EAA-1FF8-4DB6-BD28-04BEA215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BF2A-81B3-43C2-ABE6-9AF8B7016E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тодология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484360" y="6394320"/>
            <a:ext cx="43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федра теории и практики управления образованием НИ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2268360" y="1944720"/>
            <a:ext cx="43642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задаваемые внешней (по отношению к данному субъекту деятельности) средо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ритерии оценки эффектив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стижения результата (например, качества обучения и воспитания учащихс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ятые в обществе нормы (правовые, этические, гигиенические и т.п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ы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333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Условия деятельности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(материально-технические, финансовые, информационные и т.п.) будут относиться и к внешней среде, и в то же время могут входить в состав самой деятельности, учитывая возможности активного влияния субъекта на создание условий своей деятельности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(например, если не хватает средств на осуществление какого-либо проекта, можно попытаться найти спонсоров - заинтересованные организации, которые его профинансируют и т.д.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етодология как уч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организации деятельности обобщает проверенные в широкой общественно-исторической практике рациональные формы организации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азличные исторические периоды развития цивилизации имели место разные типы форм организации деятельности, которые в современной литературе получили названи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рганизационной культу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00000" y="1052640"/>
          <a:ext cx="7488360" cy="5257800"/>
        </p:xfrm>
        <a:graphic>
          <a:graphicData uri="http://schemas.openxmlformats.org/drawingml/2006/table">
            <a:tbl>
              <a:tblPr/>
              <a:tblGrid>
                <a:gridCol w="2298960"/>
                <a:gridCol w="2533680"/>
                <a:gridCol w="2655720"/>
              </a:tblGrid>
              <a:tr h="86508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ационные типы культу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 нормирования и трансляции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ы общественного устройства, воспроизводящие спосо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852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адицио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marL="63360" indent="44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ф и риту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унальные группы, формируемые по принципу «свой-чужой» на отноше­ниях р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420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рпоративно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месл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marL="1440" indent="-1440"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и рецепт его воссоз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порация, имеющая формально иерархическое строение - мастер, подмастерье,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524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есс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marL="1440" indent="-1440"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оретические знания в форме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ая органи­зация, построенная на принципе отнологических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476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ектно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хнологиче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marL="1422360" indent="449280">
                        <a:lnSpc>
                          <a:spcPts val="998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422360" indent="449280" algn="ctr">
                        <a:lnSpc>
                          <a:spcPts val="1049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ы, программы и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ское общество, структурированное по принципу коммуникативности и профессиональных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1" name="TextBox 3"/>
          <p:cNvSpPr/>
          <p:nvPr/>
        </p:nvSpPr>
        <p:spPr>
          <a:xfrm>
            <a:off x="928800" y="5572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актеристика типов организационной культуры (по В.А. Никитин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ек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ограниченное во времени целенаправленное изменение отдельной системы с установленными требованиями к качеству результатов, возможными рамками расхода средств и ресурсов и специфической организацией» (Новиков Д.А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395440" y="3573360"/>
            <a:ext cx="4098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Система классификаций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Тип проек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технический, организационный, экономический, социальный, образовательный, смешанны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Класс проек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монопроект, мультипроект, мегапроект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онопроек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это отдельный проект различного типа, вида и масштаб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ультипроек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это комплексный проект, состоящий из ряда монопроектов и требующий применения многопроектного управл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егапроек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целевые программы развития регионов, отраслей и др. образований, включающие в свой состав ряд моно- и мультипроект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рупные проекты принято называть программ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лительность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краткосрочные (до 3-х лет), среднесрочные (от 3-х до 5-ти лет), долгосрочные (свыше 5-ти ле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ожность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ростые, сложные, очень слож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ид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инвестиционный, инновационный, образовательный, научно-исследовательский, учебный, смеша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ная совокупность ступеней развития образует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жизненный цикл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Жизненный цикл принято разделять н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аз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фазы н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ад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тадии н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а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ектиров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начальная фаза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ая продуктивная (инновационная) деятельность, любой проект требуют своего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целеполаг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роектир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132000" y="3141720"/>
            <a:ext cx="22370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система форм, методов и средств решения поставленной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й проект реализуется определенной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овокупностью технолог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ейшую роль в организации продуктивной деятельности играет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остоянный анализ целей, задач процесса, результа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строится на триединстве его фаз: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зы проектирования – технологической фазы – рефлексивной фа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Фаза проектирования включает следующие стади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цептуальн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остоит из этап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выявление противореч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формулирование проблем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пределение проблемат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пределение цел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выбор критерие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делир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остоит из этап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строение мод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птимизация моделей; выбор модели (принятие реше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струирования систем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остоит из этап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екомпози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грегир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сследование услов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строение програм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479840" y="4437000"/>
            <a:ext cx="4665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кур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дать слушателям ряд практических советов по планированию и организации инновационной деятельности в образовани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 логике проек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ак завершенных циклов осуществления педагогических, образовательных инноваций на любом уровне - от отдельного «нетрадиционного» урока до реформирования всей системы образования в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ая цел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ормирование проектной культуры руководителя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заимосвязь групп процес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971640" y="1494000"/>
            <a:ext cx="7200720" cy="4397040"/>
            <a:chOff x="971640" y="1494000"/>
            <a:chExt cx="7200720" cy="4397040"/>
          </a:xfrm>
        </p:grpSpPr>
        <p:sp>
          <p:nvSpPr>
            <p:cNvPr id="73" name="Oval 4"/>
            <p:cNvSpPr/>
            <p:nvPr/>
          </p:nvSpPr>
          <p:spPr>
            <a:xfrm>
              <a:off x="971640" y="149400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 Box 5"/>
            <p:cNvSpPr/>
            <p:nvPr/>
          </p:nvSpPr>
          <p:spPr>
            <a:xfrm>
              <a:off x="1289520" y="173052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иници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val 6"/>
            <p:cNvSpPr/>
            <p:nvPr/>
          </p:nvSpPr>
          <p:spPr>
            <a:xfrm>
              <a:off x="1031760" y="308844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 Box 7"/>
            <p:cNvSpPr/>
            <p:nvPr/>
          </p:nvSpPr>
          <p:spPr>
            <a:xfrm>
              <a:off x="1349640" y="332532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контрол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8"/>
            <p:cNvSpPr/>
            <p:nvPr/>
          </p:nvSpPr>
          <p:spPr>
            <a:xfrm>
              <a:off x="5130720" y="309636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5594760" y="333324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исполнен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10"/>
            <p:cNvSpPr/>
            <p:nvPr/>
          </p:nvSpPr>
          <p:spPr>
            <a:xfrm>
              <a:off x="5397120" y="150156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 Box 11"/>
            <p:cNvSpPr/>
            <p:nvPr/>
          </p:nvSpPr>
          <p:spPr>
            <a:xfrm>
              <a:off x="5715000" y="173844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планирован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val 12"/>
            <p:cNvSpPr/>
            <p:nvPr/>
          </p:nvSpPr>
          <p:spPr>
            <a:xfrm>
              <a:off x="2913480" y="486504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3257280" y="510156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завершен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3" name="AutoShape 14"/>
            <p:cNvCxnSpPr/>
            <p:nvPr/>
          </p:nvCxnSpPr>
          <p:spPr>
            <a:xfrm>
              <a:off x="3746880" y="1982880"/>
              <a:ext cx="16588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" name="AutoShape 15"/>
            <p:cNvCxnSpPr/>
            <p:nvPr/>
          </p:nvCxnSpPr>
          <p:spPr>
            <a:xfrm flipH="1">
              <a:off x="3634920" y="2251800"/>
              <a:ext cx="1925280" cy="10821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" name="AutoShape 16"/>
            <p:cNvCxnSpPr/>
            <p:nvPr/>
          </p:nvCxnSpPr>
          <p:spPr>
            <a:xfrm>
              <a:off x="3763800" y="3467160"/>
              <a:ext cx="1384200" cy="1584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" name="AutoShape 17"/>
            <p:cNvCxnSpPr/>
            <p:nvPr/>
          </p:nvCxnSpPr>
          <p:spPr>
            <a:xfrm flipH="1">
              <a:off x="3763440" y="3719880"/>
              <a:ext cx="138420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" name="AutoShape 18"/>
            <p:cNvCxnSpPr/>
            <p:nvPr/>
          </p:nvCxnSpPr>
          <p:spPr>
            <a:xfrm>
              <a:off x="2964600" y="4067640"/>
              <a:ext cx="851400" cy="8452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ирование на концептуальной стадии начинается с этап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вления противореч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что мешает в практике обучения, воспитания достичь высоких результатов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альный анализ наличной ситуации позволяет выявить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мплекс противореч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Среди них надо выделить основное, главное звено, которое со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блемную ситуаци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.е. такую ситуацию, когда неудовлетворительное состояние дел уже осознано, но пока неясно, что следует сделать для его изме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выявления проблемной ситуации начинаетс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рмулирован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из проблемной ситуации сформулировать проблему, нуж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едущая иде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546960" y="5180040"/>
            <a:ext cx="26035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Для определения проблематики необходимо охватить весь круг участников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Участников, принимающих решения, т.е. тех, от полномочий которых непосредственно зависит решение проблемы (руководителей образовательного учреждения, работников органов управления образованием и т.д.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Активных участников, чьи действия (содействия) потребуются при решении проблем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Пассивных по отношению к решаемой проблеме участников, на ком скажутся (положительным или отрицательным образом) последствия решения проблем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 Участников с возможным негативным отношением к решению проблемы, которые могут предпринять враждебные действ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блемат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ответ на вопрос: какие существующие обстоятельства и прошлый опыт - как положительный, так и отрицательный - заставляют именно этих участников, именно в данной культурной среде, включающей именно данные ценности, именно в данный момент воспринимать данное состояние дел как пробл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7188120" y="4197240"/>
            <a:ext cx="19749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атегия проекта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пирамида проек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0" descr=""/>
          <p:cNvPicPr/>
          <p:nvPr/>
        </p:nvPicPr>
        <p:blipFill>
          <a:blip r:embed="rId1"/>
          <a:stretch/>
        </p:blipFill>
        <p:spPr>
          <a:xfrm>
            <a:off x="378000" y="1717560"/>
            <a:ext cx="8227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пределение цел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едующий этап концептуальной стадии проектирования - на основе сформулированной проблемы и установленной проблематики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пределяется цель проектирования систем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частности, педагогической, образовательной системы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данном важнейшем этапе определяется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что надо сделать для снятия проблем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все последующие стадии и этапы проектирования будут определять - как это сдел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трудность определения цели заключается в том, что, как уже говорилось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цель является как бы антиподом проблем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ыбор критери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держание вопроса перехода от целей к критериям становится ясным, если рассматривать критерии как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количественные модели качественных целе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 критериев требуется большее соответствие целям, сходство с ними. Но в то же время критерии не могут полностью совпадать с целями, поскольку они фиксируются по-разном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Цели просто называются, а критерии должны быть выражены в тех или иных шкалах измер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то учение об организации деятельн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ловеческая деятельность может разделяться на деятельность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епродуктивную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одуктивную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253120" y="4221000"/>
            <a:ext cx="38908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Репродуктивная деятельность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является слепком, копией с деятельности другого человека, либо копией своей собственной деятельности, освоенной в предшествующем опыте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Продуктивная, инновационная деятельность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, направленная на получение объективно нового или субъективно нового результата. Инновационная деятельность руководителя ОО может быть направлена как на объективно новый, так и на субъективно новый (для данного образовательного учреждения) результат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луча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ивной деятельнос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озникает необходимость ее организации, т.е. применения методоло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существления деятельности мы будем рассматриват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рамках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реализуемого в определенной временной последовательности п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азам, стадиям и этапа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временная структура организации деятельност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вершенность цикла деятельности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(проекта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определяется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тремя фазам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фаза проектирова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результатом которой является построенная модель создаваемой педагогической (образовательной) системы и план ее реализа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технологическая фаз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результатом которой является реализация систем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рефлексивная фаз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результатом которой является оценка реализованной системы и определение необходимости либо ее дальнейшей коррекции, либо «запуска» нового проек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занимает особое место в структуре деятельности. Главным является вопрос -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кто дает цел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определяется самим субъектом, и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процесс целеполага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тановится довольно сложным процессом, имеющим свои собственны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тадии и этапы, методы и средств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197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ссматривается как элемент, функция организованных систем различной природы: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ллективная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возможна без создания определенного порядка, разделения труда, установления места и функций каждого человека в коллективе, осуществляемых с помощью управлени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732720" y="5319720"/>
            <a:ext cx="2417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нятие сред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важнейшей категорией системного анализа, который рассматривает, в частности, человеческую деятельность как сложную систем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ре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объекты/субъекты, ее составляющие, могут быть по отношению к систем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ружественны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нкурентным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раждебными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езразлич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2843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5:17:05Z</dcterms:created>
  <dc:creator>User</dc:creator>
  <dc:description/>
  <dc:language>en-US</dc:language>
  <cp:lastModifiedBy>User</cp:lastModifiedBy>
  <dcterms:modified xsi:type="dcterms:W3CDTF">2024-01-31T13:09:44Z</dcterms:modified>
  <cp:revision>143</cp:revision>
  <dc:subject/>
  <dc:title>Управленческая деятельность руководителя образовательной организации</dc:title>
</cp:coreProperties>
</file>