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417E-037A-4046-9E1A-11DB418D899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72B8-6C93-4004-B5C3-68404BB0329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2EF1-1BF9-4377-BDB8-D2CBC60E152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A601-2393-40C7-A5EC-5F6A748FDE8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E1BC-7826-4579-968F-837A498A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952C-9F08-473B-939E-40E2D9E8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60C1-268B-4CE0-AFE6-680D4453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2F76-64CE-4320-BA66-2FD3BE06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800C-FE2B-47E2-948A-69141101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75A1-9EEE-41F3-8028-B54B77DE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C82-7D9A-4A06-85F9-14F3DDD3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DEB9-6484-48FC-9E53-E5C70845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AB8C-721C-4481-9475-18478E2F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7233-5535-4B58-A24D-25F271E7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B4B5-5988-48DC-98D4-B5A058EC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843C-0DC4-4BC1-BDF9-A25D22FA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58DE-89E3-41C1-8882-B698836D908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угольни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1835280" y="3105000"/>
            <a:ext cx="60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орный конспект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вильные много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ДЛИНЫ ОКРУЖНОСТ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ПЛОЩАДИ К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600200"/>
          <a:ext cx="8229600" cy="944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= 2π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= πR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103640" cy="244764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4"/>
          <p:cNvSpPr/>
          <p:nvPr/>
        </p:nvSpPr>
        <p:spPr>
          <a:xfrm>
            <a:off x="3132000" y="5445000"/>
            <a:ext cx="56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у букв в словах фразы «Это я знаю и помню прекрасно, но многие цифры мне лишни, напрасны» можно воспроизвести 12 первых знаков числа π: π = 3,14159265358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5364000" y="2544840"/>
            <a:ext cx="2592720" cy="23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ДУГИ И ПЛОЩАДЬ СЕК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дуги и площадь сектора пропорциональны градусной мере дуги или центрального угла секто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ы длины дуги и площади сектора не нужно запоминать — они находятся из логически понятной пропорци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лина дуги составляет от длины окружности такую же часть, какую составляет ее градусная мера от 360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лощадь сектора составляет от площади круга такую же часть, какую составляет его центральный угол (его дуга) от 36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138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СЕГМЕНТА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АННАЯ МЕРА УГ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ощадь сегмен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площади сектора минус или плюс площадь равнобедренного треугольника, образованного радиусами этого сектора. Минус — если центральный угол сектора меньше 180°, и плюс — если больше 180°. Если центральный угол равен 180°, то этот сегмент — полукруг, и его площадь равна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R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дианом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центральный угол, опирающийся на дугу окружности, равную 1 радиу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длина окружности С = 2πR, то в окружности укладывается 2π радиусов (≈ 6,28 радиуса), а в полуокружности — π радиусов (≈3,14 радиус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π радиан = 360°.  ⇒  π радиан = 180°.  ⇒  1 радиан = 180°/π ≈ 57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четах слово «радиан» не пишут: π/2 =90°, π/3 = 60°, π/4 =45°, π/6 = 30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Д ГРАДУСНОЙ МЕРЫ УГЛА В РАДИАННУЮ И НАОБО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561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ы для правильного много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6810" r="0" b="27225"/>
          <a:stretch/>
        </p:blipFill>
        <p:spPr>
          <a:xfrm>
            <a:off x="179280" y="1052640"/>
            <a:ext cx="885672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ы для правильного много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08000" y="1125360"/>
            <a:ext cx="8928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надо зна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04836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ьный многоугольник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такой многоугольник, у которого все стороны и все углы равны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сторонний треугольник и квадрат — правильные многоугольники. Если разделить окружность на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х частей и соединить соседние точки отрезками, то получим правильный многоугольник. Вокруг всякого правильного многоугольника можно описать окружность, в него также можно вписать окружность, и центры этих окружностей совпадают.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08000" y="2781360"/>
            <a:ext cx="892800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число сторон вписанного правильного многоугольника увеличивать, то его периметр будет стремиться к длине окружности, а площадь — к площади круга. Отсюда можно получить формулы длины окружности и площади круга: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= 2π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и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πR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69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МНОГОУГОЛЬНИК. ТЕОРЕМА ОБ ОПИСАННОЙ И ВПИСАННОЙ ОКРУЖНОСТ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азывается многоугольник, у которого все стороны и углы 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м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круг всякого правильного многоугольника можно описать окружность. Во всякий правильный многоугольник можно вписать окружность. Центры этих окружностей совпад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Е СТОРОНЫ А ЧЕРЕЗ R И R ДЛЯ ПРАВИЛЬНОГО N-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м центр правильного многоугольника с двумя соседними вершинами. Получим равнобедренный треугольник с углом при вершине, равным 360°/n. Половина его равна 180°/n, где n — число сторон. Из прямоугольного треугольника наход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826920" y="3573360"/>
            <a:ext cx="74901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Е R И R ЧЕРЕЗ СТОРОНУ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АВИЛЬНОГО 3-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058160" cy="223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3924360" y="4079880"/>
            <a:ext cx="49989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Е R И R ЧЕРЕЗ СТОРОНУ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АВИЛЬНОГО 4-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704360" cy="1871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108000" y="3141720"/>
            <a:ext cx="6767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Е R И R ЧЕРЕЗ СТОРОНУ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АВИЛЬНОГО 6-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632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гл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меряются в градусах. Градус, как известно, равен 1/180 части развернутого угла. Мы познакомимся еще с одной очень важной единицей измерения углов, которая связана с окружностью, — 1 радианом. 1 рад = 57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424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chine</cp:lastModifiedBy>
  <dcterms:modified xsi:type="dcterms:W3CDTF">2024-02-03T10:08:27Z</dcterms:modified>
  <cp:revision>51</cp:revision>
  <dc:subject/>
  <dc:title>TITLE</dc:title>
</cp:coreProperties>
</file>