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44EB-1760-4FC6-A2B3-F5C10C76D0B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A42A-A868-417D-8B91-9D6D4BBB09DD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B85B-8B20-4027-A6A2-7E44A673C20A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76F3-08F5-48B7-912B-020514D817EC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2DF-599C-4176-9DE0-9813F2D7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D63-8F7D-4096-B2F9-876B72D2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DEE-A6A8-4861-A8AC-8E3A5F20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F6F-A94F-47D2-BE00-0C4C5667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0D0-1020-4A8D-BCDD-E7339466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422-A081-4D30-8906-014BACF3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76C-A88F-44B9-8D1F-683EAA2F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13B-66B1-49C1-907B-3F999986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04E-20B4-4D75-9770-B3ACA370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A56-6742-439F-839A-C5924074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1A6-5DAA-4BE9-A7E9-E88E6715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4A8-C7BC-4F25-B361-066362E2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231F-5EA0-4252-BE9F-0595CB82E6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гольн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1835280" y="3105000"/>
            <a:ext cx="60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орный конспект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ДЛИНЫ ОКРУЖНОСТ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ПЛОЩАДИ К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944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= 2π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= πR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103640" cy="2447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3132000" y="544500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букв в словах фразы «Это я знаю и помню прекрасно, но многие цифры мне лишни, напрасны» можно воспроизвести 12 первых знаков числа π: π = 3,14159265358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5364000" y="2544840"/>
            <a:ext cx="259272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ДУГИ И ПЛОЩАДЬ СЕ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дуги и площадь сектора пропорциональны градусной мере дуги или центрального угла секто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ины дуги и площади сектора не нужно запоминать — они находятся из логически понятной пропор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лина дуги составляет от длины окружности такую же часть, какую составляет ее градусная мера от 360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лощадь сектора составляет от площади круга такую же часть, какую составляет его центральный угол (его дуга) от 36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СЕГМЕНТ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ННАЯ МЕРА УГ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щадь сегмен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площади сектора минус или плюс площадь равнобедренного треугольника, образованного радиусами этого сектора. Минус — если центральный угол сектора меньше 180°, и плюс — если больше 180°. Если центральный угол равен 180°, то этот сегмент — полукруг, и его площадь равна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дианом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центральный угол, опирающийся на дугу окружности, равную 1 радиу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длина окружности С = 2πR, то в окружности укладывается 2π радиусов (≈ 6,28 радиуса), а в полуокружности — π радиусов (≈3,14 радиус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π радиан = 360°.  ⇒  π радиан = 180°.  ⇒  1 радиан = 180°/π ≈ 57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ах слово «радиан» не пишут: π/2 =90°, π/3 = 60°, π/4 =45°, π/6 = 30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 ГРАДУСНОЙ МЕРЫ УГЛА В РАДИАННУЮ И НА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56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я правильного мног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6810" r="0" b="27225"/>
          <a:stretch/>
        </p:blipFill>
        <p:spPr>
          <a:xfrm>
            <a:off x="179280" y="1052640"/>
            <a:ext cx="88567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я правильного мног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92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надо зн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0483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ьный многоугольник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такой многоугольник, у которого все стороны и все углы равны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сторонний треугольник и квадрат — правильные многоугольники. Если разделить окружность на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х частей и соединить соседние точки отрезками, то получим правильный многоугольник. Вокруг всякого правильного многоугольника можно описать окружность, в него также можно вписать окружность, и центры этих окружностей совпадают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08000" y="2781360"/>
            <a:ext cx="892800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исло сторон вписанного правильного многоугольника увеличивать, то его периметр будет стремиться к длине окружности, а площадь — к площади круга. Отсюда можно получить формулы длины окружности и площади круга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2π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πR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МНОГОУГОЛЬНИК. ТЕОРЕМА ОБ ОПИСАННОЙ И ВПИСАННОЙ ОКРУЖНОС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зывается многоугольник, у которого все стороны и углы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всякого правильного многоугольника можно описать окружность. Во всякий правильный многоугольник можно вписать окружность. Центры этих окружностей совпа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СТОРОНЫ А ЧЕРЕЗ R И R ДЛЯ ПРАВИЛЬНОГО N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м центр правильного многоугольника с двумя соседними вершинами. Получим равнобедренный треугольник с углом при вершине, равным 360°/n. Половина его равна 180°/n, где n — число сторон. Из прямоугольного треугольника наход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7490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3-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058160" cy="22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3924360" y="4079880"/>
            <a:ext cx="49989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4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70436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08000" y="3141720"/>
            <a:ext cx="6767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Е R И R ЧЕРЕЗ СТОРОНУ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6-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3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г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ряются в градусах. Градус, как известно, равен 1/180 части развернутого угла. Мы познакомимся еще с одной очень важной единицей измерения углов, которая связана с окружностью, — 1 радианом. 1 рад = 57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24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chine</cp:lastModifiedBy>
  <dcterms:modified xsi:type="dcterms:W3CDTF">2024-02-03T10:08:27Z</dcterms:modified>
  <cp:revision>51</cp:revision>
  <dc:subject/>
  <dc:title>TITLE</dc:title>
</cp:coreProperties>
</file>