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38B7-C296-4766-BE3F-8614EB4BDEB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B448-42D6-46CC-8647-8D90F551176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5BAF-8441-4C1C-AD74-2240EAFC77B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0DBA-F35C-4499-8615-3F82C17206B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103F-6760-4B55-A038-6768086A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B95-2280-4F22-951A-4F9C0F33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7D9-889D-4964-9D25-D20F2551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5E9-A80B-4EA3-82DA-13BE66FA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2A68-4CF9-4537-9ED5-2BE27EA8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A6D8-DE18-482A-8B66-197E39EA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57D-E00E-47B2-92FA-CC59CE5C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56D-D009-493E-9AF8-4390F487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78FE-1603-417F-A179-0BD000CE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8E9-08DB-4D7A-BCAB-27FF1138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21A6-DC1F-439C-8BD6-A69C6336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5AB-B4CA-43D2-89AC-A55808DD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277F-B64B-43D0-AA63-C2A087DA4FA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угольни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1835280" y="3105000"/>
            <a:ext cx="60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орный конспект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ильные мног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ДЛИНЫ ОКРУЖНОСТ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ПЛОЩАДИ К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600200"/>
          <a:ext cx="8229600" cy="944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= 2π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= πR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103640" cy="244764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4"/>
          <p:cNvSpPr/>
          <p:nvPr/>
        </p:nvSpPr>
        <p:spPr>
          <a:xfrm>
            <a:off x="3132000" y="5445000"/>
            <a:ext cx="56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букв в словах фразы «Это я знаю и помню прекрасно, но многие цифры мне лишни, напрасны» можно воспроизвести 12 первых знаков числа π: π = 3,14159265358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5364000" y="2544840"/>
            <a:ext cx="2592720" cy="2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ДУГИ И ПЛОЩАДЬ СЕ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дуги и площадь сектора пропорциональны градусной мере дуги или центрального угла секто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длины дуги и площади сектора не нужно запоминать — они находятся из логически понятной пропорц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лина дуги составляет от длины окружности такую же часть, какую составляет ее градусная мера от 360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лощадь сектора составляет от площади круга такую же часть, какую составляет его центральный угол (его дуга) от 36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138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СЕГМЕНТА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АННАЯ МЕРА УГ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ощадь сегмен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площади сектора минус или плюс площадь равнобедренного треугольника, образованного радиусами этого сектора. Минус — если центральный угол сектора меньше 180°, и плюс — если больше 180°. Если центральный угол равен 180°, то этот сегмент — полукруг, и его площадь равна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R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дианом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центральный угол, опирающийся на дугу окружности, равную 1 радиу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длина окружности С = 2πR, то в окружности укладывается 2π радиусов (≈ 6,28 радиуса), а в полуокружности — π радиусов (≈3,14 радиус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π радиан = 360°.  ⇒  π радиан = 180°.  ⇒  1 радиан = 180°/π ≈ 57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четах слово «радиан» не пишут: π/2 =90°, π/3 = 60°, π/4 =45°, π/6 = 30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Д ГРАДУСНОЙ МЕРЫ УГЛА В РАДИАННУЮ И НАОБО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56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для правильного много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6810" r="0" b="27225"/>
          <a:stretch/>
        </p:blipFill>
        <p:spPr>
          <a:xfrm>
            <a:off x="179280" y="1052640"/>
            <a:ext cx="885672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для правильного много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8928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надо зна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0483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ьный многоугольник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такой многоугольник, у которого все стороны и все углы равны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сторонний треугольник и квадрат — правильные многоугольники. Если разделить окружность на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х частей и соединить соседние точки отрезками, то получим правильный многоугольник. Вокруг всякого правильного многоугольника можно описать окружность, в него также можно вписать окружность, и центры этих окружностей совпадают.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08000" y="2781360"/>
            <a:ext cx="892800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исло сторон вписанного правильного многоугольника увеличивать, то его периметр будет стремиться к длине окружности, а площадь — к площади круга. Отсюда можно получить формулы длины окружности и площади круга: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= 2π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и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πR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МНОГОУГОЛЬНИК. ТЕОРЕМА ОБ ОПИСАННОЙ И ВПИСАННОЙ ОКРУЖНОСТ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зывается многоугольник, у которого все стороны и углы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руг всякого правильного многоугольника можно описать окружность. Во всякий правильный многоугольник можно вписать окружность. Центры этих окружностей совпад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Е СТОРОНЫ А ЧЕРЕЗ R И R ДЛЯ ПРАВИЛЬНОГО N-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м центр правильного многоугольника с двумя соседними вершинами. Получим равнобедренный треугольник с углом при вершине, равным 360°/n. Половина его равна 180°/n, где n — число сторон. Из прямоугольного треугольника наход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826920" y="3573360"/>
            <a:ext cx="74901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Е R И R ЧЕРЕЗ СТОРОНУ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ВИЛЬНОГО 3-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058160" cy="223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3924360" y="4079880"/>
            <a:ext cx="49989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Е R И R ЧЕРЕЗ СТОРОНУ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ВИЛЬНОГО 4-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704360" cy="1871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108000" y="3141720"/>
            <a:ext cx="6767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Е R И R ЧЕРЕЗ СТОРОНУ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ВИЛЬНОГО 6-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632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гл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меряются в градусах. Градус, как известно, равен 1/180 части развернутого угла. Мы познакомимся еще с одной очень важной единицей измерения углов, которая связана с окружностью, — 1 радианом. 1 рад = 57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424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chine</cp:lastModifiedBy>
  <dcterms:modified xsi:type="dcterms:W3CDTF">2024-02-03T10:08:27Z</dcterms:modified>
  <cp:revision>51</cp:revision>
  <dc:subject/>
  <dc:title>TITLE</dc:title>
</cp:coreProperties>
</file>