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1235-952B-44B0-8206-FE263C3C6D9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F535-E6AA-4B9B-9580-5699F262DAE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14CF-734E-442E-A888-ED7B796A1AE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AC98-668A-43E2-995F-BBFFAF6FD76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D5D4-1609-4DD6-8328-FA05DC90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F11-7547-425C-B63F-6C448054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EF13-79EC-41CF-BE4E-1B94E967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C3B7-9632-4D78-805F-A30373DC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5AB-367E-45E1-8881-231CB658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DFF9-A3A7-41D6-88FD-0517CCE3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5706-BD4C-42DA-BEFE-BBA070B7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83E-9772-422B-BA0B-771D6575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C02B-3287-4E0E-92A4-5C83D885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4A7-9FFC-4BB2-BC13-21B995D3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1CD-D60A-4540-A541-ED29433C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F165-662D-44CB-A8F3-DA33A8ED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18B6-2B8E-4D4A-9C82-BD34761187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угольн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1835280" y="3105000"/>
            <a:ext cx="60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орный конспект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ильные мног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ДЛИНЫ ОКРУЖНОСТ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ПЛОЩАДИ К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600" cy="944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= 2π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= πR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103640" cy="24476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3132000" y="544500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букв в словах фразы «Это я знаю и помню прекрасно, но многие цифры мне лишни, напрасны» можно воспроизвести 12 первых знаков числа π: π = 3,14159265358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5364000" y="2544840"/>
            <a:ext cx="259272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ДУГИ И ПЛОЩАДЬ СЕ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дуги и площадь сектора пропорциональны градусной мере дуги или центрального угла секто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длины дуги и площади сектора не нужно запоминать — они находятся из логически понятной пропор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лина дуги составляет от длины окружности такую же часть, какую составляет ее градусная мера от 360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лощадь сектора составляет от площади круга такую же часть, какую составляет его центральный угол (его дуга) от 36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СЕГМЕНТА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АННАЯ МЕРА УГ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ощадь сегмен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площади сектора минус или плюс площадь равнобедренного треугольника, образованного радиусами этого сектора. Минус — если центральный угол сектора меньше 180°, и плюс — если больше 180°. Если центральный угол равен 180°, то этот сегмент — полукруг, и его площадь равна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R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дианом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центральный угол, опирающийся на дугу окружности, равную 1 радиу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длина окружности С = 2πR, то в окружности укладывается 2π радиусов (≈ 6,28 радиуса), а в полуокружности — π радиусов (≈3,14 радиус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π радиан = 360°.  ⇒  π радиан = 180°.  ⇒  1 радиан = 180°/π ≈ 57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четах слово «радиан» не пишут: π/2 =90°, π/3 = 60°, π/4 =45°, π/6 = 30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Д ГРАДУСНОЙ МЕРЫ УГЛА В РАДИАННУЮ И НАОБ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56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для правильного много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6810" r="0" b="27225"/>
          <a:stretch/>
        </p:blipFill>
        <p:spPr>
          <a:xfrm>
            <a:off x="179280" y="1052640"/>
            <a:ext cx="88567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для правильного много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8928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надо зна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0483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ьный многоугольник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такой многоугольник, у которого все стороны и все углы равны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сторонний треугольник и квадрат — правильные многоугольники. Если разделить окружность на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х частей и соединить соседние точки отрезками, то получим правильный многоугольник. Вокруг всякого правильного многоугольника можно описать окружность, в него также можно вписать окружность, и центры этих окружностей совпадают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08000" y="2781360"/>
            <a:ext cx="892800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исло сторон вписанного правильного многоугольника увеличивать, то его периметр будет стремиться к длине окружности, а площадь — к площади круга. Отсюда можно получить формулы длины окружности и площади круга: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= 2π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и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πR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МНОГОУГОЛЬНИК. ТЕОРЕМА ОБ ОПИСАННОЙ И ВПИСАННОЙ ОКРУЖНОСТ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зывается многоугольник, у которого все стороны и углы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руг всякого правильного многоугольника можно описать окружность. Во всякий правильный многоугольник можно вписать окружность. Центры этих окружностей совпа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СТОРОНЫ А ЧЕРЕЗ R И R ДЛЯ ПРАВИЛЬНОГО N-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м центр правильного многоугольника с двумя соседними вершинами. Получим равнобедренный треугольник с углом при вершине, равным 360°/n. Половина его равна 180°/n, где n — число сторон. Из прямоугольного треугольника наход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74901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R И R ЧЕРЕЗ СТОРОНУ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ВИЛЬНОГО 3-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058160" cy="223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3924360" y="4079880"/>
            <a:ext cx="49989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R И R ЧЕРЕЗ СТОРОНУ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ВИЛЬНОГО 4-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704360" cy="187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108000" y="3141720"/>
            <a:ext cx="6767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R И R ЧЕРЕЗ СТОРОНУ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ВИЛЬНОГО 6-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32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гл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ряются в градусах. Градус, как известно, равен 1/180 части развернутого угла. Мы познакомимся еще с одной очень важной единицей измерения углов, которая связана с окружностью, — 1 радианом. 1 рад = 57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424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chine</cp:lastModifiedBy>
  <dcterms:modified xsi:type="dcterms:W3CDTF">2024-02-03T10:08:27Z</dcterms:modified>
  <cp:revision>51</cp:revision>
  <dc:subject/>
  <dc:title>TITLE</dc:title>
</cp:coreProperties>
</file>