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2938-3F79-4D21-B7CF-97F49BC0961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1060-B69B-42A9-B153-7FCB7997D8F3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FFEA-9EB9-45C7-A1AF-4C8F9998B20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3AA8-F046-458E-B24B-924CCD99F301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715-1270-4C00-8C78-B72D6EE1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194-98B5-4AFB-BCF5-EA252DD1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94C-3EF8-47EA-BB36-B92B38D8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813-FA4C-47DD-83EF-3315F00D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ED2-9142-46BC-8D98-B5A9822D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442-CF8B-4B39-BFA2-930C2F23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324-13EE-4D84-B8C9-A2BC0349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AB1-CEC7-4056-BE4D-2DA8B2F0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186-35AE-4B2D-A16C-49CF0CEE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FA1-4D9B-4CBB-AF4A-D1E2771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BEF-8327-40A0-9184-977BD363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D96-4AA9-4A02-8E1F-BE86DDAF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DA45-C5FD-46EB-A54C-A409613A4E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голь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835280" y="310500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орный конспект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ДЛИНЫ ОКРУЖНОСТ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ПЛОЩАДИ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944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= 2π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πR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03640" cy="2447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3132000" y="544500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букв в словах фразы «Это я знаю и помню прекрасно, но многие цифры мне лишни, напрасны» можно воспроизвести 12 первых знаков числа π: π = 3,14159265358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64000" y="2544840"/>
            <a:ext cx="259272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 пропорциональны градусной мере дуги или центрального угла секто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ины дуги и площади сектора не нужно запоминать — они находятся из логически понятной пропор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лина дуги составляет от длины окружности такую же часть, какую составляет ее градусная мера от 360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лощадь сектора составляет от площади круга такую же часть, какую составляет его центральный угол (его дуга) от 36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СЕГМЕНТ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НАЯ МЕРА У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щадь сегмен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площади сектора минус или плюс площадь равнобедренного треугольника, образованного радиусами этого сектора. Минус — если центральный угол сектора меньше 180°, и плюс — если больше 180°. Если центральный угол равен 180°, то этот сегмент — полукруг, и его площадь равна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ано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центральный угол, опирающийся на дугу окружности, равную 1 радиу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длина окружности С = 2πR, то в окружности укладывается 2π радиусов (≈ 6,28 радиуса), а в полуокружности — π радиусов (≈3,14 радиус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π радиан = 360°.  ⇒  π радиан = 180°.  ⇒  1 радиан = 180°/π ≈ 57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слово «радиан» не пишут: π/2 =90°, π/3 = 60°, π/4 =45°, π/6 = 30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ГРАДУСНОЙ МЕРЫ УГЛА В РАДИАННУЮ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6810" r="0" b="27225"/>
          <a:stretch/>
        </p:blipFill>
        <p:spPr>
          <a:xfrm>
            <a:off x="179280" y="1052640"/>
            <a:ext cx="8856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надо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048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ый многоугольник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такой многоугольник, у которого все стороны и все углы равны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треугольник и квадрат — правильные многоугольники. Если разделить окружность на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х частей и соединить соседние точки отрезками, то получим правильный многоугольник. Вокруг всякого правильного многоугольника можно описать окружность, в него также можно вписать окружность, и центры этих окружностей совпадают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08000" y="2781360"/>
            <a:ext cx="892800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исло сторон вписанного правильного многоугольника увеличивать, то его периметр будет стремиться к длине окружности, а площадь — к площади круга. Отсюда можно получить формулы длины окружности и площади круга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2π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π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УГОЛЬНИК. ТЕОРЕМА ОБ ОПИСАННОЙ И ВПИСАННОЙ ОКРУЖНО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зывается многоугольник, у которого все стороны и угл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всякого правильного многоугольника можно описать окружность. Во всякий правильный многоугольник можно вписать окружность. Центры этих окружностей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СТОРОНЫ А ЧЕРЕЗ R И R ДЛЯ ПРАВИЛЬНОГО N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м центр правильного многоугольника с двумя соседними вершинами. Получим равнобедренный треугольник с углом при вершине, равным 360°/n. Половина его равна 180°/n, где n — число сторон. Из прямоугольного треугольник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7490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3-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5816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924360" y="4079880"/>
            <a:ext cx="4998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4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70436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8000" y="3141720"/>
            <a:ext cx="676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6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яются в градусах. Градус, как известно, равен 1/180 части развернутого угла. Мы познакомимся еще с одной очень важной единицей измерения углов, которая связана с окружностью, — 1 радианом. 1 рад = 57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chine</cp:lastModifiedBy>
  <dcterms:modified xsi:type="dcterms:W3CDTF">2024-02-03T10:08:27Z</dcterms:modified>
  <cp:revision>51</cp:revision>
  <dc:subject/>
  <dc:title>TITLE</dc:title>
</cp:coreProperties>
</file>