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4.png" ContentType="image/png"/>
  <Override PartName="/ppt/media/image23.jpeg" ContentType="image/jpeg"/>
  <Override PartName="/ppt/media/image12.png" ContentType="image/png"/>
  <Override PartName="/ppt/media/image21.png" ContentType="image/png"/>
  <Override PartName="/ppt/media/image15.png" ContentType="image/png"/>
  <Override PartName="/ppt/media/image3.jpeg" ContentType="image/jpeg"/>
  <Override PartName="/ppt/media/image30.png" ContentType="image/png"/>
  <Override PartName="/ppt/media/image5.png" ContentType="image/png"/>
  <Override PartName="/ppt/media/image28.png" ContentType="image/png"/>
  <Override PartName="/ppt/media/image29.jpeg" ContentType="image/jpeg"/>
  <Override PartName="/ppt/media/image4.png" ContentType="image/png"/>
  <Override PartName="/ppt/media/image34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9.png" ContentType="image/png"/>
  <Override PartName="/ppt/media/image22.jpeg" ContentType="image/jpeg"/>
  <Override PartName="/ppt/media/image8.png" ContentType="image/png"/>
  <Override PartName="/ppt/media/image13.png" ContentType="image/png"/>
  <Override PartName="/ppt/media/image33.jpeg" ContentType="image/jpeg"/>
  <Override PartName="/ppt/media/image1.jpeg" ContentType="image/jpeg"/>
  <Override PartName="/ppt/media/image10.png" ContentType="image/png"/>
  <Override PartName="/ppt/media/image27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529C3-C238-4279-B7BC-A6E948B08C72}" type="slidenum"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F339F-3BBC-47B8-89A9-B06D72FD991C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32AC9-6970-4E83-87D8-1F99CB4382B3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28D8F-1DDF-4141-ABA5-7FCEAB8C85C4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AF3E8-EEDE-4F05-B9FB-72FCA4A0AF8E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1D68A-62E0-4A97-96D0-AD2037809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98CB4E-554B-4A4B-BADA-1B0BF4C2A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E4F124-BF1E-4D13-8B15-BE69829E8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304308-8B89-4191-900A-765F13053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27F593-744B-4FD6-94A3-1C3BD7CB1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4DA2E8-854B-4E12-BC24-01FF97855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90629-8E2D-4957-BA08-F19A18904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781B97-C76A-4ABC-B22E-A664BDE2E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40047E-A529-4F9D-844C-B55D08448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234975-F516-42C8-9FDA-AA3F5A724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6B87E0-5B88-4BD5-A6C2-D96CD692D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06FA8-1E87-4C3E-A3C4-2E54E6CB6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37360" y="-360"/>
            <a:ext cx="10999440" cy="7387920"/>
            <a:chOff x="-837360" y="-360"/>
            <a:chExt cx="10999440" cy="7387920"/>
          </a:xfrm>
        </p:grpSpPr>
        <p:grpSp>
          <p:nvGrpSpPr>
            <p:cNvPr id="1" name=""/>
            <p:cNvGrpSpPr/>
            <p:nvPr/>
          </p:nvGrpSpPr>
          <p:grpSpPr>
            <a:xfrm>
              <a:off x="-165600" y="-360"/>
              <a:ext cx="9625320" cy="7114680"/>
              <a:chOff x="-165600" y="-360"/>
              <a:chExt cx="9625320" cy="711468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165600" y="0"/>
                <a:ext cx="2645640" cy="7113960"/>
                <a:chOff x="-165600" y="0"/>
                <a:chExt cx="2645640" cy="711396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797040" y="0"/>
                  <a:ext cx="1683000" cy="711396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8000"/>
                    </a:lnSpc>
                    <a:spcBef>
                      <a:spcPts val="11"/>
                    </a:spcBef>
                    <a:spcAft>
                      <a:spcPts val="1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-165600" y="0"/>
                  <a:ext cx="479520" cy="711396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8000"/>
                    </a:lnSpc>
                    <a:spcBef>
                      <a:spcPts val="11"/>
                    </a:spcBef>
                    <a:spcAft>
                      <a:spcPts val="1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74880" y="0"/>
                  <a:ext cx="800280" cy="711396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8000"/>
                    </a:lnSpc>
                    <a:spcBef>
                      <a:spcPts val="11"/>
                    </a:spcBef>
                    <a:spcAft>
                      <a:spcPts val="1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</p:grpSp>
          <p:grpSp>
            <p:nvGrpSpPr>
              <p:cNvPr id="6" name=""/>
              <p:cNvGrpSpPr/>
              <p:nvPr/>
            </p:nvGrpSpPr>
            <p:grpSpPr>
              <a:xfrm>
                <a:off x="279000" y="0"/>
                <a:ext cx="2645640" cy="7113960"/>
                <a:chOff x="279000" y="0"/>
                <a:chExt cx="2645640" cy="711396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1241640" y="0"/>
                  <a:ext cx="1683000" cy="711396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8000"/>
                    </a:lnSpc>
                    <a:spcBef>
                      <a:spcPts val="11"/>
                    </a:spcBef>
                    <a:spcAft>
                      <a:spcPts val="1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279000" y="0"/>
                  <a:ext cx="479520" cy="711396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8000"/>
                    </a:lnSpc>
                    <a:spcBef>
                      <a:spcPts val="11"/>
                    </a:spcBef>
                    <a:spcAft>
                      <a:spcPts val="1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519480" y="0"/>
                  <a:ext cx="800280" cy="711396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8000"/>
                    </a:lnSpc>
                    <a:spcBef>
                      <a:spcPts val="11"/>
                    </a:spcBef>
                    <a:spcAft>
                      <a:spcPts val="1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</p:grpSp>
          <p:grpSp>
            <p:nvGrpSpPr>
              <p:cNvPr id="10" name=""/>
              <p:cNvGrpSpPr/>
              <p:nvPr/>
            </p:nvGrpSpPr>
            <p:grpSpPr>
              <a:xfrm>
                <a:off x="6813720" y="-360"/>
                <a:ext cx="2646000" cy="7113960"/>
                <a:chOff x="6813720" y="-360"/>
                <a:chExt cx="2646000" cy="7113960"/>
              </a:xfrm>
            </p:grpSpPr>
            <p:sp>
              <p:nvSpPr>
                <p:cNvPr id="11" name=""/>
                <p:cNvSpPr/>
                <p:nvPr/>
              </p:nvSpPr>
              <p:spPr>
                <a:xfrm rot="10800000">
                  <a:off x="6813720" y="-360"/>
                  <a:ext cx="1683000" cy="711396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8000"/>
                    </a:lnSpc>
                    <a:spcBef>
                      <a:spcPts val="11"/>
                    </a:spcBef>
                    <a:spcAft>
                      <a:spcPts val="1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 rot="10800000">
                  <a:off x="8980200" y="-360"/>
                  <a:ext cx="479520" cy="711396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8000"/>
                    </a:lnSpc>
                    <a:spcBef>
                      <a:spcPts val="11"/>
                    </a:spcBef>
                    <a:spcAft>
                      <a:spcPts val="1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 rot="10800000">
                  <a:off x="8418240" y="-360"/>
                  <a:ext cx="800640" cy="711396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8000"/>
                    </a:lnSpc>
                    <a:spcBef>
                      <a:spcPts val="11"/>
                    </a:spcBef>
                    <a:spcAft>
                      <a:spcPts val="1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</p:grpSp>
          <p:sp>
            <p:nvSpPr>
              <p:cNvPr id="14" name=""/>
              <p:cNvSpPr/>
              <p:nvPr/>
            </p:nvSpPr>
            <p:spPr>
              <a:xfrm>
                <a:off x="3845520" y="0"/>
                <a:ext cx="2966760" cy="711432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2882880" y="0"/>
                <a:ext cx="479520" cy="711432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123360" y="0"/>
                <a:ext cx="800640" cy="711432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sp>
          <p:nvSpPr>
            <p:cNvPr id="17" name=""/>
            <p:cNvSpPr/>
            <p:nvPr/>
          </p:nvSpPr>
          <p:spPr>
            <a:xfrm>
              <a:off x="-178560" y="5225400"/>
              <a:ext cx="9627840" cy="12168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-178560" y="3597840"/>
              <a:ext cx="9627840" cy="92232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-190440" y="5852880"/>
              <a:ext cx="3162240" cy="125496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-178560" y="5483880"/>
              <a:ext cx="9627840" cy="1531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2084400" y="5325840"/>
              <a:ext cx="7351200" cy="1782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2" name=""/>
            <p:cNvSpPr/>
            <p:nvPr/>
          </p:nvSpPr>
          <p:spPr>
            <a:xfrm rot="1800000">
              <a:off x="2988000" y="2965320"/>
              <a:ext cx="1684800" cy="1439640"/>
            </a:xfrm>
            <a:custGeom>
              <a:avLst/>
              <a:gdLst/>
              <a:ahLst/>
              <a:rect l="l" t="t" r="r" b="b"/>
              <a:pathLst>
                <a:path w="4449" h="2106">
                  <a:moveTo>
                    <a:pt x="0" y="1929"/>
                  </a:moveTo>
                  <a:lnTo>
                    <a:pt x="1088" y="2106"/>
                  </a:lnTo>
                  <a:lnTo>
                    <a:pt x="3361" y="2106"/>
                  </a:lnTo>
                  <a:lnTo>
                    <a:pt x="4449" y="1929"/>
                  </a:lnTo>
                  <a:lnTo>
                    <a:pt x="3361" y="1752"/>
                  </a:lnTo>
                  <a:lnTo>
                    <a:pt x="1088" y="1752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3" name=""/>
            <p:cNvSpPr/>
            <p:nvPr/>
          </p:nvSpPr>
          <p:spPr>
            <a:xfrm rot="1800000">
              <a:off x="3750480" y="4279320"/>
              <a:ext cx="1684800" cy="1440000"/>
            </a:xfrm>
            <a:custGeom>
              <a:avLst/>
              <a:gdLst/>
              <a:ahLst/>
              <a:rect l="l" t="t" r="r" b="b"/>
              <a:pathLst>
                <a:path w="4449" h="2106">
                  <a:moveTo>
                    <a:pt x="0" y="1929"/>
                  </a:moveTo>
                  <a:lnTo>
                    <a:pt x="1088" y="2106"/>
                  </a:lnTo>
                  <a:lnTo>
                    <a:pt x="3361" y="2106"/>
                  </a:lnTo>
                  <a:lnTo>
                    <a:pt x="4449" y="1929"/>
                  </a:lnTo>
                  <a:lnTo>
                    <a:pt x="3361" y="1752"/>
                  </a:lnTo>
                  <a:lnTo>
                    <a:pt x="1088" y="1752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4" name=""/>
            <p:cNvSpPr/>
            <p:nvPr/>
          </p:nvSpPr>
          <p:spPr>
            <a:xfrm rot="1800000">
              <a:off x="3760560" y="1650600"/>
              <a:ext cx="1684800" cy="1439640"/>
            </a:xfrm>
            <a:custGeom>
              <a:avLst/>
              <a:gdLst/>
              <a:ahLst/>
              <a:rect l="l" t="t" r="r" b="b"/>
              <a:pathLst>
                <a:path w="4449" h="2106">
                  <a:moveTo>
                    <a:pt x="0" y="1929"/>
                  </a:moveTo>
                  <a:lnTo>
                    <a:pt x="1088" y="2106"/>
                  </a:lnTo>
                  <a:lnTo>
                    <a:pt x="3361" y="2106"/>
                  </a:lnTo>
                  <a:lnTo>
                    <a:pt x="4449" y="1929"/>
                  </a:lnTo>
                  <a:lnTo>
                    <a:pt x="3361" y="1752"/>
                  </a:lnTo>
                  <a:lnTo>
                    <a:pt x="1088" y="1752"/>
                  </a:lnTo>
                  <a:close/>
                </a:path>
              </a:pathLst>
            </a:cu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5" name=""/>
            <p:cNvSpPr/>
            <p:nvPr/>
          </p:nvSpPr>
          <p:spPr>
            <a:xfrm rot="1800000">
              <a:off x="2967840" y="335880"/>
              <a:ext cx="1684800" cy="1439640"/>
            </a:xfrm>
            <a:custGeom>
              <a:avLst/>
              <a:gdLst/>
              <a:ahLst/>
              <a:rect l="l" t="t" r="r" b="b"/>
              <a:pathLst>
                <a:path w="4449" h="2106">
                  <a:moveTo>
                    <a:pt x="0" y="1929"/>
                  </a:moveTo>
                  <a:lnTo>
                    <a:pt x="1088" y="2106"/>
                  </a:lnTo>
                  <a:lnTo>
                    <a:pt x="3361" y="2106"/>
                  </a:lnTo>
                  <a:lnTo>
                    <a:pt x="4449" y="1929"/>
                  </a:lnTo>
                  <a:lnTo>
                    <a:pt x="3361" y="1752"/>
                  </a:lnTo>
                  <a:lnTo>
                    <a:pt x="1088" y="1752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6" name=""/>
            <p:cNvSpPr/>
            <p:nvPr/>
          </p:nvSpPr>
          <p:spPr>
            <a:xfrm rot="1800000">
              <a:off x="4532760" y="5584320"/>
              <a:ext cx="1684800" cy="1439640"/>
            </a:xfrm>
            <a:custGeom>
              <a:avLst/>
              <a:gdLst/>
              <a:ahLst/>
              <a:rect l="l" t="t" r="r" b="b"/>
              <a:pathLst>
                <a:path w="4449" h="2106">
                  <a:moveTo>
                    <a:pt x="0" y="1929"/>
                  </a:moveTo>
                  <a:lnTo>
                    <a:pt x="1088" y="2106"/>
                  </a:lnTo>
                  <a:lnTo>
                    <a:pt x="3361" y="2106"/>
                  </a:lnTo>
                  <a:lnTo>
                    <a:pt x="4449" y="1929"/>
                  </a:lnTo>
                  <a:lnTo>
                    <a:pt x="3361" y="1752"/>
                  </a:lnTo>
                  <a:lnTo>
                    <a:pt x="1088" y="1752"/>
                  </a:ln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7" name=""/>
            <p:cNvSpPr/>
            <p:nvPr/>
          </p:nvSpPr>
          <p:spPr>
            <a:xfrm rot="1800000">
              <a:off x="-566640" y="4360320"/>
              <a:ext cx="1326960" cy="14378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8" name=""/>
            <p:cNvSpPr/>
            <p:nvPr/>
          </p:nvSpPr>
          <p:spPr>
            <a:xfrm rot="1800000">
              <a:off x="-140400" y="5604120"/>
              <a:ext cx="1684800" cy="1439640"/>
            </a:xfrm>
            <a:custGeom>
              <a:avLst/>
              <a:gdLst/>
              <a:ahLst/>
              <a:rect l="l" t="t" r="r" b="b"/>
              <a:pathLst>
                <a:path w="4449" h="2106">
                  <a:moveTo>
                    <a:pt x="0" y="1929"/>
                  </a:moveTo>
                  <a:lnTo>
                    <a:pt x="1088" y="2106"/>
                  </a:lnTo>
                  <a:lnTo>
                    <a:pt x="3361" y="2106"/>
                  </a:lnTo>
                  <a:lnTo>
                    <a:pt x="4449" y="1929"/>
                  </a:lnTo>
                  <a:lnTo>
                    <a:pt x="3361" y="1752"/>
                  </a:lnTo>
                  <a:lnTo>
                    <a:pt x="1088" y="1752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9" name=""/>
            <p:cNvSpPr/>
            <p:nvPr/>
          </p:nvSpPr>
          <p:spPr>
            <a:xfrm rot="1800000">
              <a:off x="-110160" y="2955240"/>
              <a:ext cx="1684800" cy="1439640"/>
            </a:xfrm>
            <a:custGeom>
              <a:avLst/>
              <a:gdLst/>
              <a:ahLst/>
              <a:rect l="l" t="t" r="r" b="b"/>
              <a:pathLst>
                <a:path w="4449" h="2106">
                  <a:moveTo>
                    <a:pt x="0" y="1929"/>
                  </a:moveTo>
                  <a:lnTo>
                    <a:pt x="1088" y="2106"/>
                  </a:lnTo>
                  <a:lnTo>
                    <a:pt x="3361" y="2106"/>
                  </a:lnTo>
                  <a:lnTo>
                    <a:pt x="4449" y="1929"/>
                  </a:lnTo>
                  <a:lnTo>
                    <a:pt x="3361" y="1752"/>
                  </a:lnTo>
                  <a:lnTo>
                    <a:pt x="1088" y="1752"/>
                  </a:lnTo>
                  <a:close/>
                </a:path>
              </a:pathLst>
            </a:cu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0" name=""/>
            <p:cNvSpPr/>
            <p:nvPr/>
          </p:nvSpPr>
          <p:spPr>
            <a:xfrm rot="1800000">
              <a:off x="651600" y="4279320"/>
              <a:ext cx="1684800" cy="1440000"/>
            </a:xfrm>
            <a:custGeom>
              <a:avLst/>
              <a:gdLst/>
              <a:ahLst/>
              <a:rect l="l" t="t" r="r" b="b"/>
              <a:pathLst>
                <a:path w="4449" h="2106">
                  <a:moveTo>
                    <a:pt x="0" y="1929"/>
                  </a:moveTo>
                  <a:lnTo>
                    <a:pt x="1088" y="2106"/>
                  </a:lnTo>
                  <a:lnTo>
                    <a:pt x="3361" y="2106"/>
                  </a:lnTo>
                  <a:lnTo>
                    <a:pt x="4449" y="1929"/>
                  </a:lnTo>
                  <a:lnTo>
                    <a:pt x="3361" y="1752"/>
                  </a:lnTo>
                  <a:lnTo>
                    <a:pt x="1088" y="1752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1" name=""/>
            <p:cNvSpPr/>
            <p:nvPr/>
          </p:nvSpPr>
          <p:spPr>
            <a:xfrm rot="1800000">
              <a:off x="1423440" y="5613840"/>
              <a:ext cx="1684800" cy="1439640"/>
            </a:xfrm>
            <a:custGeom>
              <a:avLst/>
              <a:gdLst/>
              <a:ahLst/>
              <a:rect l="l" t="t" r="r" b="b"/>
              <a:pathLst>
                <a:path w="4449" h="2106">
                  <a:moveTo>
                    <a:pt x="0" y="1929"/>
                  </a:moveTo>
                  <a:lnTo>
                    <a:pt x="1088" y="2106"/>
                  </a:lnTo>
                  <a:lnTo>
                    <a:pt x="3361" y="2106"/>
                  </a:lnTo>
                  <a:lnTo>
                    <a:pt x="4449" y="1929"/>
                  </a:lnTo>
                  <a:lnTo>
                    <a:pt x="3361" y="1752"/>
                  </a:lnTo>
                  <a:lnTo>
                    <a:pt x="1088" y="1752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2" name=""/>
            <p:cNvSpPr/>
            <p:nvPr/>
          </p:nvSpPr>
          <p:spPr>
            <a:xfrm rot="1800000">
              <a:off x="1443600" y="2965320"/>
              <a:ext cx="1684800" cy="1439640"/>
            </a:xfrm>
            <a:custGeom>
              <a:avLst/>
              <a:gdLst/>
              <a:ahLst/>
              <a:rect l="l" t="t" r="r" b="b"/>
              <a:pathLst>
                <a:path w="4449" h="2106">
                  <a:moveTo>
                    <a:pt x="0" y="1929"/>
                  </a:moveTo>
                  <a:lnTo>
                    <a:pt x="1088" y="2106"/>
                  </a:lnTo>
                  <a:lnTo>
                    <a:pt x="3361" y="2106"/>
                  </a:lnTo>
                  <a:lnTo>
                    <a:pt x="4449" y="1929"/>
                  </a:lnTo>
                  <a:lnTo>
                    <a:pt x="3361" y="1752"/>
                  </a:lnTo>
                  <a:lnTo>
                    <a:pt x="1088" y="1752"/>
                  </a:lnTo>
                  <a:close/>
                </a:path>
              </a:pathLst>
            </a:cu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3" name=""/>
            <p:cNvSpPr/>
            <p:nvPr/>
          </p:nvSpPr>
          <p:spPr>
            <a:xfrm rot="1800000">
              <a:off x="671040" y="1620720"/>
              <a:ext cx="1684800" cy="1439640"/>
            </a:xfrm>
            <a:custGeom>
              <a:avLst/>
              <a:gdLst/>
              <a:ahLst/>
              <a:rect l="l" t="t" r="r" b="b"/>
              <a:pathLst>
                <a:path w="4449" h="2106">
                  <a:moveTo>
                    <a:pt x="0" y="1929"/>
                  </a:moveTo>
                  <a:lnTo>
                    <a:pt x="1088" y="2106"/>
                  </a:lnTo>
                  <a:lnTo>
                    <a:pt x="3361" y="2106"/>
                  </a:lnTo>
                  <a:lnTo>
                    <a:pt x="4449" y="1929"/>
                  </a:lnTo>
                  <a:lnTo>
                    <a:pt x="3361" y="1752"/>
                  </a:lnTo>
                  <a:lnTo>
                    <a:pt x="1088" y="1752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4" name=""/>
            <p:cNvSpPr/>
            <p:nvPr/>
          </p:nvSpPr>
          <p:spPr>
            <a:xfrm rot="1800000">
              <a:off x="7001640" y="4299120"/>
              <a:ext cx="1683360" cy="1439640"/>
            </a:xfrm>
            <a:custGeom>
              <a:avLst/>
              <a:gdLst/>
              <a:ahLst/>
              <a:rect l="l" t="t" r="r" b="b"/>
              <a:pathLst>
                <a:path w="4445" h="2106">
                  <a:moveTo>
                    <a:pt x="0" y="1929"/>
                  </a:moveTo>
                  <a:lnTo>
                    <a:pt x="1084" y="2106"/>
                  </a:lnTo>
                  <a:lnTo>
                    <a:pt x="3361" y="2106"/>
                  </a:lnTo>
                  <a:lnTo>
                    <a:pt x="4445" y="1929"/>
                  </a:lnTo>
                  <a:lnTo>
                    <a:pt x="3361" y="1752"/>
                  </a:lnTo>
                  <a:lnTo>
                    <a:pt x="1084" y="1752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5" name=""/>
            <p:cNvSpPr/>
            <p:nvPr/>
          </p:nvSpPr>
          <p:spPr>
            <a:xfrm rot="1800000">
              <a:off x="7783920" y="5623560"/>
              <a:ext cx="1682640" cy="1439640"/>
            </a:xfrm>
            <a:custGeom>
              <a:avLst/>
              <a:gdLst/>
              <a:ahLst/>
              <a:rect l="l" t="t" r="r" b="b"/>
              <a:pathLst>
                <a:path w="4445" h="2106">
                  <a:moveTo>
                    <a:pt x="0" y="1929"/>
                  </a:moveTo>
                  <a:lnTo>
                    <a:pt x="1084" y="2106"/>
                  </a:lnTo>
                  <a:lnTo>
                    <a:pt x="3361" y="2106"/>
                  </a:lnTo>
                  <a:lnTo>
                    <a:pt x="4445" y="1929"/>
                  </a:lnTo>
                  <a:lnTo>
                    <a:pt x="3361" y="1752"/>
                  </a:lnTo>
                  <a:lnTo>
                    <a:pt x="1084" y="1752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800000">
              <a:off x="7783920" y="2974680"/>
              <a:ext cx="1682640" cy="1439640"/>
            </a:xfrm>
            <a:custGeom>
              <a:avLst/>
              <a:gdLst/>
              <a:ahLst/>
              <a:rect l="l" t="t" r="r" b="b"/>
              <a:pathLst>
                <a:path w="4445" h="2106">
                  <a:moveTo>
                    <a:pt x="0" y="1929"/>
                  </a:moveTo>
                  <a:lnTo>
                    <a:pt x="1084" y="2106"/>
                  </a:lnTo>
                  <a:lnTo>
                    <a:pt x="3361" y="2106"/>
                  </a:lnTo>
                  <a:lnTo>
                    <a:pt x="4445" y="1929"/>
                  </a:lnTo>
                  <a:lnTo>
                    <a:pt x="3361" y="1752"/>
                  </a:lnTo>
                  <a:lnTo>
                    <a:pt x="1084" y="1752"/>
                  </a:lnTo>
                  <a:close/>
                </a:path>
              </a:pathLst>
            </a:cu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800000">
              <a:off x="8583120" y="4208400"/>
              <a:ext cx="1306800" cy="143820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800000">
              <a:off x="8580960" y="1566360"/>
              <a:ext cx="1305360" cy="143964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</p:grpSp>
      <p:sp>
        <p:nvSpPr>
          <p:cNvPr id="39" name="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0" name="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1" name="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ftr" idx="1"/>
          </p:nvPr>
        </p:nvSpPr>
        <p:spPr>
          <a:xfrm>
            <a:off x="4641480" y="5851440"/>
            <a:ext cx="35002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Num" idx="2"/>
          </p:nvPr>
        </p:nvSpPr>
        <p:spPr>
          <a:xfrm>
            <a:off x="4649400" y="223920"/>
            <a:ext cx="133020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3FF2E-CAEC-45D4-BEEF-CD13346E8B34}" type="slidenum">
              <a:rPr b="0" lang="ru-RU" sz="1200" spc="-1" strike="noStrike">
                <a:solidFill>
                  <a:srgbClr val="fefefe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5997600" y="223920"/>
            <a:ext cx="21319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 fontScale="89000"/>
          </a:bodyPr>
          <a:p>
            <a:pPr marL="3052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2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3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4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5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6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.xm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" Target="slide2.xml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50920" y="692280"/>
            <a:ext cx="867564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Monotype Corsiva"/>
              </a:rPr>
              <a:t>Правонарушения </a:t>
            </a:r>
            <a:br>
              <a:rPr sz="4800"/>
            </a:br>
            <a:r>
              <a:rPr b="1" lang="ru-RU" sz="4800" spc="-1" strike="noStrike">
                <a:solidFill>
                  <a:srgbClr val="002060"/>
                </a:solidFill>
                <a:latin typeface="Monotype Corsiva"/>
              </a:rPr>
              <a:t>и юридическая ответственность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826920" y="2060640"/>
            <a:ext cx="7632720" cy="4294080"/>
          </a:xfrm>
          <a:prstGeom prst="rect">
            <a:avLst/>
          </a:prstGeom>
          <a:ln w="0">
            <a:noFill/>
          </a:ln>
          <a:effectLst>
            <a:outerShdw dist="13898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44600" y="1000080"/>
            <a:ext cx="6565680" cy="24494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444600" y="3432240"/>
            <a:ext cx="6638760" cy="23889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7093080" y="981000"/>
            <a:ext cx="1439640" cy="1871640"/>
          </a:xfrm>
          <a:prstGeom prst="rect">
            <a:avLst/>
          </a:prstGeom>
          <a:ln w="0">
            <a:noFill/>
          </a:ln>
          <a:effectLst>
            <a:outerShdw dist="13898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7164360" y="3789360"/>
            <a:ext cx="1368360" cy="1871640"/>
          </a:xfrm>
          <a:prstGeom prst="rect">
            <a:avLst/>
          </a:prstGeom>
          <a:ln w="0">
            <a:noFill/>
          </a:ln>
          <a:effectLst>
            <a:outerShdw dist="13898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med">
    <p:fad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187280" y="620640"/>
            <a:ext cx="6553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иды юридической ответственности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39640" y="1341360"/>
          <a:ext cx="8137440" cy="5041440"/>
        </p:xfrm>
        <a:graphic>
          <a:graphicData uri="http://schemas.openxmlformats.org/drawingml/2006/table">
            <a:tbl>
              <a:tblPr/>
              <a:tblGrid>
                <a:gridCol w="2703960"/>
                <a:gridCol w="2716920"/>
                <a:gridCol w="2716560"/>
              </a:tblGrid>
              <a:tr h="419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638"/>
                        </a:spcBef>
                        <a:spcAft>
                          <a:spcPts val="6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638"/>
                        </a:spcBef>
                        <a:spcAft>
                          <a:spcPts val="6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ист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638"/>
                        </a:spcBef>
                        <a:spcAft>
                          <a:spcPts val="6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каз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</a:tr>
              <a:tr h="684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638"/>
                        </a:spcBef>
                        <a:spcAft>
                          <a:spcPts val="6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голов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638"/>
                        </a:spcBef>
                        <a:spcAft>
                          <a:spcPts val="6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а преступл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638"/>
                        </a:spcBef>
                        <a:spcAft>
                          <a:spcPts val="6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рест, лишение свободы,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нфискация имуще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13258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638"/>
                        </a:spcBef>
                        <a:spcAft>
                          <a:spcPts val="6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министратив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638"/>
                        </a:spcBef>
                        <a:spcAft>
                          <a:spcPts val="6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 нарушение в сферах государственного управления и общественного поряд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638"/>
                        </a:spcBef>
                        <a:spcAft>
                          <a:spcPts val="6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министративные работы, штраф, краткосрочный арест до 15 суто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6958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638"/>
                        </a:spcBef>
                        <a:spcAft>
                          <a:spcPts val="6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сциплинар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638"/>
                        </a:spcBef>
                        <a:spcAft>
                          <a:spcPts val="6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 нарушение в сфере служебных отноше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638"/>
                        </a:spcBef>
                        <a:spcAft>
                          <a:spcPts val="6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говор, понижение, увольн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770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638"/>
                        </a:spcBef>
                        <a:spcAft>
                          <a:spcPts val="6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атериальная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638"/>
                        </a:spcBef>
                        <a:spcAft>
                          <a:spcPts val="6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 нанесение имущественного ущерб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638"/>
                        </a:spcBef>
                        <a:spcAft>
                          <a:spcPts val="6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озмещение ущерб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1146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638"/>
                        </a:spcBef>
                        <a:spcAft>
                          <a:spcPts val="6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ажданск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638"/>
                        </a:spcBef>
                        <a:spcAft>
                          <a:spcPts val="6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 нарушения имущественных пра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638"/>
                        </a:spcBef>
                        <a:spcAft>
                          <a:spcPts val="6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мещение ущерба, принудительное восстановл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</a:tbl>
          </a:graphicData>
        </a:graphic>
      </p:graphicFrame>
    </p:spTree>
  </p:cSld>
  <p:transition spd="slow"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450720" y="334800"/>
            <a:ext cx="8302680" cy="12924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539640" y="1700280"/>
            <a:ext cx="799308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273240" algn="just">
              <a:lnSpc>
                <a:spcPct val="90000"/>
              </a:lnSpc>
              <a:spcBef>
                <a:spcPts val="561"/>
              </a:spcBef>
              <a:spcAft>
                <a:spcPts val="11"/>
              </a:spcAft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гражданско-правовой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частично с 15, полностью с 18 лет; </a:t>
            </a:r>
            <a:endParaRPr b="0" lang="en-US" sz="22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273240" algn="just">
              <a:lnSpc>
                <a:spcPct val="90000"/>
              </a:lnSpc>
              <a:spcBef>
                <a:spcPts val="561"/>
              </a:spcBef>
              <a:spcAft>
                <a:spcPts val="11"/>
              </a:spcAft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дисциплинарной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 16 лет;</a:t>
            </a:r>
            <a:endParaRPr b="0" lang="en-US" sz="22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273240" algn="just">
              <a:lnSpc>
                <a:spcPct val="90000"/>
              </a:lnSpc>
              <a:spcBef>
                <a:spcPts val="561"/>
              </a:spcBef>
              <a:spcAft>
                <a:spcPts val="11"/>
              </a:spcAft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административной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 16 лет; </a:t>
            </a:r>
            <a:endParaRPr b="0" lang="en-US" sz="22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273240" algn="just">
              <a:lnSpc>
                <a:spcPct val="90000"/>
              </a:lnSpc>
              <a:spcBef>
                <a:spcPts val="561"/>
              </a:spcBef>
              <a:spcAft>
                <a:spcPts val="11"/>
              </a:spcAft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уголовной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 16 лет, а за такие преступления, как убийство, нанесение телесных повреждений, причинивших расстройство здоровья, изнасилование, разбой, кража, грабеж, злостное хулиганство, - с 14 лет. </a:t>
            </a:r>
            <a:endParaRPr b="0" lang="en-US" sz="22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2916360" y="4508640"/>
            <a:ext cx="3311280" cy="1844640"/>
          </a:xfrm>
          <a:prstGeom prst="rect">
            <a:avLst/>
          </a:prstGeom>
          <a:ln w="0">
            <a:noFill/>
          </a:ln>
          <a:effectLst>
            <a:outerShdw dist="13898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4643280" y="1197000"/>
            <a:ext cx="396108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юридической ответственности могут привлекаться только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меняемые лица,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 есть те, кто способен отдавать себе отчет в своих действиях и руководить ими. 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algn="just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вменяемы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 могут привлекаться к юридической ответственности. 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84360" y="1341360"/>
            <a:ext cx="3887640" cy="3262320"/>
          </a:xfrm>
          <a:prstGeom prst="rect">
            <a:avLst/>
          </a:prstGeom>
          <a:ln w="0">
            <a:noFill/>
          </a:ln>
          <a:effectLst>
            <a:outerShdw dist="13898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676440" y="176040"/>
            <a:ext cx="7870680" cy="976320"/>
          </a:xfrm>
          <a:prstGeom prst="rect">
            <a:avLst/>
          </a:prstGeom>
          <a:ln w="0">
            <a:noFill/>
          </a:ln>
        </p:spPr>
      </p:pic>
      <p:sp>
        <p:nvSpPr>
          <p:cNvPr id="147" name="">
            <a:hlinkClick r:id="rId3" action="ppaction://hlinksldjump"/>
          </p:cNvPr>
          <p:cNvSpPr/>
          <p:nvPr/>
        </p:nvSpPr>
        <p:spPr>
          <a:xfrm>
            <a:off x="2195640" y="6504120"/>
            <a:ext cx="360360" cy="353880"/>
          </a:xfrm>
          <a:custGeom>
            <a:avLst/>
            <a:gdLst/>
            <a:ahLst/>
            <a:rect l="l" t="t" r="r" b="b"/>
            <a:pathLst>
              <a:path w="360362" h="354011">
                <a:moveTo>
                  <a:pt x="0" y="135220"/>
                </a:moveTo>
                <a:lnTo>
                  <a:pt x="137647" y="135221"/>
                </a:lnTo>
                <a:lnTo>
                  <a:pt x="180181" y="0"/>
                </a:lnTo>
                <a:lnTo>
                  <a:pt x="222715" y="135221"/>
                </a:lnTo>
                <a:lnTo>
                  <a:pt x="360362" y="135220"/>
                </a:lnTo>
                <a:lnTo>
                  <a:pt x="249003" y="218791"/>
                </a:lnTo>
                <a:lnTo>
                  <a:pt x="291539" y="354011"/>
                </a:lnTo>
                <a:lnTo>
                  <a:pt x="180181" y="270439"/>
                </a:lnTo>
                <a:lnTo>
                  <a:pt x="68823" y="354011"/>
                </a:lnTo>
                <a:lnTo>
                  <a:pt x="111359" y="218791"/>
                </a:lnTo>
                <a:lnTo>
                  <a:pt x="0" y="135220"/>
                </a:lnTo>
                <a:close/>
              </a:path>
            </a:pathLst>
          </a:custGeom>
          <a:solidFill>
            <a:srgbClr val="94c600"/>
          </a:solidFill>
          <a:ln w="15840">
            <a:solidFill>
              <a:srgbClr val="6b91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48" name=""/>
          <p:cNvSpPr/>
          <p:nvPr/>
        </p:nvSpPr>
        <p:spPr>
          <a:xfrm>
            <a:off x="431640" y="4869000"/>
            <a:ext cx="8280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лица, страдающие хронической душевной болезнью, временным расстройством душевной деятельности, слабоумием и другими болезненными состояниями, когда человек теряет способность отдавать себе отчет в своих действиях и руководить ими. 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ransition spd="med">
    <p:fad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5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539640" y="692280"/>
            <a:ext cx="8136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ыберите ситуации, за которые наступает уголовная ответственность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0" name=""/>
          <p:cNvSpPr/>
          <p:nvPr/>
        </p:nvSpPr>
        <p:spPr>
          <a:xfrm>
            <a:off x="539640" y="1268280"/>
            <a:ext cx="8136000" cy="51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273240" algn="just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ростки залезли в чужой автомобиль и катались по городу. 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273240" algn="just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зья решили посмотреть, как устроено ружье, купленное отцом одного из них. Играя, один направил ружье на другого и нажал курок. Неожиданно для обоих ружье выстрелило, один из подростков погиб. 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273240" algn="just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я мячом во дворе, подросток разбил стекло.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273240" algn="just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еремене подросток зашел в раздевалку и забрал понравившуюся чужую меховую шапку. 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273240" algn="just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ростки курили в школьном туалете.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273240" algn="just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успев подготовиться к контрольной работе, подросток позвонил директору школы и сообщил, что в школе заложена бомба. 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273240" algn="just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росток остановил первоклассника и потребовал у него денег. 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273240" algn="just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росток перебежал улицу на запрещающий сигнал светофора.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ransition spd="slow">
    <p:randomBa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785880" y="549360"/>
            <a:ext cx="7126200" cy="115704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611280" y="1916280"/>
            <a:ext cx="7993080" cy="39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273240" algn="just">
              <a:lnSpc>
                <a:spcPct val="100000"/>
              </a:lnSpc>
              <a:spcBef>
                <a:spcPts val="612"/>
              </a:spcBef>
              <a:spcAft>
                <a:spcPts val="11"/>
              </a:spcAft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о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презумпция»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значает предположение, основанное на вероятности.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273240" algn="just">
              <a:lnSpc>
                <a:spcPct val="100000"/>
              </a:lnSpc>
              <a:spcBef>
                <a:spcPts val="612"/>
              </a:spcBef>
              <a:spcAft>
                <a:spcPts val="11"/>
              </a:spcAft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 принцип презумпции невиновности сформулирован в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. 49 Конституции РФ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ующим образом: «Каждый обвиняемый в совершении преступления считается невиновным, пока его виновность не будет доказана в установленном федеральным законом порядке и установлена вступившим в силу приговором суда.»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684360" y="1125360"/>
            <a:ext cx="7848360" cy="50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  <a:spcBef>
                <a:spcPts val="6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Надо знать, когда действовать и когда воздержаться от поступков. Действие и бездействие в этих обстоятельствах сродни и отнюдь не противоречат друг другу. Надо знать, когда действовать и когда воздержаться от поступков. Действие и бездействие в этих обстоятельствах сродни и отнюдь не противоречат друг другу.»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algn="r">
              <a:lnSpc>
                <a:spcPct val="100000"/>
              </a:lnSpc>
              <a:spcBef>
                <a:spcPts val="6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. Ганди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916360" y="3860640"/>
            <a:ext cx="3314520" cy="24973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1689120" y="115920"/>
            <a:ext cx="5845320" cy="871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dur="indefinite" nodeType="clickEffect" fill="hold">
                      <p:stCondLst>
                        <p:cond delay="0"/>
                      </p:stCondLst>
                      <p:childTnLst>
                        <p:par>
                          <p:cTn id="32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652320" y="109440"/>
            <a:ext cx="7521840" cy="1195560"/>
          </a:xfrm>
          <a:prstGeom prst="rect">
            <a:avLst/>
          </a:prstGeom>
          <a:ln w="0">
            <a:noFill/>
          </a:ln>
        </p:spPr>
      </p:pic>
      <p:sp>
        <p:nvSpPr>
          <p:cNvPr id="93" name="">
            <a:hlinkClick r:id="rId2" action="ppaction://hlinksldjump"/>
          </p:cNvPr>
          <p:cNvSpPr/>
          <p:nvPr/>
        </p:nvSpPr>
        <p:spPr>
          <a:xfrm>
            <a:off x="1376280" y="6378480"/>
            <a:ext cx="457200" cy="457200"/>
          </a:xfrm>
          <a:custGeom>
            <a:avLst/>
            <a:gdLst/>
            <a:ahLst/>
            <a:rect l="l" t="t" r="r" b="b"/>
            <a:pathLst>
              <a:path w="457200" h="457199">
                <a:moveTo>
                  <a:pt x="0" y="174634"/>
                </a:moveTo>
                <a:lnTo>
                  <a:pt x="179920" y="182283"/>
                </a:lnTo>
                <a:lnTo>
                  <a:pt x="228600" y="0"/>
                </a:lnTo>
                <a:lnTo>
                  <a:pt x="277280" y="182283"/>
                </a:lnTo>
                <a:lnTo>
                  <a:pt x="457200" y="174634"/>
                </a:lnTo>
                <a:lnTo>
                  <a:pt x="307366" y="279643"/>
                </a:lnTo>
                <a:lnTo>
                  <a:pt x="369882" y="457199"/>
                </a:lnTo>
                <a:lnTo>
                  <a:pt x="228600" y="339815"/>
                </a:lnTo>
                <a:lnTo>
                  <a:pt x="87318" y="457199"/>
                </a:lnTo>
                <a:lnTo>
                  <a:pt x="149834" y="279643"/>
                </a:lnTo>
                <a:lnTo>
                  <a:pt x="0" y="174634"/>
                </a:lnTo>
                <a:close/>
              </a:path>
            </a:pathLst>
          </a:custGeom>
          <a:solidFill>
            <a:srgbClr val="94c600"/>
          </a:solidFill>
          <a:ln w="15840">
            <a:solidFill>
              <a:srgbClr val="6b91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3132000" y="2924280"/>
            <a:ext cx="4813560" cy="31780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611280" y="1413000"/>
            <a:ext cx="7921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авонарушени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противоправное поведение (деяние) гражданина или должностного лица, злоупотребляющего властью, служебными полномочиями, свободой и неприкосновенностью других людей. 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0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65040" y="115920"/>
            <a:ext cx="8248680" cy="12556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468360" y="1484280"/>
            <a:ext cx="2592360" cy="936720"/>
          </a:xfrm>
          <a:custGeom>
            <a:avLst/>
            <a:gdLst/>
            <a:ahLst/>
            <a:rect l="l" t="t" r="r" b="b"/>
            <a:pathLst>
              <a:path w="7201" h="2602">
                <a:moveTo>
                  <a:pt x="0" y="1278"/>
                </a:moveTo>
                <a:lnTo>
                  <a:pt x="1278" y="1278"/>
                </a:lnTo>
                <a:lnTo>
                  <a:pt x="180" y="90"/>
                </a:lnTo>
                <a:lnTo>
                  <a:pt x="5923" y="0"/>
                </a:lnTo>
                <a:lnTo>
                  <a:pt x="1278" y="1278"/>
                </a:lnTo>
                <a:lnTo>
                  <a:pt x="270" y="90"/>
                </a:lnTo>
                <a:lnTo>
                  <a:pt x="7201" y="1324"/>
                </a:lnTo>
                <a:lnTo>
                  <a:pt x="1278" y="1278"/>
                </a:lnTo>
                <a:close/>
              </a:path>
            </a:pathLst>
          </a:custGeom>
          <a:gradFill rotWithShape="0">
            <a:gsLst>
              <a:gs pos="0">
                <a:srgbClr val="eee5e0"/>
              </a:gs>
              <a:gs pos="100000">
                <a:srgbClr val="996b3f"/>
              </a:gs>
            </a:gsLst>
            <a:lin ang="5040000"/>
          </a:gradFill>
          <a:ln w="9360">
            <a:solidFill>
              <a:srgbClr val="956b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ственный вред 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2451240" y="1170000"/>
            <a:ext cx="822240" cy="409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5694480" y="1212840"/>
            <a:ext cx="992160" cy="3967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3033720" y="1413000"/>
            <a:ext cx="1211400" cy="1655640"/>
          </a:xfrm>
          <a:custGeom>
            <a:avLst/>
            <a:gdLst/>
            <a:ahLst/>
            <a:rect l="l" t="t" r="r" b="b"/>
            <a:pathLst>
              <a:path w="3539" h="5134">
                <a:moveTo>
                  <a:pt x="0" y="5134"/>
                </a:moveTo>
                <a:lnTo>
                  <a:pt x="3452" y="5134"/>
                </a:lnTo>
                <a:lnTo>
                  <a:pt x="3452" y="0"/>
                </a:lnTo>
                <a:lnTo>
                  <a:pt x="-87" y="0"/>
                </a:lnTo>
                <a:lnTo>
                  <a:pt x="-87" y="5134"/>
                </a:lnTo>
                <a:lnTo>
                  <a:pt x="3365" y="5134"/>
                </a:lnTo>
                <a:lnTo>
                  <a:pt x="1683" y="4599"/>
                </a:lnTo>
                <a:close/>
              </a:path>
            </a:pathLst>
          </a:custGeom>
          <a:solidFill>
            <a:srgbClr val="94c600"/>
          </a:solidFill>
          <a:ln w="1584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4500720" y="1413000"/>
            <a:ext cx="1274760" cy="17398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5"/>
          <a:stretch/>
        </p:blipFill>
        <p:spPr>
          <a:xfrm>
            <a:off x="1378080" y="4102200"/>
            <a:ext cx="1116000" cy="9334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6"/>
          <a:stretch/>
        </p:blipFill>
        <p:spPr>
          <a:xfrm>
            <a:off x="3608280" y="4102200"/>
            <a:ext cx="603360" cy="6778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7"/>
          <a:stretch/>
        </p:blipFill>
        <p:spPr>
          <a:xfrm>
            <a:off x="4730760" y="4102200"/>
            <a:ext cx="584280" cy="890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8"/>
          <a:stretch/>
        </p:blipFill>
        <p:spPr>
          <a:xfrm>
            <a:off x="6156360" y="4102200"/>
            <a:ext cx="950760" cy="8604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340000" y="3141720"/>
            <a:ext cx="1992240" cy="1008000"/>
          </a:xfrm>
          <a:custGeom>
            <a:avLst/>
            <a:gdLst/>
            <a:ahLst/>
            <a:rect l="l" t="t" r="r" b="b"/>
            <a:pathLst>
              <a:path w="5534" h="2800">
                <a:moveTo>
                  <a:pt x="0" y="1376"/>
                </a:moveTo>
                <a:lnTo>
                  <a:pt x="1376" y="1376"/>
                </a:lnTo>
                <a:lnTo>
                  <a:pt x="180" y="90"/>
                </a:lnTo>
                <a:lnTo>
                  <a:pt x="4158" y="0"/>
                </a:lnTo>
                <a:lnTo>
                  <a:pt x="1376" y="1376"/>
                </a:lnTo>
                <a:lnTo>
                  <a:pt x="270" y="90"/>
                </a:lnTo>
                <a:lnTo>
                  <a:pt x="5534" y="1424"/>
                </a:lnTo>
                <a:lnTo>
                  <a:pt x="1376" y="1376"/>
                </a:lnTo>
                <a:close/>
              </a:path>
            </a:pathLst>
          </a:custGeom>
          <a:gradFill rotWithShape="0">
            <a:gsLst>
              <a:gs pos="0">
                <a:srgbClr val="ffdcd4"/>
              </a:gs>
              <a:gs pos="100000">
                <a:srgbClr val="ff6500"/>
              </a:gs>
            </a:gsLst>
            <a:lin ang="5040000"/>
          </a:gradFill>
          <a:ln w="9360">
            <a:solidFill>
              <a:srgbClr val="ff6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ние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0" y="3141720"/>
            <a:ext cx="2314440" cy="1008000"/>
          </a:xfrm>
          <a:custGeom>
            <a:avLst/>
            <a:gdLst/>
            <a:ahLst/>
            <a:rect l="l" t="t" r="r" b="b"/>
            <a:pathLst>
              <a:path w="6429" h="2800">
                <a:moveTo>
                  <a:pt x="0" y="1376"/>
                </a:moveTo>
                <a:lnTo>
                  <a:pt x="1376" y="1376"/>
                </a:lnTo>
                <a:lnTo>
                  <a:pt x="180" y="90"/>
                </a:lnTo>
                <a:lnTo>
                  <a:pt x="5053" y="0"/>
                </a:lnTo>
                <a:lnTo>
                  <a:pt x="1376" y="1376"/>
                </a:lnTo>
                <a:lnTo>
                  <a:pt x="270" y="90"/>
                </a:lnTo>
                <a:lnTo>
                  <a:pt x="6429" y="1424"/>
                </a:lnTo>
                <a:lnTo>
                  <a:pt x="1376" y="1376"/>
                </a:lnTo>
                <a:close/>
              </a:path>
            </a:pathLst>
          </a:custGeom>
          <a:gradFill rotWithShape="0">
            <a:gsLst>
              <a:gs pos="0">
                <a:srgbClr val="ffdcd4"/>
              </a:gs>
              <a:gs pos="100000">
                <a:srgbClr val="ff6500"/>
              </a:gs>
            </a:gsLst>
            <a:lin ang="5040000"/>
          </a:gradFill>
          <a:ln w="9360">
            <a:solidFill>
              <a:srgbClr val="ff6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новные 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8" name=""/>
          <p:cNvSpPr/>
          <p:nvPr/>
        </p:nvSpPr>
        <p:spPr>
          <a:xfrm>
            <a:off x="5580000" y="1484280"/>
            <a:ext cx="2892600" cy="720720"/>
          </a:xfrm>
          <a:custGeom>
            <a:avLst/>
            <a:gdLst/>
            <a:ahLst/>
            <a:rect l="l" t="t" r="r" b="b"/>
            <a:pathLst>
              <a:path w="8035" h="2002">
                <a:moveTo>
                  <a:pt x="0" y="984"/>
                </a:moveTo>
                <a:lnTo>
                  <a:pt x="984" y="984"/>
                </a:lnTo>
                <a:lnTo>
                  <a:pt x="180" y="90"/>
                </a:lnTo>
                <a:lnTo>
                  <a:pt x="7051" y="0"/>
                </a:lnTo>
                <a:lnTo>
                  <a:pt x="984" y="984"/>
                </a:lnTo>
                <a:lnTo>
                  <a:pt x="270" y="90"/>
                </a:lnTo>
                <a:lnTo>
                  <a:pt x="8035" y="1018"/>
                </a:lnTo>
                <a:lnTo>
                  <a:pt x="984" y="984"/>
                </a:lnTo>
                <a:close/>
              </a:path>
            </a:pathLst>
          </a:custGeom>
          <a:gradFill rotWithShape="0">
            <a:gsLst>
              <a:gs pos="0">
                <a:srgbClr val="eee5e0"/>
              </a:gs>
              <a:gs pos="100000">
                <a:srgbClr val="996b3f"/>
              </a:gs>
            </a:gsLst>
            <a:lin ang="5040000"/>
          </a:gradFill>
          <a:ln w="9360">
            <a:solidFill>
              <a:srgbClr val="956b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ивоправность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9" name=""/>
          <p:cNvSpPr/>
          <p:nvPr/>
        </p:nvSpPr>
        <p:spPr>
          <a:xfrm>
            <a:off x="611280" y="4869000"/>
            <a:ext cx="1657080" cy="647640"/>
          </a:xfrm>
          <a:custGeom>
            <a:avLst/>
            <a:gdLst/>
            <a:ahLst/>
            <a:rect l="l" t="t" r="r" b="b"/>
            <a:pathLst>
              <a:path w="4603" h="1799">
                <a:moveTo>
                  <a:pt x="0" y="884"/>
                </a:moveTo>
                <a:lnTo>
                  <a:pt x="884" y="884"/>
                </a:lnTo>
                <a:lnTo>
                  <a:pt x="180" y="90"/>
                </a:lnTo>
                <a:lnTo>
                  <a:pt x="3719" y="0"/>
                </a:lnTo>
                <a:lnTo>
                  <a:pt x="884" y="884"/>
                </a:lnTo>
                <a:lnTo>
                  <a:pt x="270" y="90"/>
                </a:lnTo>
                <a:lnTo>
                  <a:pt x="4603" y="915"/>
                </a:lnTo>
                <a:lnTo>
                  <a:pt x="884" y="884"/>
                </a:lnTo>
                <a:close/>
              </a:path>
            </a:pathLst>
          </a:custGeom>
          <a:gradFill rotWithShape="0">
            <a:gsLst>
              <a:gs pos="0">
                <a:srgbClr val="e8e6e4"/>
              </a:gs>
              <a:gs pos="100000">
                <a:srgbClr val="726859"/>
              </a:gs>
            </a:gsLst>
            <a:lin ang="5040000"/>
          </a:gradFill>
          <a:ln w="9360">
            <a:solidFill>
              <a:srgbClr val="716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йствие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0" name=""/>
          <p:cNvSpPr/>
          <p:nvPr/>
        </p:nvSpPr>
        <p:spPr>
          <a:xfrm>
            <a:off x="2484360" y="4653000"/>
            <a:ext cx="1763640" cy="647640"/>
          </a:xfrm>
          <a:custGeom>
            <a:avLst/>
            <a:gdLst/>
            <a:ahLst/>
            <a:rect l="l" t="t" r="r" b="b"/>
            <a:pathLst>
              <a:path w="4899" h="1799">
                <a:moveTo>
                  <a:pt x="0" y="884"/>
                </a:moveTo>
                <a:lnTo>
                  <a:pt x="884" y="884"/>
                </a:lnTo>
                <a:lnTo>
                  <a:pt x="180" y="90"/>
                </a:lnTo>
                <a:lnTo>
                  <a:pt x="4015" y="0"/>
                </a:lnTo>
                <a:lnTo>
                  <a:pt x="884" y="884"/>
                </a:lnTo>
                <a:lnTo>
                  <a:pt x="270" y="90"/>
                </a:lnTo>
                <a:lnTo>
                  <a:pt x="4899" y="915"/>
                </a:lnTo>
                <a:lnTo>
                  <a:pt x="884" y="884"/>
                </a:lnTo>
                <a:close/>
              </a:path>
            </a:pathLst>
          </a:custGeom>
          <a:gradFill rotWithShape="0">
            <a:gsLst>
              <a:gs pos="0">
                <a:srgbClr val="e8e6e4"/>
              </a:gs>
              <a:gs pos="100000">
                <a:srgbClr val="726859"/>
              </a:gs>
            </a:gsLst>
            <a:lin ang="5040000"/>
          </a:gradFill>
          <a:ln w="9360">
            <a:solidFill>
              <a:srgbClr val="716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действие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1" name=""/>
          <p:cNvSpPr/>
          <p:nvPr/>
        </p:nvSpPr>
        <p:spPr>
          <a:xfrm>
            <a:off x="4716360" y="4797360"/>
            <a:ext cx="1640160" cy="647640"/>
          </a:xfrm>
          <a:custGeom>
            <a:avLst/>
            <a:gdLst/>
            <a:ahLst/>
            <a:rect l="l" t="t" r="r" b="b"/>
            <a:pathLst>
              <a:path w="4556" h="1799">
                <a:moveTo>
                  <a:pt x="0" y="884"/>
                </a:moveTo>
                <a:lnTo>
                  <a:pt x="884" y="884"/>
                </a:lnTo>
                <a:lnTo>
                  <a:pt x="180" y="90"/>
                </a:lnTo>
                <a:lnTo>
                  <a:pt x="3672" y="0"/>
                </a:lnTo>
                <a:lnTo>
                  <a:pt x="884" y="884"/>
                </a:lnTo>
                <a:lnTo>
                  <a:pt x="270" y="90"/>
                </a:lnTo>
                <a:lnTo>
                  <a:pt x="4556" y="915"/>
                </a:lnTo>
                <a:lnTo>
                  <a:pt x="884" y="884"/>
                </a:lnTo>
                <a:close/>
              </a:path>
            </a:pathLst>
          </a:custGeom>
          <a:gradFill rotWithShape="0">
            <a:gsLst>
              <a:gs pos="0">
                <a:srgbClr val="e8e6e4"/>
              </a:gs>
              <a:gs pos="100000">
                <a:srgbClr val="726859"/>
              </a:gs>
            </a:gsLst>
            <a:lin ang="5040000"/>
          </a:gradFill>
          <a:ln w="9360">
            <a:solidFill>
              <a:srgbClr val="716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ысел 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2" name=""/>
          <p:cNvSpPr/>
          <p:nvPr/>
        </p:nvSpPr>
        <p:spPr>
          <a:xfrm>
            <a:off x="6516720" y="4797360"/>
            <a:ext cx="2087640" cy="647640"/>
          </a:xfrm>
          <a:custGeom>
            <a:avLst/>
            <a:gdLst/>
            <a:ahLst/>
            <a:rect l="l" t="t" r="r" b="b"/>
            <a:pathLst>
              <a:path w="5799" h="1799">
                <a:moveTo>
                  <a:pt x="0" y="884"/>
                </a:moveTo>
                <a:lnTo>
                  <a:pt x="884" y="884"/>
                </a:lnTo>
                <a:lnTo>
                  <a:pt x="180" y="90"/>
                </a:lnTo>
                <a:lnTo>
                  <a:pt x="4915" y="0"/>
                </a:lnTo>
                <a:lnTo>
                  <a:pt x="884" y="884"/>
                </a:lnTo>
                <a:lnTo>
                  <a:pt x="270" y="90"/>
                </a:lnTo>
                <a:lnTo>
                  <a:pt x="5799" y="915"/>
                </a:lnTo>
                <a:lnTo>
                  <a:pt x="884" y="884"/>
                </a:lnTo>
                <a:close/>
              </a:path>
            </a:pathLst>
          </a:custGeom>
          <a:gradFill rotWithShape="0">
            <a:gsLst>
              <a:gs pos="0">
                <a:srgbClr val="e8e6e4"/>
              </a:gs>
              <a:gs pos="100000">
                <a:srgbClr val="726859"/>
              </a:gs>
            </a:gsLst>
            <a:lin ang="5040000"/>
          </a:gradFill>
          <a:ln w="9360">
            <a:solidFill>
              <a:srgbClr val="716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сторожность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3" name="">
            <a:hlinkClick r:id="rId9" action="ppaction://hlinksldjump"/>
          </p:cNvPr>
          <p:cNvSpPr/>
          <p:nvPr/>
        </p:nvSpPr>
        <p:spPr>
          <a:xfrm>
            <a:off x="1928880" y="6426360"/>
            <a:ext cx="504720" cy="431640"/>
          </a:xfrm>
          <a:custGeom>
            <a:avLst/>
            <a:gdLst/>
            <a:ahLst/>
            <a:rect l="l" t="t" r="r" b="b"/>
            <a:pathLst>
              <a:path w="504824" h="431799">
                <a:moveTo>
                  <a:pt x="1" y="164933"/>
                </a:moveTo>
                <a:lnTo>
                  <a:pt x="192827" y="164934"/>
                </a:lnTo>
                <a:lnTo>
                  <a:pt x="252413" y="0"/>
                </a:lnTo>
                <a:lnTo>
                  <a:pt x="311998" y="164934"/>
                </a:lnTo>
                <a:lnTo>
                  <a:pt x="504824" y="164933"/>
                </a:lnTo>
                <a:lnTo>
                  <a:pt x="348824" y="266866"/>
                </a:lnTo>
                <a:lnTo>
                  <a:pt x="408412" y="431799"/>
                </a:lnTo>
                <a:lnTo>
                  <a:pt x="252413" y="329864"/>
                </a:lnTo>
                <a:lnTo>
                  <a:pt x="96413" y="431799"/>
                </a:lnTo>
                <a:lnTo>
                  <a:pt x="156001" y="266866"/>
                </a:lnTo>
                <a:lnTo>
                  <a:pt x="1" y="164933"/>
                </a:lnTo>
                <a:close/>
              </a:path>
            </a:pathLst>
          </a:custGeom>
          <a:solidFill>
            <a:srgbClr val="94c600"/>
          </a:solidFill>
          <a:ln w="15840">
            <a:solidFill>
              <a:srgbClr val="6b91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33440" y="0"/>
            <a:ext cx="8253360" cy="12430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468360" y="1268280"/>
            <a:ext cx="79912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  <a:spcBef>
                <a:spcPts val="6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Преступление 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знается виновно совершенно общественно опасно деяние, запрещенное УК РФ под угрозой наказания.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algn="just">
              <a:lnSpc>
                <a:spcPct val="100000"/>
              </a:lnSpc>
              <a:spcBef>
                <a:spcPts val="6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роступок 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иновно, общественно опасное, противоправное деяние. От преступления проступок отличается меньшей степенью общественной опасности(вредности). 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39640" y="4149720"/>
            <a:ext cx="2716200" cy="22417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5292720" y="3789360"/>
            <a:ext cx="3203640" cy="2554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187280" y="189000"/>
            <a:ext cx="655344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лассифицируйте указанные противоправные деяния на проступки и преступления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9" name=""/>
          <p:cNvSpPr/>
          <p:nvPr/>
        </p:nvSpPr>
        <p:spPr>
          <a:xfrm>
            <a:off x="539640" y="1916280"/>
            <a:ext cx="8136000" cy="45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273240" algn="just">
              <a:lnSpc>
                <a:spcPct val="100000"/>
              </a:lnSpc>
              <a:spcBef>
                <a:spcPts val="711"/>
              </a:spcBef>
              <a:spcAft>
                <a:spcPts val="11"/>
              </a:spcAft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беж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273240" algn="just">
              <a:lnSpc>
                <a:spcPct val="100000"/>
              </a:lnSpc>
              <a:spcBef>
                <a:spcPts val="711"/>
              </a:spcBef>
              <a:spcAft>
                <a:spcPts val="11"/>
              </a:spcAft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рговля с рук в неустановленных местах 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273240" algn="just">
              <a:lnSpc>
                <a:spcPct val="100000"/>
              </a:lnSpc>
              <a:spcBef>
                <a:spcPts val="711"/>
              </a:spcBef>
              <a:spcAft>
                <a:spcPts val="11"/>
              </a:spcAft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жа 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273240" algn="just">
              <a:lnSpc>
                <a:spcPct val="100000"/>
              </a:lnSpc>
              <a:spcBef>
                <a:spcPts val="711"/>
              </a:spcBef>
              <a:spcAft>
                <a:spcPts val="11"/>
              </a:spcAft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выполнение договора 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273240" algn="just">
              <a:lnSpc>
                <a:spcPct val="100000"/>
              </a:lnSpc>
              <a:spcBef>
                <a:spcPts val="711"/>
              </a:spcBef>
              <a:spcAft>
                <a:spcPts val="11"/>
              </a:spcAft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плаченный проезд в транспорте 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273240" algn="just">
              <a:lnSpc>
                <a:spcPct val="100000"/>
              </a:lnSpc>
              <a:spcBef>
                <a:spcPts val="711"/>
              </a:spcBef>
              <a:spcAft>
                <a:spcPts val="11"/>
              </a:spcAft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могательство 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273240" algn="just">
              <a:lnSpc>
                <a:spcPct val="100000"/>
              </a:lnSpc>
              <a:spcBef>
                <a:spcPts val="711"/>
              </a:spcBef>
              <a:spcAft>
                <a:spcPts val="11"/>
              </a:spcAft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реждение телефона-автомата 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273240" algn="just">
              <a:lnSpc>
                <a:spcPct val="100000"/>
              </a:lnSpc>
              <a:spcBef>
                <a:spcPts val="711"/>
              </a:spcBef>
              <a:spcAft>
                <a:spcPts val="11"/>
              </a:spcAft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шенничество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ransition spd="slow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01760" y="0"/>
            <a:ext cx="8248680" cy="9270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371520" y="1079640"/>
            <a:ext cx="8358120" cy="5437080"/>
          </a:xfrm>
          <a:prstGeom prst="rect">
            <a:avLst/>
          </a:prstGeom>
          <a:ln w="0">
            <a:noFill/>
          </a:ln>
        </p:spPr>
      </p:pic>
      <p:sp>
        <p:nvSpPr>
          <p:cNvPr id="122" name="">
            <a:hlinkClick r:id="rId3" action="ppaction://hlinksldjump"/>
          </p:cNvPr>
          <p:cNvSpPr/>
          <p:nvPr/>
        </p:nvSpPr>
        <p:spPr>
          <a:xfrm>
            <a:off x="2195640" y="6497640"/>
            <a:ext cx="431640" cy="360360"/>
          </a:xfrm>
          <a:custGeom>
            <a:avLst/>
            <a:gdLst/>
            <a:ahLst/>
            <a:rect l="l" t="t" r="r" b="b"/>
            <a:pathLst>
              <a:path w="431800" h="360361">
                <a:moveTo>
                  <a:pt x="0" y="137646"/>
                </a:moveTo>
                <a:lnTo>
                  <a:pt x="164934" y="137647"/>
                </a:lnTo>
                <a:lnTo>
                  <a:pt x="215900" y="0"/>
                </a:lnTo>
                <a:lnTo>
                  <a:pt x="266866" y="137647"/>
                </a:lnTo>
                <a:lnTo>
                  <a:pt x="431800" y="137646"/>
                </a:lnTo>
                <a:lnTo>
                  <a:pt x="298365" y="222715"/>
                </a:lnTo>
                <a:lnTo>
                  <a:pt x="349333" y="360361"/>
                </a:lnTo>
                <a:lnTo>
                  <a:pt x="215900" y="275290"/>
                </a:lnTo>
                <a:lnTo>
                  <a:pt x="82467" y="360361"/>
                </a:lnTo>
                <a:lnTo>
                  <a:pt x="133435" y="222715"/>
                </a:lnTo>
                <a:lnTo>
                  <a:pt x="0" y="137646"/>
                </a:lnTo>
                <a:close/>
              </a:path>
            </a:pathLst>
          </a:custGeom>
          <a:solidFill>
            <a:srgbClr val="94c600"/>
          </a:solidFill>
          <a:ln w="15840">
            <a:solidFill>
              <a:srgbClr val="6b91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539640" y="333360"/>
            <a:ext cx="8136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пределите ситуации в качестве проступка или преступления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4" name=""/>
          <p:cNvSpPr/>
          <p:nvPr/>
        </p:nvSpPr>
        <p:spPr>
          <a:xfrm>
            <a:off x="539640" y="1773360"/>
            <a:ext cx="813600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273240" algn="just">
              <a:lnSpc>
                <a:spcPct val="100000"/>
              </a:lnSpc>
              <a:spcBef>
                <a:spcPts val="612"/>
              </a:spcBef>
              <a:spcAft>
                <a:spcPts val="11"/>
              </a:spcAft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митрий Сонин, 20 лет, торопясь в зоомагазин, перебежал улицу перед близко идущим транспортом, хотя в 20 метрах находился подземный переход.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273240" algn="just">
              <a:lnSpc>
                <a:spcPct val="100000"/>
              </a:lnSpc>
              <a:spcBef>
                <a:spcPts val="612"/>
              </a:spcBef>
              <a:spcAft>
                <a:spcPts val="11"/>
              </a:spcAft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сятиклассник Сергей шел домой. На пустынной улице к нему подошли двое подвыпивших ребят, Вадим и Игорь. Они начали оскорблять его, жестоко избили и нанесли ему несколько ножевых ранений, затем скрылись в неизвестном направлении.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ransition spd="slow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003640" y="3573360"/>
            <a:ext cx="3240360" cy="2697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353880" y="0"/>
            <a:ext cx="8345520" cy="114624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6836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  <a:spcBef>
                <a:spcPts val="6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ридическая ответственность 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ответственность пред законом, перед судом. Выражается она в том, что в отношении лица, вина которого доказана, применяются меры государственного принуждения, государство его наказывает: штрафует, обязывает возместить причинённый ущерб, лишает свободы Строгость наказания зависит от характера правонарушения.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8" name="">
            <a:hlinkClick r:id="rId3" action="ppaction://hlinksldjump"/>
          </p:cNvPr>
          <p:cNvSpPr/>
          <p:nvPr/>
        </p:nvSpPr>
        <p:spPr>
          <a:xfrm>
            <a:off x="1979640" y="6426360"/>
            <a:ext cx="576360" cy="431640"/>
          </a:xfrm>
          <a:custGeom>
            <a:avLst/>
            <a:gdLst/>
            <a:ahLst/>
            <a:rect l="l" t="t" r="r" b="b"/>
            <a:pathLst>
              <a:path w="576261" h="431799">
                <a:moveTo>
                  <a:pt x="1" y="164933"/>
                </a:moveTo>
                <a:lnTo>
                  <a:pt x="220114" y="164934"/>
                </a:lnTo>
                <a:lnTo>
                  <a:pt x="288131" y="0"/>
                </a:lnTo>
                <a:lnTo>
                  <a:pt x="356148" y="164934"/>
                </a:lnTo>
                <a:lnTo>
                  <a:pt x="576261" y="164933"/>
                </a:lnTo>
                <a:lnTo>
                  <a:pt x="398185" y="266866"/>
                </a:lnTo>
                <a:lnTo>
                  <a:pt x="466205" y="431799"/>
                </a:lnTo>
                <a:lnTo>
                  <a:pt x="288131" y="329864"/>
                </a:lnTo>
                <a:lnTo>
                  <a:pt x="110057" y="431799"/>
                </a:lnTo>
                <a:lnTo>
                  <a:pt x="178077" y="266866"/>
                </a:lnTo>
                <a:lnTo>
                  <a:pt x="1" y="164933"/>
                </a:lnTo>
                <a:close/>
              </a:path>
            </a:pathLst>
          </a:custGeom>
          <a:solidFill>
            <a:srgbClr val="94c600"/>
          </a:solidFill>
          <a:ln w="15840">
            <a:solidFill>
              <a:srgbClr val="6b91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9" name=""/>
          <p:cNvSpPr/>
          <p:nvPr/>
        </p:nvSpPr>
        <p:spPr>
          <a:xfrm>
            <a:off x="599760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efe"/>
                </a:solidFill>
                <a:latin typeface="Century Gothic"/>
                <a:ea typeface="DejaVu Sans"/>
              </a:rPr>
              <a:t>4.2.24</a:t>
            </a:r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579600" y="12600"/>
            <a:ext cx="8246880" cy="11397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360360" y="1017720"/>
            <a:ext cx="8418600" cy="17920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476280" y="4797360"/>
            <a:ext cx="8191440" cy="11764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5796000" y="2708280"/>
            <a:ext cx="2854440" cy="19033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5"/>
          <a:stretch/>
        </p:blipFill>
        <p:spPr>
          <a:xfrm>
            <a:off x="539640" y="2708280"/>
            <a:ext cx="3240360" cy="1843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1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01T16:51:28Z</dcterms:created>
  <dc:creator>1</dc:creator>
  <dc:description/>
  <dc:language>en-US</dc:language>
  <cp:lastModifiedBy>Пользователь</cp:lastModifiedBy>
  <dcterms:modified xsi:type="dcterms:W3CDTF">2022-03-01T10:53:04Z</dcterms:modified>
  <cp:revision>55</cp:revision>
  <dc:subject/>
  <dc:title>Правонарушения и юридическая ответственность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/>
</file>