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4C1E-81B8-4882-8C96-5EFAD9225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ADE5-5C49-4A91-AB47-55FC11852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3FA5-1346-4795-B225-38719A5AF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7DBE-3603-441D-8B77-C8FD3058D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AE496-4700-4898-984E-A229F063E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1CC8C-62CA-49AA-A251-14FE4B069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9A16B-E63D-4131-9E0A-595416BD2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BDCF4-9648-49C5-BEBC-D96D5D36B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C7085-6135-4ADD-9F73-1600270AC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51452-E128-4DF9-A272-849BCCE25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9AD3B-826D-45E8-B263-BA556B9A4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7FDF-3B29-4072-8696-A487AE308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8E061-5D0D-4BE7-960A-8D36BB935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00D24-C8A4-4AA9-81B2-896228145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5AD83-7A5D-4438-B3E8-90667AF8D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6579B-164A-41CF-BB62-AA6445724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955AA-268F-4A61-A66F-E1C2631CB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A340-8A4E-4BBA-A6E7-F15632F8F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8310-5B6A-462D-B7DE-4AD64D5FA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743A-C27E-4DA2-9FE6-4D8F83D2B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E40B-B49C-4A9B-8F21-847EC24A0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C9C5-1630-479E-A1E0-5ABF2E73A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B116-8499-4411-A9AB-6BA86D8BF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5CD9-8397-40DE-9368-D66B853DA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9CDA8-9CE5-4DF5-B8B9-25198147DBA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09161-437D-48B0-9EA7-C871E70F653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Интеллектуальная игр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2" name="Содержимое 2" descr=""/>
          <p:cNvPicPr/>
          <p:nvPr/>
        </p:nvPicPr>
        <p:blipFill>
          <a:blip r:embed="rId1"/>
          <a:stretch/>
        </p:blipFill>
        <p:spPr>
          <a:xfrm>
            <a:off x="298440" y="1182600"/>
            <a:ext cx="8985240" cy="495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4"/>
          <p:cNvSpPr/>
          <p:nvPr/>
        </p:nvSpPr>
        <p:spPr>
          <a:xfrm>
            <a:off x="705960" y="333360"/>
            <a:ext cx="793224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1.  Назовите основные жанр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творчества Д. И. Фонвизина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Rectangle 5"/>
          <p:cNvSpPr/>
          <p:nvPr/>
        </p:nvSpPr>
        <p:spPr>
          <a:xfrm>
            <a:off x="395280" y="2205000"/>
            <a:ext cx="7953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2.  Главные темы комедии «Недоросль»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Rectangle 6"/>
          <p:cNvSpPr/>
          <p:nvPr/>
        </p:nvSpPr>
        <p:spPr>
          <a:xfrm>
            <a:off x="1258920" y="3933720"/>
            <a:ext cx="6306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Назовите основные черты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классицизма в комеди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Даты в жизни Д.И. Фонвизин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3205440" y="1484280"/>
            <a:ext cx="2657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.  1782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Rectangle 5"/>
          <p:cNvSpPr/>
          <p:nvPr/>
        </p:nvSpPr>
        <p:spPr>
          <a:xfrm>
            <a:off x="3205440" y="2708280"/>
            <a:ext cx="2657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.  1745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Rectangle 6"/>
          <p:cNvSpPr/>
          <p:nvPr/>
        </p:nvSpPr>
        <p:spPr>
          <a:xfrm>
            <a:off x="3205440" y="4076640"/>
            <a:ext cx="2657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.  1792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4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4587840" cy="645300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5"/>
          <p:cNvSpPr/>
          <p:nvPr/>
        </p:nvSpPr>
        <p:spPr>
          <a:xfrm>
            <a:off x="4788000" y="0"/>
            <a:ext cx="417672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Денис Иванович Фонвизин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"Волшебный край!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ам в стары годы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атиры смелой властелин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листал Фонвизин, друг свободы…"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.С. Пушки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800" spc="-1" strike="noStrike">
                <a:solidFill>
                  <a:srgbClr val="ccecff"/>
                </a:solidFill>
                <a:latin typeface="Arial"/>
              </a:rPr>
              <a:t>«Умники и умницы»</a:t>
            </a:r>
            <a:endParaRPr b="0" lang="en-US" sz="5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ru-RU" sz="6600" spc="-1" strike="noStrike">
                <a:solidFill>
                  <a:srgbClr val="ffffff"/>
                </a:solidFill>
                <a:latin typeface="Arial"/>
              </a:rPr>
              <a:t> агон 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" dur="8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800" spc="-1" strike="noStrike">
                <a:solidFill>
                  <a:srgbClr val="ccecff"/>
                </a:solidFill>
                <a:latin typeface="Arial"/>
              </a:rPr>
              <a:t>«Умники и умницы»</a:t>
            </a:r>
            <a:endParaRPr b="0" lang="en-US" sz="5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II </a:t>
            </a:r>
            <a:r>
              <a:rPr b="0" lang="ru-RU" sz="6600" spc="-1" strike="noStrike">
                <a:solidFill>
                  <a:srgbClr val="ffffff"/>
                </a:solidFill>
                <a:latin typeface="Arial"/>
              </a:rPr>
              <a:t>агон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8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800" spc="-1" strike="noStrike">
                <a:solidFill>
                  <a:srgbClr val="ccecff"/>
                </a:solidFill>
                <a:latin typeface="Arial"/>
              </a:rPr>
              <a:t>«Умники и умницы»</a:t>
            </a:r>
            <a:endParaRPr b="0" lang="en-US" sz="5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III </a:t>
            </a:r>
            <a:r>
              <a:rPr b="0" lang="ru-RU" sz="6600" spc="-1" strike="noStrike">
                <a:solidFill>
                  <a:srgbClr val="ffffff"/>
                </a:solidFill>
                <a:latin typeface="Arial"/>
              </a:rPr>
              <a:t>агон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8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800" spc="-1" strike="noStrike">
                <a:solidFill>
                  <a:srgbClr val="ccecff"/>
                </a:solidFill>
                <a:latin typeface="Arial"/>
              </a:rPr>
              <a:t>«Умники и умницы»</a:t>
            </a:r>
            <a:endParaRPr b="0" lang="en-US" sz="5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Arial"/>
              </a:rPr>
              <a:t>Финал 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77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" dur="77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0" dur="77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8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324000" y="1639440"/>
            <a:ext cx="88200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"Люди не одному богатству, не одно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натности завидуют: и добродетель такж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воих завистников имеет."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(Стародум)        </a:t>
            </a:r>
            <a:r>
              <a:rPr b="0" lang="ru-RU" sz="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4"/>
          <p:cNvSpPr/>
          <p:nvPr/>
        </p:nvSpPr>
        <p:spPr>
          <a:xfrm>
            <a:off x="991800" y="404640"/>
            <a:ext cx="670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.  Д. И. Фонвизин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252360" y="2637000"/>
            <a:ext cx="839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.  Комедия «Недоросль»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Rectangle 6"/>
          <p:cNvSpPr/>
          <p:nvPr/>
        </p:nvSpPr>
        <p:spPr>
          <a:xfrm>
            <a:off x="1909800" y="4724280"/>
            <a:ext cx="4943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.  Классицизм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0T15:51:04Z</dcterms:created>
  <dc:creator>kyznecov</dc:creator>
  <dc:description/>
  <dc:language>en-US</dc:language>
  <cp:lastModifiedBy>Елена Стратий</cp:lastModifiedBy>
  <dcterms:modified xsi:type="dcterms:W3CDTF">2024-02-07T14:03:04Z</dcterms:modified>
  <cp:revision>6</cp:revision>
  <dc:subject/>
  <dc:title>Интеллектуальная игра</dc:title>
</cp:coreProperties>
</file>