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45C-E280-4F8E-BD33-AC8FC0F5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4BA-1A97-4A58-AB8E-9353D86C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1C4-A68E-411D-82D5-DE8C1C24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CE0-BAA5-495E-99F9-C4902CB9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171-D84E-456E-92AF-D891A56D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BCDA-A9DF-4FDC-BBA3-AC1E7DAC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5C00-5CF0-4714-B13D-55D7F5E2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22A5-BD61-4F2A-975A-60905BCA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2FC1-6CF3-42B9-8E2E-827D5BF8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AE9E-90E4-483F-909E-367818DF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4459-C60A-4757-8407-4D9F1EF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0BE-3841-47B1-8D74-CC9F461C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2971-828A-46D1-8DB0-9458AD5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9C0F-E537-4BE2-BE35-92B5450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DDE0-A9F1-40CB-BE47-6228DAEA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6975-163F-4307-BC08-2A47552F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D70A-8368-42E6-8458-72597D54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F99-2ACF-4FA5-8F18-6470636B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0AC-7DB4-4EB4-97AA-1B8C5010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300-E846-4DC9-A35D-8624E119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8EC-16E6-4D3C-B49C-6A11E4EB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0F7-20DA-4168-8452-B24477A2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FA9-D53D-4B98-A9B5-DA794092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3F2-2C02-4040-B7A4-F61D5094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5476-3DAC-4386-BDE1-424ADEE52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8FB9-C294-4990-B2A8-D88E3E2257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ллектуальная иг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Содержимое 2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9852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705960" y="333360"/>
            <a:ext cx="7932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.  Назовите основные жан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ворчества Д. И. Фонвизи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95280" y="2205000"/>
            <a:ext cx="79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 Главные темы комедии «Недоросль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258920" y="3933720"/>
            <a:ext cx="63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овите основные чер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ссицизма в комед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ты в жизни Д.И. Фонвиз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205440" y="14842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.  178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205440" y="270828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.  174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205440" y="40766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  179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87840" cy="6453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4788000" y="0"/>
            <a:ext cx="4176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енис Иванович Фонвизин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Волшебный край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м в стары год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тиры смелой властел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истал Фонвизин, друг свободы…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агон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аго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аго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Финал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24000" y="1639440"/>
            <a:ext cx="8820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Люди не одному богатству, не од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ности завидуют: и добродетель так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их завистников имеет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тародум)        </a:t>
            </a:r>
            <a:r>
              <a:rPr b="0" lang="ru-RU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991800" y="404640"/>
            <a:ext cx="670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.  Д. И. Фонвиз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52360" y="263700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.  Комедия «Недоросль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909800" y="4724280"/>
            <a:ext cx="49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  Классициз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5:51:04Z</dcterms:created>
  <dc:creator>kyznecov</dc:creator>
  <dc:description/>
  <dc:language>en-US</dc:language>
  <cp:lastModifiedBy>Елена Стратий</cp:lastModifiedBy>
  <dcterms:modified xsi:type="dcterms:W3CDTF">2024-02-07T14:03:04Z</dcterms:modified>
  <cp:revision>6</cp:revision>
  <dc:subject/>
  <dc:title>Интеллектуальная игра</dc:title>
</cp:coreProperties>
</file>