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B74-3EB6-4B13-A595-027689E0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39F-4835-4BE3-A869-54A1D68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477-4456-47D6-A560-1C8FB365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4FE-23D1-49CD-A624-1CEC96D6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70AF-2151-40A4-8B8E-8B39EF03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2445-A04B-4B76-8432-DF17492E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A3F0-6E30-4010-B1D7-CE53E28D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5D96-0276-42FE-9BC2-3FB3F751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6A4C-549E-4602-8DFD-CC80ECB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A29E-3BEC-4E14-B006-18CA32D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1105-4E8C-46D1-B49F-DDE3709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549-055C-4DD5-9765-26F857D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2548-BA94-4A34-95F1-86685B0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F95C-46E9-44CA-B6B7-2FD524CF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B402-7A17-4BD9-8D2A-A9C8B18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E61-2993-4862-8B67-3176E686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D126-2C55-4066-A9E7-68A9F26B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335-35A1-4798-890E-766D12AF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8D3-F080-4A79-9D51-4EF0C0C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BEF-A335-4937-A7CE-A0FBFF4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9FD-7E32-45D0-BFEC-4D89A898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FBF-5B30-4B3D-BDAD-8D19634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5A5-DC80-4A57-9C0E-070FEAE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DDF-7885-4C41-8A87-364C8E03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92C6-83E7-487E-B79F-0E9D6302C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7FA8-EAB4-4FC4-80CB-74CA7367C8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ллектуальная иг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Содержимое 2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9852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705960" y="333360"/>
            <a:ext cx="793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.  Назовите основные жан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тва Д. И. Фонвизи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95280" y="2205000"/>
            <a:ext cx="79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 Главные темы комедии «Недоросль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258920" y="3933720"/>
            <a:ext cx="63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овите основные чер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ицизма в комед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ты в жизни Д.И. Фонвиз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205440" y="14842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  178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205440" y="27082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  174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205440" y="4076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179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87840" cy="6453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4788000" y="0"/>
            <a:ext cx="4176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енис Иванович Фонвизин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Волшебный кра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м в стары го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тиры смелой властел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стал Фонвизин, друг свободы…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агон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го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го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Финал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4000" y="1639440"/>
            <a:ext cx="8820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Люди не одному богатству, не 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ности завидуют: и добродетель так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их завистников имеет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тародум)        </a:t>
            </a:r>
            <a:r>
              <a:rPr b="0" lang="ru-RU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991800" y="404640"/>
            <a:ext cx="670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  Д. И. Фонвиз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52360" y="263700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  Комедия «Недоросль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909800" y="4724280"/>
            <a:ext cx="49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Классициз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5:51:04Z</dcterms:created>
  <dc:creator>kyznecov</dc:creator>
  <dc:description/>
  <dc:language>en-US</dc:language>
  <cp:lastModifiedBy>Елена Стратий</cp:lastModifiedBy>
  <dcterms:modified xsi:type="dcterms:W3CDTF">2024-02-07T14:03:04Z</dcterms:modified>
  <cp:revision>6</cp:revision>
  <dc:subject/>
  <dc:title>Интеллектуальная игра</dc:title>
</cp:coreProperties>
</file>