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3.jpeg" ContentType="image/jpeg"/>
  <Override PartName="/ppt/media/image7.png" ContentType="image/png"/>
  <Override PartName="/ppt/media/image1.jpeg" ContentType="image/jpeg"/>
  <Override PartName="/ppt/media/image5.gif" ContentType="image/gif"/>
  <Override PartName="/ppt/media/image9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22.png" ContentType="image/png"/>
  <Override PartName="/ppt/media/image16.png" ContentType="image/png"/>
  <Override PartName="/ppt/media/image17.jpeg" ContentType="image/jpeg"/>
  <Override PartName="/ppt/media/image3.gif" ContentType="image/gif"/>
  <Override PartName="/ppt/media/image26.png" ContentType="image/png"/>
  <Override PartName="/ppt/media/image15.png" ContentType="image/png"/>
  <Override PartName="/ppt/media/apert.wav" ContentType="audio/x-wav"/>
  <Override PartName="/ppt/media/image18.jpeg" ContentType="image/jpeg"/>
  <Override PartName="/ppt/media/image20.png" ContentType="image/png"/>
  <Override PartName="/ppt/media/image28.jpeg" ContentType="image/jpe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948-16F2-4156-A2FF-BEC79B07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74C-175A-47EC-9715-9BD74DE8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C00-808D-418B-8835-6BA7F1EF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CD1-3A44-4DAB-912D-58E97050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40C-4D27-4399-A623-9EE7D593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A40-CB31-4DDB-8CFA-BAE32BA3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4F4-A124-48E2-A41C-18AB253F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3ED-13A9-4DFE-B376-A239B173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C3C-026D-4B68-A953-28E25209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91F-B600-4440-BB0F-1B600443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855-C43A-4CAF-B349-4B59E9B2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C7E-E715-41F8-ABB3-17A9FE31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6759-AB80-477A-92AC-3FFA16438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rbatprint.ru/assets/galleries/60/04.pn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zaguz.ru/albums/imsge/otdih/41001205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grani.ru/files/249.jpg" TargetMode="External"/><Relationship Id="rId5" Type="http://schemas.openxmlformats.org/officeDocument/2006/relationships/image" Target="../media/image1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audio" Target="../media/apert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technofresh.ru/galleries/2008_11/articles/trust_2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j0284916"/>
          <p:cNvPicPr/>
          <p:nvPr/>
        </p:nvPicPr>
        <p:blipFill>
          <a:blip r:embed="rId1"/>
          <a:stretch/>
        </p:blipFill>
        <p:spPr>
          <a:xfrm>
            <a:off x="395280" y="1407960"/>
            <a:ext cx="8137440" cy="51786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611280" y="549360"/>
            <a:ext cx="7591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дром эмоционального выгорания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ативный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ремящийся первенствовать во всем, всегда быть на виду. Этому типу свойственна высокая степень истощаемости при выполнении даже незаметной рутинной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тивный"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оящий из впечатлительных и чувствительный людей. Их отзывчивость, склонность воспринимать чужую боль как собственную граничит с патологией, с саморазруш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безразличия, эмоционального истощения, изнеможения (человек не может отдаваться работе так, как это было прежд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гуманизация (развитие негативного отношения к своим коллегам и клиентам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гативное самовосприятии в профессиональном плане (ощущение недостатка чувства профессионального мастерст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52280" y="260280"/>
            <a:ext cx="8991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дром эмоционального выгорания имеет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едующие проявления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кое повышение утомляе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оническая уста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ловные бо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риимчивость к изменениям внешней сре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артериального д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тения (бессилие, слабость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ие движений в шее, боли в спи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оизвольные движения – сжимание кулаков, зажат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или потеря ве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ы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сон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вая дисфунцк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619280" y="260280"/>
            <a:ext cx="590544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ческие симптомы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сси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ёрст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зли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есс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раж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вога, чувство в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5003640" y="1557360"/>
          <a:ext cx="3672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557360"/>
                    <a:ext cx="3672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WordArt 6"/>
          <p:cNvSpPr txBox="1"/>
          <p:nvPr/>
        </p:nvSpPr>
        <p:spPr>
          <a:xfrm>
            <a:off x="2050920" y="333360"/>
            <a:ext cx="49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моциональны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ние отдох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зличие к 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авдание употребления табака, алкоголя, лекар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1835280" y="549360"/>
            <a:ext cx="439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еденчески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дение интереса к новым теориям и идеям в работе, к альтернативным подход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826920" y="549360"/>
            <a:ext cx="7274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ллектуальное состояни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ая социальная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дение интереса к досугу, увлеч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ые контакты ограничиваются раб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удные отношения на работе и д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1619280" y="476280"/>
            <a:ext cx="5832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циальные симптомы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386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ятие рабочего напря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профессиональной мотива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внивание баланса между затраченными усилиями и получаемым вознагражд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900000" y="189000"/>
            <a:ext cx="698508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 и профилактика синдрома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моционального выгоран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мин «burnout» - «выгорание», «сгорание» предло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Фрейденбергер (Н. Freudenberger) в 1974 году для описания деморализации, разочарования и крайней усталости, наблюдаемых у специалистов, работающих в системе профессий «человек-челове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1908000" y="692280"/>
            <a:ext cx="511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много истории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1.Информирование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Цель: расширение информированности сотрудников о т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как помочь себе сохранить профессион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здоровье и работо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4000" y="3933720"/>
            <a:ext cx="755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Выпуск буклетов, памят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постеров</a:t>
            </a:r>
            <a:r>
              <a:rPr b="0" lang="ru-RU" sz="2400" spc="-1" strike="noStrike">
                <a:solidFill>
                  <a:srgbClr val="cc66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Выступление на педсове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Bookman Old Style"/>
              </a:rPr>
              <a:t>собрании коллектива</a:t>
            </a:r>
            <a:r>
              <a:rPr b="0" lang="ru-RU" sz="2400" spc="-1" strike="noStrike">
                <a:solidFill>
                  <a:srgbClr val="cc66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Картинка 6 из 2123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724200"/>
            <a:ext cx="3166920" cy="25844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228600" y="260280"/>
            <a:ext cx="891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апы психологической профилактики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ессиональной деформации педагогов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777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2.Эмоциональная поддержка и стиму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man Old Styl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Bookman Old Style"/>
              </a:rPr>
              <a:t>Цель</a:t>
            </a: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: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здание хорошего климата внутри коллекти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увства достаточной эмоциональной поддержки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ллег и администрации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Поддержка творчески работающих педагогов: благодарности, грамоты, поощрения,  рейтинг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Профессиональные достижения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Вовлечение профессионально успешных педагогов в участие  педагогических чтений, конференций, в выступления из опыта работы, участие в конкурсе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Учитель года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, показ открытых мероприят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       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тьюте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Совместные вечера и отдых, поездки с деть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        </a:t>
            </a:r>
            <a:r>
              <a:rPr b="0" lang="ru-RU" sz="2000" spc="-1" strike="noStrike">
                <a:solidFill>
                  <a:srgbClr val="009999"/>
                </a:solidFill>
                <a:latin typeface="Bookman Old Style"/>
              </a:rPr>
              <a:t>участие в спортивной жизни школы, праздники и дни рождения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IMG_7594"/>
          <p:cNvPicPr/>
          <p:nvPr/>
        </p:nvPicPr>
        <p:blipFill>
          <a:blip r:embed="rId1"/>
          <a:stretch/>
        </p:blipFill>
        <p:spPr>
          <a:xfrm>
            <a:off x="6948360" y="213372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Картинка 10 из 5978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5373720"/>
            <a:ext cx="1368360" cy="124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Картинка 12 из 15799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93080" y="4292640"/>
            <a:ext cx="149364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5"/>
          <p:cNvGraphicFramePr/>
          <p:nvPr/>
        </p:nvGraphicFramePr>
        <p:xfrm>
          <a:off x="7596360" y="3284640"/>
          <a:ext cx="1403280" cy="115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96360" y="3284640"/>
                    <a:ext cx="1403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3.Профессиональн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Bookman Old Style"/>
              </a:rPr>
              <a:t>Цель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хранение качества профессиональной деятельности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Непрерывное психолого- педагогическое образование педагога, повышение его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Диагностика личностных особенностей и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собенности проявления синдрома эмоционального выгорания педагог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Организация работы творчески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Гештальт - суперви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Проведение семинаров-тренинг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-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Коммуникативные игры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-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Обучение способам саморегуляции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      </a:t>
            </a: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-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9999"/>
                </a:solidFill>
                <a:latin typeface="Bookman Old Style"/>
              </a:rPr>
              <a:t>Профессиональный рост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cc66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7020000" y="3573360"/>
            <a:ext cx="19447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Bookman Old Style"/>
              </a:rPr>
              <a:t>Рекомендации педагогам</a:t>
            </a:r>
            <a:br>
              <a:rPr sz="3200"/>
            </a:br>
            <a:r>
              <a:rPr b="1" lang="ru-RU" sz="3200" spc="-1" strike="noStrike">
                <a:solidFill>
                  <a:srgbClr val="3399ff"/>
                </a:solidFill>
                <a:latin typeface="Bookman Old Style"/>
              </a:rPr>
              <a:t>для профилактики и устранения "выгорания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ться рассчитывать и обдуманно распределять свои нагру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ся переключаться с одного вида деятельности на друг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ще относиться к конфликтам на рабо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ытаться быть лучшим всегда и во 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ЕСТЕСТВЕННЫЕ СПОСОБЫ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ГУЛЯЦИИ ОРГАНИЗ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тельный 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усная 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 с природой и живот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я, массаж, движение, тан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АМОРЕГУЛЯ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мех, улыбка, юмор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змышления о хорошем, приятн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зличные движения типа потягивания, расслабления мышц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аблюдение за пейзажем за окн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ссматривание цветов в помещении, фотографий, других приятных или дорогих для человека вещей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сленное обращение к высшим силам (Богу, Вселенной, великой идее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«купание» (реальное или мысленное) в солнечных лучах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дыхание свежего воздух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чтение стих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 высказывание похвалы, комплиментов кому-либо просто т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Если ты подаришь кому-то радость, жизнь подарит тебе 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3284640"/>
            <a:ext cx="435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ВНЫЙ СЕКР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ЫБКА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00360" y="1557360"/>
            <a:ext cx="4392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3385406_belaya"/>
          <p:cNvPicPr/>
          <p:nvPr/>
        </p:nvPicPr>
        <p:blipFill>
          <a:blip r:embed="rId1"/>
          <a:stretch/>
        </p:blipFill>
        <p:spPr>
          <a:xfrm>
            <a:off x="4572000" y="2290680"/>
            <a:ext cx="3960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. Способы, связанные с управлением дых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, что перед вашим носом на расстоянии 10–15 см висит пушин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шите только носом и так плавно, чтобы пушинка не колыха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НК СПОСОБОВ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ОРЕГУЛЯЦИ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II. Способы, связанные с управлением тонусом мышц, движ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ядьте удобно, если есть возможность, закройте глаз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ышите глубоко и медленно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пройдитесь внутренним взором по всему вашему телу, начиная от макушки до кончиков пальцев ног (либо в обратной последовательности) и найдите места наибольшего напряжения (часто это бывают рот, губы, челюсти, шея, затылок, плечи, живот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постарайтесь еще сильнее напрячь места зажимов (до дрожания мышц), делайте это на вдох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прочувствуйте это напряжени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резко сбросьте напряжение — делайте это на выдох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делайте так несколько раз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хорошо расслабленной мышце вы почувствуете появление тепла и приятной тяжест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зажим снять не удается, особенно на лице, попробуйте разгладить его с помощью легкого самомассажа круговыми движениями пальцев (можно поделать гримасы — удивления, радости и п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о, что «слово может убить, слово может спа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даже незначительных успехов целесообразно хвалить себя, мысленно говор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лодец!», «Умница!», «Здорово получилось!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Находите возможность хвалить себя в течение рабочего дня не менее 3–5 р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1403280" y="47628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III. Способы, связанные с воздействием сло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-45000"/>
            <a:ext cx="828036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81 г. А. Морроу предложил яркий эмоциональный образ, отражающий, по его мнению, внутреннее состояние работника, испытывающего дистресс профессионального выгорания: </a:t>
            </a:r>
            <a:br>
              <a:rPr sz="2800"/>
            </a:b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апах горящей психологической провод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0720" y="1819080"/>
            <a:ext cx="7920000" cy="55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09520" indent="0" algn="just">
              <a:lnSpc>
                <a:spcPct val="95000"/>
              </a:lnSpc>
              <a:spcBef>
                <a:spcPts val="45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выгорание возникает в результате внутреннего накапливания отрицательных эмоций без соответствующей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ядки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я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9520" indent="0" algn="ctr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38560" y="2519280"/>
            <a:ext cx="306072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119640" y="30607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1979640" y="3060720"/>
            <a:ext cx="1482840" cy="148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324560" y="2160720"/>
            <a:ext cx="1495440" cy="1666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apert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IV. Способы, связанные с использованием обр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ециально запоминайте ситуации, события, в которых вы чувствовали себя комфортно, расслабленно, спокойно, — это ваш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сурс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итуаци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Делайте это в трех основных модальностях, присущих человеку. Для этого запоминайт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зрительные образы события (что вы видите: облака, цветы, лес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слуховые образы (какие звуки вы слышите: пение птиц, журчание ручья, шум дождя, музыка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щущения в теле (что вы чувствуете: тепло солнечных лучей на своем лице, брызги воды, запах цветущих яблонь, вкус клубники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ботьтесь о своём психическом здоровье, коллеги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доводите уровень психических нагрузок до критических значений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залезайте в "долгосрочный кредит" ваших внутренних резервов и возможностей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забывайте о том, что не только Ваши подопечные, но и Вы сами в не меньшей степени нуждаетесь в помощи, заботе и внимании по защите и сбережению Вашего здоровья и психоэмоционального ресурс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2843280" y="549360"/>
            <a:ext cx="36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ы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мните: главный принцип любой помощи заключается в том, что поделиться с другим человеком можно только тем, чем сам располагае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Картинка 13 из 8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2924280"/>
            <a:ext cx="583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3452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3938760"/>
            <a:ext cx="85690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зненный успех не дается без труда, иногда без тяжелых потерь. Надо быть готовым с наименьшими страданиями пройти через обиды, измены, потери. Для этого следует приучить себя не пропускать в сферу эмоций чрезмерные раздражители, несущие боль и отрицание многих человеческих ценнос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чно, несчастья близких, общественные катастрофы, неудачи в работе, собственные промахи не могут не расстраивать человека. Но не следует считать такие неудачи непоправимыми катастрофами. То, что можно, следует исправить. А на нет — и суда нет, как говорят в народ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 этот год исполняются самые несбыточные мечты и самые нереальные жела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листы календаря сменяются, оставляя в памяти яркие события год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снежинки, тая на ладошках, дарят надежду на изменения к лучшем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свечи, которые вы зажгли в праздничный вечер поддерживают огонь приятных эмоций все 365 дней года, а их тепло согревает сердца и души, день за днем даря улыбки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вам большого и светлог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В. Бойко под эмоциональным выгоранием понимает "выработанный личностью механизм психологической защиты в форме полного или частичного исключения эмоций (понижения их энергетики) в ответ на избранные психотравмирующие воздействия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340000" y="260280"/>
            <a:ext cx="4319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азы и симпто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В.В.Бой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2050920" y="2060640"/>
            <a:ext cx="4897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ервное (тревож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пря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476360" y="3716280"/>
            <a:ext cx="6120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езистенция, то есть сопротив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042920" y="5445000"/>
            <a:ext cx="6985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Исто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4211640" y="155736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4211640" y="335772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4211640" y="5013360"/>
            <a:ext cx="48564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7740720" y="476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26036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за напряж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рвное (тревожное) напряжение служит предвестником и "запускающим" механизмом в формировании эмоционального выгор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за резис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опротивление нарастающему стрессу). В этой фазе человек пытается более или менее успешно оградить себя от неприятных впечат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за истощ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аза истощения сопровождается общим падением энергетического тонуса и ослаблением нервной системы, оскудением психических ресур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252960" cy="48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3708360" y="5661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1042920" y="404640"/>
            <a:ext cx="72741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зы эмоционального выгорания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 профессиональной педагогической деятельности (необходимость сопереживания, сочувствия, нравственная ответственность за жизнь и здоровье вверенных ему детей, стаж работ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онный фактор: перегруженность рабочей недели; низкая оплата труда; напряженный характер работы; служебные неприятности; неудовлетворенность работой: отсутствие четкой связи между процессом обучения и получаемым результатом, несоответствие результатов затраченным силам; демократические преобразования в области образования, приведшие к изменению взаимоотношений между субъектами учебно-воспитательного процесса. Неблагополучная атмосфера в педагогическом коллективе: однополый состав коллектива, наличие конфликтов по вертикали и горизонтали, нервозная обстановка побуждают одних растрачивать эмоции, а других искать способы экономии своих психических ресурс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1332000" y="260280"/>
            <a:ext cx="662472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ие факторы,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оцирующим выгорание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уникативный фактор: отсутствие навыков коммуникации и умения выходить из трудных ситуаций общения с детьми, родителями, администрацией; неумение регулировать собственные эмоциональные ситу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евой и личностный фактор (индивидуальный): тяжелые заболевания близких, материальные затруднения, личностная неустроенность, плохие взаимоотношения между супругами, отсутствие нормальных жилищных условий, недостаток внимания, уделяемого домочадцами. Неудовлетворенность своей самореализацией в различных жизненных и профессиональных ситуац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692360" y="476280"/>
            <a:ext cx="540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утренние факторы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нтичный"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ющийся добросовестностью, возведенной в абсолют, чрезмерной, болезненной аккуратностью, стремлением в любом деле добиться образцового порядка (даже в ущерб себ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WordArt 6"/>
          <p:cNvSpPr txBox="1"/>
          <p:nvPr/>
        </p:nvSpPr>
        <p:spPr>
          <a:xfrm>
            <a:off x="1187280" y="260280"/>
            <a:ext cx="662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пы личности, которым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жает СЭВ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09:26:45Z</dcterms:created>
  <dc:creator>Галина Каменева</dc:creator>
  <dc:description/>
  <dc:language>en-US</dc:language>
  <cp:lastModifiedBy>дс87</cp:lastModifiedBy>
  <dcterms:modified xsi:type="dcterms:W3CDTF">2022-03-10T08:46:17Z</dcterms:modified>
  <cp:revision>18</cp:revision>
  <dc:subject/>
  <dc:title>Синдром эмоционального выгорания</dc:title>
</cp:coreProperties>
</file>