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0E8-97E7-4331-AA53-B774E6F3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EB1-9046-4A07-BAEB-E1E1543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A81-43EE-442C-B252-ECE001D3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DE5-46DD-4D41-9AFA-B077F104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E6C-3B9C-4CCE-AFC0-9B55B4B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9F0-30B5-46A6-97AD-25360A4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07B-5947-4E58-9970-6BDFBC0F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3A2-9E9E-4212-9805-370FB0E6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068-120D-4D73-B4DE-E7054CD2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0A0-BB1F-411A-8942-D45B20F8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E20-288A-46CD-859A-481FA510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02A-53ED-4842-8229-23DF7FB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3582-CD60-4D70-8E22-7433493B6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3749760" cy="496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23920" y="272520"/>
            <a:ext cx="3962520" cy="585324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т 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е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, ОВ,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е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дной плос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51F50CA8"/>
          <p:cNvPicPr/>
          <p:nvPr/>
        </p:nvPicPr>
        <p:blipFill>
          <a:blip r:embed="rId1"/>
          <a:stretch/>
        </p:blipFill>
        <p:spPr>
          <a:xfrm>
            <a:off x="533520" y="2438280"/>
            <a:ext cx="6705360" cy="4270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98080" y="141120"/>
            <a:ext cx="872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Если вектор с можно разложить по вект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и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т.е. представить в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 = ха + у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где х и у – числа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то векторы а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и с – компланар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2819520" y="22860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981080" y="1143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971800" y="1143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038480" y="1066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81952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27672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388620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3597480" cy="5194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038480" y="1600200"/>
            <a:ext cx="5105520" cy="1219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54" name="Рисунок 3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191120" y="3048120"/>
            <a:ext cx="457200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Правило параллелепип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EF34B00"/>
          <p:cNvPicPr/>
          <p:nvPr/>
        </p:nvPicPr>
        <p:blipFill>
          <a:blip r:embed="rId1"/>
          <a:stretch/>
        </p:blipFill>
        <p:spPr>
          <a:xfrm>
            <a:off x="3276720" y="2057400"/>
            <a:ext cx="5333760" cy="372096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304920" y="228600"/>
            <a:ext cx="8305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ожение вектора по трем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омпланарным векторам.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-11880" y="1143000"/>
            <a:ext cx="90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й вектор можно разложить по трём некомпланарным векторам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ём коэффициенты разложения определятся ед. обра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295280" y="2666880"/>
            <a:ext cx="8384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80880" y="2286000"/>
            <a:ext cx="2210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1828800" y="1905120"/>
            <a:ext cx="1143000" cy="22096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H="1" flipV="1">
            <a:off x="304920" y="2514240"/>
            <a:ext cx="914400" cy="15238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791320" y="56386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BE8D5512"/>
          <p:cNvPicPr/>
          <p:nvPr/>
        </p:nvPicPr>
        <p:blipFill>
          <a:blip r:embed="rId2"/>
          <a:stretch/>
        </p:blipFill>
        <p:spPr>
          <a:xfrm>
            <a:off x="228600" y="4267080"/>
            <a:ext cx="297180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Line 11"/>
          <p:cNvSpPr/>
          <p:nvPr/>
        </p:nvSpPr>
        <p:spPr>
          <a:xfrm flipV="1">
            <a:off x="4724280" y="4800600"/>
            <a:ext cx="2057400" cy="76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4724280" y="4038120"/>
            <a:ext cx="6098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 flipV="1">
            <a:off x="3429000" y="2666520"/>
            <a:ext cx="1295280" cy="22100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4724280" y="2438280"/>
            <a:ext cx="685800" cy="2438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9-15T10:59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