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21A-CCC2-4ADE-A8D3-2CE0F3D0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006-1C00-4D9E-A9BD-DC0AC01F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323-4A06-4579-AC8F-3999A569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78A-FDE4-4314-BEC3-9BF72E4E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F0C-7DC8-47D1-87D7-61EBCCF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520-3EF6-4C6A-9C80-224571D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255-C754-4765-AD0D-1A3E59E1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361-0A04-432A-9FED-72A8514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CAC-BDE0-40BE-A769-9419731F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02C-2615-4BF0-81AD-D75F81D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ABF-64FE-4269-BBAE-E3E33DA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AD5-2551-4E9C-94FF-759FAB3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D99D-D3EA-4C01-8CEF-EF2004479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3749760" cy="49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23920" y="272520"/>
            <a:ext cx="3962520" cy="585324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дной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1F50CA8"/>
          <p:cNvPicPr/>
          <p:nvPr/>
        </p:nvPicPr>
        <p:blipFill>
          <a:blip r:embed="rId1"/>
          <a:stretch/>
        </p:blipFill>
        <p:spPr>
          <a:xfrm>
            <a:off x="533520" y="2438280"/>
            <a:ext cx="6705360" cy="4270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98080" y="141120"/>
            <a:ext cx="872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ектор с можно разложить по вект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и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т.е. представить в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 = ха + у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где х и у – числа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о векторы а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и с – компланар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2819520" y="228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98108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7180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038480" y="1066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8195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2767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388620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3597480" cy="519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038480" y="1600200"/>
            <a:ext cx="5105520" cy="1219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54" name="Рисунок 3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191120" y="304812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авило параллелепип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EF34B00"/>
          <p:cNvPicPr/>
          <p:nvPr/>
        </p:nvPicPr>
        <p:blipFill>
          <a:blip r:embed="rId1"/>
          <a:stretch/>
        </p:blipFill>
        <p:spPr>
          <a:xfrm>
            <a:off x="3276720" y="2057400"/>
            <a:ext cx="5333760" cy="372096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304920" y="228600"/>
            <a:ext cx="830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ожение вектора по трем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мпланарным векторам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11880" y="1143000"/>
            <a:ext cx="90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й вектор можно разложить по трём некомпланарным векторам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ём коэффициенты разложения определятся ед. обр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295280" y="2666880"/>
            <a:ext cx="8384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80880" y="2286000"/>
            <a:ext cx="2210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1828800" y="1905120"/>
            <a:ext cx="1143000" cy="22096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 flipV="1">
            <a:off x="304920" y="2514240"/>
            <a:ext cx="914400" cy="15238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791320" y="56386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BE8D5512"/>
          <p:cNvPicPr/>
          <p:nvPr/>
        </p:nvPicPr>
        <p:blipFill>
          <a:blip r:embed="rId2"/>
          <a:stretch/>
        </p:blipFill>
        <p:spPr>
          <a:xfrm>
            <a:off x="228600" y="4267080"/>
            <a:ext cx="297180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Line 11"/>
          <p:cNvSpPr/>
          <p:nvPr/>
        </p:nvSpPr>
        <p:spPr>
          <a:xfrm flipV="1">
            <a:off x="4724280" y="4800600"/>
            <a:ext cx="2057400" cy="76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4724280" y="4038120"/>
            <a:ext cx="6098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3429000" y="2666520"/>
            <a:ext cx="1295280" cy="22100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4724280" y="2438280"/>
            <a:ext cx="685800" cy="2438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15T10:59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