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56B-ED32-44DC-98A3-23542BC9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BEF-AD9E-4A5B-8B57-9BA80DA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B7D-354C-4BD2-A8C8-E8759E30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135-4BC4-44E8-9D82-7ECB05A6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867-6FD4-410A-8544-E28EE48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E19-6312-4D4F-AFEF-1965F5DD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FA9-14D7-4B9C-AD75-E72B013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328-339F-4A41-A188-4570048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322-0A78-4DFF-B595-CD62764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5B-F1AA-44DD-93BC-ECDA029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82D-FC66-4F2E-B9F8-3A23EFFE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6CB-59F4-4C64-9C07-F8A0AFE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3751-94D9-472D-A0D5-0E04C808A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3749760" cy="49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23920" y="272520"/>
            <a:ext cx="3962520" cy="585324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е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, ОВ,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е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дной плос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51F50CA8"/>
          <p:cNvPicPr/>
          <p:nvPr/>
        </p:nvPicPr>
        <p:blipFill>
          <a:blip r:embed="rId1"/>
          <a:stretch/>
        </p:blipFill>
        <p:spPr>
          <a:xfrm>
            <a:off x="533520" y="2438280"/>
            <a:ext cx="6705360" cy="4270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98080" y="141120"/>
            <a:ext cx="872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ектор с можно разложить по вект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и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т.е. представить в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 = ха + у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где х и у – числа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то векторы а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, и с – компланар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2819520" y="228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1981080" y="1143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971800" y="11430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038480" y="1066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81952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327672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3886200" y="16002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3597480" cy="5194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038480" y="1600200"/>
            <a:ext cx="5105520" cy="1219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54" name="Рисунок 3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191120" y="3048120"/>
            <a:ext cx="4572000" cy="1981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равило параллелепип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EF34B00"/>
          <p:cNvPicPr/>
          <p:nvPr/>
        </p:nvPicPr>
        <p:blipFill>
          <a:blip r:embed="rId1"/>
          <a:stretch/>
        </p:blipFill>
        <p:spPr>
          <a:xfrm>
            <a:off x="3276720" y="2057400"/>
            <a:ext cx="5333760" cy="372096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304920" y="228600"/>
            <a:ext cx="830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ожение вектора по трем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мпланарным векторам.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11880" y="1143000"/>
            <a:ext cx="90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й вектор можно разложить по трём некомпланарным векторам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ём коэффициенты разложения определятся ед. обр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295280" y="2666880"/>
            <a:ext cx="8384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80880" y="2286000"/>
            <a:ext cx="2210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1828800" y="1905120"/>
            <a:ext cx="1143000" cy="22096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H="1" flipV="1">
            <a:off x="304920" y="2514240"/>
            <a:ext cx="914400" cy="15238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791320" y="56386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BE8D5512"/>
          <p:cNvPicPr/>
          <p:nvPr/>
        </p:nvPicPr>
        <p:blipFill>
          <a:blip r:embed="rId2"/>
          <a:stretch/>
        </p:blipFill>
        <p:spPr>
          <a:xfrm>
            <a:off x="228600" y="4267080"/>
            <a:ext cx="297180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Line 11"/>
          <p:cNvSpPr/>
          <p:nvPr/>
        </p:nvSpPr>
        <p:spPr>
          <a:xfrm flipV="1">
            <a:off x="4724280" y="4800600"/>
            <a:ext cx="2057400" cy="76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4724280" y="4038120"/>
            <a:ext cx="6098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3429000" y="2666520"/>
            <a:ext cx="1295280" cy="22100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V="1">
            <a:off x="4724280" y="2438280"/>
            <a:ext cx="685800" cy="2438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9-15T10:59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