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FDF-D703-4582-899C-1F228C8C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913-34DD-4E3D-9158-04ACF79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786-C2D0-432A-92BF-9920EF0E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641-8126-4A1F-BE67-EE68BB0D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192-B86A-4388-80B0-650EED0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84E-B4E7-4A79-B51F-324CC17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C3A-16B5-4F56-8FED-4801B911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CE9-1788-4A68-BCD6-47BB55C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5ED-7C20-4892-B63E-4222E44C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2E0-6DC2-4746-9B33-1F6DBD1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9BA-E761-40CA-B94E-4D8D4E0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126-180E-4B90-8E78-EC18E42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C16-1FD0-41F7-AD4A-98F242AAB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09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«Организация двигательно – оздоровительных моментов в ходе занятий»</a:t>
            </a:r>
            <a:br>
              <a:rPr sz="4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724360" y="3722760"/>
            <a:ext cx="3252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ыполнила: воспитатель пер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Агзамова Р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624120" y="491004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. Орен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202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9" descr="0_297c3_9f3928c6_L.jpg"/>
          <p:cNvPicPr/>
          <p:nvPr/>
        </p:nvPicPr>
        <p:blipFill>
          <a:blip r:embed="rId2"/>
          <a:stretch/>
        </p:blipFill>
        <p:spPr>
          <a:xfrm>
            <a:off x="0" y="2781360"/>
            <a:ext cx="2959200" cy="2959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03360" y="0"/>
            <a:ext cx="792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 № 19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ИЗКУЛЬТМИНУТКИ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160280"/>
            <a:ext cx="61322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это - кратковременное (в течение 1 – 2 минут) мероприятие, которое способствует укреплению организма ребёнка, повышает его работоспособн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тминутка проводится, с </a:t>
            </a:r>
            <a:r>
              <a:rPr b="1" i="1" lang="ru-RU" sz="3000" spc="-1" strike="noStrike" u="sng">
                <a:solidFill>
                  <a:srgbClr val="4f6228"/>
                </a:solidFill>
                <a:uFillTx/>
                <a:latin typeface="Calibri"/>
              </a:rPr>
              <a:t>целью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 активно изменить деятельность детей и этим ослабить утомление, а затем снова переключить их на продолжение занят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C00MmFkLW.jpg"/>
          <p:cNvPicPr/>
          <p:nvPr/>
        </p:nvPicPr>
        <p:blipFill>
          <a:blip r:embed="rId2"/>
          <a:stretch/>
        </p:blipFill>
        <p:spPr>
          <a:xfrm>
            <a:off x="6423120" y="1279440"/>
            <a:ext cx="23922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начение физкультминуток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0000" y="134136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могают детям отдохнуть, развлеч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нять напряжение, получить ощущение физической разрядк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улучшают кровообращение, снимают утомление мышц, нервной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активизируют мышление дет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создают положительные эмо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7933c"/>
                </a:solidFill>
                <a:latin typeface="Calibri"/>
              </a:rPr>
              <a:t>повышают интерес к занятия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C:\Users\SAMSUNG\Desktop\382_1.jpg"/>
          <p:cNvPicPr/>
          <p:nvPr/>
        </p:nvPicPr>
        <p:blipFill>
          <a:blip r:embed="rId2"/>
          <a:stretch/>
        </p:blipFill>
        <p:spPr>
          <a:xfrm>
            <a:off x="185760" y="206064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0" y="1260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лительность физкультминут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641520"/>
            <a:ext cx="71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000" spc="-1" strike="noStrike">
                <a:solidFill>
                  <a:srgbClr val="4f6228"/>
                </a:solidFill>
                <a:latin typeface="Calibri"/>
              </a:rPr>
              <a:t>Физкульминутка проводится ориентировочно на 8 – 15 минуте от начала занятия, в течение 1-2 мин. Показателем необходимости физкультминутки является так называемое двигательное беспокойство детей: ёрзание на стуле, зевание, ослабление внимания, отвлечение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6102360" y="1841400"/>
            <a:ext cx="284148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1000" y="1341360"/>
            <a:ext cx="842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f6228"/>
                </a:solidFill>
                <a:latin typeface="Arial"/>
              </a:rPr>
              <a:t>В физкультминутку рекомендуется включать 2-3 несложных упражнения для мышц шеи, туловища, конечностей (наклоны, повороты, движения руками, прыжки на месте и т.п.) или движения образно-имитационного характера (распускается цветок, спящий ёжик просыпается, деревья качают ветками и т.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108000" y="981000"/>
            <a:ext cx="907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Хочется подчеркнуть, что не следует связывать содержание физкультминутки с выполнением детьми умственных заданий: сделать столько же движений, сколько раз воспитатель ударит в бубен, наклониться на один раз меньше (больше), чем кружков на карточке. В этом случае физкультминутка становится частью занятия, так как выполняет ещё и обучающую функцию, не позволяя полноценно отдохнуть ребёнку и переключиться на другие виды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ормы проведения физкультминуток бывают следующих вид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3321000"/>
            <a:ext cx="79898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танцевальных движений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используются между структурными частями занятий под звукозапись, пение воспитателя или самих детей. Больше всего подходят мелодии умеренного ритма. Негромкие, иногда плавны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выполнения движений под текст стихотво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любого двигательного действия и зад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77864371_7159fae7396b.png"/>
          <p:cNvPicPr/>
          <p:nvPr/>
        </p:nvPicPr>
        <p:blipFill>
          <a:blip r:embed="rId2"/>
          <a:stretch/>
        </p:blipFill>
        <p:spPr>
          <a:xfrm>
            <a:off x="7275600" y="314172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0" y="1197000"/>
            <a:ext cx="892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7933c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подвижной игры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подбираются игры средней подвижности, не требующие большого пространства, с несложными. Хорошо знакомыми детям правил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В форме дидактической игры с движениями- </a:t>
            </a:r>
            <a:r>
              <a:rPr b="1" lang="ru-RU" sz="2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орошо вписываются в занятия по ознакомлению с природой. По звуковой ( фонетической) культуре речи, по математ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РЕБОВАНИЕ К ПРОВЕДЕНИЮ ФИЗКУЛЬТМИНУТОК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3200" y="1052280"/>
            <a:ext cx="81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Проводятся на начальном этапе утомления ( 8-15-я минута занятия, зависит от возраста, вида деятельности, сложности  материал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просты по структуре, интересны и хорошо знакомы дет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быть удобны для выполнения по ограниченной площад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Упражнения должны включать движения, воздействующие на крупные группы мышц, улучшающие функциональную деятельность всех органов и сист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Содержание физкультминуток должно органически сочетаться с программным содержанием занят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Комплекс физкультминутки обычно состоит из 2-4 упражнений: для рук и плечевого пояса, для туловища и н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Выполнять упражнения следует вместе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</a:rPr>
              <a:t>Нельзя принуждать делать физкультминутку, если у ребенка нет на это  жел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sredstva_obscheniya_prezentaciya_1871_101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45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68360" y="1413000"/>
            <a:ext cx="836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sm_full.preview.png"/>
          <p:cNvPicPr/>
          <p:nvPr/>
        </p:nvPicPr>
        <p:blipFill>
          <a:blip r:embed="rId2"/>
          <a:stretch/>
        </p:blipFill>
        <p:spPr>
          <a:xfrm>
            <a:off x="2411280" y="2565360"/>
            <a:ext cx="417672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8:47:21Z</dcterms:created>
  <dc:creator>Admin</dc:creator>
  <dc:description/>
  <dc:language>en-US</dc:language>
  <cp:lastModifiedBy>FuckOff</cp:lastModifiedBy>
  <dcterms:modified xsi:type="dcterms:W3CDTF">2024-02-11T09:34:40Z</dcterms:modified>
  <cp:revision>37</cp:revision>
  <dc:subject/>
  <dc:title>«Физкультминутки в ДОУ» </dc:title>
</cp:coreProperties>
</file>