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EDB-2508-4CEE-9EEE-28D9BE29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CBD-6A26-4407-8B1E-01878D7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2F2-A424-45D0-8A42-C00886C7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1B0-62FA-4AC6-8F8E-BBF21181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6D1-FE14-42D8-8527-706CB44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264-5187-4BA5-831A-61C0088B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9F0-31FC-482A-A747-35A0734B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9FE-C15B-4C29-8D1D-31228EB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429-D765-411D-857C-1FF12D5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03B-1B20-44DE-9FB4-303CAA7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6DE-BD7B-414D-81F3-F407C33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5A4-5A9C-476E-9BA1-2079CAE7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361E-31E1-4A0A-B1E4-E99DA3025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096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«Организация двигательно – оздоровительных моментов в ходе занятий»</a:t>
            </a:r>
            <a:br>
              <a:rPr sz="4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724360" y="3722760"/>
            <a:ext cx="3252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ыполнила: воспитатель пер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гзамова Р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624120" y="491004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. Орен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202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9" descr="0_297c3_9f3928c6_L.jpg"/>
          <p:cNvPicPr/>
          <p:nvPr/>
        </p:nvPicPr>
        <p:blipFill>
          <a:blip r:embed="rId2"/>
          <a:stretch/>
        </p:blipFill>
        <p:spPr>
          <a:xfrm>
            <a:off x="0" y="2781360"/>
            <a:ext cx="2959200" cy="2959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03360" y="0"/>
            <a:ext cx="7920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 № 19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ИЗКУЛЬТМИНУТКИ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160280"/>
            <a:ext cx="61322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это - кратковременное (в течение 1 – 2 минут) мероприятие, которое способствует укреплению организма ребёнка, повышает его работоспособ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Физкультминутка проводится, с </a:t>
            </a:r>
            <a:r>
              <a:rPr b="1" i="1" lang="ru-RU" sz="3000" spc="-1" strike="noStrike" u="sng">
                <a:solidFill>
                  <a:srgbClr val="4f6228"/>
                </a:solidFill>
                <a:uFillTx/>
                <a:latin typeface="Calibri"/>
              </a:rPr>
              <a:t>целью</a:t>
            </a: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 активно изменить деятельность детей и этим ослабить утомление, а затем снова переключить их на продолжение занят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C00MmFkLW.jpg"/>
          <p:cNvPicPr/>
          <p:nvPr/>
        </p:nvPicPr>
        <p:blipFill>
          <a:blip r:embed="rId2"/>
          <a:stretch/>
        </p:blipFill>
        <p:spPr>
          <a:xfrm>
            <a:off x="6423120" y="1279440"/>
            <a:ext cx="23922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начение физкультминуток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40000" y="134136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Помогают детям отдохнуть, развлеч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снять напряжение, получить ощущение физической разрядк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улучшают кровообращение, снимают утомление мышц, нервной систем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активизируют мышление дет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создают положительные эмо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повышают интерес к занятия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C:\Users\SAMSUNG\Desktop\382_1.jpg"/>
          <p:cNvPicPr/>
          <p:nvPr/>
        </p:nvPicPr>
        <p:blipFill>
          <a:blip r:embed="rId2"/>
          <a:stretch/>
        </p:blipFill>
        <p:spPr>
          <a:xfrm>
            <a:off x="185760" y="2060640"/>
            <a:ext cx="194472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0" y="1260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лительность физкультмину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641520"/>
            <a:ext cx="7164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Физкульминутка проводится ориентировочно на 8 – 15 минуте от начала занятия, в течение 1-2 мин. Показателем необходимости физкультминутки является так называемое двигательное беспокойство детей: ёрзание на стуле, зевание, ослабление внимания, отвлечение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sm_full.preview.png"/>
          <p:cNvPicPr/>
          <p:nvPr/>
        </p:nvPicPr>
        <p:blipFill>
          <a:blip r:embed="rId2"/>
          <a:stretch/>
        </p:blipFill>
        <p:spPr>
          <a:xfrm>
            <a:off x="6102360" y="1841400"/>
            <a:ext cx="284148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51000" y="1341360"/>
            <a:ext cx="842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В физкультминутку рекомендуется включать 2-3 несложных упражнения для мышц шеи, туловища, конечностей (наклоны, повороты, движения руками, прыжки на месте и т.п.) или движения образно-имитационного характера (распускается цветок, спящий ёжик просыпается, деревья качают ветками и т.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108000" y="981000"/>
            <a:ext cx="907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Хочется подчеркнуть, что не следует связывать содержание физкультминутки с выполнением детьми умственных заданий: сделать столько же движений, сколько раз воспитатель ударит в бубен, наклониться на один раз меньше (больше), чем кружков на карточке. В этом случае физкультминутка становится частью занятия, так как выполняет ещё и обучающую функцию, не позволяя полноценно отдохнуть ребёнку и переключиться на другие виды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ормы проведения физкультминуток бывают следующих вид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3321000"/>
            <a:ext cx="79898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танцевальных движений-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используются между структурными частями занятий под звукозапись, пение воспитателя или самих детей. Больше всего подходят мелодии умеренного ритма. Негромкие, иногда плавны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выполнения движений под текст стихотвор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любого двигательного действия и зад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77864371_7159fae7396b.png"/>
          <p:cNvPicPr/>
          <p:nvPr/>
        </p:nvPicPr>
        <p:blipFill>
          <a:blip r:embed="rId2"/>
          <a:stretch/>
        </p:blipFill>
        <p:spPr>
          <a:xfrm>
            <a:off x="7275600" y="3141720"/>
            <a:ext cx="1868400" cy="2347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0" y="1197000"/>
            <a:ext cx="892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7933c"/>
                </a:solidFill>
                <a:uFillTx/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подвижной игры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 подбираются игры средней подвижности, не требующие большого пространства, с несложными. Хорошо знакомыми детям правил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дидактической игры с движениями-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орошо вписываются в занятия по ознакомлению с природой. По звуковой ( фонетической) культуре речи, по математи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РЕБОВАНИЕ К ПРОВЕДЕНИЮ ФИЗКУЛЬТМИНУТОК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3200" y="1052280"/>
            <a:ext cx="81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Проводятся на начальном этапе утомления ( 8-15-я минута занятия, зависит от возраста, вида деятельности, сложности  материал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быть просты по структуре, интересны и хорошо знакомы дет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быть удобны для выполнения по ограниченной площад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включать движения, воздействующие на крупные группы мышц, улучшающие функциональную деятельность всех органов и сист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Содержание физкультминуток должно органически сочетаться с программным содержанием заня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Комплекс физкультминутки обычно состоит из 2-4 упражнений: для рук и плечевого пояса, для туловища и н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Выполнять упражнения следует вместе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Нельзя принуждать делать физкультминутку, если у ребенка нет на это  жел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68360" y="1413000"/>
            <a:ext cx="836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sm_full.preview.png"/>
          <p:cNvPicPr/>
          <p:nvPr/>
        </p:nvPicPr>
        <p:blipFill>
          <a:blip r:embed="rId2"/>
          <a:stretch/>
        </p:blipFill>
        <p:spPr>
          <a:xfrm>
            <a:off x="2411280" y="2565360"/>
            <a:ext cx="4176720" cy="3070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8:47:21Z</dcterms:created>
  <dc:creator>Admin</dc:creator>
  <dc:description/>
  <dc:language>en-US</dc:language>
  <cp:lastModifiedBy>FuckOff</cp:lastModifiedBy>
  <dcterms:modified xsi:type="dcterms:W3CDTF">2024-02-11T09:34:40Z</dcterms:modified>
  <cp:revision>37</cp:revision>
  <dc:subject/>
  <dc:title>«Физкультминутки в ДОУ» </dc:title>
</cp:coreProperties>
</file>