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5.png" ContentType="image/png"/>
  <Override PartName="/ppt/media/image10.jpeg" ContentType="image/jpe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106-0F02-43BE-A884-0CD0FECE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4D2-BDE2-4B9E-BDC2-0A283C56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2F9-C8A1-4283-AD69-934ECAAE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715-845D-4EB5-AEE1-F418086D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45F2-1C96-4D17-A6D8-EC7206CF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D013-16F1-407F-9F5C-91F7493B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1E7B-DB03-4A48-813D-45C94E29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BEF2-B2FC-4A81-B9FC-73A3F51A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3B1E-A12B-42D3-8A06-8131C874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52B5-3184-4699-8132-0FA3D294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DA33-F90B-42B1-A91A-A5B3B36F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677-7427-43F9-ABE6-8920578A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9D74-165D-45A9-9122-F119777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4ECA-87E2-41E0-B5CE-3DE8D83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DDDF-EF67-4D7C-83D5-DD4BE317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1C00-7E64-4D1A-8D6E-A76DA2C9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0746-073E-4E6A-8EC2-7E09C8BD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393C-3E23-4E8B-9B85-8251A183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5ACC-A3CB-4EBA-B8E8-6C9CBE68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BA82-74A6-4609-A7FF-33484ED7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D80F-ABD2-4077-A29B-25F89E22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B9FE-C189-4A22-9533-A63EB879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481-DD75-41A9-8401-BB1A982E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D891-28B8-4411-9ECE-BE668F9E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9F98-B6A0-405D-B3EF-3953135A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FE68-9B88-4901-8563-F1A75EDC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DAD9B-326C-4536-8D75-55BDFF6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5883-DECE-46D3-8668-9A73FA98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69C8-8DB8-4331-8932-E42DE607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86EF2-3675-4FDA-B3B9-FAFF4A8C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850C5-2E0A-4E73-B8D6-283C33A6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B31C8-EBDA-4B1C-9E54-F23ACAE1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0CFAD-B11A-4570-B9A8-D830B580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D82-17DF-44A8-9EE3-101AB086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1809-ACD4-4A61-8B08-5AA0DE8D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1511-465B-4F15-B4D8-70CDDB54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FB8E-4068-4034-B196-AFC29936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5B9B-9242-458C-B88A-6C7D2CEE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660FF-7388-4CC4-A985-CDCD5472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41AB-35F4-402F-AA39-495A5CA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73B25-99CE-44ED-A95C-1BCC7405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1A802-EF1B-43A2-8E6C-E2C15173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53939-FAC2-42B9-928A-B2BBAD73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209-0E36-41D6-97F7-3587828C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E75-EAA1-43F6-B978-28910960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6BE-A67B-44BF-AF96-786B568F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3F8-43E3-4480-A329-472A6F37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DB4-2D3F-4F78-9C23-6F0F7BC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26F6-16DF-4D17-8453-D90E5E7C8AA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E668-8D31-4CB3-BBB9-2CF8A668033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1FA-E9A8-4F0E-8A7B-A8D77C70424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94A7-AA2D-4C29-8E06-B5E9B3835BA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7900920" cy="3370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857320" y="5715000"/>
            <a:ext cx="3214440" cy="66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8 класс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1428840" y="3786120"/>
            <a:ext cx="5929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3" descr="C:\Documents and Settings\Дмитрий\Рабочий стол\bt_M2_3101.gif"/>
          <p:cNvPicPr/>
          <p:nvPr/>
        </p:nvPicPr>
        <p:blipFill>
          <a:blip r:embed="rId1"/>
          <a:stretch/>
        </p:blipFill>
        <p:spPr>
          <a:xfrm>
            <a:off x="1009800" y="1827360"/>
            <a:ext cx="4348080" cy="4419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5429160" y="32446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Балл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Дмитрий\Рабочий стол\shema.gif"/>
          <p:cNvPicPr/>
          <p:nvPr/>
        </p:nvPicPr>
        <p:blipFill>
          <a:blip r:embed="rId1"/>
          <a:stretch/>
        </p:blipFill>
        <p:spPr>
          <a:xfrm>
            <a:off x="500040" y="1285920"/>
            <a:ext cx="4448160" cy="48578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5857920" y="3244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Архите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3" descr="C:\Documents and Settings\Дмитрий\Рабочий стол\katarakta.jpg"/>
          <p:cNvPicPr/>
          <p:nvPr/>
        </p:nvPicPr>
        <p:blipFill>
          <a:blip r:embed="rId1"/>
          <a:stretch/>
        </p:blipFill>
        <p:spPr>
          <a:xfrm>
            <a:off x="1000080" y="2571840"/>
            <a:ext cx="3500640" cy="27144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4"/>
          <p:cNvSpPr/>
          <p:nvPr/>
        </p:nvSpPr>
        <p:spPr>
          <a:xfrm>
            <a:off x="6000840" y="32446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Documents and Settings\Дмитрий\Рабочий стол\287886830.jpg"/>
          <p:cNvPicPr/>
          <p:nvPr/>
        </p:nvPicPr>
        <p:blipFill>
          <a:blip r:embed="rId1"/>
          <a:stretch/>
        </p:blipFill>
        <p:spPr>
          <a:xfrm>
            <a:off x="500040" y="1500120"/>
            <a:ext cx="4889520" cy="42163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6215040" y="3244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урочные разработки по геометрии 8 класс автор Гаврилова Н.Ф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айд5-поурочные разработки Н.Ф.Гаврилова стр204,рис554,ск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айд6-поурочные разработки Н.Ф.Гаврилова стр204,рис555,ск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айд9-поурочные разработки Н.Ф.Гаврилова стр205,рис557,ск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еометрия: учеб. для 7-9 кл. общеобразоват. учреждений / Л.С. Атанасян и др. –  М.: «Просвещение», 201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еометрия. 8 класс: технологические карты уроков по учебнику Л.С. Атанасяна и др. / авт.-сост. Г.Ю. Ковтун. – Волгоград: Учитель, 201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Истинно или ложн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000" y="2276280"/>
            <a:ext cx="825804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диус окружности перпендикулярен прямой, которая является касательн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ямая проходящая через центр окружности, пересекает эту окружность в двух точках – концах диамет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ямая проходящая через конец радиуса лежащий на окружности,  является касательной к этой окруж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3203640" y="5877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се исти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57160" y="356760"/>
            <a:ext cx="7601040" cy="6018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onstantia"/>
              </a:rPr>
              <a:t>Теория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 Теорема о свойстве касательно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 Теорема о свойстве отрезков   касательных к окружности, проведённых из одной точк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  Теорема - признак касательно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33240" y="133200"/>
            <a:ext cx="7834320" cy="1854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28400" y="2071800"/>
            <a:ext cx="8072280" cy="430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ано: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B –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аса-     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ельная;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B=12,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OB=13.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йти: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214280" y="2357280"/>
            <a:ext cx="3008520" cy="27147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971640" y="5805360"/>
            <a:ext cx="30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28440" y="356760"/>
            <a:ext cx="77151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о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аса-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ьные,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130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: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А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          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2770200" cy="2786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000" y="980640"/>
            <a:ext cx="3166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76360" y="2421000"/>
            <a:ext cx="3672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 задача – 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 задача - 50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8920" y="191628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Е = 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О = 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32360" y="1915920"/>
            <a:ext cx="3657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ариант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O =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2) ОВ = 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4206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68 – 69(теория), № 640, № 64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Дмитрий\Рабочий стол\4_1022_2751-max.JPG"/>
          <p:cNvPicPr/>
          <p:nvPr/>
        </p:nvPicPr>
        <p:blipFill>
          <a:blip r:embed="rId1"/>
          <a:stretch/>
        </p:blipFill>
        <p:spPr>
          <a:xfrm>
            <a:off x="1214280" y="2071800"/>
            <a:ext cx="2857680" cy="364176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7"/>
          <p:cNvSpPr/>
          <p:nvPr/>
        </p:nvSpPr>
        <p:spPr>
          <a:xfrm>
            <a:off x="4929120" y="3244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Машино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0:02:25Z</dcterms:created>
  <dc:creator>Admin</dc:creator>
  <dc:description/>
  <dc:language>en-US</dc:language>
  <cp:lastModifiedBy>Кабинет физики</cp:lastModifiedBy>
  <dcterms:modified xsi:type="dcterms:W3CDTF">2023-03-18T15:20:51Z</dcterms:modified>
  <cp:revision>88</cp:revision>
  <dc:subject/>
  <dc:title>«Касательная к окружности. Решение задач»</dc:title>
</cp:coreProperties>
</file>