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B53-6D31-499A-92A5-CE5A0F6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007-B9F6-43EA-96A8-20A9E4B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762-9BC6-4F62-825D-42966266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51D-65F6-46E1-98B5-A9985F9F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E9C-5418-49AB-BAF8-32764CA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02E5-7AC0-4437-92B4-20F9622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E12-2008-4028-A9E0-1E57C15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FD9D-AF0F-4DAC-8228-82B892A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547-D0C3-497B-A716-3C09114A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A5B-04E0-4D27-A5FC-9C14D8C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E37-1E84-401B-A499-F19FC63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2C-79F6-49F7-9A46-CCDC6DE3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CF42-F9A0-4467-AD73-D8A1FAD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25A9-C5E9-4600-83C3-C04D1B9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96D6-0A61-4983-B99A-E4245AB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2263-6D70-4CEE-8A26-F5D13F5A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BD2-9919-4686-8417-6B0C1012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82DD-A7D8-4967-AD09-5BBE628D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A32F-EF1C-4EAB-8F67-71B17AB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8299-B032-4562-AF15-8BE2E217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A1C9-5AE7-4F46-885A-2158C4E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9948-D305-4A56-955D-F4B6E31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257-AFD8-46D3-B03B-B8D577F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9A4F-5E26-4D47-8CAD-5D55140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2BEE-6394-4083-97A1-4DD3C10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5021-F75D-4715-AA6E-0E988C5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1413-2198-45F6-8367-9F30584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8E45-8759-4961-851C-F8A4651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DE99-B35A-49E2-96D5-3C307744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C5F6-28A2-4F19-B532-7F50C35C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8BF2-0EC2-40F3-818D-5F43BF5D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41E3-98CA-432F-B59A-0A2ACA47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C6FE-8E26-4D5C-9802-20DDC6E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5B5-8DB0-4E3F-90DC-1E86C2A9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D20F-60CA-4429-95D5-CBD37F7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4A0B-3009-44E5-B7A0-56F6956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E568-15FC-4DE1-956F-4B62682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0F5B-C054-42D1-9CD0-6F1730A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532CA-C922-4CDF-869C-9EC4380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4C2A-EFEA-4E47-87A7-36585F1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2A29-153F-4357-81ED-DFE8B42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57A2-F978-45AE-A1D8-7F780C70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F351-B02F-473F-99A9-DD0ACA15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ACD-B303-4A27-BEBA-8D0A170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B9F-EDB7-4F09-BD5D-E088D39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E31-0253-4484-A335-EE4697F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534-E152-4C7F-B4B4-08541A6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2D8-5CCB-4AF5-BA19-05D60DA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06A-9682-43C2-99D3-736B2B9D19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B80-0D4A-4319-ADFE-38174B2DE6E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434-C589-49B5-A681-C9E1931869A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5AFA-D682-4D98-B6CE-D17C43D58F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7900920" cy="3370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7320" y="5715000"/>
            <a:ext cx="3214440" cy="66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428840" y="3786120"/>
            <a:ext cx="5929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3" descr="C:\Documents and Settings\Дмитрий\Рабочий стол\bt_M2_3101.gif"/>
          <p:cNvPicPr/>
          <p:nvPr/>
        </p:nvPicPr>
        <p:blipFill>
          <a:blip r:embed="rId1"/>
          <a:stretch/>
        </p:blipFill>
        <p:spPr>
          <a:xfrm>
            <a:off x="1009800" y="1827360"/>
            <a:ext cx="4348080" cy="4419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429160" y="32446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Балл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Дмитрий\Рабочий стол\shema.gif"/>
          <p:cNvPicPr/>
          <p:nvPr/>
        </p:nvPicPr>
        <p:blipFill>
          <a:blip r:embed="rId1"/>
          <a:stretch/>
        </p:blipFill>
        <p:spPr>
          <a:xfrm>
            <a:off x="500040" y="1285920"/>
            <a:ext cx="4448160" cy="4857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5857920" y="3244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3" descr="C:\Documents and Settings\Дмитрий\Рабочий стол\katarakta.jpg"/>
          <p:cNvPicPr/>
          <p:nvPr/>
        </p:nvPicPr>
        <p:blipFill>
          <a:blip r:embed="rId1"/>
          <a:stretch/>
        </p:blipFill>
        <p:spPr>
          <a:xfrm>
            <a:off x="1000080" y="2571840"/>
            <a:ext cx="3500640" cy="27144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6000840" y="3244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Дмитрий\Рабочий стол\287886830.jpg"/>
          <p:cNvPicPr/>
          <p:nvPr/>
        </p:nvPicPr>
        <p:blipFill>
          <a:blip r:embed="rId1"/>
          <a:stretch/>
        </p:blipFill>
        <p:spPr>
          <a:xfrm>
            <a:off x="500040" y="1500120"/>
            <a:ext cx="4889520" cy="42163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6215040" y="324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урочные разработки по геометрии 8 класс автор Гаврилова Н.Ф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5-поурочные разработки Н.Ф.Гаврилова стр204,рис554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6-поурочные разработки Н.Ф.Гаврилова стр204,рис555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айд9-поурочные разработки Н.Ф.Гаврилова стр205,рис557,ск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: учеб. для 7-9 кл. общеобразоват. учреждений / Л.С. Атанасян и др. –  М.: «Просвещение»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еометрия. 8 класс: технологические карты уроков по учебнику Л.С. Атанасяна и др. / авт.-сост. Г.Ю. Ковтун. – Волгоград: Учитель, 201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Истинно или ложн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000" y="2276280"/>
            <a:ext cx="825804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диус окружности перпендикулярен прямой, которая является касательн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центр окружности, пересекает эту окружность в двух точках – концах диамет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ямая проходящая через конец радиуса лежащий на окружности,  является касательной к этой окру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203640" y="5877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се исти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57160" y="356760"/>
            <a:ext cx="760104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onstantia"/>
              </a:rPr>
              <a:t>Теория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Теорема о свойстве отрезков   касательных к окружности, проведённых из одной точк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  Теорема - признак касательно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133200"/>
            <a:ext cx="7834320" cy="1854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28400" y="2071800"/>
            <a:ext cx="80722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 –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аса-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тельная;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B=12,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OB=13.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214280" y="2357280"/>
            <a:ext cx="3008520" cy="27147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971640" y="5805360"/>
            <a:ext cx="30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28440" y="356760"/>
            <a:ext cx="77151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са-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ьные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130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: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А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277020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316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76360" y="2421000"/>
            <a:ext cx="36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 задача – 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 задача - 50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8920" y="191628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Е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32360" y="1915920"/>
            <a:ext cx="3657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ариант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 =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2) ОВ = 10 с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420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68 – 69(теория), № 640, № 64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менение касательной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Дмитрий\Рабочий стол\4_1022_2751-max.JPG"/>
          <p:cNvPicPr/>
          <p:nvPr/>
        </p:nvPicPr>
        <p:blipFill>
          <a:blip r:embed="rId1"/>
          <a:stretch/>
        </p:blipFill>
        <p:spPr>
          <a:xfrm>
            <a:off x="1214280" y="2071800"/>
            <a:ext cx="2857680" cy="364176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7"/>
          <p:cNvSpPr/>
          <p:nvPr/>
        </p:nvSpPr>
        <p:spPr>
          <a:xfrm>
            <a:off x="4929120" y="3244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Машин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0:02:25Z</dcterms:created>
  <dc:creator>Admin</dc:creator>
  <dc:description/>
  <dc:language>en-US</dc:language>
  <cp:lastModifiedBy>Кабинет физики</cp:lastModifiedBy>
  <dcterms:modified xsi:type="dcterms:W3CDTF">2023-03-18T15:20:51Z</dcterms:modified>
  <cp:revision>88</cp:revision>
  <dc:subject/>
  <dc:title>«Касательная к окружности. Решение задач»</dc:title>
</cp:coreProperties>
</file>