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14.jpeg" ContentType="image/jpeg"/>
  <Override PartName="/ppt/media/image8.png" ContentType="image/png"/>
  <Override PartName="/ppt/media/image9.png" ContentType="image/png"/>
  <Override PartName="/ppt/media/image5.png" ContentType="image/png"/>
  <Override PartName="/ppt/media/image10.jpeg" ContentType="image/jpeg"/>
  <Override PartName="/ppt/media/image11.gif" ContentType="image/gi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86BCF-1E04-44D7-A2A0-5F71FB292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02682-54AF-40AE-8FED-3066AE47B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929EA-30F0-4686-B107-697CDC256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45327-8ED1-40B7-BAE1-5D7ADCBFA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DB6BB-3BE1-4618-BB1D-AC7D22C92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21794-CED7-4C2C-B0EE-B3AF68EFD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2B423-BF21-4AB2-9F62-D7B69185D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373C1-E91C-44D8-8435-314C24B4F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E7646-654B-41E6-A1F1-DF7446FFC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D949D-AA4F-4263-A796-6837535FC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C4967-F92E-45AD-A38D-516BD4809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BDEF7-257F-4E8B-BA96-529E7CE0E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0AC30-8F90-4FC2-971F-A25D85155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08E23-AC03-43FF-A4C8-9FF0BABDE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748CF-1DEB-4CC2-8E15-6C27867A7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6AA48-9E70-413A-9977-69E276520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BF0DE-0D43-4E18-95C2-62B338A7B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D10B93-EE5A-4ED0-AD20-879DB661B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072403-D64D-4010-AFF8-EC77270FA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4BB8BC-5357-46AB-A446-BFBC644D5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47E5D0-C2D3-4042-A5A8-710979EF7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48FA11-DD42-4C8B-9A0D-31A0F087D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4EDA2-CEBB-435F-9CB9-F9B70AE8F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F28978-CEAC-482C-A3ED-0A12E2428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C117B3-CA28-4C85-B14A-73BD12CF0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84C447-8E5F-41ED-851F-FC757F44B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327E6F-0EA0-4938-8A4E-B884A6191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87AD6A-BD10-4FF4-BD4C-B7E4093EF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2EA2A6-02FD-47AE-A1B6-38D841526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FFBB54-BB94-4D13-BAC4-2D53A75AE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410E1F-4FDB-4138-B092-E3EADAD6C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ECF980-C5BA-47B9-B850-C7EBC15C6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2FD6E3-68D7-4482-95A0-F75647F43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B1D0C-7AB3-4D59-8D38-1A2E52537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BCA355-AE8F-44BE-B6B0-9A0F7C827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483B59-2FB5-4C6E-9A59-E9EA8E0D9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C58B6E-D92C-47CB-897E-9B69B6B87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2B9808-AA9A-4ECD-B8B2-C68FEEADD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9E05BA-123F-40D2-B4F1-5E92F806C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88D542-EA1D-4DFD-B67A-D6DFF4AB8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4D1DC9-F7EE-4F87-A4CC-464EEDEB7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26C601-1EAB-46E3-80CA-23F22B9BE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E87C16-4634-4118-8B38-45D716B30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4D0C9-D815-4A09-A408-88CDB1E3C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CE36F-D1BC-4795-921B-5175FBFE1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3023E-7A51-4DF6-AE44-2D0FE4B03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73F15-020C-4979-B43A-80D876F39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4B76B-7F31-4FDC-8B91-366A10C74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7C042-3781-401A-94C9-6CC43F8C6717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089FD-DEF7-421D-A0ED-F60F9BD492DE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6D2E5-1F5D-437D-A5DB-E49CC55A6A24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2E703-3DB5-462A-A56D-A0CC50D8951B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1"/>
          <a:stretch/>
        </p:blipFill>
        <p:spPr>
          <a:xfrm>
            <a:off x="566640" y="208080"/>
            <a:ext cx="7900920" cy="337032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2857320" y="5715000"/>
            <a:ext cx="3214440" cy="6602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8 класс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7" name="TextBox 3"/>
          <p:cNvSpPr/>
          <p:nvPr/>
        </p:nvSpPr>
        <p:spPr>
          <a:xfrm>
            <a:off x="1428840" y="3786120"/>
            <a:ext cx="59292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</a:rPr>
              <a:t>Применение касательной</a:t>
            </a:r>
            <a:br>
              <a:rPr sz="2900"/>
            </a:br>
            <a:endParaRPr b="0" lang="en-US" sz="29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0" name="Picture 3" descr="C:\Documents and Settings\Дмитрий\Рабочий стол\bt_M2_3101.gif"/>
          <p:cNvPicPr/>
          <p:nvPr/>
        </p:nvPicPr>
        <p:blipFill>
          <a:blip r:embed="rId1"/>
          <a:stretch/>
        </p:blipFill>
        <p:spPr>
          <a:xfrm>
            <a:off x="1009800" y="1827360"/>
            <a:ext cx="4348080" cy="4419360"/>
          </a:xfrm>
          <a:prstGeom prst="rect">
            <a:avLst/>
          </a:prstGeom>
          <a:ln w="0">
            <a:noFill/>
          </a:ln>
        </p:spPr>
      </p:pic>
      <p:sp>
        <p:nvSpPr>
          <p:cNvPr id="221" name="Прямоугольник 5"/>
          <p:cNvSpPr/>
          <p:nvPr/>
        </p:nvSpPr>
        <p:spPr>
          <a:xfrm>
            <a:off x="5429160" y="3244680"/>
            <a:ext cx="285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Arial"/>
              </a:rPr>
              <a:t>Баллист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</a:rPr>
              <a:t>Применение касательной</a:t>
            </a:r>
            <a:br>
              <a:rPr sz="2900"/>
            </a:br>
            <a:endParaRPr b="0" lang="en-US" sz="29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3" name="Picture 2" descr="C:\Documents and Settings\Дмитрий\Рабочий стол\shema.gif"/>
          <p:cNvPicPr/>
          <p:nvPr/>
        </p:nvPicPr>
        <p:blipFill>
          <a:blip r:embed="rId1"/>
          <a:stretch/>
        </p:blipFill>
        <p:spPr>
          <a:xfrm>
            <a:off x="500040" y="1285920"/>
            <a:ext cx="4448160" cy="4857840"/>
          </a:xfrm>
          <a:prstGeom prst="rect">
            <a:avLst/>
          </a:prstGeom>
          <a:ln w="0">
            <a:noFill/>
          </a:ln>
        </p:spPr>
      </p:pic>
      <p:sp>
        <p:nvSpPr>
          <p:cNvPr id="224" name="Прямоугольник 4"/>
          <p:cNvSpPr/>
          <p:nvPr/>
        </p:nvSpPr>
        <p:spPr>
          <a:xfrm>
            <a:off x="5857920" y="3244680"/>
            <a:ext cx="257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Arial"/>
              </a:rPr>
              <a:t>Архитекту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</a:rPr>
              <a:t>Применение касательной</a:t>
            </a:r>
            <a:br>
              <a:rPr sz="2900"/>
            </a:br>
            <a:endParaRPr b="0" lang="en-US" sz="29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6" name="Picture 3" descr="C:\Documents and Settings\Дмитрий\Рабочий стол\katarakta.jpg"/>
          <p:cNvPicPr/>
          <p:nvPr/>
        </p:nvPicPr>
        <p:blipFill>
          <a:blip r:embed="rId1"/>
          <a:stretch/>
        </p:blipFill>
        <p:spPr>
          <a:xfrm>
            <a:off x="1000080" y="2571840"/>
            <a:ext cx="3500640" cy="2714400"/>
          </a:xfrm>
          <a:prstGeom prst="rect">
            <a:avLst/>
          </a:prstGeom>
          <a:ln w="0">
            <a:noFill/>
          </a:ln>
        </p:spPr>
      </p:pic>
      <p:sp>
        <p:nvSpPr>
          <p:cNvPr id="227" name="Прямоугольник 4"/>
          <p:cNvSpPr/>
          <p:nvPr/>
        </p:nvSpPr>
        <p:spPr>
          <a:xfrm>
            <a:off x="6000840" y="3244680"/>
            <a:ext cx="235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Arial"/>
              </a:rPr>
              <a:t>Медиц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</a:rPr>
              <a:t>Применение касательной</a:t>
            </a:r>
            <a:br>
              <a:rPr sz="2900"/>
            </a:br>
            <a:endParaRPr b="0" lang="en-US" sz="29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9" name="Picture 2" descr="C:\Documents and Settings\Дмитрий\Рабочий стол\287886830.jpg"/>
          <p:cNvPicPr/>
          <p:nvPr/>
        </p:nvPicPr>
        <p:blipFill>
          <a:blip r:embed="rId1"/>
          <a:stretch/>
        </p:blipFill>
        <p:spPr>
          <a:xfrm>
            <a:off x="500040" y="1500120"/>
            <a:ext cx="4889520" cy="4216320"/>
          </a:xfrm>
          <a:prstGeom prst="rect">
            <a:avLst/>
          </a:prstGeom>
          <a:ln w="0">
            <a:noFill/>
          </a:ln>
        </p:spPr>
      </p:pic>
      <p:sp>
        <p:nvSpPr>
          <p:cNvPr id="230" name="Прямоугольник 4"/>
          <p:cNvSpPr/>
          <p:nvPr/>
        </p:nvSpPr>
        <p:spPr>
          <a:xfrm>
            <a:off x="6215040" y="3244680"/>
            <a:ext cx="21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Arial"/>
              </a:rPr>
              <a:t>Физ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438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4617b"/>
                </a:solidFill>
                <a:latin typeface="Calibri"/>
              </a:rPr>
              <a:t>Источники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Поурочные разработки по геометрии 8 класс автор Гаврилова Н.Ф,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Слайд5-поурочные разработки Н.Ф.Гаврилова стр204,рис554,скан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Слайд6-поурочные разработки Н.Ф.Гаврилова стр204,рис555,скан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Слайд9-поурочные разработки Н.Ф.Гаврилова стр205,рис557,скан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Геометрия: учеб. для 7-9 кл. общеобразоват. учреждений / Л.С. Атанасян и др. –  М.: «Просвещение», 2015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Геометрия. 8 класс: технологические карты уроков по учебнику Л.С. Атанасяна и др. / авт.-сост. Г.Ю. Ковтун. – Волгоград: Учитель, 2015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00"/>
                </a:solidFill>
                <a:latin typeface="Times New Roman"/>
              </a:rPr>
              <a:t>Истинно или ложно?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68000" y="2276280"/>
            <a:ext cx="8258040" cy="370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Радиус окружности перпендикулярен прямой, которая является касательной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45720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Прямая проходящая через центр окружности, пересекает эту окружность в двух точках – концах диаметра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45720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Прямая проходящая через конец радиуса лежащий на окружности,  является касательной к этой окружности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0" name="TextBox 3"/>
          <p:cNvSpPr/>
          <p:nvPr/>
        </p:nvSpPr>
        <p:spPr>
          <a:xfrm>
            <a:off x="3203640" y="5877000"/>
            <a:ext cx="43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Все истин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857160" y="356760"/>
            <a:ext cx="7601040" cy="601812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ffffff"/>
                </a:solidFill>
                <a:uFillTx/>
                <a:latin typeface="Constantia"/>
              </a:rPr>
              <a:t>Теория: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-  Теорема о свойстве касательной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-  Теорема о свойстве отрезков   касательных к окружности, проведённых из одной точки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-   Теорема - признак касательной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wedge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" dur="500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Заголовок 1" descr=""/>
          <p:cNvPicPr/>
          <p:nvPr/>
        </p:nvPicPr>
        <p:blipFill>
          <a:blip r:embed="rId1"/>
          <a:stretch/>
        </p:blipFill>
        <p:spPr>
          <a:xfrm>
            <a:off x="633240" y="133200"/>
            <a:ext cx="7834320" cy="185436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428400" y="2071800"/>
            <a:ext cx="8072280" cy="43034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Дано: </a:t>
            </a: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AB – </a:t>
            </a: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каса-        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        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тельная; </a:t>
            </a: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AB=12,   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  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OB=13.</a:t>
            </a: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        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Найти: </a:t>
            </a: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R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" name="Object 6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pic>
        <p:nvPicPr>
          <p:cNvPr id="205" name="Picture 2" descr=""/>
          <p:cNvPicPr/>
          <p:nvPr/>
        </p:nvPicPr>
        <p:blipFill>
          <a:blip r:embed="rId2"/>
          <a:stretch/>
        </p:blipFill>
        <p:spPr>
          <a:xfrm>
            <a:off x="1214280" y="2357280"/>
            <a:ext cx="3008520" cy="2714760"/>
          </a:xfrm>
          <a:prstGeom prst="rect">
            <a:avLst/>
          </a:prstGeom>
          <a:ln w="0">
            <a:noFill/>
          </a:ln>
        </p:spPr>
      </p:pic>
      <p:sp>
        <p:nvSpPr>
          <p:cNvPr id="206" name="TextBox 5"/>
          <p:cNvSpPr/>
          <p:nvPr/>
        </p:nvSpPr>
        <p:spPr>
          <a:xfrm>
            <a:off x="971640" y="5805360"/>
            <a:ext cx="3024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928440" y="356760"/>
            <a:ext cx="7715160" cy="601812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ано: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,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– каса-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ельные, </a:t>
            </a: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&lt;</a:t>
            </a: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ВОС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=130°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йти: </a:t>
            </a: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&lt;</a:t>
            </a: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ВАС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.              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8" name="Picture 2" descr=""/>
          <p:cNvPicPr/>
          <p:nvPr/>
        </p:nvPicPr>
        <p:blipFill>
          <a:blip r:embed="rId1"/>
          <a:stretch/>
        </p:blipFill>
        <p:spPr>
          <a:xfrm>
            <a:off x="1143000" y="357120"/>
            <a:ext cx="2770200" cy="278604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476000" y="980640"/>
            <a:ext cx="3166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ОТВЕТЫ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1476360" y="2421000"/>
            <a:ext cx="36720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42640" indent="-2426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1 задача – 5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2 задача - 50 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тветы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258920" y="191628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       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Вариант1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1" lang="ru-RU" sz="2200" spc="-1" strike="noStrike" u="sng">
                <a:solidFill>
                  <a:srgbClr val="000000"/>
                </a:solidFill>
                <a:uFillTx/>
                <a:latin typeface="Times New Roman"/>
              </a:rPr>
              <a:t>ОЕ = 10 см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2)  </a:t>
            </a:r>
            <a:r>
              <a:rPr b="1" lang="ru-RU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АО = 10 см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932360" y="1915920"/>
            <a:ext cx="36576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  <a:ea typeface="Times New Roman"/>
              </a:rPr>
              <a:t>Вариант2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Times New Roman"/>
              </a:rPr>
              <a:t>NO = </a:t>
            </a:r>
            <a:r>
              <a:rPr b="1" lang="ru-RU" sz="2200" spc="-1" strike="noStrike" u="sng">
                <a:solidFill>
                  <a:srgbClr val="000000"/>
                </a:solidFill>
                <a:uFillTx/>
                <a:latin typeface="Times New Roman"/>
              </a:rPr>
              <a:t>10 см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000000"/>
                </a:solidFill>
                <a:uFillTx/>
                <a:latin typeface="Times New Roman"/>
              </a:rPr>
              <a:t>2) ОВ = 10 см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Домашнее задание: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68360" y="242064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. 68 – 69(теория), № 640, № 642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</a:rPr>
              <a:t>Применение касательной</a:t>
            </a:r>
            <a:br>
              <a:rPr sz="2900"/>
            </a:br>
            <a:endParaRPr b="0" lang="en-US" sz="29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7" name="Picture 2" descr="C:\Documents and Settings\Дмитрий\Рабочий стол\4_1022_2751-max.JPG"/>
          <p:cNvPicPr/>
          <p:nvPr/>
        </p:nvPicPr>
        <p:blipFill>
          <a:blip r:embed="rId1"/>
          <a:stretch/>
        </p:blipFill>
        <p:spPr>
          <a:xfrm>
            <a:off x="1214280" y="2071800"/>
            <a:ext cx="2857680" cy="3641760"/>
          </a:xfrm>
          <a:prstGeom prst="rect">
            <a:avLst/>
          </a:prstGeom>
          <a:ln w="0">
            <a:noFill/>
          </a:ln>
        </p:spPr>
      </p:pic>
      <p:sp>
        <p:nvSpPr>
          <p:cNvPr id="218" name="Прямоугольник 7"/>
          <p:cNvSpPr/>
          <p:nvPr/>
        </p:nvSpPr>
        <p:spPr>
          <a:xfrm>
            <a:off x="4929120" y="324468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Arial"/>
              </a:rPr>
              <a:t>Машиностро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30T10:02:25Z</dcterms:created>
  <dc:creator>Admin</dc:creator>
  <dc:description/>
  <dc:language>en-US</dc:language>
  <cp:lastModifiedBy>Кабинет физики</cp:lastModifiedBy>
  <dcterms:modified xsi:type="dcterms:W3CDTF">2023-03-18T15:20:51Z</dcterms:modified>
  <cp:revision>88</cp:revision>
  <dc:subject/>
  <dc:title>«Касательная к окружности. Решение задач»</dc:title>
</cp:coreProperties>
</file>