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E362-8434-436B-8D21-7D958DC7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EA8-8297-4CC1-9A5C-7E5692B7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C82-3232-484A-82EF-A1AB124FD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6ECC-E382-4AF0-8A2C-985273BA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726A-F271-41D8-B8E7-DC8C82DF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6AF-8012-4912-8A40-85039172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35B-60B1-4027-9FAF-234D1181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4483-44A6-4C39-8552-CB40CBF2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CAB-55B3-4629-9ACC-0CDC949F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C90A-AC44-4889-88CA-266ACD56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12C-56F5-467B-8353-274BAA98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387-4035-4A8E-978D-9705D23B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BF2C-B5C3-4CF0-9F84-E797EE7CA3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нлайн-занятие «Мячики для котёнка» для родителей детей    </a:t>
            </a:r>
            <a:br>
              <a:rPr sz="4000"/>
            </a:br>
            <a:r>
              <a:rPr b="0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младшего дошкольного возраста 1группа1 «Сказка»  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Составила: Бурденкова Е.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20240201_094344.jpg"/>
          <p:cNvPicPr/>
          <p:nvPr/>
        </p:nvPicPr>
        <p:blipFill>
          <a:blip r:embed="rId1"/>
          <a:stretch/>
        </p:blipFill>
        <p:spPr>
          <a:xfrm>
            <a:off x="2000160" y="2643120"/>
            <a:ext cx="478656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86880" cy="520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нятие по нетрадиционному рисованию пальчиками в первой младшей группе №1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«Мячики для котёнка»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должение ознакомления младших дошкольников с нетрадиционной техникой рисования пальчиком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Образовательные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ормировать умения рисовать гуашью, используя пальчик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давать в рисунке особенности геометрических фигур - круг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могать в усвоении и применении данной методики в собственном творчестве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ширить запас знаний о многообразии красных оттенков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Развивающие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развивать в детях чувство красоты, художественный вкус, творчество;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Воспитательные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- воспитывать отзывчивость и доброту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Материал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устая гуашь красного цвета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большой лист бумаги по количеству детей;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лфет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Клип 3" descr="краска-в-опарниках-гуашь-яркий-цвет-материал-для-рисования-художников-184221431.jpg"/>
          <p:cNvPicPr/>
          <p:nvPr/>
        </p:nvPicPr>
        <p:blipFill>
          <a:blip r:embed="rId1"/>
          <a:stretch/>
        </p:blipFill>
        <p:spPr>
          <a:xfrm>
            <a:off x="6215040" y="3962520"/>
            <a:ext cx="207180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85880" y="34920"/>
            <a:ext cx="6500880" cy="670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од ООД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.Огр. момен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бята, сегодня мы с вами будем рисовать пальчиком, краской красного цвета, но сначала послушайте стихотворен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ргей Михалк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тя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 послушайте, ребят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Я хочу вам рассказать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дились у нас котята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х по счету ровно пя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ы решали, мы гадал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к же нам котят назвать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конец мы их назвал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, ДВА, ТРИ, ЧЕТЫРЕ, ПЯ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 - котенок самый белы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ВА - котенок самый смелы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И - котенок самый умны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ЧЕТЫРЕ - самый шумны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ЯТЬ - похож на ТРИ и ДВА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т же хвост и голов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 же пятнышко на спинк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 же спит весь день в корзинк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 у нас котята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, ДВА, ТРИ, ЧЕТЫРЕ, ПЯТЬ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ходите к нам, ребят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смотреть и посчита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О ком это стихотворение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Ребята, сколько вы насчитали котят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 у вас дома есть кошки или котята? Расскажите, какие он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Клип 4" descr="cover.jpg"/>
          <p:cNvPicPr/>
          <p:nvPr/>
        </p:nvPicPr>
        <p:blipFill>
          <a:blip r:embed="rId1"/>
          <a:stretch/>
        </p:blipFill>
        <p:spPr>
          <a:xfrm>
            <a:off x="6100920" y="2928960"/>
            <a:ext cx="228744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Основная част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веточек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дравствуйте, ребята! Я пришёл вам в гости за помощью, потому что у меня нет стебелька и листиков, а детки в садике очень многое знают и умею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могите мне, пожалуйста, нарисуйте стебелёк и листочки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Не переживай, цветочек, мы сейчас ребят спросим, где у цветочка стебелёк, а где листочки (работа по картинке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бята, скажите, каким цветом должен быть стебелёк и листочки? (Зелёными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веточек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Да, у меня стебелёк и листочки зелёного цв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Ребята, какой стебелёк (длинный), а листики (короткие)? Да, на нашей картинке именно так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веточек: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 ещё я хочу быть полезным, приносить радость людям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Ребята, давайте нарисуем цветочку стебелёк и листики, а потом подарим маме, на праздник.   Согласны ребята?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бят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Да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лнышко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Большое вам спасибо, ребята. Я буду ждать свои стебельки и листики, какие вы добрые и отзывчивы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питатель предлагает пройти детям на свои рабочие места и посмотреть, какие материалы приготовлены для занятия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спитател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: Ребята, перед вами на столе лежат открытки, которые мы клеили на предыдущем занятии, на первой странице мы приклеили цветочек. А сейчас нарисуем стебелёк и листочки, зелёная краска (разведенная водой), влажные салфет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нимательно посмотрите на изображение стебелька.  Давайте проведём  пальчиком линию от цветочка вниз – это будет стебелёк. А маленькие линии мы выполним вот так – это будут листики. И все наши красивые открытки подарим мамочкам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д началом работы давайте сделаем упражнение «Разминку для пальчиков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иготовьте пальчики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олодцы! Теперь  приступаем к изображению стебелька  и листиков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3880" y="228600"/>
            <a:ext cx="774396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Практическая час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оказывает детям мячик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)  Какие мячики? (Круглые). Обведите его пальчиком. А теперь попробуйте нарисовать колесо пальчиком по воздуху. (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Дети рисуют пальцем круг по воздуху, воспитатель помогает им.)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А теперь нарисуем мячики на бумаге.  (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Показывает детям приёмы рисования мячиков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) А теперь вы ребята приступайте за работу!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Дети рисуют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Клип 5" descr="20240201_090802.jpg"/>
          <p:cNvPicPr/>
          <p:nvPr/>
        </p:nvPicPr>
        <p:blipFill>
          <a:blip r:embed="rId1"/>
          <a:stretch/>
        </p:blipFill>
        <p:spPr>
          <a:xfrm>
            <a:off x="685800" y="2214720"/>
            <a:ext cx="3809880" cy="37861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20240201_090811.jpg"/>
          <p:cNvPicPr/>
          <p:nvPr/>
        </p:nvPicPr>
        <p:blipFill>
          <a:blip r:embed="rId2"/>
          <a:stretch/>
        </p:blipFill>
        <p:spPr>
          <a:xfrm>
            <a:off x="4500720" y="2214720"/>
            <a:ext cx="3786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3880" y="228600"/>
            <a:ext cx="774396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Рефлексия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исунки детей выставляются на доск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спитатель: Ой, сколько у нас теперь есть много мячиков для Мурзика, теперь ему точно не будет скучно! Посмотрите, какой он счастливый! Спасибо за внимание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Клип 5" descr="20240201_092211.jpg"/>
          <p:cNvPicPr/>
          <p:nvPr/>
        </p:nvPicPr>
        <p:blipFill>
          <a:blip r:embed="rId1"/>
          <a:stretch/>
        </p:blipFill>
        <p:spPr>
          <a:xfrm>
            <a:off x="685800" y="1571760"/>
            <a:ext cx="3809880" cy="44290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20240201_090808.jpg"/>
          <p:cNvPicPr/>
          <p:nvPr/>
        </p:nvPicPr>
        <p:blipFill>
          <a:blip r:embed="rId2"/>
          <a:stretch/>
        </p:blipFill>
        <p:spPr>
          <a:xfrm>
            <a:off x="4500720" y="1577880"/>
            <a:ext cx="378612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4T19:09:20Z</dcterms:created>
  <dc:creator>Маша</dc:creator>
  <dc:description/>
  <dc:language>en-US</dc:language>
  <cp:lastModifiedBy>PC</cp:lastModifiedBy>
  <dcterms:modified xsi:type="dcterms:W3CDTF">2024-02-12T17:53:37Z</dcterms:modified>
  <cp:revision>124</cp:revision>
  <dc:subject/>
  <dc:title>Презентация PowerPoint</dc:title>
</cp:coreProperties>
</file>