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617-0D04-4845-9E68-60D1AD94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DC9-A965-46BF-91D1-4F5B83A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5F1-94BA-46F9-A19C-858C354B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4F9-B6E9-42C0-B19F-75B9A185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993-5F63-4847-84CA-D338EB2E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22E-A288-4B68-83AD-E722269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4F8-0EB8-4F65-BF31-635A233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69F-892F-4B2B-B3F7-7968CB7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D80-1E31-4270-A97B-CD41118B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6CD-A362-4C2E-B7C4-EC8B1C0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F69-82DA-46CB-B900-37460B5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6A7-6BDD-4E0D-B32F-2E75392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0EC-8DEA-47A2-ADF2-EA83777E5D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лайн-занятие «Мячики для котёнка» для родителей детей   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ладшего дошкольного возраста 1группа1 «Сказка»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Составила: Бурденкова Е.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0240201_094344.jpg"/>
          <p:cNvPicPr/>
          <p:nvPr/>
        </p:nvPicPr>
        <p:blipFill>
          <a:blip r:embed="rId1"/>
          <a:stretch/>
        </p:blipFill>
        <p:spPr>
          <a:xfrm>
            <a:off x="2000160" y="2643120"/>
            <a:ext cx="4786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86880" cy="52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нятие по нетрадиционному рисованию пальчиками в первой младшей группе №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«Мячики для котёнка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олжение ознакомления младших дошкольников с нетрадиционной техникой рисования пальчиком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ировать умения рисовать гуашью, используя пальчик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авать в рисунке особенности геометрических фигур - круг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ть в усвоении и применении данной методики в собственном творчеств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ить запас знаний о многообразии красных оттенков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азвивающи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азвивать в детях чувство красоты, художественный вкус, творчество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оспитывать отзывчивость и доброту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устая гуашь красного цв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большой лист бумаги по количеству дете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лфет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Клип 3" descr="краска-в-опарниках-гуашь-яркий-цвет-материал-для-рисования-художников-184221431.jpg"/>
          <p:cNvPicPr/>
          <p:nvPr/>
        </p:nvPicPr>
        <p:blipFill>
          <a:blip r:embed="rId1"/>
          <a:stretch/>
        </p:blipFill>
        <p:spPr>
          <a:xfrm>
            <a:off x="6215040" y="3962520"/>
            <a:ext cx="2071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85880" y="34920"/>
            <a:ext cx="6500880" cy="67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ООД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Огр. моме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ята, сегодня мы с вами будем рисовать пальчиком, краской красного цвета, но сначала послушайте стихотворе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тя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 послушайте, ребят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хочу вам рассказат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ись у нас котят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х по счету ровно п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решали, мы гадал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же нам котят назват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конец мы их назвал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, ДВА, ТРИ, ЧЕТЫРЕ, П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 - котенок самый бел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А - котенок самый смел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И - котенок самый умн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ЧЕТЫРЕ - самый шумн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Ь - похож на ТРИ и ДВ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т же хвост и голов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же пятнышко на спин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же спит весь день в корзин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 у нас котят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, ДВА, ТРИ, ЧЕТЫРЕ, ПЯТЬ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ходите к нам, ребят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еть и посчит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 ком это стихотворени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ебята, сколько вы насчитали котят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у вас дома есть кошки или котята? Расскажите, какие он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Клип 4" descr="cover.jpg"/>
          <p:cNvPicPr/>
          <p:nvPr/>
        </p:nvPicPr>
        <p:blipFill>
          <a:blip r:embed="rId1"/>
          <a:stretch/>
        </p:blipFill>
        <p:spPr>
          <a:xfrm>
            <a:off x="6100920" y="2928960"/>
            <a:ext cx="2287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сновная час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равствуйте, ребята! Я пришёл вам в гости за помощью, потому что у меня нет стебелька и листиков, а детки в садике очень многое знают и умею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ите мне, пожалуйста, нарисуйте стебелёк и листочк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Не переживай, цветочек, мы сейчас ребят спросим, где у цветочка стебелёк, а где листочки (работа по картинке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ята, скажите, каким цветом должен быть стебелёк и листочки? (Зелёным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Да, у меня стебелёк и листочки зелёного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какой стебелёк (длинный), а листики (короткие)? Да, на нашей картинке именно та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ещё я хочу быть полезным, приносить радость людя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давайте нарисуем цветочку стебелёк и листики, а потом подарим маме, на праздник.   Согласны ребята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я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лнышк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ольшое вам спасибо, ребята. Я буду ждать свои стебельки и листики, какие вы добрые и отзывчивы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предлагает пройти детям на свои рабочие места и посмотреть, какие материалы приготовлены для занят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перед вами на столе лежат открытки, которые мы клеили на предыдущем занятии, на первой странице мы приклеили цветочек. А сейчас нарисуем стебелёк и листочки, зелёная краска (разведенная водой), влажные салф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имательно посмотрите на изображение стебелька.  Давайте проведём  пальчиком линию от цветочка вниз – это будет стебелёк. А маленькие линии мы выполним вот так – это будут листики. И все наши красивые открытки подарим мамочка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 началом работы давайте сделаем упражнение «Разминку для пальчиков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готовьте пальчи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лодцы! Теперь  приступаем к изображению стебелька  и листиков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77439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Практическая час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казывает детям мячи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)  Какие мячики? (Круглые). Обведите его пальчиком. А теперь попробуйте нарисовать колесо пальчиком по воздуху. (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ти рисуют пальцем круг по воздуху, воспитатель помогает им.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А теперь нарисуем мячики на бумаге.  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казывает детям приёмы рисования мячиков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 А теперь вы ребята приступайте за работу!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ти рисуют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Клип 5" descr="20240201_090802.jpg"/>
          <p:cNvPicPr/>
          <p:nvPr/>
        </p:nvPicPr>
        <p:blipFill>
          <a:blip r:embed="rId1"/>
          <a:stretch/>
        </p:blipFill>
        <p:spPr>
          <a:xfrm>
            <a:off x="685800" y="2214720"/>
            <a:ext cx="3809880" cy="3786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20240201_090811.jpg"/>
          <p:cNvPicPr/>
          <p:nvPr/>
        </p:nvPicPr>
        <p:blipFill>
          <a:blip r:embed="rId2"/>
          <a:stretch/>
        </p:blipFill>
        <p:spPr>
          <a:xfrm>
            <a:off x="4500720" y="221472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77439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Рефлексия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исунки детей выставляются на дос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: Ой, сколько у нас теперь есть много мячиков для Мурзика, теперь ему точно не будет скучно! Посмотрите, какой он счастливый! Спасибо за внимание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Клип 5" descr="20240201_092211.jpg"/>
          <p:cNvPicPr/>
          <p:nvPr/>
        </p:nvPicPr>
        <p:blipFill>
          <a:blip r:embed="rId1"/>
          <a:stretch/>
        </p:blipFill>
        <p:spPr>
          <a:xfrm>
            <a:off x="685800" y="1571760"/>
            <a:ext cx="380988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20240201_090808.jpg"/>
          <p:cNvPicPr/>
          <p:nvPr/>
        </p:nvPicPr>
        <p:blipFill>
          <a:blip r:embed="rId2"/>
          <a:stretch/>
        </p:blipFill>
        <p:spPr>
          <a:xfrm>
            <a:off x="4500720" y="1577880"/>
            <a:ext cx="37861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4-02-12T17:53:37Z</dcterms:modified>
  <cp:revision>124</cp:revision>
  <dc:subject/>
  <dc:title>Презентация PowerPoint</dc:title>
</cp:coreProperties>
</file>