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C89-A32C-42B6-8439-10C08D17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E30-94A0-4F69-83C6-96F9F63E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617-06DD-433E-9E57-C575FD94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712-8E9C-4727-992E-21AFB4B9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BA54-7A5D-4B22-B5B5-15565326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973D-A03A-44C1-B57E-CDB1DFFB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CE70-185A-4130-8097-F69EE57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0255-D128-4313-8AE6-50336CF2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4B3D-AB70-4841-A031-1C4DA289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3F8A-DBE3-45C3-8036-2B4560AA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91B9-7068-4C25-8212-25938B17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61B-F08F-4999-AF94-9AC91582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9488-D7D4-4525-8773-F03776A5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6CFC-EA98-499A-BDB5-60738C8C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6EEA-C955-4673-A825-A8C6A4D4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E423-6AAE-4C67-BB8E-95B43B4A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A5E2-3033-479E-988B-3F5C693C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855-DDB9-46FA-AB3E-15933486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557-8E96-4BC6-BBD6-643661EA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2C6-A2BD-4479-8F35-8286308D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45D-8A46-4835-853A-821FE38A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AF6-75E7-4769-9AA5-66C89ED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8E3-BF5F-4811-ACEE-58E7EC60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811-56EB-463A-BC02-4097F95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C97E-26F7-47C3-85FF-2057E64035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4B1B-F39E-4A13-81FD-6563A5E1E3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одзаголовок 2"/>
          <p:cNvSpPr/>
          <p:nvPr/>
        </p:nvSpPr>
        <p:spPr>
          <a:xfrm>
            <a:off x="4214880" y="285840"/>
            <a:ext cx="475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апачева Мадина Салих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«СОШ с. Псыншо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21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428760" y="214200"/>
            <a:ext cx="8429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ермания и союз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наступления на Кавказ из состава группы армий «Юг» была выделена группа армий «A» в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я танковая армия (Клей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7-я армия (Руоф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-я румынская ар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оначально планировалось включить в состав группы 4-ю танковую армию Германа Гота и 11-ю армию Манштейна, которая после завершения осады Севастополя располагалась в Крыму, однако она так и не попала на Кавказ (за исключением частей 42 армейского корпуса), а была переброшена на север для наступления на Ленинград[7]. 4-я танковая армия, оставив один танковый корпус в составе группы армий «A», была переброшена под Сталин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ачале командование группой было поручено фельдмаршалу Листу. Однако уже через месяц Гитлер, недовольный темпами наступления, взял командование на себя[7]. Руководство Гитлера, находившегося в своей ставке в Растенбурге было лишь номинальным, текущими вопросами занимался бывший начальник штаба Листа, Ганс фон Грейфенберг[7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иационную поддержку оказывал 4-й воздушный флот люфтваф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14200" y="214200"/>
            <a:ext cx="87156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тоги 1-го этапа Битвы за Кав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ый этап битвы за Кавказ проходил с июля по декабрь 1942. Немецко-румынские войска, понеся большие потери, сумели выйти к предгорьям Главного Кавказского хребта и к реке Терек. Однако же в целом немецкий план «Эдельвейс» провалился. Всего за 1-й этап сражения группа армий «A» потеряла убитыми почти 100 тыс. человек[5]; немцам не удалось прорваться в Закавказье и на Ближний Восток. Турция так и не решилась вступить в войну на стороне Третьего рей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им из факторов неудачи немцев на Кавказе было то, что немецкое командование уделяло главное внимание битве под Сталинградом, где события разворачивались отнюдь не лучшим образом для вермахта. В сентябре 1942 года, с задачей защиты флангов группы армий «B» под Сталинградом, с кавказского направления была переброшена 3-я румынская армия. В декабре 1942 года, в связи с неудачами под Сталинградом, с кавказского фронта также были сняты и некоторые немецкие соединения, в результате чего немецкая группировка на Кавказе ещё больше ослабла, и к началу 1943 года стала уступать советским войскам в численности — как в личном составе, так и в технике и воору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142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торой этап – 1января-9октября 1943года – наступательные опе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4"/>
          <p:cNvPicPr/>
          <p:nvPr/>
        </p:nvPicPr>
        <p:blipFill>
          <a:blip r:embed="rId1"/>
          <a:stretch/>
        </p:blipFill>
        <p:spPr>
          <a:xfrm>
            <a:off x="214200" y="1285920"/>
            <a:ext cx="264348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2928960" y="1500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сками Северо-Кавказского фронта командовал генерал И.И.Масле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5"/>
          <p:cNvPicPr/>
          <p:nvPr/>
        </p:nvPicPr>
        <p:blipFill>
          <a:blip r:embed="rId2"/>
          <a:stretch/>
        </p:blipFill>
        <p:spPr>
          <a:xfrm>
            <a:off x="4500720" y="2643120"/>
            <a:ext cx="3000240" cy="39290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7215120" y="3105000"/>
            <a:ext cx="178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сками противника командовал генерал-фельдмаршал Эвальд Клей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14200" y="214200"/>
            <a:ext cx="73580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тоги 2-го этапа Битвы за Кав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аль «За оборону Кавказа», аверс и реверс. В целом второй этап сражения на Кавказе стал довольно успешным для советских войск. Были полностью освобождены Калмыкия, Чечено-Ингушетия, Северная Осетия, Кабардино-Балкария, Ростовская область, Ставропольский край, Черкесская АО, Карачаевская АО и Адыгейская А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возвращения советской власти на Кавказ по обвинению в массовом коллаборационизме и с целью ликвидации ещё действовавших в тылу антисоветских отрядов были полностью депортированы в Сибирь и Среднюю Азию следующие народы: чеченцы, ингуши, карачаевцы, балкарцы, калмыки. Автономии этих народов были ликвидиров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беда в битве за Кавказ упрочила южный фланг советско-германского фронта, в ней было достигнуто тесное взаимодействие сухопутных войск с авиацией, флотом и партизанами. Тысячи солдат были награждены медалью «За оборону Кавказа», учреждённой Указом Президиума Верховного Совета СССР 1 мая 194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умелое руководство войсками в ходе боёв за Кавказ и Кубань, 1 февраля 1943, командующий немецкими войсками на Кубани Э. фон Клейст был произведён в чин фельдмарш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Пользователь\Desktop\143731_html_27576a0.jpg"/>
          <p:cNvPicPr/>
          <p:nvPr/>
        </p:nvPicPr>
        <p:blipFill>
          <a:blip r:embed="rId1"/>
          <a:stretch/>
        </p:blipFill>
        <p:spPr>
          <a:xfrm>
            <a:off x="7500960" y="142920"/>
            <a:ext cx="149544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714680" y="135720"/>
            <a:ext cx="742932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уль В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мяти защитникам Кав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беда в мае, наконец приш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олнце в мирном небе расплеска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грела всем теплом она бойц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сколько их в сырой земле остало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жались земляки наши вез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женья их нам надо помнить свя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таврополье, на родной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той земле, где шли бои когда-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о Полтавское встречается с за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жат они в земле под тяжкой нош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над курганом встал как час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тский воин с именем Але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м, где хлеба, где в дымке тает ши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ган высокий будем помнить свя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похоронены в селе Ага-Баты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 безымянные Советские солд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улин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1\Pictures\0W6AI9CAQZRNMZCA7DK23UCAE3ZQ0GCAV2QKFHCAHO8ZJOCAB7KVZGCA00K7BOCA92I9LLCAJSMVRRCAQLKNCXCADV0222CAZ7EAWKCAJ9BQS4CAY46YQJCAXVS8W0CAELGXU6CAR6DE9FCAL3KA3DCAO8BDR5.jpg"/>
          <p:cNvPicPr/>
          <p:nvPr/>
        </p:nvPicPr>
        <p:blipFill>
          <a:blip r:embed="rId1"/>
          <a:stretch/>
        </p:blipFill>
        <p:spPr>
          <a:xfrm>
            <a:off x="142920" y="428760"/>
            <a:ext cx="335736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1\Pictures\тар.jpg"/>
          <p:cNvPicPr/>
          <p:nvPr/>
        </p:nvPicPr>
        <p:blipFill>
          <a:blip r:embed="rId1"/>
          <a:stretch/>
        </p:blipFill>
        <p:spPr>
          <a:xfrm>
            <a:off x="214200" y="214200"/>
            <a:ext cx="4214880" cy="400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1\Pictures\ртпа.jpg"/>
          <p:cNvPicPr/>
          <p:nvPr/>
        </p:nvPicPr>
        <p:blipFill>
          <a:blip r:embed="rId2"/>
          <a:stretch/>
        </p:blipFill>
        <p:spPr>
          <a:xfrm>
            <a:off x="4429080" y="2928960"/>
            <a:ext cx="442908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Users\1\Pictures\ртр.jpg"/>
          <p:cNvPicPr/>
          <p:nvPr/>
        </p:nvPicPr>
        <p:blipFill>
          <a:blip r:embed="rId1"/>
          <a:stretch/>
        </p:blipFill>
        <p:spPr>
          <a:xfrm>
            <a:off x="285840" y="142920"/>
            <a:ext cx="4214880" cy="350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1\Pictures\ZISH5ACA83B7VXCAACI9S0CAXQDI6BCAALAOTGCALTK1JECAW182SVCA0QOJO0CA0EK6RUCAJ7YN53CALAFJQGCA5EBDEXCAHLC767CAH6XO4JCA6MHSL6CA42N6URCARDFGQNCA9V45D8CAOR9YE8CAW9ROJP.jpg"/>
          <p:cNvPicPr/>
          <p:nvPr/>
        </p:nvPicPr>
        <p:blipFill>
          <a:blip r:embed="rId2"/>
          <a:stretch/>
        </p:blipFill>
        <p:spPr>
          <a:xfrm>
            <a:off x="4500720" y="3143160"/>
            <a:ext cx="4429080" cy="35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1\Pictures\74O7MQCAHBRBDTCABQ79P8CAUN1O3GCAOVVRRVCAFH4HFFCA2ESQMOCAAWMWXWCAA0AO09CASO7IPWCAKMXHZICA3AUYSACAYG9DKOCA1ETB9ICA0R381DCA8OLJNKCA3VS4RKCAUKXG7UCABPU2R6CAZU473N.jpg"/>
          <p:cNvPicPr/>
          <p:nvPr/>
        </p:nvPicPr>
        <p:blipFill>
          <a:blip r:embed="rId1"/>
          <a:stretch/>
        </p:blipFill>
        <p:spPr>
          <a:xfrm>
            <a:off x="214200" y="214200"/>
            <a:ext cx="4500720" cy="32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1\Pictures\ADPASJCA2AH1XOCA42WZTNCAJCCOWGCAMOW36JCAJ57W5HCAPZPC26CADQHW23CARQQ2MLCASCH839CAQX4T9TCAA0IX3ICAIQ9Q2ICAQI9G39CAHLH97RCAFO48LNCA5KVOUVCA7O2CWSCA4BHJ37CASZH7PX.jpg"/>
          <p:cNvPicPr/>
          <p:nvPr/>
        </p:nvPicPr>
        <p:blipFill>
          <a:blip r:embed="rId2"/>
          <a:stretch/>
        </p:blipFill>
        <p:spPr>
          <a:xfrm>
            <a:off x="4714920" y="342900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C:\Users\1\Pictures\I1BJ0FCAXVS1VDCAFSX9S8CAAE2RAUCA85TKT6CA1TCRGVCA4ONM87CALV5LKJCAHM17XOCANL8KX7CAJ1OSD2CAT0X7ZQCAGLG0UECAN0FS42CADV4WKLCAOYOKOQCA4FA2LJCAHF1Y4ICAW829MSCADY9YLU.jpg"/>
          <p:cNvPicPr/>
          <p:nvPr/>
        </p:nvPicPr>
        <p:blipFill>
          <a:blip r:embed="rId1"/>
          <a:stretch/>
        </p:blipFill>
        <p:spPr>
          <a:xfrm>
            <a:off x="214200" y="214200"/>
            <a:ext cx="4071960" cy="3786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1\Pictures\BD8Z2XCAV86PAOCAXKO2CMCAPBMOVLCA6Y4SYKCAFYHQMYCARBMPU4CAA0IFMRCAOGCFI0CA5CNDYQCAXSHM2BCAHEUCIICAJT3QR8CAT133C3CA5DETWGCAM2FHPYCA1ATU0ECAEPC23MCA6UW8G8CAH144O8.jpg"/>
          <p:cNvPicPr/>
          <p:nvPr/>
        </p:nvPicPr>
        <p:blipFill>
          <a:blip r:embed="rId2"/>
          <a:stretch/>
        </p:blipFill>
        <p:spPr>
          <a:xfrm>
            <a:off x="4286160" y="3071880"/>
            <a:ext cx="47149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1\Pictures\220px-Lawotschkin_La-5_FN.jpg"/>
          <p:cNvPicPr/>
          <p:nvPr/>
        </p:nvPicPr>
        <p:blipFill>
          <a:blip r:embed="rId1"/>
          <a:stretch/>
        </p:blipFill>
        <p:spPr>
          <a:xfrm>
            <a:off x="142920" y="21420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1\Pictures\3QMPK0CAFP81GICAZ12TGHCA19FJM3CA2RWWVCCASDJG39CAT6CGXGCAC3JROGCAIFCMFKCAN0LIAWCACV2MZECAKWXH2UCAY2HP9WCAVYNL8UCAWWNOS6CACFI60HCASYU7TPCARQ3VCSCA1EK8NDCAOOEXN4.jpg"/>
          <p:cNvPicPr/>
          <p:nvPr/>
        </p:nvPicPr>
        <p:blipFill>
          <a:blip r:embed="rId2"/>
          <a:stretch/>
        </p:blipFill>
        <p:spPr>
          <a:xfrm>
            <a:off x="4214880" y="3357720"/>
            <a:ext cx="4429080" cy="32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-195120"/>
            <a:ext cx="8302320" cy="32194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1357200" y="2857680"/>
            <a:ext cx="735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сходила с 25 июля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942г. по 9 октября 1943г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аствовали войска Южного (Р.Я.Малиновский, А.И.Ерёменко)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еверо-Кавказского (С.М.Будённый, И.И.Масленников), Закавказского (И.В.Тюленев) фронта во взаимодействии с силами Черноморского флота, Азовской Каспийской военных флотил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1\Pictures\220PX-~1.JPG"/>
          <p:cNvPicPr/>
          <p:nvPr/>
        </p:nvPicPr>
        <p:blipFill>
          <a:blip r:embed="rId1"/>
          <a:stretch/>
        </p:blipFill>
        <p:spPr>
          <a:xfrm>
            <a:off x="6072120" y="214200"/>
            <a:ext cx="287964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1\Pictures\220px-Bundesarchiv_Bild_183-B23252,_Kaukasus,_Gebirgskanone_im_Schnee.jpg"/>
          <p:cNvPicPr/>
          <p:nvPr/>
        </p:nvPicPr>
        <p:blipFill>
          <a:blip r:embed="rId2"/>
          <a:stretch/>
        </p:blipFill>
        <p:spPr>
          <a:xfrm>
            <a:off x="3500280" y="3286080"/>
            <a:ext cx="27864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1\Pictures\300PX-~1.JPG"/>
          <p:cNvPicPr/>
          <p:nvPr/>
        </p:nvPicPr>
        <p:blipFill>
          <a:blip r:embed="rId3"/>
          <a:stretch/>
        </p:blipFill>
        <p:spPr>
          <a:xfrm>
            <a:off x="142920" y="142920"/>
            <a:ext cx="335736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14200" y="214200"/>
            <a:ext cx="857268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авк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мецкое наступление: июнь — ноябрь 1942. Баку и Северный Кавказ были основным источником нефти для всей экономики СССР. После потери Украины резко выросло значение Кавказа и Кубани как источника зерна. Здесь же находились запасы стратегического сырья, например, Тырныаузское месторождение вольфрамо-молибденовой руды. Потеря Кавказа могла бы оказать заметное влияние на общий ход войны против СССР, поэтому Гитлер выбрал именно это направление в качестве основного[7]. Группа армий, созданная для наступления на Кавказ, получила код «A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500040" y="14292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лан  «Эдельвейс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42920" y="1000080"/>
            <a:ext cx="8858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ить и уничтожить советские войска южнее Ростова и овладеть Северным Кавказ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йти Главный Кавказский хребет с запада, захватив Новороссийск и Туапсе, и с востока, овладев Грозным и Ба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одолев Главный Кавказский хребет с севера выйти в Закавказье парализовать базы Черноморского фл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новить связь с турецкой арм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предпосылки для вторжения на Ближний и Средний Вос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643040" y="285840"/>
            <a:ext cx="72151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Битва за Кавказ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25 июля 1942 — 9 октября 1943) — сражение вооружённых сил нацистской Германии, Румынии и Словакии против СССР во время Великой Отечественной войны за контроль над Кавказом. Сражение делится на два этапа: наступление немецких войск (25 июля — 31 декабря 1942) и контрнаступление советских войск (1 января — 9 октября 1943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ic22"/>
          <p:cNvPicPr/>
          <p:nvPr/>
        </p:nvPicPr>
        <p:blipFill>
          <a:blip r:embed="rId1"/>
          <a:srcRect l="0" t="1584" r="0" b="0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28800" y="28584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3 советскому командованию не удалось ни запереть немецкие части на Кубани, ни нанести им решительного поражения: танковые части вермахта (1-я танковая армия) были выведены с Кубани на Украину в январе 1943, а пехотные (17-я армия) были вывезены с Таманского полуострова в Крым в октяб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альное и предполагаемое сотрудничество с оккупантами послужило причиной депортации ряда народов Северного Кавказа в Сибирь и Казахст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42920" y="21420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вый этап – 25 июля-31 января 1941года оборонительные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2"/>
          <p:cNvPicPr/>
          <p:nvPr/>
        </p:nvPicPr>
        <p:blipFill>
          <a:blip r:embed="rId1"/>
          <a:stretch/>
        </p:blipFill>
        <p:spPr>
          <a:xfrm>
            <a:off x="1643040" y="1643040"/>
            <a:ext cx="3048120" cy="3352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"/>
          <p:cNvPicPr/>
          <p:nvPr/>
        </p:nvPicPr>
        <p:blipFill>
          <a:blip r:embed="rId2"/>
          <a:stretch/>
        </p:blipFill>
        <p:spPr>
          <a:xfrm>
            <a:off x="5286240" y="1571760"/>
            <a:ext cx="314352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14720" y="5072040"/>
            <a:ext cx="300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йсками Северо-Кавказского фронта командовал С.М.Буде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5357880" y="4929120"/>
            <a:ext cx="3571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ой армий «А» командова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нера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Фельдмаршал Вильгельм Л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3500280" y="214200"/>
            <a:ext cx="5429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о-Кавказский фронт (командующий — С. М. Будённый). В него входили 47-я армия, 1-й стрелковый корпус и 17-й кавалерийский корпус. Авиационную поддержку оказывала 5-я воздушная армия. 28 июля в состав фронта были включены войска Южного фронта, кроме 51-й армии. 4 сентября 1942 фронт был расформирован, его войска переданы Закавказскому фро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"/>
          <p:cNvPicPr/>
          <p:nvPr/>
        </p:nvPicPr>
        <p:blipFill>
          <a:blip r:embed="rId1"/>
          <a:stretch/>
        </p:blipFill>
        <p:spPr>
          <a:xfrm>
            <a:off x="142920" y="214200"/>
            <a:ext cx="3286080" cy="47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5:51:03Z</dcterms:created>
  <dc:creator>Ранько Елена</dc:creator>
  <dc:description/>
  <dc:language>en-US</dc:language>
  <cp:lastModifiedBy>рустамм ахметов</cp:lastModifiedBy>
  <dcterms:modified xsi:type="dcterms:W3CDTF">2021-03-22T08:06:37Z</dcterms:modified>
  <cp:revision>38</cp:revision>
  <dc:subject/>
  <dc:title>Нам дороги эти позабыть нельзя!</dc:title>
</cp:coreProperties>
</file>