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079-4C22-44DE-8A6D-0051FCEB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959-4D91-423E-94AC-077F2B31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C3B-4561-4359-9015-2AA66E36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22F-11CB-4F62-A08A-E4CE4462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C88-5A83-4EA8-AACB-F9944B02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007-D1E6-4565-9D03-53CDDB93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877-7CF8-49F4-943E-97F32F19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B69-3161-4F99-8FD4-BEE77DBB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81B-7851-4503-ADA0-D59229E9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B8B-CEE0-486B-8537-437EEF0B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E9E-3D9B-4277-A377-80B77F08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E22-669B-492C-B84C-902E3651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F9FF-4184-41DB-B873-4BD64BBCD0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14400" y="304920"/>
            <a:ext cx="685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нистерство общего и профессионального образ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ердловской области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СПО СО «Уральский колледж технологий и предпринимательств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457200" y="5981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обенности сти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5" descr="pic_266475.jpg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12760813662902.jpg"/>
          <p:cNvPicPr/>
          <p:nvPr/>
        </p:nvPicPr>
        <p:blipFill>
          <a:blip r:embed="rId1"/>
          <a:stretch/>
        </p:blipFill>
        <p:spPr>
          <a:xfrm>
            <a:off x="250920" y="990720"/>
            <a:ext cx="86407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1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ая и прочная основа из клееного бруса позволяет остеклять большие поверхности без использования рам. Светопрозрачные конструкции занимают почти 3/4 его наружных стен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часть этих конструкций это глухие окна витринного ти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имущество применяемой технологии в том, что балочная конструкция дома позволяет заполнять пространство между опорами огромными окнами, дающими хорошее естественное освещ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882f6ca18"/>
          <p:cNvPicPr/>
          <p:nvPr/>
        </p:nvPicPr>
        <p:blipFill>
          <a:blip r:embed="rId1"/>
          <a:stretch/>
        </p:blipFill>
        <p:spPr>
          <a:xfrm>
            <a:off x="304920" y="32004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gv"/>
          <p:cNvPicPr/>
          <p:nvPr/>
        </p:nvPicPr>
        <p:blipFill>
          <a:blip r:embed="rId2"/>
          <a:stretch/>
        </p:blipFill>
        <p:spPr>
          <a:xfrm>
            <a:off x="4648320" y="320040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316500"/>
          <p:cNvPicPr/>
          <p:nvPr/>
        </p:nvPicPr>
        <p:blipFill>
          <a:blip r:embed="rId1"/>
          <a:stretch/>
        </p:blipFill>
        <p:spPr>
          <a:xfrm>
            <a:off x="228600" y="2895480"/>
            <a:ext cx="445788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6"/>
          <p:cNvPicPr/>
          <p:nvPr/>
        </p:nvPicPr>
        <p:blipFill>
          <a:blip r:embed="rId2"/>
          <a:stretch/>
        </p:blipFill>
        <p:spPr>
          <a:xfrm>
            <a:off x="4800600" y="2895480"/>
            <a:ext cx="411480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9131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рукция фахверкового дома задает определенный ритм оформлению внутреннего интерьерного простран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ие пространства можно организовать самым разным образом – тут и двухсветовые помещения, и комнаты разных размеров, фактически в таком доме можно делать все то же, что и в здании из бетона – здесь почти не будет ограничений деревянной постро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такой конструкции возможности для дизайна интерьера потрясают воображ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105160" y="289512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707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481176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152280" y="5257800"/>
            <a:ext cx="8839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екление от пола до потолка позволяет соединить, причем не только зрительно – внутреннее пространство дома с садом и окружающей приро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очень хорошо будет выглядеть терраса на уровне пола дома – поверхность изнутри здания переходит в открытую площадку для летнего отды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502884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f900x550"/>
          <p:cNvPicPr/>
          <p:nvPr/>
        </p:nvPicPr>
        <p:blipFill>
          <a:blip r:embed="rId1"/>
          <a:stretch/>
        </p:blipFill>
        <p:spPr>
          <a:xfrm>
            <a:off x="152280" y="152280"/>
            <a:ext cx="8793360" cy="60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8-A-fahverk4.jpeg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2280" y="6019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efcd46bf9a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565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3106"/>
          <p:cNvPicPr/>
          <p:nvPr/>
        </p:nvPicPr>
        <p:blipFill>
          <a:blip r:embed="rId1"/>
          <a:stretch/>
        </p:blipFill>
        <p:spPr>
          <a:xfrm>
            <a:off x="990720" y="406440"/>
            <a:ext cx="7315200" cy="5176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457200" y="5867280"/>
            <a:ext cx="8229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хверк - это шедевр не только с функциональной точки зрения, но и с точки зрения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одержимое 3" descr="3123.jpg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ХВЕР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86400" y="2181240"/>
            <a:ext cx="3733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а из древнейших строительных конструкц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ши дни стоечно-балочная технология используется для строительства элегантных зданий с мощным каркасом из клееных брусьев и балок и окнами во всю стену, которые дают отличный вид на окружающий ландшафт и прекрасное естественное освещ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3f19bb5491"/>
          <p:cNvPicPr/>
          <p:nvPr/>
        </p:nvPicPr>
        <p:blipFill>
          <a:blip r:embed="rId1"/>
          <a:stretch/>
        </p:blipFill>
        <p:spPr>
          <a:xfrm>
            <a:off x="152280" y="1600200"/>
            <a:ext cx="558828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328544_w640_h640_8328.jpg"/>
          <p:cNvPicPr/>
          <p:nvPr/>
        </p:nvPicPr>
        <p:blipFill>
          <a:blip r:embed="rId1"/>
          <a:stretch/>
        </p:blipFill>
        <p:spPr>
          <a:xfrm>
            <a:off x="152280" y="457200"/>
            <a:ext cx="868536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2100208.jpg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49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N03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505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-22320" y="39607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возведения фахверк-домов имеет все преимущества, свойственные каркасной технолог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ая энергоэффективность д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е возведение зд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фортные условия прожи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тельный срок службы д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о невысокая стоимость возведения д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ие затраты по эксплуатации д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ая ремонтопригодность фахверкового 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360" y="4495680"/>
            <a:ext cx="8991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хверковые постройки могут быть разной формы и площади, высотой 1-3 этажа, крыши – двух- или четырехскатные, что дает возможность построить как маленький дом так и большой оте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фахверкового метода не ограничивается только жилым строительст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91e645276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4" descr="3250.jpg"/>
          <p:cNvPicPr/>
          <p:nvPr/>
        </p:nvPicPr>
        <p:blipFill>
          <a:blip r:embed="rId1"/>
          <a:stretch/>
        </p:blipFill>
        <p:spPr>
          <a:xfrm>
            <a:off x="326880" y="1981080"/>
            <a:ext cx="8686800" cy="4876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36520" y="0"/>
            <a:ext cx="8777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хверковые приёмы строительства возникли в результате переосмысления техники возведения укреплений древними римлянами на землях покорённых ими франков и галлов. Галло-римские строители сколачивали деревянный каркас, затем заполняли его камнем или кирпичом с цементным раствором подобно «римскому бетону», причём вертикальные стойки, подкосы и горизонтальные брусья не маскировали, а выводили на поверхность ст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579924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фахверковых домов насчитывает более шести век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3163"/>
          <p:cNvPicPr/>
          <p:nvPr/>
        </p:nvPicPr>
        <p:blipFill>
          <a:blip r:embed="rId1"/>
          <a:stretch/>
        </p:blipFill>
        <p:spPr>
          <a:xfrm>
            <a:off x="216000" y="380880"/>
            <a:ext cx="866916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so_2"/>
          <p:cNvPicPr/>
          <p:nvPr/>
        </p:nvPicPr>
        <p:blipFill>
          <a:blip r:embed="rId1"/>
          <a:stretch/>
        </p:blipFill>
        <p:spPr>
          <a:xfrm>
            <a:off x="666720" y="1736640"/>
            <a:ext cx="7620120" cy="495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-19080" y="1602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омах фахверкового типа распространены этажные выступы: этажи выступают вперед один над другим. Увеличение жилой площади при этом весьма незначительно (выступы редко достигают полуметра). Причина заключается в том, что фронтонная стена с большим количеством окон, имея наибольшую высоту по сравнению с боковыми, более всего подвержена воздействию осад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31232"/>
          <p:cNvPicPr/>
          <p:nvPr/>
        </p:nvPicPr>
        <p:blipFill>
          <a:blip r:embed="rId1"/>
          <a:stretch/>
        </p:blipFill>
        <p:spPr>
          <a:xfrm>
            <a:off x="800280" y="1905120"/>
            <a:ext cx="7543800" cy="4746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28600" y="15084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я из дерева, материала, имеющего острую необходимость в защите от губительной влаги, средневековые зодчие стали использовать технику выступов, благодаря которой дождевая вода, попадая на фасад, стекала не с этажа на этаж и на фундамент, а непосредственно на землю. Такая техника защиты деревянных строений, согласно историческим исследованиям, была известна ещё древним гре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ой для строительства фахверкового дома является комплект деталей из клееного бруса произведенный на высокоточном оборудовании с определенными запилами в местах соединения согласно проекта дом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еный брус является совершенным конструкционным материалом. Клееные брусья и балки могут иметь большое сечение, а также длину до 12-18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b4ae84694f"/>
          <p:cNvPicPr/>
          <p:nvPr/>
        </p:nvPicPr>
        <p:blipFill>
          <a:blip r:embed="rId1"/>
          <a:stretch/>
        </p:blipFill>
        <p:spPr>
          <a:xfrm>
            <a:off x="1447920" y="1989000"/>
            <a:ext cx="6553080" cy="470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3" descr="30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4-02-16T04:55:1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