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D5B-1E7C-438F-9AA7-4D77CD85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25E-84EB-4A56-9D75-C275168E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380-DDAF-4755-8F0E-AF9921D1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FB2-35EA-4E45-8648-2B3E3BB4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326-D604-40DA-9034-E7619FB2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6A2-3376-4EEA-ACE8-F526403D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56D-B57C-4792-8915-E1A3E9F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CA1-2C93-4884-8953-203B3F8B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1F5-4C4D-4CBF-9B5A-E906F3C4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FFC-A4CC-4288-8EE1-AA49E0C6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F97-6608-4A67-9CFA-7E4A258C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0F7-EA80-45B1-B087-09E16452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5DEE-1FB0-4D39-A7D4-BA049EDFE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14400" y="304920"/>
            <a:ext cx="685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нистерство общего и профессионального 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ердловской област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СПО СО «Уральский колледж технологий и предпринимательст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457200" y="5981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обенности сти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pic_266475.jpg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12760813662902.jpg"/>
          <p:cNvPicPr/>
          <p:nvPr/>
        </p:nvPicPr>
        <p:blipFill>
          <a:blip r:embed="rId1"/>
          <a:stretch/>
        </p:blipFill>
        <p:spPr>
          <a:xfrm>
            <a:off x="250920" y="990720"/>
            <a:ext cx="864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1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ая и прочная основа из клееного бруса позволяет остеклять большие поверхности без использования рам. Светопрозрачные конструкции занимают почти 3/4 его наружных сте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часть этих конструкций это глухие окна витринного ти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имущество применяемой технологии в том, что балочная конструкция дома позволяет заполнять пространство между опорами огромными окнами, дающими хорошее естественное освещ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882f6ca18"/>
          <p:cNvPicPr/>
          <p:nvPr/>
        </p:nvPicPr>
        <p:blipFill>
          <a:blip r:embed="rId1"/>
          <a:stretch/>
        </p:blipFill>
        <p:spPr>
          <a:xfrm>
            <a:off x="304920" y="32004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gv"/>
          <p:cNvPicPr/>
          <p:nvPr/>
        </p:nvPicPr>
        <p:blipFill>
          <a:blip r:embed="rId2"/>
          <a:stretch/>
        </p:blipFill>
        <p:spPr>
          <a:xfrm>
            <a:off x="4648320" y="320040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16500"/>
          <p:cNvPicPr/>
          <p:nvPr/>
        </p:nvPicPr>
        <p:blipFill>
          <a:blip r:embed="rId1"/>
          <a:stretch/>
        </p:blipFill>
        <p:spPr>
          <a:xfrm>
            <a:off x="228600" y="2895480"/>
            <a:ext cx="445788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6"/>
          <p:cNvPicPr/>
          <p:nvPr/>
        </p:nvPicPr>
        <p:blipFill>
          <a:blip r:embed="rId2"/>
          <a:stretch/>
        </p:blipFill>
        <p:spPr>
          <a:xfrm>
            <a:off x="4800600" y="289548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9131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ция фахверкового дома задает определенный ритм оформлению внутреннего интерьерного простра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ие пространства можно организовать самым разным образом – тут и двухсветовые помещения, и комнаты разных размеров, фактически в таком доме можно делать все то же, что и в здании из бетона – здесь почти не будет ограничений деревянной постро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такой конструкции возможности для дизайна интерьера потрясают воображ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105160" y="28951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707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4811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52280" y="5257800"/>
            <a:ext cx="8839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екление от пола до потолка позволяет соединить, причем не только зрительно – внутреннее пространство дома с садом и окружающей прир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очень хорошо будет выглядеть терраса на уровне пола дома – поверхность изнутри здания переходит в открытую площадку для летнего отды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502884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f900x550"/>
          <p:cNvPicPr/>
          <p:nvPr/>
        </p:nvPicPr>
        <p:blipFill>
          <a:blip r:embed="rId1"/>
          <a:stretch/>
        </p:blipFill>
        <p:spPr>
          <a:xfrm>
            <a:off x="152280" y="152280"/>
            <a:ext cx="879336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8-A-fahverk4.jpe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2280" y="6019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efcd46bf9a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565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3106"/>
          <p:cNvPicPr/>
          <p:nvPr/>
        </p:nvPicPr>
        <p:blipFill>
          <a:blip r:embed="rId1"/>
          <a:stretch/>
        </p:blipFill>
        <p:spPr>
          <a:xfrm>
            <a:off x="990720" y="406440"/>
            <a:ext cx="7315200" cy="5176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457200" y="586728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хверк - это шедевр не только с функциональной точки зрения, но и с точки зрения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3" descr="3123.jpg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ХВЕР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86400" y="2181240"/>
            <a:ext cx="3733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а из древнейших строительных конструкц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и дни стоечно-балочная технология используется для строительства элегантных зданий с мощным каркасом из клееных брусьев и балок и окнами во всю стену, которые дают отличный вид на окружающий ландшафт и прекрасное естественное освещ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3f19bb5491"/>
          <p:cNvPicPr/>
          <p:nvPr/>
        </p:nvPicPr>
        <p:blipFill>
          <a:blip r:embed="rId1"/>
          <a:stretch/>
        </p:blipFill>
        <p:spPr>
          <a:xfrm>
            <a:off x="152280" y="1600200"/>
            <a:ext cx="55882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328544_w640_h640_8328.jpg"/>
          <p:cNvPicPr/>
          <p:nvPr/>
        </p:nvPicPr>
        <p:blipFill>
          <a:blip r:embed="rId1"/>
          <a:stretch/>
        </p:blipFill>
        <p:spPr>
          <a:xfrm>
            <a:off x="152280" y="457200"/>
            <a:ext cx="86853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2100208.jpg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49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N03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505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-22320" y="3960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возведения фахверк-домов имеет все преимущества, свойственные каркасной технолог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ая энергоэффективность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е возведение з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фортные условия прож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тельный срок службы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невысокая стоимость возведения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е затраты по эксплуатации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ая ремонтопригодность фахверкового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360" y="4495680"/>
            <a:ext cx="8991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хверковые постройки могут быть разной формы и площади, высотой 1-3 этажа, крыши – двух- или четырехскатные, что дает возможность построить как маленький дом так и большой от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фахверкового метода не ограничивается только жилым строитель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91e645276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4" descr="3250.jpg"/>
          <p:cNvPicPr/>
          <p:nvPr/>
        </p:nvPicPr>
        <p:blipFill>
          <a:blip r:embed="rId1"/>
          <a:stretch/>
        </p:blipFill>
        <p:spPr>
          <a:xfrm>
            <a:off x="326880" y="1981080"/>
            <a:ext cx="868680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36520" y="0"/>
            <a:ext cx="8777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хверковые приёмы строительства возникли в результате переосмысления техники возведения укреплений древними римлянами на землях покорённых ими франков и галлов. Галло-римские строители сколачивали деревянный каркас, затем заполняли его камнем или кирпичом с цементным раствором подобно «римскому бетону», причём вертикальные стойки, подкосы и горизонтальные брусья не маскировали, а выводили на поверхность ст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579924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фахверковых домов насчитывает более шести век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3163"/>
          <p:cNvPicPr/>
          <p:nvPr/>
        </p:nvPicPr>
        <p:blipFill>
          <a:blip r:embed="rId1"/>
          <a:stretch/>
        </p:blipFill>
        <p:spPr>
          <a:xfrm>
            <a:off x="216000" y="380880"/>
            <a:ext cx="866916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so_2"/>
          <p:cNvPicPr/>
          <p:nvPr/>
        </p:nvPicPr>
        <p:blipFill>
          <a:blip r:embed="rId1"/>
          <a:stretch/>
        </p:blipFill>
        <p:spPr>
          <a:xfrm>
            <a:off x="666720" y="1736640"/>
            <a:ext cx="7620120" cy="495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-19080" y="1602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мах фахверкового типа распространены этажные выступы: этажи выступают вперед один над другим. Увеличение жилой площади при этом весьма незначительно (выступы редко достигают полуметра). Причина заключается в том, что фронтонная стена с большим количеством окон, имея наибольшую высоту по сравнению с боковыми, более всего подвержена воздействию осад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31232"/>
          <p:cNvPicPr/>
          <p:nvPr/>
        </p:nvPicPr>
        <p:blipFill>
          <a:blip r:embed="rId1"/>
          <a:stretch/>
        </p:blipFill>
        <p:spPr>
          <a:xfrm>
            <a:off x="800280" y="1905120"/>
            <a:ext cx="7543800" cy="4746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28600" y="15084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я из дерева, материала, имеющего острую необходимость в защите от губительной влаги, средневековые зодчие стали использовать технику выступов, благодаря которой дождевая вода, попадая на фасад, стекала не с этажа на этаж и на фундамент, а непосредственно на землю. Такая техника защиты деревянных строений, согласно историческим исследованиям, была известна ещё древним гре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ой для строительства фахверкового дома является комплект деталей из клееного бруса произведенный на высокоточном оборудовании с определенными запилами в местах соединения согласно проекта дом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еный брус является совершенным конструкционным материалом. Клееные брусья и балки могут иметь большое сечение, а также длину до 12-18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b4ae84694f"/>
          <p:cNvPicPr/>
          <p:nvPr/>
        </p:nvPicPr>
        <p:blipFill>
          <a:blip r:embed="rId1"/>
          <a:stretch/>
        </p:blipFill>
        <p:spPr>
          <a:xfrm>
            <a:off x="1447920" y="1989000"/>
            <a:ext cx="6553080" cy="470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30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4-02-16T04:55:1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