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56FD-233C-4937-8FFA-4BF879619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5DD2-03F0-4DB9-9ED1-87612689B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59F5-C633-402B-9DF5-0E9388EEC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34E-519C-4275-ABE2-C873D23EF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B53B-5F58-4EDF-8148-C5D2F6816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A36-E02B-45A4-8F8B-F8B3CC346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D00E-E7AA-44B6-A938-F3DCAEBB8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1B5-171F-4464-B5AD-9F827172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A8C-F0F2-40C9-9164-0EF14CC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3DD-A027-457B-9B93-14E261B4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0B5-EB0B-49B1-A808-DA23633B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BAD-1671-41E1-8CF3-0E645B25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856A-A5AD-4824-86E1-86D933E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E9D-6F21-40CC-9EB8-6027389C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9C9F-C585-4182-BE1B-BABADD2D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01C6-E3CF-4E8F-AD47-F02AD83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5CE0-ED6F-4613-ACC7-E2EDE87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5DD3-4BA0-4DB3-B854-EA5458B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8BF-A576-4868-9E66-421C130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50EE-7DEF-4097-8CCC-8ED442FB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7DFA-A811-48B6-917D-9AD485E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517D-34ED-4B8E-8AC2-A20E43A2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FE84-D72C-48C4-93CC-D7A7100C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061-2682-4FAB-939C-1A73F11A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229-75A7-4402-9986-21328FC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E8D-777B-4248-A3BB-559617B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0CB-486C-4E29-A3DE-A85DEFC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EA9-C96C-426B-8E2C-7B0F424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54B-C390-42C1-960D-A44F2E7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310-00D6-4EC9-9DAA-A3EC50F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1E1-9BBE-4085-ACA6-6613843A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F179-1800-4F7B-9448-9A01F4EC8B6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7AB2-8B12-4B51-A963-F335C6629B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пределяем проблему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3771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образования разделительного вопро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981000"/>
            <a:ext cx="8135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The children were at school, 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Находим подлежаще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children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Заменяем его на местоимение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he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Находим глагол-сказуемо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Определяем его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 Находим вспомогательный глагол, если он  нуже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411280" y="515772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The children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re</a:t>
            </a: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 at school, weren’t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they</a:t>
            </a: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539640" y="1989000"/>
            <a:ext cx="7704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’s train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advTm="5000">
    <p:newsflash/>
    <p:sndAc>
      <p:stSnd>
        <p:snd r:embed="rId1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hobby is collecting coin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outdoor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busy now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m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r hobby is collecting coin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i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i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are outdoor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m busy now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m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n’t 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ilm wasn’t a succes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ttens were cut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o hamsters in the cag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ilm wasn’t a succes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as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asn’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kittens were cut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ere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ere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no hamsters in the cage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are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aren’t the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on’t be ill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will be famou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Ex. 3, p 23.Complete the tag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on’t be ill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on’t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 will be famous, …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, will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…, wo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9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 баллов – 10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 баллов – 87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баллов – 7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 баллов – 66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балла – 5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балла – 38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балла – 25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балл – 8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9, p. 26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ва тема урок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9280" y="26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spcBef>
                <a:spcPts val="799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atch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the questions and the answ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48974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are in the fifth   form, aren’t you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e isn’t from Scotland, is 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hey must work hard, mustn’t the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e won’t go abroad this summer, will w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92360" y="2349360"/>
            <a:ext cx="360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he isn’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they mu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we won’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d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I 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4537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terday Steven met a group of Russian students, didn’t 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e was nervous at the lesson, wasn’t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m couldn’t stay after lessons, could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6720" y="2349360"/>
            <a:ext cx="36705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e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she couldn’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f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s, she w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g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o, he didn’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6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4, p.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. 3, p.36 A or B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(по выбору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5"/>
          <p:cNvSpPr txBox="1"/>
          <p:nvPr/>
        </p:nvSpPr>
        <p:spPr>
          <a:xfrm>
            <a:off x="468360" y="1700280"/>
            <a:ext cx="7488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ell done!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2924280"/>
            <a:ext cx="806436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ff"/>
                </a:solidFill>
                <a:latin typeface="Comic Sans MS"/>
              </a:rPr>
              <a:t>Разделительные вопросы или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5400"/>
            </a:br>
            <a:r>
              <a:rPr b="1" lang="en-US" sz="8000" spc="-1" strike="noStrike">
                <a:solidFill>
                  <a:srgbClr val="ff3300"/>
                </a:solidFill>
                <a:latin typeface="Comic Sans MS"/>
              </a:rPr>
              <a:t>Tag-questions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93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ag-questions</a:t>
            </a:r>
            <a:br>
              <a:rPr sz="4400"/>
            </a:b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(</a:t>
            </a:r>
            <a:r>
              <a:rPr b="0" lang="ru-RU" sz="4400" spc="-1" strike="noStrike">
                <a:solidFill>
                  <a:srgbClr val="9900ff"/>
                </a:solidFill>
                <a:latin typeface="Comic Sans MS"/>
              </a:rPr>
              <a:t>разделительные вопросы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353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английском языке существуют специальные окончания вопросов, которые очень важны для поддержания беседы. Они помогают перебросить «мостик» к собеседнику, чтобы тот смог продолжить бесе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.g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he is a very good pupil,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</a:rPr>
              <a:t>isn’t sh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а очень хорошая ученица, </a:t>
            </a: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не так л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407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обные вопросы называются</a:t>
            </a:r>
            <a:r>
              <a:rPr b="1" lang="ru-RU" sz="28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tag-questions</a:t>
            </a:r>
            <a:r>
              <a:rPr b="1" lang="en-US" sz="2800" spc="-1" strike="noStrike" u="sng">
                <a:solidFill>
                  <a:srgbClr val="9900ff"/>
                </a:solidFill>
                <a:uFillTx/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вное – научиться выбирать нужные окончания вопросов, которых в английском языке больше, чем в русс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13096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онча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ren’t I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sn’t sh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132000" y="342900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asn’t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eren’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9308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авила их употребления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.Правило батарей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и предложения глагол стоит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утверди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ая</a:t>
            </a:r>
            <a:r>
              <a:rPr b="0" lang="ru-RU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сть предложения содержит глагол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триц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подлежащее заменяется на соответствующее местоим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friends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ents,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7913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и предложения глагол стоит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триц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ть предложения содержит глагол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утверди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длежаще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заменяется на соответствующее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естоим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1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. 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friends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ents,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696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Если в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первой ча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дложения есть глаголы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o be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s, am, are, was, were), will / shal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о во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второй ча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едложения используется </a:t>
            </a:r>
            <a:r>
              <a:rPr b="1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тот же глаго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азделительные вопросы 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g-question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следует отвечать так же, как и на любой </a:t>
            </a:r>
            <a:r>
              <a:rPr b="0" lang="ru-RU" sz="3200" spc="-1" strike="noStrike" u="sng">
                <a:solidFill>
                  <a:srgbClr val="9900ff"/>
                </a:solidFill>
                <a:uFillTx/>
                <a:latin typeface="Comic Sans MS"/>
              </a:rPr>
              <a:t>общий вопро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требующий отве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“Yes”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No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was in England a year ago, wasn’t she? –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Yes, she was. 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No, she was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u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6:42Z</dcterms:created>
  <dc:creator>Марина</dc:creator>
  <dc:description/>
  <dc:language>en-US</dc:language>
  <cp:lastModifiedBy>Пользователь Windows</cp:lastModifiedBy>
  <dcterms:modified xsi:type="dcterms:W3CDTF">2016-01-26T16:06:19Z</dcterms:modified>
  <cp:revision>29</cp:revision>
  <dc:subject/>
  <dc:title>Welcome to the world of  Tag-questions!</dc:title>
</cp:coreProperties>
</file>