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480D-7955-4FCD-AF97-33A8562226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549C-C65C-4E8B-AA0F-3CC27BEF09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5384-F3DC-4A9B-B8FF-560164DA08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E1A4-EB94-4564-9CCF-9E38820787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1C71-5232-4F6B-A75A-153CD5AF69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51B7-5F27-47A5-828D-51613DA775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A407-D185-4DE6-8673-30053F1E95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BC7F-4EA5-4FF0-A73C-F406A395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725E-F884-40C2-B95F-9EC9F2E9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C566-E5E0-4A89-9546-723CD0D1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3AB2-CE44-4665-A3E5-98EA9AB55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E7B4-4721-4BD4-94AF-8E1C353B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B832-25D3-4C22-A1CD-BB4882F0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E44D-2C89-4FB5-9A88-BA95B4FB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D5E0-0126-4C2B-8977-ABC76895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8E5A-E0BB-4C3F-9294-AB462AD7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CDDA-9518-4E84-A06B-09A4C410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9487-3F9E-48E4-AD89-1F0ABD6A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01DC-817F-4C2D-9147-C1EEE4A4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DCB9-0449-4FDA-8F45-11AFBF1C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549D-F0DF-4309-8246-1C677DF7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B804-1FE5-4FD3-B869-FCFF1057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3782-B0DE-4B1F-BE57-7AB4CBA3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FB17-3360-4AC8-B54F-B60FC114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7EC4-4748-4EF3-A000-C8669A0A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1ACE-9830-4E8D-9D9F-EA6FAD55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EBE4-1685-4EDA-BFB6-2BDEB8C4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9395-D03B-4A30-96A4-2BD2F03F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F439-BDE5-409B-B80A-67249A28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5A68-16A5-42CC-A91F-3E1159C1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4318-7CA6-4893-A63D-561A12AF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0F11-492D-435B-B56B-307B4040D25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D742-ED69-4F01-8528-D8D1BD3AE80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280" y="2707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Определяем проблему урок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152280"/>
            <a:ext cx="737712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лгоритм образования разделительного вопрос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23640" y="981000"/>
            <a:ext cx="8135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Comic Sans MS"/>
              </a:rPr>
              <a:t>The children were at school, …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 Находим подлежащее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children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 Заменяем его на местоимение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they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 Находим глагол-сказуемо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re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 Определяем его врем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. Находим вспомогательный глагол, если он  нуже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2411280" y="515772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The children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ere</a:t>
            </a:r>
            <a:r>
              <a:rPr b="0" lang="en-US" sz="3600" spc="-1" strike="noStrike">
                <a:solidFill>
                  <a:srgbClr val="9900ff"/>
                </a:solidFill>
                <a:latin typeface="Comic Sans MS"/>
              </a:rPr>
              <a:t> at school, weren’t </a:t>
            </a: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they</a:t>
            </a:r>
            <a:r>
              <a:rPr b="0" lang="en-US" sz="3600" spc="-1" strike="noStrike">
                <a:solidFill>
                  <a:srgbClr val="9900ff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5"/>
          <p:cNvSpPr txBox="1"/>
          <p:nvPr/>
        </p:nvSpPr>
        <p:spPr>
          <a:xfrm>
            <a:off x="539640" y="1989000"/>
            <a:ext cx="770436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et’s train!</a:t>
            </a:r>
            <a:endParaRPr b="1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5000">
    <p:newsflash/>
    <p:sndAc>
      <p:stSnd>
        <p:snd r:embed="rId1" name="chimes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Ex. 3, p 23.Complete the tag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0920" y="980640"/>
            <a:ext cx="8064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r hobby is collecting coins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is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isn’t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y are outdoors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are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aren’t you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am busy now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am I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aren’t I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Ex. 3, p 23.Complete the tag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0920" y="980640"/>
            <a:ext cx="8064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r hobby is collecting coins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is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…, isn’t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y are outdoors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are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…, aren’t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am busy now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am I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…, aren’t I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Ex. 3, p 23.Complete the tag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0920" y="980640"/>
            <a:ext cx="8064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ilm wasn’t a success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as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asn’t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kittens were cute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ere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eren’t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are no hamsters in the cage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are the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aren’t the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Ex. 3, p 23.Complete the tag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980640"/>
            <a:ext cx="8064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ilm wasn’t a success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as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…, wasn’t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kittens were cute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ere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…, weren’t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are no hamsters in the cage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…, are the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aren’t the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Ex. 3, p 23.Complete the tag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4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won’t be ill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ill w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on’t w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y will be famous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ill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on’t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Ex. 3, p 23.Complete the tag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4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won’t be ill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…, will w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on’t w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y will be famous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ill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…, won’t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веряе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8 баллов – 100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7 баллов – 87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6 баллов – 75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 баллов – 66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 балла – 50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 балла – 38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 балла – 25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балл – 8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. 9, p. 26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aren’t the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isn’t sh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aren’t the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isn’t i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aren’t I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1699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кова тема урока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9280" y="260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Сегодня я узнал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spcBef>
                <a:spcPts val="799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Было интересн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spcBef>
                <a:spcPts val="799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Было трудн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spcBef>
                <a:spcPts val="799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Я понял, чт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spcBef>
                <a:spcPts val="799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Теперь я могу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spcBef>
                <a:spcPts val="799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Я научился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spcBef>
                <a:spcPts val="799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Я смог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spcBef>
                <a:spcPts val="799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Я попробую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spcBef>
                <a:spcPts val="799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Меня удивил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6870600" cy="127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Match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the questions and the answer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48974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 are in the fifth   form, aren’t you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He isn’t from Scotland, is h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hey must work hard, mustn’t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We won’t go abroad this summer, will w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92360" y="2349360"/>
            <a:ext cx="3600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No, he isn’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es, they mu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c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No, we won’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d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es, I 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Bar dir="vert"/>
    <p:sndAc>
      <p:stSnd>
        <p:snd r:embed="rId1" name="chimes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45370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esterday Steven met a group of Russian students, didn’t h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She was nervous at the lesson, wasn’t sh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am couldn’t stay after lessons, could sh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6720" y="2349360"/>
            <a:ext cx="36705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e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No, she couldn’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f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es, she w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g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No, he didn’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Bar dir="vert"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65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. 4, p.2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. 3, p.36 A or B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(по выбору)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5"/>
          <p:cNvSpPr txBox="1"/>
          <p:nvPr/>
        </p:nvSpPr>
        <p:spPr>
          <a:xfrm>
            <a:off x="468360" y="1700280"/>
            <a:ext cx="748836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ell done!</a:t>
            </a:r>
            <a:endParaRPr b="1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newsflash/>
    <p:sndAc>
      <p:stSnd>
        <p:snd r:embed="rId1" name="chimes.wav"/>
      </p:stSnd>
    </p:sndAc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3640" y="2924280"/>
            <a:ext cx="806436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ff"/>
                </a:solidFill>
                <a:latin typeface="Comic Sans MS"/>
              </a:rPr>
              <a:t>Разделительные вопросы или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5400"/>
            </a:br>
            <a:r>
              <a:rPr b="1" lang="en-US" sz="8000" spc="-1" strike="noStrike">
                <a:solidFill>
                  <a:srgbClr val="ff3300"/>
                </a:solidFill>
                <a:latin typeface="Comic Sans MS"/>
              </a:rPr>
              <a:t>Tag-questions!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9930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Tag-questions</a:t>
            </a:r>
            <a:br>
              <a:rPr sz="4400"/>
            </a:br>
            <a:r>
              <a:rPr b="0" lang="en-US" sz="4400" spc="-1" strike="noStrike">
                <a:solidFill>
                  <a:srgbClr val="9900ff"/>
                </a:solidFill>
                <a:latin typeface="Comic Sans MS"/>
              </a:rPr>
              <a:t>(</a:t>
            </a:r>
            <a:r>
              <a:rPr b="0" lang="ru-RU" sz="4400" spc="-1" strike="noStrike">
                <a:solidFill>
                  <a:srgbClr val="9900ff"/>
                </a:solidFill>
                <a:latin typeface="Comic Sans MS"/>
              </a:rPr>
              <a:t>разделительные вопросы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35344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английском языке существуют специальные окончания вопросов, которые очень важны для поддержания беседы. Они помогают перебросить «мостик» к собеседнику, чтобы тот смог продолжить бесед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E.g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She is a very good pupil,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</a:rPr>
              <a:t>isn’t she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на очень хорошая ученица, </a:t>
            </a:r>
            <a:r>
              <a:rPr b="1" lang="ru-RU" sz="2800" spc="-1" strike="noStrike">
                <a:solidFill>
                  <a:srgbClr val="9900ff"/>
                </a:solidFill>
                <a:latin typeface="Comic Sans MS"/>
              </a:rPr>
              <a:t>не так ли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4072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добные вопросы называются</a:t>
            </a:r>
            <a:r>
              <a:rPr b="1" lang="ru-RU" sz="28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9900cc"/>
                </a:solidFill>
                <a:uFillTx/>
                <a:latin typeface="Comic Sans MS"/>
              </a:rPr>
              <a:t>tag-questions</a:t>
            </a:r>
            <a:r>
              <a:rPr b="1" lang="en-US" sz="2800" spc="-1" strike="noStrike" u="sng">
                <a:solidFill>
                  <a:srgbClr val="9900ff"/>
                </a:solidFill>
                <a:uFillTx/>
                <a:latin typeface="Comic Sans MS"/>
              </a:rPr>
              <a:t>.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лавное – научиться выбирать нужные окончания вопросов, которых в английском языке больше, чем в русск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13096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кончания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aren’t I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isn’t h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isn’t sh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3132000" y="3429000"/>
            <a:ext cx="40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wasn’t 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weren’t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7993080" cy="7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равила их употребления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8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1.Правило батарей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в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первой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части предложения глагол стоит в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утвердительной форм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то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вторая</a:t>
            </a: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асть предложения содержит глагол в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отрицательной форм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а подлежащее заменяется на соответствующее местоим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y friends </a:t>
            </a:r>
            <a:r>
              <a:rPr b="1" lang="en-US" sz="3200" spc="-1" strike="noStrike">
                <a:solidFill>
                  <a:srgbClr val="9900ff"/>
                </a:solidFill>
                <a:latin typeface="Comic Sans MS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ents, </a:t>
            </a:r>
            <a:r>
              <a:rPr b="1" lang="en-US" sz="3200" spc="-1" strike="noStrike">
                <a:solidFill>
                  <a:srgbClr val="9900ff"/>
                </a:solidFill>
                <a:latin typeface="Comic Sans MS"/>
              </a:rPr>
              <a:t>are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newsflash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791352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1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в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первой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части предложения глагол стоит в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отрицательной форм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то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втора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часть предложения содержит глагол в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утвердительной форм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а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подлежаще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заменяется на соответствующее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местоимени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. g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y friends </a:t>
            </a:r>
            <a:r>
              <a:rPr b="1" lang="en-US" sz="3200" spc="-1" strike="noStrike">
                <a:solidFill>
                  <a:srgbClr val="9900ff"/>
                </a:solidFill>
                <a:latin typeface="Comic Sans MS"/>
              </a:rPr>
              <a:t>are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ents, </a:t>
            </a:r>
            <a:r>
              <a:rPr b="1" lang="en-US" sz="3200" spc="-1" strike="noStrike">
                <a:solidFill>
                  <a:srgbClr val="9900ff"/>
                </a:solidFill>
                <a:latin typeface="Comic Sans MS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newsflash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769608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Если в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первой част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редложения есть глаголы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to be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 (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is, am, are, was, were), will / shall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то во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второй част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редложения используется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тот же глагол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newsflash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755640" y="980640"/>
            <a:ext cx="7696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разделительные вопросы 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g-questions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) следует отвечать так же, как и на любой </a:t>
            </a:r>
            <a:r>
              <a:rPr b="0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общий вопрос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требующий ответ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“Yes”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ли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No”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e was in England a year ago, wasn’t she? – </a:t>
            </a:r>
            <a:r>
              <a:rPr b="0" lang="en-US" sz="3200" spc="-1" strike="noStrike">
                <a:solidFill>
                  <a:srgbClr val="9900ff"/>
                </a:solidFill>
                <a:latin typeface="Comic Sans MS"/>
              </a:rPr>
              <a:t>Yes, she was. /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Comic Sans MS"/>
              </a:rPr>
              <a:t>                    </a:t>
            </a:r>
            <a:r>
              <a:rPr b="0" lang="en-US" sz="3200" spc="-1" strike="noStrike">
                <a:solidFill>
                  <a:srgbClr val="9900ff"/>
                </a:solidFill>
                <a:latin typeface="Comic Sans MS"/>
              </a:rPr>
              <a:t>No, she wasn’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u"/>
    <p:sndAc>
      <p:stSnd>
        <p:snd r:embed="rId1" name="chimes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7:16:42Z</dcterms:created>
  <dc:creator>Марина</dc:creator>
  <dc:description/>
  <dc:language>en-US</dc:language>
  <cp:lastModifiedBy>Пользователь Windows</cp:lastModifiedBy>
  <dcterms:modified xsi:type="dcterms:W3CDTF">2016-01-26T16:06:19Z</dcterms:modified>
  <cp:revision>29</cp:revision>
  <dc:subject/>
  <dc:title>Welcome to the world of  Tag-questions!</dc:title>
</cp:coreProperties>
</file>