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87B5-4C45-482E-90D2-13EF2D38B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7A5F-E343-4106-9AFA-CF60181DE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36FA-8512-42E2-BD54-BC2B315ED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631E-2341-45BC-BC57-7D9963959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2864-C7BB-4EFB-8AE4-EE5A1231D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9F42-B762-404E-83A6-C7DF41022B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39AC-5B7C-4986-9FDF-B5FC619A3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E08-DE0B-4765-B20C-DAD74590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F2B-E206-47E0-994B-B5430F2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A8C-B501-41D3-9EFC-7CCBC2D4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0B9-244D-4720-A334-7E5CF7F4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6447-3D1F-460F-B00A-FF2C773B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3187-4695-424D-AA49-AAC64E3E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6EA-CF33-47E3-9AC9-ECE68583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B523-F5D9-4658-811E-7C76CB9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9F0E-23CF-4792-9298-F5D95B5E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E955-0384-4FB5-B893-DB4AF786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29F2-6288-43B5-A05C-69C33BE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2D0-CFFB-4AD1-824E-252F9626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7FA9-4FB7-44C1-96CB-22601D53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CCC9-7F8D-4611-8A49-56157ADB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C07-4FA7-4C05-A4C5-D824C32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8E93-B97D-4371-A61C-4A58B453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ABB3-C872-4B8E-B4C4-DBB984E4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D5F-2E0E-4A26-ADB1-FD57BD9A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847-BACC-48B0-AE67-13B03F1A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AFC-029F-4A13-BCA0-1A3E531E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834-DAEB-4B9F-88D1-CFB89016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DDF-BE83-4D7F-9FB0-BDA81E7B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44E-FDFA-44D8-94FA-292E92FC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F27-A9A0-4D64-9478-28235E7F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820A-5CD2-4ED9-81EB-4E2A8BFA19C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5B93-2669-4E9A-B229-677152E28B8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пределяем проблему ур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3771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 образования разделительного вопро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3640" y="981000"/>
            <a:ext cx="8135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The children were at school, …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Находим подлежаще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children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Заменяем его на местоимение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he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Находим глагол-сказуемо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r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Определяем его 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 Находим вспомогательный глагол, если он  нуже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411280" y="515772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The children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re</a:t>
            </a:r>
            <a:r>
              <a:rPr b="0" lang="en-US" sz="3600" spc="-1" strike="noStrike">
                <a:solidFill>
                  <a:srgbClr val="9900ff"/>
                </a:solidFill>
                <a:latin typeface="Comic Sans MS"/>
              </a:rPr>
              <a:t> at school, weren’t 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they</a:t>
            </a:r>
            <a:r>
              <a:rPr b="0" lang="en-US" sz="3600" spc="-1" strike="noStrike">
                <a:solidFill>
                  <a:srgbClr val="9900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539640" y="1989000"/>
            <a:ext cx="7704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’s train!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5000">
    <p:newsflash/>
    <p:sndAc>
      <p:stSnd>
        <p:snd r:embed="rId1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hobby is collecting coin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re outdoor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busy now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m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hobby is collecting coin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i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re outdoor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busy now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m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n’t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ilm wasn’t a succes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kittens were cut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no hamsters in the cag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ilm wasn’t a succes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a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kittens were cut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e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no hamsters in the cag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on’t be ill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will be famou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on’t be ill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will be famou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o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 баллов – 10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 баллов – 87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баллов – 7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 баллов – 66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балла – 5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балла – 38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балла – 2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балл – 8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9, p. 26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t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s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ва тема урок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9280" y="260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смог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atch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the questions and the answ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48974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are in the fifth   form, aren’t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e isn’t from Scotland, is 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hey must work hard, must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e won’t go abroad this summer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92360" y="2349360"/>
            <a:ext cx="360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he isn’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they mu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c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we won’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d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I 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4537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terday Steven met a group of Russian students, didn’t 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he was nervous at the lesson, wasn’t s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m couldn’t stay after lessons, could s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6720" y="2349360"/>
            <a:ext cx="36705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e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she couldn’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f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she w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g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he didn’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6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4, p.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3, p.36 A or B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(по выбору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5"/>
          <p:cNvSpPr txBox="1"/>
          <p:nvPr/>
        </p:nvSpPr>
        <p:spPr>
          <a:xfrm>
            <a:off x="468360" y="1700280"/>
            <a:ext cx="7488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ell done!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924280"/>
            <a:ext cx="806436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ff"/>
                </a:solidFill>
                <a:latin typeface="Comic Sans MS"/>
              </a:rPr>
              <a:t>Разделительные вопросы или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5400"/>
            </a:b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Tag-questions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993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Tag-questions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Comic Sans MS"/>
              </a:rPr>
              <a:t>(</a:t>
            </a:r>
            <a:r>
              <a:rPr b="0" lang="ru-RU" sz="4400" spc="-1" strike="noStrike">
                <a:solidFill>
                  <a:srgbClr val="9900ff"/>
                </a:solidFill>
                <a:latin typeface="Comic Sans MS"/>
              </a:rPr>
              <a:t>разделительные вопросы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353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английском языке существуют специальные окончания вопросов, которые очень важны для поддержания беседы. Они помогают перебросить «мостик» к собеседнику, чтобы тот смог продолжить бесе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.g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he is a very good pupil,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</a:rPr>
              <a:t>isn’t she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а очень хорошая ученица, </a:t>
            </a: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не так л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407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обные вопросы называются</a:t>
            </a: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tag-questions</a:t>
            </a:r>
            <a:r>
              <a:rPr b="1" lang="en-US" sz="2800" spc="-1" strike="noStrike" u="sng">
                <a:solidFill>
                  <a:srgbClr val="9900ff"/>
                </a:solidFill>
                <a:uFillTx/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лавное – научиться выбирать нужные окончания вопросов, которых в английском языке больше, чем в русс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13096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конча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I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s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132000" y="342900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asn’t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eren’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9308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авила их употребления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.Правило батарей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и предложения глагол стоит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утверди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ая</a:t>
            </a: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сть предложения содержит глагол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трица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а подлежащее заменяется на соответствующее местоим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friends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ents,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9135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и предложения глагол стоит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трица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ь предложения содержит глагол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утверди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длежаще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заменяется на соответствующее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естоим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 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friends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ents,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6960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 ча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едложения есть глаголы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o be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s, am, are, was, were), will / shal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в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ой ча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едложения используется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тот же глаго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разделительные вопросы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g-question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следует отвечать так же, как и на любой </a:t>
            </a:r>
            <a:r>
              <a:rPr b="0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бщий вопро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ребующий отве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“Yes”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No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was in England a year ago, wasn’t she? – 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Yes, she was. 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No, she wasn’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u"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6:42Z</dcterms:created>
  <dc:creator>Марина</dc:creator>
  <dc:description/>
  <dc:language>en-US</dc:language>
  <cp:lastModifiedBy>Пользователь Windows</cp:lastModifiedBy>
  <dcterms:modified xsi:type="dcterms:W3CDTF">2016-01-26T16:06:19Z</dcterms:modified>
  <cp:revision>29</cp:revision>
  <dc:subject/>
  <dc:title>Welcome to the world of  Tag-questions!</dc:title>
</cp:coreProperties>
</file>