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719A-8429-4AF6-9ACA-3B74B3A7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97EB-5509-48AB-A17A-53D7BCA6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BA8-8A8A-4724-8218-E71E6EB6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D25-66D3-4E32-ACF6-6ECBBBD4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F391-4C9B-4437-9BC6-5FAF8387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5E42-0AB4-4E81-A664-CC08830B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0C69-A1C2-4F6E-AA02-904E5B5F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56F1-7D4B-4638-8389-23A61E1B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BAF9-2064-4156-8C4F-9AFF66C8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3BF9-ED1F-4AB6-A574-595734E5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8AD6-4B37-4F49-A103-280C660E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27B3-78F9-46A7-AD6A-3BAA912B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301A-5EDE-4147-9F1C-FF2C1654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FF51-6998-4259-B6BE-BF54009C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007E-12A7-427E-A7DF-3F97902B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5188-5CE0-49BB-A3B5-26C48FC0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56EE-7F7A-48B5-B93B-A155C84E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C1D77-9060-46E3-A1B8-46E14A69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47648-107F-4286-9BB3-6D9656D1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49AC0-4C1C-4163-A7C2-E2FDAA53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7036C-096F-4317-8367-AA0CF6DB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0DCC1-BE93-4184-A9C0-810DEEBA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C1B-5881-4F7F-A47E-FFE5AF25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6A157-FAAD-44E6-A783-DBF3B0BA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6E8D1-1810-4786-8DFD-E16707E7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FF29A-C8C1-4DE7-943F-2237D2E5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18B5C-A082-4BC1-A79E-698F7FBD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99BFF-251D-4A30-AD44-391F2968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8ED93-75EE-4B76-9BB5-54AC54FF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A81A4-A5D8-4537-81F4-1F9658AA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A2B-1F8C-4F57-9545-49412B3B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A798-2E0C-4F66-95E2-EEA86A02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759B-E112-460F-A1E0-67256920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D5E-3F6A-42D7-9E61-7E946F4F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DDD-7CAE-49FD-AE64-261F5BB7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8C25-579C-42C1-9280-4A9A3726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C994-47DC-4D12-8474-29F1F5721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D60A-897B-4E33-9C1A-CBA84CC692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9287-628A-40A4-809F-B00697C79A5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ahoma"/>
              </a:rPr>
              <a:t>СТРАДАТЕЛЬНЫЙ ЗАЛОГ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PASSIVE VOIC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cc"/>
                </a:solidFill>
                <a:latin typeface="Tahoma"/>
              </a:rPr>
              <a:t>Спасибо за внимание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ДЕЙСТВИТЕЛЬНЫЙ ЗАЛ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 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яблок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(Подлежащее совершает действ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eating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an ap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ТРАДАТЕЛЬНЫЙ ЗАЛ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ъедено </a:t>
            </a: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и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(Действие направлено на подлежа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eaten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by h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720720" y="1197000"/>
            <a:ext cx="1374840" cy="16556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2195640" y="2205000"/>
            <a:ext cx="49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7308720" y="1341360"/>
            <a:ext cx="1150920" cy="11289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1127160" cy="16574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7164360" y="4221000"/>
            <a:ext cx="1371600" cy="17290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 flipH="1">
            <a:off x="2195640" y="515772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340000" y="2276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59280" y="1125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4076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Ябл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340000" y="5229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a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Способ образования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традательного зал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640" y="2852640"/>
            <a:ext cx="822960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пряжение глагола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o writ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страдательном зало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258920" y="1600200"/>
          <a:ext cx="6265800" cy="1004760"/>
        </p:xfrm>
        <a:graphic>
          <a:graphicData uri="http://schemas.openxmlformats.org/drawingml/2006/table">
            <a:tbl>
              <a:tblPr/>
              <a:tblGrid>
                <a:gridCol w="6265800"/>
              </a:tblGrid>
              <a:tr h="101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(изменяемая часть)          (неизменяемая част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42" name=""/>
          <p:cNvSpPr/>
          <p:nvPr/>
        </p:nvSpPr>
        <p:spPr>
          <a:xfrm>
            <a:off x="3419640" y="3789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imple T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03280" y="3860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27280" y="4508640"/>
            <a:ext cx="4321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2920" y="443700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042920" y="6524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042920" y="4437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388360" y="4437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708360" y="4581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780000" y="522936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70836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708360" y="4869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5516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348000" y="3789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esent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08360" y="378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ast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203640" y="5516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ll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916360" y="4869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all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492360" y="3789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uture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59280" y="3789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esent 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059280" y="378936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ontinuous T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411280" y="4437000"/>
            <a:ext cx="266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      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79640" y="4437000"/>
            <a:ext cx="2881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372360" y="364500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276720" y="378936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ast 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132000" y="3789360"/>
            <a:ext cx="34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uture 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7640" y="4724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существ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19640" y="3789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Perfect T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419640" y="3789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35280" y="4437000"/>
            <a:ext cx="3025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635280" y="3789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as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16360" y="5229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d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492360" y="3789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uture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76360" y="4508640"/>
            <a:ext cx="3457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ve 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050920" y="1628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364000" y="1628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580000" y="5229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на английский язык, употребляя глаголы в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st Simple Ac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st Simple Pa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3887640" cy="4897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рассказ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спрос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s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отве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д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ригла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v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43280" y="1484280"/>
            <a:ext cx="3895920" cy="4897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е рассказ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s t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ё спрос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s as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м отве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re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 д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re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приглас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s inv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на английский язык, употребляя глаголы в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es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ture Simple Pa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40720" cy="525636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Меня встретили – Меня встречают – Меня встретя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                           –                             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Её видели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Её видят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Её увидя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                           –                     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Нас послали – Нас посылают – Нас пошл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                           –                     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Ему помогли – Ему помогают – Ему помогу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                            –                     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Вам прочитали – Вам читают – Вам прочитаю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                            –                         –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5640" y="170028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  was 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24360" y="1700280"/>
            <a:ext cx="165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  am 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88000" y="1700280"/>
            <a:ext cx="22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  will  be 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11280" y="2637000"/>
            <a:ext cx="230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he was seen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03640" y="2637000"/>
            <a:ext cx="194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he is s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348000" y="5516640"/>
            <a:ext cx="216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You are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364000" y="2637000"/>
            <a:ext cx="259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he will be s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4360" y="3573360"/>
            <a:ext cx="230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We were 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203640" y="3573360"/>
            <a:ext cx="201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We are 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364000" y="3573360"/>
            <a:ext cx="244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We will be 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4360" y="4508640"/>
            <a:ext cx="237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e was hel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4508640"/>
            <a:ext cx="20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e is hel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35640" y="4508640"/>
            <a:ext cx="273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e will be hel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4360" y="5516640"/>
            <a:ext cx="237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You were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724360" y="5516640"/>
            <a:ext cx="259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You will be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ведите на русский язы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532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s sh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s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re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ll be he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e rep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ll be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e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e inv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s underst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s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ll be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88000" y="1125360"/>
            <a:ext cx="3822480" cy="532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каз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л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теря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ен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слыш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вторя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вет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б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глаш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ен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я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ё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н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ад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менение действительного залога на страдательн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29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lea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at the University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University         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ga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ok            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ill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tomorrow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orrow               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as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050920" y="119700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12000" y="1700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by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556000" y="263700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908000" y="2637000"/>
            <a:ext cx="7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6920" y="36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284720" y="3716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y h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556000" y="4653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867280" y="522936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y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50920" y="119700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050920" y="119700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56000" y="2637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908000" y="2637000"/>
            <a:ext cx="7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627280" y="4653000"/>
            <a:ext cx="158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s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692360" y="1700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95640" y="1700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lear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340000" y="3213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059280" y="32130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067280" y="32130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148360" y="3213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y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042920" y="3645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as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24000" y="522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76720" y="522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227640" y="321300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a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020000" y="1773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a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68360" y="5877000"/>
            <a:ext cx="194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58000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a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55640" y="3213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68360" y="5229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1 0.02523 C -0.00573 0.0412 -0.00382 0.0581 -0.00833 0.07384 C -0.00903 0.07778 -0.01423 0.07523 -0.01736 0.07523 C -0.07187 0.07523 -0.12639 0.07384 -0.18038 0.07384 E">
                                      <p:cBhvr>
                                        <p:cTn id="493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2222E-006 C -0.00191 0.13033 0.02205 0.08912 -0.10469 0.08611 C -0.11111 0.08588 -0.11754 0.08496 -0.12413 0.08449 C -0.13247 0.08125 -0.14184 0.08334 -0.15035 0.08611 C -0.15434 0.08727 -0.16111 0.09352 -0.16111 0.09375 C -0.16146 0.09352 -0.17431 0.08611 -0.17448 0.08611 C -0.17847 0.08519 -0.18247 0.08496 -0.18646 0.08449 C -0.19063 0.08287 -0.18941 0.08426 -0.19115 0.08172 E">
                                      <p:cBhvr>
                                        <p:cTn id="5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8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C -0.00035 0.04166 -0.00052 0.08333 -0.00122 0.125 C -0.00139 0.13449 -0.00122 0.14213 -0.00625 0.14838 C -0.05434 0.1449 -0.07031 0.14444 -0.1349 0.14352 C -0.14184 0.14027 -0.14879 0.14004 -0.15625 0.14004 E">
                                      <p:cBhvr>
                                        <p:cTn id="562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2524 C 0.00277 0.14098 0.00711000000000001 0.08866 -0.15539 0.08704 C -0.17327 0.08635 -0.20851 0.08519 -0.20851 0.08542 E">
                                      <p:cBhvr>
                                        <p:cTn id="589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Запомни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Если после сказуемого в страдательном залоге стоит предлог, то начинать переводить предложение следует именно с этого предлога.</a:t>
            </a:r>
            <a:br>
              <a:rPr sz="20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e was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sen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–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ним послали.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e wer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ollowe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 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нами пош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417492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ереведите предложения, обра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he is often spok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bout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He was look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with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y will be talk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bout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is house is not liv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is bed was not sl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I will be fo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is question was not answ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1640" y="2420640"/>
            <a:ext cx="4103640" cy="410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нимание на место предло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ней часто говор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него смотрели с интере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них будут говор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этом доме не жив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этой кровати не сп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мной пой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этот вопрос не ответили.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собы перевода сказуемого в страдательном залог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3598920" cy="568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етанием глагол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бы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нужном времен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 кратким причасти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пределенно личным предложением (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голом в 3-ем лице мн. чис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йствительного зало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голом, оканчивающимся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–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–с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голом в действительном залоге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другие способы перевода невозмож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427280" y="907560"/>
            <a:ext cx="439236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he let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as writt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pencil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исьм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было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написан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арандаш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h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ere tak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 school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y b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отвез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школу на автобу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his 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u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pok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b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б этой книге мно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оворит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as rung up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by 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Я ей позвон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4643280" y="907920"/>
            <a:ext cx="684360" cy="6336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4572000" y="2205000"/>
            <a:ext cx="800280" cy="6634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4572000" y="3357720"/>
            <a:ext cx="812880" cy="672840"/>
          </a:xfrm>
          <a:prstGeom prst="rect">
            <a:avLst/>
          </a:prstGeom>
          <a:ln w="0">
            <a:noFill/>
          </a:ln>
        </p:spPr>
      </p:pic>
      <p:pic>
        <p:nvPicPr>
          <p:cNvPr id="539" name="pe03859_" descr=""/>
          <p:cNvPicPr/>
          <p:nvPr/>
        </p:nvPicPr>
        <p:blipFill>
          <a:blip r:embed="rId4"/>
          <a:stretch/>
        </p:blipFill>
        <p:spPr>
          <a:xfrm>
            <a:off x="4643280" y="4724280"/>
            <a:ext cx="828720" cy="927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468360" y="333360"/>
            <a:ext cx="8064360" cy="42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пособы перевода подлежащего в страдательном залог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68360" y="907920"/>
            <a:ext cx="345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8360" y="907920"/>
            <a:ext cx="359892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ительным или местоимением в именительном падеж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788000" y="15573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Письм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51640" y="1557360"/>
            <a:ext cx="31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было написано карандаш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667640" y="90792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076720" y="2852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435640" y="285264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отвезли в школу на автобу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27640" y="2133720"/>
            <a:ext cx="43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s being explained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ne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ramm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j0079052" descr=""/>
          <p:cNvPicPr/>
          <p:nvPr/>
        </p:nvPicPr>
        <p:blipFill>
          <a:blip r:embed="rId5"/>
          <a:stretch/>
        </p:blipFill>
        <p:spPr>
          <a:xfrm>
            <a:off x="4716360" y="2133720"/>
            <a:ext cx="792360" cy="7444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5076720" y="2852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435640" y="285264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объясняют новую граммат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076720" y="4076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О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435640" y="407664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этой книге много говор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68360" y="2060640"/>
            <a:ext cx="359892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ительным или местоимением в винительном или дательном паде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68360" y="3573360"/>
            <a:ext cx="35989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ительным или местоимением с предло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4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6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4" dur="500" fill="hold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6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4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4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7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0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3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6" dur="500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05:53:47Z</dcterms:created>
  <dc:creator>И.А. Шварова</dc:creator>
  <dc:description/>
  <dc:language>en-US</dc:language>
  <cp:lastModifiedBy>И.А. Шварова</cp:lastModifiedBy>
  <dcterms:modified xsi:type="dcterms:W3CDTF">2010-07-21T06:00:41Z</dcterms:modified>
  <cp:revision>1</cp:revision>
  <dc:subject/>
  <dc:title>СТРАДАТЕЛЬНЫЙ ЗАЛОГ</dc:title>
</cp:coreProperties>
</file>