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CDBC-6ECD-4781-8910-D3664F856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CB4E-61CB-45D3-BDDD-E85B68662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D12A-AFA8-43D5-BE53-760CE02F7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B525-AE0E-446F-B6EC-7F29DD40E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091EE-397E-4B66-AC39-0EB117D72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A02E6-08F6-48D6-8008-587BFFE5E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F6207-E279-4D24-BA6E-8E3D030E0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4516A-E8D0-4117-93B0-F3C5B78F4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BE6B1-404D-4EA9-B940-76C000A5A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B4492-A2B3-4D41-815B-5445F0817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A2D25-9F32-448A-85AA-7CADE736E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C41D-2FBA-423D-9D99-91285ADAD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22D05-5058-4B03-AB60-C6007FA3F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3B65B-129F-4A38-B901-00861FC5E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9A6A1-E381-4652-A5C5-7A55D33F1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5C0D3-EBFB-478C-AE92-F26E26AA8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4AE4A-8639-4256-A770-BF32F4F2A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3ACD2-D465-436E-B8AF-FA8FCF7C9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0767D-F140-4173-9BB0-076088276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F001A-707D-45F0-A057-6A0377AA1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30CC4-AE58-47C7-BCD1-29789CC52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E5EBF-03C3-4830-9687-D49910FE4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6B0D-B6D0-4C4D-9EC2-EAD6CA0D9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4BA2F-62BF-4E44-A289-118EF8526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FA07C-61F8-4E92-9805-D007D692D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F525F-E141-42F1-80DA-AAA9B3ADA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96F64-F798-4999-B0EE-362514973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F8CE0-6774-49B7-B82B-AF2138EAA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ECA0A-A80C-4572-8062-BBF179D6D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482CD-976F-4A38-AB77-511E369F2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136E-E0F6-4EC8-9ECE-FFEDA32ED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9E30-2769-4B46-970E-68F951CE7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857E-06E4-473D-A4F3-8ECE6840F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7688-EFAC-4044-8A1F-17E28D82A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3A69-89CA-4651-8D67-4410916FF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2B36-5FD1-46F3-A608-2CDA0622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BBACC-33F9-4F37-85B9-BC7FDCA4EE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42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43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7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7D08C-6651-4483-852E-C124F99E98B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23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3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4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dt" idx="7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7905F-8D60-4814-A8FB-076345A5D28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ff00"/>
                </a:solidFill>
                <a:latin typeface="Tahoma"/>
              </a:rPr>
              <a:t>СТРАДАТЕЛЬНЫЙ ЗАЛОГ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PASSIVE VOICE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2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cc"/>
                </a:solidFill>
                <a:latin typeface="Tahoma"/>
              </a:rPr>
              <a:t>Спасибо за внимание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ДЕЙСТВИТЕЛЬНЫЙ ЗАЛО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32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т </a:t>
            </a:r>
            <a:r>
              <a:rPr b="0" lang="ru-RU" sz="3200" spc="-1" strike="noStrike">
                <a:solidFill>
                  <a:srgbClr val="0066ff"/>
                </a:solidFill>
                <a:latin typeface="Arial"/>
              </a:rPr>
              <a:t>яблок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"/>
              </a:rPr>
              <a:t>         </a:t>
            </a:r>
            <a:r>
              <a:rPr b="0" lang="ru-RU" sz="1600" spc="-1" strike="noStrike">
                <a:solidFill>
                  <a:srgbClr val="009900"/>
                </a:solidFill>
                <a:latin typeface="Arial"/>
              </a:rPr>
              <a:t>                       </a:t>
            </a: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(Подлежащее совершает действ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eating </a:t>
            </a: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an app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СТРАДАТЕЛЬНЫЙ ЗАЛО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                                                     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ъедено </a:t>
            </a:r>
            <a:r>
              <a:rPr b="0" lang="ru-RU" sz="3600" spc="-1" strike="noStrike">
                <a:solidFill>
                  <a:srgbClr val="0066ff"/>
                </a:solidFill>
                <a:latin typeface="Arial"/>
              </a:rPr>
              <a:t>им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(Действие направлено на подлежаще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eaten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by hi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720720" y="1197000"/>
            <a:ext cx="1374840" cy="165564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2195640" y="2205000"/>
            <a:ext cx="496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2"/>
          <a:stretch/>
        </p:blipFill>
        <p:spPr>
          <a:xfrm>
            <a:off x="7308720" y="1341360"/>
            <a:ext cx="1150920" cy="112896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3"/>
          <a:stretch/>
        </p:blipFill>
        <p:spPr>
          <a:xfrm>
            <a:off x="900000" y="4292640"/>
            <a:ext cx="1127160" cy="165744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4"/>
          <a:stretch/>
        </p:blipFill>
        <p:spPr>
          <a:xfrm>
            <a:off x="7164360" y="4221000"/>
            <a:ext cx="1371600" cy="172908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 flipH="1">
            <a:off x="2195640" y="5157720"/>
            <a:ext cx="489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340000" y="227664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059280" y="112536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407664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Ябло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340000" y="522936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e ap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Способ образования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страдательного залог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39640" y="2852640"/>
            <a:ext cx="8229600" cy="36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пряжение глагола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to writ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 страдательном залог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1258920" y="1600200"/>
          <a:ext cx="6265800" cy="1004760"/>
        </p:xfrm>
        <a:graphic>
          <a:graphicData uri="http://schemas.openxmlformats.org/drawingml/2006/table">
            <a:tbl>
              <a:tblPr/>
              <a:tblGrid>
                <a:gridCol w="6265800"/>
              </a:tblGrid>
              <a:tr h="101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 </a:t>
                      </a: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(изменяемая часть)          (неизменяемая часть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42" name=""/>
          <p:cNvSpPr/>
          <p:nvPr/>
        </p:nvSpPr>
        <p:spPr>
          <a:xfrm>
            <a:off x="3419640" y="378936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Simple Te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403280" y="3860640"/>
            <a:ext cx="66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627280" y="4508640"/>
            <a:ext cx="4321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042920" y="4437000"/>
            <a:ext cx="7345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042920" y="6524640"/>
            <a:ext cx="7345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042920" y="4437000"/>
            <a:ext cx="0" cy="2087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388360" y="4437000"/>
            <a:ext cx="0" cy="2087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708360" y="458136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780000" y="5229360"/>
            <a:ext cx="57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708360" y="595008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708360" y="486900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635280" y="551664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348000" y="378936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Present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708360" y="378936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Past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203640" y="5516640"/>
            <a:ext cx="14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ill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916360" y="486900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hall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492360" y="3789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Future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059280" y="378936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Present Continu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059280" y="3789360"/>
            <a:ext cx="35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Continuous Te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411280" y="4437000"/>
            <a:ext cx="2664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s      be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979640" y="4437000"/>
            <a:ext cx="28814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e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372360" y="3645000"/>
            <a:ext cx="259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276720" y="3789360"/>
            <a:ext cx="302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Past Continu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132000" y="3789360"/>
            <a:ext cx="34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Future Continu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87640" y="472428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 существу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419640" y="378936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Perfect Te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419640" y="378936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Present Per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835280" y="4437000"/>
            <a:ext cx="30258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h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635280" y="378936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Past Per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916360" y="522936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had b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492360" y="3789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Future Per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476360" y="4508640"/>
            <a:ext cx="34574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h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have  b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050920" y="162864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o 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364000" y="162864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580000" y="522936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writ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8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1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7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4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6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0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ведите на английский язык, употребляя глаголы в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ast Simple Activ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ast Simple Pass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3887640" cy="4897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 рассказ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а спроси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sk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ы ответ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nsw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и да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ey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 пригласи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vi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43280" y="1484280"/>
            <a:ext cx="3895920" cy="4897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не рассказа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as t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ё спрос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as ask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м ответ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ere answ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м да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ey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ere gi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го приглас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as invi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ведите на английский язык, употребляя глаголы в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es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a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uture Simple Pass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640720" cy="525636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Arial"/>
              </a:rPr>
              <a:t>Меня встретили – Меня встречают – Меня встретят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                           –                             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Arial"/>
              </a:rPr>
              <a:t>Её видели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0000ff"/>
                </a:solidFill>
                <a:latin typeface="Arial"/>
              </a:rPr>
              <a:t>–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0000ff"/>
                </a:solidFill>
                <a:latin typeface="Arial"/>
              </a:rPr>
              <a:t>Её видят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ru-RU" sz="2600" spc="-1" strike="noStrike">
                <a:solidFill>
                  <a:srgbClr val="0000ff"/>
                </a:solidFill>
                <a:latin typeface="Arial"/>
              </a:rPr>
              <a:t>–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ru-RU" sz="2600" spc="-1" strike="noStrike">
                <a:solidFill>
                  <a:srgbClr val="0000ff"/>
                </a:solidFill>
                <a:latin typeface="Arial"/>
              </a:rPr>
              <a:t>Её увидят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                           –                     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Arial"/>
              </a:rPr>
              <a:t>Нас послали – Нас посылают – Нас пошлю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                           –                     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Arial"/>
              </a:rPr>
              <a:t>Ему помогли – Ему помогают – Ему помогу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                            –                     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Arial"/>
              </a:rPr>
              <a:t>Вам прочитали – Вам читают – Вам прочитают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                            –                         –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55640" y="1700280"/>
            <a:ext cx="180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I  was  m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924360" y="1700280"/>
            <a:ext cx="1655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I  am  m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588000" y="1700280"/>
            <a:ext cx="22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I  will  be  m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11280" y="2637000"/>
            <a:ext cx="2303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he was seen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203640" y="2637000"/>
            <a:ext cx="194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he is se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348000" y="5516640"/>
            <a:ext cx="216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You are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364000" y="2637000"/>
            <a:ext cx="2592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he will be se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84360" y="3573360"/>
            <a:ext cx="230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We were s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203640" y="3573360"/>
            <a:ext cx="201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We are s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364000" y="3573360"/>
            <a:ext cx="2448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We will be s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84360" y="4508640"/>
            <a:ext cx="2376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He was help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276720" y="4508640"/>
            <a:ext cx="2087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He is help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435640" y="4508640"/>
            <a:ext cx="2735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He will be help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684360" y="5516640"/>
            <a:ext cx="2374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You were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5724360" y="5516640"/>
            <a:ext cx="2592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You will be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еведите на русский язы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38480" cy="532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h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s sh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as 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e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ere l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ill be he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re repe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ill be answ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e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re cal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re invi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as underst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h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s kn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ill be gi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788000" y="1125360"/>
            <a:ext cx="3822480" cy="532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Е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оказываю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Ег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осла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И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отеря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Мен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услыш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а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овторяю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Ему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тветя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И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зываю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еб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иглашаю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Мен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оня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Её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знаю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Ему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даду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менение действительного залога на страдательны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929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lear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at the University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Ac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the University         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ga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Ac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ook            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will 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tomorrow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Ac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morrow               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Pas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050920" y="1197000"/>
            <a:ext cx="13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ngl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012000" y="170028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by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556000" y="2637000"/>
            <a:ext cx="158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 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908000" y="2637000"/>
            <a:ext cx="7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826920" y="3645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284720" y="371628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y hi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556000" y="465300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is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867280" y="522936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y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050920" y="1197000"/>
            <a:ext cx="13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ngl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2050920" y="1197000"/>
            <a:ext cx="13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ngl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556000" y="26370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 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908000" y="2637000"/>
            <a:ext cx="7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627280" y="4653000"/>
            <a:ext cx="1584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this wo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692360" y="170028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195640" y="170028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lear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340000" y="3213000"/>
            <a:ext cx="8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w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059280" y="321300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gi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067280" y="321300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148360" y="3213000"/>
            <a:ext cx="12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y h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042920" y="364500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was gi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124000" y="522936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will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276720" y="5229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227640" y="321300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Pass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7020000" y="177336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Pass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268360" y="5877000"/>
            <a:ext cx="194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5580000" y="37893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Pass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55640" y="321300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 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68360" y="522936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is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51 0.02523 C -0.00573 0.0412 -0.00382 0.0581 -0.00833 0.07384 C -0.00903 0.07778 -0.01423 0.07523 -0.01736 0.07523 C -0.07187 0.07523 -0.12639 0.07384 -0.18038 0.07384 E">
                                      <p:cBhvr>
                                        <p:cTn id="493" dur="2000" fill="hold"/>
                                        <p:tgtEl>
                                          <p:spTgt spid="5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01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07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2.22222E-006 C -0.00191 0.13033 0.02205 0.08912 -0.10469 0.08611 C -0.11111 0.08588 -0.11754 0.08496 -0.12413 0.08449 C -0.13247 0.08125 -0.14184 0.08334 -0.15035 0.08611 C -0.15434 0.08727 -0.16111 0.09352 -0.16111 0.09375 C -0.16146 0.09352 -0.17431 0.08611 -0.17448 0.08611 C -0.17847 0.08519 -0.18247 0.08496 -0.18646 0.08449 C -0.19063 0.08287 -0.18941 0.08426 -0.19115 0.08172 E">
                                      <p:cBhvr>
                                        <p:cTn id="5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2000"/>
                            </p:stCondLst>
                            <p:childTnLst>
                              <p:par>
                                <p:cTn id="52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38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44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C -0.00035 0.04166 -0.00052 0.08333 -0.00122 0.125 C -0.00139 0.13449 -0.00122 0.14213 -0.00625 0.14838 C -0.05434 0.1449 -0.07031 0.14444 -0.1349 0.14352 C -0.14184 0.14027 -0.14879 0.14004 -0.15625 0.14004 E">
                                      <p:cBhvr>
                                        <p:cTn id="562" dur="2000" fill="hold"/>
                                        <p:tgtEl>
                                          <p:spTgt spid="5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7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0.02524 C 0.00277 0.14098 0.00711000000000001 0.08866 -0.15539 0.08704 C -0.17327 0.08635 -0.20851 0.08519 -0.20851 0.08542 E">
                                      <p:cBhvr>
                                        <p:cTn id="589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2000"/>
                            </p:stCondLst>
                            <p:childTnLst>
                              <p:par>
                                <p:cTn id="59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2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8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01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Запомнит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 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Если после сказуемого в страдательном залоге стоит предлог, то начинать переводить предложение следует именно с этого предлога.</a:t>
            </a:r>
            <a:br>
              <a:rPr sz="2000"/>
            </a:b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He was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sent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for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–  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За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ним послали.</a:t>
            </a:r>
            <a:br>
              <a:rPr sz="2400"/>
            </a:b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e were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followed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. –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За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нами пош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68000" y="2420640"/>
            <a:ext cx="4174920" cy="4103640"/>
          </a:xfrm>
          <a:prstGeom prst="rect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ереведите предложения, обращ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She is often spok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bout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He was look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with inter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They will be talk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bout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This house is not liv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This bed was not slep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I will be follow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This question was not answe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1640" y="2420640"/>
            <a:ext cx="4103640" cy="4103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внимание на место предлог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 ней часто говоря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а</a:t>
            </a: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 него смотрели с интерес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 них будут говор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 </a:t>
            </a: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этом доме не живу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 этой кровати не спа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За</a:t>
            </a: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 мной пойду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а</a:t>
            </a: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 этот вопрос не ответили.</a:t>
            </a: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пособы перевода сказуемого в страдательном залог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3598920" cy="5689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четанием глагола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бы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нужном времени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с кратким причастие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определенно личным предложением (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глаголом в 3-ем лице мн. числ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ействительного залог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аголом, оканчивающимся 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   –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с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–с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аголом в действительном залоге 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другие способы перевода невозможн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427280" y="907560"/>
            <a:ext cx="439236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he lett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was writte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a</a:t>
            </a: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pencil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Письм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было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написан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карандаш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he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were take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o school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                    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y bu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          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Их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отвезл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в школу на автобус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his boo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i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muc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spoke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abou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          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Об этой книге мног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говорит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с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She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was rung up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by 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                          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Я ей позвони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1"/>
          <a:stretch/>
        </p:blipFill>
        <p:spPr>
          <a:xfrm>
            <a:off x="4643280" y="907920"/>
            <a:ext cx="684360" cy="63360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2"/>
          <a:stretch/>
        </p:blipFill>
        <p:spPr>
          <a:xfrm>
            <a:off x="4572000" y="2205000"/>
            <a:ext cx="800280" cy="663480"/>
          </a:xfrm>
          <a:prstGeom prst="rect">
            <a:avLst/>
          </a:prstGeom>
          <a:ln w="0">
            <a:noFill/>
          </a:ln>
        </p:spPr>
      </p:pic>
      <p:pic>
        <p:nvPicPr>
          <p:cNvPr id="538" name="" descr=""/>
          <p:cNvPicPr/>
          <p:nvPr/>
        </p:nvPicPr>
        <p:blipFill>
          <a:blip r:embed="rId3"/>
          <a:stretch/>
        </p:blipFill>
        <p:spPr>
          <a:xfrm>
            <a:off x="4572000" y="3357720"/>
            <a:ext cx="812880" cy="672840"/>
          </a:xfrm>
          <a:prstGeom prst="rect">
            <a:avLst/>
          </a:prstGeom>
          <a:ln w="0">
            <a:noFill/>
          </a:ln>
        </p:spPr>
      </p:pic>
      <p:pic>
        <p:nvPicPr>
          <p:cNvPr id="539" name="pe03859_" descr=""/>
          <p:cNvPicPr/>
          <p:nvPr/>
        </p:nvPicPr>
        <p:blipFill>
          <a:blip r:embed="rId4"/>
          <a:stretch/>
        </p:blipFill>
        <p:spPr>
          <a:xfrm>
            <a:off x="4643280" y="4724280"/>
            <a:ext cx="828720" cy="927360"/>
          </a:xfrm>
          <a:prstGeom prst="rect">
            <a:avLst/>
          </a:prstGeom>
          <a:ln w="0">
            <a:noFill/>
          </a:ln>
        </p:spPr>
      </p:pic>
      <p:sp>
        <p:nvSpPr>
          <p:cNvPr id="540" name=""/>
          <p:cNvSpPr/>
          <p:nvPr/>
        </p:nvSpPr>
        <p:spPr>
          <a:xfrm>
            <a:off x="468360" y="333360"/>
            <a:ext cx="8064360" cy="429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пособы перевода подлежащего в страдательном залог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468360" y="907920"/>
            <a:ext cx="3456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68360" y="907920"/>
            <a:ext cx="3598920" cy="1008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уществительным или местоимением в именительном падеж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788000" y="1557360"/>
            <a:ext cx="10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Письм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5651640" y="1557360"/>
            <a:ext cx="31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было написано карандаш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667640" y="907920"/>
            <a:ext cx="6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wi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076720" y="285264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5435640" y="2852640"/>
            <a:ext cx="32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отвезли в школу на автобус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427640" y="2133720"/>
            <a:ext cx="4319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She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is being explained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new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                       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gramma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j0079052" descr=""/>
          <p:cNvPicPr/>
          <p:nvPr/>
        </p:nvPicPr>
        <p:blipFill>
          <a:blip r:embed="rId5"/>
          <a:stretch/>
        </p:blipFill>
        <p:spPr>
          <a:xfrm>
            <a:off x="4716360" y="2133720"/>
            <a:ext cx="792360" cy="744480"/>
          </a:xfrm>
          <a:prstGeom prst="rect">
            <a:avLst/>
          </a:prstGeom>
          <a:ln w="0">
            <a:noFill/>
          </a:ln>
        </p:spPr>
      </p:pic>
      <p:sp>
        <p:nvSpPr>
          <p:cNvPr id="550" name=""/>
          <p:cNvSpPr/>
          <p:nvPr/>
        </p:nvSpPr>
        <p:spPr>
          <a:xfrm>
            <a:off x="5076720" y="285264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435640" y="2852640"/>
            <a:ext cx="33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объясняют новую граммати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076720" y="407664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О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435640" y="4076640"/>
            <a:ext cx="30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этой книге много говорит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68360" y="2060640"/>
            <a:ext cx="3598920" cy="1313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уществительным или местоимением в винительном или дательном падеж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68360" y="3573360"/>
            <a:ext cx="3598920" cy="703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уществительным или местоимением с предлог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54" dur="500" fill="hold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62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66" dur="5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74" dur="500" fill="hold"/>
                                        <p:tgtEl>
                                          <p:spTgt spid="5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76" dur="500" fill="hold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84" dur="500" fill="hold"/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4" dur="50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7" dur="500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0" dur="500"/>
                                        <p:tgtEl>
                                          <p:spTgt spid="5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3" dur="500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6" dur="500"/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9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36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50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78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2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05:53:47Z</dcterms:created>
  <dc:creator>И.А. Шварова</dc:creator>
  <dc:description/>
  <dc:language>en-US</dc:language>
  <cp:lastModifiedBy>И.А. Шварова</cp:lastModifiedBy>
  <dcterms:modified xsi:type="dcterms:W3CDTF">2010-07-21T06:00:41Z</dcterms:modified>
  <cp:revision>1</cp:revision>
  <dc:subject/>
  <dc:title>СТРАДАТЕЛЬНЫЙ ЗАЛОГ</dc:title>
</cp:coreProperties>
</file>