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656-96CD-447D-9EEF-794F05DD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43F-8B7C-4EF5-9A08-92D7FFE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163-A9F2-4376-8EE4-B2DF4EBA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5ED-E4AC-4CE2-B79C-F0FF2A50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55B-CC40-4332-9D59-2B27023B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E70-8548-46AA-813C-6E2873F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2211-2BA6-48C7-856B-A5EC9FEA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8C96-6501-49D0-A79F-0926A5B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3E26-1E54-4AC1-AE5E-B58A0C74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DE9F-4085-4C1D-9A96-97E95A8D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59B8-E55B-424A-AD7A-A457A1B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2D9-91CD-499A-AD9C-8190BE4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F2C7-933F-4C02-B9B9-94977C7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ED67-6716-4373-A2F1-9F0F27C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F90-3E4A-40F3-8B13-FFBE6CCC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68E7-388F-4818-9716-3434F0F6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FD58-FDE7-41BE-AADD-EFE0E16B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ABF2-406A-4697-93F7-51A4F34D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431F-B1B5-45CE-95AF-D6AE46E7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14A9-C884-43F4-A318-60565AF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E198-2EAB-4B2D-9ECD-22105AA7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E339-F4A9-446D-A2B7-F25459D8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AF8-D9D3-4DFA-A329-72A612B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AA6B-5703-4B3F-8D74-FF427677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5338-3D8A-4EFE-837C-A8D9131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5457-11C4-44B2-9562-B86A654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EEBE-572D-4E86-95CF-2B240E0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3AE2-5423-44BC-B11F-BE9496A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F70E-37D3-42E1-BA3B-9F5483FB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8795-10DC-4A9E-872D-A4C2E981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033-B4DF-4593-9241-7B3BAFD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4CD-8120-4B26-A625-372A3850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E02-800E-4BD9-96F3-48F840CD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3C3-EBC9-42B7-9B4D-F2B7C3C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4CD-66C8-4182-B180-7C0DBC0E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6B0-A458-4D80-940B-A1CFF74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9BD-EF01-4AD7-ABE9-52B29FF2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6CD-483B-4518-B7B7-47188D033B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A7F-19EA-41C7-AF10-E5EBE1FB13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ahoma"/>
              </a:rPr>
              <a:t>СТРАДАТЕЛЬНЫЙ ЗАЛОГ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PASSIVE VOI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ДЕЙСТВИТЕЛЬНЫЙ З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ябло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Подлежащее совершает дей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ting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n ap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АДАТЕЛЬНЫЙ З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ъедено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и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Действие направлено на подлежа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te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by h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20720" y="1197000"/>
            <a:ext cx="1374840" cy="1655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195640" y="220500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308720" y="1341360"/>
            <a:ext cx="1150920" cy="1128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127160" cy="1657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371600" cy="1729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 flipH="1">
            <a:off x="2195640" y="5157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227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112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Яб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000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пособ образования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традательного з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ряжение глагола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o wr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страдательном за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258920" y="1600200"/>
          <a:ext cx="6265800" cy="100476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изменяемая часть)          (неизменяемая час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341964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imple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386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27280" y="4508640"/>
            <a:ext cx="432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443700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42920" y="6524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4437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8360" y="4437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0836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0" y="5229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0836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486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08360" y="378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03640" y="5516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16360" y="486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9236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378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59280" y="3789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ous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11280" y="4437000"/>
            <a:ext cx="266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    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79640" y="4437000"/>
            <a:ext cx="288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72360" y="3645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789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378936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4724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ущ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1964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erfect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19640" y="378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5280" y="4437000"/>
            <a:ext cx="302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35280" y="378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1636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236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6360" y="4508640"/>
            <a:ext cx="345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0920" y="162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64000" y="162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на английский язык, употребляя глаголы в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st Simple 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t Simple 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3887640" cy="48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сска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спро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тве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игла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3895920" cy="48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е рассказ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спро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отве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ригла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на английский язык, употребляя глаголы 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ture Simple 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2563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Меня встретили – Меня встречают – Меня встретя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видели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видят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увидя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Нас послали – Нас посылают – Нас пошл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му помогли – Ему помогают – Ему помог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Вам прочитали – Вам читают – Вам прочитаю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 –                         –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170028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was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170028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am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88000" y="170028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will  be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2637000"/>
            <a:ext cx="230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was seen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03640" y="26370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is 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48000" y="551664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ar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0" y="2637000"/>
            <a:ext cx="25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will be 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573360"/>
            <a:ext cx="23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wer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3640" y="357336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ar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64000" y="357336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will b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4508640"/>
            <a:ext cx="23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was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508640"/>
            <a:ext cx="20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is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35640" y="450864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will be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516640"/>
            <a:ext cx="23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wer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24360" y="5516640"/>
            <a:ext cx="25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will b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на русский язы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2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rep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88000" y="1125360"/>
            <a:ext cx="3822480" cy="532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к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тер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лыш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то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глаш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 действительного залога на страдатель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at the University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University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 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ll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tomorro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orrow              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119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12000" y="1700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26370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8000" y="263700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69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84720" y="37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5229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0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5600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08000" y="263700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27280" y="465300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92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1700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ear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0000" y="321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321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67280" y="321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8360" y="3213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4292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a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2400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27640" y="3213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20000" y="1773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68360" y="587700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5640" y="3213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522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2523 C -0.00573 0.0412 -0.00382 0.0581 -0.00833 0.07384 C -0.00903 0.07778 -0.01423 0.07523 -0.01736 0.07523 C -0.07187 0.07523 -0.12639 0.07384 -0.18038 0.07384 E">
                                      <p:cBhvr>
                                        <p:cTn id="49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C -0.00191 0.13033 0.02205 0.08912 -0.10469 0.08611 C -0.11111 0.08588 -0.11754 0.08496 -0.12413 0.08449 C -0.13247 0.08125 -0.14184 0.08334 -0.15035 0.08611 C -0.15434 0.08727 -0.16111 0.09352 -0.16111 0.09375 C -0.16146 0.09352 -0.17431 0.08611 -0.17448 0.08611 C -0.17847 0.08519 -0.18247 0.08496 -0.18646 0.08449 C -0.19063 0.08287 -0.18941 0.08426 -0.19115 0.08172 E">
                                      <p:cBhvr>
                                        <p:cTn id="5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C -0.00035 0.04166 -0.00052 0.08333 -0.00122 0.125 C -0.00139 0.13449 -0.00122 0.14213 -0.00625 0.14838 C -0.05434 0.1449 -0.07031 0.14444 -0.1349 0.14352 C -0.14184 0.14027 -0.14879 0.14004 -0.15625 0.14004 E">
                                      <p:cBhvr>
                                        <p:cTn id="562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2524 C 0.00277 0.14098 0.00711000000000001 0.08866 -0.15539 0.08704 C -0.17327 0.08635 -0.20851 0.08519 -0.20851 0.08542 E">
                                      <p:cBhvr>
                                        <p:cTn id="589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омн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сли после сказуемого в страдательном залоге стоит предлог, то начинать переводить предложение следует именно с этого предлога.</a:t>
            </a:r>
            <a:br>
              <a:rPr sz="20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e wa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n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им послали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 we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ollowe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ами по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41749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ведите предложения, обра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he is often spo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He was loo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ith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y will be tal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house is not l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bed was not sl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 will be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question was not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1640" y="2420640"/>
            <a:ext cx="410364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имание на место предл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ей часто говор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его смотрели с интер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их будут гово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том доме не жив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этой кровати не сп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мной пой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этот вопрос не ответили.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перевода сказуемого в страдательном залог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3598920" cy="56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м глаго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ы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нужном времен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кратким причаст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 личным предложением (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голом в 3-ем лице мн. чи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йствительного зал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ом, оканчивающим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–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ом в действительном залоге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ругие способы перевода невозмож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7280" y="907560"/>
            <a:ext cx="4392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le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s writt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enci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исьм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был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писа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ранда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re ta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 school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b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твез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школу на автобу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u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b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 этой книге мн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оворит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s rung up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by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Я ей позво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684360" cy="633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800280" cy="663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812880" cy="672840"/>
          </a:xfrm>
          <a:prstGeom prst="rect">
            <a:avLst/>
          </a:prstGeom>
          <a:ln w="0">
            <a:noFill/>
          </a:ln>
        </p:spPr>
      </p:pic>
      <p:pic>
        <p:nvPicPr>
          <p:cNvPr id="539" name="pe03859_" descr=""/>
          <p:cNvPicPr/>
          <p:nvPr/>
        </p:nvPicPr>
        <p:blipFill>
          <a:blip r:embed="rId4"/>
          <a:stretch/>
        </p:blipFill>
        <p:spPr>
          <a:xfrm>
            <a:off x="4643280" y="4724280"/>
            <a:ext cx="828720" cy="92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68360" y="333360"/>
            <a:ext cx="806436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особы перевода подлежащего в страдательном залог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8360" y="907920"/>
            <a:ext cx="34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907920"/>
            <a:ext cx="35989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в именительном паде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788000" y="155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исьм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155736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было написано каранда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67640" y="907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7672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852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твезли в школу на автобу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2133720"/>
            <a:ext cx="43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 being explain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mm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j0079052" descr=""/>
          <p:cNvPicPr/>
          <p:nvPr/>
        </p:nvPicPr>
        <p:blipFill>
          <a:blip r:embed="rId5"/>
          <a:stretch/>
        </p:blipFill>
        <p:spPr>
          <a:xfrm>
            <a:off x="4716360" y="2133720"/>
            <a:ext cx="792360" cy="744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07672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35640" y="28526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бъясняют новую граммат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76720" y="4076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35640" y="40766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этой книге много говор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2060640"/>
            <a:ext cx="359892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в винительном или дательном пад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3573360"/>
            <a:ext cx="35989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с предл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6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5:53:47Z</dcterms:created>
  <dc:creator>И.А. Шварова</dc:creator>
  <dc:description/>
  <dc:language>en-US</dc:language>
  <cp:lastModifiedBy>И.А. Шварова</cp:lastModifiedBy>
  <dcterms:modified xsi:type="dcterms:W3CDTF">2010-07-21T06:00:41Z</dcterms:modified>
  <cp:revision>1</cp:revision>
  <dc:subject/>
  <dc:title>СТРАДАТЕЛЬНЫЙ ЗАЛОГ</dc:title>
</cp:coreProperties>
</file>