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3D1-3BEE-4890-B284-48451464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83A-CA62-44A7-BCFC-8192E777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8F5-E3B0-4BA9-90BB-4EB8A266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070-B809-43AD-B908-78F5CE2D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AEDF-363F-45FB-B8F9-40F945B6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3B90-13C3-48F8-9566-08EC2301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2A04-2E7C-4A2B-817D-74D763AE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6437-E5AF-44AF-985B-E23708FB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BA98-632F-4F58-8BAF-C73A0B71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B48A-AD14-47C0-8145-8EFC9DE0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477B-E726-41FB-A87F-DC552C9B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253-B34F-4240-BAAD-A1480F32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62EE-A3C0-4B87-88D4-B98BFB9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B8B5-016A-4CAC-901C-B0CB93CC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D945-928D-49FC-BCFE-E399D924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19F8-0344-4BFA-88F5-8CDDA110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55B2-44F8-4DF2-AD66-F0EF9596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311FC-D60E-403A-B000-CBC4EBED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C1E6B-6FA9-47E7-BE1A-A64277E6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68792-56ED-47EF-8682-718DCA8A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31AF8-0CA2-461E-8E55-3C730352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31FD9-78D6-4849-8CCB-5FACF3F9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2FA-6F9F-465C-95B8-F88A3DC6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4AE3D-D58F-4111-84EF-D0CAA379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F78E8-C3EF-421F-8BFE-B4D17FAD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E64C1-E2BE-4758-BB9D-4AF932D6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60E58-51E7-4C8C-920E-335D0D7B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CAA96-FF60-40F7-ACA2-914B8403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8D5E1-5652-46E1-8858-1E711E9C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0A044-AD4E-4EBD-BBD1-F17307C3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C74B0-C08B-486B-8A61-D5C6C52F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DEC55-8C38-4B91-B3E7-9218D687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D0E6-AB2D-41F6-978E-BD86BD3C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C59-3CC3-4390-A437-32D64013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06D9-29A0-4F71-9030-BCDEBC2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C52F-6A6F-43BE-9A2B-165FBFCD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842F-CD1F-4F16-813C-75B1F383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6C137-8129-48BC-AEEB-CA0F23C6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67C6-D26F-40D4-8521-141F7460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46CA3-BC52-423B-9679-D5597B7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817F5-E871-4384-95BB-3A85ED20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0AC9B-EF89-4442-8C69-3758F94A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19FD-5D54-4D7D-80D0-1525DDB0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8D0E2-CF89-45D5-9480-33243139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F01-FC3E-4248-B436-7B7D83FB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C4E12-A03D-4A2D-BA3F-D06F8A33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A6975-E157-4E6F-B55A-D5D2E6D7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AAB21-34A1-4565-BB42-96412E61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83C439-BFED-484E-91AD-87C29B36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DB8B5-3F36-400E-8AE9-ED1F1552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B181E-E8C7-44E1-BEE1-2CF48DEA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17361-EA62-4421-BCB6-08F60C33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C2BC4-7875-4BDB-A2CE-D84A7AC1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2F25F-59BC-450B-9A2B-D4E9E05E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739B7-F55A-427C-B09A-A0EEE4AA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834-D95E-45F2-B427-4203BD38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4A35A-D59A-479B-8AA8-A8102757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349DE-86A1-4A0E-A744-ADA303C2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F3B52-99F3-4C31-BE31-629F98EC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ECADC-10D0-46CF-9823-1CD13A4E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8953B-AED1-427C-B9D7-6527E46B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FD0E8-BB19-4E86-955B-6A516A47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E1CCA-9E5A-4983-A325-B21A843A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83E03-6B27-45D3-9436-0175CDAD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BE9E5-AA1D-413D-BB10-F4EFBC35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D5224-0DEA-423C-85BD-2DF82539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6EA-31E4-46E6-85B4-F097E62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38351-4727-4071-9423-64941B29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8D473-AF48-478B-B2B1-3273E547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D62F5-7119-4EFA-A65A-3327800E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DB311D-564B-43B6-9F25-42AD04A1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35EC8-11AE-4500-AD0E-4231F3B0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90CFD-EA63-4781-8ACC-0199D486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0FD49-CED6-48FC-BF6B-BCE9A7B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1E872-89AE-40BE-9A11-2F7060B1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CA690-9C93-45B2-8386-8DFB359A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CF72E0-A221-414D-8110-D32B8D0A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37A-AE54-41C4-816D-705375A6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82FE3-8F77-47B1-A55B-032064B3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5F777-C500-4C3C-81A4-A7C4ED47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2B50F5-6045-4AC2-96A6-97DED2C0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0DAC2-7D7A-4118-94A9-6DEEABA2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DF17ED-8B85-4EE9-99FD-34EA953A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C98-7C38-432A-8A36-5698E53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E2CF-8500-473A-8528-7D5038A62ED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3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8E8F-710A-428A-8206-14638D714B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D206-0AE5-43FE-87A4-C5DE2FBA91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3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4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B1E6-8C83-4220-BE6A-B969954F118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E6B4-3C9B-497B-9D61-E58EFA4FDD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3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5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4C53-47E2-4150-AD12-FD532F59B92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4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7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488C-89E2-4C77-B5F2-02DF3B4E030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8000" y="907920"/>
            <a:ext cx="6912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Опытно – экспериментальная работа на тему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«Формирование структуры фразы связной речи у детей с общим недоразвитием речи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полнила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Громова Наталья Анатольевн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Учитель - дефектолог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2021г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ЦЕНКА СФОРМИРОВАННОСТИ РАЗЛИЧНЫХ ТИПОВ СВЯЗНЫХ ВЫСКАЗЫВАНИ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Диаграмма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9800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ЛНОТА ОБЪЕМА РАЗЛИЧНЫХ ТИПОВ ВЫСКАЗЫВАНИЯ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Диаграмма 1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102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ТОГОВЫЙ СРАВНИТЕЛЬНЫЙ АНАЛИЗ СФОРМИРОВАННОСТИ СМЫСЛОВОГО ПРОГРАММИРОВАНИЯ И ЯЗЫКОВОГО ОФОРМЛЕНИЯ ПО ВСЕМ ВИДАМ ЗАДАНИ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Диаграмма 1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7928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ЗМЕНЕНИЕ ПОКАЗАТЕЛЕЙ СФОРМИРОВАННОСТИ СЕМАНТИЧЕСКОГО ПРОГРАММИРОВАНИЯ И ЯЗЫКОВОГО ОФОРМЛЕНИЯ ВЫСКАЗЫВАНИЙ ПРИ ПРИМЕНЕНИИ  НАГЛЯДНОГО  МОДЕЛИРОВАНИЯ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Диаграмма 1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193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Прямоугольник 3"/>
          <p:cNvSpPr/>
          <p:nvPr/>
        </p:nvSpPr>
        <p:spPr>
          <a:xfrm>
            <a:off x="684360" y="185904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Результаты подтверждают эффективность применения наглядного моделирования в ходе коррекционно-логопедической работы при формировании структуры фразы и текста у  школьников с ОН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Использование данного метода влияет на успешность составления связных речевых высказываний и помогает существенно снизить количество смысловых и языковых недоста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ПАСИБО ЗА ВНИМАНИЕ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АКТУАЛЬНОСТЬ ПРОБЛ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9640" y="22050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обходимость совершенствования традиционных приемов и методов, а также поиска более новых, более эффективных научно-обоснованных путей формирования структуры фразы и текста у детей с общим недоразвитием реч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ЦЕЛЬ, ОБЪЕКТ, ПРЕДМЕТ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изучение особенностей фразы и текста у детей с школьного возраста с общим недоразвитием реч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дети школьного возраста с общим недоразвитием речи третьего уров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едм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состояние фразовой речи и пути ее развития  у детей школьного возраста с общим недоразвитием реч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ДАЧИ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психолого-педагогическую литературу по теме исследов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обрать диагностические методы по исследованию особенностей структуры фразы и текс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ормировать экспериментальную и сопоставительную группы для проведения исследов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сти экспериментального исследования  и анализ его результат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ать содержания коррекционной ра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МЕТОДЫ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литературы, эксперимент, количественный и качественный анализ результатов экспериментального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КОНСТАТИРУЮЩИЙ ЭКСПЕРИМЕНТ ПО ИЗУЧЕНИЮ СТРУКТУРЫ ФРАЗЫ И СОСТОЯНИЯ СВЯЗНОЙ РЕЧИ У ДЕТЕЙ ШКОЛЬНОГО ВОЗРАСТА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принимали участие 20 детей в возрасте 6-7 лет: из них 10 дошкольников с нарушением речи, которые составили экспериментальную группу и 10 детей с нормальным речевым развитием, которые вошли в состав сопоставительной группы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рвый этап: формирование экспериментальной и сопоставительной групп с учетом уровня сформированности устной речи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торой этап: исследование состояния связного речевого высказывания у детей экспериментальной и сопоставительной группы. Исследование проводилось индивидуально с каждым ребенк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етий этап: сравнительный количественный и качественный анализ полученных данных, позволяющий выявить общие закономерности состояния связного речевого высказывания у детей, имеющих проблемы в речевом развитии, и у детей с нормальным речевым развитие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МЕТОДИКА ЭКСПЕРИМЕН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ка констатирующего эксперимента была разработана в соответствии с современными психолингвистическими представлениями. При ее разработке использовались в модифицированном варианте методы, описанные в работах В.К.Воробьевой, В.П.Глухова, Р.И.Лалаев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НСТАТИРУЮЩИЙ ЭКСПЕРИМЕНТ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структуры фразы и исследование уровня сформированности связного речевого высказывания у школьников проводились с использование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сказ текс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ения рассказа по серии сюжетных картин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ения рассказа по сюжетной карти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ения описательного рассказа о предме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НСТАТИРУЮЩИЙ ЭКСПЕРИМЕНТ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ценка результатов выполнения эксперимента проводилась по следующим критериям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ровни семантической оценки текст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ровни языкового оформления текст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ценка способности производить анализ неречевой ситуации (для задания на составление рассказа по серии сюжетных картин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нализ данных констатирующего эксперимента позволил выявить сформированность фразовой речи у детей экспериментальной и сопоставительной группы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03:37Z</dcterms:created>
  <dc:creator>1</dc:creator>
  <dc:description/>
  <dc:language>en-US</dc:language>
  <cp:lastModifiedBy>natasha</cp:lastModifiedBy>
  <dcterms:modified xsi:type="dcterms:W3CDTF">2024-02-18T14:54:38Z</dcterms:modified>
  <cp:revision>39</cp:revision>
  <dc:subject/>
  <dc:title>Дипломная работа на тему:</dc:title>
</cp:coreProperties>
</file>