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8CD-E483-43D9-9BB1-9D56F59F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6375-D9D5-4C4C-9CD2-4F4A39B6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54D-66C1-400C-94CD-78A91500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22D5-E18A-44D2-B381-3F822E8E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4049-2161-458A-8A5D-4166088D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9892-F451-4BDF-9909-1450FF1A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EC2C-71CF-4345-8540-60211644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9C17-575D-406A-932A-F3BF2F4B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F75A-15AD-4E6C-ACA0-3F7CF189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485A-D20B-4016-A694-F11FB362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CDC0-5E5F-452A-B068-AA66BD6A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A0FA-1711-4245-82A1-9189C425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45DF-524E-4311-8118-EE62C4D9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2368-7E95-4A98-9547-62BAAAB1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79E2-B67F-4061-9450-915CA511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C447-BBB5-4554-8B4B-E6995736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5AD6-9794-42FE-B1A4-E47A5D44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46522-864A-4678-BB6C-2C821AC5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27A62-E349-422F-A58A-6F66293E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94757-FBB9-48A2-8E5A-83D4F9E9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7109B-5FD4-4D24-8B5D-D4837437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C1F46-58F6-43E7-9C59-1ACF3177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1AC4-C8EC-4B31-ACA3-3D845F06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8D808-7250-4AF2-A1E9-CEF32B0D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7803A-0F4E-48C2-882C-F5DC6A54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5A85C-DA8B-46A7-9C17-4207CDDC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3CDAA-8779-49CD-8022-3F521EEA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BE73B-5FFB-4C50-9B47-D2A4249C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A512B-12F2-4C01-A2F4-C884E991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5386C-E286-4090-AE18-2295DDE1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5A38F-455B-4D03-B0D3-A9B57F41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56542-B46D-436F-8780-994B014D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3D6CD-679C-4F73-8F5D-BFA92FD7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712-889D-4C8D-8AB9-64E9D005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B91A5-91C5-4B2E-A0B5-9F2F67F6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00857-7089-45D4-BDD3-F3E5A4CD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B707D-2A9C-4DBA-8ACB-AA5CAFB0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BBAE5-A7FC-4491-989D-D0053B8D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13795-CC02-40FB-82C1-11B5EA5F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2B354-6C52-4CE9-ABF7-D0E3197B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C59ED-3BB4-4191-9C72-2314F26E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A45A9-21EE-4A4E-B764-1F1AD948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8248F-4338-4B30-9DCF-16B5CB01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8EEBD-D55D-423D-95F3-A016631C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D04-B773-4BCF-B1E8-E17BFE48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13C0ED-66DD-4389-AD21-17E11762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1C5D5-2956-41AA-BBE8-D3978AD6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285BAE-10D5-4294-B778-967818CC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1FD29B-3C5E-42B1-BA61-CDD58BF1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A6E30A-215E-449B-AC35-F6EECC9A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5D5FB9-D573-4018-A30C-A6ED7872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7B348-2BF8-4E41-A55F-8C6CD4CB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A2533-1B2D-41B8-904C-9CA8FF71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64B25A-786D-4152-9619-207E0B10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ED5054-78B3-4305-ADCC-A19E8314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9D4D-BE8F-4C9C-91F9-62FEE340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A6D8E-FE3F-4AB0-B317-3533E5EC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4594A7-2CCD-4286-93B7-9D9AFC3B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3BB15D-BF65-42A8-B22C-8F7C837E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8CDBF-A42F-4B4E-B9E4-4B374BCC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2DCAE1-3993-4B1E-B038-595E5957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4582D2-5821-4B01-9515-642638DF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3DF394-B0F0-4F4E-AC08-0903560C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5B2B8B-C012-4AA0-AB26-E63A7292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EC8E8-83F3-44DF-9623-2B86476A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D807A0-4C1E-4457-98CC-20C1FDF3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B77-1322-416D-8D4E-49B8D72B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15EB62-65A2-4E1C-A6D7-50C0EE7D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9D4A5D-0ECE-4159-A95E-E5F09142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8610D0-0A67-4473-A8DF-DF84463B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1E91B4-F8B3-425F-B7CF-FE87ED6F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712A2D-173D-46D2-AD9C-A7F20B32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5F377B-5FB9-4596-8788-4093B7C3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AADC18-6F7B-4B72-A0EC-50B36E6C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BF6427-23F0-4E85-BB61-C0DD92F1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A769BC-3593-4715-8F33-E4B407B9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0C1BA2-ECD3-4736-9407-6AA253C0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448F-34BB-4FB7-985B-3312329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CA999C-74F5-4A96-B6CD-63E69422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0DF8BA-2B15-42EF-A23A-A2FB6E97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5EA24-AFF9-4FAA-990B-8EA99D4B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CBAB07-E637-48AA-911F-1FF8C1AB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918EB1-EEA9-4B53-B8CA-D1224098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FDD5-B5AD-4ACB-8E7D-1081C616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2DC7-D360-495D-A153-46FF10A2239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3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8F25-A218-4D80-8AA1-34B765FE6DD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03FF-7479-4B89-A727-1C98837B4B8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2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3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4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C899-AE03-4845-8B44-872D49BFCBC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E64E-290E-4CBE-B9C7-5952DDF0F02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3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4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5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71F1-10EA-4A84-A5ED-AFD61117DC6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4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7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4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F3AC-9DAA-45AC-92F4-424DAF85308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908000" y="907920"/>
            <a:ext cx="6912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Опытно – экспериментальная работа на тему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«Формирование структуры фразы связной речи у детей с общим недоразвитием речи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ыполнила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Громова Наталья Анатольевн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Учитель - дефектолог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2021г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ЦЕНКА СФОРМИРОВАННОСТИ РАЗЛИЧНЫХ ТИПОВ СВЯЗНЫХ ВЫСКАЗЫВАНИ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Диаграмма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9800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ОЛНОТА ОБЪЕМА РАЗЛИЧНЫХ ТИПОВ ВЫСКАЗЫВАНИЯ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Диаграмма 1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1023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ТОГОВЫЙ СРАВНИТЕЛЬНЫЙ АНАЛИЗ СФОРМИРОВАННОСТИ СМЫСЛОВОГО ПРОГРАММИРОВАНИЯ И ЯЗЫКОВОГО ОФОРМЛЕНИЯ ПО ВСЕМ ВИДАМ ЗАДАНИЙ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Диаграмма 1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79284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ЗМЕНЕНИЕ ПОКАЗАТЕЛЕЙ СФОРМИРОВАННОСТИ СЕМАНТИЧЕСКОГО ПРОГРАММИРОВАНИЯ И ЯЗЫКОВОГО ОФОРМЛЕНИЯ ВЫСКАЗЫВАНИЙ ПРИ ПРИМЕНЕНИИ  НАГЛЯДНОГО  МОДЕЛИРОВАНИЯ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Диаграмма 1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193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ЗАКЛЮЧ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Прямоугольник 3"/>
          <p:cNvSpPr/>
          <p:nvPr/>
        </p:nvSpPr>
        <p:spPr>
          <a:xfrm>
            <a:off x="684360" y="1859040"/>
            <a:ext cx="72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Результаты подтверждают эффективность применения наглядного моделирования в ходе коррекционно-логопедической работы при формировании структуры фразы и текста у  школьников с ОН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Использование данного метода влияет на успешность составления связных речевых высказываний и помогает существенно снизить количество смысловых и языковых недоста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ПАСИБО ЗА ВНИМАНИЕ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АКТУАЛЬНОСТЬ ПРОБЛЕ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39640" y="22050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обходимость совершенствования традиционных приемов и методов, а также поиска более новых, более эффективных научно-обоснованных путей формирования структуры фразы и текста у детей с общим недоразвитием реч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ЦЕЛЬ, ОБЪЕКТ, ПРЕДМЕТ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изучение особенностей фразы и текста у детей с школьного возраста с общим недоразвитием реч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дети школьного возраста с общим недоразвитием речи третьего уров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едме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состояние фразовой речи и пути ее развития  у детей школьного возраста с общим недоразвитием реч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ЗАДАЧИ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ить психолого-педагогическую литературу по теме исследова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обрать диагностические методы по исследованию особенностей структуры фразы и текс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формировать экспериментальную и сопоставительную группы для проведения исследова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сти экспериментального исследования  и анализ его результат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работать содержания коррекционной рабо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МЕТОДЫ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 литературы, эксперимент, количественный и качественный анализ результатов экспериментального исслед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КОНСТАТИРУЮЩИЙ ЭКСПЕРИМЕНТ ПО ИЗУЧЕНИЮ СТРУКТУРЫ ФРАЗЫ И СОСТОЯНИЯ СВЯЗНОЙ РЕЧИ У ДЕТЕЙ ШКОЛЬНОГО ВОЗРАСТА 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принимали участие 20 детей в возрасте 6-7 лет: из них 10 дошкольников с нарушением речи, которые составили экспериментальную группу и 10 детей с нормальным речевым развитием, которые вошли в состав сопоставительной группы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ервый этап: формирование экспериментальной и сопоставительной групп с учетом уровня сформированности устной речи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торой этап: исследование состояния связного речевого высказывания у детей экспериментальной и сопоставительной группы. Исследование проводилось индивидуально с каждым ребенко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ретий этап: сравнительный количественный и качественный анализ полученных данных, позволяющий выявить общие закономерности состояния связного речевого высказывания у детей, имеющих проблемы в речевом развитии, и у детей с нормальным речевым развитие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МЕТОДИКА ЭКСПЕРИМЕН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ика констатирующего эксперимента была разработана в соответствии с современными психолингвистическими представлениями. При ее разработке использовались в модифицированном варианте методы, описанные в работах В.К.Воробьевой, В.П.Глухова, Р.И.Лалаев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ОНСТАТИРУЮЩИЙ ЭКСПЕРИМЕНТ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ение структуры фразы и исследование уровня сформированности связного речевого высказывания у школьников проводились с использование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сказ текс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авления рассказа по серии сюжетных картин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авления рассказа по сюжетной карти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авления описательного рассказа о предме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ОНСТАТИРУЮЩИЙ ЭКСПЕРИМЕНТ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ценка результатов выполнения эксперимента проводилась по следующим критериям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ровни семантической оценки текст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ровни языкового оформления текст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ценка способности производить анализ неречевой ситуации (для задания на составление рассказа по серии сюжетных картин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нализ данных констатирующего эксперимента позволил выявить сформированность фразовой речи у детей экспериментальной и сопоставительной группы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5:03:37Z</dcterms:created>
  <dc:creator>1</dc:creator>
  <dc:description/>
  <dc:language>en-US</dc:language>
  <cp:lastModifiedBy>natasha</cp:lastModifiedBy>
  <dcterms:modified xsi:type="dcterms:W3CDTF">2024-02-18T14:54:38Z</dcterms:modified>
  <cp:revision>39</cp:revision>
  <dc:subject/>
  <dc:title>Дипломная работа на тему:</dc:title>
</cp:coreProperties>
</file>