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792-CB52-4748-A99C-C941769F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C3C-D6D8-4867-A5C1-74A0C7CC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8AC-C424-43AF-9976-9CFB1995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208-C132-43E2-B357-65A8BC5F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DE0D-011F-47E5-A2AC-A050E32A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3D3A-695D-47F7-BDB7-075970CE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0DE6-1111-49B1-ADA2-7D5A5CA8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57A5-ADF5-487D-863B-274DCC3C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B2A4-2FE7-46BB-AB2D-82E4F058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49F9-3FA0-498E-B2E4-13A1C659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8BBE-71B6-4A24-8752-2CEE26B3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0AD-995F-4661-B5EB-0318AF69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01B3-754E-4352-929F-7E8D0044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67AF-4212-4B78-BA81-D1F901E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F835-177E-4136-BC01-B128C22A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5FEA-7DCF-4278-8867-6C119162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B122-49AA-462A-B13B-0D1EA91F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21D04-733B-428E-82D3-E1261B4B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DB5DE-E864-49B1-B0D1-6B20ECE2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75C37-E466-460C-9974-0A243ACB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D6B02-FD06-40F4-94AB-4F5BD2F3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DF58B-F7D9-4636-905B-3654E2C9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8A6-4DAA-40B2-9969-8EB3E024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86FBC-3063-4C8A-9A48-A6A9DFDF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FF1DF-04C1-42DA-AD46-09B25C12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C1C93-5F59-4B11-9CE2-43A426F0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9B202-3E28-4492-8F0D-00E12EEB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7BDCF-76E9-4D9C-A02D-33D7AB2D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C2715-E085-4D22-9FF2-C6608287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80C76-83AF-4DA0-A218-373B7CB2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0C691-DFC4-4C0F-BB1A-9DE09DD8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2587-AC45-474A-BC38-740B8F29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0F515-1438-45CB-8F01-BBC8B3A0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516-5AFD-469D-841F-EDA12315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D8D3-222E-4EFE-AD9A-F1674391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AC2C-D2CA-4D4B-91EB-1184E4E6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D02EB-8EA6-4F38-90D1-EF0B77FB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068E4-A3F5-446A-9C87-92FBA75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0EEEC-0B1F-41EF-B1D8-8C2CB9CA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13D56-D17E-4AB1-A11F-65BBEFCC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1BE2C-35DA-4386-AE08-5019A898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0746-DBB8-4189-9583-9076848B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E6B2F-337E-4682-BD3E-B799285D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C1D56-9F84-4D2E-BE5D-DBBABF66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D58-CF2B-412F-A2DB-3A04177C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B936E-E521-4874-810A-50885FA3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EE337-0F27-4343-98D5-12965749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2B35C-C78C-48A0-83E5-8DA88B29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D0C15-5F57-4630-82CB-B9AE95B2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75E01-7863-487C-91AD-4D42C258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E5BBC-0DDB-44DB-AAF9-BA1DA216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45827-30F9-43F0-A25A-F21762D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A6AEC-1781-4764-B613-B364AD72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74237-9849-4DC3-B75E-A6E61E41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749F2-6541-4394-80B4-25A504CE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D1B-85FA-4142-B7E1-2E9953AD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0953D-C205-4AF1-AAFC-4A942953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17B5D-4937-4F43-93B5-06FAFC19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3BC51-4331-474D-BA95-7447DE80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5635A-AC12-48C3-9E5B-31258C40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226B2-7B0C-4DC1-9B06-971FEBD5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E746B-A6CA-431D-9258-4C001611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0F6F9-86B1-401F-9598-20F22CD9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C102E-04B7-40FD-A4A9-DF25D7A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ECA75-A6A8-4AEE-9D52-E76B836B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6E05F-B99F-4B0B-85F0-B7852177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069-73DA-4B04-BFB0-E3326F6E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C35BD-E4C3-4F7F-95E5-F3E4B68E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7424D-DF92-425D-B4A0-24AB604C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9E3AC-763E-498F-9813-3E8D4196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1834E-6E49-48D3-A085-E5F0E200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FCEA6C-8B43-49D5-A0A6-E66ACF39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3FA15-1040-4869-A447-441078A2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1B88A-50E1-4B77-8264-732414DB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6DB4C-677F-455A-A944-140424DB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5149D-60BB-4B4F-AB60-108C27CF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28DD1-95AB-4490-90C3-AF47B8BA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36C-BA79-4117-AE01-284B600C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08A8C-A12D-4350-A141-68B7BE4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84FF6-A284-45B1-93F2-93F2100B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73C70-8F56-411C-B41B-86FFA7CB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95994-1653-4D32-B337-10C1ED21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91EB3-E1BC-4205-A9EC-BAFC2296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EEF-AF9D-4A75-9713-69FB017A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EEED-2D3C-4933-9D16-72FC3DC0AF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3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8DE2-A1F4-4DEA-807D-FBEF88956D8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20A0-78F1-43D3-BA79-7CD2D5F0CE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3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4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F9B7-CB78-4A91-B3F9-8CFCDE539FF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1DDE-AE31-42FC-A3DA-3455F82707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CE5C-3C1D-48E8-A08C-69DF3F5B907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4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7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FCB9-C91B-4735-8D2B-8F0807A0A68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8000" y="907920"/>
            <a:ext cx="6912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Опытно – экспериментальная работа на тему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«Формирование структуры фразы связной речи у детей с общим недоразвитием речи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полнила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ромова Наталья Анатольевн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Учитель - дефектолог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2021г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ЦЕНКА СФОРМИРОВАННОСТИ РАЗЛИЧНЫХ ТИПОВ СВЯЗНЫХ ВЫСКАЗЫВАНИ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Диаграмма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9800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ЛНОТА ОБЪЕМА РАЗЛИЧНЫХ ТИПОВ ВЫСКАЗЫВАНИЯ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Диаграмма 1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102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ТОГОВЫЙ СРАВНИТЕЛЬНЫЙ АНАЛИЗ СФОРМИРОВАННОСТИ СМЫСЛОВОГО ПРОГРАММИРОВАНИЯ И ЯЗЫКОВОГО ОФОРМЛЕНИЯ ПО ВСЕМ ВИДАМ ЗАДАНИ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Диаграмма 1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7928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ЗМЕНЕНИЕ ПОКАЗАТЕЛЕЙ СФОРМИРОВАННОСТИ СЕМАНТИЧЕСКОГО ПРОГРАММИРОВАНИЯ И ЯЗЫКОВОГО ОФОРМЛЕНИЯ ВЫСКАЗЫВАНИЙ ПРИ ПРИМЕНЕНИИ  НАГЛЯДНОГО  МОДЕЛИРОВАНИЯ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Диаграмма 1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193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Прямоугольник 3"/>
          <p:cNvSpPr/>
          <p:nvPr/>
        </p:nvSpPr>
        <p:spPr>
          <a:xfrm>
            <a:off x="684360" y="185904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Результаты подтверждают эффективность применения наглядного моделирования в ходе коррекционно-логопедической работы при формировании структуры фразы и текста у  школьников с ОН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Использование данного метода влияет на успешность составления связных речевых высказываний и помогает существенно снизить количество смысловых и языковых недост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ПАСИБО ЗА ВНИМАНИЕ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АКТУАЛЬНОСТЬ ПРОБЛ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9640" y="22050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обходимость совершенствования традиционных приемов и методов, а также поиска более новых, более эффективных научно-обоснованных путей формирования структуры фразы и текста у детей с общим недоразвитием реч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ЦЕЛЬ, ОБЪЕКТ, ПРЕДМЕТ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изучение особенностей фразы и текста у детей с школьного возраста с общим недоразвитием реч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дети школьного возраста с общим недоразвитием речи третьего уров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едм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состояние фразовой речи и пути ее развития  у детей школьного возраста с общим недоразвитием реч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ДАЧИ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психолого-педагогическую литературу по теме исследов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обрать диагностические методы по исследованию особенностей структуры фразы и текс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ировать экспериментальную и сопоставительную группы для проведения исследов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сти экспериментального исследования  и анализ его результат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ать содержания коррекционной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МЕТОДЫ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литературы, эксперимент, количественный и качественный анализ результатов экспериментального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КОНСТАТИРУЮЩИЙ ЭКСПЕРИМЕНТ ПО ИЗУЧЕНИЮ СТРУКТУРЫ ФРАЗЫ И СОСТОЯНИЯ СВЯЗНОЙ РЕЧИ У ДЕТЕЙ ШКОЛЬНОГО ВОЗРАСТА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принимали участие 20 детей в возрасте 6-7 лет: из них 10 дошкольников с нарушением речи, которые составили экспериментальную группу и 10 детей с нормальным речевым развитием, которые вошли в состав сопоставительной группы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рвый этап: формирование экспериментальной и сопоставительной групп с учетом уровня сформированности устной речи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торой этап: исследование состояния связного речевого высказывания у детей экспериментальной и сопоставительной группы. Исследование проводилось индивидуально с каждым ребенк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етий этап: сравнительный количественный и качественный анализ полученных данных, позволяющий выявить общие закономерности состояния связного речевого высказывания у детей, имеющих проблемы в речевом развитии, и у детей с нормальным речевым развитие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МЕТОДИКА ЭКСПЕРИМЕН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ка констатирующего эксперимента была разработана в соответствии с современными психолингвистическими представлениями. При ее разработке использовались в модифицированном варианте методы, описанные в работах В.К.Воробьевой, В.П.Глухова, Р.И.Лалае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НСТАТИРУЮЩИЙ ЭКСПЕРИМЕНТ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структуры фразы и исследование уровня сформированности связного речевого высказывания у школьников проводились с использование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сказ текс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ения рассказа по серии сюжетных картин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ения рассказа по сюжетной карти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ения описательного рассказа о предме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НСТАТИРУЮЩИЙ ЭКСПЕРИМЕНТ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ценка результатов выполнения эксперимента проводилась по следующим критериям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ровни семантической оценки текст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ровни языкового оформления текст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ценка способности производить анализ неречевой ситуации (для задания на составление рассказа по серии сюжетных картин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нализ данных констатирующего эксперимента позволил выявить сформированность фразовой речи у детей экспериментальной и сопоставительной группы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03:37Z</dcterms:created>
  <dc:creator>1</dc:creator>
  <dc:description/>
  <dc:language>en-US</dc:language>
  <cp:lastModifiedBy>natasha</cp:lastModifiedBy>
  <dcterms:modified xsi:type="dcterms:W3CDTF">2024-02-18T14:54:38Z</dcterms:modified>
  <cp:revision>39</cp:revision>
  <dc:subject/>
  <dc:title>Дипломная работа на тему:</dc:title>
</cp:coreProperties>
</file>