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018-B288-4833-B773-DB5B9D2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67A-E726-44C2-9331-4EF5FB0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043-CFD6-4774-ADA1-9A8E8D37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EC5-9813-43A1-94BC-1F3E29BF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D06A-846A-4C9A-801D-58932A05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C7E71-DCB6-4756-BFCA-6850DF5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196F-4271-4715-BC95-F49B5DD7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3C6E-887E-4EC7-880A-59EB601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D2031-CFFC-4EB5-8B71-6DA5DB62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FA7E0-C2A9-4435-91AA-1B3F83B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18B71-A4CE-4C03-BD9B-B596FBC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799-673B-4FE1-93BA-3135136F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97E9-B099-4BE5-8CE4-C8B378B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8AC2-986F-4C5C-84FD-8037AB3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AF06-D249-4706-9AD6-EBA5B78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657CB-0279-4A8B-BD87-2E79AF79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7E36F-1FFC-405B-A692-E4E49DC2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982-8F50-462F-9ADC-609CD6F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295-9B7D-4B92-925D-F0FEF7B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673-E752-4061-8B91-ECDD0C64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0D3-CF1D-4BD3-8FE3-2C396E9B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A99-9470-4F50-97A2-A90F6FC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DAB-02EB-4642-A6C5-8419F8D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E09-3BD6-4DE9-8B30-F783880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8A9-A83C-44A9-994F-AFE902874C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DC4-E917-4DE3-A32D-D4E55CAB7C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келанджело Буонарро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1475-156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047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762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146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62280" y="95400"/>
            <a:ext cx="5419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66880" y="1390680"/>
            <a:ext cx="561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15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115920"/>
            <a:ext cx="70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ашный Су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оизведение было заказано папой незадолго до кон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е впечатление, которое мы получаем, сто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Страшным Судом, это ощущ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перед нами поистине космическое событ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ентре него мощная фигура Хр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680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был  назначен главным архитектором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го Петра. Убедившись в таком доверии к нему и ве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го со стороны папы, Микеланджело, дабы показ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рую волю, пожелал, чтобы в указе было объявле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он служит на строительстве из любви к Бог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з какого-либо вознагра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 полнейшем сознании составил завещ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ее из трех слов: душу свою отдавал в руки Госп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земле, а имущество ближайшим родственник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февраля 1563 года, по флорентийскому исчис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то по римскому было бы в 1564 году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ушел и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889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5120" y="0"/>
            <a:ext cx="7954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знали и все видели, что все три искус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игли в нем та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ершенства, какого не найдешь ни у древни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 у новых людей за многие и многие 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ображением он обладал таким и столь совершенным и ве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вшиеся ему в идее, были таковы, что руками осущест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ыслы столь великие и потрясающие было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асто он бросал свои творения, более того, многие уничто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, известно, что незадолго до смерти он сжег больш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в, набросков и картонов, созданных собственноруч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никто не смог увидеть трудов, им преодолевавшихся, и 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способами он испытывал свой гений, дабы являть его не ина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соверш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усть никому не покажется странным, что Микеландже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ил одиночество, как человек, влюбленный в свое искус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е требует, чтобы человек был предан ему целиком и т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нем и размышлял; и необходимо, чтобы тот, кто хочет им заним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бегал общества, ибо тот, кто предается размышлениям об искус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оким и без мыслей никогда не остается, те же, кто припи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в нем чудачествам и странностям, заблуждаются, ибо, 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лательно работать хорошо, тому надлежит удалить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х забот, так как талант требует размышлений, уединении и пок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не мысленных блуж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38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ь и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Буонарроти продолжались почти целое столетие с 1475 по 1564 год. Микеланджело родился 6 марта 1475 в Капрезе, в Тоскане. Он был сыном мелкого чиновн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назвал его Микеланджело: он хотел этим показать, что существо это было небесным и божественным в большей степени, чем это бывает у смертных, как это 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твердилось позднее. Детство его прошло частью во Флоренции, частью в сельской местности, в родовой усадьбе. Мать мальчика умерла, когда ему было шесть лет. В 1488 году отец отдал тринадцатилетнег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учиться мастерскую Доменико Гирландайо, который в то время почитался одним из лучших мастеров  по всей Италии. Мастерство и личность Микеланджело очень вырос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коре Лоренцо Медичи, прозванный Великолеп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вал его к себе во дворец и открыл ему доступ в свои сады, где находилась богатая коллекция произведений античных мастеров. Мальчик практически самостоятельно овладел необходимыми техническими навыками ремес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ора. Он лепил из глины и рисовал с произведений предшественников Рассказывают, что Торриджано, сдружившийся с ним, но побуждаемый завистью за то, что, как он видел, его и ценили выше и стоил он больше него в искусстве, как бы шутя с такой силой ударил его кулаком по носу, что навсегда его отметил сломанным и безобразно раздавленным носом; за это Торриджано был из Флоренции изгнан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4640"/>
            <a:ext cx="187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смерти Лоренцо Великолепного в 1492 году, Микеланджело возврати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цовский дом. Для церкви Санто Спирито в городе Флоренции он сдел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ое распятие, поставленное и до сих пор стоящее над полукруж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го алтаря.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494 году французский король Карл VIII вынудил Медичи, покров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а, оставить Флоренцию, Микеланджело бежал в Венец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атем в Болонью. Микеланджело понимал, что напрасно теряет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 возвратился во Флоренцию, где для Лоренцо, сына Пьерфранче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и Медичи, высек из мрамора св. Иоанна с ребенком и тут же из друг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ка мрамора спящего Купидона натуральной велич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2433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0640" y="635040"/>
            <a:ext cx="85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истории этой известность Микеланджело стала так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н тут же был вызван в Рим. Художник столь редкостного да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л достойную о себе память в городе, столь знаменитом, изва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раморную, целиком круглую скульптуру с оплакиванием Хрис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PIETA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ая по ее завершении была помещена в соборе св.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апеллу Девы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то творение Микеланджело вложил столько любви и тр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олько на нем (чего он в других своих работах больше не дела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исал он свое имя вдоль пояса, стягивающего грудь Богомате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2637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635040"/>
            <a:ext cx="907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го августа 1501 года во Флоренции была провозглашена республ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е-кто из друзей его написал ему из Флоренции, чтобы он приезжал т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гатая корпорация торговцев шерстью дала мастеру за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здание скульптуры Давида. Микеланджело порывает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м способом трактовки образа Дав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не изобразил победителя с головой гиганта у ног и крепк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чом в руке, а представил юношу в ситуации, кото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шествует столкновению, возможно, как раз в момен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тот чувствует замешательство своих соплемен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поединком и издали различает Голиафа, насмехающего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 его народом.  Когда статуя была закончена, коми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видных горожан и художников, реш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ить ее на главной площади города, 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аццо Веккио. Это был первый случай со времени анти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есть более чем за тысячу лет, появления монумент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туи обнаженного героя в публичном мест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5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76520" y="1052640"/>
            <a:ext cx="399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7640" y="779400"/>
            <a:ext cx="837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коре папа загорелся еще более грандиозным проек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тройкой собора Святого Пе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508 году мастер возвратился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ожидал еще более ошеломляющий заказ: в память Сик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и Его Святейшества, расписать потолок капеллы, выстро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дворце Сикстом. Работа над потолком капеллы казалась 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и трудно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я в виду малый свой опыт в живописи красками, он пыта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якими путями свалить с себя эту тяжесть. Видя, что Его Святейш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ствует, Микеланджело решил, наконец, за это вз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31 октября 1512 года Микеланджело написал на с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кстинской капеллы более трехсот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5:07Z</dcterms:created>
  <dc:creator>да</dc:creator>
  <dc:description/>
  <dc:language>en-US</dc:language>
  <cp:lastModifiedBy>Дмитрий</cp:lastModifiedBy>
  <dcterms:modified xsi:type="dcterms:W3CDTF">2022-11-11T09:23:44Z</dcterms:modified>
  <cp:revision>2</cp:revision>
  <dc:subject/>
  <dc:title>Микеланджело Буонарроти                  (1475-1564)</dc:title>
</cp:coreProperties>
</file>