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675-EB3E-4D3C-A5AC-33F2D106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6A5-68B9-4499-9001-1F529CA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FC1-5007-4B1E-806B-C0BFE5AA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07C-543C-49A5-BF15-8C6A4EE3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294F3-D16A-402D-A347-35A0B7A9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E82FF-B52E-4B94-B633-D26CBDA5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F788-9AA2-441A-BFE0-BFB0F11B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AC10-8673-4C0F-8875-2C68110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37A1-9B60-49B2-9897-5F2B929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AABDC-8223-47A7-A6BF-F14AEE6C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2F761-A2A5-4F0A-B9EB-6BCBBDD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37B-4055-456E-8C2F-CE143E9E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D8514-D470-4EC5-98A2-3B6744A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771F1-FDFD-404F-933D-5037279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1944F-B493-41BE-A1E0-1BBFA3C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07D6-C41E-436E-AA23-9420505E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C54F-F0EB-491A-9F3D-78C02C36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E24-1AF5-41F2-BCC4-EB0BBE7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E94-ECC5-4691-8F58-FC1D3726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1BE-5794-4057-B2A1-0D79F791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8C9-7FB5-4CB0-B595-566DD5C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E47-3E31-4C3B-8937-72580810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27F-521A-4711-9F10-D815D84D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021-8CDD-4497-95EA-862F8EA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7629-6737-45EB-AB48-F14B26E69C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A7E6-6A7B-48E9-AE27-5E3A6C40B0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келанджело Буонарро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1475-156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047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762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146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62280" y="95400"/>
            <a:ext cx="5419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66880" y="1390680"/>
            <a:ext cx="561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15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23840" y="115920"/>
            <a:ext cx="70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ашный Су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произведение было заказано папой незадолго до конч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е впечатление, которое мы получаем, сто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Страшным Судом, это ощущ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перед нами поистине космическое событ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центре него мощная фигура Хр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4680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был  назначен главным архитектором со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го Петра. Убедившись в таком доверии к нему и ве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го со стороны папы, Микеланджело, дабы показ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рую волю, пожелал, чтобы в указе было объявле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он служит на строительстве из любви к Бог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з какого-либо вознагра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в полнейшем сознании составил завещ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ее из трех слов: душу свою отдавал в руки Госп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земле, а имущество ближайшим родственник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февраля 1563 года, по флорентийскому исчис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то по римскому было бы в 1564 году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ушел из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889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6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35120" y="0"/>
            <a:ext cx="7954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знали и все видели, что все три искус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игли в нем та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ершенства, какого не найдешь ни у древни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 у новых людей за многие и многие г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ображением он обладал таким и столь совершенным и ве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вшиеся ему в идее, были таковы, что руками осущест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ыслы столь великие и потрясающие было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асто он бросал свои творения, более того, многие уничтож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, известно, что незадолго до смерти он сжег больш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в, набросков и картонов, созданных собственноруч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никто не смог увидеть трудов, им преодолевавшихся, и 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способами он испытывал свой гений, дабы являть его не ина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совершен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усть никому не покажется странным, что Микеландже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ил одиночество, как человек, влюбленный в свое искус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е требует, чтобы человек был предан ему целиком и т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нем и размышлял; и необходимо, чтобы тот, кто хочет им заним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бегал общества, ибо тот, кто предается размышлениям об искусст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оким и без мыслей никогда не остается, те же, кто припис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в нем чудачествам и странностям, заблуждаются, ибо, к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лательно работать хорошо, тому надлежит удалить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х забот, так как талант требует размышлений, уединении и пок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не мысленных блуж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38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ь и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Буонарроти продолжались почти целое столетие с 1475 по 1564 год. Микеланджело родился 6 марта 1475 в Капрезе, в Тоскане. Он был сыном мелкого чиновн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назвал его Микеланджело: он хотел этим показать, что существо это было небесным и божественным в большей степени, чем это бывает у смертных, как это 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твердилось позднее. Детство его прошло частью во Флоренции, частью в сельской местности, в родовой усадьбе. Мать мальчика умерла, когда ему было шесть лет. В 1488 году отец отдал тринадцатилетнег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учиться мастерскую Доменико Гирландайо, который в то время почитался одним из лучших мастеров  по всей Италии. Мастерство и личность Микеланджело очень выросл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коре Лоренцо Медичи, прозванный Великолепны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вал его к себе во дворец и открыл ему доступ в свои сады, где находилась богатая коллекция произведений античных мастеров. Мальчик практически самостоятельно овладел необходимыми техническими навыками ремес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ора. Он лепил из глины и рисовал с произведений предшественников Рассказывают, что Торриджано, сдружившийся с ним, но побуждаемый завистью за то, что, как он видел, его и ценили выше и стоил он больше него в искусстве, как бы шутя с такой силой ударил его кулаком по носу, что навсегда его отметил сломанным и безобразно раздавленным носом; за это Торриджано был из Флоренции изгнан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04640"/>
            <a:ext cx="1870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смерти Лоренцо Великолепного в 1492 году, Микеланджело возврати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тцовский дом. Для церкви Санто Спирито в городе Флоренции он сдел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ревянное распятие, поставленное и до сих пор стоящее над полукруж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го алтаря.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494 году французский король Карл VIII вынудил Медичи, покров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а, оставить Флоренцию, Микеланджело бежал в Венец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атем в Болонью. Микеланджело понимал, что напрасно теряет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 возвратился во Флоренцию, где для Лоренцо, сына Пьерфранче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и Медичи, высек из мрамора св. Иоанна с ребенком и тут же из друг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ка мрамора спящего Купидона натуральной велич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2433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0640" y="635040"/>
            <a:ext cx="85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я истории этой известность Микеланджело стала так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н тут же был вызван в Рим. Художник столь редкостного да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вил достойную о себе память в городе, столь знаменитом, извая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раморную, целиком круглую скульптуру с оплакиванием Хрис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 PIETA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ая по ее завершении была помещена в соборе св. П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апеллу Девы М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то творение Микеланджело вложил столько любви и тру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олько на нем (чего он в других своих работах больше не дела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исал он свое имя вдоль пояса, стягивающего грудь Богомате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2637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635040"/>
            <a:ext cx="907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го августа 1501 года во Флоренции была провозглашена республ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е-кто из друзей его написал ему из Флоренции, чтобы он приезжал т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гатая корпорация торговцев шерстью дала мастеру за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здание скульптуры Давида. Микеланджело порывает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м способом трактовки образа Дав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не изобразил победителя с головой гиганта у ног и крепк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чом в руке, а представил юношу в ситуации, кото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шествует столкновению, возможно, как раз в момен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тот чувствует замешательство своих соплемен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поединком и издали различает Голиафа, насмехающего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 его народом.  Когда статуя была закончена, коми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видных горожан и художников, реш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ить ее на главной площади города, пе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аццо Веккио. Это был первый случай со времени анти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есть более чем за тысячу лет, появления монумент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туи обнаженного героя в публичном месте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56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76520" y="1052640"/>
            <a:ext cx="399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7640" y="779400"/>
            <a:ext cx="837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коре папа загорелся еще более грандиозным проек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тройкой собора Святого Пе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508 году мастер возвратился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ожидал еще более ошеломляющий заказ: в память Сик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и Его Святейшества, расписать потолок капеллы, выстро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дворце Сикстом. Работа над потолком капеллы казалась 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и трудно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я в виду малый свой опыт в живописи красками, он пыта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якими путями свалить с себя эту тяжесть. Видя, что Его Святейш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ствует, Микеланджело решил, наконец, за это вз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31 октября 1512 года Микеланджело написал на с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кстинской капеллы более трехсот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25:07Z</dcterms:created>
  <dc:creator>да</dc:creator>
  <dc:description/>
  <dc:language>en-US</dc:language>
  <cp:lastModifiedBy>Дмитрий</cp:lastModifiedBy>
  <dcterms:modified xsi:type="dcterms:W3CDTF">2022-11-11T09:23:44Z</dcterms:modified>
  <cp:revision>2</cp:revision>
  <dc:subject/>
  <dc:title>Микеланджело Буонарроти                  (1475-1564)</dc:title>
</cp:coreProperties>
</file>