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35A-F685-4C26-8C95-B6C3C283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344-6C19-49F8-90A1-78721A81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966-A3F1-4F8A-8FC2-C40BDAF5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2F8-65E1-4DB6-B971-95F3B0F6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03466-90C2-45E0-A47A-FAD6DDB0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13CAA-4EBC-4AF6-A7C7-BD30F9C9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48789-75AF-4569-AF9A-C36B3B74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EE369-3858-401C-A4E9-899C36A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1EA88-7B34-46F4-BE43-6385E151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08741-4D7F-4C7B-8F27-FB97C965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1D05F-F11D-4432-AEA8-85E4D4CF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4D1-A0F0-4551-9B75-44906752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63BF9-7491-4240-9835-E4553D3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40769-5AD9-423F-94A9-F9452EB4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FAE04-28C5-4FCC-903D-B36DF69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840A7-ADE5-4D3B-9CC6-FAAC78C4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0F688-F733-422B-81D2-C79E52A8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23F-8719-400E-B2BA-CA11048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3E8-0422-4E6C-A697-663C8458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E37-5E76-44FD-ACF5-77D46B49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639-E99D-43E8-8606-F279F377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BCD-AB57-416A-BA9B-D6AA0045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008-843E-4F5D-AB9C-8C1E03B0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08B-6232-43DA-8D88-C741BDE3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E77E-E36B-4DF3-9461-0878CEDD58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83F1-59EA-463A-B2AD-5D3BE6E330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келанджело Буонаррот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1475-1564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30477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4762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14680" y="14097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62280" y="95400"/>
            <a:ext cx="54194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66880" y="1390680"/>
            <a:ext cx="5610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715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23840" y="115920"/>
            <a:ext cx="70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ашный Су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произведение было заказано папой незадолго до конч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ое впечатление, которое мы получаем, сто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 Страшным Судом, это ощущ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перед нами поистине космическое событ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центре него мощная фигура Хр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2349360"/>
            <a:ext cx="4680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был  назначен главным архитектором со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го Петра. Убедившись в таком доверии к нему и ве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его со стороны папы, Микеланджело, дабы показать сво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брую волю, пожелал, чтобы в указе было объявле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он служит на строительстве из любви к Богу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з какого-либо вознагра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в полнейшем сознании составил завеща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ее из трех слов: душу свою отдавал в руки Госпо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о земле, а имущество ближайшим родственник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 февраля 1563 года, по флорентийскому исчисл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что по римскому было бы в 1564 году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ушел из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38894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61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35120" y="0"/>
            <a:ext cx="7954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знали и все видели, что все три искус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стигли в нем та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ершенства, какого не найдешь ни у древни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 у новых людей за многие и многие г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ображением он обладал таким и столь совершенным и ве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ставлявшиеся ему в идее, были таковы, что руками осуществ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мыслы столь великие и потрясающие было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часто он бросал свои творения, более того, многие уничтожа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к, известно, что незадолго до смерти он сжег больш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ков, набросков и картонов, созданных собственноруч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бы никто не смог увидеть трудов, им преодолевавшихся, и т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ими способами он испытывал свой гений, дабы являть его не инач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совершен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пусть никому не покажется странным, что Микеландже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бил одиночество, как человек, влюбленный в свое искус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торое требует, чтобы человек был предан ему целиком и т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нем и размышлял; и необходимо, чтобы тот, кто хочет им занимать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бегал общества, ибо тот, кто предается размышлениям об искусств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иноким и без мыслей никогда не остается, те же, кто припис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в нем чудачествам и странностям, заблуждаются, ибо, к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елательно работать хорошо, тому надлежит удалиться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х забот, так как талант требует размышлений, уединении и поко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не мысленных блуж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384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знь и деятельность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Буонарроти продолжались почти целое столетие с 1475 по 1564 год. Микеланджело родился 6 марта 1475 в Капрезе, в Тоскане. Он был сыном мелкого чиновн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ец назвал его Микеланджело: он хотел этим показать, что существо это было небесным и божественным в большей степени, чем это бывает у смертных, как это 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твердилось позднее. Детство его прошло частью во Флоренции, частью в сельской местности, в родовой усадьбе. Мать мальчика умерла, когда ему было шесть лет. В 1488 году отец отдал тринадцатилетнег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учиться мастерскую Доменико Гирландайо, который в то время почитался одним из лучших мастеров  по всей Италии. Мастерство и личность Микеланджело очень выросл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3628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коре Лоренцо Медичи, прозванный Великолепны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звал его к себе во дворец и открыл ему доступ в свои сады, где находилась богатая коллекция произведений античных мастеров. Мальчик практически самостоятельно овладел необходимыми техническими навыками ремес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ора. Он лепил из глины и рисовал с произведений предшественников Рассказывают, что Торриджано, сдружившийся с ним, но побуждаемый завистью за то, что, как он видел, его и ценили выше и стоил он больше него в искусстве, как бы шутя с такой силой ударил его кулаком по носу, что навсегда его отметил сломанным и безобразно раздавленным носом; за это Торриджано был из Флоренции изгнан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04640"/>
            <a:ext cx="18700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смерти Лоренцо Великолепного в 1492 году, Микеланджело возврати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тцовский дом. Для церкви Санто Спирито в городе Флоренции он сдел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ревянное распятие, поставленное и до сих пор стоящее над полукруж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го алтаря.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494 году французский король Карл VIII вынудил Медичи, покрови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удожника, оставить Флоренцию, Микеланджело бежал в Венец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затем в Болонью. Микеланджело понимал, что напрасно теряет 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 возвратился во Флоренцию, где для Лоренцо, сына Пьерфранчес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и Медичи, высек из мрамора св. Иоанна с ребенком и тут же из друг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ска мрамора спящего Купидона натуральной велич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3284640"/>
            <a:ext cx="2433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0640" y="635040"/>
            <a:ext cx="855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я истории этой известность Микеланджело стала так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он тут же был вызван в Рим. Художник столь редкостного да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вил достойную о себе память в городе, столь знаменитом, извая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раморную, целиком круглую скульптуру с оплакиванием Хрис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 PIETA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ая по ее завершении была помещена в соборе св. П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апеллу Девы Ма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это творение Микеланджело вложил столько любви и труд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только на нем (чего он в других своих работах больше не делал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исал он свое имя вдоль пояса, стягивающего грудь Богомате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326376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65000" y="635040"/>
            <a:ext cx="907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ого августа 1501 года во Флоренции была провозглашена республ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е-кто из друзей его написал ему из Флоренции, чтобы он приезжал т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гатая корпорация торговцев шерстью дала мастеру зака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оздание скульптуры Давида. Микеланджело порывает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м способом трактовки образа Дав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не изобразил победителя с головой гиганта у ног и крепк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чом в руке, а представил юношу в ситуации, кото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шествует столкновению, возможно, как раз в момен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тот чувствует замешательство своих соплемен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поединком и издали различает Голиафа, насмехающего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 его народом.  Когда статуя была закончена, комисс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видных горожан и художников, реш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ановить ее на главной площади города, пе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лаццо Веккио. Это был первый случай со времени антич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есть более чем за тысячу лет, появления монумент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туи обнаженного героя в публичном месте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2563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76520" y="1052640"/>
            <a:ext cx="39909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7640" y="779400"/>
            <a:ext cx="837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коре папа загорелся еще более грандиозным проек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тройкой собора Святого Пет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508 году мастер возвратился в Р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го ожидал еще более ошеломляющий заказ: в память Сикс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яди Его Святейшества, расписать потолок капеллы, выстро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дворце Сикстом. Работа над потолком капеллы казалась 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й и трудно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ея в виду малый свой опыт в живописи красками, он пыта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якими путями свалить с себя эту тяжесть. Видя, что Его Святейш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орствует, Микеланджело решил, наконец, за это взя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 31 октября 1512 года Микеланджело написал на св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кстинской капеллы более трехсот фигу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25:07Z</dcterms:created>
  <dc:creator>да</dc:creator>
  <dc:description/>
  <dc:language>en-US</dc:language>
  <cp:lastModifiedBy>Дмитрий</cp:lastModifiedBy>
  <dcterms:modified xsi:type="dcterms:W3CDTF">2022-11-11T09:23:44Z</dcterms:modified>
  <cp:revision>2</cp:revision>
  <dc:subject/>
  <dc:title>Микеланджело Буонарроти                  (1475-1564)</dc:title>
</cp:coreProperties>
</file>