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8DE-8210-4FC9-8A9D-3259F253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F94-18C2-4F26-A85B-8FC944A4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5B9-F9D8-4FB7-8EE9-2080B1D4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459-70C3-482E-9A6D-33AB8ACF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48D8-4EF8-4629-9B5A-D7ED7117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A7B1-6A4F-4A84-A2BB-B88B4305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A094-C706-4154-A580-8F6D77AF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8BDB-42F7-4CE7-9F92-291BBFA6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F63E-7CA2-4CBE-B4D7-4C3054F0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64DB-CE07-4FE5-B74C-8DD41F6E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8259-BD5B-4541-B7EB-31962D4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9EE-3A3D-49E4-A7D0-CA5CF65D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4B34-EB57-4284-A091-F69F9D7A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AF08-AA3F-4A5D-966F-55F54DE8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C949-9385-45EB-8F92-25D8B52A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85FE-C8B1-41A4-8B92-AD1C7854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5739-5208-4863-9F58-92B41D08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FB9A5-0B6F-4224-9B8D-6BD09F77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B6A0A-16CC-463B-927E-14B1AD7A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9D0F1-C06D-4267-8A13-E82A737D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97A53-2550-468E-AF53-9A8B33F1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056FD-62CD-4B9B-BEE4-1E028FCB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B25-3135-417B-983E-ABD2DB68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D9026-08F8-48BA-84B6-3ED6A782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472BE-C404-49BF-9C94-A3C0010C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EA82D-D453-468B-91C4-6A9F7C5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AE045-83BC-497D-B411-B11EEE5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EEF1B-C061-49DF-BACA-8D1482A7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4735F-90DA-4D77-AF2B-C32C92EA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25026-C021-4EA7-AD8D-69852513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B7862-2247-49B4-B685-822F2588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1B324-4558-4026-8773-61CE84E5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B021D-ADFA-46A1-BBA7-F4C3FA4F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D74-71D0-40C2-A0C5-EA528E50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AC43-6E84-4254-836A-FAA626FD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B6E0-1CBD-4CB9-9266-E55AC813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76A8-5790-486D-8A05-73455DA7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CE55-02D1-4F9D-A8EE-028701C0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145F-D419-4884-BB06-D1A6F35D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9E42-1B6A-4513-884A-569BC11C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F93A-B1E6-4410-967A-580407E6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E09E-94CB-4B9C-A484-6CAFAD96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9AF2-FA88-42BC-BC0F-BFF37B12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F51FA-2351-4E14-AD92-99B99B14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776-92C6-44D0-B62C-E75A9C9A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66BA1-858D-4ED2-A03F-DD378FE0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1993F-7845-49BC-9F62-716240A2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66130-4DD7-4A4A-8A7D-07C5C0AC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DC095-22FF-4C5F-AC84-21FBFFD2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DC933-F27A-4F87-8B22-18FB07F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1FA5F-50C4-4996-97FD-7651E5D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8190A-A079-41BE-98F0-295C65E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AF846-2860-43C3-A4C0-8CE096CC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02176-DB25-4EBA-B5C9-3C84A0CF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8961A-ECE7-451D-A963-24546354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37E-C167-4F69-8EB4-608E676F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3FEAC-A192-4F85-B9E7-F804BBAB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48F1F-D925-48EE-85FA-D4283477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26D7D-3A31-4E2E-86E7-E1E7D815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0A371-EEE1-40D6-B0C8-07550C03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E1C88-C42E-4451-8B37-11E8334A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7F64C-807F-4D36-A066-57C355C6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2B976-AE18-472D-AE70-A616E518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312E7-715E-45AA-A063-85B84FB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3FE6E-418A-41D0-8A19-9EE3561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35EDC-6CC6-481A-BE96-698D533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C19-DF02-4217-BA37-9F21924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EE055-DF8A-4CDE-A757-3393E811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B42C5-2E99-4154-B8F3-827BADF7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74EED-A7BE-421A-9682-604F7AEF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85D0A-C5B9-4249-B331-74747E3B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ADD78-D13F-419D-8222-C6A46169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E07BB-FAE5-42C5-B5A0-7D6BD41D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C25F3-6013-45EF-8DBB-D7DEE570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4A725-6602-43F5-BBF2-8A548C95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2D6B2-75E7-4C2C-B49B-C14C3949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DD11C-FB61-4C18-B4F0-8440C92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079-CD4F-47D9-80D2-AC7458F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792C4-7709-4344-9C3F-669FCA15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442C1-17D7-4129-A008-3EFD9C5E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FA8AC-14DF-45D7-BF51-35471FB0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2C587B-6815-4C49-B726-AC3C520B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5E66E-07FA-4426-BCD2-BDEAD92C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5F5-DC13-4731-B994-71F1D87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84D4-D31A-457F-A62F-24249C8199D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E8C9-8C6C-4CC7-ABB3-6B5E62DC1A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5416-0594-4737-9D45-0E479F39886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3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4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51A9-BC6F-4487-A789-0ACB6AD86A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3C31-5798-4227-8388-401457EC14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6D7B-63ED-4DBA-9000-3924698CE0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4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0C99-228A-460C-A94B-58A73BA77E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907920"/>
            <a:ext cx="691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моциональная компетентность в работе учителя»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омова Наталья Анатолье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- дефектоло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021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9640" y="274680"/>
            <a:ext cx="7467840" cy="68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рофессия учителя дефектолога предъявляет серьезные требования к эмоциональной сфере личности, требует затрат огромных душевных сил. Поэтому в рамках личностно-ориентированного подхода к обучению и воспитанию особую актуальность приобретает вопрос</a:t>
            </a:r>
            <a:r>
              <a:rPr b="0" i="1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б эмоциональной культуре педагога</a:t>
            </a:r>
            <a:r>
              <a:rPr b="0" i="1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-360"/>
            <a:ext cx="822960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ейшими показателями эмоциональной культуры педагога является высокий уровень развития эмоциональной устойчивости, эмпатии и эмоциональной гибкости педагог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3773520" y="2749680"/>
            <a:ext cx="20908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15560"/>
            <a:ext cx="7467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Психологическая техника «Разговор на языке эмоций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75b6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Вам нужно произнести фразу, состоящую из трех частей: </a:t>
            </a: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«Я чувствую… потому что… я хотел бы…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Пример взрослой ситуации: </a:t>
            </a: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гда я вижу, что вы не слушаете моё объяснение , мне неприятно, ведь я говорю достаточно важные вещи. Пожалуйста, будьте внимательнее к тому, что я говор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и разговаривают параллельно с Вашим объяснение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и хамят и передразниваю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 постоянно  опаздывает на урок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и не слушаю Вашего объяснения важного материал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Эта техника помогает притормозить и проконтролировать свои эмоции, а затем справиться с ни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07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468360" y="419040"/>
            <a:ext cx="7920000" cy="53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Упражнение «Спокойные и агрессивные ответ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Цель:</a:t>
            </a: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 формирование адекватных реакций в различных ситу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Инструкция. </a:t>
            </a: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Запишите на листочках бумаги различные ситуации, в которые могут попасть люди. Предложите участникам вытягивать по очереди бумажку с ситуацией и зачитывать вслух описание. После этого каждому нужно отреагировать тремя способами: спок, уверенно и агрессив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аждому участнику предлагается продемонстрировать в заданной ситуации спокойные, уверенные и агрессивные ответы. Для каждого участника используется только одна ситуа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Ситу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ллега  разговаривает с вами, а вы хотите ид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ллега отвлекает вас от важного дела, задает вопросы, которые мешают работать, мешают сосредоточи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Вам не дают пройти в автобусе к вых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Завуч делает вам публичное замеч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гда лезешь в карман за телефоном и не чувствуешь его 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Ваши ученики вас не слушают, а Вы объясняете новый важный матери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На кассе в супермаркете перед вами без очереди влезла старушка с огромной тележкой наполненной продуктами, а у Вас в руках только бутылка воды и бат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гда проснулся до звонка будильника, посмотрел сколько осталось времени, и увидел что он зазвонит через мину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179280" y="549360"/>
            <a:ext cx="8496360" cy="33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Ваши слова. 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Перед вами чаша с бумажками, на которых описаны различные жизненные ситуации. Ваша задача, вытащить бумажку, зачитать ситуацию вслух и отреагировать тремя способами, которые знаете из жизни: страх, агрессия, уверенный спокой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Психологический смысл упражнения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. Участники пропускают через себя опыт реагирования и тренируют новые навыки, которые помогут им сохранять уважение к себе и взаимоотношения с окружающими. Ситуации и различные способы ответа помогают осознать себя в различных проявлениях, расширить свой выбор, и осознанно управлять пове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383760"/>
            <a:ext cx="746748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3429000"/>
            <a:ext cx="74674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Рисунок 4" descr=""/>
          <p:cNvPicPr/>
          <p:nvPr/>
        </p:nvPicPr>
        <p:blipFill>
          <a:blip r:embed="rId1"/>
          <a:stretch/>
        </p:blipFill>
        <p:spPr>
          <a:xfrm>
            <a:off x="611280" y="127080"/>
            <a:ext cx="7788240" cy="2808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53880" y="2924280"/>
            <a:ext cx="77868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ние эмоциональной компетентности – это личностное развитие педагога. Это включение в сферу эмоциональных переживаний педагога с другими людьми, событиями, объектами; повышение уровня сознательного, волевого управления и контроля своих чувств и эмоций; нравственная регуляция более высоких ценностей и норм: совести, долга, ответственности, порядочности. Уровень сформированности эмоциональной культуры характеризуется системой эмоционального отношения к миру, окружающей педагогической ситуации, эмоциональным богатством, общей эмоциональной направленностью личности, креативностью, устойчивостью и эмоционально-волевой регуляцией поведения и деятельности.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888840" y="4378320"/>
            <a:ext cx="1740240" cy="2011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3835440" y="3941640"/>
            <a:ext cx="1473120" cy="2517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3"/>
          <a:stretch/>
        </p:blipFill>
        <p:spPr>
          <a:xfrm>
            <a:off x="6635880" y="4448160"/>
            <a:ext cx="1608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ПАСИБО ЗА ВНИМАНИЕ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03:37Z</dcterms:created>
  <dc:creator>1</dc:creator>
  <dc:description/>
  <dc:language>en-US</dc:language>
  <cp:lastModifiedBy>natasha</cp:lastModifiedBy>
  <dcterms:modified xsi:type="dcterms:W3CDTF">2024-02-20T10:51:00Z</dcterms:modified>
  <cp:revision>45</cp:revision>
  <dc:subject/>
  <dc:title>Дипломная работа на тему:</dc:title>
</cp:coreProperties>
</file>