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2D0-3214-4721-AE6E-4099B60B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8E5-0184-4483-B833-E7C4327F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833-5FF6-4D14-B9AE-457796C6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B04-373D-4847-9B2E-9CE6A81C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75AA-F073-42CF-9736-616538C3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BD1C-A813-42FE-BCFE-E1772EBF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2335-4722-47CA-B216-FE3D2B22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9749-DE4B-4723-A2A6-613E8A21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C9BD-AE7A-4312-BBBD-F1C8AC28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E127-336E-4ADB-9058-55054AD0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0A1C-DC18-4474-8D87-69C97B30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F50-22FE-4750-9989-5D53C639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E1EF-722F-4DA5-A875-EA6A2ADC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4BA0-DE64-40A8-91E5-891F109A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920B-5C1A-48E8-837A-E56EF5F7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F506-9717-4C8C-9681-053AC5DE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0722-7BF8-4672-ABE0-6C77D883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CDBE6-703F-4FAC-B7BE-008760AC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A61CB-591F-4D02-83A7-5A7EA3D1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D6127-7628-4824-AF1B-76D6467B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DD93D-8A3A-46EE-80E1-9069BF31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FF898-AE35-4EB2-9EF4-876ECD62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307-5D47-4EB7-AB2C-0B54A1F5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5B5BB-9334-46DB-9DD5-81C1E4B9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7D1A1-AA79-4E99-8167-232858D7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A8E73-F9B0-4AAC-A5E5-046F772C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F9168-9CF8-4AA3-898F-95A886C6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B077A-EA65-4A93-8DBD-6B18062B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91DB6-C273-4F09-A71A-EB4A6497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238B8-3D81-4D9B-A935-93386766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8C447-6A25-4A32-BCAC-3A4C5F14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8E4F5-FFB3-45C1-8C5F-A094E0BF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E4110-BC2E-42AE-8D9C-F7DC7185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4F3-44A6-402C-B43D-A4313082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25841-6DAC-476F-A2B4-BE841C41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27B33-88EB-4925-B701-7071A4BC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2BBD-141E-4B7B-82B7-0E646BB2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FFEF9-CABC-4243-98C5-AB2494F8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60ADC-0DDA-4DFA-A2B3-078C2DB0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F9A48-E63B-4292-910A-919187B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012C-597F-45E6-8F7C-6D5B095D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B7E84-7EF0-4137-8506-D3C5155A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6C1D3-E8C2-490E-8226-BCA828C1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105CA-BF5D-4B2E-A397-E7FC875B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594-A096-491A-9A62-772240A1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0AC80-E5C7-4B92-85C9-B57C78BB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AF974-49D2-4966-9F46-7E4DF1EA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E5BCB-C388-4E72-BF50-70E6675A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98BED-57B9-41F5-8F02-C61A4A6F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C9AE9-A3CF-4CE9-9A14-0C9E85A4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B0B25-16F2-464B-B366-C7913099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F7452-5910-4314-BE1D-C2A46430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5402B-A181-4E8C-BA83-104F3BF2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3C4AF-6F6E-41F0-9EC1-33896D18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45936-B0E0-48AB-BF09-6DC97AB6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28F-13DF-4EE8-92A0-F11A5DE5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A9C8F-1013-4839-9C18-93D37913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55F6D-84D4-4770-96CA-CC527419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8AEFC5-D8B0-4E8E-A8E9-BEB5814B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1C09C-31A7-47CD-A598-3D74EC76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A4E83-7033-4275-9491-47B6B627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17FB19-324E-4B5B-A4D8-5DEC80FA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413A2-94A0-4660-9CA0-F5CFCE6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F049E-7DD1-4221-ACD3-6FEC2C04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7ED70-3E13-4CC6-8767-6702FF6C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DDF315-5A7D-4ABF-81C8-C26BF160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BA0-9E15-4D02-887A-63CE2241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52777-5F63-44FB-A92A-3AA17D8B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E5350-49DB-4B88-87BF-6F869973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46B5B-C7D3-471D-82BD-BF0C4062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F2C5A1-CE13-4E60-A43E-4CBE015C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0AA63-3D43-4DA8-A2A8-B0D328D8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BE365-23DC-4891-96E6-4E718DF2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29915-CE56-459B-AF3D-6BA125A7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543CC-7BE7-48D3-9BBC-B7E9BDEC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16D5D-EA11-4B22-8025-97A2C58C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06472C-EC9C-4E7C-8299-7AB8CE51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962-9536-4120-B949-A31226C2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7E64D-0DD9-4007-AF27-F2EAE73A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9DC27-DEDC-44A3-ADAA-B9E32403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033B4-7E46-4B09-A415-E7BA3A49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551024-6DF5-46A9-9D0A-3E475165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97E98-7B2E-4016-9246-853B6856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156-A43D-4028-8B0A-4B823EEF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59E4-5CF9-41C1-9F75-D0772C35DE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3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D147-2FE9-449D-A670-BD283EBC7D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FE67-CD6A-4122-B4FF-EFC1F20DC6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3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4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20E1-3330-4A1E-A81E-E3CEAD08C9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9BDC-BDC2-4492-8202-E83A30D0C7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3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5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7881-2155-451A-B897-7A843A5A1F8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4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7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4B2D-CE43-4622-AEC3-FE20358B842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08000" y="907920"/>
            <a:ext cx="6912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моциональная компетентность в работе учителя»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омова Наталья Анатолье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читель - дефектоло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2021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9640" y="274680"/>
            <a:ext cx="7467840" cy="68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Профессия учителя дефектолога предъявляет серьезные требования к эмоциональной сфере личности, требует затрат огромных душевных сил. Поэтому в рамках личностно-ориентированного подхода к обучению и воспитанию особую актуальность приобретает вопрос</a:t>
            </a:r>
            <a:r>
              <a:rPr b="0" i="1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об эмоциональной культуре педагога</a:t>
            </a:r>
            <a:r>
              <a:rPr b="0" i="1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-360"/>
            <a:ext cx="822960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жнейшими показателями эмоциональной культуры педагога является высокий уровень развития эмоциональной устойчивости, эмпатии и эмоциональной гибкости педагог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3773520" y="2749680"/>
            <a:ext cx="20908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15560"/>
            <a:ext cx="7467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Психологическая техника «Разговор на языке эмоций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75b6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Вам нужно произнести фразу, состоящую из трех частей: </a:t>
            </a:r>
            <a:r>
              <a:rPr b="1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«Я чувствую… потому что… я хотел бы…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Пример взрослой ситуации: </a:t>
            </a:r>
            <a:r>
              <a:rPr b="1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гда я вижу, что вы не слушаете моё объяснение , мне неприятно, ведь я говорю достаточно важные вещи. Пожалуйста, будьте внимательнее к тому, что я говор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buClr>
                <a:srgbClr val="203864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Ученики разговаривают параллельно с Вашим объяснение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buClr>
                <a:srgbClr val="203864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Ученики хамят и передразнивают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buClr>
                <a:srgbClr val="203864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Ученик постоянно  опаздывает на урок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Aft>
                <a:spcPts val="1001"/>
              </a:spcAft>
              <a:buClr>
                <a:srgbClr val="203864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Ученики не слушаю Вашего объяснения важного материал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Эта техника помогает притормозить и проконтролировать свои эмоции, а затем справиться с ни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07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468360" y="419040"/>
            <a:ext cx="7920000" cy="53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Упражнение «Спокойные и агрессивные ответ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03864"/>
                </a:solidFill>
                <a:uFillTx/>
                <a:latin typeface="Times New Roman"/>
                <a:ea typeface="Calibri"/>
              </a:rPr>
              <a:t>Цель:</a:t>
            </a:r>
            <a:r>
              <a:rPr b="0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 формирование адекватных реакций в различных ситу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03864"/>
                </a:solidFill>
                <a:uFillTx/>
                <a:latin typeface="Times New Roman"/>
                <a:ea typeface="Calibri"/>
              </a:rPr>
              <a:t>Инструкция. </a:t>
            </a:r>
            <a:r>
              <a:rPr b="0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Запишите на листочках бумаги различные ситуации, в которые могут попасть люди. Предложите участникам вытягивать по очереди бумажку с ситуацией и зачитывать вслух описание. После этого каждому нужно отреагировать тремя способами: спок, уверенно и агрессив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аждому участнику предлагается продемонстрировать в заданной ситуации спокойные, уверенные и агрессивные ответы. Для каждого участника используется только одна ситуа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Ситу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ллега  разговаривает с вами, а вы хотите ид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ллега отвлекает вас от важного дела, задает вопросы, которые мешают работать, мешают сосредоточить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Вам не дают пройти в автобусе к вых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Завуч делает вам публичное замеч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гда лезешь в карман за телефоном и не чувствуешь его 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Ваши ученики вас не слушают, а Вы объясняете новый важный матери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На кассе в супермаркете перед вами без очереди влезла старушка с огромной тележкой наполненной продуктами, а у Вас в руках только бутылка воды и бат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20386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Calibri"/>
              </a:rPr>
              <a:t>Когда проснулся до звонка будильника, посмотрел сколько осталось времени, и увидел что он зазвонит через мину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179280" y="549360"/>
            <a:ext cx="8496360" cy="33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3864"/>
                </a:solidFill>
                <a:uFillTx/>
                <a:latin typeface="Times New Roman"/>
                <a:ea typeface="Calibri"/>
              </a:rPr>
              <a:t>Ваши слова. </a:t>
            </a: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Перед вами чаша с бумажками, на которых описаны различные жизненные ситуации. Ваша задача, вытащить бумажку, зачитать ситуацию вслух и отреагировать тремя способами, которые знаете из жизни: страх, агрессия, уверенный спокой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203864"/>
                </a:solidFill>
                <a:uFillTx/>
                <a:latin typeface="Times New Roman"/>
                <a:ea typeface="Calibri"/>
              </a:rPr>
              <a:t>Психологический смысл упражнения</a:t>
            </a:r>
            <a:r>
              <a:rPr b="0" lang="ru-RU" sz="1800" spc="-1" strike="noStrike">
                <a:solidFill>
                  <a:srgbClr val="203864"/>
                </a:solidFill>
                <a:latin typeface="Times New Roman"/>
                <a:ea typeface="Calibri"/>
              </a:rPr>
              <a:t>. Участники пропускают через себя опыт реагирования и тренируют новые навыки, которые помогут им сохранять уважение к себе и взаимоотношения с окружающими. Ситуации и различные способы ответа помогают осознать себя в различных проявлениях, расширить свой выбор, и осознанно управлять пове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383760"/>
            <a:ext cx="746748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3429000"/>
            <a:ext cx="74674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Рисунок 4" descr=""/>
          <p:cNvPicPr/>
          <p:nvPr/>
        </p:nvPicPr>
        <p:blipFill>
          <a:blip r:embed="rId1"/>
          <a:stretch/>
        </p:blipFill>
        <p:spPr>
          <a:xfrm>
            <a:off x="611280" y="127080"/>
            <a:ext cx="7788240" cy="2808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353880" y="2924280"/>
            <a:ext cx="77868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ние эмоциональной компетентности – это личностное развитие педагога. Это включение в сферу эмоциональных переживаний педагога с другими людьми, событиями, объектами; повышение уровня сознательного, волевого управления и контроля своих чувств и эмоций; нравственная регуляция более высоких ценностей и норм: совести, долга, ответственности, порядочности. Уровень сформированности эмоциональной культуры характеризуется системой эмоционального отношения к миру, окружающей педагогической ситуации, эмоциональным богатством, общей эмоциональной направленностью личности, креативностью, устойчивостью и эмоционально-волевой регуляцией поведения и деятельности.</a:t>
            </a: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888840" y="4378320"/>
            <a:ext cx="1740240" cy="2011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3835440" y="3941640"/>
            <a:ext cx="1473120" cy="2517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3"/>
          <a:stretch/>
        </p:blipFill>
        <p:spPr>
          <a:xfrm>
            <a:off x="6635880" y="4448160"/>
            <a:ext cx="1608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ПАСИБО ЗА ВНИМАНИЕ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03:37Z</dcterms:created>
  <dc:creator>1</dc:creator>
  <dc:description/>
  <dc:language>en-US</dc:language>
  <cp:lastModifiedBy>natasha</cp:lastModifiedBy>
  <dcterms:modified xsi:type="dcterms:W3CDTF">2024-02-20T10:51:00Z</dcterms:modified>
  <cp:revision>45</cp:revision>
  <dc:subject/>
  <dc:title>Дипломная работа на тему:</dc:title>
</cp:coreProperties>
</file>