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2031-3862-454C-9180-94E7394F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825-81EA-452A-A7BB-FC2288B7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D09-2FC5-485C-8A4D-4354FF31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6FD8-002E-4327-9127-13AEF068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95C6-3BD1-4813-B621-FBD77A82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7416-B033-4ECF-8FC2-88787E8A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4781-182F-46BB-8AB9-B1D64790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46BC-EE17-4E66-B9F5-546271E8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F5DE-58B1-48D8-B176-47B73672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ED77-A73B-4376-9CCA-81A8D005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3E5F-25F4-40F2-A64D-5C23347D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F50-37F4-446D-9D07-FEB8569E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7502-F580-409C-B05C-CF82F0A5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F844-F4DC-4F7E-A4A1-273EC9B6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F61B-EBF2-4A27-873B-2CB6F4DC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50B7-A751-4C02-8313-712D1DDE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58DD-FCD2-4F98-B648-5D3FE9A1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13FBE-C4B5-45BE-A847-391E5751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F9AD6-0E4F-47A8-9F9F-279F64C3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E2F96-4AC3-434B-AA24-5323EF3C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DBF00-B960-4423-8EB6-E4670B1C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75C7D-2FC5-4CAF-B59D-A4D7C002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783-CACA-4D7F-8097-12869A6F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BF694-86D1-4097-BB89-5C9F4BBF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CFA06-9711-423A-AE1C-2A7DC199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27E3D-5F23-4C36-85AC-E1C87AE3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8102F-DCC3-44E2-9682-0C8E5006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77D14-3447-4B89-B1A5-39EE585F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367F4-0612-4D0F-B347-81BF3293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93239-C17E-45E3-8F31-69667670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B0C56-14E0-43D7-A01C-089E4081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15D0B-F495-4C56-95A2-66F23373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BCF67-8FF7-4733-83A8-44911C6B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051-626C-479E-9956-8909B01E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75FEE-1D0A-4063-B378-9F567E82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AFCB9-0384-4ECC-880F-7DCBA9CA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BE1EB-9BFC-4020-AA4D-9A937FC4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D58E0-034E-4F99-9A76-F1EC27D4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1AEAB-47F5-4C1D-BA36-86223D3E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36CB0-08EE-4AD1-8438-5BFA1A54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E5B32-BCA9-432C-90DE-EC7543C9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6CA71-D46B-4541-8E3D-95B05DD5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673FA-6E7E-496A-B3ED-85A8AC48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71DB95-057A-4B14-8B1A-C194505D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2E7-2CAF-4F43-A01F-57386974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46431B-25F9-4A92-B5E3-79EA881A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36BE0-0D1F-473B-BFBE-46244C4C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CD115-CAC0-4CA8-B24D-3B81DFB2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E48A2-4AD1-49F4-8F34-871352F4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7F7A20-9473-4DE1-8997-83EE7D44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9C8D0-C4E9-454B-9B71-49BDF1FC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027E81-3476-4093-A6DC-49EB136D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A4906-0FA5-4F2E-8958-3A9D0ECE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CD1D1-EDE7-4E53-B924-32EECF75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3DC8F2-1FBC-4992-BD71-43BFD591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4F5-78AD-4E18-B33E-343E54A3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09835-1B35-4502-BCE2-2C02BE84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D01336-12DB-48E7-84E0-363DBBFC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811367-FE48-4F6E-A7DD-D58EAEF3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207C23-FEBA-4EDE-B802-871FC456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4DA32D-9599-4E10-B5B6-B9DCA40F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F725BD-958B-40D7-856A-6266F99D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9B614-F625-4278-8335-F7958AA3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CC1AF-ABDA-4B50-9E9E-EA911787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D9D401-4A42-4A1E-9642-C7D93E5D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154C3E-B9A5-4936-8D51-9903ED08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3D3-CAA3-4AF9-8C96-CC0B0060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31071-E2B8-4D72-B79C-E404C235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6787D7-BD2C-4056-87FA-C879CF96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302B63-FD8A-4F91-9F55-AF2FBDC6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371848-01B7-4670-A15A-F8FE3DC6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E819CE-32A0-4879-9515-84831044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558B08-7153-4EF6-9AF5-48F0F5D7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65CFE2-C398-492B-9235-FC1A4FBE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6BB3B7-119A-4929-B4FB-468CB626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64D554-C726-47F6-A56A-F7D3B180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721493-4F80-42BC-B5DA-355C9121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A4C-3E33-48C0-BB05-2D431828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BAEAF5-25EE-4B4E-8A7D-D86D6E94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DC0EF3-C242-4C97-9861-0A8D263B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D8D3E-2517-4D87-A56E-60457669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DC1D50-C627-4D9D-8328-7189CE1B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6F293E-57CA-4C16-A2C8-72BA9984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F3F-08AA-4701-BBE2-7F43BBB9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B9DC-A6CE-4D2F-A27E-1F3A73726BB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3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F992-9F4B-4F03-B11C-103712C96D4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43DD-AE42-480B-A677-6DDE3E5C392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2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3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4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FBA7-4C94-4598-9F9A-DE3D454AE8C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D528-9126-4D67-B2A4-94AAF6731A0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3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4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5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A8C8-497E-44CC-8146-93BE230990B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4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7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4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4224-7F89-4B48-B6DF-E9049720FD6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908000" y="907920"/>
            <a:ext cx="6912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моциональная компетентность в работе учителя»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ромова Наталья Анатолье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Учитель - дефектолог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2021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39640" y="274680"/>
            <a:ext cx="7467840" cy="68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Профессия учителя дефектолога предъявляет серьезные требования к эмоциональной сфере личности, требует затрат огромных душевных сил. Поэтому в рамках личностно-ориентированного подхода к обучению и воспитанию особую актуальность приобретает вопрос</a:t>
            </a:r>
            <a:r>
              <a:rPr b="0" i="1" lang="ru-RU" sz="3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об эмоциональной культуре педагога</a:t>
            </a:r>
            <a:r>
              <a:rPr b="0" i="1" lang="ru-RU" sz="3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-360"/>
            <a:ext cx="822960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жнейшими показателями эмоциональной культуры педагога является высокий уровень развития эмоциональной устойчивости, эмпатии и эмоциональной гибкости педагога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3773520" y="2749680"/>
            <a:ext cx="20908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15560"/>
            <a:ext cx="7467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Психологическая техника «Разговор на языке эмоций»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75b6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Вам нужно произнести фразу, состоящую из трех частей: </a:t>
            </a:r>
            <a:r>
              <a:rPr b="1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«Я чувствую… потому что… я хотел бы…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Пример взрослой ситуации: </a:t>
            </a:r>
            <a:r>
              <a:rPr b="1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Когда я вижу, что вы не слушаете моё объяснение , мне неприятно, ведь я говорю достаточно важные вещи. Пожалуйста, будьте внимательнее к тому, что я говор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buClr>
                <a:srgbClr val="203864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Ученики разговаривают параллельно с Вашим объяснение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buClr>
                <a:srgbClr val="203864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Ученики хамят и передразнивают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buClr>
                <a:srgbClr val="203864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Ученик постоянно  опаздывает на урок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Aft>
                <a:spcPts val="1001"/>
              </a:spcAft>
              <a:buClr>
                <a:srgbClr val="203864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Ученики не слушаю Вашего объяснения важного материал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Эта техника помогает притормозить и проконтролировать свои эмоции, а затем справиться с ним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072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468360" y="419040"/>
            <a:ext cx="7920000" cy="53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Упражнение «Спокойные и агрессивные ответ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203864"/>
                </a:solidFill>
                <a:uFillTx/>
                <a:latin typeface="Times New Roman"/>
                <a:ea typeface="Calibri"/>
              </a:rPr>
              <a:t>Цель:</a:t>
            </a:r>
            <a:r>
              <a:rPr b="0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 формирование адекватных реакций в различных ситуац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203864"/>
                </a:solidFill>
                <a:uFillTx/>
                <a:latin typeface="Times New Roman"/>
                <a:ea typeface="Calibri"/>
              </a:rPr>
              <a:t>Инструкция. </a:t>
            </a:r>
            <a:r>
              <a:rPr b="0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Запишите на листочках бумаги различные ситуации, в которые могут попасть люди. Предложите участникам вытягивать по очереди бумажку с ситуацией и зачитывать вслух описание. После этого каждому нужно отреагировать тремя способами: спок, уверенно и агрессив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Каждому участнику предлагается продемонстрировать в заданной ситуации спокойные, уверенные и агрессивные ответы. Для каждого участника используется только одна ситуа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Ситу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Коллега  разговаривает с вами, а вы хотите ид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Коллега отвлекает вас от важного дела, задает вопросы, которые мешают работать, мешают сосредоточитьс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Вам не дают пройти в автобусе к вых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Завуч делает вам публичное замеч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Когда лезешь в карман за телефоном и не чувствуешь его т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Ваши ученики вас не слушают, а Вы объясняете новый важный матери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На кассе в супермаркете перед вами без очереди влезла старушка с огромной тележкой наполненной продуктами, а у Вас в руках только бутылка воды и бат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Когда проснулся до звонка будильника, посмотрел сколько осталось времени, и увидел что он зазвонит через мину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TextBox 3"/>
          <p:cNvSpPr/>
          <p:nvPr/>
        </p:nvSpPr>
        <p:spPr>
          <a:xfrm>
            <a:off x="179280" y="549360"/>
            <a:ext cx="8496360" cy="33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03864"/>
                </a:solidFill>
                <a:uFillTx/>
                <a:latin typeface="Times New Roman"/>
                <a:ea typeface="Calibri"/>
              </a:rPr>
              <a:t>Ваши слова. </a:t>
            </a: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Перед вами чаша с бумажками, на которых описаны различные жизненные ситуации. Ваша задача, вытащить бумажку, зачитать ситуацию вслух и отреагировать тремя способами, которые знаете из жизни: страх, агрессия, уверенный спокойный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203864"/>
                </a:solidFill>
                <a:uFillTx/>
                <a:latin typeface="Times New Roman"/>
                <a:ea typeface="Calibri"/>
              </a:rPr>
              <a:t>Психологический смысл упражнения</a:t>
            </a: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. Участники пропускают через себя опыт реагирования и тренируют новые навыки, которые помогут им сохранять уважение к себе и взаимоотношения с окружающими. Ситуации и различные способы ответа помогают осознать себя в различных проявлениях, расширить свой выбор, и осознанно управлять пове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000" y="383760"/>
            <a:ext cx="746748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3429000"/>
            <a:ext cx="746748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Рисунок 4" descr=""/>
          <p:cNvPicPr/>
          <p:nvPr/>
        </p:nvPicPr>
        <p:blipFill>
          <a:blip r:embed="rId1"/>
          <a:stretch/>
        </p:blipFill>
        <p:spPr>
          <a:xfrm>
            <a:off x="611280" y="127080"/>
            <a:ext cx="7788240" cy="2808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353880" y="2924280"/>
            <a:ext cx="77868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енствование эмоциональной компетентности – это личностное развитие педагога. Это включение в сферу эмоциональных переживаний педагога с другими людьми, событиями, объектами; повышение уровня сознательного, волевого управления и контроля своих чувств и эмоций; нравственная регуляция более высоких ценностей и норм: совести, долга, ответственности, порядочности. Уровень сформированности эмоциональной культуры характеризуется системой эмоционального отношения к миру, окружающей педагогической ситуации, эмоциональным богатством, общей эмоциональной направленностью личности, креативностью, устойчивостью и эмоционально-волевой регуляцией поведения и деятельности.</a:t>
            </a:r>
            <a:br>
              <a:rPr sz="20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888840" y="4378320"/>
            <a:ext cx="1740240" cy="2011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3835440" y="3941640"/>
            <a:ext cx="1473120" cy="2517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3"/>
          <a:stretch/>
        </p:blipFill>
        <p:spPr>
          <a:xfrm>
            <a:off x="6635880" y="4448160"/>
            <a:ext cx="1608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ПАСИБО ЗА ВНИМАНИЕ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5:03:37Z</dcterms:created>
  <dc:creator>1</dc:creator>
  <dc:description/>
  <dc:language>en-US</dc:language>
  <cp:lastModifiedBy>natasha</cp:lastModifiedBy>
  <dcterms:modified xsi:type="dcterms:W3CDTF">2024-02-20T10:51:00Z</dcterms:modified>
  <cp:revision>45</cp:revision>
  <dc:subject/>
  <dc:title>Дипломная работа на тему:</dc:title>
</cp:coreProperties>
</file>