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4203-811E-4D36-B75D-C42A1B882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A935-A402-4F21-AFF1-1C05CD31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2C41-3398-4FEE-95A3-7BE673AE5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1F0F-A5D0-46F8-8572-D1135BCC9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8A93-5205-45B2-ABB3-962BDD577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A985-27AB-4277-B6EC-EC614BA0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8C02-FEA2-4E76-8560-67543396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5FEA-F352-412D-B2EA-4C9EACFFD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E998-A95D-4ACC-AB5C-792B4734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75D9-F6CE-4A84-B8FD-C7D9DFAE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AFEF-230E-40F5-9CB4-A2801686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6FED-AB9F-4623-AC34-AB18A71B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2D77-70D3-4491-AC9B-FCC2433E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29CB9-2DB1-477B-8FFE-EE0DDC64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4B97-B3FE-4CFA-BDBA-7389C7D2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CBB7-37E9-48FA-84FC-4C558C8C2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ADD0-ED1F-415C-9DBF-271CAA7C1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7CAF-ABF6-4245-B694-B3D405E4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8CC3-CFF3-441E-AF9C-378C6FDA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6B6A-2304-46AD-BA6E-C0A9BC1A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4DBF-03B4-413E-B709-02B1230E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9177-F8DB-45B9-9AC5-1FA3BC9D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38F8-E4D0-4971-A914-7164AD75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9DAE-9D9D-48C2-8311-7FA16B77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F21F-CBD7-4AB7-970F-C01AD18012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C576-D9A6-4B21-8440-7D6DA65EA9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43912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Arial Black"/>
              </a:rPr>
              <a:t>«Ковер-самолет»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95280" y="2924280"/>
            <a:ext cx="83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Путешествие в мир сказок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42920" y="3860640"/>
            <a:ext cx="2043360" cy="2305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385120" cy="17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66"/>
                </a:solidFill>
                <a:latin typeface="Monotype Corsiva"/>
              </a:rPr>
              <a:t>Сказочный Восток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195640" y="2349360"/>
            <a:ext cx="4680000" cy="3511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66"/>
                </a:solidFill>
                <a:latin typeface="Monotype Corsiva"/>
              </a:rPr>
              <a:t>Мудрый Восток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64000" y="4149720"/>
            <a:ext cx="3313440" cy="2322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3600360" cy="2251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b7"/>
                </a:solidFill>
                <a:latin typeface="Monotype Corsiva"/>
              </a:rPr>
              <a:t>Пестрый Восток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5400720" cy="3305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b7"/>
                </a:solidFill>
                <a:latin typeface="Monotype Corsiva"/>
              </a:rPr>
              <a:t>Джинн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112000" cy="4752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07:25:25Z</dcterms:created>
  <dc:creator>Ирина</dc:creator>
  <dc:description/>
  <dc:language>en-US</dc:language>
  <cp:lastModifiedBy>Admin</cp:lastModifiedBy>
  <dcterms:modified xsi:type="dcterms:W3CDTF">2014-01-11T09:15:38Z</dcterms:modified>
  <cp:revision>5</cp:revision>
  <dc:subject/>
  <dc:title>«Ковер-самолет»</dc:title>
</cp:coreProperties>
</file>