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D7F3-294A-4ECC-9A6E-6D4678BC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C14-BCD1-462A-81B5-1179E0E6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6A2-6D45-449F-BE80-6124A1CE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164-6491-45ED-A7B8-B8874302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EBDE-5ADF-4E87-B347-845D0C5A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7F3B-9591-4EDF-843A-B0F8F808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BBE9-0A5B-4B9C-B9C6-7E61424A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436F-D7C3-4432-94F8-6F4F71B5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15EF-65FF-4C23-9D39-031792AA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6588-6107-412A-A757-F37B42EC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565E-83DB-437B-8377-F0957509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334-4E96-4BC0-B78E-1893B594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243B-812A-4689-9E3E-E3F16934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27DF-C3DA-46DC-9B49-D2B09D33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83FA-28EB-42EE-9F9B-F6157664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7142-748C-49D9-8C99-99B7A7ED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E32C-9741-4210-B643-C6AE5C03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AC0E-A8AA-4C29-8441-6DA8D63A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CBF-CE08-4D84-AD8B-2E3745B2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E8C-A043-4C9E-AC5C-14C05E69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6BB-B344-49E4-ADD5-B87F11ED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2BB-F46E-4775-AA34-9367FA51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9C8-4579-490D-B6BB-82318C8C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426-C233-4B63-8BF3-64C0DDD8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617E-969F-456D-B6AE-4A1E282143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83F7-A496-4601-A594-F59732FD1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43912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rial Black"/>
              </a:rPr>
              <a:t>«Ковер-самолет»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5280" y="292428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Путешествие в мир сказок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2043360" cy="2305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38512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66"/>
                </a:solidFill>
                <a:latin typeface="Monotype Corsiva"/>
              </a:rPr>
              <a:t>Сказочный Восток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4680000" cy="3511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66"/>
                </a:solidFill>
                <a:latin typeface="Monotype Corsiva"/>
              </a:rPr>
              <a:t>Мудрый Восток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64000" y="4149720"/>
            <a:ext cx="3313440" cy="2322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3600360" cy="2251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Monotype Corsiva"/>
              </a:rPr>
              <a:t>Пестрый Восток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400720" cy="3305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Monotype Corsiva"/>
              </a:rPr>
              <a:t>Джинн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112000" cy="4752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07:25:25Z</dcterms:created>
  <dc:creator>Ирина</dc:creator>
  <dc:description/>
  <dc:language>en-US</dc:language>
  <cp:lastModifiedBy>Admin</cp:lastModifiedBy>
  <dcterms:modified xsi:type="dcterms:W3CDTF">2014-01-11T09:15:38Z</dcterms:modified>
  <cp:revision>5</cp:revision>
  <dc:subject/>
  <dc:title>«Ковер-самолет»</dc:title>
</cp:coreProperties>
</file>