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788-9CE7-4946-957E-93892294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8C3-2D0F-498A-A5E8-E5E9B6A6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DC5-D123-40B0-85E4-2B59A545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138-0E13-4479-BCFF-83FC9622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D0CD-379A-45FB-ADE0-EB762AB7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39DC-2CE5-48A4-9E4A-9AC8D242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EE87-B3A3-4E0E-A5DF-88985BFE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B3CA-643C-4629-AD5A-8F99B856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4698-D2D3-4C8C-88F8-E35F74A1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0954-CAFC-4CD3-B95A-D6B9F44C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4BD4-563B-42DD-BF06-6305EBBD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3C1-AE8C-4C48-9D8C-09CE9396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6482-F8B0-4C61-A251-6F59DFEB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5069-F2F0-4B52-9359-237FD013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552C-B6BA-4407-8EF3-9C4F6212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B265-87A0-4885-A4A4-8BC57719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382B-74BC-48ED-B61A-0EF7DC2E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524-D7B6-4D93-AB3C-99716D2E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FAF-2D00-431F-8E99-8EC6324D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416-0213-4620-B31C-5DEA4A93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D8D-20C2-418F-B6E6-8EFF43B3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D78-6B85-4653-A09F-8C9ED57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AFF-1855-45AD-A8C8-4D888B70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5D5-A6CB-4075-89D4-84B1CCD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3073-CFC0-4D57-A95E-DCCEECEE6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7492-D0A8-4978-994C-56E46F95C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43912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rial Black"/>
              </a:rPr>
              <a:t>«Ковер-самолет»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5280" y="292428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Путешествие в мир сказо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2043360" cy="2305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8512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Сказочн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680000" cy="351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Муд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313440" cy="232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600360" cy="225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Пест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00720" cy="3305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Джинн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112000" cy="47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7:25:25Z</dcterms:created>
  <dc:creator>Ирина</dc:creator>
  <dc:description/>
  <dc:language>en-US</dc:language>
  <cp:lastModifiedBy>Admin</cp:lastModifiedBy>
  <dcterms:modified xsi:type="dcterms:W3CDTF">2014-01-11T09:15:38Z</dcterms:modified>
  <cp:revision>5</cp:revision>
  <dc:subject/>
  <dc:title>«Ковер-самолет»</dc:title>
</cp:coreProperties>
</file>