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DB7-DE19-439B-9403-3F9ACFFF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260-A6D8-4632-85C2-6ED25DA5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6F9-298D-41C7-898A-50D21184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3B0-843F-4C05-9939-EDA4902D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2856-55FB-4D46-B471-39AC1342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7FE5-3F52-4D9C-B05F-5DA40646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C1BB-9FC7-413A-ADD0-A64C4212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8D8F-C878-4579-B27A-7C7ABABF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16BC-D706-40B9-AEF0-9C8462DE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87C8-83D2-4F4C-BD1E-40D0E9AD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771B-098F-4B30-BE4B-47866EC3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9DF-1A37-45DC-AAF4-20D45764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FF9C-6635-4F9F-B013-EABE2240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9F05-188B-4233-A562-06F573D2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90F9-1596-4DBA-88BF-BB05DC5D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89D1-680E-40B8-9DD1-4791B428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4823-1E40-4569-8823-87DA34B5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C45-E7FA-4955-BCA6-C5B1730B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39B-EEA7-45FF-8D95-869F9FC6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ED4-40C2-4E05-8DB0-3CEDCA5A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6F3-56C5-49BC-BC1F-E6A39900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C83-073F-4BB9-84EC-C3C17754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FD5-2618-4874-9C66-2FCEA3D0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211-E685-4CDA-A8E8-9ECFB9CC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DC7A-D028-4135-9D31-9584768BE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3417-ED88-4CFF-BF18-8FAC2983D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43912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rial Black"/>
              </a:rPr>
              <a:t>«Ковер-самолет»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5280" y="292428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Путешествие в мир сказок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2043360" cy="2305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8512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Monotype Corsiva"/>
              </a:rPr>
              <a:t>Сказочн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680000" cy="351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Monotype Corsiva"/>
              </a:rPr>
              <a:t>Мудр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313440" cy="232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600360" cy="225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Monotype Corsiva"/>
              </a:rPr>
              <a:t>Пестр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00720" cy="3305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Monotype Corsiva"/>
              </a:rPr>
              <a:t>Джинн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112000" cy="47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7:25:25Z</dcterms:created>
  <dc:creator>Ирина</dc:creator>
  <dc:description/>
  <dc:language>en-US</dc:language>
  <cp:lastModifiedBy>Admin</cp:lastModifiedBy>
  <dcterms:modified xsi:type="dcterms:W3CDTF">2014-01-11T09:15:38Z</dcterms:modified>
  <cp:revision>5</cp:revision>
  <dc:subject/>
  <dc:title>«Ковер-самолет»</dc:title>
</cp:coreProperties>
</file>