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F16C-BD26-43E2-A5D0-6AE4A7175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84BA-32EF-4281-8756-794A2DCC2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AC50-410D-41C3-A235-D4E462CF1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1555-0AB3-48DD-80BA-B585DD0B9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6D08B-7990-4EA0-A110-8E53D00CF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1EABA-56CF-4C32-93CE-7E1E3EE00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0C45E-23A0-4715-AFEA-CE23AF573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C1721-EF53-4B28-AC0F-CC2447154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25076-DE63-43A0-95D4-D2483A81A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09222-DC0E-41B8-8F3C-ABE99EF71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890C2-46A1-4C0F-8F87-705D47F90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C515-B89F-4AE4-8A54-0A691318F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993D3-9051-43C3-AE71-AED537972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23A70-8134-493B-AA53-869A80E3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66128-6F41-454D-BA70-11C4815CD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A715C-C107-4874-9A05-692A8F336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89B38-F5B4-4719-8DFD-BAF945B69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8F6A-E3DF-4E51-B0A7-B8C5C94B5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86A5-284A-4EB2-9276-B8A960194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43F0-9EDE-42BA-99AD-20D1601D4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F942-6AE9-426E-A203-1F24D35CC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B475-2C46-470B-9EAA-1B5B96AFD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FEB1-60D4-43F5-9278-EF61C2E2D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50ED-8F99-461B-A4F0-52F75EEB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84537-7A20-4509-972E-F9CFD1C927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1CD02-C97F-4989-A3E7-9163500D85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43912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66"/>
                </a:solidFill>
                <a:latin typeface="Arial Black"/>
              </a:rPr>
              <a:t>«Ковер-самолет»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95280" y="2924280"/>
            <a:ext cx="83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Путешествие в мир сказок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042920" y="3860640"/>
            <a:ext cx="2043360" cy="23050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385120" cy="17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66"/>
                </a:solidFill>
                <a:latin typeface="Monotype Corsiva"/>
              </a:rPr>
              <a:t>Сказочный Восток</a:t>
            </a:r>
            <a:endParaRPr b="1" lang="en-US" sz="8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195640" y="2349360"/>
            <a:ext cx="4680000" cy="35118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66"/>
                </a:solidFill>
                <a:latin typeface="Monotype Corsiva"/>
              </a:rPr>
              <a:t>Мудрый Восток</a:t>
            </a:r>
            <a:endParaRPr b="1" lang="en-US" sz="8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364000" y="4149720"/>
            <a:ext cx="3313440" cy="2322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3600360" cy="22510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b7"/>
                </a:solidFill>
                <a:latin typeface="Monotype Corsiva"/>
              </a:rPr>
              <a:t>Пестрый Восток</a:t>
            </a:r>
            <a:endParaRPr b="1" lang="en-US" sz="8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835280" y="2349360"/>
            <a:ext cx="5400720" cy="33051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b7"/>
                </a:solidFill>
                <a:latin typeface="Monotype Corsiva"/>
              </a:rPr>
              <a:t>Джинн</a:t>
            </a:r>
            <a:endParaRPr b="1" lang="en-US" sz="8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908000" y="1773360"/>
            <a:ext cx="5112000" cy="47527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3T07:25:25Z</dcterms:created>
  <dc:creator>Ирина</dc:creator>
  <dc:description/>
  <dc:language>en-US</dc:language>
  <cp:lastModifiedBy>Admin</cp:lastModifiedBy>
  <dcterms:modified xsi:type="dcterms:W3CDTF">2014-01-11T09:15:38Z</dcterms:modified>
  <cp:revision>5</cp:revision>
  <dc:subject/>
  <dc:title>«Ковер-самолет»</dc:title>
</cp:coreProperties>
</file>