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EC0-EB5B-480C-AEC5-A5008C8A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4B6-0DDE-4618-9AA8-0C496760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D99-8444-474F-B01D-789D12C6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132-AB36-4920-B241-68421B5F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A3A0-FD28-4101-AA8F-B8CCB2D7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7AA6-247C-4317-9D28-ECC11AE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810E-36B1-407A-A766-62F7003D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C8D2-14C5-454B-8AC1-5F279E81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543A-DD37-4427-A5E2-D5DD9B3C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69E0-B056-4C45-A338-25B24735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878B-FA28-4B1E-88FC-BA3E089F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B86-4B0A-46D7-B31C-6156A8A7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E052-A188-42B6-8600-9000C9B3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5939-F1BD-4FA5-9D33-5D76B50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4C45-F126-452C-A1C2-94A059BD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2221-E136-4E4C-BE9E-1717B9FD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EAD7-A3D6-43B0-8802-200A0417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135-BD1D-4172-AF43-3D1A3934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018-A17D-4F95-A39F-86DD05BC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FB3-B89F-46CA-AED1-8F4F4E02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DC0-3B4D-41A5-9330-1BA0D4F0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B89-4A42-4134-AF74-DE1B3371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C22-5958-43EC-A9A1-DF2B385C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EFD-B88D-4EDE-8C69-AF0901C5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071B-B01D-4DC7-AE22-4E8F8184B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B5A-73E9-496C-A1C1-73F0C16FC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43912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 Black"/>
              </a:rPr>
              <a:t>«Ковер-самолет»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292428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Путешествие в мир сказо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2043360" cy="230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Сказочн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680000" cy="351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Муд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13440" cy="232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600360" cy="225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Пест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00720" cy="3305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Джинн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112000" cy="47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7:25:25Z</dcterms:created>
  <dc:creator>Ирина</dc:creator>
  <dc:description/>
  <dc:language>en-US</dc:language>
  <cp:lastModifiedBy>Admin</cp:lastModifiedBy>
  <dcterms:modified xsi:type="dcterms:W3CDTF">2014-01-11T09:15:38Z</dcterms:modified>
  <cp:revision>5</cp:revision>
  <dc:subject/>
  <dc:title>«Ковер-самолет»</dc:title>
</cp:coreProperties>
</file>