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E32-BE7B-40BE-A6CE-9E4E0C13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1D7-3BF3-4625-B56C-D1BC57C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727-21F1-4CDE-8493-475E52A0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6B8-41BD-4CE4-B5E8-3BDE6F06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93B-2ABD-4C12-8C9A-83A61F7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932-2DBA-4827-939F-1CC591E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D86-DB83-4074-8583-58564850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929-FEFA-42E4-8674-162D121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429-6444-4E15-A4AE-89FC4684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4D1-D20D-4E4B-934C-8B5C5F7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088-53D7-46CC-86EF-83BFE4A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D3C-E59B-4340-BC6A-F2512239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110C-9EC8-46E0-A533-751549C5A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ar.ru/uploads/imagesb/2010/12/b8906e2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549360"/>
            <a:ext cx="640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2929"/>
                </a:solidFill>
                <a:latin typeface="Arial"/>
              </a:rPr>
              <a:t>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раздник семьи"/>
          <p:cNvPicPr/>
          <p:nvPr/>
        </p:nvPicPr>
        <p:blipFill>
          <a:blip r:embed="rId1"/>
          <a:stretch/>
        </p:blipFill>
        <p:spPr>
          <a:xfrm>
            <a:off x="2124000" y="1484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Семья – группа людей, состоящая из родителей, детей, внуков и ближних родственников, живущих вместе.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словарь Д. Н.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5280" y="29242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Группа людей, связанных браком, кровным родством или усыновлением, совместно проживающих и имеющих общие доходы и расх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из учебника «Основы безопасности жизнедеятельности – 11 кл./ А.Т. Смирнов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емейны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9 декабря 199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Федеральным зако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№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23 – ФЗ был принят Семейный  ко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который был введён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ействие с 1 марта 199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Картинка 1 из 5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89000"/>
            <a:ext cx="31892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татьи семейного ко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6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ава и обязанности родителей по воспитанию и образованию детей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обязаны заботиться о здоровье, физическом, психическом, духовном и нравственном развитии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0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бязанности родителей по содержанию несовершеннолетн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обязаны содержать своих несовершеннолетн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способные совершеннолетние дети обязаны содержать своих  нетрудоспособных нуждающихся в помощи родителей и заботиться 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clipstock.ucoz.ru/_ph/34/2/346801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835280" y="1698480"/>
            <a:ext cx="58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частье, любовь и удач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летом поездки на дачу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праздник, семейные даты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Подарки, покупки, приятные тра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Рожденье детей, первый шаг, первый лепет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Мечты о хорошем, волненье и трепет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труд, друг о друге забот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много домашней рабо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ва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л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Но счастливо жить одному невозм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Всегда будьте вместе, любовь берег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Обиды и ссоры подальше гон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Хочу, чтоб про вас говорили друзья: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26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по латыни будет «семья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ам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 теперь скажите «семья» по-итальян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ереведите с римского на русский: «патер фамилиа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тец сем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известно, греческая богиня Афина была богиней мудрости, и ее птицей считалась сова. А вот богиня Гера, супруга Зевса, считалась покровительницей семьи вообще и материнства в частности. Догадайтесь, какая птица считалась «птицей Геры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5. Эта римская богиня счастья и удачи покровительствовала новорождённым, целой семье, девам, отдельно могла покровительствовать замужним женщинам, мужчинам. Кто же она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орту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6. Одно значение этого слова происходит от немецкого слова, означающего «недостаток», а другое – от древнерусского глагола «брати». Что это за слов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ак – семейный сою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 Как называли на Руси пару лошадей или волов, запряжённых в одну упряжк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у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руги - находящиеся в одной упряжи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8. Есть буквенная семья, в которой, согласно многочисленным стихам, «тридцать три родных сестрицы». Что это за семь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ое выражение стало символом большой семьи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меро по лав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чему на Руси вплоть до XVIII века кузнец считался покровителем семьи и брака?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н ковал кольца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1. В древнейшие времена белый цвет у многих народов, в том числе и у славян, был цветом траура. Почему же на славянской свадьбе невесте надлежало надевать именно белые наря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о верованиям славян, невеста должна была умереть для своего рода, чтобы вновь возродиться в роду му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На Руси, когда вся семья собиралась за новогодним столом, дети связывали ножки стола лыковой верёвкой. Что символизировал этот новогодний обычай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Это означало, что семья в наступающем году будет крепкой  и не должна разл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 какой русской игрушке эта цитата из энциклопедии: «Она олицетворяет идею крепкой семьи, достатка, продолжения рода, несет в себе идею единства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трё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4. У нас говорят «глава семьи», а какой предмет одежды вспоминают англичане, когда хотят указать на главного из супругов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юки. Британский вариант вопроса «Кто у вас глава семьи?» в дословном переводе звучит так: «Кто у вас в семье носит брю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5. Это дорогое всем слово есть практически во всех славянских языках. В сербском и словенском языках оно имеет значение «хороший урожай». В чешском, словацком и польском оно означает «семья». Что это за слово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Р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09:52Z</dcterms:created>
  <dc:creator>Наталья Евгеньевна</dc:creator>
  <dc:description/>
  <dc:language>en-US</dc:language>
  <cp:lastModifiedBy>user</cp:lastModifiedBy>
  <dcterms:modified xsi:type="dcterms:W3CDTF">2024-02-07T02:20:13Z</dcterms:modified>
  <cp:revision>62</cp:revision>
  <dc:subject/>
  <dc:title>Слайд 1</dc:title>
</cp:coreProperties>
</file>