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DBB-249C-47BA-94D9-8392796D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415-DB07-4D8D-8144-D74A45DC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516-2671-462F-A5BF-40318E91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6D6-D4BC-48B0-90F6-D3D399E7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629-3202-437D-8459-1A117A6E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699-35E4-44BB-ACAD-FEB2D542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804-B2EE-4939-891C-47B9EAB0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F86-C84A-4D14-9B34-703E07D2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2AF-1BE8-4E02-B30D-C644E128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11C-CDC2-4E8F-A555-15D20EE3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4CC-79D6-4586-BBB8-664AE820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FBA-EEB1-4A5C-AA26-154D973C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5DE8-9255-4D76-A1F7-5CCD1EB1D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nsar.ru/uploads/imagesb/2010/12/b8906e27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187280" y="549360"/>
            <a:ext cx="6400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2929"/>
                </a:solidFill>
                <a:latin typeface="Arial"/>
              </a:rPr>
              <a:t>Международный день семь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праздник семьи"/>
          <p:cNvPicPr/>
          <p:nvPr/>
        </p:nvPicPr>
        <p:blipFill>
          <a:blip r:embed="rId1"/>
          <a:stretch/>
        </p:blipFill>
        <p:spPr>
          <a:xfrm>
            <a:off x="2124000" y="1484280"/>
            <a:ext cx="46386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Семья – группа людей, состоящая из родителей, детей, внуков и ближних родственников, живущих вместе.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                                     </a:t>
            </a:r>
            <a:r>
              <a:rPr b="1" i="1" lang="ru-RU" sz="2800" spc="-1" strike="noStrike">
                <a:solidFill>
                  <a:srgbClr val="cc0099"/>
                </a:solidFill>
                <a:latin typeface="Times New Roman"/>
              </a:rPr>
              <a:t>словарь Д. Н. Уш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95280" y="292428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Группа людей, связанных браком, кровным родством или усыновлением, совместно проживающих и имеющих общие доходы и расх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cc0099"/>
                </a:solidFill>
                <a:latin typeface="Times New Roman"/>
              </a:rPr>
              <a:t>из учебника «Основы безопасности жизнедеятельности – 11 кл./ А.Т. Смирнов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Семейный ко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29 декабря 199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Федеральным зако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№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223 – ФЗ был принят Семейный  кодек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Российской Федер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который был введён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действие с 1 марта 1996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Картинка 1 из 54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989000"/>
            <a:ext cx="318924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татьи семейного код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атья 6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Права и обязанности родителей по воспитанию и образованию детей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Родители имеют право и обязаны воспитывать сво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тели несут ответственность за воспитание и развитие своих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обязаны заботиться о здоровье, физическом, психическом, духовном и нравственном развитии сво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Родители обязаны обеспечить получение детьми основного общего образования и создать условия для получения ими среднего (полного) общ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атья 80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Обязанности родителей по содержанию несовершеннолетни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тели обязаны содержать своих несовершеннолетн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атья 8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Обязанности совершеннолетних детей по содержанию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удоспособные совершеннолетние дети обязаны содержать своих  нетрудоспособных нуждающихся в помощи родителей и заботиться о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://clipstock.ucoz.ru/_ph/34/2/3468014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835280" y="1698480"/>
            <a:ext cx="5833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счастье, любовь и удача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летом поездки на дачу.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праздник, семейные даты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Подарки, покупки, приятные траты.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Рожденье детей, первый шаг, первый лепет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Мечты о хорошем, волненье и трепет.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труд, друг о друге забота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много домашней работы.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важно!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сложно!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Но счастливо жить одному невозможно!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Всегда будьте вместе, любовь берегите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Обиды и ссоры подальше гоните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Хочу, чтоб про вас говорили друзья: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Какая хорошая ваша сем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507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я</a:t>
            </a:r>
            <a:endParaRPr b="0" lang="en-US" sz="3200" spc="1" strike="noStrike">
              <a:ln w="507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L26_p06_p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Как по латыни будет «семья»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Фами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А теперь скажите «семья» по-итальянски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Ма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ереведите с римского на русский: «патер фамилиас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Отец сем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Как известно, греческая богиня Афина была богиней мудрости, и ее птицей считалась сова. А вот богиня Гера, супруга Зевса, считалась покровительницей семьи вообще и материнства в частности. Догадайтесь, какая птица считалась «птицей Геры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А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5. Эта римская богиня счастья и удачи покровительствовала новорождённым, целой семье, девам, отдельно могла покровительствовать замужним женщинам, мужчинам. Кто же она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Форту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6. Одно значение этого слова происходит от немецкого слова, означающего «недостаток», а другое – от древнерусского глагола «брати». Что это за слово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Брак – семейный союз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7. Как называли на Руси пару лошадей или волов, запряжённых в одну упряжку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Су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пруги - находящиеся в одной упряжи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8. Есть буквенная семья, в которой, согласно многочисленным стихам, «тридцать три родных сестрицы». Что это за семья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Алфав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Какое выражение стало символом большой семьи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емеро по лав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0.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очему на Руси вплоть до XVIII века кузнец считался покровителем семьи и брака?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Он ковал кольца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1. В древнейшие времена белый цвет у многих народов, в том числе и у славян, был цветом траура. Почему же на славянской свадьбе невесте надлежало надевать именно белые наря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По верованиям славян, невеста должна была умереть для своего рода, чтобы вновь возродиться в роду муж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На Руси, когда вся семья собиралась за новогодним столом, дети связывали ножки стола лыковой верёвкой. Что символизировал этот новогодний обычай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Это означало, что семья в наступающем году будет крепкой  и не должна разлуч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О какой русской игрушке эта цитата из энциклопедии: «Она олицетворяет идею крепкой семьи, достатка, продолжения рода, несет в себе идею единства»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О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матрёш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4. У нас говорят «глава семьи», а какой предмет одежды вспоминают англичане, когда хотят указать на главного из супругов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Брюки. Британский вариант вопроса «Кто у вас глава семьи?» в дословном переводе звучит так: «Кто у вас в семье носит брюк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5. Это дорогое всем слово есть практически во всех славянских языках. В сербском и словенском языках оно имеет значение «хороший урожай». В чешском, словацком и польском оно означает «семья». Что это за слово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Р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0:09:52Z</dcterms:created>
  <dc:creator>Наталья Евгеньевна</dc:creator>
  <dc:description/>
  <dc:language>en-US</dc:language>
  <cp:lastModifiedBy>user</cp:lastModifiedBy>
  <dcterms:modified xsi:type="dcterms:W3CDTF">2024-02-07T02:20:13Z</dcterms:modified>
  <cp:revision>62</cp:revision>
  <dc:subject/>
  <dc:title>Слайд 1</dc:title>
</cp:coreProperties>
</file>