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CC9-0245-4BCB-B5EE-9650483C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406-CE34-4481-A5E7-D2718AFF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D8A-A99B-4C9B-A440-982FA560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03A-6AE0-46A2-89EF-B33469B9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F7F-C75C-4D31-9D3B-5BFCD8EE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78B-CC15-44E9-8B19-2DCAD449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5DF-FFA1-4BAE-9F03-B2074782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D64-2D24-484C-BA13-6A6AA5AF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985-0381-44DD-A2B7-1CABE90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EA2-9FDB-46B2-A0A3-9DA449A6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B87-B50E-40D3-A1AD-A67BE42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02F-B657-45C8-B60A-4E24EE85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E966-5F4B-4FF4-BCCE-757688FA1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sar.ru/uploads/imagesb/2010/12/b8906e2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187280" y="549360"/>
            <a:ext cx="6400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2929"/>
                </a:solidFill>
                <a:latin typeface="Arial"/>
              </a:rPr>
              <a:t>Международный день семь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праздник семьи"/>
          <p:cNvPicPr/>
          <p:nvPr/>
        </p:nvPicPr>
        <p:blipFill>
          <a:blip r:embed="rId1"/>
          <a:stretch/>
        </p:blipFill>
        <p:spPr>
          <a:xfrm>
            <a:off x="2124000" y="1484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Семья – группа людей, состоящая из родителей, детей, внуков и ближних родственников, живущих вместе.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                                     </a:t>
            </a: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словарь Д. Н. Уш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95280" y="292428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</a:rPr>
              <a:t>Группа людей, связанных браком, кровным родством или усыновлением, совместно проживающих и имеющих общие доходы и расх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из учебника «Основы безопасности жизнедеятельности – 11 кл./ А.Т. Смирнов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емейный ко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29 декабря 199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Федеральным зако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№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223 – ФЗ был принят Семейный  код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Российской Федер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который был введён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действие с 1 марта 1996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Картинка 1 из 54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989000"/>
            <a:ext cx="31892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татьи семейного ко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6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Права и обязанности родителей по воспитанию и образованию детей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одители имеют право и обязаны воспитывать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тели несут ответственность за воспитание и развитие своих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обязаны заботиться о здоровье, физическом, психическом, духовном и нравственном развитии сво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0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Обязанности родителей по содержанию несовершеннолетн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тели обязаны содержать своих несовершеннолетни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атья 8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Обязанности совершеннолетних детей по содержанию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оспособные совершеннолетние дети обязаны содержать своих  нетрудоспособных нуждающихся в помощи родителей и заботиться о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clipstock.ucoz.ru/_ph/34/2/3468014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835280" y="1698480"/>
            <a:ext cx="583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счастье, любовь и удача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летом поездки на дачу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праздник, семейные даты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Подарки, покупки, приятные траты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Рожденье детей, первый шаг, первый лепет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Мечты о хорошем, волненье и трепет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труд, друг о друге забота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много домашней работы.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важно!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Семья – это сложно!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Но счастливо жить одному невозможно!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Всегда будьте вместе, любовь берегите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Обиды и ссоры подальше гоните,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Хочу, чтоб про вас говорили друзья: </a:t>
            </a:r>
            <a:br>
              <a:rPr sz="2000"/>
            </a:b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Какая хорошая ваша сем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507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</a:t>
            </a:r>
            <a:endParaRPr b="0" lang="en-US" sz="3200" spc="1" strike="noStrike">
              <a:ln w="507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26_p06_p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по латыни будет «семья»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ам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А теперь скажите «семья» по-итальянск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ереведите с римского на русский: «патер фамилиа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тец сем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 известно, греческая богиня Афина была богиней мудрости, и ее птицей считалась сова. А вот богиня Гера, супруга Зевса, считалась покровительницей семьи вообще и материнства в частности. Догадайтесь, какая птица считалась «птицей Геры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5. Эта римская богиня счастья и удачи покровительствовала новорождённым, целой семье, девам, отдельно могла покровительствовать замужним женщинам, мужчинам. Кто же она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Форту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6. Одно значение этого слова происходит от немецкого слова, означающего «недостаток», а другое – от древнерусского глагола «брати». Что это за слово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Брак – семейный сою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7. Как называли на Руси пару лошадей или волов, запряжённых в одну упряжку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Су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руги - находящиеся в одной упряжи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8. Есть буквенная семья, в которой, согласно многочисленным стихам, «тридцать три родных сестрицы». Что это за семья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Алфав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Какое выражение стало символом большой семьи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емеро по лав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0.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очему на Руси вплоть до XVIII века кузнец считался покровителем семьи и брака?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н ковал кольца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1. В древнейшие времена белый цвет у многих народов, в том числе и у славян, был цветом траура. Почему же на славянской свадьбе невесте надлежало надевать именно белые наря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о верованиям славян, невеста должна была умереть для своего рода, чтобы вновь возродиться в роду муж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На Руси, когда вся семья собиралась за новогодним столом, дети связывали ножки стола лыковой верёвкой. Что символизировал этот новогодний обычай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Это означало, что семья в наступающем году будет крепкой  и не должна разлуч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О какой русской игрушке эта цитата из энциклопедии: «Она олицетворяет идею крепкой семьи, достатка, продолжения рода, несет в себе идею единства»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атрё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4. У нас говорят «глава семьи», а какой предмет одежды вспоминают англичане, когда хотят указать на главного из супругов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Брюки. Британский вариант вопроса «Кто у вас глава семьи?» в дословном переводе звучит так: «Кто у вас в семье носит брюк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15. Это дорогое всем слово есть практически во всех славянских языках. В сербском и словенском языках оно имеет значение «хороший урожай». В чешском, словацком и польском оно означает «семья». Что это за слово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Р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0:09:52Z</dcterms:created>
  <dc:creator>Наталья Евгеньевна</dc:creator>
  <dc:description/>
  <dc:language>en-US</dc:language>
  <cp:lastModifiedBy>user</cp:lastModifiedBy>
  <dcterms:modified xsi:type="dcterms:W3CDTF">2024-02-07T02:20:13Z</dcterms:modified>
  <cp:revision>62</cp:revision>
  <dc:subject/>
  <dc:title>Слайд 1</dc:title>
</cp:coreProperties>
</file>