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F25-1191-4BA9-A576-4023F546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251-7E6B-42A9-8495-22CD4174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54E-82A9-4274-B376-E7A177BC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A76-4B76-4CC0-BAF7-F07C0A71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B1A-A763-479F-B3AB-A34D7C7C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0CD-C4E1-409F-B98F-C7CD8DC8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FF6-E4F7-4A29-A096-76AC1BAB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0F6-88C5-43B5-9D23-24C2D1EF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E12-B097-4994-9DCD-3C268C97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B9F-BB49-4856-8FC0-EC19557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97B-A009-46F4-84B0-38481F21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A4D-F3B6-4EF0-A390-C56A5CEF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17E4-296F-45F5-B1B5-A6E11B7F7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11280" y="549360"/>
            <a:ext cx="7657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    г о с т и  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</a:t>
            </a: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    в е с н е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3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4404eced2f23a5fde3f48c7232c2b30 - копия"/>
          <p:cNvPicPr/>
          <p:nvPr/>
        </p:nvPicPr>
        <p:blipFill>
          <a:blip r:embed="rId2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оловод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://www.stihi.ru/pics/2012/03/18/10286.jpg"/>
          <p:cNvPicPr/>
          <p:nvPr/>
        </p:nvPicPr>
        <p:blipFill>
          <a:blip r:embed="rId1"/>
          <a:stretch/>
        </p:blipFill>
        <p:spPr>
          <a:xfrm>
            <a:off x="500040" y="1357200"/>
            <a:ext cx="8143920" cy="5072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рота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club.foto.ru/gallery/images/photo/2012/04/21/1964289.jpg"/>
          <p:cNvPicPr/>
          <p:nvPr/>
        </p:nvPicPr>
        <p:blipFill>
          <a:blip r:embed="rId1"/>
          <a:stretch/>
        </p:blipFill>
        <p:spPr>
          <a:xfrm>
            <a:off x="857160" y="1285920"/>
            <a:ext cx="7000920" cy="506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1151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оттеп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://www.stihi.ru/pics/2010/03/28/4487.jpg"/>
          <p:cNvPicPr/>
          <p:nvPr/>
        </p:nvPicPr>
        <p:blipFill>
          <a:blip r:embed="rId1"/>
          <a:stretch/>
        </p:blipFill>
        <p:spPr>
          <a:xfrm>
            <a:off x="714240" y="1785960"/>
            <a:ext cx="7643880" cy="4643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кап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belka.gorod.tomsk.ru/uploads/20549/1300710167/3ca56d37_2228_416c_a81b_0ce2c688ef66.jpg"/>
          <p:cNvPicPr/>
          <p:nvPr/>
        </p:nvPicPr>
        <p:blipFill>
          <a:blip r:embed="rId1"/>
          <a:stretch/>
        </p:blipFill>
        <p:spPr>
          <a:xfrm>
            <a:off x="642960" y="2000160"/>
            <a:ext cx="7858080" cy="4386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ть-и-маче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maam.ru/upload/blogs/55e3002aeb83f21e4b77c4c28ff56aa3.jpg.jpg"/>
          <p:cNvPicPr/>
          <p:nvPr/>
        </p:nvPicPr>
        <p:blipFill>
          <a:blip r:embed="rId1"/>
          <a:stretch/>
        </p:blipFill>
        <p:spPr>
          <a:xfrm>
            <a:off x="1714680" y="1214280"/>
            <a:ext cx="5276520" cy="539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еду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flamber.ru/files/photos/1160060741/1176393796_o.jpg"/>
          <p:cNvPicPr/>
          <p:nvPr/>
        </p:nvPicPr>
        <p:blipFill>
          <a:blip r:embed="rId1"/>
          <a:stretch/>
        </p:blipFill>
        <p:spPr>
          <a:xfrm>
            <a:off x="500040" y="1285920"/>
            <a:ext cx="8001000" cy="4929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хохл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img1.liveinternet.ru/images/attach/c/8/99/127/99127177_0_5c265_770bada9_XL.jpg"/>
          <p:cNvPicPr/>
          <p:nvPr/>
        </p:nvPicPr>
        <p:blipFill>
          <a:blip r:embed="rId1"/>
          <a:stretch/>
        </p:blipFill>
        <p:spPr>
          <a:xfrm>
            <a:off x="1214280" y="157176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галант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Galanthus nival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143760" cy="4929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гр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naturephoto-cz.com/fullsize/birds/rook-17553.jpg"/>
          <p:cNvPicPr/>
          <p:nvPr/>
        </p:nvPicPr>
        <p:blipFill>
          <a:blip r:embed="rId1"/>
          <a:stretch/>
        </p:blipFill>
        <p:spPr>
          <a:xfrm>
            <a:off x="500040" y="1428840"/>
            <a:ext cx="8358120" cy="461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Узнаем  о весенних явлениях в неживой и живой природе.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Будем учиться рассказывать  о своих наблюдениях  в природе  родного кра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s://farm5.staticflickr.com/4029/4469616191_fb05142c2f_o.jpg"/>
          <p:cNvPicPr/>
          <p:nvPr/>
        </p:nvPicPr>
        <p:blipFill>
          <a:blip r:embed="rId1"/>
          <a:stretch/>
        </p:blipFill>
        <p:spPr>
          <a:xfrm>
            <a:off x="642960" y="1190520"/>
            <a:ext cx="7620120" cy="5024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соло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naturelight.ru/photo/2009-05-22/21377.jpg"/>
          <p:cNvPicPr/>
          <p:nvPr/>
        </p:nvPicPr>
        <p:blipFill>
          <a:blip r:embed="rId1"/>
          <a:stretch/>
        </p:blipFill>
        <p:spPr>
          <a:xfrm>
            <a:off x="357120" y="1285920"/>
            <a:ext cx="8429760" cy="4938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/>
          <p:cNvSpPr/>
          <p:nvPr/>
        </p:nvSpPr>
        <p:spPr>
          <a:xfrm>
            <a:off x="539640" y="189000"/>
            <a:ext cx="5400720" cy="2160360"/>
          </a:xfrm>
          <a:prstGeom prst="cloudCallout">
            <a:avLst>
              <a:gd name="adj1" fmla="val 70194"/>
              <a:gd name="adj2" fmla="val 67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50160" y="496800"/>
            <a:ext cx="359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а кто зн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стречают вес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и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042056"/>
          <p:cNvPicPr/>
          <p:nvPr/>
        </p:nvPicPr>
        <p:blipFill>
          <a:blip r:embed="rId1"/>
          <a:stretch/>
        </p:blipFill>
        <p:spPr>
          <a:xfrm>
            <a:off x="0" y="4797360"/>
            <a:ext cx="291636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f_0568"/>
          <p:cNvPicPr/>
          <p:nvPr/>
        </p:nvPicPr>
        <p:blipFill>
          <a:blip r:embed="rId2"/>
          <a:stretch/>
        </p:blipFill>
        <p:spPr>
          <a:xfrm>
            <a:off x="3059280" y="4768920"/>
            <a:ext cx="2374560" cy="20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f_0572"/>
          <p:cNvPicPr/>
          <p:nvPr/>
        </p:nvPicPr>
        <p:blipFill>
          <a:blip r:embed="rId3"/>
          <a:stretch/>
        </p:blipFill>
        <p:spPr>
          <a:xfrm>
            <a:off x="2627280" y="2781360"/>
            <a:ext cx="2521080" cy="1969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nimals_10"/>
          <p:cNvPicPr/>
          <p:nvPr/>
        </p:nvPicPr>
        <p:blipFill>
          <a:blip r:embed="rId4"/>
          <a:stretch/>
        </p:blipFill>
        <p:spPr>
          <a:xfrm>
            <a:off x="0" y="2492280"/>
            <a:ext cx="2592360" cy="215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ЛИСА~1"/>
          <p:cNvPicPr/>
          <p:nvPr/>
        </p:nvPicPr>
        <p:blipFill>
          <a:blip r:embed="rId5"/>
          <a:stretch/>
        </p:blipFill>
        <p:spPr>
          <a:xfrm>
            <a:off x="6299280" y="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08760" y="2253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Century Gothic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19120" y="18900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entury Gothic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474720" y="40766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99"/>
                </a:solidFill>
                <a:uFillTx/>
                <a:latin typeface="Comic Sans MS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430880" y="5157720"/>
            <a:ext cx="16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82520" y="5862600"/>
            <a:ext cx="284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83240" y="431640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рилёт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774880" y="582768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ервые 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230520" y="5877000"/>
            <a:ext cx="22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е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183240" y="532440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аивание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659480" y="4581360"/>
            <a:ext cx="44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 насеко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287960" y="6278400"/>
            <a:ext cx="40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ение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518520" y="5035680"/>
            <a:ext cx="2320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и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26880" y="4892760"/>
            <a:ext cx="27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яние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-0.13241 L 0.0401 -0.5419 E">
                                      <p:cBhvr>
                                        <p:cTn id="2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10092 L 0.54115 -0.62592 E">
                                      <p:cBhvr>
                                        <p:cTn id="2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9028 L 0.5434 -0.6257 E">
                                      <p:cBhvr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9514 L 0.0408 -0.71458 E">
                                      <p:cBhvr>
                                        <p:cTn id="2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-0.13218 L 0.27135 -0.63612 E">
                                      <p:cBhvr>
                                        <p:cTn id="3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65 -0.09017 L 0.08421 -0.45734 E">
                                      <p:cBhvr>
                                        <p:cTn id="3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49 -0.08972 L -0.65469 -0.46451 E">
                                      <p:cBhvr>
                                        <p:cTn id="3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-0.0911 L -0.44167 -0.51121 E">
                                      <p:cBhvr>
                                        <p:cTn id="3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8 -0.1007 L -0.47518 -0.18473 E"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-0.16393 L -0.1165 -0.50358 E">
                                      <p:cBhvr>
                                        <p:cTn id="4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626560" y="18900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-146160" y="1052640"/>
            <a:ext cx="79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Стр. 86-89 учебника, прочитать, подгото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ере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2. Нарисовать знак защиты природы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 *. Подготовить  сообщения на 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« Кто как весну встреча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684360" y="5229360"/>
            <a:ext cx="4608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ru-RU" sz="9600" spc="-1" strike="noStrike">
                <a:solidFill>
                  <a:srgbClr val="009900"/>
                </a:solidFill>
                <a:latin typeface="Arial"/>
              </a:rPr>
              <a:t>Спасибо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.По своим наблюдениям расскажи, как изменилась погода с приходом весны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2.Что изменилось  весной в жизни растений и живот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9900"/>
                </a:solidFill>
                <a:latin typeface="Arial"/>
              </a:rPr>
              <a:t>май  март апр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im1-tub-ru.yandex.net/i?id=c969b54b66a8a6a8866be1d00537818e&amp;n=33&amp;h=215&amp;w=323"/>
          <p:cNvPicPr/>
          <p:nvPr/>
        </p:nvPicPr>
        <p:blipFill>
          <a:blip r:embed="rId1"/>
          <a:stretch/>
        </p:blipFill>
        <p:spPr>
          <a:xfrm>
            <a:off x="1143000" y="1428840"/>
            <a:ext cx="6572160" cy="471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апр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xn--1-7sb7akeho.xn--p1ai/wp-content/uploads/2013/08/%D0%A7%D0%B0%D0%BF%D0%BB%D1%8B%D0%B3%D0%B8%D0%BD-%D0%A1%D0%B5%D1%80%D0%B3%D0%B5%D0%B9-%D0%90%D0%BF%D1%80%D0%B5%D0%BB%D1%8C.jpg"/>
          <p:cNvPicPr/>
          <p:nvPr/>
        </p:nvPicPr>
        <p:blipFill>
          <a:blip r:embed="rId1"/>
          <a:stretch/>
        </p:blipFill>
        <p:spPr>
          <a:xfrm>
            <a:off x="500040" y="128592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i.sunhome.ru/foto/185/mesyats_may.jpg"/>
          <p:cNvPicPr/>
          <p:nvPr/>
        </p:nvPicPr>
        <p:blipFill>
          <a:blip r:embed="rId1"/>
          <a:stretch/>
        </p:blipFill>
        <p:spPr>
          <a:xfrm>
            <a:off x="1785960" y="150012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Узнаем  о весенних явлениях в неживой и живой природе.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Будем учиться рассказывать  о своих наблюдениях  в природе  родного кр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ледо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s.newslab.ru/photoalbum/1944/m/20223.jpg"/>
          <p:cNvPicPr/>
          <p:nvPr/>
        </p:nvPicPr>
        <p:blipFill>
          <a:blip r:embed="rId1"/>
          <a:stretch/>
        </p:blipFill>
        <p:spPr>
          <a:xfrm>
            <a:off x="285840" y="135720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45:41Z</dcterms:created>
  <dc:creator>*</dc:creator>
  <dc:description/>
  <dc:language>en-US</dc:language>
  <cp:lastModifiedBy>Я</cp:lastModifiedBy>
  <dcterms:modified xsi:type="dcterms:W3CDTF">2016-02-26T14:48:10Z</dcterms:modified>
  <cp:revision>42</cp:revision>
  <dc:subject/>
  <dc:title>Слайд 1</dc:title>
</cp:coreProperties>
</file>