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05E-BC29-419B-A84F-5F660384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3D6-D8D0-413C-94DD-797BB5D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4FF-59CF-46D6-BBC0-1FAD6987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4BA-FC6E-4A89-B4A1-CE74CA39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22-0082-4C7D-B254-79259A7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EE6-AEBA-4335-8FD7-7A6B40C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503-7BC6-4B67-B3F2-098CC84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285-BD4C-4974-A351-DEEF971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1AA-B285-4940-877E-215E782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725-2D19-4D9B-838A-AE722C3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092-AF7C-4414-9104-0177B6C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D0F-D0FC-40B6-BAB5-FA15290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E87-5105-448D-BEDF-69CA13403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ловод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www.stihi.ru/pics/2012/03/18/10286.jpg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50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ота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lub.foto.ru/gallery/images/photo/2012/04/21/1964289.jpg"/>
          <p:cNvPicPr/>
          <p:nvPr/>
        </p:nvPicPr>
        <p:blipFill>
          <a:blip r:embed="rId1"/>
          <a:stretch/>
        </p:blipFill>
        <p:spPr>
          <a:xfrm>
            <a:off x="857160" y="1285920"/>
            <a:ext cx="7000920" cy="50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151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тте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stihi.ru/pics/2010/03/28/4487.jpg"/>
          <p:cNvPicPr/>
          <p:nvPr/>
        </p:nvPicPr>
        <p:blipFill>
          <a:blip r:embed="rId1"/>
          <a:stretch/>
        </p:blipFill>
        <p:spPr>
          <a:xfrm>
            <a:off x="714240" y="1785960"/>
            <a:ext cx="7643880" cy="46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belka.gorod.tomsk.ru/uploads/20549/1300710167/3ca56d37_2228_416c_a81b_0ce2c688ef66.jpg"/>
          <p:cNvPicPr/>
          <p:nvPr/>
        </p:nvPicPr>
        <p:blipFill>
          <a:blip r:embed="rId1"/>
          <a:stretch/>
        </p:blipFill>
        <p:spPr>
          <a:xfrm>
            <a:off x="642960" y="2000160"/>
            <a:ext cx="7858080" cy="438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ть-и-мач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maam.ru/upload/blogs/55e3002aeb83f21e4b77c4c28ff56aa3.jpg.jpg"/>
          <p:cNvPicPr/>
          <p:nvPr/>
        </p:nvPicPr>
        <p:blipFill>
          <a:blip r:embed="rId1"/>
          <a:stretch/>
        </p:blipFill>
        <p:spPr>
          <a:xfrm>
            <a:off x="1714680" y="1214280"/>
            <a:ext cx="5276520" cy="539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еду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lamber.ru/files/photos/1160060741/1176393796_o.jpg"/>
          <p:cNvPicPr/>
          <p:nvPr/>
        </p:nvPicPr>
        <p:blipFill>
          <a:blip r:embed="rId1"/>
          <a:stretch/>
        </p:blipFill>
        <p:spPr>
          <a:xfrm>
            <a:off x="500040" y="1285920"/>
            <a:ext cx="800100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хохл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g1.liveinternet.ru/images/attach/c/8/99/127/99127177_0_5c265_770bada9_XL.jpg"/>
          <p:cNvPicPr/>
          <p:nvPr/>
        </p:nvPicPr>
        <p:blipFill>
          <a:blip r:embed="rId1"/>
          <a:stretch/>
        </p:blipFill>
        <p:spPr>
          <a:xfrm>
            <a:off x="1214280" y="157176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алан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alanthus nival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14376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р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aturephoto-cz.com/fullsize/birds/rook-17553.jpg"/>
          <p:cNvPicPr/>
          <p:nvPr/>
        </p:nvPicPr>
        <p:blipFill>
          <a:blip r:embed="rId1"/>
          <a:stretch/>
        </p:blipFill>
        <p:spPr>
          <a:xfrm>
            <a:off x="500040" y="1428840"/>
            <a:ext cx="8358120" cy="461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farm5.staticflickr.com/4029/4469616191_fb05142c2f_o.jpg"/>
          <p:cNvPicPr/>
          <p:nvPr/>
        </p:nvPicPr>
        <p:blipFill>
          <a:blip r:embed="rId1"/>
          <a:stretch/>
        </p:blipFill>
        <p:spPr>
          <a:xfrm>
            <a:off x="642960" y="1190520"/>
            <a:ext cx="7620120" cy="502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naturelight.ru/photo/2009-05-22/21377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493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42056"/>
          <p:cNvPicPr/>
          <p:nvPr/>
        </p:nvPicPr>
        <p:blipFill>
          <a:blip r:embed="rId1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_0568"/>
          <p:cNvPicPr/>
          <p:nvPr/>
        </p:nvPicPr>
        <p:blipFill>
          <a:blip r:embed="rId2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_0572"/>
          <p:cNvPicPr/>
          <p:nvPr/>
        </p:nvPicPr>
        <p:blipFill>
          <a:blip r:embed="rId3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imals_10"/>
          <p:cNvPicPr/>
          <p:nvPr/>
        </p:nvPicPr>
        <p:blipFill>
          <a:blip r:embed="rId4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ЛИСА~1"/>
          <p:cNvPicPr/>
          <p:nvPr/>
        </p:nvPicPr>
        <p:blipFill>
          <a:blip r:embed="rId5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3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3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3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626560" y="18900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-146160" y="1052640"/>
            <a:ext cx="79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Стр. 86-89 учебника, прочитать, подгот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ре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. Нарисовать знак защиты природы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 *. Подготовить  сообщения на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« Кто как весну встреч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684360" y="5229360"/>
            <a:ext cx="460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Спасибо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.По своим наблюдениям расскажи, как изменилась погода с приходом весн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.Что изменилось  весной в жизни растений и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9900"/>
                </a:solidFill>
                <a:latin typeface="Arial"/>
              </a:rPr>
              <a:t>май  март апр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1-tub-ru.yandex.net/i?id=c969b54b66a8a6a8866be1d00537818e&amp;n=33&amp;h=215&amp;w=323"/>
          <p:cNvPicPr/>
          <p:nvPr/>
        </p:nvPicPr>
        <p:blipFill>
          <a:blip r:embed="rId1"/>
          <a:stretch/>
        </p:blipFill>
        <p:spPr>
          <a:xfrm>
            <a:off x="1143000" y="1428840"/>
            <a:ext cx="6572160" cy="471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xn--1-7sb7akeho.xn--p1ai/wp-content/uploads/2013/08/%D0%A7%D0%B0%D0%BF%D0%BB%D1%8B%D0%B3%D0%B8%D0%BD-%D0%A1%D0%B5%D1%80%D0%B3%D0%B5%D0%B9-%D0%90%D0%BF%D1%80%D0%B5%D0%BB%D1%8C.jpg"/>
          <p:cNvPicPr/>
          <p:nvPr/>
        </p:nvPicPr>
        <p:blipFill>
          <a:blip r:embed="rId1"/>
          <a:stretch/>
        </p:blipFill>
        <p:spPr>
          <a:xfrm>
            <a:off x="500040" y="128592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.sunhome.ru/foto/185/mesyats_may.jpg"/>
          <p:cNvPicPr/>
          <p:nvPr/>
        </p:nvPicPr>
        <p:blipFill>
          <a:blip r:embed="rId1"/>
          <a:stretch/>
        </p:blipFill>
        <p:spPr>
          <a:xfrm>
            <a:off x="1785960" y="150012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s.newslab.ru/photoalbum/1944/m/20223.jpg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Я</cp:lastModifiedBy>
  <dcterms:modified xsi:type="dcterms:W3CDTF">2016-02-26T14:48:10Z</dcterms:modified>
  <cp:revision>42</cp:revision>
  <dc:subject/>
  <dc:title>Слайд 1</dc:title>
</cp:coreProperties>
</file>