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C2C7B0CF-1D37-480E-83B5-0CA49A3996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644BC7E5-176E-4FE0-A634-3DB22E7E87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B7B0A93A-B59A-4E94-AAD1-667B39FC1A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5678DC7E-7AE3-46BF-9F67-51B935E0E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6"/>
          <p:cNvSpPr/>
          <p:nvPr/>
        </p:nvSpPr>
        <p:spPr>
          <a:xfrm>
            <a:off x="3882960" y="8685360"/>
            <a:ext cx="2959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7363BD3B-19D5-4F95-B695-46486C10C3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2960" y="8685360"/>
            <a:ext cx="2960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8F803A2-3236-438B-8F86-2291595766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375-2E59-4712-800D-251EAB2C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98A-52E2-43D5-AE4E-7B650FB4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22A-414E-4F51-A32E-47A1B550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0B2-FE2F-4D17-8C01-E0EEEC07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154A-23E8-45A3-925B-CEE1B532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458D-7FB3-4DAC-9675-2C3134F1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010D-A973-4A39-851B-9E8370E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9FE2-778F-47E7-9ED6-9C956993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49FD-14AA-44ED-B35F-8FE73E26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C27A-B927-413B-B978-D05BC628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E058-C3ED-4CCA-8FEE-C5C7B15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7EC-4E00-4710-8ED8-2F60F0C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4D07-22DE-4755-9D0E-10B9B77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B523-480F-476D-BD0F-B033DF99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9AB2-5E3B-4EE3-86C2-8C95316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22C8-951C-479A-A0D6-595468DA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88E0-24F3-43C6-A040-05BCB797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D202-2670-4975-B1E2-10F39C8C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5654-5C45-4600-B925-13E36CB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63BC-86FA-4C24-9968-3C7E816B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6F1E-917F-4420-845A-E394E3B8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08FA-A292-4014-9322-3FD54254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D7D-1F6B-4B30-9C40-B17D5CC7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5C1BA-AFE6-40A5-BEE8-22844BD7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FAD0-F6F5-4807-BABF-B371ECE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9443-4104-410B-89E0-0BAD420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BA44-747B-4764-8BF1-DA3FEDE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83E5-2ADD-4B37-8979-ECAF8490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4BAF-50C2-4347-B147-08847127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4C50-78AB-4646-8D2C-2844B9A3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CA9-3D75-46FE-ABF1-E8577F2A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62B-2621-4550-9FB9-946CF311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E58-13C2-4A9D-A049-79AD9297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A8D-19BB-4096-9D14-50EC3BB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352-0706-4C93-85CF-3878DE8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B28-4393-44EE-B023-0ED81E7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97A71F-7C1A-4DFE-98FA-A8D35654E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F35B90-03BD-444C-88AD-EC872C8ECE0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D3E6C6-3046-4154-B775-27AE3159283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503360" y="576360"/>
            <a:ext cx="6343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7e0021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68360" y="1916280"/>
            <a:ext cx="511164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95280" y="1052640"/>
            <a:ext cx="2214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композиция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95280" y="1844640"/>
            <a:ext cx="2000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развязка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179280" y="2925720"/>
            <a:ext cx="2522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кульминация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68360" y="400536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завяз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916360" y="981000"/>
            <a:ext cx="52149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Расположение, то есть построение , произве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916360" y="1773360"/>
            <a:ext cx="5903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Событие, знаменующее начало развития действия в эпических и драматических произведе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627280" y="2938320"/>
            <a:ext cx="6337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Изображение одного события в произведении, имеющего начало и конец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2340000" y="4683240"/>
            <a:ext cx="6480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дин из элементов сюжета, заключительный момент в развитии действия в художественном произвед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1258920" y="260280"/>
            <a:ext cx="669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йди соответств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95280" y="472428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сюж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9640" y="5877000"/>
            <a:ext cx="2428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эпиз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2484360" y="5818320"/>
            <a:ext cx="62326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омент наивысшего напряжения в художественном произведе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2987640" y="3860640"/>
            <a:ext cx="5761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пь событий, происходящих в произвед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4356000" y="4221000"/>
            <a:ext cx="43736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573720" y="453384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6" descr="25935"/>
          <p:cNvPicPr/>
          <p:nvPr/>
        </p:nvPicPr>
        <p:blipFill>
          <a:blip r:embed="rId1"/>
          <a:stretch/>
        </p:blipFill>
        <p:spPr>
          <a:xfrm>
            <a:off x="934920" y="2492280"/>
            <a:ext cx="3059280" cy="4076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0" y="11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дружбы в рассказе Л.Н.Толстого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Кавказский пленник»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Жилин и Ди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4500720" y="3284640"/>
            <a:ext cx="4248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 – это одно из самых светлых чувств, присущих человеку, это форма взаимоотношений между люд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26"/>
          <p:cNvSpPr/>
          <p:nvPr/>
        </p:nvSpPr>
        <p:spPr>
          <a:xfrm>
            <a:off x="468360" y="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блемные вопро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81"/>
          <p:cNvSpPr/>
          <p:nvPr/>
        </p:nvSpPr>
        <p:spPr>
          <a:xfrm>
            <a:off x="755640" y="759240"/>
            <a:ext cx="7993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Что такое дружба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Возможная ли дружба между людьми разных национальностей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Как необходимо относиться к людям другой национальности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Что роднит всех людей, помогает преодолевать национальную враж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С какой целью вводит Л. Н. Толстой образ Дины в свое произведение? Какова роль этого персонажа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*Какова главная мысль (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идея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) рассказа «Кавказский пленник»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Что такое друж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280" y="1519200"/>
            <a:ext cx="7993080" cy="33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жба – бескорыстная стойкая приязнь”. (В.И.Дал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жба - это близкие отношения, основанные на взаимном доверии, привязанности, общности интере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(С.И.Ожег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539640" y="189000"/>
            <a:ext cx="7091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 ком идет речь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826920" y="1125360"/>
            <a:ext cx="390708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ежала девочка – тоненькая, худенькая, лет 13. Одета в длинную рубаху, синюю, с широкими рукавами и без пояса. Глаза чёрные, светлые, и лицом красива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" descr="В яме19"/>
          <p:cNvPicPr/>
          <p:nvPr/>
        </p:nvPicPr>
        <p:blipFill>
          <a:blip r:embed="rId1"/>
          <a:stretch/>
        </p:blipFill>
        <p:spPr>
          <a:xfrm>
            <a:off x="4857840" y="571680"/>
            <a:ext cx="3500280" cy="24699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00" name="TextBox 4"/>
          <p:cNvSpPr/>
          <p:nvPr/>
        </p:nvSpPr>
        <p:spPr>
          <a:xfrm>
            <a:off x="826920" y="4149720"/>
            <a:ext cx="374508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ит по аулу, насвистывает, а то сидит, что-нибудь рукодельничает – или из глины кукол лепит, или плетёт плетёнки из прутье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7" descr="В яме16"/>
          <p:cNvPicPr/>
          <p:nvPr/>
        </p:nvPicPr>
        <p:blipFill>
          <a:blip r:embed="rId2"/>
          <a:stretch/>
        </p:blipFill>
        <p:spPr>
          <a:xfrm>
            <a:off x="4929120" y="3357720"/>
            <a:ext cx="3456000" cy="28573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457200" y="274680"/>
          <a:ext cx="8229600" cy="495756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для сравн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од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тношение к люд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57200" y="274680"/>
          <a:ext cx="8229600" cy="6280200"/>
        </p:xfrm>
        <a:graphic>
          <a:graphicData uri="http://schemas.openxmlformats.org/drawingml/2006/table">
            <a:tbl>
              <a:tblPr/>
              <a:tblGrid>
                <a:gridCol w="2962440"/>
                <a:gridCol w="2808000"/>
                <a:gridCol w="245916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 для сравн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евочка-подрос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Взрослый муж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тар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ус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Род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ет, помогает по хозяй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фиц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Отношение к люд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страдание, уважение, забота о других, любовь к людям, стремление делать до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Уважение, любовь к людям, стремление делать до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уществительное (т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прилаг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глаг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за, несущая определённый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-ассоци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79866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ята, представьте, что вы встретили героев рассказа. Что бы вы им сказа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шите краткое послание  герою произведения – Жилину или Дин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определения литературоведческих терминов на стр. 25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Напишите небольшое письмо герою расс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рассуждение по начал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оящий друг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ен в счастье и в бед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гадай 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я главной геро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ак называли татары Костыл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Татарская дерев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Как по-кавказски «молодец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Верхняя мужская одежда  на Кав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Название жилища на Кав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708360" y="1125360"/>
          <a:ext cx="5256360" cy="4660920"/>
        </p:xfrm>
        <a:graphic>
          <a:graphicData uri="http://schemas.openxmlformats.org/drawingml/2006/table">
            <a:tbl>
              <a:tblPr/>
              <a:tblGrid>
                <a:gridCol w="863640"/>
                <a:gridCol w="936720"/>
                <a:gridCol w="960480"/>
                <a:gridCol w="830160"/>
                <a:gridCol w="831960"/>
                <a:gridCol w="8334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ассмотрите иллюстрации Георгия Балашова и определите, какие эпизоды изображены на ни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10"/>
          <p:cNvPicPr/>
          <p:nvPr/>
        </p:nvPicPr>
        <p:blipFill>
          <a:blip r:embed="rId1"/>
          <a:stretch/>
        </p:blipFill>
        <p:spPr>
          <a:xfrm>
            <a:off x="539640" y="1700280"/>
            <a:ext cx="82076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гадай 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907920"/>
          <a:ext cx="8229600" cy="5689800"/>
        </p:xfrm>
        <a:graphic>
          <a:graphicData uri="http://schemas.openxmlformats.org/drawingml/2006/table">
            <a:tbl>
              <a:tblPr/>
              <a:tblGrid>
                <a:gridCol w="1457280"/>
                <a:gridCol w="1563840"/>
                <a:gridCol w="1301760"/>
                <a:gridCol w="1301760"/>
                <a:gridCol w="1303200"/>
                <a:gridCol w="130176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539640" y="189000"/>
            <a:ext cx="7091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6" descr="В яме19"/>
          <p:cNvPicPr/>
          <p:nvPr/>
        </p:nvPicPr>
        <p:blipFill>
          <a:blip r:embed="rId1"/>
          <a:stretch/>
        </p:blipFill>
        <p:spPr>
          <a:xfrm>
            <a:off x="900000" y="3933720"/>
            <a:ext cx="3500640" cy="26146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16" name="TextBox 4"/>
          <p:cNvSpPr/>
          <p:nvPr/>
        </p:nvSpPr>
        <p:spPr>
          <a:xfrm>
            <a:off x="826920" y="4149720"/>
            <a:ext cx="374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7" descr="В яме16"/>
          <p:cNvPicPr/>
          <p:nvPr/>
        </p:nvPicPr>
        <p:blipFill>
          <a:blip r:embed="rId2"/>
          <a:stretch/>
        </p:blipFill>
        <p:spPr>
          <a:xfrm>
            <a:off x="684360" y="765000"/>
            <a:ext cx="3456000" cy="28576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0" y="14130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ин         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ухожил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прочное окончание мышц; жилистый, двужильный, си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         гре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инами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- сила, мощ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абск. «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- 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 flipH="1">
            <a:off x="5940000" y="19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23"/>
          <p:cNvSpPr/>
          <p:nvPr/>
        </p:nvSpPr>
        <p:spPr>
          <a:xfrm flipH="1">
            <a:off x="5651640" y="465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7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kavkazskij-plennik-6"/>
          <p:cNvPicPr/>
          <p:nvPr/>
        </p:nvPicPr>
        <p:blipFill>
          <a:blip r:embed="rId1"/>
          <a:stretch/>
        </p:blipFill>
        <p:spPr>
          <a:xfrm>
            <a:off x="395280" y="333360"/>
            <a:ext cx="8532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kavkazskij-plennik-13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kavkazskij-plennik-23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kavkazskij-plennik-17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343080" y="260280"/>
            <a:ext cx="8550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kavkazskij-plennik-31"/>
          <p:cNvPicPr/>
          <p:nvPr/>
        </p:nvPicPr>
        <p:blipFill>
          <a:blip r:embed="rId1"/>
          <a:stretch/>
        </p:blipFill>
        <p:spPr>
          <a:xfrm>
            <a:off x="179280" y="333360"/>
            <a:ext cx="8820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10:35Z</dcterms:created>
  <dc:creator>Харлова Н. Г.</dc:creator>
  <dc:description>Открытый урок по русской литературе по рассказу Толстого "Кавказский пленник". Скачать бесплатно конспект открытого урока по литературе по рассказу Толстого "Кавказский пленник"</dc:description>
  <cp:keywords>открытый урок русская литература Толстой кавказский пленник конспект урока</cp:keywords>
  <dc:language>en-US</dc:language>
  <cp:lastModifiedBy>Елена</cp:lastModifiedBy>
  <dcterms:modified xsi:type="dcterms:W3CDTF">2021-01-19T15:31:40Z</dcterms:modified>
  <cp:revision>29</cp:revision>
  <dc:subject>Открытый урок по русской литературе</dc:subject>
  <dc:title>Открытый урок по русской литературе по рассказу Толстого "Кавказский пленник" - Кавказский пленник</dc:title>
</cp:coreProperties>
</file>