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C0F4FC46-5D0E-4BB3-989F-D74BE65561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D8E0EBB-AEA2-4A95-AD6B-8B6DDB70F6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5E8F4C69-F7F5-416C-8317-F2C2F1C0D8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7689D4B-0735-4D19-8B0A-EA653C1DF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E4ABF6B0-3513-4387-A4A5-ABC0613E66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3B51781-408B-49C2-9B76-7A12C1C784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4F9-7E65-463D-91C0-2453E378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E9D-4A55-4EF4-905D-7E9AE70B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0AB-291A-414C-8E94-8A952640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B23-7681-4DC9-8E95-0C9201DA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4FF-AB5E-4735-940B-1AE91D10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7F85-F8E5-4CDC-BA3B-C7A9E3C4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C362-8B71-4021-AE99-E87D81CF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74C7-7FD4-41A7-ABCD-D27036D0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29A-CF5E-4C7E-B55D-5F2BAA56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0CE-9010-4751-A0ED-997E2CA0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58B0-6458-4BDB-9452-0FD46F2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EE1-B8D9-402E-93E4-0607ADB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7E2-D8D8-4840-93F5-6E4A1B3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1F82-E616-4673-98BD-2B17B2E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1C10-9C5E-4E49-8A1B-20D6F039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7733-D2A5-4100-A3FF-3BD4B909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8567-6E65-4EF5-AAE5-3614ABA3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52CC-F48F-4746-A860-663FEBE1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8E21-7FCE-4F0B-A4D6-CCF51C36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EB71-5AE0-482F-97A1-F505487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0DA4-9E28-4ACB-AB75-1CB8D58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6402-4F9C-4AAD-829A-04A1101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1B1-95CC-4E81-93C3-FF4E914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E77A6-63EE-4280-B598-7C151CA5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AF37-6D81-40F8-BFA7-E10ECA2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C705-39BF-4370-81E2-B4BBE36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DC7E-3449-4021-B647-BA3C62BA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519E-DB79-4CAD-B87F-BDF912A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B1FF-22BC-4DEC-8952-30B74339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CFB2-5D70-4FDC-B6AA-FB17B4DA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9DD-3B68-4675-A8DC-14F33CD9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9B2-2AC6-459F-8584-E4F5E149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887-B4BD-4BA7-9778-7F742B7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3EB-1D9A-4A9B-A33B-3FC42C7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C08-0C8D-4AF2-A4BF-CCA5930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5FD-497A-4097-A951-876A3F1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8DD414-DA68-4DED-A678-48C8A2A06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281B68-BF62-470C-8AE3-B1B8983D028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A38879-8496-4DE2-BD91-9B29967E147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503360" y="576360"/>
            <a:ext cx="634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7e0021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8360" y="1916280"/>
            <a:ext cx="511164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95280" y="1052640"/>
            <a:ext cx="221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композиция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95280" y="1844640"/>
            <a:ext cx="2000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азвязка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79280" y="2925720"/>
            <a:ext cx="2522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кульминация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68360" y="400536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завяз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916360" y="981000"/>
            <a:ext cx="5214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Расположение, то есть построение , произ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916360" y="1773360"/>
            <a:ext cx="5903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Событие, знаменующее начало развития действия в эпических и драматических произвед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627280" y="2938320"/>
            <a:ext cx="6337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Изображение одного события в произведении, имеющего начало и конец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2340000" y="4683240"/>
            <a:ext cx="6480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дин из элементов сюжета, заключительный момент в развитии действия в художественном произвед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1258920" y="260280"/>
            <a:ext cx="669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йди соответ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95280" y="472428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юж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9640" y="587700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эпиз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2484360" y="5818320"/>
            <a:ext cx="62326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омент наивысшего напряжения в художественном произвед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2987640" y="3860640"/>
            <a:ext cx="5761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пь событий, происходящих в произвед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4356000" y="4221000"/>
            <a:ext cx="43736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573720" y="453384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6" descr="25935"/>
          <p:cNvPicPr/>
          <p:nvPr/>
        </p:nvPicPr>
        <p:blipFill>
          <a:blip r:embed="rId1"/>
          <a:stretch/>
        </p:blipFill>
        <p:spPr>
          <a:xfrm>
            <a:off x="934920" y="2492280"/>
            <a:ext cx="3059280" cy="4076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0" y="11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дружбы в рассказе Л.Н.Толстог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Кавказский пленник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Жилин и Ди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4500720" y="3284640"/>
            <a:ext cx="4248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 – это одно из самых светлых чувств, присущих человеку, это форма взаимоотношений между люд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6"/>
          <p:cNvSpPr/>
          <p:nvPr/>
        </p:nvSpPr>
        <p:spPr>
          <a:xfrm>
            <a:off x="468360" y="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блемные вопро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81"/>
          <p:cNvSpPr/>
          <p:nvPr/>
        </p:nvSpPr>
        <p:spPr>
          <a:xfrm>
            <a:off x="755640" y="759240"/>
            <a:ext cx="7993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Что такое дружба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Возможная ли дружба между людьми разных национальностей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Как необходимо относиться к людям другой национальности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Что роднит всех людей, помогает преодолевать национальную враж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С какой целью вводит Л. Н. Толстой образ Дины в свое произведение? Какова роль этого персонажа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Какова главная мысль (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идея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) рассказа «Кавказский пленник»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Что такое др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280" y="1519200"/>
            <a:ext cx="7993080" cy="33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ба – бескорыстная стойкая приязнь”. (В.И.Дал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ба - это близкие отношения, основанные на взаимном доверии, привязанности, общности интере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(С.И.Ожег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539640" y="189000"/>
            <a:ext cx="70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 ком идет речь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826920" y="1125360"/>
            <a:ext cx="390708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жала девочка – тоненькая, худенькая, лет 13. Одета в длинную рубаху, синюю, с широкими рукавами и без пояса. Глаза чёрные, светлые, и лицом красив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В яме19"/>
          <p:cNvPicPr/>
          <p:nvPr/>
        </p:nvPicPr>
        <p:blipFill>
          <a:blip r:embed="rId1"/>
          <a:stretch/>
        </p:blipFill>
        <p:spPr>
          <a:xfrm>
            <a:off x="4857840" y="571680"/>
            <a:ext cx="3500280" cy="24699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00" name="TextBox 4"/>
          <p:cNvSpPr/>
          <p:nvPr/>
        </p:nvSpPr>
        <p:spPr>
          <a:xfrm>
            <a:off x="826920" y="4149720"/>
            <a:ext cx="37450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ит по аулу, насвистывает, а то сидит, что-нибудь рукодельничает – или из глины кукол лепит, или плетёт плетёнки из пруть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В яме16"/>
          <p:cNvPicPr/>
          <p:nvPr/>
        </p:nvPicPr>
        <p:blipFill>
          <a:blip r:embed="rId2"/>
          <a:stretch/>
        </p:blipFill>
        <p:spPr>
          <a:xfrm>
            <a:off x="4929120" y="3357720"/>
            <a:ext cx="3456000" cy="28573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457200" y="274680"/>
          <a:ext cx="8229600" cy="49575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для сравн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од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тношение к люд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" y="274680"/>
          <a:ext cx="8229600" cy="6280200"/>
        </p:xfrm>
        <a:graphic>
          <a:graphicData uri="http://schemas.openxmlformats.org/drawingml/2006/table">
            <a:tbl>
              <a:tblPr/>
              <a:tblGrid>
                <a:gridCol w="2962440"/>
                <a:gridCol w="2808000"/>
                <a:gridCol w="24591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для сравн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вочка-подро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Взрослый муж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тар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од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ет, помогает по хозяй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фиц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тношение к люд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страдание, уважение, забота о других, любовь к людям, стремление делать до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Уважение, любовь к людям, стремление делать до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уществительное (т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глаг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за, несущая определённы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-ассоци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79866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ята, представьте, что вы встретили героев рассказа. Что бы вы им сказа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краткое послание  герою произведения – Жилину или Дин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определения литературоведческих терминов на стр. 25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Напишите небольшое письмо герою расс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рассуждение по начал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ящий друг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ен в счастье и в бе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я главной геро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называли татары Костыл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Татарская дерев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Как по-кавказски «молодец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Верхняя мужская одежда  на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Название жилища на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708360" y="1125360"/>
          <a:ext cx="5256360" cy="4660920"/>
        </p:xfrm>
        <a:graphic>
          <a:graphicData uri="http://schemas.openxmlformats.org/drawingml/2006/table">
            <a:tbl>
              <a:tblPr/>
              <a:tblGrid>
                <a:gridCol w="863640"/>
                <a:gridCol w="936720"/>
                <a:gridCol w="960480"/>
                <a:gridCol w="830160"/>
                <a:gridCol w="831960"/>
                <a:gridCol w="833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ссмотрите иллюстрации Георгия Балашова и определите, какие эпизоды изображены на 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10"/>
          <p:cNvPicPr/>
          <p:nvPr/>
        </p:nvPicPr>
        <p:blipFill>
          <a:blip r:embed="rId1"/>
          <a:stretch/>
        </p:blipFill>
        <p:spPr>
          <a:xfrm>
            <a:off x="539640" y="1700280"/>
            <a:ext cx="82076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907920"/>
          <a:ext cx="8229600" cy="5689800"/>
        </p:xfrm>
        <a:graphic>
          <a:graphicData uri="http://schemas.openxmlformats.org/drawingml/2006/table">
            <a:tbl>
              <a:tblPr/>
              <a:tblGrid>
                <a:gridCol w="1457280"/>
                <a:gridCol w="1563840"/>
                <a:gridCol w="1301760"/>
                <a:gridCol w="1301760"/>
                <a:gridCol w="1303200"/>
                <a:gridCol w="130176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539640" y="189000"/>
            <a:ext cx="70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6" descr="В яме19"/>
          <p:cNvPicPr/>
          <p:nvPr/>
        </p:nvPicPr>
        <p:blipFill>
          <a:blip r:embed="rId1"/>
          <a:stretch/>
        </p:blipFill>
        <p:spPr>
          <a:xfrm>
            <a:off x="900000" y="3933720"/>
            <a:ext cx="3500640" cy="26146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16" name="TextBox 4"/>
          <p:cNvSpPr/>
          <p:nvPr/>
        </p:nvSpPr>
        <p:spPr>
          <a:xfrm>
            <a:off x="826920" y="4149720"/>
            <a:ext cx="37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7" descr="В яме16"/>
          <p:cNvPicPr/>
          <p:nvPr/>
        </p:nvPicPr>
        <p:blipFill>
          <a:blip r:embed="rId2"/>
          <a:stretch/>
        </p:blipFill>
        <p:spPr>
          <a:xfrm>
            <a:off x="684360" y="765000"/>
            <a:ext cx="3456000" cy="28576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0" y="14130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ин         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ухожил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прочное окончание мышц; жилистый, двужильный, с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         гре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инами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- сила, мощ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абск.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- 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 flipH="1">
            <a:off x="594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3"/>
          <p:cNvSpPr/>
          <p:nvPr/>
        </p:nvSpPr>
        <p:spPr>
          <a:xfrm flipH="1">
            <a:off x="5651640" y="465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7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kavkazskij-plennik-6"/>
          <p:cNvPicPr/>
          <p:nvPr/>
        </p:nvPicPr>
        <p:blipFill>
          <a:blip r:embed="rId1"/>
          <a:stretch/>
        </p:blipFill>
        <p:spPr>
          <a:xfrm>
            <a:off x="395280" y="333360"/>
            <a:ext cx="8532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kavkazskij-plennik-13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kavkazskij-plennik-23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kavkazskij-plennik-17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343080" y="260280"/>
            <a:ext cx="855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kavkazskij-plennik-31"/>
          <p:cNvPicPr/>
          <p:nvPr/>
        </p:nvPicPr>
        <p:blipFill>
          <a:blip r:embed="rId1"/>
          <a:stretch/>
        </p:blipFill>
        <p:spPr>
          <a:xfrm>
            <a:off x="179280" y="333360"/>
            <a:ext cx="8820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10:35Z</dcterms:created>
  <dc:creator>Харлова Н. Г.</dc:creator>
  <dc:description>Открытый урок по русской литературе по рассказу Толстого "Кавказский пленник". Скачать бесплатно конспект открытого урока по литературе по рассказу Толстого "Кавказский пленник"</dc:description>
  <cp:keywords>открытый урок русская литература Толстой кавказский пленник конспект урока</cp:keywords>
  <dc:language>en-US</dc:language>
  <cp:lastModifiedBy>Елена</cp:lastModifiedBy>
  <dcterms:modified xsi:type="dcterms:W3CDTF">2021-01-19T15:31:40Z</dcterms:modified>
  <cp:revision>29</cp:revision>
  <dc:subject>Открытый урок по русской литературе</dc:subject>
  <dc:title>Открытый урок по русской литературе по рассказу Толстого "Кавказский пленник" - Кавказский пленник</dc:title>
</cp:coreProperties>
</file>