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6"/>
          <p:cNvSpPr/>
          <p:nvPr/>
        </p:nvSpPr>
        <p:spPr>
          <a:xfrm>
            <a:off x="3882960" y="8685360"/>
            <a:ext cx="2959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3FAB4C24-F732-4097-931E-68CB38BD56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2960" y="8685360"/>
            <a:ext cx="2960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2B7584B2-1257-4EF0-86CE-E905AB13BA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6"/>
          <p:cNvSpPr/>
          <p:nvPr/>
        </p:nvSpPr>
        <p:spPr>
          <a:xfrm>
            <a:off x="3882960" y="8685360"/>
            <a:ext cx="2959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B72152C5-93A8-4E48-9321-2D4C2F7742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2960" y="8685360"/>
            <a:ext cx="2960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83DAA561-5535-41D3-A541-5325ADE9E0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6"/>
          <p:cNvSpPr/>
          <p:nvPr/>
        </p:nvSpPr>
        <p:spPr>
          <a:xfrm>
            <a:off x="3882960" y="8685360"/>
            <a:ext cx="2959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F3E3EA8D-3940-490C-9D12-5AADE0103C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2960" y="8685360"/>
            <a:ext cx="2960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506BA741-ACAC-4BD6-A096-D9967C19AF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C71-5762-481A-B0FD-03E459BC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C5E-AC6A-403B-B21F-3FBD5492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2B6-47C9-45A1-B6FB-FA5682B7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C58-81B6-43D0-9AF2-93EED5B0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620A-D621-4C78-BEE8-7A6BFCA1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3DA1-76CD-4F02-9370-24146138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155A-65BC-4702-BD55-075E34B9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5966-012B-46DE-B5D2-3B1CFC71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0B84-BCF0-4DC5-844C-94E33138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F71A-5A94-4DD1-A663-FA13F63B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2D04-A5E3-4181-BA4F-A5A160EF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B77-1A8E-4816-A514-BEF023ED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21A9-D350-4840-BDA5-2CE14D8F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819B-56C9-4279-B094-DC48370D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C749-F4A5-4246-9083-823CA2E2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6BCD-D0E5-43D9-9C73-799B9CBE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AC79-4E88-4F84-8F46-ED1377FA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2C44-E972-4F77-9104-52E8CC32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ED77-F611-4D12-9FA0-8D4B0D83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20326-4DB2-4279-8538-CFE586F0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492C7-DC70-4726-AE8C-9CD4C954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B5075-6725-4FB5-A924-ECA34404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D9F-A7FA-4056-923E-5EBF1776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0DAA-CD36-4D4B-9B7F-CD438B74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1132-94C7-42B2-BC31-D36FF20A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3C61D-1606-4BD3-826D-05637F56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B4BF9-D3C6-4FFE-92D4-C8DAE9EC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4BE53-43FF-4FDD-B6D4-5A998985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3AEE6-CBCB-47F1-87C7-93345086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EDD8D-7B47-4DC6-BBF6-C8CD92F7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38A-BA65-452E-BA02-79B55AF6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485-9F9C-4BC9-BD31-DBF6BB2F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FEC1-23FB-4C68-9261-03ECE065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5F6-CBF4-4D61-94C6-F348FBE0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A42-5D5B-4C2F-8093-781B8178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E39C-AA66-4F74-B646-4B736B26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13CE2E-85C3-4092-9A21-765F403F4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BA5EC2-CFFE-4B88-B418-C6A1A13FDE1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4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9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9F22C5-E596-4C68-B3CF-25B46BF2E71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503360" y="576360"/>
            <a:ext cx="6343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7e0021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68360" y="1916280"/>
            <a:ext cx="511164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395280" y="1052640"/>
            <a:ext cx="2214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композиция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95280" y="1844640"/>
            <a:ext cx="2000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развязка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179280" y="2925720"/>
            <a:ext cx="2522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кульминация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468360" y="4005360"/>
            <a:ext cx="2428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завяз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916360" y="981000"/>
            <a:ext cx="52149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Расположение, то есть построение , произвед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916360" y="1773360"/>
            <a:ext cx="59036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Событие, знаменующее начало развития действия в эпических и драматических произведен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2627280" y="2938320"/>
            <a:ext cx="63374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Изображение одного события в произведении, имеющего начало и конец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2340000" y="4683240"/>
            <a:ext cx="64800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дин из элементов сюжета, заключительный момент в развитии действия в художественном произведе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1258920" y="260280"/>
            <a:ext cx="66978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айди соответств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395280" y="4724280"/>
            <a:ext cx="2428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сюже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539640" y="5877000"/>
            <a:ext cx="2428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эпиз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2484360" y="5818320"/>
            <a:ext cx="62326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Момент наивысшего напряжения в художественном произведен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2987640" y="3860640"/>
            <a:ext cx="57610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пь событий, происходящих в произведе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4356000" y="4221000"/>
            <a:ext cx="43736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573720" y="453384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6" descr="25935"/>
          <p:cNvPicPr/>
          <p:nvPr/>
        </p:nvPicPr>
        <p:blipFill>
          <a:blip r:embed="rId1"/>
          <a:stretch/>
        </p:blipFill>
        <p:spPr>
          <a:xfrm>
            <a:off x="934920" y="2492280"/>
            <a:ext cx="3059280" cy="40766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7"/>
          <p:cNvSpPr/>
          <p:nvPr/>
        </p:nvSpPr>
        <p:spPr>
          <a:xfrm>
            <a:off x="0" y="1119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ма дружбы в рассказе Л.Н.Толстого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Кавказский пленник»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Жилин и Дин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4500720" y="3284640"/>
            <a:ext cx="42480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ба – это одно из самых светлых чувств, присущих человеку, это форма взаимоотношений между людь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26"/>
          <p:cNvSpPr/>
          <p:nvPr/>
        </p:nvSpPr>
        <p:spPr>
          <a:xfrm>
            <a:off x="468360" y="0"/>
            <a:ext cx="82296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облемные вопрос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81"/>
          <p:cNvSpPr/>
          <p:nvPr/>
        </p:nvSpPr>
        <p:spPr>
          <a:xfrm>
            <a:off x="755640" y="759240"/>
            <a:ext cx="79930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Что такое дружба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Возможная ли дружба между людьми разных национальностей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Как необходимо относиться к людям другой национальности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Что роднит всех людей, помогает преодолевать национальную вражду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С какой целью вводит Л. Н. Толстой образ Дины в свое произведение? Какова роль этого персонажа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Какова главная мысль (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идея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) рассказа «Кавказский пленник»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Что такое друж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5280" y="1519200"/>
            <a:ext cx="7993080" cy="33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жба – бескорыстная стойкая приязнь”. (В.И.Дал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жба - это близкие отношения, основанные на взаимном доверии, привязанности, общности интере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(С.И.Ожег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539640" y="189000"/>
            <a:ext cx="7091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 ком идет речь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826920" y="1125360"/>
            <a:ext cx="3907080" cy="28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ежала девочка – тоненькая, худенькая, лет 13. Одета в длинную рубаху, синюю, с широкими рукавами и без пояса. Глаза чёрные, светлые, и лицом красива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6" descr="В яме19"/>
          <p:cNvPicPr/>
          <p:nvPr/>
        </p:nvPicPr>
        <p:blipFill>
          <a:blip r:embed="rId1"/>
          <a:stretch/>
        </p:blipFill>
        <p:spPr>
          <a:xfrm>
            <a:off x="4857840" y="571680"/>
            <a:ext cx="3500280" cy="246996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200" name="TextBox 4"/>
          <p:cNvSpPr/>
          <p:nvPr/>
        </p:nvSpPr>
        <p:spPr>
          <a:xfrm>
            <a:off x="826920" y="4149720"/>
            <a:ext cx="3745080" cy="24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ит по аулу, насвистывает, а то сидит, что-нибудь рукодельничает – или из глины кукол лепит, или плетёт плетёнки из прутье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7" descr="В яме16"/>
          <p:cNvPicPr/>
          <p:nvPr/>
        </p:nvPicPr>
        <p:blipFill>
          <a:blip r:embed="rId2"/>
          <a:stretch/>
        </p:blipFill>
        <p:spPr>
          <a:xfrm>
            <a:off x="4929120" y="3357720"/>
            <a:ext cx="3456000" cy="285732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457200" y="274680"/>
          <a:ext cx="8229600" cy="495756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 для сравн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л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Род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Отношение к люд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57200" y="274680"/>
          <a:ext cx="8229600" cy="6280200"/>
        </p:xfrm>
        <a:graphic>
          <a:graphicData uri="http://schemas.openxmlformats.org/drawingml/2006/table">
            <a:tbl>
              <a:tblPr/>
              <a:tblGrid>
                <a:gridCol w="2962440"/>
                <a:gridCol w="2808000"/>
                <a:gridCol w="2459160"/>
              </a:tblGrid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 для сравн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л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евочка-подрос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Взрослый муж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атар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Рус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Род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ет, помогает по хозяй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Офиц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Отношение к люд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острадание, уважение, забота о других, любовь к людям, стремление делать доб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Уважение, любовь к людям, стремление делать доб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существительное (те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прилага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глаго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за, несущая определённый смыс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-ассоци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Пись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798660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ята, представьте, что вы встретили героев рассказа. Что бы вы им сказа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шите краткое послание  герою произведения – Жилину или Дин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определения литературоведческих терминов на стр. 259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Напишите небольшое письмо герою расск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рассуждение по начал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оящий друг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ен в счастье и в бед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Разгадай 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67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я главной геро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Как называли татары Костыли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Татарская дерев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Как по-кавказски «молодец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Верхняя мужская одежда  на Кавк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Название жилища на Кавк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708360" y="1125360"/>
          <a:ext cx="5256360" cy="4660920"/>
        </p:xfrm>
        <a:graphic>
          <a:graphicData uri="http://schemas.openxmlformats.org/drawingml/2006/table">
            <a:tbl>
              <a:tblPr/>
              <a:tblGrid>
                <a:gridCol w="863640"/>
                <a:gridCol w="936720"/>
                <a:gridCol w="960480"/>
                <a:gridCol w="830160"/>
                <a:gridCol w="831960"/>
                <a:gridCol w="83340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ассмотрите иллюстрации Георгия Балашова и определите, какие эпизоды изображены на ни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10"/>
          <p:cNvPicPr/>
          <p:nvPr/>
        </p:nvPicPr>
        <p:blipFill>
          <a:blip r:embed="rId1"/>
          <a:stretch/>
        </p:blipFill>
        <p:spPr>
          <a:xfrm>
            <a:off x="539640" y="1700280"/>
            <a:ext cx="820764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Разгадай 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907920"/>
          <a:ext cx="8229600" cy="5689800"/>
        </p:xfrm>
        <a:graphic>
          <a:graphicData uri="http://schemas.openxmlformats.org/drawingml/2006/table">
            <a:tbl>
              <a:tblPr/>
              <a:tblGrid>
                <a:gridCol w="1457280"/>
                <a:gridCol w="1563840"/>
                <a:gridCol w="1301760"/>
                <a:gridCol w="1301760"/>
                <a:gridCol w="1303200"/>
                <a:gridCol w="130176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539640" y="189000"/>
            <a:ext cx="7091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6" descr="В яме19"/>
          <p:cNvPicPr/>
          <p:nvPr/>
        </p:nvPicPr>
        <p:blipFill>
          <a:blip r:embed="rId1"/>
          <a:stretch/>
        </p:blipFill>
        <p:spPr>
          <a:xfrm>
            <a:off x="900000" y="3933720"/>
            <a:ext cx="3500640" cy="261468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216" name="TextBox 4"/>
          <p:cNvSpPr/>
          <p:nvPr/>
        </p:nvSpPr>
        <p:spPr>
          <a:xfrm>
            <a:off x="826920" y="4149720"/>
            <a:ext cx="37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7" descr="В яме16"/>
          <p:cNvPicPr/>
          <p:nvPr/>
        </p:nvPicPr>
        <p:blipFill>
          <a:blip r:embed="rId2"/>
          <a:stretch/>
        </p:blipFill>
        <p:spPr>
          <a:xfrm>
            <a:off x="684360" y="765000"/>
            <a:ext cx="3456000" cy="285768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0" y="14130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лин          «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жи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ухожил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прочное окончание мышц; жилистый, двужильный, си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         гре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инами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 - сила, мощ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рабск. «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 - в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2"/>
          <p:cNvSpPr/>
          <p:nvPr/>
        </p:nvSpPr>
        <p:spPr>
          <a:xfrm flipH="1">
            <a:off x="5940000" y="19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23"/>
          <p:cNvSpPr/>
          <p:nvPr/>
        </p:nvSpPr>
        <p:spPr>
          <a:xfrm flipH="1">
            <a:off x="5651640" y="465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7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kavkazskij-plennik-6"/>
          <p:cNvPicPr/>
          <p:nvPr/>
        </p:nvPicPr>
        <p:blipFill>
          <a:blip r:embed="rId1"/>
          <a:stretch/>
        </p:blipFill>
        <p:spPr>
          <a:xfrm>
            <a:off x="395280" y="333360"/>
            <a:ext cx="85327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kavkazskij-plennik-13"/>
          <p:cNvPicPr/>
          <p:nvPr/>
        </p:nvPicPr>
        <p:blipFill>
          <a:blip r:embed="rId1"/>
          <a:stretch/>
        </p:blipFill>
        <p:spPr>
          <a:xfrm>
            <a:off x="468360" y="1052640"/>
            <a:ext cx="8424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kavkazskij-plennik-23"/>
          <p:cNvPicPr/>
          <p:nvPr/>
        </p:nvPicPr>
        <p:blipFill>
          <a:blip r:embed="rId1"/>
          <a:stretch/>
        </p:blipFill>
        <p:spPr>
          <a:xfrm>
            <a:off x="250920" y="692280"/>
            <a:ext cx="856908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kavkazskij-plennik-17"/>
          <p:cNvPicPr/>
          <p:nvPr/>
        </p:nvPicPr>
        <p:blipFill>
          <a:blip r:embed="rId1"/>
          <a:stretch/>
        </p:blipFill>
        <p:spPr>
          <a:xfrm>
            <a:off x="250920" y="620640"/>
            <a:ext cx="86421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343080" y="260280"/>
            <a:ext cx="8550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kavkazskij-plennik-31"/>
          <p:cNvPicPr/>
          <p:nvPr/>
        </p:nvPicPr>
        <p:blipFill>
          <a:blip r:embed="rId1"/>
          <a:stretch/>
        </p:blipFill>
        <p:spPr>
          <a:xfrm>
            <a:off x="179280" y="333360"/>
            <a:ext cx="882036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10:35Z</dcterms:created>
  <dc:creator>Харлова Н. Г.</dc:creator>
  <dc:description>Открытый урок по русской литературе по рассказу Толстого "Кавказский пленник". Скачать бесплатно конспект открытого урока по литературе по рассказу Толстого "Кавказский пленник"</dc:description>
  <cp:keywords>открытый урок русская литература Толстой кавказский пленник конспект урока</cp:keywords>
  <dc:language>en-US</dc:language>
  <cp:lastModifiedBy>Елена</cp:lastModifiedBy>
  <dcterms:modified xsi:type="dcterms:W3CDTF">2021-01-19T15:31:40Z</dcterms:modified>
  <cp:revision>29</cp:revision>
  <dc:subject>Открытый урок по русской литературе</dc:subject>
  <dc:title>Открытый урок по русской литературе по рассказу Толстого "Кавказский пленник" - Кавказский пленник</dc:title>
</cp:coreProperties>
</file>