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F93-05FC-4608-A252-3998EFA4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B05-F2D5-4FA6-87FD-C6DA8A9E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363-9CD7-4BA6-A883-91F4BA91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792-DB43-47D3-BF44-9466C0A6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2F0-B964-436F-ABB5-8302C0D2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55C-060B-4821-8AD4-D9FFDFE3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569-50C5-4D8A-A754-C24467E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E33-38BC-407C-8463-208C424F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513-2F64-4030-8B14-0C9AB51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E86-2CD3-4030-A906-6D498CE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2D8-6322-41AB-8C25-B352798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7E2-8C95-42F1-AAB3-9B67199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121-453C-4EE3-8A65-CED9923E7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азы данных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ShockwaveFlash1"/>
          <p:cNvGraphicFramePr/>
          <p:nvPr/>
        </p:nvGraphicFramePr>
        <p:xfrm>
          <a:off x="304920" y="304920"/>
          <a:ext cx="8381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381880" cy="617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образовать приведенную ниже информацию 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чному вид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пределив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табл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го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ля, Петя, 13, пение, 14, баскетбол, Вася, Катя, 13,  хоккей, баскетбол, футбол, 15, 11, Коля, 11, танцы, Сер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лнить пятью записям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яционную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ациент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держащую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амилия, имя, отчество, дата рождения, номер участка, адрес, дата последнего посещения вра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оформить ее в вид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Б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Реки мир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держит следующие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звание, материк,  длина (в км), максимальная глубина (в м), куда впадает, наличие водохранилищ (имеются или нет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ишит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ри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ждого поля. Определит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клю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27, 28. Упр. 10, 11, 12  с.1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12-16T23:32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