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895-FC54-43AA-85A8-5C2B7B07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BF8-5255-467E-81CB-58573C29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838-3F12-4664-8AC1-D386B025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AE3-C416-49DB-9C28-64B87AA2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560-0D8B-4249-9BEF-2933DED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198-716B-4A46-9937-1C2470B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286-20C3-4CD8-A290-DE4BA21D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08A-3BD2-44C8-9CB0-C80C3D6D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615-E475-4B08-BA2E-4B3ECEDC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01A-1EA8-4336-8CC6-AFD0F24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AB4-729F-43E0-993A-3B2F7035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EE6-F483-4731-AAFE-BD9722F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CE44-3E12-4DB8-8C1D-A0CAEFB33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азы данных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ShockwaveFlash1"/>
          <p:cNvGraphicFramePr/>
          <p:nvPr/>
        </p:nvGraphicFramePr>
        <p:xfrm>
          <a:off x="304920" y="304920"/>
          <a:ext cx="8381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381880" cy="6172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образовать приведенную ниже информацию 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чному вид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пределив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табл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го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ля, Петя, 13, пение, 14, баскетбол, Вася, Катя, 13,  хоккей, баскетбол, футбол, 15, 11, Коля, 11, танцы, Сер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лнить пятью записям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яционную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ациент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одержащую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амилия, имя, отчество, дата рождения, номер участка, адрес, дата последнего посещения вра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оформить ее в вид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лица Б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Реки мир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держит следующие поля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звание, материк,  длина (в км), максимальная глубина (в м), куда впадает, наличие водохранилищ (имеются или нет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ишит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ри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аждого поля. Определит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клю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27, 28. Упр. 10, 11, 12  с.1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12-16T23:32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