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5FA-BFEE-4035-8032-F171AAC1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FE2-A179-4610-9A3B-63A5E4B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FD0-91EB-4C4A-9AE4-ACDAE39D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C6F-DB25-4CDB-8A2C-95351838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CE5-591D-4EA0-BB48-C288CA26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ACF-3B78-4C2B-BD3C-0D4C5F5B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718-9C71-455A-B775-58B87E83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B38-AC3B-4AA4-8B99-6129E632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82B-5756-4536-8A15-3F650FDF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02A-8C27-4553-9810-001FEC0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6C8-FCA2-4EA1-9606-35E9DD79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E3A-03D9-4C90-887E-CBF977B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41A-8ABB-4A8A-B579-35CCF03D6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азы данны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ShockwaveFlash1"/>
          <p:cNvGraphicFramePr/>
          <p:nvPr/>
        </p:nvGraphicFramePr>
        <p:xfrm>
          <a:off x="304920" y="30492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38188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образовать приведенную ниже информацию 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чному ви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предели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го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я, Петя, 13, пение, 14, баскетбол, Вася, Катя, 13,  хоккей, баскетбол, футбол, 15, 11, Коля, 11, танцы, Сер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лнить пятью запися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яционную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ациент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держащую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амилия, имя, отчество, дата рождения, номер участка, адрес, дата последнего посещения вра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формить ее в вид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Б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Реки мир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держит следующие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звание, материк,  длина (в км), максимальная глубина (в м), куда впадает, наличие водохранилищ (имеются или нет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иш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ри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ждого поля. Определ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клю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27, 28. Упр. 10, 11, 12  с.1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12-16T23:32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