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C5A-BACC-4444-9CBA-A0635063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28F-ACED-4F13-B9D9-1CE53F5C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54F-26DC-4518-AB74-1807E3CD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929B-B094-4FCD-9020-63D9D1CB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9BA2-3871-4899-9679-1D812CF3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7303-DA6D-4002-9C65-992079F5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885B-C34A-48DD-8CF2-9E1ED04A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C44B-4D25-4AAB-B523-AB84AE6B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B993-C916-4BA1-9F30-E858AC4C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DE0C-CDD8-4D3F-9738-7E615F7A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0F09-AB12-49B4-A445-B9BB85CA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64D6-5745-459D-BDA9-2EE410A6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590F-C4CE-4F81-9642-72F3204F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1907-17EE-422A-A7B7-65E58F19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ED91-713A-41DE-8173-7A7919A3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A82D-0272-4F03-A3F3-B5A576EF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C129-15A6-4880-9061-A2F192B9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F95-8F69-44F4-8066-DB8AB2FE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908-DFD2-4042-A0F5-62C797BB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0A1-F192-4F92-A5B3-D66A0E79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2F6D-4A98-4161-8546-9EE1C558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E872-A8E8-4E65-8B68-B1878BC6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D36F-8903-41DB-AA4D-CDD4FA24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82B6-04B5-4ADD-9DAC-98272318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DDE2-3034-45EB-AAFE-325EF03FFFE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5652-A662-49BE-A055-D4273FE9774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920" y="2060640"/>
            <a:ext cx="7274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спользование фитбол-мячей в образовательной деятельности по физической культуре с детьми дошкольного возраста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Times New Roman"/>
              </a:rPr>
              <a:t>Фитбол – это гимнастический мяч, используемый в оздоровительных целях.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30037" r="0" b="15052"/>
          <a:stretch/>
        </p:blipFill>
        <p:spPr>
          <a:xfrm>
            <a:off x="1258920" y="2852640"/>
            <a:ext cx="5211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5832720" cy="4421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6520" y="260280"/>
            <a:ext cx="72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ким должен быть фитбо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65440" y="3789360"/>
            <a:ext cx="18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-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5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94160" y="263700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с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5080" y="2421000"/>
            <a:ext cx="18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-55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87840" y="57340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-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6160" y="4149720"/>
            <a:ext cx="14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6-7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74000" y="4116240"/>
            <a:ext cx="15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5-6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9280" y="260280"/>
            <a:ext cx="3313080" cy="2160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снов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инци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3280" y="333360"/>
            <a:ext cx="3384720" cy="11509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502800">
            <a:off x="4284360" y="2276640"/>
            <a:ext cx="3743280" cy="1190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степ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98800">
            <a:off x="684000" y="3616200"/>
            <a:ext cx="5256000" cy="2378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вторяе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системат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555800">
            <a:off x="3492360" y="1773360"/>
            <a:ext cx="1008360" cy="485640"/>
          </a:xfrm>
          <a:prstGeom prst="rightArrow">
            <a:avLst>
              <a:gd name="adj1" fmla="val 50000"/>
              <a:gd name="adj2" fmla="val 5190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20807400">
            <a:off x="3564000" y="692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0800800">
            <a:off x="2195640" y="2492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Формы использован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2565360"/>
            <a:ext cx="2521080" cy="1079640"/>
          </a:xfrm>
          <a:prstGeom prst="wedgeRectCallout">
            <a:avLst>
              <a:gd name="adj1" fmla="val 45907"/>
              <a:gd name="adj2" fmla="val -19632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4508640"/>
            <a:ext cx="2425680" cy="1081080"/>
          </a:xfrm>
          <a:prstGeom prst="wedgeRectCallout">
            <a:avLst>
              <a:gd name="adj1" fmla="val 52157"/>
              <a:gd name="adj2" fmla="val -36571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0360" y="4221000"/>
            <a:ext cx="2952720" cy="1440000"/>
          </a:xfrm>
          <a:prstGeom prst="wedgeRectCallout">
            <a:avLst>
              <a:gd name="adj1" fmla="val -52689"/>
              <a:gd name="adj2" fmla="val -26653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2637000"/>
            <a:ext cx="1778040" cy="936360"/>
          </a:xfrm>
          <a:prstGeom prst="wedgeRectCallout">
            <a:avLst>
              <a:gd name="adj1" fmla="val -90805"/>
              <a:gd name="adj2" fmla="val -20745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1880" y="2708280"/>
            <a:ext cx="22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имна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4320" y="472428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2360" y="47242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а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62520" y="278136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30066"/>
                </a:solidFill>
                <a:uFillTx/>
                <a:latin typeface="Arial"/>
              </a:rPr>
              <a:t>Фитбол используют как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3678480" cy="4897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517080" y="285264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риент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2924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3787920" cy="5043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040440" y="2852640"/>
            <a:ext cx="31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епят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826920" y="1484280"/>
            <a:ext cx="3783240" cy="5040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156360" y="285264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ед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481800" cy="4867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21080" y="182520"/>
            <a:ext cx="61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30066"/>
                </a:solidFill>
                <a:uFillTx/>
                <a:latin typeface="Arial"/>
              </a:rPr>
              <a:t>Фитбол используют ка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59500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п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6696000" cy="4896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96360" y="5950080"/>
            <a:ext cx="28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тяго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272360" cy="5457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744200" y="130320"/>
            <a:ext cx="54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75438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66"/>
                </a:solidFill>
                <a:latin typeface="Arial"/>
              </a:rPr>
              <a:t>«С мячом играй – здоровье прибавляй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3719520" cy="5003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39178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12T15:18:38Z</dcterms:created>
  <dc:creator>Microsoft Office</dc:creator>
  <dc:description/>
  <dc:language>en-US</dc:language>
  <cp:lastModifiedBy>Microsoft Office</cp:lastModifiedBy>
  <dcterms:modified xsi:type="dcterms:W3CDTF">2024-02-25T16:12:34Z</dcterms:modified>
  <cp:revision>16</cp:revision>
  <dc:subject/>
  <dc:title>Слайд 1</dc:title>
</cp:coreProperties>
</file>