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3D1-9194-4C6A-8EE6-BB935848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B68-4895-4F17-BF45-9D7A2FDC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CB2-3F83-4CCA-AB5F-7ADCD858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45F-11E8-4A11-9317-B3002752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1D15-5A83-42BB-B3A6-F9374BD1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381F-187B-4C84-8887-21F2AD3A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68B9-F57E-4776-B7E7-8F94A4C2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E09B-158D-4868-AEE3-F1B787B3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D914-C6CE-4588-9950-6D6139E8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A7C4-9A56-464F-9177-88B0158F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794B-E42D-4620-9387-038F8EE5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967-897E-47BC-B6FE-EDA3B1F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550D-AFCC-4EFC-965F-37D3BB06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5310-04BC-4F76-8B7F-4DD0A58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66A8-E631-4987-9269-F53209C1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924E-FCA2-411D-A5C6-1CE591C7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4A63-ADF3-4144-8B50-A52760D1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54A-8E26-46E5-A65D-48F5F9FD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C9C-AEF5-411E-8742-D9CD0BC3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498-1B87-4269-9BC2-50270837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F5E-8046-4C9E-B8A5-96AAC5C5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C78-8554-4A73-B962-3C99C632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94A-C9EC-4165-8D20-8E1119E1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B1D-9484-4E5F-B001-A0379B8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089B-FF58-47EE-9527-11FD78E5B7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D068-B673-4152-8258-C2B7ADADC0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2060640"/>
            <a:ext cx="7274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фитбол-мячей в образовательной деятельности по физической культуре с детьми дошкольного возрас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Times New Roman"/>
              </a:rPr>
              <a:t>Фитбол – это гимнастический мяч, используемый в оздоровительных целях.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30037" r="0" b="15052"/>
          <a:stretch/>
        </p:blipFill>
        <p:spPr>
          <a:xfrm>
            <a:off x="1258920" y="2852640"/>
            <a:ext cx="5211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5832720" cy="4421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6520" y="260280"/>
            <a:ext cx="72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им должен быть фитбо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5440" y="378936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4160" y="263700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с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5080" y="242100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-55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87840" y="57340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-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6160" y="414972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6-7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74000" y="411624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-6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260280"/>
            <a:ext cx="3313080" cy="2160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33360"/>
            <a:ext cx="3384720" cy="1150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02800">
            <a:off x="4284360" y="2276640"/>
            <a:ext cx="3743280" cy="1190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степ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98800">
            <a:off x="684000" y="3616200"/>
            <a:ext cx="5256000" cy="2378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вторя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система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555800">
            <a:off x="3492360" y="1773360"/>
            <a:ext cx="1008360" cy="485640"/>
          </a:xfrm>
          <a:prstGeom prst="rightArrow">
            <a:avLst>
              <a:gd name="adj1" fmla="val 50000"/>
              <a:gd name="adj2" fmla="val 5190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807400">
            <a:off x="3564000" y="692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800800">
            <a:off x="2195640" y="2492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ормы использова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2565360"/>
            <a:ext cx="2521080" cy="1079640"/>
          </a:xfrm>
          <a:prstGeom prst="wedgeRectCallout">
            <a:avLst>
              <a:gd name="adj1" fmla="val 45907"/>
              <a:gd name="adj2" fmla="val -19632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4508640"/>
            <a:ext cx="2425680" cy="1081080"/>
          </a:xfrm>
          <a:prstGeom prst="wedgeRectCallout">
            <a:avLst>
              <a:gd name="adj1" fmla="val 52157"/>
              <a:gd name="adj2" fmla="val -36571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4221000"/>
            <a:ext cx="2952720" cy="1440000"/>
          </a:xfrm>
          <a:prstGeom prst="wedgeRectCallout">
            <a:avLst>
              <a:gd name="adj1" fmla="val -52689"/>
              <a:gd name="adj2" fmla="val -26653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2637000"/>
            <a:ext cx="1778040" cy="936360"/>
          </a:xfrm>
          <a:prstGeom prst="wedgeRectCallout">
            <a:avLst>
              <a:gd name="adj1" fmla="val -90805"/>
              <a:gd name="adj2" fmla="val -20745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880" y="27082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имн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4320" y="472428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47242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а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62520" y="2781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66"/>
                </a:solidFill>
                <a:uFillTx/>
                <a:latin typeface="Arial"/>
              </a:rPr>
              <a:t>Фитбол используют как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678480" cy="4897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517080" y="285264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риент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924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787920" cy="5043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040440" y="285264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пя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3783240" cy="5040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56360" y="28526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8180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21080" y="182520"/>
            <a:ext cx="61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66"/>
                </a:solidFill>
                <a:uFillTx/>
                <a:latin typeface="Arial"/>
              </a:rPr>
              <a:t>Фитбол используют ка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59500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п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696000" cy="4896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96360" y="595008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яго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2360" cy="545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44200" y="130320"/>
            <a:ext cx="54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5438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66"/>
                </a:solidFill>
                <a:latin typeface="Arial"/>
              </a:rPr>
              <a:t>«С мячом играй – здоровье прибавляй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719520" cy="500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9178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12T15:18:38Z</dcterms:created>
  <dc:creator>Microsoft Office</dc:creator>
  <dc:description/>
  <dc:language>en-US</dc:language>
  <cp:lastModifiedBy>Microsoft Office</cp:lastModifiedBy>
  <dcterms:modified xsi:type="dcterms:W3CDTF">2024-02-25T16:12:34Z</dcterms:modified>
  <cp:revision>16</cp:revision>
  <dc:subject/>
  <dc:title>Слайд 1</dc:title>
</cp:coreProperties>
</file>