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0FE-0EA6-40F3-9291-39BB9A48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7F4-3C62-4FFA-A595-8919A323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A21-9EC1-4833-B3E0-162C9224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A6C-FC4F-44D7-B084-A2B2835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05A4-DF16-4435-A65D-7BF7A21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FAE-4128-45EC-8288-3A75F58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52C7-5080-4995-A190-957AA6BF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060F-6849-4543-BFA7-D99FE16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A975-319D-4EE6-81AC-C8B0A46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0BA9-5BDC-4282-B3A1-0714BF0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F3DF-8E7D-4A18-83F5-9B2C245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026-2980-4093-8D17-CF0E2BD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94A3-11F6-4135-94A0-5ECBEA6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C051-15BB-4DBF-97E0-FEB3805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7C9C-EFAB-4622-AD80-60C5DF6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D9D2-FB3B-4242-9A85-CBCBEBB1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E519-8A97-46C6-8E2B-D8664222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EE0-EDAD-4CC8-A9F0-48EB477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626-B455-4E0E-A62B-58AF6C6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6A7-3F83-4545-BC0D-A6C6736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43F-2864-4674-947B-B0B1252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D34-391A-42C8-B4BC-76AF588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306-974F-4328-AFDF-081F940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1FB-82AA-4AF0-BFD8-E80B714E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ABE-2B85-43A2-871D-B402344D4F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9FD-D658-4012-A775-DA2CC69673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7274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фитбол-мячей в образовательной деятельности по физической культуре с детьми дошкольного возра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Фитбол – это гимнастический мяч, используемый в оздоровительных целях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30037" r="0" b="15052"/>
          <a:stretch/>
        </p:blipFill>
        <p:spPr>
          <a:xfrm>
            <a:off x="1258920" y="2852640"/>
            <a:ext cx="521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832720" cy="4421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6520" y="26028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м должен быть фитб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5440" y="378936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4160" y="263700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5080" y="242100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-55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7840" y="57340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-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6160" y="414972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-7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74000" y="411624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-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260280"/>
            <a:ext cx="3313080" cy="2160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33360"/>
            <a:ext cx="3384720" cy="1150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02800">
            <a:off x="4284360" y="2276640"/>
            <a:ext cx="3743280" cy="1190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степ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98800">
            <a:off x="684000" y="3616200"/>
            <a:ext cx="5256000" cy="2378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я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система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555800">
            <a:off x="3492360" y="1773360"/>
            <a:ext cx="1008360" cy="485640"/>
          </a:xfrm>
          <a:prstGeom prst="rightArrow">
            <a:avLst>
              <a:gd name="adj1" fmla="val 50000"/>
              <a:gd name="adj2" fmla="val 5190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807400">
            <a:off x="3564000" y="69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00800">
            <a:off x="2195640" y="2492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ормы использ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2565360"/>
            <a:ext cx="2521080" cy="1079640"/>
          </a:xfrm>
          <a:prstGeom prst="wedgeRectCallout">
            <a:avLst>
              <a:gd name="adj1" fmla="val 45907"/>
              <a:gd name="adj2" fmla="val -19632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508640"/>
            <a:ext cx="2425680" cy="1081080"/>
          </a:xfrm>
          <a:prstGeom prst="wedgeRectCallout">
            <a:avLst>
              <a:gd name="adj1" fmla="val 52157"/>
              <a:gd name="adj2" fmla="val -36571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4221000"/>
            <a:ext cx="2952720" cy="1440000"/>
          </a:xfrm>
          <a:prstGeom prst="wedgeRectCallout">
            <a:avLst>
              <a:gd name="adj1" fmla="val -52689"/>
              <a:gd name="adj2" fmla="val -26653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2637000"/>
            <a:ext cx="1778040" cy="936360"/>
          </a:xfrm>
          <a:prstGeom prst="wedgeRectCallout">
            <a:avLst>
              <a:gd name="adj1" fmla="val -90805"/>
              <a:gd name="adj2" fmla="val -207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880" y="27082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4320" y="472428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724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2520" y="278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67848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17080" y="285264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иен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924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787920" cy="5043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40440" y="285264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пя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78324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56360" y="2852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8180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21080" y="182520"/>
            <a:ext cx="61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66"/>
                </a:solidFill>
                <a:uFillTx/>
                <a:latin typeface="Arial"/>
              </a:rPr>
              <a:t>Фитбол используют к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59500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6000" cy="489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96360" y="595008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яго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545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44200" y="130320"/>
            <a:ext cx="54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«С мячом играй – здоровье прибавляй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719520" cy="50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917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2T15:18:38Z</dcterms:created>
  <dc:creator>Microsoft Office</dc:creator>
  <dc:description/>
  <dc:language>en-US</dc:language>
  <cp:lastModifiedBy>Microsoft Office</cp:lastModifiedBy>
  <dcterms:modified xsi:type="dcterms:W3CDTF">2024-02-25T16:12:34Z</dcterms:modified>
  <cp:revision>16</cp:revision>
  <dc:subject/>
  <dc:title>Слайд 1</dc:title>
</cp:coreProperties>
</file>