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3A3-D033-482E-8E4A-22789991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0BF-89DF-48DD-A679-D4ABBAA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F0B-2A15-4DCB-B527-27985670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61F-1CC7-4F0C-B2AA-CB90F574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013-2688-41A7-AC22-CC0F6C0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F33-16A4-4779-9E95-22EA5664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695-F4F8-4E57-8802-121977A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7BC-DADE-4C36-9CBB-03970102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F73-634F-4E39-9BFE-D967755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2CE-4254-4FFC-A740-28CEDF2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AAE-5282-46A8-A4FB-9CAD2FE2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131-100B-4E31-921C-85C9C9A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86E2-4D00-4AB6-8636-0BF2AAC22844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Тема урок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«Измерение информации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000" y="54936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Единицы измерения информаци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айт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8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ило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е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б =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иг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24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ерабайт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б= 1024 Гб = 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0 Г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М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3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Кб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0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айта = 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ff0066"/>
                </a:solidFill>
                <a:latin typeface="Calibri"/>
              </a:rPr>
              <a:t>^</a:t>
            </a:r>
            <a:r>
              <a:rPr b="0" lang="ru-RU" sz="2100" spc="-1" strike="noStrike">
                <a:solidFill>
                  <a:srgbClr val="ff0066"/>
                </a:solidFill>
                <a:latin typeface="Calibri"/>
              </a:rPr>
              <a:t>43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би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омпьютер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текстовом редакторе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2010 набор самого главного (стр.28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Работа с карточк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просы и задания. (стр.28 – 30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28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ведение ито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егодня мы с вами изучи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нимальную единицу измерения информ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вес символа произвольного алфав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620640"/>
            <a:ext cx="8007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 теперь пусть каждый ответит на вопрос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то нового на уроке получил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ктуальна ли данная информаци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не было интересно и комфортно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мею ли я решать задач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4600" y="2060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§1.5 Задания №5,9 с.40, 41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692280"/>
            <a:ext cx="80071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какой целью человек осуществляет преобразование информации из одной формы представления в другу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ём суть процесса дискретизации информа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алфавит язы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мощность алфав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ли алфавит состоять из одного симво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имволы могут входить в двоичный алфави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84360" y="33336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ый символ имеет определённый информационный вес – несёт фиксированное количество информации. Все символы одного алфавита имеют один и тот же вес, зависящий от мощности алфав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формационный вес символа двоичного алфавита принят за минимальную единицу измерения информации 1 б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539640" y="692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имволов. Каков информационный вес символа этого алфав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90792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ётом исходных данных: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8=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^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тсюда: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=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ая запись решения задачи может выглядеть т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N=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             N=2^i      8=2^i,, i=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3 б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05928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1128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нформационный объём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сообщения равен произведению количества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имволов в сообщении на информационный вес </a:t>
            </a: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символа алфавит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записанное буквами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3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имвольного алфавита, содержит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4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е количество информации оно несёт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32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K*i , N=2^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           32=2^i, i=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40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140*5=700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700(би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92360" y="3860640"/>
            <a:ext cx="0" cy="9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35640" y="384012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е сообщение объёмом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7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итов состоит из 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волов. Какова мощность алфавита, с помощью которого записано это сообщени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=72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N=2^i,  I=K*i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  i= 720/180 =4 (</a:t>
            </a:r>
            <a:r>
              <a:rPr b="0" lang="ru-RU" sz="2800" spc="-1" strike="noStrike">
                <a:solidFill>
                  <a:srgbClr val="ff0066"/>
                </a:solidFill>
                <a:latin typeface="Calibri"/>
              </a:rPr>
              <a:t>бита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Calibri"/>
              </a:rPr>
              <a:t>K=180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   i= I/K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=2^4 =1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вол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N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6 симво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61928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211640" y="3897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549360"/>
            <a:ext cx="800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формационное сообщение объёмом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байта состоит из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409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имволов. Каков информационный вес символа этого сообщения? Сколько символов содержит алфавит, с помощью которого записано это сообщение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К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I=4K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б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=4*1024*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т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    N=2^i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alibri"/>
              </a:rPr>
              <a:t>K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alibri"/>
              </a:rPr>
              <a:t>=4096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K*I, i=I/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-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i=4*1024*8/4096=8</a:t>
            </a:r>
            <a:r>
              <a:rPr b="0" lang="ru-RU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и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256 симв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3"/>
          <p:cNvSpPr/>
          <p:nvPr/>
        </p:nvSpPr>
        <p:spPr>
          <a:xfrm>
            <a:off x="161928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6012000" y="3284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4:44:43Z</dcterms:created>
  <dc:creator>Николай</dc:creator>
  <dc:description/>
  <dc:language>en-US</dc:language>
  <cp:lastModifiedBy>Документовед</cp:lastModifiedBy>
  <dcterms:modified xsi:type="dcterms:W3CDTF">2023-10-05T05:32:00Z</dcterms:modified>
  <cp:revision>22</cp:revision>
  <dc:subject/>
  <dc:title>Тема урока «Измерение информации»</dc:title>
</cp:coreProperties>
</file>