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F7BF-B882-4E0B-8FD9-F805BD43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D2B-85E3-4C52-B2EA-98F9F766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946-698C-489A-B678-2B86EE7C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9593-AD1C-4540-9A14-F4636297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4293-0E47-4B68-B4FD-7A916491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19B-8C64-4344-AD00-3ABF57C4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5A1-BA90-43CB-B824-E2C62400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982E-6DBF-4D45-B8A6-26F5402E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43A-8311-43F5-9CB0-966E630A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A453-7438-4BC2-A967-DB69A137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3077-6016-4084-B57B-99DB45E5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832-C13C-4DD5-A714-221F74EB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BD1F-2158-4E98-8CF5-1F0BF6543C0C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Тема урока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«Измерение информации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8000" y="549360"/>
            <a:ext cx="80074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Calibri"/>
              </a:rPr>
              <a:t>Единицы измерения информаци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би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байт =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8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и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илобайт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б =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024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айта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айта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3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и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мегабайт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Мб =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024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К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К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айта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3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и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гигабайт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Г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024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М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М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К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3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айта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33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и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ерабайт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б= 1024 Гб = 2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10 Г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М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3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К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4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айта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43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и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76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 u="sng">
                <a:solidFill>
                  <a:srgbClr val="000000"/>
                </a:solidFill>
                <a:uFillTx/>
                <a:latin typeface="Calibri"/>
              </a:rPr>
              <a:t>Работа с компьютеро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 текстовом редакторе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2010 набор самого главного (стр.28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 u="sng">
                <a:solidFill>
                  <a:srgbClr val="000000"/>
                </a:solidFill>
                <a:uFillTx/>
                <a:latin typeface="Calibri"/>
              </a:rPr>
              <a:t>Работа с карточкам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опросы и задания. (стр.28 – 30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39280" y="476280"/>
            <a:ext cx="80074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дведение итог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егодня мы с вами изучил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инимальную единицу измерения информ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формационный вес символа произвольного алфави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формационный объём сообщ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диницы измерения информ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11280" y="620640"/>
            <a:ext cx="80071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А теперь пусть каждый ответит на вопросы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Что нового на уроке получил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Актуальна ли данная информация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Мне было интересно и комфортно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Умею ли я решать задачи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34600" y="2060280"/>
            <a:ext cx="8007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§1.5 Задания №5,9 с.40, 41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11280" y="692280"/>
            <a:ext cx="80071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какой целью человек осуществляет преобразование информации из одной формы представления в другую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чём суть процесса дискретизации информаци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такое алфавит язы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такое мощность алфави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ет ли алфавит состоять из одного символ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ие символы могут входить в двоичный алфавит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684360" y="333360"/>
            <a:ext cx="79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ждый символ имеет определённый информационный вес – несёт фиксированное количество информации. Все символы одного алфавита имеют один и тот же вес, зависящий от мощности алфави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формационный вес символа двоичного алфавита принят за минимальную единицу измерения информации 1 б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539640" y="692280"/>
            <a:ext cx="820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лфавит племени Пульти содержит 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имволов. Каков информационный вес символа этого алфави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-360" y="907920"/>
            <a:ext cx="8007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Составим краткую запись условия за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Calibri"/>
              </a:rPr>
              <a:t>N=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i-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=2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^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учётом исходных данных: 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8=2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^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Отсюда: 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i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=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ная запись решения задачи может выглядеть так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Calibri"/>
              </a:rPr>
              <a:t>N=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i-?             N=2^i      8=2^i,, i=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: 3 би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476360" y="465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3059280" y="465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11280" y="620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Информационный объём </a:t>
            </a:r>
            <a:r>
              <a:rPr b="0" lang="en-US" sz="4800" spc="-1" strike="noStrike">
                <a:solidFill>
                  <a:srgbClr val="ff0066"/>
                </a:solidFill>
                <a:latin typeface="Calibri"/>
              </a:rPr>
              <a:t>I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сообщения равен произведению количества </a:t>
            </a:r>
            <a:r>
              <a:rPr b="0" lang="en-US" sz="4800" spc="-1" strike="noStrike">
                <a:solidFill>
                  <a:srgbClr val="ff0066"/>
                </a:solidFill>
                <a:latin typeface="Calibri"/>
              </a:rPr>
              <a:t>K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имволов в сообщении на информационный вес </a:t>
            </a:r>
            <a:r>
              <a:rPr b="0" lang="en-US" sz="4800" spc="-1" strike="noStrike">
                <a:solidFill>
                  <a:srgbClr val="ff0066"/>
                </a:solidFill>
                <a:latin typeface="Calibri"/>
              </a:rPr>
              <a:t>i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символа алфавит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68000" y="549360"/>
            <a:ext cx="8007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а 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ржание записанное буквами 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3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символьного алфавита, содержит 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14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имволов. Какое количество информации оно несёт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Составим краткую запись условия за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N=32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     I=K*i , N=2^i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                32=2^i, i=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Calibri"/>
              </a:rPr>
              <a:t>K=140 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   I=140*5=700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т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I-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: 700(би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692360" y="3860640"/>
            <a:ext cx="0" cy="9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5435640" y="384012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549360"/>
            <a:ext cx="8007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а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онное сообщение объёмом 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72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битов состоит из 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18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имволов. Какова мощность алфавита, с помощью которого записано это сообщени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Составим краткую запись условия за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I=720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   N=2^i,  I=K*i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     i= 720/180 =4 (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бита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Calibri"/>
              </a:rPr>
              <a:t>K=180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   i= I/K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N=2^4 =1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мвол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N-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6 симво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619280" y="389736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4211640" y="389736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000" y="549360"/>
            <a:ext cx="8007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нформационное сообщение объёмом 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байта состоит из 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409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имволов. Каков информационный вес символа этого сообщения? Сколько символов содержит алфавит, с помощью которого записано это сообщение.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Составим краткую запись условия зада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I=4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Кб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 I=4K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б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 =4*1024*8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т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     N=2^i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Calibri"/>
              </a:rPr>
              <a:t>K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Calibri"/>
              </a:rPr>
              <a:t>=4096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I=K*I, i=I/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-? 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-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i=4*1024*8/4096=8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бит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256 симво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3"/>
          <p:cNvSpPr/>
          <p:nvPr/>
        </p:nvSpPr>
        <p:spPr>
          <a:xfrm>
            <a:off x="1619280" y="328464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6012000" y="328464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5T14:44:43Z</dcterms:created>
  <dc:creator>Николай</dc:creator>
  <dc:description/>
  <dc:language>en-US</dc:language>
  <cp:lastModifiedBy>Документовед</cp:lastModifiedBy>
  <dcterms:modified xsi:type="dcterms:W3CDTF">2023-10-05T05:32:00Z</dcterms:modified>
  <cp:revision>22</cp:revision>
  <dc:subject/>
  <dc:title>Тема урока «Измерение информации»</dc:title>
</cp:coreProperties>
</file>