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C13F-3911-43D9-AE30-2272E266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CBF2-046C-497F-879C-D978D020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0EF5-6329-4807-9F58-99289EF5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EDF7-ADC4-422E-9E2E-168495AC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8573-156F-47D9-97F5-AC5A9F8C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C8C6-7EC2-4C1B-880D-A456D55F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69F1-3CD4-430B-B6D6-24E636D1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4923-E9D8-4CD9-8F37-4A44D000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C0FB-5232-4DA4-A59A-FF39B11C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B94A-8C4A-4DD7-BEF8-B47051BD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D81B-6F80-4B15-AD23-896D20FD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6FE5-B2F1-4449-BC75-A0B58125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19BA-D326-42BB-ABD6-A4953A8D44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42472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проценты?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еревести десятичную дробь в проценты и наоборот – проценты в десятичную дробь?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68360" y="2924280"/>
          <a:ext cx="7704000" cy="3537000"/>
        </p:xfrm>
        <a:graphic>
          <a:graphicData uri="http://schemas.openxmlformats.org/drawingml/2006/table">
            <a:tbl>
              <a:tblPr/>
              <a:tblGrid>
                <a:gridCol w="3852720"/>
                <a:gridCol w="385128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ревести в процен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ревести в десятичную дроб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9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%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17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7%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%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 600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%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8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%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851200" y="3900600"/>
            <a:ext cx="890640" cy="639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2851200" y="4362480"/>
            <a:ext cx="1042920" cy="639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2711520" y="4892760"/>
            <a:ext cx="890640" cy="639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4"/>
          <a:stretch/>
        </p:blipFill>
        <p:spPr>
          <a:xfrm>
            <a:off x="2851200" y="5394240"/>
            <a:ext cx="1042920" cy="639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5"/>
          <a:stretch/>
        </p:blipFill>
        <p:spPr>
          <a:xfrm>
            <a:off x="2868480" y="5950080"/>
            <a:ext cx="738360" cy="639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6"/>
          <a:stretch/>
        </p:blipFill>
        <p:spPr>
          <a:xfrm>
            <a:off x="6667560" y="3897360"/>
            <a:ext cx="896760" cy="639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7"/>
          <a:stretch/>
        </p:blipFill>
        <p:spPr>
          <a:xfrm>
            <a:off x="6737400" y="4344840"/>
            <a:ext cx="896760" cy="640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"/>
          <p:cNvPicPr/>
          <p:nvPr/>
        </p:nvPicPr>
        <p:blipFill>
          <a:blip r:embed="rId8"/>
          <a:stretch/>
        </p:blipFill>
        <p:spPr>
          <a:xfrm>
            <a:off x="6546960" y="4892760"/>
            <a:ext cx="896760" cy="639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9"/>
          <a:stretch/>
        </p:blipFill>
        <p:spPr>
          <a:xfrm>
            <a:off x="6737400" y="5394240"/>
            <a:ext cx="517320" cy="63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10"/>
          <a:stretch/>
        </p:blipFill>
        <p:spPr>
          <a:xfrm>
            <a:off x="6669000" y="5950080"/>
            <a:ext cx="744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50760" y="-54000"/>
            <a:ext cx="9093240" cy="679608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4356000" y="9828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Задачи из ОГ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"/>
          <p:cNvSpPr/>
          <p:nvPr/>
        </p:nvSpPr>
        <p:spPr>
          <a:xfrm>
            <a:off x="4557600" y="981000"/>
            <a:ext cx="40467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ьше Вася решал правильно 2 задачи на проценты из  20. После изучения темы на одном полезном сайте, Вася стал решать правильно 16 задач из 20. На сколько процентов поумнел Вас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стопроцентный ум считаем 20 решённых задач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культминут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250920" y="1916280"/>
            <a:ext cx="835344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50% от 12 – хлопнуть в ладош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50% от 10 – топнуть ног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50% от 8 - присе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50% от 6 – повернуться вокруг себ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50% от 4 – попрыгать на мес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Проведя ОПРОС среди учеников 6-9 классов нашей школы мы выясняли, знают ли они, что такое процент и умеют ли они решать задачи на процент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Таблица 9" descr=""/>
          <p:cNvPicPr/>
          <p:nvPr/>
        </p:nvPicPr>
        <p:blipFill>
          <a:blip r:embed="rId1"/>
          <a:stretch/>
        </p:blipFill>
        <p:spPr>
          <a:xfrm>
            <a:off x="4846680" y="1573200"/>
            <a:ext cx="4125960" cy="5229360"/>
          </a:xfrm>
          <a:prstGeom prst="rect">
            <a:avLst/>
          </a:prstGeom>
          <a:ln w="0">
            <a:noFill/>
          </a:ln>
        </p:spPr>
      </p:pic>
      <p:pic>
        <p:nvPicPr>
          <p:cNvPr id="81" name="Таблица 11" descr=""/>
          <p:cNvPicPr/>
          <p:nvPr/>
        </p:nvPicPr>
        <p:blipFill>
          <a:blip r:embed="rId2"/>
          <a:stretch/>
        </p:blipFill>
        <p:spPr>
          <a:xfrm>
            <a:off x="165240" y="1573200"/>
            <a:ext cx="4125600" cy="5187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3"/>
          <a:stretch/>
        </p:blipFill>
        <p:spPr>
          <a:xfrm>
            <a:off x="2843280" y="6165720"/>
            <a:ext cx="774720" cy="530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4"/>
          <a:stretch/>
        </p:blipFill>
        <p:spPr>
          <a:xfrm>
            <a:off x="3630600" y="6176880"/>
            <a:ext cx="774720" cy="530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5"/>
          <a:stretch/>
        </p:blipFill>
        <p:spPr>
          <a:xfrm>
            <a:off x="7596360" y="6226200"/>
            <a:ext cx="774360" cy="530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6"/>
          <a:stretch/>
        </p:blipFill>
        <p:spPr>
          <a:xfrm>
            <a:off x="8367840" y="6226200"/>
            <a:ext cx="7747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920" y="33300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Calibri"/>
              </a:rPr>
              <a:t>проект</a:t>
            </a:r>
            <a:br>
              <a:rPr sz="5400"/>
            </a:br>
            <a:br>
              <a:rPr sz="5400"/>
            </a:br>
            <a:r>
              <a:rPr b="1" i="1" lang="ru-RU" sz="5400" spc="-1" strike="noStrike">
                <a:solidFill>
                  <a:srgbClr val="0000ff"/>
                </a:solidFill>
                <a:latin typeface="Calibri"/>
              </a:rPr>
              <a:t>«Проценты вокруг нас» 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27"/>
          <p:cNvPicPr/>
          <p:nvPr/>
        </p:nvPicPr>
        <p:blipFill>
          <a:blip r:embed="rId1"/>
          <a:stretch/>
        </p:blipFill>
        <p:spPr>
          <a:xfrm>
            <a:off x="324000" y="2852640"/>
            <a:ext cx="2830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424720" cy="56167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1763640" y="1052640"/>
            <a:ext cx="60483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0000"/>
                </a:solidFill>
                <a:latin typeface="Calibri"/>
              </a:rPr>
              <a:t>Выяснить, где проценты встречаются в жизни человека.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2050920" y="1052640"/>
            <a:ext cx="48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93600" y="155520"/>
            <a:ext cx="8907480" cy="64882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5"/>
          <p:cNvSpPr/>
          <p:nvPr/>
        </p:nvSpPr>
        <p:spPr>
          <a:xfrm>
            <a:off x="1547640" y="9572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Задачи проек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611280" y="1774800"/>
            <a:ext cx="369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6"/>
          <p:cNvSpPr/>
          <p:nvPr/>
        </p:nvSpPr>
        <p:spPr>
          <a:xfrm>
            <a:off x="1258920" y="1571760"/>
            <a:ext cx="6697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историю возникновения проц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388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процентных расчетов в различных видах жизнедеятельности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388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опрос среди учащихся нашей школы, выясняя их понимание, что такое процент и как он работ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72817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Актуальность нашего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24000" y="807840"/>
            <a:ext cx="836280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Проценты - это одна из сложнейших тем математики, и очень многие учащиеся затрудняются или вообще не умеют решать задачи на проценты. А понимание процентов и умение производить процентные расчёты необходимы для каждого человека. Прикладное значение этой темы очень велико и затрагивает финансовую, экономическую, демографическую и другие сферы нашей жизни. Изучение процента продиктовано самой жизнью. Умение выполнять процентные вычисления и расчеты необходимо каждому человеку, так как с процентами мы сталкиваемся в повседневной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Заключ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7892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ты творят чудеса. Зная их, бедный может стать богатым. Обманутый вчера в торговой сделке покупатель сегодня обоснованно требует процент торговой скидки. Вкладчик сбережений учится жить на проценты, грамотно размещая деньги в прибыльное дел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оей работе мы показали применение понятия процента при решении реальных задач только из некоторых сфер жизнедеятельности челове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785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своего исследования пришли к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проценты помогают на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о разбираться в большом потоке информ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вкладывать деньг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о брать кредиты, выбирая более выгодный вариан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ать выгодные покупки, экономя на скидк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ть математические зада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056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 назвать область, где бы не применялись процен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звестно, выводы опираются на анализ. Люди не знают более удобного способа анализировать, чем процентный. Он наиболее точен и прост в применении. Его суть понятна даже ребён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в жизни процентных расчетов полностью рассмотреть очень сложно, так как проценты применяются во всех сферах жизнедеятельности человека. И мы считаем, что каждый человек должен владеть этим понят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79488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Calibri"/>
              </a:rPr>
              <a:t>«Проценты в нашей жизни» </a:t>
            </a:r>
            <a:br>
              <a:rPr sz="6000"/>
            </a:br>
            <a:br>
              <a:rPr sz="6000"/>
            </a:b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проек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27"/>
          <p:cNvPicPr/>
          <p:nvPr/>
        </p:nvPicPr>
        <p:blipFill>
          <a:blip r:embed="rId1"/>
          <a:stretch/>
        </p:blipFill>
        <p:spPr>
          <a:xfrm>
            <a:off x="324000" y="2852640"/>
            <a:ext cx="2830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284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читай баллы и оцени себя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962000" y="4365720"/>
            <a:ext cx="5218200" cy="117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684360" y="1413000"/>
          <a:ext cx="7991280" cy="2377800"/>
        </p:xfrm>
        <a:graphic>
          <a:graphicData uri="http://schemas.openxmlformats.org/drawingml/2006/table">
            <a:tbl>
              <a:tblPr/>
              <a:tblGrid>
                <a:gridCol w="2663640"/>
                <a:gridCol w="2664000"/>
                <a:gridCol w="266364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 – 2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лов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 – 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лов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 – 1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лов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3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81bd"/>
                </a:solidFill>
                <a:latin typeface="Bookman Old Style"/>
              </a:rPr>
              <a:t>1. Семейный бюджет (за месяц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8218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557360"/>
          <a:ext cx="8229600" cy="4680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лены семь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(руб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буш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душ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тья, сест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74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15560"/>
            <a:ext cx="806436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Распределение семейного бюджета на месяц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50920" y="1557360"/>
          <a:ext cx="8364600" cy="5176800"/>
        </p:xfrm>
        <a:graphic>
          <a:graphicData uri="http://schemas.openxmlformats.org/drawingml/2006/table">
            <a:tbl>
              <a:tblPr/>
              <a:tblGrid>
                <a:gridCol w="2789280"/>
                <a:gridCol w="2787480"/>
                <a:gridCol w="2787840"/>
              </a:tblGrid>
              <a:tr h="474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(руб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всей сум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альные услуги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вода, электроэнергия, телефон и др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ежда, обув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ые рас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ар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о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лечения, сладости, стрижка итд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72817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Актуальность нашего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4000" y="807840"/>
            <a:ext cx="836280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Проценты - это одна из сложнейших тем математики, и очень многие учащиеся затрудняются или вообще не умеют решать задачи на проценты. А понимание процентов и умение производить процентные расчёты необходимы для каждого человека. Прикладное значение этой темы очень велико и затрагивает финансовую, экономическую, демографическую и другие сферы нашей жизни. Изучение процента продиктовано самой жизнью. Умение выполнять процентные вычисления и расчеты необходимо каждому человеку, так как с процентами мы сталкиваемся в повседневной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424720" cy="56167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1763640" y="1052640"/>
            <a:ext cx="60483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0000"/>
                </a:solidFill>
                <a:latin typeface="Calibri"/>
              </a:rPr>
              <a:t>Выяснить, где проценты встречаются в жизни человека.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2050920" y="1052640"/>
            <a:ext cx="48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1840" y="15480"/>
            <a:ext cx="8856720" cy="42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5940360" y="378000"/>
            <a:ext cx="2468520" cy="1066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251000" y="1916280"/>
            <a:ext cx="7870680" cy="1066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3"/>
          <a:stretch/>
        </p:blipFill>
        <p:spPr>
          <a:xfrm>
            <a:off x="407880" y="3213000"/>
            <a:ext cx="83343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93600" y="155520"/>
            <a:ext cx="8907480" cy="648828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5"/>
          <p:cNvSpPr/>
          <p:nvPr/>
        </p:nvSpPr>
        <p:spPr>
          <a:xfrm>
            <a:off x="1547640" y="9572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Задачи проек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611280" y="1774800"/>
            <a:ext cx="369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6"/>
          <p:cNvSpPr/>
          <p:nvPr/>
        </p:nvSpPr>
        <p:spPr>
          <a:xfrm>
            <a:off x="900000" y="1571760"/>
            <a:ext cx="705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историю возникновения проц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388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процентных расчетов в различных видах жизнедеятельности челове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388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свои задачи на проценты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388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640" y="981000"/>
            <a:ext cx="8785080" cy="51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1. Изучить историю возникновения процента;</a:t>
            </a:r>
            <a:br>
              <a:rPr sz="2800"/>
            </a:br>
            <a:r>
              <a:rPr b="0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2. Выяснить,  где применяются проценты в жизни человека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3. Составить свои задачи на проценты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4. Собрать весь материал и сделать презентац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922320" y="189000"/>
            <a:ext cx="384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лан наших действ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Вот такие задачи я приготовила для ва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5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4901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285840" y="549360"/>
            <a:ext cx="457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о телевизору я услышал что курящий человек сокращает свою жизнь на 15%, что составляет 8,4 года.      Какова  средняя продолжительность жизни в Росс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4067280" y="333360"/>
            <a:ext cx="4599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5T15:53:34Z</dcterms:created>
  <dc:creator>1</dc:creator>
  <dc:description/>
  <dc:language>en-US</dc:language>
  <cp:lastModifiedBy>000</cp:lastModifiedBy>
  <cp:lastPrinted>2018-04-29T14:11:32Z</cp:lastPrinted>
  <dcterms:modified xsi:type="dcterms:W3CDTF">2018-05-07T14:37:34Z</dcterms:modified>
  <cp:revision>109</cp:revision>
  <dc:subject/>
  <dc:title>Презентация PowerPoint</dc:title>
</cp:coreProperties>
</file>