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8A1-2077-4A92-8EC3-E516CB66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71A-0B5A-4CE3-AACF-60FE8A89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53C-92BC-4F19-B4E7-D32BF438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516-749B-46D4-8325-CDDB4EFF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E72-8F49-4683-980E-D62C1558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570-92A9-46E5-B417-FA32D601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515-BAC6-46DD-83BF-104D8AC5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22D-E3E3-469D-B491-44360CD9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243-4BDE-4606-A7B6-BF93FC5E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63D-A9CA-48B1-AEBA-B2138AE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D12-DD17-43E6-8020-AA10E8C6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574-3F6F-46D1-9B6A-D5CDC71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4746-7F9E-471B-8414-36FE3DDDB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оценты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вести десятичную дробь в проценты и наоборот – проценты в десятичную дробь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924280"/>
          <a:ext cx="7704000" cy="353700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вести в проц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вести в десятичную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9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7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6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%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51200" y="3900600"/>
            <a:ext cx="890640" cy="63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851200" y="4362480"/>
            <a:ext cx="1042920" cy="63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711520" y="4892760"/>
            <a:ext cx="890640" cy="63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2851200" y="5394240"/>
            <a:ext cx="104292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2868480" y="5950080"/>
            <a:ext cx="738360" cy="63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6667560" y="3897360"/>
            <a:ext cx="89676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7"/>
          <a:stretch/>
        </p:blipFill>
        <p:spPr>
          <a:xfrm>
            <a:off x="6737400" y="4344840"/>
            <a:ext cx="896760" cy="640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8"/>
          <a:stretch/>
        </p:blipFill>
        <p:spPr>
          <a:xfrm>
            <a:off x="6546960" y="4892760"/>
            <a:ext cx="896760" cy="63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9"/>
          <a:stretch/>
        </p:blipFill>
        <p:spPr>
          <a:xfrm>
            <a:off x="6737400" y="5394240"/>
            <a:ext cx="517320" cy="63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10"/>
          <a:stretch/>
        </p:blipFill>
        <p:spPr>
          <a:xfrm>
            <a:off x="6669000" y="5950080"/>
            <a:ext cx="744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0760" y="-54000"/>
            <a:ext cx="9093240" cy="6796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356000" y="98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Задачи из О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4557600" y="981000"/>
            <a:ext cx="4046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Вася решал правильно 2 задачи на проценты из  20. После изучения темы на одном полезном сайте, Вася стал решать правильно 16 задач из 20. На сколько процентов поумнел Ва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топроцентный ум считаем 20 решённых задач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ьтминут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0920" y="1916280"/>
            <a:ext cx="83534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12 – хлопнуть в ладо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10 – топнуть но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8 - присе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6 – повернуться вокруг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50% от 4 – попрыгать на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роведя ОПРОС среди учеников 6-9 классов нашей школы мы выясняли, знают ли они, что такое процент и умеют ли они решать задачи на процен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Таблица 9" descr=""/>
          <p:cNvPicPr/>
          <p:nvPr/>
        </p:nvPicPr>
        <p:blipFill>
          <a:blip r:embed="rId1"/>
          <a:stretch/>
        </p:blipFill>
        <p:spPr>
          <a:xfrm>
            <a:off x="4846680" y="1573200"/>
            <a:ext cx="4125960" cy="5229360"/>
          </a:xfrm>
          <a:prstGeom prst="rect">
            <a:avLst/>
          </a:prstGeom>
          <a:ln w="0">
            <a:noFill/>
          </a:ln>
        </p:spPr>
      </p:pic>
      <p:pic>
        <p:nvPicPr>
          <p:cNvPr id="81" name="Таблица 11" descr=""/>
          <p:cNvPicPr/>
          <p:nvPr/>
        </p:nvPicPr>
        <p:blipFill>
          <a:blip r:embed="rId2"/>
          <a:stretch/>
        </p:blipFill>
        <p:spPr>
          <a:xfrm>
            <a:off x="165240" y="1573200"/>
            <a:ext cx="4125600" cy="518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2843280" y="6165720"/>
            <a:ext cx="774720" cy="53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630600" y="6176880"/>
            <a:ext cx="774720" cy="53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7596360" y="6226200"/>
            <a:ext cx="774360" cy="53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8367840" y="6226200"/>
            <a:ext cx="7747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920" y="33300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проект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«Проценты вокруг нас»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27"/>
          <p:cNvPicPr/>
          <p:nvPr/>
        </p:nvPicPr>
        <p:blipFill>
          <a:blip r:embed="rId1"/>
          <a:stretch/>
        </p:blipFill>
        <p:spPr>
          <a:xfrm>
            <a:off x="324000" y="2852640"/>
            <a:ext cx="283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763640" y="1052640"/>
            <a:ext cx="6048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alibri"/>
              </a:rPr>
              <a:t>Выяснить, где проценты встречаются в жизни человека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050920" y="105264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3600" y="155520"/>
            <a:ext cx="8907480" cy="64882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547640" y="9572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дач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611280" y="1774800"/>
            <a:ext cx="36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1258920" y="1571760"/>
            <a:ext cx="66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сторию возникновения проц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роцентных расчетов в различных видах жизнедеятельност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опрос среди учащихся нашей школы, выясняя их понимание, что такое процент и как он рабо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7281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ктуальность нашего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807840"/>
            <a:ext cx="83628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центы - это одна из сложнейших тем математики, и очень многие учащиеся затрудняются или вообще не умеют решать задачи на проценты. А понимание процентов и умение производить процентные расчёты необходимы для каждого человека. Прикладное значение этой темы очень велико и затрагивает финансовую, экономическую, демографическую и другие сферы нашей жизни. Изучение процента продиктовано самой жизнью. Умение выполнять процентные вычисления и расчеты необходимо каждому человеку, так как с процентами мы сталкиваемся в повседнев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ы творят чудеса. Зная их, бедный может стать богатым. Обманутый вчера в торговой сделке покупатель сегодня обоснованно требует процент торговой скидки. Вкладчик сбережений учится жить на проценты, грамотно размещая деньги в прибыльное д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мы показали применение понятия процента при решении реальных задач только из некоторых сфер жизнедеятельности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78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своего исследования пришли 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проценты помогают н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 разбираться в большом потоке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вкладывать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 брать кредиты, выбирая более выгод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ать выгодные покупки, экономя на скид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математические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назвать область, где бы не применялись проц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вестно, выводы опираются на анализ. Люди не знают более удобного способа анализировать, чем процентный. Он наиболее точен и прост в применении. Его суть понятна даже ребё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в жизни процентных расчетов полностью рассмотреть очень сложно, так как проценты применяются во всех сферах жизнедеятельности человека. И мы считаем, что каждый человек должен владеть этим понят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9488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Calibri"/>
              </a:rPr>
              <a:t>«Проценты в нашей жизни» </a:t>
            </a:r>
            <a:br>
              <a:rPr sz="6000"/>
            </a:br>
            <a:br>
              <a:rPr sz="6000"/>
            </a:b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проек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27"/>
          <p:cNvPicPr/>
          <p:nvPr/>
        </p:nvPicPr>
        <p:blipFill>
          <a:blip r:embed="rId1"/>
          <a:stretch/>
        </p:blipFill>
        <p:spPr>
          <a:xfrm>
            <a:off x="324000" y="2852640"/>
            <a:ext cx="283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читай баллы и оцени себя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962000" y="4365720"/>
            <a:ext cx="52182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84360" y="1413000"/>
          <a:ext cx="7991280" cy="2377800"/>
        </p:xfrm>
        <a:graphic>
          <a:graphicData uri="http://schemas.openxmlformats.org/drawingml/2006/table">
            <a:tbl>
              <a:tblPr/>
              <a:tblGrid>
                <a:gridCol w="2663640"/>
                <a:gridCol w="2664000"/>
                <a:gridCol w="266364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– 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– 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– 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л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Bookman Old Style"/>
              </a:rPr>
              <a:t>1. Семейный бюджет (за месяц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57360"/>
          <a:ext cx="8229600" cy="46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ы семь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(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ья, сес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7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15560"/>
            <a:ext cx="8064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аспределение семейного бюджета на месяц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557360"/>
          <a:ext cx="8364600" cy="5176800"/>
        </p:xfrm>
        <a:graphic>
          <a:graphicData uri="http://schemas.openxmlformats.org/drawingml/2006/table">
            <a:tbl>
              <a:tblPr/>
              <a:tblGrid>
                <a:gridCol w="2789280"/>
                <a:gridCol w="2787480"/>
                <a:gridCol w="2787840"/>
              </a:tblGrid>
              <a:tr h="474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(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всей су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вода, электроэнергия, телефон и д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жда, обув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ы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я, сладости, стрижка ит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7281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ктуальность нашего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807840"/>
            <a:ext cx="83628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центы - это одна из сложнейших тем математики, и очень многие учащиеся затрудняются или вообще не умеют решать задачи на проценты. А понимание процентов и умение производить процентные расчёты необходимы для каждого человека. Прикладное значение этой темы очень велико и затрагивает финансовую, экономическую, демографическую и другие сферы нашей жизни. Изучение процента продиктовано самой жизнью. Умение выполнять процентные вычисления и расчеты необходимо каждому человеку, так как с процентами мы сталкиваемся в повседнев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763640" y="1052640"/>
            <a:ext cx="6048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Calibri"/>
              </a:rPr>
              <a:t>Выяснить, где проценты встречаются в жизни человека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050920" y="105264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840" y="15480"/>
            <a:ext cx="885672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940360" y="378000"/>
            <a:ext cx="246852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251000" y="1916280"/>
            <a:ext cx="78706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407880" y="3213000"/>
            <a:ext cx="8334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3600" y="155520"/>
            <a:ext cx="8907480" cy="6488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1547640" y="9572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дач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611280" y="1774800"/>
            <a:ext cx="36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900000" y="1571760"/>
            <a:ext cx="705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сторию возникновения проц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роцентных расчетов в различных видах жизнедеятельности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вои задачи на процент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878508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1. Изучить историю возникновения процента;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2. Выяснить,  где применяются проценты в жизни человек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. Составить свои задачи на проценты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4. Собрать весь материал и сделать презент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922320" y="189000"/>
            <a:ext cx="38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лан наших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от такие задачи я приготовила для в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5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490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85840" y="54936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 телевизору я услышал что курящий человек сокращает свою жизнь на 15%, что составляет 8,4 года.      Какова  средняя продолжительность жизни в Ро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4599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15:53:34Z</dcterms:created>
  <dc:creator>1</dc:creator>
  <dc:description/>
  <dc:language>en-US</dc:language>
  <cp:lastModifiedBy>000</cp:lastModifiedBy>
  <cp:lastPrinted>2018-04-29T14:11:32Z</cp:lastPrinted>
  <dcterms:modified xsi:type="dcterms:W3CDTF">2018-05-07T14:37:34Z</dcterms:modified>
  <cp:revision>109</cp:revision>
  <dc:subject/>
  <dc:title>Презентация PowerPoint</dc:title>
</cp:coreProperties>
</file>