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3A9-3872-418F-B633-C6A05D5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F08-9C46-4DC3-8984-17091EC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5C4-3A4A-4876-B917-C38CF5C2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C62-6EB5-4E8A-BA6E-CA7EA235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9DC-35AF-47C2-BD65-F9D1DDF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2FD-54AE-4F5C-85B3-F0DAB39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485-14CD-4BAD-A770-B8B7D5B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9D1-9EDA-4925-A0C7-9286738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6A1-F94C-4229-8368-2575690F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51C-A57F-4D33-B826-2F5FE51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A9A-9AF4-4367-81FB-633D7DB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468-96F7-4ABC-92B8-7FB454C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013C-45DA-4D89-8047-FE66F1773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центы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вести десятичную дробь в проценты и наоборот – проценты в десятичную дробь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924280"/>
          <a:ext cx="7704000" cy="3537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десятичную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9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7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6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1200" y="390060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851200" y="436248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711520" y="489276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851200" y="539424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2868480" y="5950080"/>
            <a:ext cx="73836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6667560" y="38973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6737400" y="4344840"/>
            <a:ext cx="896760" cy="6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6546960" y="48927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6737400" y="5394240"/>
            <a:ext cx="51732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10"/>
          <a:stretch/>
        </p:blipFill>
        <p:spPr>
          <a:xfrm>
            <a:off x="6669000" y="5950080"/>
            <a:ext cx="744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760" y="-54000"/>
            <a:ext cx="9093240" cy="679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356000" y="98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Задачи из О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4557600" y="981000"/>
            <a:ext cx="4046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Вася решал правильно 2 задачи на проценты из  20. После изучения темы на одном полезном сайте, Вася стал решать правильно 16 задач из 20. На сколько процентов поумнел Ва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опроцентный ум считаем 20 решённых зада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2 – хлопнуть в лад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0 – топнуть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8 - прис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6 – повернуться вокруг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4 – попрыгать на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оведя ОПРОС среди учеников 6-9 классов нашей школы мы выясняли, знают ли они, что такое процент и умеют ли они решать задачи на процен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Таблица 9" descr=""/>
          <p:cNvPicPr/>
          <p:nvPr/>
        </p:nvPicPr>
        <p:blipFill>
          <a:blip r:embed="rId1"/>
          <a:stretch/>
        </p:blipFill>
        <p:spPr>
          <a:xfrm>
            <a:off x="4846680" y="1573200"/>
            <a:ext cx="4125960" cy="5229360"/>
          </a:xfrm>
          <a:prstGeom prst="rect">
            <a:avLst/>
          </a:prstGeom>
          <a:ln w="0">
            <a:noFill/>
          </a:ln>
        </p:spPr>
      </p:pic>
      <p:pic>
        <p:nvPicPr>
          <p:cNvPr id="81" name="Таблица 11" descr=""/>
          <p:cNvPicPr/>
          <p:nvPr/>
        </p:nvPicPr>
        <p:blipFill>
          <a:blip r:embed="rId2"/>
          <a:stretch/>
        </p:blipFill>
        <p:spPr>
          <a:xfrm>
            <a:off x="165240" y="1573200"/>
            <a:ext cx="4125600" cy="518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2843280" y="616572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630600" y="617688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7596360" y="6226200"/>
            <a:ext cx="77436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8367840" y="6226200"/>
            <a:ext cx="7747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33300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проект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«Проценты вокруг нас»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1258920" y="1571760"/>
            <a:ext cx="66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среди учащихся нашей школы, выясняя их понимание, что такое процент и как он рабо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творят чудеса. Зная их, бедный может стать богатым. Обманутый вчера в торговой сделке покупатель сегодня обоснованно требует процент торговой скидки. Вкладчик сбережений учится жить на проценты, грамотно размещая деньги в прибыльное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показали применение понятия процента при решении реальных задач только из некоторых сфер жизнедеятельност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воего исследования пришли 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проценты помогают н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разбираться в большом поток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вкладывать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брать кредиты, выбирая более выгод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ть выгодные покупки, экономя на скид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математические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назвать область, где бы не применялись проц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выводы опираются на анализ. Люди не знают более удобного способа анализировать, чем процентный. Он наиболее точен и прост в применении. Его суть понятна даже ребё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жизни процентных расчетов полностью рассмотреть очень сложно, так как проценты применяются во всех сферах жизнедеятельности человека. И мы считаем, что каждый человек должен владеть этим поня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9488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Calibri"/>
              </a:rPr>
              <a:t>«Проценты в нашей жизни» </a:t>
            </a:r>
            <a:br>
              <a:rPr sz="6000"/>
            </a:br>
            <a:br>
              <a:rPr sz="6000"/>
            </a:b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читай баллы и оцени себя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962000" y="4365720"/>
            <a:ext cx="52182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1413000"/>
          <a:ext cx="7991280" cy="237780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  <a:gridCol w="26636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– 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– 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– 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Bookman Old Style"/>
              </a:rPr>
              <a:t>1. Семейный бюджет (за месяц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57360"/>
          <a:ext cx="8229600" cy="46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ья,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5560"/>
            <a:ext cx="80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аспределение семейного бюджета на месяц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57360"/>
          <a:ext cx="8364600" cy="5176800"/>
        </p:xfrm>
        <a:graphic>
          <a:graphicData uri="http://schemas.openxmlformats.org/drawingml/2006/table">
            <a:tbl>
              <a:tblPr/>
              <a:tblGrid>
                <a:gridCol w="2789280"/>
                <a:gridCol w="2787480"/>
                <a:gridCol w="2787840"/>
              </a:tblGrid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всей су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ода, электроэнергия, телефон и д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, обу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, сладости, стрижка ит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840" y="15480"/>
            <a:ext cx="88567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40360" y="378000"/>
            <a:ext cx="246852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51000" y="1916280"/>
            <a:ext cx="78706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407880" y="3213000"/>
            <a:ext cx="8334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900000" y="157176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вои задачи на процент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8785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1. Изучить историю возникновения процента;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Выяснить,  где применяются проценты в жизни человек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Составить свои задачи на проценты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Собрать весь материал и сделать презен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922320" y="18900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ан наш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от такие задачи я приготовила для в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90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85840" y="549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телевизору я услышал что курящий человек сокращает свою жизнь на 15%, что составляет 8,4 года.      Какова  средняя продолжительность жизни в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599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5:53:34Z</dcterms:created>
  <dc:creator>1</dc:creator>
  <dc:description/>
  <dc:language>en-US</dc:language>
  <cp:lastModifiedBy>000</cp:lastModifiedBy>
  <cp:lastPrinted>2018-04-29T14:11:32Z</cp:lastPrinted>
  <dcterms:modified xsi:type="dcterms:W3CDTF">2018-05-07T14:37:34Z</dcterms:modified>
  <cp:revision>109</cp:revision>
  <dc:subject/>
  <dc:title>Презентация PowerPoint</dc:title>
</cp:coreProperties>
</file>