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3B58-DC03-4F6E-A28C-8F9B3A90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BA9-B951-4DF0-B3B4-15174964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A0CE-D9E9-46C1-8FAE-1538047B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807-AB18-4A64-8B95-6C93870C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0A3-27C9-4D03-BD6B-64B44C93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8559-777E-4DF5-BF5E-525A010B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0B7-A0D4-4B71-B991-5327F5C4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2679-C1CC-4CBD-BD8F-AED1B7D9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D42-329D-4F59-87C2-A280A499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62E-DC0C-4BB3-99EC-CAB21C81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FAE-7BD7-406F-84AF-FEAB6FD3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D2F5-EA6A-4B82-BF9B-38CA56AF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08DD-318B-451D-B13F-4B3A629CB4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кторина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1"/>
          <p:cNvPicPr/>
          <p:nvPr/>
        </p:nvPicPr>
        <p:blipFill>
          <a:blip r:embed="rId2"/>
          <a:stretch/>
        </p:blipFill>
        <p:spPr>
          <a:xfrm>
            <a:off x="1747800" y="1417680"/>
            <a:ext cx="564840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3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Какие животные изображены на промысловом календар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Медведь,олень,горностай,россомаха, лось, выдра, лисица, белка, ку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Медведь,лось,горностай,олень,бобр,лисица,белка,куница,россома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Медведь,лось,куница,волк,лисица,заяц,белка,россомаха,ол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Медведь,олень,горностай,росомаха, лось, выдра, лисица, белка, куни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69537682_02"/>
          <p:cNvPicPr/>
          <p:nvPr/>
        </p:nvPicPr>
        <p:blipFill>
          <a:blip r:embed="rId2"/>
          <a:stretch/>
        </p:blipFill>
        <p:spPr>
          <a:xfrm>
            <a:off x="0" y="2349360"/>
            <a:ext cx="1295280" cy="978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otter"/>
          <p:cNvPicPr/>
          <p:nvPr/>
        </p:nvPicPr>
        <p:blipFill>
          <a:blip r:embed="rId3"/>
          <a:stretch/>
        </p:blipFill>
        <p:spPr>
          <a:xfrm>
            <a:off x="1332000" y="3789360"/>
            <a:ext cx="1295280" cy="871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Fox-PNG-Image-31905"/>
          <p:cNvPicPr/>
          <p:nvPr/>
        </p:nvPicPr>
        <p:blipFill>
          <a:blip r:embed="rId4"/>
          <a:stretch/>
        </p:blipFill>
        <p:spPr>
          <a:xfrm>
            <a:off x="611280" y="5300640"/>
            <a:ext cx="1512720" cy="1154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huge_item_wolverine_01-li"/>
          <p:cNvPicPr/>
          <p:nvPr/>
        </p:nvPicPr>
        <p:blipFill>
          <a:blip r:embed="rId5"/>
          <a:stretch/>
        </p:blipFill>
        <p:spPr>
          <a:xfrm>
            <a:off x="2411280" y="5300640"/>
            <a:ext cx="1401840" cy="1557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vnieklassnoiemieropriiatiieponieviedomymdorozhkam_10"/>
          <p:cNvPicPr/>
          <p:nvPr/>
        </p:nvPicPr>
        <p:blipFill>
          <a:blip r:embed="rId6"/>
          <a:stretch/>
        </p:blipFill>
        <p:spPr>
          <a:xfrm>
            <a:off x="2771640" y="2421000"/>
            <a:ext cx="2089440" cy="201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11"/>
          <p:cNvPicPr/>
          <p:nvPr/>
        </p:nvPicPr>
        <p:blipFill>
          <a:blip r:embed="rId7"/>
          <a:stretch/>
        </p:blipFill>
        <p:spPr>
          <a:xfrm>
            <a:off x="4284720" y="3573360"/>
            <a:ext cx="1747800" cy="216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0_86d7c_2380611c_XL"/>
          <p:cNvPicPr/>
          <p:nvPr/>
        </p:nvPicPr>
        <p:blipFill>
          <a:blip r:embed="rId8"/>
          <a:stretch/>
        </p:blipFill>
        <p:spPr>
          <a:xfrm>
            <a:off x="6227640" y="5373720"/>
            <a:ext cx="1295640" cy="987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otter-clipart-transparent-13"/>
          <p:cNvPicPr/>
          <p:nvPr/>
        </p:nvPicPr>
        <p:blipFill>
          <a:blip r:embed="rId9"/>
          <a:stretch/>
        </p:blipFill>
        <p:spPr>
          <a:xfrm>
            <a:off x="6732720" y="3213000"/>
            <a:ext cx="151272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original"/>
          <p:cNvPicPr/>
          <p:nvPr/>
        </p:nvPicPr>
        <p:blipFill>
          <a:blip r:embed="rId10"/>
          <a:stretch/>
        </p:blipFill>
        <p:spPr>
          <a:xfrm>
            <a:off x="7632720" y="5345280"/>
            <a:ext cx="15112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731520"/>
            <a:ext cx="793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6. На какой период приходится осеннее равноденствие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507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 период лося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В период ол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 В период росомах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835280" y="836640"/>
            <a:ext cx="48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vnieklassnoiemieropriiatiieponieviedomymdorozhkam_10"/>
          <p:cNvPicPr/>
          <p:nvPr/>
        </p:nvPicPr>
        <p:blipFill>
          <a:blip r:embed="rId2"/>
          <a:stretch/>
        </p:blipFill>
        <p:spPr>
          <a:xfrm>
            <a:off x="5148360" y="1074600"/>
            <a:ext cx="2089080" cy="2017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huge_item_wolverine_01-li"/>
          <p:cNvPicPr/>
          <p:nvPr/>
        </p:nvPicPr>
        <p:blipFill>
          <a:blip r:embed="rId3"/>
          <a:stretch/>
        </p:blipFill>
        <p:spPr>
          <a:xfrm>
            <a:off x="5938920" y="4156200"/>
            <a:ext cx="1400040" cy="155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11"/>
          <p:cNvPicPr/>
          <p:nvPr/>
        </p:nvPicPr>
        <p:blipFill>
          <a:blip r:embed="rId4"/>
          <a:stretch/>
        </p:blipFill>
        <p:spPr>
          <a:xfrm>
            <a:off x="4357800" y="2295360"/>
            <a:ext cx="1747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лос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с 10 августа по 4 октябр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роисходит гон диких копытных. На период лося приходилась дат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еннего равноденствия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 старинном делении года на два сезона говорит и такой пример: для обозначения возраста людей у коми используется слово «ар» (осень), а не «во» (год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к назывался период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 5 октября по 19 декабря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торый  являлся самым продолжительным в промысловом календаре и связан был с подготовкой к пушной охо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ериод выд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ериод б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ериод лисиц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4" descr="otter"/>
          <p:cNvPicPr/>
          <p:nvPr/>
        </p:nvPicPr>
        <p:blipFill>
          <a:blip r:embed="rId2"/>
          <a:stretch/>
        </p:blipFill>
        <p:spPr>
          <a:xfrm>
            <a:off x="4900680" y="2992320"/>
            <a:ext cx="1295280" cy="871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69537682_02"/>
          <p:cNvPicPr/>
          <p:nvPr/>
        </p:nvPicPr>
        <p:blipFill>
          <a:blip r:embed="rId3"/>
          <a:stretch/>
        </p:blipFill>
        <p:spPr>
          <a:xfrm>
            <a:off x="3691080" y="3527280"/>
            <a:ext cx="1295280" cy="978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Fox-PNG-Image-31905"/>
          <p:cNvPicPr/>
          <p:nvPr/>
        </p:nvPicPr>
        <p:blipFill>
          <a:blip r:embed="rId4"/>
          <a:stretch/>
        </p:blipFill>
        <p:spPr>
          <a:xfrm>
            <a:off x="4986360" y="4437000"/>
            <a:ext cx="1512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твет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ериод выд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(с 5 октября по 19 декабря) являлся самым продолжительным в промысловом календаре и связан был с подготовкой к пушной охоте. Выбор выдры связан с особыми поверьями. Выдра олицетворяла водную стихию. Она могла (как и щука) выступать в роли водяного духа. Рассуждения могли быть такими: выдра – вода – подводный мир – мрак – период поздней ос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487440"/>
            <a:ext cx="891864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Какой период завершал пушной сезон и охоту в цел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иод куницы (с 22 февраля по 21 ма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иод медведя (с 22 марта по 27 апрел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иод горностая (3 июня – 4 июл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Ответ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иод куниц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(с 22 февраля по 21 марта) завершал пушной сезон и охоту в цело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н заканчивался днём весеннего равноденствия, на это событие указывает знак солнца, помещённый под мордой зверь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0_86d7c_2380611c_XL"/>
          <p:cNvPicPr/>
          <p:nvPr/>
        </p:nvPicPr>
        <p:blipFill>
          <a:blip r:embed="rId2"/>
          <a:stretch/>
        </p:blipFill>
        <p:spPr>
          <a:xfrm>
            <a:off x="3059280" y="3822840"/>
            <a:ext cx="2197080" cy="16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6000" y="639720"/>
            <a:ext cx="871200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. Как называется период, который завершал непромысловый сезон с (5 июля - по 9 августа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иод росома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иод горно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иод медве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6" descr="huge_item_wolverine_01-li"/>
          <p:cNvPicPr/>
          <p:nvPr/>
        </p:nvPicPr>
        <p:blipFill>
          <a:blip r:embed="rId2"/>
          <a:stretch/>
        </p:blipFill>
        <p:spPr>
          <a:xfrm>
            <a:off x="4383000" y="1674720"/>
            <a:ext cx="2054160" cy="2054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otter-clipart-transparent-13"/>
          <p:cNvPicPr/>
          <p:nvPr/>
        </p:nvPicPr>
        <p:blipFill>
          <a:blip r:embed="rId3"/>
          <a:stretch/>
        </p:blipFill>
        <p:spPr>
          <a:xfrm>
            <a:off x="3967200" y="3019320"/>
            <a:ext cx="151272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original"/>
          <p:cNvPicPr/>
          <p:nvPr/>
        </p:nvPicPr>
        <p:blipFill>
          <a:blip r:embed="rId4"/>
          <a:stretch/>
        </p:blipFill>
        <p:spPr>
          <a:xfrm>
            <a:off x="3419640" y="45734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.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росомахи продолжался с 5 июля по 9 августа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завершал непромысловый сезон. В это время у росомахи начинается кочевая жизнь самок с подросшим молодняком. «Браконьерская» деятельность этого хищника в выводковый период в лесу резко противоречила нормам промысловой морали, что и стало причиной включения её в календарь в этот пери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huge_item_wolverine_01-li"/>
          <p:cNvPicPr/>
          <p:nvPr/>
        </p:nvPicPr>
        <p:blipFill>
          <a:blip r:embed="rId2"/>
          <a:stretch/>
        </p:blipFill>
        <p:spPr>
          <a:xfrm>
            <a:off x="2843280" y="3691080"/>
            <a:ext cx="2736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В каком году нашли коми промысловый календа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1953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1975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1964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7"/>
          <p:cNvPicPr/>
          <p:nvPr/>
        </p:nvPicPr>
        <p:blipFill>
          <a:blip r:embed="rId2"/>
          <a:srcRect l="5228" t="6254" r="5228" b="6254"/>
          <a:stretch/>
        </p:blipFill>
        <p:spPr>
          <a:xfrm>
            <a:off x="4392720" y="1944720"/>
            <a:ext cx="3549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медвед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одолжался с 22 марта по 27 апреля. В это время медведи покидают берл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оле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28 апреля – 2 июня) как у домашнего, так и у дикого северного оленя появляется потом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горност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3 июня – 4 июля) – у горностая начинается активизация хищнической деятельности. На это время приходилось летнее солнцестоя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росомах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одолжался с 5 июля по 9 августа, он завершал непромысловый се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ло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с 10 августа по 4 октября) происходит гон диких копытных. На период лося приходилась дата осеннего равноден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выдр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с 5 октября по 19 декабря) являлся самым продолжительным в промысловом календаре и связан был с подготовкой к пушной охо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лисиц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хватывал промежуток года с 20 декабря по 24 января и продолжал пушной сезон. На этот период приходится дата зимнего солнцестоя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бел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одолжался с 25 января по 21 февраля. Она принимала «пушную эстафету» у лис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куниц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с 22 февраля по 21 марта) завершал пушной сезон и охоту в целом. Он заканчивался днём весеннего равноденствия, на это событие указывает знак солнца, помещённый под мордой зверь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1" descr=""/>
          <p:cNvPicPr/>
          <p:nvPr/>
        </p:nvPicPr>
        <p:blipFill>
          <a:blip r:embed="rId2"/>
          <a:stretch/>
        </p:blipFill>
        <p:spPr>
          <a:xfrm>
            <a:off x="324000" y="274680"/>
            <a:ext cx="845316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971640" y="765000"/>
            <a:ext cx="741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онзовый календарь конца первого — начала второго тысячелетия нашей эры найден в 1975 году на берегу Вычегды в районе села Сторожевск местным жителем Латкиным Н.А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7"/>
          <p:cNvPicPr/>
          <p:nvPr/>
        </p:nvPicPr>
        <p:blipFill>
          <a:blip r:embed="rId2"/>
          <a:srcRect l="5228" t="6254" r="5228" b="6254"/>
          <a:stretch/>
        </p:blipFill>
        <p:spPr>
          <a:xfrm>
            <a:off x="2905200" y="3387600"/>
            <a:ext cx="3549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3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Сколько животных изображено на промысловом календар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ве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ыделено девять периодов в году, связанных с тем зверем, который изображён на календаре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7"/>
          <p:cNvPicPr/>
          <p:nvPr/>
        </p:nvPicPr>
        <p:blipFill>
          <a:blip r:embed="rId2"/>
          <a:srcRect l="5228" t="6254" r="5228" b="6254"/>
          <a:stretch/>
        </p:blipFill>
        <p:spPr>
          <a:xfrm>
            <a:off x="4043520" y="2782800"/>
            <a:ext cx="3547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. На кольце изображены круглые значки — это элементы весеннего, осеннего равноденствия и зимнего солнцестояния. С какого периода начинался новый г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21 марта по 27 апреля (дата  весеннего равноденств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с 20 декабря - 24 января(зимнее солнцестояние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10 августа - 4 октября(дата осеннего равноденств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000" y="115560"/>
            <a:ext cx="835164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ет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й год отсчитывали с 21 марта по 27 апреля (дата  весеннего равноденствия). На кольце знак «солнца». ), затем счёт идёт против часовой стрелки. Счёт времени производился с использованием биологических ритмов основных промысловых животных (гон, появление потомства, выход медведя из берлоги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5"/>
          <p:cNvPicPr/>
          <p:nvPr/>
        </p:nvPicPr>
        <p:blipFill>
          <a:blip r:embed="rId2"/>
          <a:stretch/>
        </p:blipFill>
        <p:spPr>
          <a:xfrm>
            <a:off x="1717560" y="3063960"/>
            <a:ext cx="58532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4. Год делился на два полугодия:  весенне-летнее и  осенне-зимнее. Как назывался цикл в осенне-зимнее полугодие? Два правильных от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роизводи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зон ох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50752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 делился на два полугодия: весенне-летнее - непроизводительный (выводковый сезон) цикл; осенне-зимнее - производительный (сезон охоты) цикл, в котором дополнительно выделялся пушной сезон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835280" y="836640"/>
            <a:ext cx="48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7T17:05:10Z</dcterms:created>
  <dc:creator>Карат</dc:creator>
  <dc:description/>
  <dc:language>en-US</dc:language>
  <cp:lastModifiedBy>Наталья</cp:lastModifiedBy>
  <dcterms:modified xsi:type="dcterms:W3CDTF">2024-02-08T18:46:00Z</dcterms:modified>
  <cp:revision>44</cp:revision>
  <dc:subject/>
  <dc:title>Слайд 1</dc:title>
</cp:coreProperties>
</file>