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DF7-7E61-4D42-8D8A-4247CFDB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7D5-D3B8-4BF5-8670-34992916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9FD-67B1-4271-835E-AEA8800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775-E4CF-4B9A-9B85-4464BBA3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487-5026-41F6-B8A0-231EF5A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949-FF41-4C22-BDCE-8334A746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C01-0698-463B-8B24-1E215301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E23-060A-4B75-912D-64CB81E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30C-A238-4F8D-9F5F-E5C2E5D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30B-4BA6-4D7B-A358-35B717E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EC9-48B8-4C51-8A89-B4534BD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FA1-EA9B-42CD-B40D-BAB8795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282-E479-42C6-AE7A-19D83C084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на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1747800" y="1417680"/>
            <a:ext cx="56484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Какие животные изображены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едведь,олень,горностай,россомаха, лось, выдра, лисица, белка, ку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дведь,лось,горностай,олень,бобр,лисица,белка,куница,россом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едведь,лось,куница,волк,лисица,заяц,белка,россомаха,о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Медведь,олень,горностай,росомаха, лось, выдра, лисица, белка, кун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69537682_02"/>
          <p:cNvPicPr/>
          <p:nvPr/>
        </p:nvPicPr>
        <p:blipFill>
          <a:blip r:embed="rId2"/>
          <a:stretch/>
        </p:blipFill>
        <p:spPr>
          <a:xfrm>
            <a:off x="0" y="234936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otter"/>
          <p:cNvPicPr/>
          <p:nvPr/>
        </p:nvPicPr>
        <p:blipFill>
          <a:blip r:embed="rId3"/>
          <a:stretch/>
        </p:blipFill>
        <p:spPr>
          <a:xfrm>
            <a:off x="1332000" y="378936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Fox-PNG-Image-31905"/>
          <p:cNvPicPr/>
          <p:nvPr/>
        </p:nvPicPr>
        <p:blipFill>
          <a:blip r:embed="rId4"/>
          <a:stretch/>
        </p:blipFill>
        <p:spPr>
          <a:xfrm>
            <a:off x="611280" y="5300640"/>
            <a:ext cx="1512720" cy="115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uge_item_wolverine_01-li"/>
          <p:cNvPicPr/>
          <p:nvPr/>
        </p:nvPicPr>
        <p:blipFill>
          <a:blip r:embed="rId5"/>
          <a:stretch/>
        </p:blipFill>
        <p:spPr>
          <a:xfrm>
            <a:off x="2411280" y="5300640"/>
            <a:ext cx="1401840" cy="155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vnieklassnoiemieropriiatiieponieviedomymdorozhkam_10"/>
          <p:cNvPicPr/>
          <p:nvPr/>
        </p:nvPicPr>
        <p:blipFill>
          <a:blip r:embed="rId6"/>
          <a:stretch/>
        </p:blipFill>
        <p:spPr>
          <a:xfrm>
            <a:off x="2771640" y="2421000"/>
            <a:ext cx="2089440" cy="20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11"/>
          <p:cNvPicPr/>
          <p:nvPr/>
        </p:nvPicPr>
        <p:blipFill>
          <a:blip r:embed="rId7"/>
          <a:stretch/>
        </p:blipFill>
        <p:spPr>
          <a:xfrm>
            <a:off x="4284720" y="3573360"/>
            <a:ext cx="174780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0_86d7c_2380611c_XL"/>
          <p:cNvPicPr/>
          <p:nvPr/>
        </p:nvPicPr>
        <p:blipFill>
          <a:blip r:embed="rId8"/>
          <a:stretch/>
        </p:blipFill>
        <p:spPr>
          <a:xfrm>
            <a:off x="6227640" y="5373720"/>
            <a:ext cx="1295640" cy="98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otter-clipart-transparent-13"/>
          <p:cNvPicPr/>
          <p:nvPr/>
        </p:nvPicPr>
        <p:blipFill>
          <a:blip r:embed="rId9"/>
          <a:stretch/>
        </p:blipFill>
        <p:spPr>
          <a:xfrm>
            <a:off x="6732720" y="321300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original"/>
          <p:cNvPicPr/>
          <p:nvPr/>
        </p:nvPicPr>
        <p:blipFill>
          <a:blip r:embed="rId10"/>
          <a:stretch/>
        </p:blipFill>
        <p:spPr>
          <a:xfrm>
            <a:off x="7632720" y="5345280"/>
            <a:ext cx="1511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731520"/>
            <a:ext cx="793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6. На какой период приходится осеннее равноденств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 период лос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 период ол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 В период росомах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vnieklassnoiemieropriiatiieponieviedomymdorozhkam_10"/>
          <p:cNvPicPr/>
          <p:nvPr/>
        </p:nvPicPr>
        <p:blipFill>
          <a:blip r:embed="rId2"/>
          <a:stretch/>
        </p:blipFill>
        <p:spPr>
          <a:xfrm>
            <a:off x="5148360" y="1074600"/>
            <a:ext cx="20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uge_item_wolverine_01-li"/>
          <p:cNvPicPr/>
          <p:nvPr/>
        </p:nvPicPr>
        <p:blipFill>
          <a:blip r:embed="rId3"/>
          <a:stretch/>
        </p:blipFill>
        <p:spPr>
          <a:xfrm>
            <a:off x="5938920" y="4156200"/>
            <a:ext cx="140004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11"/>
          <p:cNvPicPr/>
          <p:nvPr/>
        </p:nvPicPr>
        <p:blipFill>
          <a:blip r:embed="rId4"/>
          <a:stretch/>
        </p:blipFill>
        <p:spPr>
          <a:xfrm>
            <a:off x="4357800" y="2295360"/>
            <a:ext cx="1747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исходит гон диких копытных. На период лося приходилась дат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еннего равноденств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 старинном делении года на два сезона говорит и такой пример: для обозначения возраста людей у коми используется слово «ар» (осень), а не «во» (г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назывался пери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5 октября по 19 декабря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торый  являлся самым продолжительным в промысловом календаре и связан был с подготовкой к пушной охо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лис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otter"/>
          <p:cNvPicPr/>
          <p:nvPr/>
        </p:nvPicPr>
        <p:blipFill>
          <a:blip r:embed="rId2"/>
          <a:stretch/>
        </p:blipFill>
        <p:spPr>
          <a:xfrm>
            <a:off x="4900680" y="299232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69537682_02"/>
          <p:cNvPicPr/>
          <p:nvPr/>
        </p:nvPicPr>
        <p:blipFill>
          <a:blip r:embed="rId3"/>
          <a:stretch/>
        </p:blipFill>
        <p:spPr>
          <a:xfrm>
            <a:off x="3691080" y="352728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Fox-PNG-Image-31905"/>
          <p:cNvPicPr/>
          <p:nvPr/>
        </p:nvPicPr>
        <p:blipFill>
          <a:blip r:embed="rId4"/>
          <a:stretch/>
        </p:blipFill>
        <p:spPr>
          <a:xfrm>
            <a:off x="4986360" y="4437000"/>
            <a:ext cx="151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с 5 октября по 19 декабря) являлся самым продолжительным в промысловом календаре и связан был с подготовкой к пушной охоте. Выбор выдры связан с особыми поверьями. Выдра олицетворяла водную стихию. Она могла (как и щука) выступать в роли водяного духа. Рассуждения могли быть такими: выдра – вода – подводный мир – мрак – период поздней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487440"/>
            <a:ext cx="891864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Какой период завершал пушной сезон и охоту в це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куницы (с 22 февраля по 21 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медведя (с 22 марта по 27 апре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 (3 июня – 4 ию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иод куниц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(с 22 февраля по 21 марта) завершал пушной сезон и охоту в цел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0_86d7c_2380611c_XL"/>
          <p:cNvPicPr/>
          <p:nvPr/>
        </p:nvPicPr>
        <p:blipFill>
          <a:blip r:embed="rId2"/>
          <a:stretch/>
        </p:blipFill>
        <p:spPr>
          <a:xfrm>
            <a:off x="3059280" y="3822840"/>
            <a:ext cx="219708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639720"/>
            <a:ext cx="87120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Как называется период, который завершал непромысловый сезон с (5 июля - по 9 август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росом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медв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4383000" y="167472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otter-clipart-transparent-13"/>
          <p:cNvPicPr/>
          <p:nvPr/>
        </p:nvPicPr>
        <p:blipFill>
          <a:blip r:embed="rId3"/>
          <a:stretch/>
        </p:blipFill>
        <p:spPr>
          <a:xfrm>
            <a:off x="3967200" y="301932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original"/>
          <p:cNvPicPr/>
          <p:nvPr/>
        </p:nvPicPr>
        <p:blipFill>
          <a:blip r:embed="rId4"/>
          <a:stretch/>
        </p:blipFill>
        <p:spPr>
          <a:xfrm>
            <a:off x="3419640" y="45734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 продолжался с 5 июля по 9 август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вершал непромысловый сезон. В это время у росомахи начинается кочевая жизнь самок с подросшим молодняком. «Браконьерская» деятельность этого хищника в выводковый период в лесу резко противоречила нормам промысловой морали, что и стало причиной включения её в календарь в этот пери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2843280" y="369108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В каком году нашли коми промысловый календ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53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75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64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392720" y="194472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медвед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2 марта по 27 апреля. В это время медведи покидают берл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ле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8 апреля – 2 июня) как у домашнего, так и у дикого северного оленя появляется пото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горност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3 июня – 4 июля) – у горностая начинается активизация хищнической деятельности. На это время приходилось летнее солнце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5 июля по 9 августа, он завершал непромысловый се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) происходит гон диких копытных. На период лося приходилась дат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выд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5 октября по 19 декабря) являлся самым продолжительным в промысловом календаре и связан был с подготовкой к пушной ох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ис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хватывал промежуток года с 20 декабря по 24 января и продолжал пушной сезон. На этот период приходится дата зимнего солнце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бе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5 января по 21 февраля. Она принимала «пушную эстафету» у лис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ун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22 февраля по 21 марта) завершал пушной сезон и охоту в целом.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2"/>
          <a:stretch/>
        </p:blipFill>
        <p:spPr>
          <a:xfrm>
            <a:off x="324000" y="274680"/>
            <a:ext cx="845316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971640" y="76500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нзовый календарь конца первого — начала второго тысячелетия нашей эры найден в 1975 году на берегу Вычегды в районе села Сторожевск местным жителем Латкиным Н.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2905200" y="338760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колько животных изображено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делено девять периодов в году, связанных с тем зверем, который изображён на календаре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043520" y="2782800"/>
            <a:ext cx="354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На кольце изображены круглые значки — это элементы весеннего, осеннего равноденствия и зимнего солнцестояния. С какого периода начинался новый г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1 марта по 27 апреля (дата  ве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с 20 декабря - 24 января(зимнее солнцестояни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10 августа - 4 октября(дата о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115560"/>
            <a:ext cx="83516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й год отсчитывали с 21 марта по 27 апреля (дата  весеннего равноденствия). На кольце знак «солнца». ), затем счёт идёт против часовой стрелки. Счёт времени производился с использованием биологических ритмов основных промысловых животных (гон, появление потомства, выход медведя из берлоги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5"/>
          <p:cNvPicPr/>
          <p:nvPr/>
        </p:nvPicPr>
        <p:blipFill>
          <a:blip r:embed="rId2"/>
          <a:stretch/>
        </p:blipFill>
        <p:spPr>
          <a:xfrm>
            <a:off x="1717560" y="3063960"/>
            <a:ext cx="58532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Год делился на два полугодия:  весенне-летнее и  осенне-зимнее. Как назывался цикл в осенне-зимнее полугодие? Два правильных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извод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 ох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507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 делился на два полугодия: весенне-летнее - непроизводительный (выводковый сезон) цикл; осенне-зимнее - производительный (сезон охоты) цикл, в котором дополнительно выделялся пушной сезон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7:05:10Z</dcterms:created>
  <dc:creator>Карат</dc:creator>
  <dc:description/>
  <dc:language>en-US</dc:language>
  <cp:lastModifiedBy>Наталья</cp:lastModifiedBy>
  <dcterms:modified xsi:type="dcterms:W3CDTF">2024-02-08T18:46:00Z</dcterms:modified>
  <cp:revision>44</cp:revision>
  <dc:subject/>
  <dc:title>Слайд 1</dc:title>
</cp:coreProperties>
</file>