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E88-7087-42DA-9EAB-5DC6B261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120-5787-43BB-A187-EFA9D73B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09C-8DFC-4950-81C2-494BE52D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AC6-888A-436A-B0AB-EFD598E0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772-EDF7-4DE6-9A2A-03E118E6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F93-22E2-4EF7-9516-205A60FF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034-F57A-44A9-B720-9153D978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02E-E1D5-42CE-A19F-84F5C486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31E-3279-4883-8232-F1799FF0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91D-8CC9-4EF2-A8FD-8185D550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23B-C632-4184-AC81-96D428FD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B72-1349-4BFC-B11F-A63F9A3E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9223-9EE0-4F49-BABB-7ED8F0D88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11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11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slide" Target="slide1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1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18.xml"/><Relationship Id="rId8" Type="http://schemas.openxmlformats.org/officeDocument/2006/relationships/slide" Target="slide6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6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21.xml"/><Relationship Id="rId9" Type="http://schemas.openxmlformats.org/officeDocument/2006/relationships/slide" Target="slide20.xml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4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3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6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27.xml"/><Relationship Id="rId9" Type="http://schemas.openxmlformats.org/officeDocument/2006/relationships/slide" Target="slide26.xml"/><Relationship Id="rId10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6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30.xml"/><Relationship Id="rId8" Type="http://schemas.openxmlformats.org/officeDocument/2006/relationships/slide" Target="slide18.xml"/><Relationship Id="rId9" Type="http://schemas.openxmlformats.org/officeDocument/2006/relationships/slide" Target="slide29.xml"/><Relationship Id="rId10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18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5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6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18.xml"/><Relationship Id="rId6" Type="http://schemas.openxmlformats.org/officeDocument/2006/relationships/slide" Target="slide33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33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6.xml"/><Relationship Id="rId8" Type="http://schemas.openxmlformats.org/officeDocument/2006/relationships/slide" Target="slide33.xml"/><Relationship Id="rId9" Type="http://schemas.openxmlformats.org/officeDocument/2006/relationships/slide" Target="slide35.xml"/><Relationship Id="rId10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slide" Target="slide33.xml"/><Relationship Id="rId5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6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39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8.xml"/><Relationship Id="rId10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39.xml"/><Relationship Id="rId4" Type="http://schemas.openxmlformats.org/officeDocument/2006/relationships/slide" Target="slide33.xml"/><Relationship Id="rId5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6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41.xml"/><Relationship Id="rId6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1836720"/>
          <a:ext cx="9144000" cy="990720"/>
        </p:xfrm>
        <a:graphic>
          <a:graphicData uri="http://schemas.openxmlformats.org/drawingml/2006/table">
            <a:tbl>
              <a:tblPr/>
              <a:tblGrid>
                <a:gridCol w="3086280"/>
                <a:gridCol w="2000160"/>
                <a:gridCol w="40575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0" y="2827440"/>
          <a:ext cx="7294680" cy="1004760"/>
        </p:xfrm>
        <a:graphic>
          <a:graphicData uri="http://schemas.openxmlformats.org/drawingml/2006/table">
            <a:tbl>
              <a:tblPr/>
              <a:tblGrid>
                <a:gridCol w="3071880"/>
                <a:gridCol w="1990800"/>
                <a:gridCol w="2016360"/>
                <a:gridCol w="216000"/>
              </a:tblGrid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0" y="3832200"/>
          <a:ext cx="5268960" cy="1189080"/>
        </p:xfrm>
        <a:graphic>
          <a:graphicData uri="http://schemas.openxmlformats.org/drawingml/2006/table">
            <a:tbl>
              <a:tblPr/>
              <a:tblGrid>
                <a:gridCol w="3066120"/>
                <a:gridCol w="1987200"/>
                <a:gridCol w="216000"/>
              </a:tblGrid>
              <a:tr h="12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Кто хочет стать миллионером!?"/>
          <p:cNvPicPr/>
          <p:nvPr/>
        </p:nvPicPr>
        <p:blipFill>
          <a:blip r:embed="rId1"/>
          <a:stretch/>
        </p:blipFill>
        <p:spPr>
          <a:xfrm>
            <a:off x="1143000" y="-304920"/>
            <a:ext cx="6400800" cy="2524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241960" y="188280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Кто хочет стать миллионером!?"/>
          <p:cNvPicPr/>
          <p:nvPr/>
        </p:nvPicPr>
        <p:blipFill>
          <a:blip r:embed="rId3"/>
          <a:stretch/>
        </p:blipFill>
        <p:spPr>
          <a:xfrm>
            <a:off x="1143000" y="2209680"/>
            <a:ext cx="6400800" cy="2557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265880" y="287352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55520" y="3878280"/>
            <a:ext cx="2571840" cy="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то хочет стать миллионером!?"/>
          <p:cNvPicPr/>
          <p:nvPr/>
        </p:nvPicPr>
        <p:blipFill>
          <a:blip r:embed="rId6"/>
          <a:stretch/>
        </p:blipFill>
        <p:spPr>
          <a:xfrm>
            <a:off x="1143000" y="4724280"/>
            <a:ext cx="6400800" cy="259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176800" y="4152960"/>
            <a:ext cx="23832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3. Во что превращается вода на мороз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438280"/>
            <a:ext cx="2895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л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23623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п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47242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кис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648320"/>
            <a:ext cx="3353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газ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9" action="ppaction://hlinksldjump"/>
          </p:cNvPr>
          <p:cNvSpPr/>
          <p:nvPr/>
        </p:nvSpPr>
        <p:spPr>
          <a:xfrm>
            <a:off x="7162920" y="6248520"/>
            <a:ext cx="1347840" cy="609480"/>
          </a:xfrm>
          <a:custGeom>
            <a:avLst/>
            <a:gdLst>
              <a:gd name="textAreaLeft" fmla="*/ 39240 w 1347840"/>
              <a:gd name="textAreaRight" fmla="*/ 1308600 w 1347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7752" h="21600">
                <a:moveTo>
                  <a:pt x="0" y="0"/>
                </a:moveTo>
                <a:lnTo>
                  <a:pt x="47752" y="0"/>
                </a:lnTo>
                <a:lnTo>
                  <a:pt x="47752" y="21600"/>
                </a:lnTo>
                <a:lnTo>
                  <a:pt x="0" y="21600"/>
                </a:lnTo>
                <a:close/>
              </a:path>
              <a:path fill="lightenLess" w="47752" h="21600">
                <a:moveTo>
                  <a:pt x="0" y="0"/>
                </a:moveTo>
                <a:lnTo>
                  <a:pt x="47752" y="0"/>
                </a:lnTo>
                <a:lnTo>
                  <a:pt x="46352" y="1400"/>
                </a:lnTo>
                <a:lnTo>
                  <a:pt x="1400" y="1400"/>
                </a:lnTo>
                <a:close/>
              </a:path>
              <a:path fill="darken" w="47752" h="21600">
                <a:moveTo>
                  <a:pt x="47752" y="0"/>
                </a:moveTo>
                <a:lnTo>
                  <a:pt x="47752" y="21600"/>
                </a:lnTo>
                <a:lnTo>
                  <a:pt x="46352" y="20200"/>
                </a:lnTo>
                <a:lnTo>
                  <a:pt x="46352" y="1400"/>
                </a:lnTo>
                <a:close/>
              </a:path>
              <a:path fill="darkenLess" w="47752" h="21600">
                <a:moveTo>
                  <a:pt x="47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52" y="20200"/>
                </a:lnTo>
                <a:close/>
              </a:path>
              <a:path fill="lighten" w="47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3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9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29000" y="3581280"/>
            <a:ext cx="19368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3. Во что превращается вода на мороз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438280"/>
            <a:ext cx="2895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л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23623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п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4. На чем летает ведь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8769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вен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514600"/>
            <a:ext cx="3353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пылесосе «Раке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48769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шваб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2514600"/>
            <a:ext cx="2895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мет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9" action="ppaction://hlinksldjump"/>
          </p:cNvPr>
          <p:cNvSpPr/>
          <p:nvPr/>
        </p:nvSpPr>
        <p:spPr>
          <a:xfrm>
            <a:off x="71629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4. На чем летает ведь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2514600"/>
            <a:ext cx="2895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мет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48769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 шваб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5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9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76720" y="3524400"/>
            <a:ext cx="2512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745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5. Что является параметром любой географической кар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2514600"/>
            <a:ext cx="3352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ма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2514600"/>
            <a:ext cx="3353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4648320"/>
            <a:ext cx="3352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толщ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46483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масшта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9" action="ppaction://hlinksldjump"/>
          </p:cNvPr>
          <p:cNvSpPr/>
          <p:nvPr/>
        </p:nvSpPr>
        <p:spPr>
          <a:xfrm>
            <a:off x="71629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5. Что является параметром любой географической кар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4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46483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масшта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2514600"/>
            <a:ext cx="3352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ма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1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36291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745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6. Что свинопас продавал за поцелуи принцес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8" action="ppaction://hlinksldjump"/>
          </p:cNvPr>
          <p:cNvSpPr/>
          <p:nvPr/>
        </p:nvSpPr>
        <p:spPr>
          <a:xfrm>
            <a:off x="4800600" y="4038480"/>
            <a:ext cx="3962520" cy="213372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10" y="1400"/>
                </a:lnTo>
                <a:lnTo>
                  <a:pt x="1400" y="140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10" y="20200"/>
                </a:lnTo>
                <a:lnTo>
                  <a:pt x="38710" y="140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0" y="2020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4800600" y="24382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Баночку и таз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514600"/>
            <a:ext cx="3353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Розу и соловь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4724280"/>
            <a:ext cx="33526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удочку и кувшин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472428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отелок и трещо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9" action="ppaction://hlinksldjump"/>
          </p:cNvPr>
          <p:cNvSpPr/>
          <p:nvPr/>
        </p:nvSpPr>
        <p:spPr>
          <a:xfrm>
            <a:off x="71629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Кто хочет стать миллионер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интеллектуальная иг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6. Что свинопас продавал за поцелуи принцес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24382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Баночку и таз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4724280"/>
            <a:ext cx="3429000" cy="27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отелок и трещо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аш выигрыш 2000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0948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809880" y="3506760"/>
            <a:ext cx="19828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7. Кто появлялся перед солдатом, когда он начинал высекать огонь с помощью огни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7" action="ppaction://hlinksldjump"/>
          </p:cNvPr>
          <p:cNvSpPr/>
          <p:nvPr/>
        </p:nvSpPr>
        <p:spPr>
          <a:xfrm>
            <a:off x="457200" y="4038480"/>
            <a:ext cx="4014720" cy="210996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960"/>
              <a:gd name="textAreaBottom" fmla="*/ 1973520 h 2109960"/>
            </a:gdLst>
            <a:ahLst/>
            <a:rect l="textAreaLeft" t="textAreaTop" r="textAreaRight" b="textAreaBottom"/>
            <a:pathLst>
              <a:path w="41096" h="21600">
                <a:moveTo>
                  <a:pt x="0" y="0"/>
                </a:moveTo>
                <a:lnTo>
                  <a:pt x="41096" y="0"/>
                </a:lnTo>
                <a:lnTo>
                  <a:pt x="41096" y="21600"/>
                </a:lnTo>
                <a:lnTo>
                  <a:pt x="0" y="21600"/>
                </a:lnTo>
                <a:close/>
              </a:path>
              <a:path fill="lightenLess" w="41096" h="21600">
                <a:moveTo>
                  <a:pt x="0" y="0"/>
                </a:moveTo>
                <a:lnTo>
                  <a:pt x="41096" y="0"/>
                </a:lnTo>
                <a:lnTo>
                  <a:pt x="39696" y="1400"/>
                </a:lnTo>
                <a:lnTo>
                  <a:pt x="1400" y="1400"/>
                </a:lnTo>
                <a:close/>
              </a:path>
              <a:path fill="darken" w="41096" h="21600">
                <a:moveTo>
                  <a:pt x="41096" y="0"/>
                </a:moveTo>
                <a:lnTo>
                  <a:pt x="41096" y="21600"/>
                </a:lnTo>
                <a:lnTo>
                  <a:pt x="39696" y="20200"/>
                </a:lnTo>
                <a:lnTo>
                  <a:pt x="39696" y="1400"/>
                </a:lnTo>
                <a:close/>
              </a:path>
              <a:path fill="darkenLess" w="41096" h="21600">
                <a:moveTo>
                  <a:pt x="41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96" y="20200"/>
                </a:lnTo>
                <a:close/>
              </a:path>
              <a:path fill="lighten" w="41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48769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жин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23623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вое из лар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4800600"/>
            <a:ext cx="33530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Золотая рыб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2438280"/>
            <a:ext cx="2895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Три соб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9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7. Кто появлялся перед солдатом, когда он начинал высекать огонь с помощью огни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4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2438280"/>
            <a:ext cx="297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Три соб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2362320"/>
            <a:ext cx="35816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вое из лар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4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335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733920" y="3962520"/>
            <a:ext cx="2087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745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8. Что было знаком высшего отличия испанской утки из сказки «Гадкий утёнок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243828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Бантик на ш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472428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Яркий хохо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2438280"/>
            <a:ext cx="3581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олечко на лап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4724280"/>
            <a:ext cx="31240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расный лоскуток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9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8. Что было знаком высшего отличия испанской утки из сказки «Гадкий утёнок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/>
          <p:nvPr/>
        </p:nvSpPr>
        <p:spPr>
          <a:xfrm>
            <a:off x="5029200" y="44197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расный лоску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438280"/>
            <a:ext cx="3581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олечко на лап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8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3352680" y="3809880"/>
            <a:ext cx="260532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9. Как звали девочку из сказки «Серебряное копытце»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09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24382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Аню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4724280"/>
            <a:ext cx="3581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Наст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243828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атюш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572000"/>
            <a:ext cx="3504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ар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9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9. Как звали девочку из сказки «Серебряное копытце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rId3" action="ppaction://hlinksldjump"/>
          </p:cNvPr>
          <p:cNvSpPr/>
          <p:nvPr/>
        </p:nvSpPr>
        <p:spPr>
          <a:xfrm>
            <a:off x="4648320" y="1600200"/>
            <a:ext cx="4014720" cy="2133720"/>
          </a:xfrm>
          <a:custGeom>
            <a:avLst/>
            <a:gdLst>
              <a:gd name="textAreaLeft" fmla="*/ 138240 w 4014720"/>
              <a:gd name="textAreaRight" fmla="*/ 3876480 w 401472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40638" h="21600">
                <a:moveTo>
                  <a:pt x="0" y="0"/>
                </a:moveTo>
                <a:lnTo>
                  <a:pt x="40638" y="0"/>
                </a:lnTo>
                <a:lnTo>
                  <a:pt x="40638" y="21600"/>
                </a:lnTo>
                <a:lnTo>
                  <a:pt x="0" y="21600"/>
                </a:lnTo>
                <a:close/>
              </a:path>
              <a:path fill="lightenLess" w="40638" h="21600">
                <a:moveTo>
                  <a:pt x="0" y="0"/>
                </a:moveTo>
                <a:lnTo>
                  <a:pt x="40638" y="0"/>
                </a:lnTo>
                <a:lnTo>
                  <a:pt x="39239" y="1400"/>
                </a:lnTo>
                <a:lnTo>
                  <a:pt x="1400" y="1400"/>
                </a:lnTo>
                <a:close/>
              </a:path>
              <a:path fill="darken" w="40638" h="21600">
                <a:moveTo>
                  <a:pt x="40638" y="0"/>
                </a:moveTo>
                <a:lnTo>
                  <a:pt x="40638" y="21600"/>
                </a:lnTo>
                <a:lnTo>
                  <a:pt x="39239" y="20200"/>
                </a:lnTo>
                <a:lnTo>
                  <a:pt x="39239" y="1400"/>
                </a:lnTo>
                <a:close/>
              </a:path>
              <a:path fill="darkenLess" w="40638" h="21600">
                <a:moveTo>
                  <a:pt x="406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239" y="20200"/>
                </a:lnTo>
                <a:close/>
              </a:path>
              <a:path fill="lighten" w="406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rId4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24382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Аню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572000"/>
            <a:ext cx="3048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ар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Кто приходит под Новый год к хорошим детям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51460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666880"/>
            <a:ext cx="33530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Баба Я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4800600"/>
            <a:ext cx="350532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Милиционе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9" action="ppaction://hlinksldjump"/>
          </p:cNvPr>
          <p:cNvSpPr/>
          <p:nvPr/>
        </p:nvSpPr>
        <p:spPr>
          <a:xfrm>
            <a:off x="7238880" y="6172200"/>
            <a:ext cx="1347840" cy="685800"/>
          </a:xfrm>
          <a:custGeom>
            <a:avLst/>
            <a:gdLst>
              <a:gd name="textAreaLeft" fmla="*/ 44280 w 1347840"/>
              <a:gd name="textAreaRight" fmla="*/ 1303560 w 1347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2441" h="21600">
                <a:moveTo>
                  <a:pt x="0" y="0"/>
                </a:moveTo>
                <a:lnTo>
                  <a:pt x="42441" y="0"/>
                </a:lnTo>
                <a:lnTo>
                  <a:pt x="42441" y="21600"/>
                </a:lnTo>
                <a:lnTo>
                  <a:pt x="0" y="21600"/>
                </a:lnTo>
                <a:close/>
              </a:path>
              <a:path fill="lightenLess" w="42441" h="21600">
                <a:moveTo>
                  <a:pt x="0" y="0"/>
                </a:moveTo>
                <a:lnTo>
                  <a:pt x="42441" y="0"/>
                </a:lnTo>
                <a:lnTo>
                  <a:pt x="41041" y="1400"/>
                </a:lnTo>
                <a:lnTo>
                  <a:pt x="1400" y="1400"/>
                </a:lnTo>
                <a:close/>
              </a:path>
              <a:path fill="darken" w="42441" h="21600">
                <a:moveTo>
                  <a:pt x="42441" y="0"/>
                </a:moveTo>
                <a:lnTo>
                  <a:pt x="42441" y="21600"/>
                </a:lnTo>
                <a:lnTo>
                  <a:pt x="41041" y="20200"/>
                </a:lnTo>
                <a:lnTo>
                  <a:pt x="41041" y="1400"/>
                </a:lnTo>
                <a:close/>
              </a:path>
              <a:path fill="darkenLess" w="42441" h="21600">
                <a:moveTo>
                  <a:pt x="4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41" y="20200"/>
                </a:lnTo>
                <a:close/>
              </a:path>
              <a:path fill="lighten" w="4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4876920"/>
            <a:ext cx="3200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ед Мо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16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7620120" y="5334120"/>
            <a:ext cx="1042920" cy="814320"/>
          </a:xfrm>
          <a:custGeom>
            <a:avLst/>
            <a:gdLst>
              <a:gd name="textAreaLeft" fmla="*/ 52560 w 1042920"/>
              <a:gd name="textAreaRight" fmla="*/ 990360 w 104292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7661" h="21600">
                <a:moveTo>
                  <a:pt x="0" y="0"/>
                </a:moveTo>
                <a:lnTo>
                  <a:pt x="27661" y="0"/>
                </a:lnTo>
                <a:lnTo>
                  <a:pt x="27661" y="21600"/>
                </a:lnTo>
                <a:lnTo>
                  <a:pt x="0" y="21600"/>
                </a:lnTo>
                <a:close/>
              </a:path>
              <a:path fill="lightenLess" w="27661" h="21600">
                <a:moveTo>
                  <a:pt x="0" y="0"/>
                </a:moveTo>
                <a:lnTo>
                  <a:pt x="27661" y="0"/>
                </a:lnTo>
                <a:lnTo>
                  <a:pt x="26261" y="1400"/>
                </a:lnTo>
                <a:lnTo>
                  <a:pt x="1400" y="1400"/>
                </a:lnTo>
                <a:close/>
              </a:path>
              <a:path fill="darken" w="27661" h="21600">
                <a:moveTo>
                  <a:pt x="27661" y="0"/>
                </a:moveTo>
                <a:lnTo>
                  <a:pt x="27661" y="21600"/>
                </a:lnTo>
                <a:lnTo>
                  <a:pt x="26261" y="20200"/>
                </a:lnTo>
                <a:lnTo>
                  <a:pt x="26261" y="1400"/>
                </a:lnTo>
                <a:close/>
              </a:path>
              <a:path fill="darkenLess" w="27661" h="21600">
                <a:moveTo>
                  <a:pt x="27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61" y="20200"/>
                </a:lnTo>
                <a:close/>
              </a:path>
              <a:path fill="lighten" w="27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6094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4038480" y="3697200"/>
            <a:ext cx="19479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745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0. Отчего ожила шляпа в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рассказе Николая Носов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«Живая шляпа»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4495680"/>
            <a:ext cx="396252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Под неё положили радиоуправляемую маш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286000"/>
            <a:ext cx="342900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Её тянули за веревочк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648320"/>
            <a:ext cx="35812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неё вставили батарей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05520" y="2286000"/>
            <a:ext cx="31240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Под неё попал котё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9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0. Отчего ожила шляпа в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рассказе Николая Носов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«Живая шляп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56" name="">
            <a:hlinkClick r:id="rId3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5181480" y="2438280"/>
            <a:ext cx="28958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Под неё попал котёнок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52880" y="4724280"/>
            <a:ext cx="3353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В неё вставили батарей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32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581280" y="3902040"/>
            <a:ext cx="2367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745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cc00"/>
                </a:solidFill>
                <a:latin typeface="Arial"/>
              </a:rPr>
              <a:t>11. Кто подсказал царевичу Елисею, где его неве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Вете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9" name=""/>
          <p:cNvSpPr/>
          <p:nvPr/>
        </p:nvSpPr>
        <p:spPr>
          <a:xfrm>
            <a:off x="5029200" y="4648320"/>
            <a:ext cx="34290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Мес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228600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Сол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228600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Зве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9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cc00"/>
                </a:solidFill>
                <a:latin typeface="Arial"/>
              </a:rPr>
              <a:t>11. Кто подсказал царевичу Елисею, где его неве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rId3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0" name=""/>
          <p:cNvSpPr/>
          <p:nvPr/>
        </p:nvSpPr>
        <p:spPr>
          <a:xfrm>
            <a:off x="838080" y="4572000"/>
            <a:ext cx="33530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Мес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29200" y="464832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Ве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64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3809880" y="3967200"/>
            <a:ext cx="202896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745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2. Съедобная часть моркови –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01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rId6" action="ppaction://hlinksldjump"/>
          </p:cNvPr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rId7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8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2362320"/>
            <a:ext cx="33526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дыхательный кор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4648320"/>
            <a:ext cx="3353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Корень-подпо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4648320"/>
            <a:ext cx="3353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Корень-прищеп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90720" y="27432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корнепл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rId9" action="ppaction://hlinksldjump"/>
          </p:cNvPr>
          <p:cNvSpPr/>
          <p:nvPr/>
        </p:nvSpPr>
        <p:spPr>
          <a:xfrm>
            <a:off x="731520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2. Съедобная часть моркови –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17" name="">
            <a:hlinkClick r:id="rId3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"/>
          <p:cNvSpPr/>
          <p:nvPr/>
        </p:nvSpPr>
        <p:spPr>
          <a:xfrm>
            <a:off x="990720" y="27432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корнепл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4419720"/>
            <a:ext cx="3353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Корень-прищеп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125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5720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3200400" y="40384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745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1. Кто приходит под Новый год к хорошим детям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590920"/>
            <a:ext cx="3581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4876920"/>
            <a:ext cx="3200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Дед Мо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3. Кто такая Серая звезд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0" name=""/>
          <p:cNvSpPr/>
          <p:nvPr/>
        </p:nvSpPr>
        <p:spPr>
          <a:xfrm>
            <a:off x="4724280" y="2438280"/>
            <a:ext cx="350532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Лошад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9480" y="4876920"/>
            <a:ext cx="350532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Кош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243828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Ут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76920" y="4876920"/>
            <a:ext cx="3200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Жа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5" action="ppaction://hlinksldjump"/>
          </p:cNvPr>
          <p:cNvSpPr/>
          <p:nvPr/>
        </p:nvSpPr>
        <p:spPr>
          <a:xfrm>
            <a:off x="7238880" y="61722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3. Кто такая Серая звезд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2" name=""/>
          <p:cNvSpPr/>
          <p:nvPr/>
        </p:nvSpPr>
        <p:spPr>
          <a:xfrm>
            <a:off x="4876920" y="2286000"/>
            <a:ext cx="33526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Лошад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05520" y="4876920"/>
            <a:ext cx="297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Жа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250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335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3124080" y="3809880"/>
            <a:ext cx="276876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7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cc00"/>
                </a:solidFill>
                <a:latin typeface="Arial"/>
              </a:rPr>
              <a:t>14. Что домовой Кузька называл олелюшечк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8320" y="160020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/>
          <p:nvPr/>
        </p:nvSpPr>
        <p:spPr>
          <a:xfrm>
            <a:off x="762120" y="236232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Посиделки в комп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495288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472428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Игру в ладуш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876920" y="2514600"/>
            <a:ext cx="3047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1629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cc00"/>
                </a:solidFill>
                <a:latin typeface="Arial"/>
              </a:rPr>
              <a:t>14. Что домовой Кузька называл олелюшечк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/>
          <p:nvPr/>
        </p:nvSpPr>
        <p:spPr>
          <a:xfrm>
            <a:off x="5029200" y="2514600"/>
            <a:ext cx="3124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4724280"/>
            <a:ext cx="350532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Игру в ладуш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500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6094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276720" y="3809880"/>
            <a:ext cx="21286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745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5. Какая часть Чеширского кота исчезала последн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2" name=""/>
          <p:cNvSpPr/>
          <p:nvPr/>
        </p:nvSpPr>
        <p:spPr>
          <a:xfrm>
            <a:off x="762120" y="464832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Широкая улыб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514600"/>
            <a:ext cx="3504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Правое уш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2514600"/>
            <a:ext cx="342900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Хитрый взгля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181480" y="4648320"/>
            <a:ext cx="28958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Кончик хвос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5. Какая часть Чеширского кота исчезала последн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251460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Правое уш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4800600"/>
            <a:ext cx="3505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Широкая улыб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10000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7621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2971800" y="4038480"/>
            <a:ext cx="32972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745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составляет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7391520" y="579132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9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057400" y="3200400"/>
            <a:ext cx="2603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6476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ы неверно ответили на вопрос. Ваш выигрыш уходит на нужды голодающих африканце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77120" y="2286000"/>
            <a:ext cx="24494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3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2. Что растет на дуб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457200" y="1676520"/>
            <a:ext cx="4038480" cy="2057400"/>
          </a:xfrm>
          <a:custGeom>
            <a:avLst/>
            <a:gdLst>
              <a:gd name="textAreaLeft" fmla="*/ 133200 w 4038480"/>
              <a:gd name="textAreaRight" fmla="*/ 3905280 w 40384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2395" h="21600">
                <a:moveTo>
                  <a:pt x="0" y="0"/>
                </a:moveTo>
                <a:lnTo>
                  <a:pt x="42395" y="0"/>
                </a:lnTo>
                <a:lnTo>
                  <a:pt x="42395" y="21600"/>
                </a:lnTo>
                <a:lnTo>
                  <a:pt x="0" y="21600"/>
                </a:lnTo>
                <a:close/>
              </a:path>
              <a:path fill="lightenLess" w="42395" h="21600">
                <a:moveTo>
                  <a:pt x="0" y="0"/>
                </a:moveTo>
                <a:lnTo>
                  <a:pt x="42395" y="0"/>
                </a:lnTo>
                <a:lnTo>
                  <a:pt x="40995" y="1400"/>
                </a:lnTo>
                <a:lnTo>
                  <a:pt x="1400" y="1400"/>
                </a:lnTo>
                <a:close/>
              </a:path>
              <a:path fill="darken" w="42395" h="21600">
                <a:moveTo>
                  <a:pt x="42395" y="0"/>
                </a:moveTo>
                <a:lnTo>
                  <a:pt x="42395" y="21600"/>
                </a:lnTo>
                <a:lnTo>
                  <a:pt x="40995" y="20200"/>
                </a:lnTo>
                <a:lnTo>
                  <a:pt x="40995" y="1400"/>
                </a:lnTo>
                <a:close/>
              </a:path>
              <a:path fill="darkenLess" w="42395" h="21600">
                <a:moveTo>
                  <a:pt x="4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95" y="20200"/>
                </a:lnTo>
                <a:close/>
              </a:path>
              <a:path fill="lighten" w="4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676520"/>
            <a:ext cx="3938400" cy="2033640"/>
          </a:xfrm>
          <a:custGeom>
            <a:avLst/>
            <a:gdLst>
              <a:gd name="textAreaLeft" fmla="*/ 131760 w 3938400"/>
              <a:gd name="textAreaRight" fmla="*/ 3806640 w 3938400"/>
              <a:gd name="textAreaTop" fmla="*/ 131760 h 2033640"/>
              <a:gd name="textAreaBottom" fmla="*/ 1901880 h 2033640"/>
            </a:gdLst>
            <a:ahLst/>
            <a:rect l="textAreaLeft" t="textAreaTop" r="textAreaRight" b="textAreaBottom"/>
            <a:pathLst>
              <a:path w="41828" h="21600">
                <a:moveTo>
                  <a:pt x="0" y="0"/>
                </a:moveTo>
                <a:lnTo>
                  <a:pt x="41828" y="0"/>
                </a:lnTo>
                <a:lnTo>
                  <a:pt x="41828" y="21600"/>
                </a:lnTo>
                <a:lnTo>
                  <a:pt x="0" y="21600"/>
                </a:lnTo>
                <a:close/>
              </a:path>
              <a:path fill="lightenLess" w="41828" h="21600">
                <a:moveTo>
                  <a:pt x="0" y="0"/>
                </a:moveTo>
                <a:lnTo>
                  <a:pt x="41828" y="0"/>
                </a:lnTo>
                <a:lnTo>
                  <a:pt x="40428" y="1400"/>
                </a:lnTo>
                <a:lnTo>
                  <a:pt x="1400" y="1400"/>
                </a:lnTo>
                <a:close/>
              </a:path>
              <a:path fill="darken" w="41828" h="21600">
                <a:moveTo>
                  <a:pt x="41828" y="0"/>
                </a:moveTo>
                <a:lnTo>
                  <a:pt x="41828" y="21600"/>
                </a:lnTo>
                <a:lnTo>
                  <a:pt x="40428" y="20200"/>
                </a:lnTo>
                <a:lnTo>
                  <a:pt x="40428" y="1400"/>
                </a:lnTo>
                <a:close/>
              </a:path>
              <a:path fill="darkenLess" w="41828" h="21600">
                <a:moveTo>
                  <a:pt x="4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28" y="20200"/>
                </a:lnTo>
                <a:close/>
              </a:path>
              <a:path fill="lighten" w="4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6" action="ppaction://hlinksldjump"/>
          </p:cNvPr>
          <p:cNvSpPr/>
          <p:nvPr/>
        </p:nvSpPr>
        <p:spPr>
          <a:xfrm>
            <a:off x="457200" y="3962520"/>
            <a:ext cx="4014720" cy="2109600"/>
          </a:xfrm>
          <a:custGeom>
            <a:avLst/>
            <a:gdLst>
              <a:gd name="textAreaLeft" fmla="*/ 136440 w 4014720"/>
              <a:gd name="textAreaRight" fmla="*/ 3878280 w 4014720"/>
              <a:gd name="textAreaTop" fmla="*/ 136440 h 2109600"/>
              <a:gd name="textAreaBottom" fmla="*/ 1973160 h 210960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>
            <a:off x="472428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905120"/>
            <a:ext cx="4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29200" y="190512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666880"/>
            <a:ext cx="3353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Шиш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876920"/>
            <a:ext cx="33526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Золотая цеп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2666880"/>
            <a:ext cx="33530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Ябло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4876920"/>
            <a:ext cx="28958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Желу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8" action="ppaction://hlinksldjump"/>
          </p:cNvPr>
          <p:cNvSpPr/>
          <p:nvPr/>
        </p:nvSpPr>
        <p:spPr>
          <a:xfrm>
            <a:off x="7162920" y="6172200"/>
            <a:ext cx="1423800" cy="685800"/>
          </a:xfrm>
          <a:custGeom>
            <a:avLst/>
            <a:gdLst>
              <a:gd name="textAreaLeft" fmla="*/ 44280 w 1423800"/>
              <a:gd name="textAreaRight" fmla="*/ 1379520 w 1423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32" h="21600">
                <a:moveTo>
                  <a:pt x="0" y="0"/>
                </a:moveTo>
                <a:lnTo>
                  <a:pt x="44832" y="0"/>
                </a:lnTo>
                <a:lnTo>
                  <a:pt x="44832" y="21600"/>
                </a:lnTo>
                <a:lnTo>
                  <a:pt x="0" y="21600"/>
                </a:lnTo>
                <a:close/>
              </a:path>
              <a:path fill="lightenLess" w="44832" h="21600">
                <a:moveTo>
                  <a:pt x="0" y="0"/>
                </a:moveTo>
                <a:lnTo>
                  <a:pt x="44832" y="0"/>
                </a:lnTo>
                <a:lnTo>
                  <a:pt x="43432" y="1400"/>
                </a:lnTo>
                <a:lnTo>
                  <a:pt x="1400" y="1400"/>
                </a:lnTo>
                <a:close/>
              </a:path>
              <a:path fill="darken" w="44832" h="21600">
                <a:moveTo>
                  <a:pt x="44832" y="0"/>
                </a:moveTo>
                <a:lnTo>
                  <a:pt x="44832" y="21600"/>
                </a:lnTo>
                <a:lnTo>
                  <a:pt x="43432" y="20200"/>
                </a:lnTo>
                <a:lnTo>
                  <a:pt x="43432" y="1400"/>
                </a:lnTo>
                <a:close/>
              </a:path>
              <a:path fill="darkenLess" w="44832" h="21600">
                <a:moveTo>
                  <a:pt x="4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2" y="20200"/>
                </a:lnTo>
                <a:close/>
              </a:path>
              <a:path fill="lighten" w="4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50\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аш выигрыш 200 руб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620120" y="563868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429000" y="3265560"/>
            <a:ext cx="23432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2. Что растет на дуб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533520" y="3962520"/>
            <a:ext cx="4038480" cy="2133360"/>
          </a:xfrm>
          <a:custGeom>
            <a:avLst/>
            <a:gdLst>
              <a:gd name="textAreaLeft" fmla="*/ 138240 w 4038480"/>
              <a:gd name="textAreaRight" fmla="*/ 3900240 w 403848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886" h="21600">
                <a:moveTo>
                  <a:pt x="0" y="0"/>
                </a:moveTo>
                <a:lnTo>
                  <a:pt x="40886" y="0"/>
                </a:lnTo>
                <a:lnTo>
                  <a:pt x="40886" y="21600"/>
                </a:lnTo>
                <a:lnTo>
                  <a:pt x="0" y="21600"/>
                </a:lnTo>
                <a:close/>
              </a:path>
              <a:path fill="lightenLess" w="40886" h="21600">
                <a:moveTo>
                  <a:pt x="0" y="0"/>
                </a:moveTo>
                <a:lnTo>
                  <a:pt x="40886" y="0"/>
                </a:lnTo>
                <a:lnTo>
                  <a:pt x="39486" y="1400"/>
                </a:lnTo>
                <a:lnTo>
                  <a:pt x="1400" y="1400"/>
                </a:lnTo>
                <a:close/>
              </a:path>
              <a:path fill="darken" w="40886" h="21600">
                <a:moveTo>
                  <a:pt x="40886" y="0"/>
                </a:moveTo>
                <a:lnTo>
                  <a:pt x="40886" y="21600"/>
                </a:lnTo>
                <a:lnTo>
                  <a:pt x="39486" y="20200"/>
                </a:lnTo>
                <a:lnTo>
                  <a:pt x="39486" y="1400"/>
                </a:lnTo>
                <a:close/>
              </a:path>
              <a:path fill="darkenLess" w="40886" h="21600">
                <a:moveTo>
                  <a:pt x="40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86" y="20200"/>
                </a:lnTo>
                <a:close/>
              </a:path>
              <a:path fill="lighten" w="40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4" action="ppaction://hlinksldjump"/>
          </p:cNvPr>
          <p:cNvSpPr/>
          <p:nvPr/>
        </p:nvSpPr>
        <p:spPr>
          <a:xfrm>
            <a:off x="4800600" y="3962520"/>
            <a:ext cx="3962520" cy="2133360"/>
          </a:xfrm>
          <a:custGeom>
            <a:avLst/>
            <a:gdLst>
              <a:gd name="textAreaLeft" fmla="*/ 138240 w 3962520"/>
              <a:gd name="textAreaRight" fmla="*/ 3824280 w 396252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40117" h="21600">
                <a:moveTo>
                  <a:pt x="0" y="0"/>
                </a:moveTo>
                <a:lnTo>
                  <a:pt x="40117" y="0"/>
                </a:lnTo>
                <a:lnTo>
                  <a:pt x="40117" y="21600"/>
                </a:lnTo>
                <a:lnTo>
                  <a:pt x="0" y="21600"/>
                </a:lnTo>
                <a:close/>
              </a:path>
              <a:path fill="lightenLess" w="40117" h="21600">
                <a:moveTo>
                  <a:pt x="0" y="0"/>
                </a:moveTo>
                <a:lnTo>
                  <a:pt x="40117" y="0"/>
                </a:lnTo>
                <a:lnTo>
                  <a:pt x="38717" y="1400"/>
                </a:lnTo>
                <a:lnTo>
                  <a:pt x="1400" y="1400"/>
                </a:lnTo>
                <a:close/>
              </a:path>
              <a:path fill="darken" w="40117" h="21600">
                <a:moveTo>
                  <a:pt x="40117" y="0"/>
                </a:moveTo>
                <a:lnTo>
                  <a:pt x="40117" y="21600"/>
                </a:lnTo>
                <a:lnTo>
                  <a:pt x="38717" y="20200"/>
                </a:lnTo>
                <a:lnTo>
                  <a:pt x="38717" y="1400"/>
                </a:lnTo>
                <a:close/>
              </a:path>
              <a:path fill="darkenLess" w="40117" h="21600">
                <a:moveTo>
                  <a:pt x="40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7" y="20200"/>
                </a:lnTo>
                <a:close/>
              </a:path>
              <a:path fill="lighten" w="40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952880" y="4114800"/>
            <a:ext cx="3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4191120"/>
            <a:ext cx="40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876920"/>
            <a:ext cx="3352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Золотая цеп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4876920"/>
            <a:ext cx="28958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Arial"/>
              </a:rPr>
              <a:t>Желу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ректор</cp:lastModifiedBy>
  <dcterms:modified xsi:type="dcterms:W3CDTF">2008-04-04T05:39:40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