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E26-C2BE-44C1-BD93-C4B1D383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72B-AEF8-4D27-BE88-A725BD4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C48-D310-4E32-8628-138F0297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60D-1DE2-4632-882D-83914402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E21-2729-4FCC-AD8D-7F8CA9E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5D6-DFFB-4C8D-8D28-A5E8F5EC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BA6-2503-4AD3-960D-07DFB7DD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716-5A8F-4FCB-AAEB-89589F9C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DCF-0FF8-4753-B422-A6E2E71A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5B8-F3B6-44E7-BE69-EEA75322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D04-D880-4800-AB1A-3FA33798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008-556D-446E-BF07-EA9021DD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069C-839E-47D8-A3E6-0934AAD24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1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1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18.xml"/><Relationship Id="rId8" Type="http://schemas.openxmlformats.org/officeDocument/2006/relationships/slide" Target="slide6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6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1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4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6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7.xml"/><Relationship Id="rId9" Type="http://schemas.openxmlformats.org/officeDocument/2006/relationships/slide" Target="slide26.xml"/><Relationship Id="rId10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6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30.xml"/><Relationship Id="rId8" Type="http://schemas.openxmlformats.org/officeDocument/2006/relationships/slide" Target="slide18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6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33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3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6.xml"/><Relationship Id="rId8" Type="http://schemas.openxmlformats.org/officeDocument/2006/relationships/slide" Target="slide33.xml"/><Relationship Id="rId9" Type="http://schemas.openxmlformats.org/officeDocument/2006/relationships/slide" Target="slide35.xml"/><Relationship Id="rId10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6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39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8.xml"/><Relationship Id="rId10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39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1.xml"/><Relationship Id="rId6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836720"/>
          <a:ext cx="9144000" cy="990720"/>
        </p:xfrm>
        <a:graphic>
          <a:graphicData uri="http://schemas.openxmlformats.org/drawingml/2006/table">
            <a:tbl>
              <a:tblPr/>
              <a:tblGrid>
                <a:gridCol w="3086280"/>
                <a:gridCol w="2000160"/>
                <a:gridCol w="40575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0" y="2827440"/>
          <a:ext cx="7294680" cy="1004760"/>
        </p:xfrm>
        <a:graphic>
          <a:graphicData uri="http://schemas.openxmlformats.org/drawingml/2006/table">
            <a:tbl>
              <a:tblPr/>
              <a:tblGrid>
                <a:gridCol w="3071880"/>
                <a:gridCol w="1990800"/>
                <a:gridCol w="2016360"/>
                <a:gridCol w="216000"/>
              </a:tblGrid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3832200"/>
          <a:ext cx="5268960" cy="1189080"/>
        </p:xfrm>
        <a:graphic>
          <a:graphicData uri="http://schemas.openxmlformats.org/drawingml/2006/table">
            <a:tbl>
              <a:tblPr/>
              <a:tblGrid>
                <a:gridCol w="3066120"/>
                <a:gridCol w="1987200"/>
                <a:gridCol w="216000"/>
              </a:tblGrid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Кто хочет стать миллионером!?"/>
          <p:cNvPicPr/>
          <p:nvPr/>
        </p:nvPicPr>
        <p:blipFill>
          <a:blip r:embed="rId1"/>
          <a:stretch/>
        </p:blipFill>
        <p:spPr>
          <a:xfrm>
            <a:off x="1143000" y="-304920"/>
            <a:ext cx="6400800" cy="252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41960" y="188280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то хочет стать миллионером!?"/>
          <p:cNvPicPr/>
          <p:nvPr/>
        </p:nvPicPr>
        <p:blipFill>
          <a:blip r:embed="rId3"/>
          <a:stretch/>
        </p:blipFill>
        <p:spPr>
          <a:xfrm>
            <a:off x="1143000" y="2209680"/>
            <a:ext cx="6400800" cy="255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265880" y="28735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5520" y="3878280"/>
            <a:ext cx="2571840" cy="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то хочет стать миллионером!?"/>
          <p:cNvPicPr/>
          <p:nvPr/>
        </p:nvPicPr>
        <p:blipFill>
          <a:blip r:embed="rId6"/>
          <a:stretch/>
        </p:blipFill>
        <p:spPr>
          <a:xfrm>
            <a:off x="1143000" y="4724280"/>
            <a:ext cx="64008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76800" y="4152960"/>
            <a:ext cx="2383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3. Во что превращается вода на мороз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43828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л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3623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п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724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кис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64832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газ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7162920" y="6248520"/>
            <a:ext cx="1347840" cy="609480"/>
          </a:xfrm>
          <a:custGeom>
            <a:avLst/>
            <a:gdLst>
              <a:gd name="textAreaLeft" fmla="*/ 39240 w 1347840"/>
              <a:gd name="textAreaRight" fmla="*/ 1308600 w 1347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7752" h="21600">
                <a:moveTo>
                  <a:pt x="0" y="0"/>
                </a:moveTo>
                <a:lnTo>
                  <a:pt x="47752" y="0"/>
                </a:lnTo>
                <a:lnTo>
                  <a:pt x="47752" y="21600"/>
                </a:lnTo>
                <a:lnTo>
                  <a:pt x="0" y="21600"/>
                </a:lnTo>
                <a:close/>
              </a:path>
              <a:path fill="lightenLess" w="47752" h="21600">
                <a:moveTo>
                  <a:pt x="0" y="0"/>
                </a:moveTo>
                <a:lnTo>
                  <a:pt x="47752" y="0"/>
                </a:lnTo>
                <a:lnTo>
                  <a:pt x="46352" y="1400"/>
                </a:lnTo>
                <a:lnTo>
                  <a:pt x="1400" y="1400"/>
                </a:lnTo>
                <a:close/>
              </a:path>
              <a:path fill="darken" w="47752" h="21600">
                <a:moveTo>
                  <a:pt x="47752" y="0"/>
                </a:moveTo>
                <a:lnTo>
                  <a:pt x="47752" y="21600"/>
                </a:lnTo>
                <a:lnTo>
                  <a:pt x="46352" y="20200"/>
                </a:lnTo>
                <a:lnTo>
                  <a:pt x="46352" y="1400"/>
                </a:lnTo>
                <a:close/>
              </a:path>
              <a:path fill="darkenLess" w="47752" h="21600">
                <a:moveTo>
                  <a:pt x="47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52" y="20200"/>
                </a:lnTo>
                <a:close/>
              </a:path>
              <a:path fill="lighten" w="47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3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29000" y="3581280"/>
            <a:ext cx="19368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3. Во что превращается вода на мороз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43828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л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3623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п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4. На чем летает ведь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ве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51460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пылесосе «Раке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шваб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251460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мет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9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4. На чем летает ведь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251460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мет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шваб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5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76720" y="3524400"/>
            <a:ext cx="2512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5. Что является параметром любой географической кар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51460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51460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464832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толщ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46483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9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5. Что является параметром любой географической кар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46483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251460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36291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4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6. Что свинопас продавал за поцелуи принцес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8" action="ppaction://hlinksldjump"/>
          </p:cNvPr>
          <p:cNvSpPr/>
          <p:nvPr/>
        </p:nvSpPr>
        <p:spPr>
          <a:xfrm>
            <a:off x="4800600" y="4038480"/>
            <a:ext cx="3962520" cy="213372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ночку и таз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51460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Розу и соловь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724280"/>
            <a:ext cx="33526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удочку и кувшин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4724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телок и трещо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9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Кто хочет стать миллионер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интеллектуальная 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6. Что свинопас продавал за поцелуи принцес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ночку и таз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429000" cy="27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телок и трещо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аш выигрыш 2000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809880" y="3506760"/>
            <a:ext cx="1982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7. Кто появлялся перед солдатом, когда он начинал высекать огонь с помощью огни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7" action="ppaction://hlinksldjump"/>
          </p:cNvPr>
          <p:cNvSpPr/>
          <p:nvPr/>
        </p:nvSpPr>
        <p:spPr>
          <a:xfrm>
            <a:off x="457200" y="4038480"/>
            <a:ext cx="4014720" cy="210996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960"/>
              <a:gd name="textAreaBottom" fmla="*/ 1973520 h 2109960"/>
            </a:gdLst>
            <a:ahLst/>
            <a:rect l="textAreaLeft" t="textAreaTop" r="textAreaRight" b="textAreaBottom"/>
            <a:pathLst>
              <a:path w="41096" h="21600">
                <a:moveTo>
                  <a:pt x="0" y="0"/>
                </a:moveTo>
                <a:lnTo>
                  <a:pt x="41096" y="0"/>
                </a:lnTo>
                <a:lnTo>
                  <a:pt x="41096" y="21600"/>
                </a:lnTo>
                <a:lnTo>
                  <a:pt x="0" y="21600"/>
                </a:lnTo>
                <a:close/>
              </a:path>
              <a:path fill="lightenLess" w="41096" h="21600">
                <a:moveTo>
                  <a:pt x="0" y="0"/>
                </a:moveTo>
                <a:lnTo>
                  <a:pt x="41096" y="0"/>
                </a:lnTo>
                <a:lnTo>
                  <a:pt x="39696" y="1400"/>
                </a:lnTo>
                <a:lnTo>
                  <a:pt x="1400" y="1400"/>
                </a:lnTo>
                <a:close/>
              </a:path>
              <a:path fill="darken" w="41096" h="21600">
                <a:moveTo>
                  <a:pt x="41096" y="0"/>
                </a:moveTo>
                <a:lnTo>
                  <a:pt x="41096" y="21600"/>
                </a:lnTo>
                <a:lnTo>
                  <a:pt x="39696" y="20200"/>
                </a:lnTo>
                <a:lnTo>
                  <a:pt x="39696" y="1400"/>
                </a:lnTo>
                <a:close/>
              </a:path>
              <a:path fill="darkenLess" w="41096" h="21600">
                <a:moveTo>
                  <a:pt x="41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96" y="20200"/>
                </a:lnTo>
                <a:close/>
              </a:path>
              <a:path fill="lighten" w="41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жин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3623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вое из лар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80060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Золотая ры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243828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Три соб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7. Кто появлялся перед солдатом, когда он начинал высекать огонь с помощью огни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2438280"/>
            <a:ext cx="297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Три соб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2362320"/>
            <a:ext cx="358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вое из лар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4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335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733920" y="3962520"/>
            <a:ext cx="2087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8. Что было знаком высшего отличия испанской утки из сказки «Гадкий утёнок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243828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нтик на ш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472428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Яркий хохо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243828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лечко на ла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4724280"/>
            <a:ext cx="31240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расный лоскуток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8. Что было знаком высшего отличия испанской утки из сказки «Гадкий утёнок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44197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расный лоску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43828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лечко на ла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8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260532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9. Как звали девочку из сказки «Серебряное копытце»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Аню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72428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ст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2438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атюш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572000"/>
            <a:ext cx="3504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ар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9. Как звали девочку из сказки «Серебряное копытце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4648320" y="1600200"/>
            <a:ext cx="4014720" cy="2133720"/>
          </a:xfrm>
          <a:custGeom>
            <a:avLst/>
            <a:gdLst>
              <a:gd name="textAreaLeft" fmla="*/ 138240 w 4014720"/>
              <a:gd name="textAreaRight" fmla="*/ 3876480 w 40147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40638" h="21600">
                <a:moveTo>
                  <a:pt x="0" y="0"/>
                </a:moveTo>
                <a:lnTo>
                  <a:pt x="40638" y="0"/>
                </a:lnTo>
                <a:lnTo>
                  <a:pt x="40638" y="21600"/>
                </a:lnTo>
                <a:lnTo>
                  <a:pt x="0" y="21600"/>
                </a:lnTo>
                <a:close/>
              </a:path>
              <a:path fill="lightenLess" w="40638" h="21600">
                <a:moveTo>
                  <a:pt x="0" y="0"/>
                </a:moveTo>
                <a:lnTo>
                  <a:pt x="40638" y="0"/>
                </a:lnTo>
                <a:lnTo>
                  <a:pt x="39239" y="1400"/>
                </a:lnTo>
                <a:lnTo>
                  <a:pt x="1400" y="1400"/>
                </a:lnTo>
                <a:close/>
              </a:path>
              <a:path fill="darken" w="40638" h="21600">
                <a:moveTo>
                  <a:pt x="40638" y="0"/>
                </a:moveTo>
                <a:lnTo>
                  <a:pt x="40638" y="21600"/>
                </a:lnTo>
                <a:lnTo>
                  <a:pt x="39239" y="20200"/>
                </a:lnTo>
                <a:lnTo>
                  <a:pt x="39239" y="1400"/>
                </a:lnTo>
                <a:close/>
              </a:path>
              <a:path fill="darkenLess" w="40638" h="21600">
                <a:moveTo>
                  <a:pt x="40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39" y="20200"/>
                </a:lnTo>
                <a:close/>
              </a:path>
              <a:path fill="lighten" w="40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Аню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572000"/>
            <a:ext cx="3048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ар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Кто приходит под Новый год к хорошим детя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5146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66688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ба 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80060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Милицион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9" action="ppaction://hlinksldjump"/>
          </p:cNvPr>
          <p:cNvSpPr/>
          <p:nvPr/>
        </p:nvSpPr>
        <p:spPr>
          <a:xfrm>
            <a:off x="7238880" y="6172200"/>
            <a:ext cx="1347840" cy="685800"/>
          </a:xfrm>
          <a:custGeom>
            <a:avLst/>
            <a:gdLst>
              <a:gd name="textAreaLeft" fmla="*/ 44280 w 1347840"/>
              <a:gd name="textAreaRight" fmla="*/ 1303560 w 1347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2441" h="21600">
                <a:moveTo>
                  <a:pt x="0" y="0"/>
                </a:moveTo>
                <a:lnTo>
                  <a:pt x="42441" y="0"/>
                </a:lnTo>
                <a:lnTo>
                  <a:pt x="42441" y="21600"/>
                </a:lnTo>
                <a:lnTo>
                  <a:pt x="0" y="21600"/>
                </a:lnTo>
                <a:close/>
              </a:path>
              <a:path fill="lightenLess" w="42441" h="21600">
                <a:moveTo>
                  <a:pt x="0" y="0"/>
                </a:moveTo>
                <a:lnTo>
                  <a:pt x="42441" y="0"/>
                </a:lnTo>
                <a:lnTo>
                  <a:pt x="41041" y="1400"/>
                </a:lnTo>
                <a:lnTo>
                  <a:pt x="1400" y="1400"/>
                </a:lnTo>
                <a:close/>
              </a:path>
              <a:path fill="darken" w="42441" h="21600">
                <a:moveTo>
                  <a:pt x="42441" y="0"/>
                </a:moveTo>
                <a:lnTo>
                  <a:pt x="42441" y="21600"/>
                </a:lnTo>
                <a:lnTo>
                  <a:pt x="41041" y="20200"/>
                </a:lnTo>
                <a:lnTo>
                  <a:pt x="41041" y="1400"/>
                </a:lnTo>
                <a:close/>
              </a:path>
              <a:path fill="darkenLess" w="42441" h="21600">
                <a:moveTo>
                  <a:pt x="4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41" y="20200"/>
                </a:lnTo>
                <a:close/>
              </a:path>
              <a:path fill="lighten" w="4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4876920"/>
            <a:ext cx="3200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6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7620120" y="5334120"/>
            <a:ext cx="1042920" cy="814320"/>
          </a:xfrm>
          <a:custGeom>
            <a:avLst/>
            <a:gdLst>
              <a:gd name="textAreaLeft" fmla="*/ 52560 w 1042920"/>
              <a:gd name="textAreaRight" fmla="*/ 990360 w 10429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7661" h="21600">
                <a:moveTo>
                  <a:pt x="0" y="0"/>
                </a:moveTo>
                <a:lnTo>
                  <a:pt x="27661" y="0"/>
                </a:lnTo>
                <a:lnTo>
                  <a:pt x="27661" y="21600"/>
                </a:lnTo>
                <a:lnTo>
                  <a:pt x="0" y="21600"/>
                </a:lnTo>
                <a:close/>
              </a:path>
              <a:path fill="lightenLess" w="27661" h="21600">
                <a:moveTo>
                  <a:pt x="0" y="0"/>
                </a:moveTo>
                <a:lnTo>
                  <a:pt x="27661" y="0"/>
                </a:lnTo>
                <a:lnTo>
                  <a:pt x="26261" y="1400"/>
                </a:lnTo>
                <a:lnTo>
                  <a:pt x="1400" y="1400"/>
                </a:lnTo>
                <a:close/>
              </a:path>
              <a:path fill="darken" w="27661" h="21600">
                <a:moveTo>
                  <a:pt x="27661" y="0"/>
                </a:moveTo>
                <a:lnTo>
                  <a:pt x="27661" y="21600"/>
                </a:lnTo>
                <a:lnTo>
                  <a:pt x="26261" y="20200"/>
                </a:lnTo>
                <a:lnTo>
                  <a:pt x="26261" y="1400"/>
                </a:lnTo>
                <a:close/>
              </a:path>
              <a:path fill="darkenLess" w="27661" h="21600">
                <a:moveTo>
                  <a:pt x="27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61" y="20200"/>
                </a:lnTo>
                <a:close/>
              </a:path>
              <a:path fill="lighten" w="27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094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038480" y="3697200"/>
            <a:ext cx="1947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745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0. Отчего ожила шляпа в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рассказе Николая Носов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«Живая шляпа»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495680"/>
            <a:ext cx="396252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Под неё положили радиоуправляемую маш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286000"/>
            <a:ext cx="342900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Её тянули за веревочк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648320"/>
            <a:ext cx="35812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неё вставили батар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2286000"/>
            <a:ext cx="31240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Под неё попал котё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0. Отчего ожила шляпа в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рассказе Николая Носов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«Живая шляп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2438280"/>
            <a:ext cx="28958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Под неё попал котёнок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472428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неё вставили батар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32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581280" y="3902040"/>
            <a:ext cx="2367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745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1. Кто подсказал царевичу Елисею, где его неве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Вет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"/>
          <p:cNvSpPr/>
          <p:nvPr/>
        </p:nvSpPr>
        <p:spPr>
          <a:xfrm>
            <a:off x="5029200" y="4648320"/>
            <a:ext cx="34290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22860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22860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1. Кто подсказал царевичу Елисею, где его неве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rId3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457200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464832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64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3809880" y="3967200"/>
            <a:ext cx="20289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45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2. Съедобная часть моркови –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01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2362320"/>
            <a:ext cx="33526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дыхательный кор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464832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ень-подпо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64832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ень-прище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27432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непл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rId9" action="ppaction://hlinksldjump"/>
          </p:cNvPr>
          <p:cNvSpPr/>
          <p:nvPr/>
        </p:nvSpPr>
        <p:spPr>
          <a:xfrm>
            <a:off x="731520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2. Съедобная часть моркови –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17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/>
          <p:nvPr/>
        </p:nvSpPr>
        <p:spPr>
          <a:xfrm>
            <a:off x="990720" y="27432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непл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441972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ень-прище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25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745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1. Кто приходит под Новый год к хорошим детя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59092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4876920"/>
            <a:ext cx="3200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3. Кто такая Серая звезд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/>
          <p:nvPr/>
        </p:nvSpPr>
        <p:spPr>
          <a:xfrm>
            <a:off x="4724280" y="243828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Лошад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487692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ш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2438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У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76920" y="4876920"/>
            <a:ext cx="3200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а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5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3. Кто такая Серая звезд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2286000"/>
            <a:ext cx="33526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Лошад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05520" y="4876920"/>
            <a:ext cx="297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а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250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35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7687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4. Что домовой Кузька называл олелюшечк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8320" y="160020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236232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осиделки в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49528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4724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Игру в ладуш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2514600"/>
            <a:ext cx="3047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4. Что домовой Кузька называл олелюшечк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2514600"/>
            <a:ext cx="3124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472428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Игру в ладуш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500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1286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5. Какая часть Чеширского кота исчезала последн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464832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Широкая улы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514600"/>
            <a:ext cx="3504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равое уш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51460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Хитрый взгля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181480" y="4648320"/>
            <a:ext cx="28958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Кончик хвос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5. Какая часть Чеширского кота исчезала последн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251460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равое уш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4800600"/>
            <a:ext cx="3505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Широкая улы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000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32972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745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составляет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391520" y="579132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057400" y="3200400"/>
            <a:ext cx="2603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 неверно ответили на вопрос. Ваш выигрыш уходит на нужды голодающих африканце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449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3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2. Что растет на ду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66688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Шиш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876920"/>
            <a:ext cx="33526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Золотая цеп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266688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Ябло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876920"/>
            <a:ext cx="2895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елу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8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2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429000" y="3265560"/>
            <a:ext cx="23432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2. Что растет на дуб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533520" y="3962520"/>
            <a:ext cx="4038480" cy="2133360"/>
          </a:xfrm>
          <a:custGeom>
            <a:avLst/>
            <a:gdLst>
              <a:gd name="textAreaLeft" fmla="*/ 138240 w 4038480"/>
              <a:gd name="textAreaRight" fmla="*/ 3900240 w 403848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886" h="21600">
                <a:moveTo>
                  <a:pt x="0" y="0"/>
                </a:moveTo>
                <a:lnTo>
                  <a:pt x="40886" y="0"/>
                </a:lnTo>
                <a:lnTo>
                  <a:pt x="40886" y="21600"/>
                </a:lnTo>
                <a:lnTo>
                  <a:pt x="0" y="21600"/>
                </a:lnTo>
                <a:close/>
              </a:path>
              <a:path fill="lightenLess" w="40886" h="21600">
                <a:moveTo>
                  <a:pt x="0" y="0"/>
                </a:moveTo>
                <a:lnTo>
                  <a:pt x="40886" y="0"/>
                </a:lnTo>
                <a:lnTo>
                  <a:pt x="39486" y="1400"/>
                </a:lnTo>
                <a:lnTo>
                  <a:pt x="1400" y="1400"/>
                </a:lnTo>
                <a:close/>
              </a:path>
              <a:path fill="darken" w="40886" h="21600">
                <a:moveTo>
                  <a:pt x="40886" y="0"/>
                </a:moveTo>
                <a:lnTo>
                  <a:pt x="40886" y="21600"/>
                </a:lnTo>
                <a:lnTo>
                  <a:pt x="39486" y="20200"/>
                </a:lnTo>
                <a:lnTo>
                  <a:pt x="39486" y="1400"/>
                </a:lnTo>
                <a:close/>
              </a:path>
              <a:path fill="darkenLess" w="40886" h="21600">
                <a:moveTo>
                  <a:pt x="40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86" y="20200"/>
                </a:lnTo>
                <a:close/>
              </a:path>
              <a:path fill="lighten" w="40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480060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Золотая цеп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4876920"/>
            <a:ext cx="2895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елу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08-04-04T05:39:40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