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65.jpeg" ContentType="image/jpeg"/>
  <Override PartName="/ppt/media/image39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33311-EF77-4AC6-A9B4-ADBE16D064A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54A3D-FD8F-42E5-85C5-B5A757FD3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185E0-D21F-4364-8BEB-7AE5C81BE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B53E5-D6EB-4060-B923-9BE70AF2E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D9483-62E2-4273-A855-C855B150E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9BCFD-08F3-4720-A9BC-87045E416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2F28C-8507-4581-A266-E15A256E6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B47AF1-AADD-4471-A096-8F3046370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F999D2-6956-4CD7-BF12-93E9A5D8E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6.jpeg"/><Relationship Id="rId4" Type="http://schemas.openxmlformats.org/officeDocument/2006/relationships/image" Target="../media/image41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9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71720" y="428760"/>
            <a:ext cx="701676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14800" y="5359320"/>
            <a:ext cx="72151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ь Орлова Антонина Михайловн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885080" y="56228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85880" y="463680"/>
            <a:ext cx="764388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99400" y="559260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3400" y="928800"/>
            <a:ext cx="7334280" cy="550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4280" y="3571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Наши предки, которые жили в Древней  Руси писали на берест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9400" y="559260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143240" y="642960"/>
            <a:ext cx="3929040" cy="294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214280" y="3714840"/>
            <a:ext cx="68580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857160" y="1071720"/>
            <a:ext cx="31482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5493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В городе Пергаме придумали пергамент – названный в честь города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3889440" cy="417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5120" y="5300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Изготавливали его из шкур телят и овец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042920" y="1727280"/>
            <a:ext cx="2449440" cy="35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14240" y="428760"/>
            <a:ext cx="773928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1680" y="33984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2960" y="428760"/>
            <a:ext cx="7834320" cy="58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680" y="500040"/>
            <a:ext cx="7905600" cy="59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30640" y="1714680"/>
            <a:ext cx="326556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885080" y="57326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112536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На Руси стали создавать книги из бумаги, но они были рукописны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3280" y="428760"/>
            <a:ext cx="3875400" cy="23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643280" y="2928960"/>
            <a:ext cx="3932280" cy="294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85840" y="2928960"/>
            <a:ext cx="4176720" cy="29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214800" y="57168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8760" y="857160"/>
            <a:ext cx="3938400" cy="2928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5880" y="35712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ервыми создателями рукописных книг были мона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00720" y="3214800"/>
            <a:ext cx="4168440" cy="3125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929120" y="1143000"/>
            <a:ext cx="3225960" cy="1928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00040" y="3857760"/>
            <a:ext cx="37861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5340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1680" y="482760"/>
            <a:ext cx="7786440" cy="58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0040" y="428760"/>
            <a:ext cx="8048520" cy="603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500960" y="50004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57840" y="164304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42960" y="428760"/>
            <a:ext cx="781056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6720" y="56070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333360"/>
            <a:ext cx="6667560" cy="452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6920" y="4857840"/>
            <a:ext cx="741708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Чтобы книги лучше сохранялись, переплёты делались из деревянных дощечек. Их обтягивали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тонкой кожей или дорогой матери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858000" y="285840"/>
            <a:ext cx="107172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95672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16286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Первые печатные книги появились в Германии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791240" y="1052640"/>
            <a:ext cx="3984480" cy="40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47840" y="2643120"/>
            <a:ext cx="398124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90792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На Руси первопечатником стал Иван Фёдоров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3819600" cy="5238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143000" y="207180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214280" y="4857840"/>
            <a:ext cx="1785960" cy="15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00720" y="571680"/>
            <a:ext cx="4071960" cy="2966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00040" y="571680"/>
            <a:ext cx="3929040" cy="2947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929120" y="371484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42289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14240" y="285840"/>
            <a:ext cx="4508640" cy="300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9040" y="3308400"/>
            <a:ext cx="4548240" cy="3111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57120" y="3303720"/>
            <a:ext cx="4452840" cy="3340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143760" y="1000080"/>
            <a:ext cx="221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>
            <a:off x="760320" y="494172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Книга – величайшее сокровище      человечества, кладезь мудрости, источник знаний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25520" y="785880"/>
            <a:ext cx="4375080" cy="307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000760" y="2357280"/>
            <a:ext cx="3651120" cy="2527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500880" y="28584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71680" y="428760"/>
            <a:ext cx="7929360" cy="59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5840" y="1000080"/>
            <a:ext cx="444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14680" y="10144080"/>
            <a:ext cx="8281800" cy="602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71680" y="428760"/>
            <a:ext cx="7953120" cy="596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14240" y="1785960"/>
            <a:ext cx="39546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101080" y="577368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24280" y="1143000"/>
            <a:ext cx="5019840" cy="496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2960" y="189000"/>
            <a:ext cx="82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Люди стали искать более удобный материал. В Греции для письма использовали глину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14200" y="1214280"/>
            <a:ext cx="3524400" cy="2643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857160" y="4000680"/>
            <a:ext cx="2571840" cy="20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0100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57960" y="2071800"/>
            <a:ext cx="2500200" cy="180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28760" y="857160"/>
            <a:ext cx="5838840" cy="534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00880" y="1011960"/>
            <a:ext cx="23572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иблиотеки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364440" y="4143240"/>
            <a:ext cx="255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6720" y="55166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В Древнем Риме  использовали деревянные дощечки, залитые  воском. 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3280" y="1285920"/>
            <a:ext cx="4170600" cy="301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28760" y="1285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857840" y="4572000"/>
            <a:ext cx="3235320" cy="181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28840" y="4500720"/>
            <a:ext cx="3120840" cy="20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885080" y="55609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28760" y="64296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998960" y="642960"/>
            <a:ext cx="3692520" cy="328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072040" y="4071960"/>
            <a:ext cx="300024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428840" y="4000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4365720"/>
            <a:ext cx="3311640" cy="26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Папирус </a:t>
            </a:r>
            <a:r>
              <a:rPr b="0" lang="ru-RU" sz="2800" spc="-1" strike="noStrike">
                <a:solidFill>
                  <a:srgbClr val="2f2a22"/>
                </a:solidFill>
                <a:latin typeface="Arial"/>
                <a:ea typeface="Tahoma"/>
              </a:rPr>
              <a:t>–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речной тростник с высоким и толстым стволом.</a:t>
            </a:r>
            <a:r>
              <a:rPr b="0" lang="ru-RU" sz="2800" spc="-1" strike="noStrike">
                <a:solidFill>
                  <a:srgbClr val="2f2a22"/>
                </a:solidFill>
                <a:latin typeface="Arial"/>
                <a:ea typeface="Tahoma"/>
              </a:rPr>
              <a:t> 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292720" y="117648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24000" y="1268280"/>
            <a:ext cx="4076640" cy="2857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28600" y="404640"/>
            <a:ext cx="70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В древнем Египте писали на папирусе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85080" y="55609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14240" y="4143240"/>
            <a:ext cx="17179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8:23:22Z</dcterms:created>
  <dc:creator>Ирина Алексеевна</dc:creator>
  <dc:description/>
  <dc:language>en-US</dc:language>
  <cp:lastModifiedBy>Admin</cp:lastModifiedBy>
  <dcterms:modified xsi:type="dcterms:W3CDTF">2024-01-09T18:03:48Z</dcterms:modified>
  <cp:revision>1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