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65.jpeg" ContentType="image/jpeg"/>
  <Override PartName="/ppt/media/image39.jpeg" ContentType="image/jpeg"/>
  <Override PartName="/ppt/media/image12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0.jpeg" ContentType="image/jpeg"/>
  <Override PartName="/ppt/media/image64.png" ContentType="image/png"/>
  <Override PartName="/ppt/media/image21.jpeg" ContentType="image/jpeg"/>
  <Override PartName="/ppt/media/image16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61.jpeg" ContentType="image/jpeg"/>
  <Override PartName="/ppt/media/image17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52.jpeg" ContentType="image/jpeg"/>
  <Override PartName="/ppt/media/image13.png" ContentType="image/png"/>
  <Override PartName="/ppt/media/image5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47CDF-1852-482D-8E7F-682AF39B4BEF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89E52C-89D5-45CB-B51F-6024F2BB95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FB2D03-FB93-4E55-B998-BEBAA51357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83F853-5B52-404A-8492-145DD22A79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575475-8516-4637-AFB5-904635BF93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1214BF-F238-4517-95AE-2CE1B83749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540BF0-DE7B-4A3B-AAAE-B97F2DD590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58AB19-7034-4A90-9F0C-B2D81AF560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FA4E8C-111E-430C-BED4-49B8728B99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6.jpeg"/><Relationship Id="rId4" Type="http://schemas.openxmlformats.org/officeDocument/2006/relationships/image" Target="../media/image41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9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947000" y="5929200"/>
            <a:ext cx="1197000" cy="1090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071720" y="428760"/>
            <a:ext cx="7016760" cy="492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14800" y="5359320"/>
            <a:ext cx="72151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зентацию подготовила: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тель Орлова Антонина Михайловн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885080" y="562284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85880" y="463680"/>
            <a:ext cx="7643880" cy="57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799400" y="5592600"/>
            <a:ext cx="1357200" cy="1236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33400" y="928800"/>
            <a:ext cx="7334280" cy="5500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14280" y="35712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Наши предки, которые жили в Древней  Руси писали на бересте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799400" y="5592600"/>
            <a:ext cx="1357200" cy="1236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143240" y="642960"/>
            <a:ext cx="3929040" cy="2946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214280" y="3714840"/>
            <a:ext cx="6858000" cy="2928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857160" y="1071720"/>
            <a:ext cx="314820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54936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В городе Пергаме придумали пергамент – названный в честь города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284720" y="1700280"/>
            <a:ext cx="3889440" cy="4176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5120" y="53006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Изготавливали его из шкур телят и овец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042920" y="1727280"/>
            <a:ext cx="2449440" cy="35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14240" y="428760"/>
            <a:ext cx="7739280" cy="58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71680" y="339840"/>
            <a:ext cx="7929360" cy="59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2960" y="428760"/>
            <a:ext cx="7834320" cy="58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47000" y="5929200"/>
            <a:ext cx="1197000" cy="1090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71680" y="500040"/>
            <a:ext cx="7905600" cy="592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030640" y="1714680"/>
            <a:ext cx="326556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885080" y="573264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4000" y="1125360"/>
            <a:ext cx="381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На Руси стали создавать книги из бумаги, но они были рукописны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643280" y="428760"/>
            <a:ext cx="3875400" cy="234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643280" y="2928960"/>
            <a:ext cx="3932280" cy="2949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85840" y="2928960"/>
            <a:ext cx="4176720" cy="2928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3214800" y="571680"/>
            <a:ext cx="1071360" cy="10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947000" y="5929200"/>
            <a:ext cx="1197000" cy="1090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28760" y="857160"/>
            <a:ext cx="3938400" cy="2928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85880" y="35712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Первыми создателями рукописных книг были монах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00720" y="3214800"/>
            <a:ext cx="4168440" cy="3125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929120" y="1143000"/>
            <a:ext cx="3225960" cy="1928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500040" y="3857760"/>
            <a:ext cx="378612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53400" y="56214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71680" y="482760"/>
            <a:ext cx="7786440" cy="58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947000" y="5929200"/>
            <a:ext cx="1197000" cy="1090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0040" y="428760"/>
            <a:ext cx="8048520" cy="6035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500960" y="50004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857840" y="1643040"/>
            <a:ext cx="371484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947000" y="5929200"/>
            <a:ext cx="1197000" cy="1090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42960" y="428760"/>
            <a:ext cx="781056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956720" y="56070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042920" y="333360"/>
            <a:ext cx="6667560" cy="4524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26920" y="4857840"/>
            <a:ext cx="741708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Чтобы книги лучше сохранялись, переплёты делались из деревянных дощечек. Их обтягивали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тонкой кожей или дорогой материей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858000" y="285840"/>
            <a:ext cx="1071720" cy="10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956720" y="562140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4000" y="162864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Первые печатные книги появились в Германии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791240" y="1052640"/>
            <a:ext cx="3984480" cy="403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47840" y="2643120"/>
            <a:ext cx="3981240" cy="35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786800" y="564984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4360" y="90792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На Руси первопечатником стал Иван Фёдоров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859280" y="620640"/>
            <a:ext cx="3819600" cy="5238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143000" y="2071800"/>
            <a:ext cx="3619440" cy="2714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214280" y="4857840"/>
            <a:ext cx="1785960" cy="15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786800" y="564984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84360" y="9079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500720" y="571680"/>
            <a:ext cx="4071960" cy="2966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00040" y="571680"/>
            <a:ext cx="3929040" cy="2947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4929120" y="3714840"/>
            <a:ext cx="3571920" cy="2679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428760" y="3714840"/>
            <a:ext cx="422892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786800" y="564984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4360" y="9079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14240" y="285840"/>
            <a:ext cx="4508640" cy="3000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29040" y="3308400"/>
            <a:ext cx="4548240" cy="3111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57120" y="3303720"/>
            <a:ext cx="4452840" cy="3340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6143760" y="1000080"/>
            <a:ext cx="22143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786800" y="564984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4360" y="9079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4" name=""/>
          <p:cNvSpPr/>
          <p:nvPr/>
        </p:nvSpPr>
        <p:spPr>
          <a:xfrm>
            <a:off x="760320" y="4941720"/>
            <a:ext cx="70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Книга – величайшее сокровище      человечества, кладезь мудрости, источник знаний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25520" y="785880"/>
            <a:ext cx="4375080" cy="3071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000760" y="2357280"/>
            <a:ext cx="3651120" cy="2527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6500880" y="28584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786800" y="564984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4360" y="9079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71680" y="428760"/>
            <a:ext cx="7929360" cy="59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5840" y="1000080"/>
            <a:ext cx="444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14680" y="10144080"/>
            <a:ext cx="8281800" cy="6021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71680" y="428760"/>
            <a:ext cx="7953120" cy="5965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14240" y="1785960"/>
            <a:ext cx="395460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101080" y="5773680"/>
            <a:ext cx="1197000" cy="1090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24280" y="1143000"/>
            <a:ext cx="5019840" cy="4962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42960" y="189000"/>
            <a:ext cx="82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Люди стали искать более удобный материал. В Греции для письма использовали глину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14200" y="1214280"/>
            <a:ext cx="3524400" cy="2643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857160" y="4000680"/>
            <a:ext cx="2571840" cy="20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001000" y="56214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357960" y="2071800"/>
            <a:ext cx="2500200" cy="1800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28760" y="857160"/>
            <a:ext cx="5838840" cy="5343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500880" y="1011960"/>
            <a:ext cx="23572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ервые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библиотеки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364440" y="4143240"/>
            <a:ext cx="2557440" cy="16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6720" y="551664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333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В Древнем Риме  использовали деревянные дощечки, залитые  воском. 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643280" y="1285920"/>
            <a:ext cx="4170600" cy="3016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28760" y="128592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857840" y="4572000"/>
            <a:ext cx="3235320" cy="1811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28840" y="4500720"/>
            <a:ext cx="3120840" cy="20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885080" y="556092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28760" y="642960"/>
            <a:ext cx="4429080" cy="3322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998960" y="642960"/>
            <a:ext cx="3692520" cy="3286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072040" y="4071960"/>
            <a:ext cx="3000240" cy="2357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1428840" y="400068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4365720"/>
            <a:ext cx="3311640" cy="26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2f2a22"/>
                </a:solidFill>
                <a:latin typeface="Tahoma"/>
                <a:ea typeface="Tahoma"/>
              </a:rPr>
              <a:t>Папирус </a:t>
            </a:r>
            <a:r>
              <a:rPr b="0" lang="ru-RU" sz="2800" spc="-1" strike="noStrike">
                <a:solidFill>
                  <a:srgbClr val="2f2a22"/>
                </a:solidFill>
                <a:latin typeface="Arial"/>
                <a:ea typeface="Tahoma"/>
              </a:rPr>
              <a:t>–</a:t>
            </a:r>
            <a:r>
              <a:rPr b="0" lang="ru-RU" sz="2800" spc="-1" strike="noStrike">
                <a:solidFill>
                  <a:srgbClr val="2f2a22"/>
                </a:solidFill>
                <a:latin typeface="Tahoma"/>
                <a:ea typeface="Tahoma"/>
              </a:rPr>
              <a:t> речной тростник с высоким и толстым стволом.</a:t>
            </a:r>
            <a:r>
              <a:rPr b="0" lang="ru-RU" sz="2800" spc="-1" strike="noStrike">
                <a:solidFill>
                  <a:srgbClr val="2f2a22"/>
                </a:solidFill>
                <a:latin typeface="Arial"/>
                <a:ea typeface="Tahoma"/>
              </a:rPr>
              <a:t> </a:t>
            </a:r>
            <a:r>
              <a:rPr b="0" lang="ru-RU" sz="2800" spc="-1" strike="noStrike">
                <a:solidFill>
                  <a:srgbClr val="2f2a22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292720" y="1176480"/>
            <a:ext cx="2916360" cy="3887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24000" y="1268280"/>
            <a:ext cx="4076640" cy="2857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28600" y="404640"/>
            <a:ext cx="707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2f2a22"/>
                </a:solidFill>
                <a:latin typeface="Tahoma"/>
                <a:ea typeface="Tahoma"/>
              </a:rPr>
              <a:t>В древнем Египте писали на папирусе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885080" y="556092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14240" y="4143240"/>
            <a:ext cx="1717920" cy="221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08:23:22Z</dcterms:created>
  <dc:creator>Ирина Алексеевна</dc:creator>
  <dc:description/>
  <dc:language>en-US</dc:language>
  <cp:lastModifiedBy>Admin</cp:lastModifiedBy>
  <dcterms:modified xsi:type="dcterms:W3CDTF">2024-01-09T18:03:48Z</dcterms:modified>
  <cp:revision>1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