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0.jpeg" ContentType="image/jpeg"/>
  <Override PartName="/ppt/media/image52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56.jpeg" ContentType="image/jpe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61.jpeg" ContentType="image/jpeg"/>
  <Override PartName="/ppt/media/image59.png" ContentType="image/png"/>
  <Override PartName="/ppt/media/image24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9.png" ContentType="image/png"/>
  <Override PartName="/ppt/media/image1.jpeg" ContentType="image/jpeg"/>
  <Override PartName="/ppt/media/image2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C8795-CE43-46A2-BF3A-BE8A151233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C2C51-B489-4EAD-B5BC-CCBE32C6A2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31F-687B-4242-AC15-68AEBB73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8F2-E3FA-4A64-8F91-1EDC39AD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332-7AB7-4A61-B253-A30F5270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5E1-B9D9-4975-BF6B-95CA8020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317C-CE1A-45AC-9508-0435533C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FF03-908D-48B5-A732-61C2BF40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28BF-0A01-42DF-B459-915CDAE5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D9F1-6ED3-45E0-BED0-FE613067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6777-7E4F-453A-910C-DF49FC7C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17F6-7ABC-4B26-A847-21E53212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06D9-32DE-49F1-AB82-35793DEB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4C7-32ED-462C-93BF-CC866360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C8D3-EECA-495E-8188-DA17AF6D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CC66-2599-49DA-BD1D-E26931C6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AC46-B814-4DBC-A331-793AAD35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370D-3D50-46A2-813E-9AD5D40E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EF35-386D-42BC-A674-1D838477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15BE4-CC40-4005-8D00-3692D86C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29DE6-CBC0-4841-A410-1BAE1B53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FDFE7-9DBA-47B6-AF64-33CDF135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BFFF-4D74-46F9-A59D-068AC493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7EDB-6A6B-4575-8E51-144AB063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31F-3F6D-418C-89BF-4A3BE49B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802E-93C6-445C-9FA2-BAED3B97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7C57A-FCFC-4E23-B114-1E583AF2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7C5A-DC8B-4134-BC25-3828C7FA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6AAE9-29B3-464F-A36D-E8D6D223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9BB9-3E42-4F7E-9244-33FBA72A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F7C7-B8F7-4FFD-9A86-AEE431FD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121D7-1363-4818-B7CB-95E21C75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47BBF-6C31-4D4F-AAA9-16B37C6F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48AF-463D-4A56-A3EF-CA8532C8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933F1-1667-49EC-AE84-A6D2BC79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8DF-8F12-421E-8558-DA4B8E04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F2D4E-6581-4278-AF19-A817BDD4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2116B-3A7F-4DF8-BEBB-54DF18D8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51CB7-F91F-4738-A016-2EED85EC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06A7F-930D-417E-B74A-CADA641E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6D973-CD33-493E-827C-600C6EE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198A2-FD9C-4105-B3E2-EA81E8B2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157F1-EAF0-432D-AF9A-38F5A2E1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D2D90-4A3A-4855-8595-C6FEA571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645A-7B2F-411F-956F-DACDCFC4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272C1-F725-4594-B83A-8B41FA35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4BF-A2F5-4A35-81B4-AA070D40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884C-DCE3-410D-AD1C-B1DBAA6D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8D5B0-AA49-44F3-AF3B-BD5ABBF4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66C29-6FCC-4C44-8D3C-5DEC50AC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C21D2-F923-4D1C-8CD5-2088EF0E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A9C7A-3CEC-4DEC-A34C-FD7D2A3F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8F6D0-DBD5-4C3A-9547-CB4AC61C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F61CB-79B0-4313-B212-051CBC7A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469BE-741A-47FE-BBE3-3C8DE3A8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51660-EE58-4B18-9567-EA75ABDB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FA25-9FF3-465F-B07C-6229BDC1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D01-0B60-4BA3-8C41-33F71295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03891-9FB4-4573-B3B6-89124B8C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16BD1-F7D2-4ADC-A986-0459DD0B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3F6B0-3A86-4DA3-B57A-0B61D009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3C777-ABFB-4487-B2BB-647D3D04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26DC3-0034-40E8-9268-9956D649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BAD5D-455D-474F-849E-43A51573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D91B7-87C6-4019-ADCB-834E9FD2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6E17-1403-4A86-A3AD-BC0B4F43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54E98-1410-4A28-A787-86BCBAE5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5007D-0A34-4B93-9CFD-76F0C43F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585-CCF6-4F6A-ADC3-67CBEFEA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BEEE4-FA42-4D26-883B-9C078F8C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59D70-501A-4A77-B0A6-CD147403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43C40-8C79-4EF7-A04E-0087E96C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3D95F-FDB4-4C7E-875A-38A7C404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B6CE7-7D24-47AD-9F34-C0BBCD2D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F58D6-0F1F-4545-9AA4-5063AD91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14402-F3AA-4711-B5CE-87A3F065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5D985-4163-4030-B102-C3EB7CFD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B3D8A-E417-425F-9798-920F7D44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1B3A2-2D79-4A27-BAEC-F272147A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26E-5FFF-4213-8AE7-FEA1179C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69DA9-4424-4C72-B8DD-586BD8B0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E1273-B653-4D71-9EF5-30346322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9351D-7D3A-495A-9C52-E58532AF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E7D84-37B3-4778-A924-173A5D80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D2CBA-168E-44EE-B8B9-003E603A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6B2-5D12-44EF-AEEB-2230061A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53F42-6B08-4DE4-A54B-D0A2913D21E7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F6415-8E7E-48C4-8911-5C7C6A69B4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800D9-A7C2-49C1-8C7B-F066ACFB55BF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5E065-3424-4427-B46D-AEB80B2C03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4633A-09CF-4FAC-AE1F-F53FCD483A97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AB6E8-1058-49DF-9BE9-49DE37477D4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BF268-340C-4B87-AD3C-75A47C9F182B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78824-EFFF-4937-B20A-0322ADFFB92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FAAC2-96A0-4B86-8B7D-0BD309F91802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1B566-CF38-4471-AA86-6781A987344D}" type="slidenum">
              <a:rPr b="0" lang="ru-RU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987F4-4549-49E1-84BF-5A0D82DB84E5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1EFDD-E9AA-48F6-A229-FA5EC771BD3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F1E4E-2638-45D6-A35B-7285B9A8BEBF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6C3FA-420A-4BFD-987F-3A21D920C28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1.png"/><Relationship Id="rId12" Type="http://schemas.openxmlformats.org/officeDocument/2006/relationships/image" Target="../media/image59.png"/><Relationship Id="rId13" Type="http://schemas.openxmlformats.org/officeDocument/2006/relationships/image" Target="../media/image60.jpe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7BA8F-3FD9-4AB4-A0B8-C69127DDBA0C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Заголовок 1"/>
          <p:cNvSpPr/>
          <p:nvPr/>
        </p:nvSpPr>
        <p:spPr>
          <a:xfrm>
            <a:off x="1495440" y="861840"/>
            <a:ext cx="795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еминар-практикум для воспитателе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одзаголовок 2"/>
          <p:cNvSpPr/>
          <p:nvPr/>
        </p:nvSpPr>
        <p:spPr>
          <a:xfrm>
            <a:off x="-108000" y="1738440"/>
            <a:ext cx="92170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Артикуляционная гимнастика - эффективное средство формирования правильного звукопроизношения у детей дошкольного возраста</a:t>
            </a:r>
            <a:r>
              <a:rPr b="1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4406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5803920" y="556560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учитель-логопед  Седнева М. 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Рисунок 3" descr=""/>
          <p:cNvPicPr/>
          <p:nvPr/>
        </p:nvPicPr>
        <p:blipFill>
          <a:blip r:embed="rId2"/>
          <a:stretch/>
        </p:blipFill>
        <p:spPr>
          <a:xfrm>
            <a:off x="3340080" y="2924280"/>
            <a:ext cx="2463840" cy="314784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6" descr=""/>
          <p:cNvPicPr/>
          <p:nvPr/>
        </p:nvPicPr>
        <p:blipFill>
          <a:blip r:embed="rId3"/>
          <a:stretch/>
        </p:blipFill>
        <p:spPr>
          <a:xfrm>
            <a:off x="69840" y="5013360"/>
            <a:ext cx="285120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иды артикуляционной гимнастики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ртикуляционную гимнастику можно условно разделить на: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ктивную, когда ребенок полностью самостоятельно выполняет все упражнения;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ассивную, когда выполнять правильно движения ребенку помогает взрослый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Если ребенок не может самостоятельно правильно выполнить нужное движение органами артикуляционного аппарата, ему следует помочь. Сделать это можно шпателем, чистым пальцем или ложечкой, подправив нужным образом губы или язык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иды артикуляционных упражнений: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татические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динамические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татические упражнения – предполагают замирание губ или языка в определенном положении на 10 – 15 секунд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 динамических упражнениях заданиях движение осуществляется на протяжении всего времени выполнения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5037D-B3E6-43BE-9107-1BE2861F149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344068"/>
                </a:solidFill>
                <a:uFillTx/>
                <a:latin typeface="Times New Roman"/>
                <a:ea typeface="Times New Roman"/>
              </a:rPr>
              <a:t>Статические  упражнения:</a:t>
            </a:r>
            <a:br>
              <a:rPr sz="3200"/>
            </a:br>
            <a:endParaRPr b="0" lang="en-US" sz="25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4000" y="76500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кошко"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широко открыть рот — "жарко", закрыть рот — "холодно"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от приоткрою я немножко,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губы сделаю окошком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ы рядышком стоят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 в окошечко глядят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A8A80-8573-4DB5-84FD-BAEF4A9E607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12" descr="http://images.myshared.ru/7/814535/slide_5.jpg"/>
          <p:cNvPicPr/>
          <p:nvPr/>
        </p:nvPicPr>
        <p:blipFill>
          <a:blip r:embed="rId1"/>
          <a:stretch/>
        </p:blipFill>
        <p:spPr>
          <a:xfrm>
            <a:off x="2916360" y="1141560"/>
            <a:ext cx="2160360" cy="21254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http://images.myshared.ru/7/814535/slide_5.jpg"/>
          <p:cNvPicPr/>
          <p:nvPr/>
        </p:nvPicPr>
        <p:blipFill>
          <a:blip r:embed="rId2"/>
          <a:stretch/>
        </p:blipFill>
        <p:spPr>
          <a:xfrm>
            <a:off x="4932360" y="1197000"/>
            <a:ext cx="2016000" cy="1990800"/>
          </a:xfrm>
          <a:prstGeom prst="rect">
            <a:avLst/>
          </a:prstGeom>
          <a:ln w="0">
            <a:noFill/>
          </a:ln>
        </p:spPr>
      </p:pic>
      <p:sp>
        <p:nvSpPr>
          <p:cNvPr id="364" name="Заголовок 1"/>
          <p:cNvSpPr/>
          <p:nvPr/>
        </p:nvSpPr>
        <p:spPr>
          <a:xfrm>
            <a:off x="250920" y="3284640"/>
            <a:ext cx="8373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аборчик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показать верхние и нижние зубы. Удерживать под счет до 5-10.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Содержимое 6"/>
          <p:cNvSpPr/>
          <p:nvPr/>
        </p:nvSpPr>
        <p:spPr>
          <a:xfrm>
            <a:off x="324000" y="3500280"/>
            <a:ext cx="82296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ы ровно мы смык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 заборчик получаем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сейчас раздвинем губы 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считаем наши зу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Рисунок 5" descr=""/>
          <p:cNvPicPr/>
          <p:nvPr/>
        </p:nvPicPr>
        <p:blipFill>
          <a:blip r:embed="rId3"/>
          <a:stretch/>
        </p:blipFill>
        <p:spPr>
          <a:xfrm>
            <a:off x="3059280" y="3573360"/>
            <a:ext cx="2136600" cy="2016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http://dar-baby.ru/images/igry%20s%20detmi/2_zaborchik.jpg"/>
          <p:cNvPicPr/>
          <p:nvPr/>
        </p:nvPicPr>
        <p:blipFill>
          <a:blip r:embed="rId4"/>
          <a:stretch/>
        </p:blipFill>
        <p:spPr>
          <a:xfrm>
            <a:off x="5435640" y="3573360"/>
            <a:ext cx="20890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08668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Хоботок» -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тянуть сомкнутые губы вперед трубочкой. Удерживать в таком положении под счет до 5-10. 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 гости к нам пришел слоненок,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дивительный ребенок.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 слоненка посмотри,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Губки хоботком тяни.</a:t>
            </a:r>
            <a:br>
              <a:rPr sz="3200"/>
            </a:br>
            <a:br>
              <a:rPr sz="3200"/>
            </a:b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9" name="Содержимое 8" descr="__38644"/>
          <p:cNvPicPr/>
          <p:nvPr/>
        </p:nvPicPr>
        <p:blipFill>
          <a:blip r:embed="rId1"/>
          <a:stretch/>
        </p:blipFill>
        <p:spPr>
          <a:xfrm>
            <a:off x="3780000" y="620640"/>
            <a:ext cx="3960720" cy="2192400"/>
          </a:xfrm>
          <a:prstGeom prst="rect">
            <a:avLst/>
          </a:prstGeom>
          <a:ln w="0">
            <a:noFill/>
          </a:ln>
        </p:spPr>
      </p:pic>
      <p:sp>
        <p:nvSpPr>
          <p:cNvPr id="370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275A4-AA8F-4EDF-9DE8-A4032FEB266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Заголовок 1"/>
          <p:cNvSpPr/>
          <p:nvPr/>
        </p:nvSpPr>
        <p:spPr>
          <a:xfrm>
            <a:off x="395280" y="2637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Бублик» - 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ить упражнение «Хоботок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атем округлить губы так, чтобы были видны зубы в положении «Забор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держивать в таком положении на счет до пяти. 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Рисунок 11" descr="Картинки по запросу картинки артикуляционное упражнение Бублик"/>
          <p:cNvPicPr/>
          <p:nvPr/>
        </p:nvPicPr>
        <p:blipFill>
          <a:blip r:embed="rId2"/>
          <a:stretch/>
        </p:blipFill>
        <p:spPr>
          <a:xfrm>
            <a:off x="2340000" y="3573360"/>
            <a:ext cx="396072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407B6-3FB7-4E40-BF80-93534F902820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2516400" cy="280836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"/>
          <p:cNvSpPr/>
          <p:nvPr/>
        </p:nvSpPr>
        <p:spPr>
          <a:xfrm>
            <a:off x="539640" y="657360"/>
            <a:ext cx="79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голочка» -рот открыть. Узкий напряженный язык выдвинуть вперед.</a:t>
            </a: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Картинки по запросу &quot;иголочка артикуляционная гимнастика&quot;"/>
          <p:cNvPicPr/>
          <p:nvPr/>
        </p:nvPicPr>
        <p:blipFill>
          <a:blip r:embed="rId2"/>
          <a:srcRect l="7500" t="68917" r="54115" b="0"/>
          <a:stretch/>
        </p:blipFill>
        <p:spPr>
          <a:xfrm>
            <a:off x="539640" y="2492280"/>
            <a:ext cx="2548080" cy="15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920" y="237600"/>
            <a:ext cx="8494560" cy="8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Парус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, поднять язык вверх, поставить его за верхние зубы, крепко прижать. Удерживать под счет до 5-10.</a:t>
            </a:r>
            <a:br>
              <a:rPr sz="1600"/>
            </a:b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50920" y="91908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Лодочка под парусом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 реке плывёт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 прогулку лодочка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Малышей зовёт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FF2CB-D533-47B9-8B99-09FCB763A81C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Рисунок 8" descr="Артикуляционная гимнастика"/>
          <p:cNvPicPr/>
          <p:nvPr/>
        </p:nvPicPr>
        <p:blipFill>
          <a:blip r:embed="rId1"/>
          <a:stretch/>
        </p:blipFill>
        <p:spPr>
          <a:xfrm>
            <a:off x="4067280" y="549360"/>
            <a:ext cx="3384360" cy="23749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"/>
          <p:cNvSpPr/>
          <p:nvPr/>
        </p:nvSpPr>
        <p:spPr>
          <a:xfrm>
            <a:off x="250920" y="300384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Лопаточка» или «Блинчик»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приоткрыть рот, положить передний широкий край языка на нижнюю губу. Удерживать в таком положении под счет от  1 до 5- 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250920" y="3776760"/>
            <a:ext cx="298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тром рано мы встае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кусные блины печ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учейком по сковород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есто растекается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смотри, какой красив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линчик получает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Рисунок 12" descr="__64059"/>
          <p:cNvPicPr/>
          <p:nvPr/>
        </p:nvPicPr>
        <p:blipFill>
          <a:blip r:embed="rId2"/>
          <a:stretch/>
        </p:blipFill>
        <p:spPr>
          <a:xfrm>
            <a:off x="4211640" y="3789360"/>
            <a:ext cx="37450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47404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Чашечка» - 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з положения «Лопаточка» поднять  язычок вверх, загибая боковые края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ледить, чтобы кончик языка не загибался вглубь рта, чтобы язык не лежал на нижней губе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а боковые края находились у верхних зубов. Удерживать под счет до 10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50920" y="1063440"/>
            <a:ext cx="8229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удешь пить с друзьями чай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из  чашки новой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у чашку показать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сейчас пробуй!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D9FD2-C43F-49B9-AC21-1060597D800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6" descr="__45202"/>
          <p:cNvPicPr/>
          <p:nvPr/>
        </p:nvPicPr>
        <p:blipFill>
          <a:blip r:embed="rId1"/>
          <a:stretch/>
        </p:blipFill>
        <p:spPr>
          <a:xfrm>
            <a:off x="3851280" y="1052640"/>
            <a:ext cx="3457440" cy="2089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"/>
          <p:cNvSpPr/>
          <p:nvPr/>
        </p:nvSpPr>
        <p:spPr>
          <a:xfrm>
            <a:off x="250920" y="3112560"/>
            <a:ext cx="794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Грибок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приоткрыть рот, присосать язык к небу и, не отпуская языка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до стараться открывать рот все шире и дольше удерживать язык в верхнем положе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250920" y="3795120"/>
            <a:ext cx="843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д высокою сосн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Мы грибок нашли с тоб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тобы рос боровичок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дними вверх языч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Рисунок 10" descr="__93357"/>
          <p:cNvPicPr/>
          <p:nvPr/>
        </p:nvPicPr>
        <p:blipFill>
          <a:blip r:embed="rId2"/>
          <a:stretch/>
        </p:blipFill>
        <p:spPr>
          <a:xfrm>
            <a:off x="3924360" y="3789360"/>
            <a:ext cx="32400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560" y="1042560"/>
            <a:ext cx="856908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44068"/>
                </a:solidFill>
                <a:uFillTx/>
                <a:latin typeface="Times New Roman"/>
                <a:ea typeface="Times New Roman"/>
              </a:rPr>
              <a:t>Динамические упражнения: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50560" y="1773000"/>
            <a:ext cx="432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"Месим тесто"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 пошлепать языком между губами — "пя-пя-пя-пя-пя..."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кусать кончик языка зубками (чередовать эти два движения)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EF1FB-5CD4-4433-AFC0-A8520276544B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Рисунок 7" descr="__20549"/>
          <p:cNvPicPr/>
          <p:nvPr/>
        </p:nvPicPr>
        <p:blipFill>
          <a:blip r:embed="rId1"/>
          <a:stretch/>
        </p:blipFill>
        <p:spPr>
          <a:xfrm>
            <a:off x="4716360" y="1197000"/>
            <a:ext cx="3527640" cy="21607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"/>
          <p:cNvSpPr/>
          <p:nvPr/>
        </p:nvSpPr>
        <p:spPr>
          <a:xfrm>
            <a:off x="250920" y="3506760"/>
            <a:ext cx="41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Вкусное варенье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легка приоткрыть рот и широким передним краем языка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близать верхнюю губу, делая движения языком сверху вниз,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но не из стороны в сторон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7" descr="__42884"/>
          <p:cNvPicPr/>
          <p:nvPr/>
        </p:nvPicPr>
        <p:blipFill>
          <a:blip r:embed="rId2"/>
          <a:stretch/>
        </p:blipFill>
        <p:spPr>
          <a:xfrm>
            <a:off x="4356000" y="3645000"/>
            <a:ext cx="4302360" cy="26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98636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ачели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приоткрыть рот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ложить широкий язык за нижние зубы 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том поднять широкий язык за верхние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ы тоже с внутренней стороны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ак поочередно менять положение языка 4-6 раз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95280" y="1628280"/>
            <a:ext cx="446400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аня и Никита сели на веселые качели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пустились вниз качели, а потом наверх  взлетели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месте с птицами, наверно, улететь они  хотели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54234-48B4-459B-878B-E734286B66EF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Рисунок 6" descr="__10048"/>
          <p:cNvPicPr/>
          <p:nvPr/>
        </p:nvPicPr>
        <p:blipFill>
          <a:blip r:embed="rId1"/>
          <a:stretch/>
        </p:blipFill>
        <p:spPr>
          <a:xfrm>
            <a:off x="5003640" y="549360"/>
            <a:ext cx="3672000" cy="20876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"/>
          <p:cNvSpPr/>
          <p:nvPr/>
        </p:nvSpPr>
        <p:spPr>
          <a:xfrm>
            <a:off x="336960" y="2713320"/>
            <a:ext cx="6819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Часики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Кончик языка переводить на счет «раз-два» из одного уголка  рта в другой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ижняя челюсть остается при этом неподвижной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ить 5 раз по 10 движ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395280" y="393804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Ходит мятник в час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лево - тик, а вправо – та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сумеешь сделать та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ик и так, тик и та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Рисунок 10" descr="__14970"/>
          <p:cNvPicPr/>
          <p:nvPr/>
        </p:nvPicPr>
        <p:blipFill>
          <a:blip r:embed="rId2"/>
          <a:stretch/>
        </p:blipFill>
        <p:spPr>
          <a:xfrm>
            <a:off x="5148360" y="3716280"/>
            <a:ext cx="32400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66073-75DD-49F4-ACF3-41FB17011F99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" descr="Картинки по запросу &quot;улыбка трубочка артикуляционная гимнастика&quot;"/>
          <p:cNvPicPr/>
          <p:nvPr/>
        </p:nvPicPr>
        <p:blipFill>
          <a:blip r:embed="rId1"/>
          <a:stretch/>
        </p:blipFill>
        <p:spPr>
          <a:xfrm>
            <a:off x="1258920" y="476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D29CB-9899-4524-A0DD-E68378817630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4" descr="Картинки по запросу &quot;лопатка иголка артикуляционная гимнастика&quot;"/>
          <p:cNvPicPr/>
          <p:nvPr/>
        </p:nvPicPr>
        <p:blipFill>
          <a:blip r:embed="rId1"/>
          <a:srcRect l="0" t="0" r="52100" b="23005"/>
          <a:stretch/>
        </p:blipFill>
        <p:spPr>
          <a:xfrm>
            <a:off x="2484360" y="1414440"/>
            <a:ext cx="3962520" cy="47768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2"/>
          <p:cNvSpPr/>
          <p:nvPr/>
        </p:nvSpPr>
        <p:spPr>
          <a:xfrm>
            <a:off x="3087720" y="693360"/>
            <a:ext cx="25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Лопатка-иг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6200" y="806400"/>
            <a:ext cx="75438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6200" y="1736640"/>
            <a:ext cx="82090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и благоприятных условиях воспитания усвоение звуковой системы языка происходит к 4-5 годам: правильное звукопроизношение, становление интонационной стороны речи, умение передать интонации вопроса, просьбы, восклицания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о в речи многих детей 4-5 года жизни отмечаются  речевые нарушения: дошкольники неверно произносят шипящие (ш, ж, ч, щ), сонорные (р, рь, л, ль), некоторые звуки пропускают, искажают… Требует совершенствования и интонационная сторона речи, необходима работа над развитием артикуляционного аппарата ребёнка и над формированием таких элементов звуковой культуры, как темп, дикция, сила голоса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 формировании произношения, в уточнении артикуляции звуков, в вызывании их по подражанию и в постановке – огромную роль играет артикуляционная гимнастика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1FC4E-9D0F-4FBD-85AE-EFCF77FA3676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473440" cy="20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Индюк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иоткрыть рот, положить язык на верхнюю губу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оизводить движения передним краем языка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 верхней губе вперед-назад, стараясь не отрывать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к от губы, как бы поглаживая ее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начала производить медленные движения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том убыстрять темп и добавить голос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ка не послышатся звуки «бл-бл»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920" y="22046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 - индюк « балды-балда»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азбегайтесь кто  куд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EF83B-DC9D-41D0-8220-8BAFD9FCBB50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Рисунок 6" descr="__66342"/>
          <p:cNvPicPr/>
          <p:nvPr/>
        </p:nvPicPr>
        <p:blipFill>
          <a:blip r:embed="rId1"/>
          <a:stretch/>
        </p:blipFill>
        <p:spPr>
          <a:xfrm>
            <a:off x="5003640" y="476280"/>
            <a:ext cx="3768840" cy="21607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"/>
          <p:cNvSpPr/>
          <p:nvPr/>
        </p:nvSpPr>
        <p:spPr>
          <a:xfrm>
            <a:off x="250920" y="2805480"/>
            <a:ext cx="6389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Дятел».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Рот широко открыт и слегка растянут в улыбке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чок в форме «чашечки» поднят вверх: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оковые края языка прижаты к верхним коренным зубкам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передний край  языка поднят за верхние передние зубы к альвеолам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ебёнок говорит с придыханием Д-Д-Д или Т-Т-Т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к «прыгает на бугорках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324000" y="4367520"/>
            <a:ext cx="801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Дятел на суку сидит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Дятел дерево долби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Рисунок 10" descr="__55763"/>
          <p:cNvPicPr/>
          <p:nvPr/>
        </p:nvPicPr>
        <p:blipFill>
          <a:blip r:embed="rId2"/>
          <a:stretch/>
        </p:blipFill>
        <p:spPr>
          <a:xfrm>
            <a:off x="5364000" y="3786120"/>
            <a:ext cx="331164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283680"/>
            <a:ext cx="578808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Чистим зубки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иоткрыть рот и кончиком языка «почистить»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ижние зубы с внутренней стороны, делая движение языком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из стороны в сторону.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иоткрыть рот и кончиком языка «почистить» верхние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ы с внутренней стороны, делая движение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ком из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тороны в сторону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25160" y="2316240"/>
            <a:ext cx="22050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Мягкой щеткою с утра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истит зубки детвор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удут зубки сильные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елые, красивые!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8C564-47E9-47A7-8066-36E26B8A0C56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Рисунок 6" descr="__19318"/>
          <p:cNvPicPr/>
          <p:nvPr/>
        </p:nvPicPr>
        <p:blipFill>
          <a:blip r:embed="rId1"/>
          <a:stretch/>
        </p:blipFill>
        <p:spPr>
          <a:xfrm>
            <a:off x="5076720" y="907920"/>
            <a:ext cx="3571920" cy="22338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3"/>
          <p:cNvSpPr/>
          <p:nvPr/>
        </p:nvSpPr>
        <p:spPr>
          <a:xfrm>
            <a:off x="324000" y="3500640"/>
            <a:ext cx="5567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Маляр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гладить кончиком язы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вердое небо, делая движение языко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перед-наза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ить 3-4 раз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338760" y="4847760"/>
            <a:ext cx="279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ctr" pos="3456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тал язычок твой маляро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8720"/>
                <a:tab algn="ctr" pos="3456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н будет красить старый до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8720"/>
                <a:tab algn="ctr" pos="3456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перед-назад, вперед-назад…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емонту каждый будет ра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Рисунок 11" descr="__12415"/>
          <p:cNvPicPr/>
          <p:nvPr/>
        </p:nvPicPr>
        <p:blipFill>
          <a:blip r:embed="rId2"/>
          <a:stretch/>
        </p:blipFill>
        <p:spPr>
          <a:xfrm>
            <a:off x="4356000" y="3357720"/>
            <a:ext cx="343692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343080"/>
            <a:ext cx="4835520" cy="8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Расческа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закусить язык зубами и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отаскивать язык между зубами вперёд-назад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ак бы причёсывая его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50920" y="400536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 – весёлая лошадк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ёмная, как шоколадк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чком пощелкай громко –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вук копыт услышишь звонкий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B2AC1-68A4-4F77-8121-2EAD64CFFF1C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Рисунок 6" descr="__14324"/>
          <p:cNvPicPr/>
          <p:nvPr/>
        </p:nvPicPr>
        <p:blipFill>
          <a:blip r:embed="rId1"/>
          <a:stretch/>
        </p:blipFill>
        <p:spPr>
          <a:xfrm>
            <a:off x="4788000" y="476280"/>
            <a:ext cx="3666960" cy="20890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"/>
          <p:cNvSpPr/>
          <p:nvPr/>
        </p:nvSpPr>
        <p:spPr>
          <a:xfrm>
            <a:off x="250920" y="2714760"/>
            <a:ext cx="6064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Лошадка» - 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днять язык вверх, присосать к верхнему нёбу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нчик языка. Щёлкать языком. Челюсть неподвижна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широкий язык за верхними зубами и не подворачивается внутрь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ять 5-6 ра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Рисунок 10" descr="лошадка.jpg"/>
          <p:cNvPicPr/>
          <p:nvPr/>
        </p:nvPicPr>
        <p:blipFill>
          <a:blip r:embed="rId2"/>
          <a:stretch/>
        </p:blipFill>
        <p:spPr>
          <a:xfrm>
            <a:off x="5796000" y="3932280"/>
            <a:ext cx="2881440" cy="237816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11" descr="image014.jpg"/>
          <p:cNvPicPr/>
          <p:nvPr/>
        </p:nvPicPr>
        <p:blipFill>
          <a:blip r:embed="rId3"/>
          <a:stretch/>
        </p:blipFill>
        <p:spPr>
          <a:xfrm>
            <a:off x="3780000" y="4005360"/>
            <a:ext cx="180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447040" cy="13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Футбол».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от закрыть, кончик языка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 напряжением  упирать то в одну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о в другую щёку так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тобы под щекой надувались «мячики».</a:t>
            </a:r>
            <a:br>
              <a:rPr sz="1600"/>
            </a:b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1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F3337-1F26-469F-8297-681740A0E5B7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Рисунок 6" descr="__12787"/>
          <p:cNvPicPr/>
          <p:nvPr/>
        </p:nvPicPr>
        <p:blipFill>
          <a:blip r:embed="rId1"/>
          <a:stretch/>
        </p:blipFill>
        <p:spPr>
          <a:xfrm>
            <a:off x="4716360" y="333360"/>
            <a:ext cx="3487680" cy="218268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"/>
          <p:cNvSpPr/>
          <p:nvPr/>
        </p:nvSpPr>
        <p:spPr>
          <a:xfrm>
            <a:off x="252000" y="2453400"/>
            <a:ext cx="3656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Ежик».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Рот закрыт. Язык движется 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нутренней стороны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лавно очерчивая кончиком языка круг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( правая щека- под верхней губой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левая щека- под нижней губой)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атем язык двигается в обратно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правлении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ак "нарисовать" по 5- 6 кругов в одн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 другую сторо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Рисунок 8" descr="__28864"/>
          <p:cNvPicPr/>
          <p:nvPr/>
        </p:nvPicPr>
        <p:blipFill>
          <a:blip r:embed="rId2"/>
          <a:stretch/>
        </p:blipFill>
        <p:spPr>
          <a:xfrm>
            <a:off x="3995640" y="2781360"/>
            <a:ext cx="46069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24000" y="260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Кошечка»</a:t>
            </a: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нчиком языка упереться в нижние зубы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 счет «раз»- выгнуть язык горкой,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пираясь кончиком языка в нижние зубы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 счет «два» вернуться в исходное положение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нчик языка при этом не должен отрываться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т нижних зубов, рот не закрывается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1D769-F6FA-477B-8746-C9F87402EA4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7" descr="__12539"/>
          <p:cNvPicPr/>
          <p:nvPr/>
        </p:nvPicPr>
        <p:blipFill>
          <a:blip r:embed="rId1"/>
          <a:stretch/>
        </p:blipFill>
        <p:spPr>
          <a:xfrm>
            <a:off x="4643280" y="333360"/>
            <a:ext cx="4019760" cy="255600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оугольник 9"/>
          <p:cNvSpPr/>
          <p:nvPr/>
        </p:nvSpPr>
        <p:spPr>
          <a:xfrm>
            <a:off x="324000" y="306864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арабанщики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» . Улыбнуться, открыть рот и постучать кончиком языка за верхними зубами, звонко, отчётливо и многократно повторяя «Дд-д» (при горловом Р используем «Т-т-т» ).  Темп убыстряется постепенно. Нижняя челюсть неподвижна (удерживать рукой), между зубами расстояние приблизительно два пальца ребёнк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Рисунок 10" descr="1707493ade70.jpg"/>
          <p:cNvPicPr/>
          <p:nvPr/>
        </p:nvPicPr>
        <p:blipFill>
          <a:blip r:embed="rId2"/>
          <a:stretch/>
        </p:blipFill>
        <p:spPr>
          <a:xfrm>
            <a:off x="4788000" y="3141720"/>
            <a:ext cx="40957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A299A-D300-4DA0-AC5E-C8DAD87427D6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2" descr="Картинки по запросу &quot;упражнение фокус логопед&quot;"/>
          <p:cNvPicPr/>
          <p:nvPr/>
        </p:nvPicPr>
        <p:blipFill>
          <a:blip r:embed="rId1"/>
          <a:stretch/>
        </p:blipFill>
        <p:spPr>
          <a:xfrm>
            <a:off x="966960" y="725400"/>
            <a:ext cx="7210080" cy="5407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6D6EC-F75F-4611-A58F-84FD5C7CAA2A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900000" y="50148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Игра "Звук тебе я не скажу, по секрету покажу. Ты его угадай и скорее называй"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узнавание гласных звуков по артикуляции, тренировка вним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2" descr="Фотография"/>
          <p:cNvPicPr/>
          <p:nvPr/>
        </p:nvPicPr>
        <p:blipFill>
          <a:blip r:embed="rId1"/>
          <a:srcRect l="0" t="0" r="0" b="2959"/>
          <a:stretch/>
        </p:blipFill>
        <p:spPr>
          <a:xfrm>
            <a:off x="2843280" y="1773360"/>
            <a:ext cx="3095640" cy="4437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18C27-C79E-4C7E-9EB8-D7BF5022F761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2124000" y="981000"/>
            <a:ext cx="45720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- мы песенку запели (бегемот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- уселись на качели (качел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- на лошади скакали (лошад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тыре - поболтали (индюк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- по зубкам постучали (барабанщ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 - мы в часики играли (часи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 - лакали словно кошка (лакает кошеч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емь - спела нам гармошка (гармош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ь - сделали грибок. (грибо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 - ротик на зам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6"/>
          <p:cNvSpPr/>
          <p:nvPr/>
        </p:nvSpPr>
        <p:spPr>
          <a:xfrm>
            <a:off x="457200" y="260280"/>
            <a:ext cx="81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Дети любят играть, и когда мы объединяем отдельные упражнения в сюжет, в сказку, и они сами становятся активными участниками этой сказ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казка о веселом язычке с элементами биоэнергопластики </a:t>
            </a:r>
            <a:br>
              <a:rPr sz="8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(сочетание артикуляционной и мелкой моторики).</a:t>
            </a: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1341360"/>
            <a:ext cx="857880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(Пальцы переплетены между собой), улыбнулся Язычок (упр. "улыбка")</a:t>
            </a:r>
            <a:r>
              <a:rPr b="0" lang="ru-RU" sz="1400" spc="-1" strike="noStrike">
                <a:solidFill>
                  <a:srgbClr val="404040"/>
                </a:solidFill>
                <a:latin typeface="Arial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 пошел дальше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28976-C579-4A61-9F70-AF797BE87D4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Рисунок 88" descr="__28864"/>
          <p:cNvPicPr/>
          <p:nvPr/>
        </p:nvPicPr>
        <p:blipFill>
          <a:blip r:embed="rId1"/>
          <a:stretch/>
        </p:blipFill>
        <p:spPr>
          <a:xfrm>
            <a:off x="3132000" y="1844640"/>
            <a:ext cx="863640" cy="51588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9" descr="11.jpg"/>
          <p:cNvPicPr/>
          <p:nvPr/>
        </p:nvPicPr>
        <p:blipFill>
          <a:blip r:embed="rId2"/>
          <a:stretch/>
        </p:blipFill>
        <p:spPr>
          <a:xfrm>
            <a:off x="5867280" y="2133720"/>
            <a:ext cx="714600" cy="54288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1"/>
          <p:cNvSpPr/>
          <p:nvPr/>
        </p:nvSpPr>
        <p:spPr>
          <a:xfrm>
            <a:off x="250920" y="596160"/>
            <a:ext cx="8461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олнечным утром проснулся Язычок, потянулся ("потянуть ладони вверх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глянул в окно (упр. " окошко").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ъел на завтрак 5 бли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(загибать пальцы по одному) и решил отправиться на  прогулк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12"/>
          <p:cNvSpPr/>
          <p:nvPr/>
        </p:nvSpPr>
        <p:spPr>
          <a:xfrm>
            <a:off x="250920" y="1702080"/>
            <a:ext cx="806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мотрит, возле дерева Ежик сиди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13"/>
          <p:cNvSpPr/>
          <p:nvPr/>
        </p:nvSpPr>
        <p:spPr>
          <a:xfrm>
            <a:off x="4479840" y="27115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216000" y="2710080"/>
            <a:ext cx="89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дет, идет  и видит  под кустом зайчик (показать 2 пальцами ушки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грает на барабане (упр. "барабанщик"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250920" y="335952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есело стало Язычку,  достал он свою дудочку (имитация пальцами игры на дудочке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16"/>
          <p:cNvSpPr/>
          <p:nvPr/>
        </p:nvSpPr>
        <p:spPr>
          <a:xfrm>
            <a:off x="250920" y="3647160"/>
            <a:ext cx="695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з кармана и стал подыгрывать зайц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тправился язычок дальше (имитация ходьбы 2-мя пальцами по столу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мотрит на поляне стоит лошадка и захотелось язычку покататься (упр. "лошадка"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250920" y="4477680"/>
            <a:ext cx="907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друг услышал язычок,  кто-то мяукает. Посмотрел по сторонам (повороты головы влево - вправо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это котено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18"/>
          <p:cNvSpPr/>
          <p:nvPr/>
        </p:nvSpPr>
        <p:spPr>
          <a:xfrm>
            <a:off x="250920" y="5020560"/>
            <a:ext cx="8642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гладил его Язычок (плавные движения ладонью сверху вниз). И так он ему понравился, что взял Язычок котенка себе домой. Дома Язычок налил котёнку полную миску молока (ладони  сложили  как мисочку. А себе молоко налил в чашечку (упр. "чашечка").                   Вот и вечер наступил, стал язычок зевать (рот открывать и закрывать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тирать глаза (кулачками слегка потереть закрытые глаза), почистил зубы (упр. "почистим зубы") и улегся спа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2" descr="http://images.myshared.ru/7/814535/slide_5.jpg"/>
          <p:cNvPicPr/>
          <p:nvPr/>
        </p:nvPicPr>
        <p:blipFill>
          <a:blip r:embed="rId3"/>
          <a:stretch/>
        </p:blipFill>
        <p:spPr>
          <a:xfrm>
            <a:off x="3059280" y="907920"/>
            <a:ext cx="433080" cy="4255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2" descr="http://images.myshared.ru/7/814535/slide_5.jpg"/>
          <p:cNvPicPr/>
          <p:nvPr/>
        </p:nvPicPr>
        <p:blipFill>
          <a:blip r:embed="rId4"/>
          <a:stretch/>
        </p:blipFill>
        <p:spPr>
          <a:xfrm>
            <a:off x="3564000" y="907920"/>
            <a:ext cx="438120" cy="433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__64059"/>
          <p:cNvPicPr/>
          <p:nvPr/>
        </p:nvPicPr>
        <p:blipFill>
          <a:blip r:embed="rId5"/>
          <a:stretch/>
        </p:blipFill>
        <p:spPr>
          <a:xfrm>
            <a:off x="2340000" y="1341360"/>
            <a:ext cx="936720" cy="43200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26" descr="1707493ade70.jpg"/>
          <p:cNvPicPr/>
          <p:nvPr/>
        </p:nvPicPr>
        <p:blipFill>
          <a:blip r:embed="rId6"/>
          <a:stretch/>
        </p:blipFill>
        <p:spPr>
          <a:xfrm>
            <a:off x="5508720" y="2781360"/>
            <a:ext cx="896760" cy="488880"/>
          </a:xfrm>
          <a:prstGeom prst="rect">
            <a:avLst/>
          </a:prstGeom>
          <a:ln w="0">
            <a:noFill/>
          </a:ln>
        </p:spPr>
      </p:pic>
      <p:pic>
        <p:nvPicPr>
          <p:cNvPr id="465" name="Рисунок 27" descr="image.jpg"/>
          <p:cNvPicPr/>
          <p:nvPr/>
        </p:nvPicPr>
        <p:blipFill>
          <a:blip r:embed="rId7"/>
          <a:stretch/>
        </p:blipFill>
        <p:spPr>
          <a:xfrm>
            <a:off x="6875640" y="3284640"/>
            <a:ext cx="504720" cy="627120"/>
          </a:xfrm>
          <a:prstGeom prst="rect">
            <a:avLst/>
          </a:prstGeom>
          <a:ln w="0">
            <a:noFill/>
          </a:ln>
        </p:spPr>
      </p:pic>
      <p:pic>
        <p:nvPicPr>
          <p:cNvPr id="466" name="Рисунок 28" descr="лошадка.jpg"/>
          <p:cNvPicPr/>
          <p:nvPr/>
        </p:nvPicPr>
        <p:blipFill>
          <a:blip r:embed="rId8"/>
          <a:stretch/>
        </p:blipFill>
        <p:spPr>
          <a:xfrm>
            <a:off x="6948360" y="4005360"/>
            <a:ext cx="863640" cy="5745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__12539"/>
          <p:cNvPicPr/>
          <p:nvPr/>
        </p:nvPicPr>
        <p:blipFill>
          <a:blip r:embed="rId9"/>
          <a:stretch/>
        </p:blipFill>
        <p:spPr>
          <a:xfrm>
            <a:off x="1403280" y="4724280"/>
            <a:ext cx="647640" cy="412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__45202"/>
          <p:cNvPicPr/>
          <p:nvPr/>
        </p:nvPicPr>
        <p:blipFill>
          <a:blip r:embed="rId10"/>
          <a:stretch/>
        </p:blipFill>
        <p:spPr>
          <a:xfrm>
            <a:off x="3564000" y="5516640"/>
            <a:ext cx="758880" cy="415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2" descr="http://images.myshared.ru/7/814535/slide_5.jpg"/>
          <p:cNvPicPr/>
          <p:nvPr/>
        </p:nvPicPr>
        <p:blipFill>
          <a:blip r:embed="rId11"/>
          <a:stretch/>
        </p:blipFill>
        <p:spPr>
          <a:xfrm>
            <a:off x="1332000" y="5732640"/>
            <a:ext cx="431640" cy="425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2" descr="http://images.myshared.ru/7/814535/slide_5.jpg"/>
          <p:cNvPicPr/>
          <p:nvPr/>
        </p:nvPicPr>
        <p:blipFill>
          <a:blip r:embed="rId12"/>
          <a:stretch/>
        </p:blipFill>
        <p:spPr>
          <a:xfrm>
            <a:off x="1692360" y="5732640"/>
            <a:ext cx="436320" cy="433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__19318"/>
          <p:cNvPicPr/>
          <p:nvPr/>
        </p:nvPicPr>
        <p:blipFill>
          <a:blip r:embed="rId13"/>
          <a:stretch/>
        </p:blipFill>
        <p:spPr>
          <a:xfrm>
            <a:off x="900000" y="6381720"/>
            <a:ext cx="546120" cy="3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69228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 CYR"/>
                <a:ea typeface="Times New Roman"/>
              </a:rPr>
              <a:t>Своевременное овладение правильной, чистой речью имеет  огромное значение для формирования полноценной личности. Человек с хорошо развитой речью легко вступает в общение, он может понятно выражать свои мысли и желания, задавать вопросы, договариваться о совместной деятельности. И наоборот, неясная речь весьма затрудняет взаимоотношения с окружающими и нередко накладывает тяжёлый отпечаток на характер человека. Правильная, хорошо развитая речь является одним из основных показателей готовности ребёнка к успешному обучению  в школе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 CYR"/>
                <a:ea typeface="Times New Roman"/>
              </a:rPr>
              <a:t>Одним из условий нормального становления звукопроизношения является полноценная работа артикуляционного аппарата.  А  хорошая  подвижность  органов  артикуляционного  аппарата достигается  ежедневным выполнением  артикуляционной  гимнастики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79C8F-3C9A-40DF-AD8F-10704A605E5A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Рисунок 2" descr=""/>
          <p:cNvPicPr/>
          <p:nvPr/>
        </p:nvPicPr>
        <p:blipFill>
          <a:blip r:embed="rId1"/>
          <a:stretch/>
        </p:blipFill>
        <p:spPr>
          <a:xfrm>
            <a:off x="179280" y="5300640"/>
            <a:ext cx="71694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то такое артикуляционная гимнастика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50560" y="2037960"/>
            <a:ext cx="84358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РТИКУЛЯЦИОННАЯ ГИМНАСТИКА </a:t>
            </a: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–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о совокупность особых  упражнений, способствующих укреплению мышц артикуляционного аппарата,  развитию силы, подвижности и дифференцированности движений органов,   участвующих в речевом процессе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BAACA-54EB-4CB1-8144-162FF19842AD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Цель:</a:t>
            </a:r>
            <a:br>
              <a:rPr sz="2500"/>
            </a:br>
            <a:r>
              <a:rPr b="0" lang="ru-RU" sz="25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Обучение педагогов выполнению артикуляционных упражнений.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836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1.Уточнить с педагогами название органов артикуляции (рот, верхние и нижние губы, верхние и нижние зубы, язык, кончик языка, нёбо, бугорки за верхними зубами)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2. Обучить основным движениям артикуляционного  аппарата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3. Закрепить правильное выполнение артикуляционных упражнений</a:t>
            </a:r>
            <a:r>
              <a:rPr b="0" lang="ru-RU" sz="2000" spc="-1" strike="noStrike">
                <a:solidFill>
                  <a:srgbClr val="344068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5D682-2471-486C-8977-1E97E6A65991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казания для  занятий артикуляционной гимнастикой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0332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. Некоторые дети благодаря своевременному началу занятий артикуляционной гимнастикой и упражнениям по развитию речевого слуха сами могут научиться говорить чисто и правильно, без помощи специалист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2. Дети со сложными нарушениями звукопроизношения смогут быстрее преодолеть свои речевые дефекты, когда с ними начнёт заниматься логопед: их мышцы будут уже подготовлены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3. Артикуляционная гимнастика очень полезна детям с правильным, но вялым звукопроизношением, про которых говорят, что у них «каша во рту». Надо помнить, что чёткое произношение звуков является  основой при обучении письму на начальном этап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4. Занятия артикуляционной гимнастикой позволят всем – и детям и взрослым – научится говорить правильно, чётко и красиво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BF5D4-CB75-4D88-B9B1-98D7023C7C5B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400" y="399960"/>
            <a:ext cx="909468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ребования к проведению артикуляционной гимнастики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82760" y="178884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РТИКУЛЯЦИОННАЯ ГИМНАСТИКА проводится ежедневно по 3-5 минут  несколько раз в день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РТИКУЛЯЦИОННАЯ ГИМНАСТИКА выполняется сидя  перед зеркалом с  обязательным соблюдением правильной осанки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еобходимо добиваться четкого, точного, плавного выполнения движений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начале АРТИКУЛЯЦИОННАЯ ГИМНАСТИКА выполняется медленно, неторопливо, но постепенно, по мере овладения ими, темп гимнастики  увеличивается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мплекс АРТИКУЛЯЦИОННОЙГИМНАСТИКИ неуклонно усложняется и расширяется за счет новых упражнений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аждое упражнение выполняется от 5до20 раз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личество повторений возрастает по мере совершенствования артикуляционной моторики параллельно с увеличением темпа движений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яется АРТИКУЛЯЦИОННАЯ ГИМНАСТИКА под счет или под музыку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яется АРТИКУЛЯЦИОННАЯ ГИМНАСТИКА как индивидуально, так и со всей группой или небольшими подгруппами</a:t>
            </a: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47417-767B-4306-9BBA-CAA6A1BFB4B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рганы артикуляции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8360" y="909720"/>
            <a:ext cx="864072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нание частей лица человека необходимо для знакомства ребенка с органами артикуляции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о знание можно закрепить в играх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гра “Сказочка-указочка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зрослый читает стихотворение и вместе с ребенком показывает части лица и артикуляционные органы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е устала ты пок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кажи, моя рука: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о — правая </a:t>
            </a: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щек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о — левая щек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сильна, а не слаб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дравствуй, </a:t>
            </a: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ерхняя губа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дравствуй,</a:t>
            </a: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нижняя губ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не меньше мне люба! </a:t>
            </a:r>
            <a:br>
              <a:rPr sz="1600"/>
            </a:b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AC107-372F-4C73-8AC8-C1A8ABFC1202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Рисунок 7" descr="10955685_73264nothumb650.jpg"/>
          <p:cNvPicPr/>
          <p:nvPr/>
        </p:nvPicPr>
        <p:blipFill>
          <a:blip r:embed="rId1"/>
          <a:stretch/>
        </p:blipFill>
        <p:spPr>
          <a:xfrm>
            <a:off x="3276720" y="2133720"/>
            <a:ext cx="2158920" cy="2087280"/>
          </a:xfrm>
          <a:prstGeom prst="rect">
            <a:avLst/>
          </a:prstGeom>
          <a:ln w="0">
            <a:noFill/>
          </a:ln>
        </p:spPr>
      </p:pic>
      <p:pic>
        <p:nvPicPr>
          <p:cNvPr id="336" name="Содержимое 9" descr="10955701_94742nothumb650.jpg"/>
          <p:cNvPicPr/>
          <p:nvPr/>
        </p:nvPicPr>
        <p:blipFill>
          <a:blip r:embed="rId2"/>
          <a:stretch/>
        </p:blipFill>
        <p:spPr>
          <a:xfrm>
            <a:off x="3203640" y="4653000"/>
            <a:ext cx="2376360" cy="10796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9" descr="10955706_27691nothumb650.jpg"/>
          <p:cNvPicPr/>
          <p:nvPr/>
        </p:nvPicPr>
        <p:blipFill>
          <a:blip r:embed="rId3"/>
          <a:stretch/>
        </p:blipFill>
        <p:spPr>
          <a:xfrm>
            <a:off x="6156360" y="4581360"/>
            <a:ext cx="2160720" cy="11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Есть у губ одна черта —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 них улыбка заперта: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право —</a:t>
            </a: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правый угол рта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,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лево — </a:t>
            </a: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левый угол рта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дбородок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тянем вниз,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тобы с челюстью отвис.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ам — к прогулкам не привык —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обко прячется язык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77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4BC1B-491A-4F51-B740-1135E3CC5F0A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Рисунок 6" descr="10955754_38072nothumb650.jpg"/>
          <p:cNvPicPr/>
          <p:nvPr/>
        </p:nvPicPr>
        <p:blipFill>
          <a:blip r:embed="rId1"/>
          <a:stretch/>
        </p:blipFill>
        <p:spPr>
          <a:xfrm>
            <a:off x="3780000" y="333360"/>
            <a:ext cx="1296720" cy="147492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7" descr="10955760_39973nothumb650.jpg"/>
          <p:cNvPicPr/>
          <p:nvPr/>
        </p:nvPicPr>
        <p:blipFill>
          <a:blip r:embed="rId2"/>
          <a:stretch/>
        </p:blipFill>
        <p:spPr>
          <a:xfrm>
            <a:off x="6012000" y="333360"/>
            <a:ext cx="1512720" cy="154620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6" descr="10955777_91980nothumb650.jpg"/>
          <p:cNvPicPr/>
          <p:nvPr/>
        </p:nvPicPr>
        <p:blipFill>
          <a:blip r:embed="rId3"/>
          <a:stretch/>
        </p:blipFill>
        <p:spPr>
          <a:xfrm>
            <a:off x="3635280" y="2133720"/>
            <a:ext cx="2232000" cy="165564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0"/>
          <p:cNvSpPr/>
          <p:nvPr/>
        </p:nvSpPr>
        <p:spPr>
          <a:xfrm>
            <a:off x="476640" y="38606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вокруг-то — целый ряд</a:t>
            </a:r>
            <a:br>
              <a:rPr sz="1800"/>
            </a:br>
            <a:r>
              <a:rPr b="1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ки нижние</a:t>
            </a: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стоят: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оковые слева, справа,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переди — зубов опра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Содержимое 7" descr="10955792_60010nothumb650.jpg"/>
          <p:cNvPicPr/>
          <p:nvPr/>
        </p:nvPicPr>
        <p:blipFill>
          <a:blip r:embed="rId4"/>
          <a:stretch/>
        </p:blipFill>
        <p:spPr>
          <a:xfrm>
            <a:off x="3708360" y="4149720"/>
            <a:ext cx="1800360" cy="140004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2" descr="10955814_35914nothumb650.jpg"/>
          <p:cNvPicPr/>
          <p:nvPr/>
        </p:nvPicPr>
        <p:blipFill>
          <a:blip r:embed="rId5"/>
          <a:stretch/>
        </p:blipFill>
        <p:spPr>
          <a:xfrm>
            <a:off x="5796000" y="4149720"/>
            <a:ext cx="17287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ёбо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вместо потолка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Есть во рту у языка.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когда открылся рот,</a:t>
            </a:r>
            <a:br>
              <a:rPr sz="1600"/>
            </a:b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чок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пошёл вперёд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8" name="Содержимое 8" descr="10955833_80077nothumb650.jpg"/>
          <p:cNvPicPr/>
          <p:nvPr/>
        </p:nvPicPr>
        <p:blipFill>
          <a:blip r:embed="rId1"/>
          <a:stretch/>
        </p:blipFill>
        <p:spPr>
          <a:xfrm>
            <a:off x="2987640" y="333360"/>
            <a:ext cx="1513080" cy="1442880"/>
          </a:xfrm>
          <a:prstGeom prst="rect">
            <a:avLst/>
          </a:prstGeom>
          <a:ln w="0">
            <a:noFill/>
          </a:ln>
        </p:spPr>
      </p:pic>
      <p:sp>
        <p:nvSpPr>
          <p:cNvPr id="349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58AD1-A7FE-4C7F-97D5-5DE987EFAA88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Рисунок 9" descr="10955841_44134nothumb650.jpg"/>
          <p:cNvPicPr/>
          <p:nvPr/>
        </p:nvPicPr>
        <p:blipFill>
          <a:blip r:embed="rId2"/>
          <a:stretch/>
        </p:blipFill>
        <p:spPr>
          <a:xfrm>
            <a:off x="4788000" y="404640"/>
            <a:ext cx="1368360" cy="12891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0" descr="10955849_52107nothumb650.jpg"/>
          <p:cNvPicPr/>
          <p:nvPr/>
        </p:nvPicPr>
        <p:blipFill>
          <a:blip r:embed="rId3"/>
          <a:stretch/>
        </p:blipFill>
        <p:spPr>
          <a:xfrm>
            <a:off x="6659640" y="549360"/>
            <a:ext cx="1249200" cy="1233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1"/>
          <p:cNvSpPr/>
          <p:nvPr/>
        </p:nvSpPr>
        <p:spPr>
          <a:xfrm>
            <a:off x="332280" y="263700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нтересная картинка: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Есть и кончик, есть и спинка,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оковые есть края —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сё про ротик знаю 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Содержимое 7" descr="10955863_28519nothumb650.jpg"/>
          <p:cNvPicPr/>
          <p:nvPr/>
        </p:nvPicPr>
        <p:blipFill>
          <a:blip r:embed="rId4"/>
          <a:stretch/>
        </p:blipFill>
        <p:spPr>
          <a:xfrm>
            <a:off x="3564000" y="3068640"/>
            <a:ext cx="1584360" cy="168912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3" descr="10955872_29669nothumb650.jpg"/>
          <p:cNvPicPr/>
          <p:nvPr/>
        </p:nvPicPr>
        <p:blipFill>
          <a:blip r:embed="rId5"/>
          <a:stretch/>
        </p:blipFill>
        <p:spPr>
          <a:xfrm>
            <a:off x="5292720" y="2997360"/>
            <a:ext cx="1366920" cy="17827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14" descr="10955875_44492nothumb650.jpg"/>
          <p:cNvPicPr/>
          <p:nvPr/>
        </p:nvPicPr>
        <p:blipFill>
          <a:blip r:embed="rId6"/>
          <a:stretch/>
        </p:blipFill>
        <p:spPr>
          <a:xfrm>
            <a:off x="6804000" y="2924280"/>
            <a:ext cx="1584360" cy="179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9:22:17Z</dcterms:created>
  <dc:creator>Александр</dc:creator>
  <dc:description>http://aida.ucoz.ru</dc:description>
  <dc:language>en-US</dc:language>
  <cp:lastModifiedBy>User</cp:lastModifiedBy>
  <dcterms:modified xsi:type="dcterms:W3CDTF">2024-01-25T13:41:54Z</dcterms:modified>
  <cp:revision>85</cp:revision>
  <dc:subject/>
  <dc:title>Тема проекта:  «Коррекция нарушений звукопроизношения у детей с речевой патологией»</dc:title>
</cp:coreProperties>
</file>