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0.jpeg" ContentType="image/jpeg"/>
  <Override PartName="/ppt/media/image52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56.jpeg" ContentType="image/jpe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61.jpeg" ContentType="image/jpeg"/>
  <Override PartName="/ppt/media/image59.png" ContentType="image/png"/>
  <Override PartName="/ppt/media/image24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9.png" ContentType="image/png"/>
  <Override PartName="/ppt/media/image1.jpeg" ContentType="image/jpeg"/>
  <Override PartName="/ppt/media/image2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8B8A5-A1AC-404D-B9F3-6E2A148DCF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CA64A-2740-4A4B-8E61-5EE46C672D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83A-9964-4C2E-8690-DE859CF1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0D1-AA1E-4A30-AAC1-B48FB2C0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DF0-A8FD-4313-8EF6-05C3DC1D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521-04DC-4A24-AF89-6450C1EB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5FA9-2317-44FD-9322-BE7FCF4C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CA8B-809D-4BA3-9BF9-F674DDA4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58FC-CD60-45D5-B38F-1ED064C4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40C5-BE79-4705-BE8A-F5A8281F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30C2-6203-4FD6-96C0-5D0030A8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2563-A812-4EB4-816D-4C9DDBB9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6136-7474-4434-A066-6FF3750D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7AC-2C46-4321-8CBF-FADB83CB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59E0-95FC-4126-8364-F2E4329C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39B0-EC2F-4EE8-BF77-6AA1A8A7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5113-9213-42F0-B15A-D6B6FC7C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1F87-4FC9-49BF-8155-179AEC68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DE54-F61E-4BE7-BEDA-38C540C4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F5E7-4D22-4DAB-8B30-DB24B0A5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318B-40B9-476A-9F34-BB4A9681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C917-D8C6-40BB-89E8-31C841E2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5CDA-CCC6-409E-9659-B3BDD0CE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999E-2D67-4A3C-854E-91BA34E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B60-7B21-44CD-9296-831C4439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C6F6-AF8D-4AF6-ABCF-47A4C52D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68B4-EF9B-4977-B2D3-6EE2D48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642F-D1F9-420F-8C40-C26C8202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2336-D585-43B8-8821-282E4864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8E35-776A-4B1C-AD03-D94284FA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543D-4B74-4010-8675-F14D23DA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88EF5-211D-4922-9CFA-51A5B042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CDAA-7429-4955-9159-D7B18A08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2F88-9EC6-4EEE-A3CC-54BCCA9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097A-7BE2-43C8-8367-AB4CE07F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37C-7F2F-4B36-B357-99F2565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1859-BB64-4059-93F7-281FC65A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834B-3C4A-4DCE-B075-E6BA822F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D071F-1A34-402E-98C5-8E4BD5A8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251B6-9749-4EC1-B6C9-000BE42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F1A0-3135-439A-9C63-F2F317F3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DAA6-3FC1-4800-A9B4-5D24D60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3145-1D95-4C04-8EE3-5874B7E6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ADFAE-E7E8-4868-B76B-39356582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A92D-0D10-44CA-A0BA-F8594105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ADFAD-8485-4F80-95B8-6386C624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6E5-F8CF-48D2-AC6D-FA4216CE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957C-3D93-4F61-B77F-C2E95F7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CB531-5421-4025-BB91-64DDC609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D7A0-ABA6-47A6-865D-FCDF3603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C48D5-2B1C-4725-B0E4-DAB7FE8E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70C6-1F39-45C0-86D7-3C88B863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4DA6-691A-4EC3-9B32-BF41528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6FFED-9F83-4511-891A-2AFE01F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A5B6-A8B1-4EFB-80F1-C5C22A5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B653-C4EE-47B2-9639-1BB56B65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7B82-E4EF-4AF8-8220-E2444034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B96-CDF0-4857-8DBA-18B7ED66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71E61-F7E9-492C-905A-F6CE4CAB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539CE-3415-4334-AB40-20CAD314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F5FE1-2E0F-4294-A5E3-7CFAE581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A308-F6DF-4444-BF29-774B8682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FD01-B842-4111-A46C-46415FB0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AAFA7-A29F-4863-9F04-22BC7F9F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9825B-03A2-44E4-8029-F833F84C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472DF-5391-4B5A-85EA-64759611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ADB2C-5B88-4597-8AD5-A9B8B54E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B567-2C72-448E-A154-CE822AB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E9A-5A6A-4388-95E8-27533A5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7E66C-6B5C-46E9-90E7-F4FCD963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88CC-A044-406F-98C9-E0805F48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0953B-D3A1-4706-A2BF-142ED6CA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D539-C430-438A-AABF-A5F0CC57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5572C-2B96-4906-B844-34C0172A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D8127-2A61-4BCF-A744-434A8A4D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7BBAB-95DD-45B1-9EA7-BDAE4A0D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DCA51-A84E-4FAC-B9FE-E7D75882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59CA8-7F64-49F0-B721-B1408FE3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76103-CA8B-43FD-A502-F2549098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C04-A5D4-45A7-ABC7-B18C202C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85AA3-097C-4548-B5FF-D328133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D5205-2B7C-4224-BDCE-2B55DA1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DE43-5EDC-4657-BB96-DFE580F9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5CE47-E93D-416B-85D2-6E70A9BB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B9A58-638D-41C2-B56A-542A23AF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622-C4EC-447A-A667-E92B949F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8DABB-005B-4E99-9B89-5AFF4706C06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82ED0-2006-4238-9618-F2B804FE3D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EF680-A153-4E3B-A6A2-39B25863FE6E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3345D-DC53-438E-8BEF-553ECD10A5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104D6-BB81-4F68-ABCA-8DD87346841C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4D64A-5FEB-471B-A050-7A91AA4C8A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30FB2-FE4F-46A4-95D4-6A4BCDB80322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E9B31-3DC0-4001-9F05-3B3E62D72B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9F0C0-FF91-495E-AA86-9BC2F98A94D0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6EE13-845A-42EB-83F2-36FA85235F47}" type="slidenum">
              <a:rPr b="0" lang="ru-RU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07385-7ED8-4A36-96C0-5B6F08649FCA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11CE2-2516-4702-B4E2-93078A6A4D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7B2B3-B999-4141-9750-DFFD55FEBB8A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6A818-1A2A-4C04-B347-40F7D6071A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1.png"/><Relationship Id="rId12" Type="http://schemas.openxmlformats.org/officeDocument/2006/relationships/image" Target="../media/image59.png"/><Relationship Id="rId13" Type="http://schemas.openxmlformats.org/officeDocument/2006/relationships/image" Target="../media/image60.jpe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C3AD5-260B-4E4E-81DF-74C0779EE685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Заголовок 1"/>
          <p:cNvSpPr/>
          <p:nvPr/>
        </p:nvSpPr>
        <p:spPr>
          <a:xfrm>
            <a:off x="1495440" y="861840"/>
            <a:ext cx="795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еминар-практикум для воспитателе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одзаголовок 2"/>
          <p:cNvSpPr/>
          <p:nvPr/>
        </p:nvSpPr>
        <p:spPr>
          <a:xfrm>
            <a:off x="-108000" y="1738440"/>
            <a:ext cx="92170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Артикуляционная гимнастика - эффективное средство формирования правильного звукопроизношения у детей дошкольного возраста</a:t>
            </a:r>
            <a:r>
              <a:rPr b="1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4406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5803920" y="556560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учитель-логопед  Седнева М. 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Рисунок 3" descr=""/>
          <p:cNvPicPr/>
          <p:nvPr/>
        </p:nvPicPr>
        <p:blipFill>
          <a:blip r:embed="rId2"/>
          <a:stretch/>
        </p:blipFill>
        <p:spPr>
          <a:xfrm>
            <a:off x="3340080" y="2924280"/>
            <a:ext cx="2463840" cy="314784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6" descr=""/>
          <p:cNvPicPr/>
          <p:nvPr/>
        </p:nvPicPr>
        <p:blipFill>
          <a:blip r:embed="rId3"/>
          <a:stretch/>
        </p:blipFill>
        <p:spPr>
          <a:xfrm>
            <a:off x="69840" y="5013360"/>
            <a:ext cx="28512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иды артикуляционной гимнастики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ую гимнастику можно условно разделить на: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ктивную, когда ребенок полностью самостоятельно выполняет все упражнения;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ассивную, когда выполнять правильно движения ребенку помогает взрослый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ли ребенок не может самостоятельно правильно выполнить нужное движение органами артикуляционного аппарата, ему следует помочь. Сделать это можно шпателем, чистым пальцем или ложечкой, подправив нужным образом губы или язык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иды артикуляционных упражнений: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атические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инамические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атические упражнения – предполагают замирание губ или языка в определенном положении на 10 – 15 секунд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динамических упражнениях заданиях движение осуществляется на протяжении всего времени выполнения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55C38-B7F2-47A2-B058-DF299314B339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344068"/>
                </a:solidFill>
                <a:uFillTx/>
                <a:latin typeface="Times New Roman"/>
                <a:ea typeface="Times New Roman"/>
              </a:rPr>
              <a:t>Статические  упражнения:</a:t>
            </a:r>
            <a:br>
              <a:rPr sz="3200"/>
            </a:br>
            <a:endParaRPr b="0" lang="en-US" sz="25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4000" y="76500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кошко"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широко открыть рот — "жарко", закрыть рот — "холодно"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от приоткрою я немножко,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губы сделаю окошком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рядышком стоят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в окошечко глядят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11BE2-2D3A-4CA3-AA68-B68992A08DF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12" descr="http://images.myshared.ru/7/814535/slide_5.jpg"/>
          <p:cNvPicPr/>
          <p:nvPr/>
        </p:nvPicPr>
        <p:blipFill>
          <a:blip r:embed="rId1"/>
          <a:stretch/>
        </p:blipFill>
        <p:spPr>
          <a:xfrm>
            <a:off x="2916360" y="1141560"/>
            <a:ext cx="2160360" cy="2125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http://images.myshared.ru/7/814535/slide_5.jpg"/>
          <p:cNvPicPr/>
          <p:nvPr/>
        </p:nvPicPr>
        <p:blipFill>
          <a:blip r:embed="rId2"/>
          <a:stretch/>
        </p:blipFill>
        <p:spPr>
          <a:xfrm>
            <a:off x="4932360" y="1197000"/>
            <a:ext cx="2016000" cy="1990800"/>
          </a:xfrm>
          <a:prstGeom prst="rect">
            <a:avLst/>
          </a:prstGeom>
          <a:ln w="0">
            <a:noFill/>
          </a:ln>
        </p:spPr>
      </p:pic>
      <p:sp>
        <p:nvSpPr>
          <p:cNvPr id="364" name="Заголовок 1"/>
          <p:cNvSpPr/>
          <p:nvPr/>
        </p:nvSpPr>
        <p:spPr>
          <a:xfrm>
            <a:off x="250920" y="3284640"/>
            <a:ext cx="8373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борчик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оказать верхние и нижние зубы. Удерживать под счет до 5-10.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Содержимое 6"/>
          <p:cNvSpPr/>
          <p:nvPr/>
        </p:nvSpPr>
        <p:spPr>
          <a:xfrm>
            <a:off x="324000" y="3500280"/>
            <a:ext cx="82296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ровно мы смык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заборчик получаем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сейчас раздвинем губы 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считаем наши зу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Рисунок 5" descr=""/>
          <p:cNvPicPr/>
          <p:nvPr/>
        </p:nvPicPr>
        <p:blipFill>
          <a:blip r:embed="rId3"/>
          <a:stretch/>
        </p:blipFill>
        <p:spPr>
          <a:xfrm>
            <a:off x="3059280" y="3573360"/>
            <a:ext cx="2136600" cy="2016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dar-baby.ru/images/igry%20s%20detmi/2_zaborchik.jpg"/>
          <p:cNvPicPr/>
          <p:nvPr/>
        </p:nvPicPr>
        <p:blipFill>
          <a:blip r:embed="rId4"/>
          <a:stretch/>
        </p:blipFill>
        <p:spPr>
          <a:xfrm>
            <a:off x="5435640" y="3573360"/>
            <a:ext cx="20890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08668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Хоботок» -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тянуть сомкнутые губы вперед трубочкой. Удерживать в таком положении под счет до 5-10. 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гости к нам пришел слоненок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дивительный ребенок.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слоненка посмотри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Губки хоботком тяни.</a:t>
            </a:r>
            <a:br>
              <a:rPr sz="3200"/>
            </a:br>
            <a:br>
              <a:rPr sz="3200"/>
            </a:b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9" name="Содержимое 8" descr="__38644"/>
          <p:cNvPicPr/>
          <p:nvPr/>
        </p:nvPicPr>
        <p:blipFill>
          <a:blip r:embed="rId1"/>
          <a:stretch/>
        </p:blipFill>
        <p:spPr>
          <a:xfrm>
            <a:off x="3780000" y="620640"/>
            <a:ext cx="3960720" cy="2192400"/>
          </a:xfrm>
          <a:prstGeom prst="rect">
            <a:avLst/>
          </a:prstGeom>
          <a:ln w="0">
            <a:noFill/>
          </a:ln>
        </p:spPr>
      </p:pic>
      <p:sp>
        <p:nvSpPr>
          <p:cNvPr id="370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B1659-CC7A-4215-BF60-CFFA54B11F9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Заголовок 1"/>
          <p:cNvSpPr/>
          <p:nvPr/>
        </p:nvSpPr>
        <p:spPr>
          <a:xfrm>
            <a:off x="395280" y="2637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Бублик» - 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ить упражнение «Хоботок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тем округлить губы так, чтобы были видны зубы в положении «Забор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держивать в таком положении на счет до пяти. 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Рисунок 11" descr="Картинки по запросу картинки артикуляционное упражнение Бублик"/>
          <p:cNvPicPr/>
          <p:nvPr/>
        </p:nvPicPr>
        <p:blipFill>
          <a:blip r:embed="rId2"/>
          <a:stretch/>
        </p:blipFill>
        <p:spPr>
          <a:xfrm>
            <a:off x="2340000" y="3573360"/>
            <a:ext cx="396072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CD6F5-0C69-4E78-876E-7F52084DA31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2516400" cy="280836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539640" y="657360"/>
            <a:ext cx="79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голочка» -рот открыть. Узкий напряженный язык выдвинуть вперед.</a:t>
            </a: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Картинки по запросу &quot;иголочка артикуляционная гимнастика&quot;"/>
          <p:cNvPicPr/>
          <p:nvPr/>
        </p:nvPicPr>
        <p:blipFill>
          <a:blip r:embed="rId2"/>
          <a:srcRect l="7500" t="68917" r="54115" b="0"/>
          <a:stretch/>
        </p:blipFill>
        <p:spPr>
          <a:xfrm>
            <a:off x="539640" y="2492280"/>
            <a:ext cx="2548080" cy="15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237600"/>
            <a:ext cx="849456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Парус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, поднять язык вверх, поставить его за верхние зубы, крепко прижать. Удерживать под счет до 5-10.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50920" y="91908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одочка под парусом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 реке плывёт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прогулку лодочка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Малышей зовёт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C7E90-9541-47C7-B45D-6BF6FE61D68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Рисунок 8" descr="Артикуляционная гимнастика"/>
          <p:cNvPicPr/>
          <p:nvPr/>
        </p:nvPicPr>
        <p:blipFill>
          <a:blip r:embed="rId1"/>
          <a:stretch/>
        </p:blipFill>
        <p:spPr>
          <a:xfrm>
            <a:off x="4067280" y="549360"/>
            <a:ext cx="3384360" cy="23749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"/>
          <p:cNvSpPr/>
          <p:nvPr/>
        </p:nvSpPr>
        <p:spPr>
          <a:xfrm>
            <a:off x="250920" y="300384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Лопаточка» или «Блинчик»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риоткрыть рот, положить передний широкий край языка на нижнюю губу. Удерживать в таком положении под счет от  1 до 5- 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250920" y="3776760"/>
            <a:ext cx="298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тром рано мы встае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кусные блины печ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учейком по сковород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есто растекаетс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смотри, какой красив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линчик получает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12" descr="__64059"/>
          <p:cNvPicPr/>
          <p:nvPr/>
        </p:nvPicPr>
        <p:blipFill>
          <a:blip r:embed="rId2"/>
          <a:stretch/>
        </p:blipFill>
        <p:spPr>
          <a:xfrm>
            <a:off x="4211640" y="3789360"/>
            <a:ext cx="37450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47404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Чашечка» - 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з положения «Лопаточка» поднять  язычок вверх, загибая боковые края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ледить, чтобы кончик языка не загибался вглубь рта, чтобы язык не лежал на нижней губе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а боковые края находились у верхних зубов. Удерживать под счет до 10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0920" y="1063440"/>
            <a:ext cx="8229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удешь пить с друзьями чай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из  чашки новой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у чашку показать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сейчас пробуй!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896EF-6CBC-43B8-B1ED-34FE941DBA2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6" descr="__45202"/>
          <p:cNvPicPr/>
          <p:nvPr/>
        </p:nvPicPr>
        <p:blipFill>
          <a:blip r:embed="rId1"/>
          <a:stretch/>
        </p:blipFill>
        <p:spPr>
          <a:xfrm>
            <a:off x="3851280" y="1052640"/>
            <a:ext cx="3457440" cy="2089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"/>
          <p:cNvSpPr/>
          <p:nvPr/>
        </p:nvSpPr>
        <p:spPr>
          <a:xfrm>
            <a:off x="250920" y="3112560"/>
            <a:ext cx="794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Грибок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риоткрыть рот, присосать язык к небу и, не отпуская языка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до стараться открывать рот все шире и дольше удерживать язык в верхнем полож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250920" y="3795120"/>
            <a:ext cx="843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 высокою сос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Мы грибок нашли с тоб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бы рос боровичо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ними вверх языч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Рисунок 10" descr="__93357"/>
          <p:cNvPicPr/>
          <p:nvPr/>
        </p:nvPicPr>
        <p:blipFill>
          <a:blip r:embed="rId2"/>
          <a:stretch/>
        </p:blipFill>
        <p:spPr>
          <a:xfrm>
            <a:off x="3924360" y="3789360"/>
            <a:ext cx="3240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560" y="1042560"/>
            <a:ext cx="856908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44068"/>
                </a:solidFill>
                <a:uFillTx/>
                <a:latin typeface="Times New Roman"/>
                <a:ea typeface="Times New Roman"/>
              </a:rPr>
              <a:t>Динамические упражнения: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0560" y="1773000"/>
            <a:ext cx="432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"Месим тесто"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 пошлепать языком между губами — "пя-пя-пя-пя-пя..."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усать кончик языка зубками (чередовать эти два движения)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8EB9C-E50C-4125-9B4E-EF61C6E7DCB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Рисунок 7" descr="__20549"/>
          <p:cNvPicPr/>
          <p:nvPr/>
        </p:nvPicPr>
        <p:blipFill>
          <a:blip r:embed="rId1"/>
          <a:stretch/>
        </p:blipFill>
        <p:spPr>
          <a:xfrm>
            <a:off x="4716360" y="1197000"/>
            <a:ext cx="3527640" cy="21607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"/>
          <p:cNvSpPr/>
          <p:nvPr/>
        </p:nvSpPr>
        <p:spPr>
          <a:xfrm>
            <a:off x="250920" y="350676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Вкусное варенье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легка приоткрыть рот и широким передним краем языка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близать верхнюю губу, делая движения языком сверху вниз,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но не из стороны в сторон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7" descr="__42884"/>
          <p:cNvPicPr/>
          <p:nvPr/>
        </p:nvPicPr>
        <p:blipFill>
          <a:blip r:embed="rId2"/>
          <a:stretch/>
        </p:blipFill>
        <p:spPr>
          <a:xfrm>
            <a:off x="4356000" y="3645000"/>
            <a:ext cx="4302360" cy="26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98636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ачели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риоткрыть рот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ложить широкий язык за нижние зубы 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том поднять широкий язык за верхние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тоже с внутренней стороны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к поочередно менять положение языка 4-6 раз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95280" y="1628280"/>
            <a:ext cx="446400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ня и Никита сели на веселые качели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пустились вниз качели, а потом наверх  взлетел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месте с птицами, наверно, улететь они  хотел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77928-EE97-4C14-BC74-511DFC5FEF83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Рисунок 6" descr="__10048"/>
          <p:cNvPicPr/>
          <p:nvPr/>
        </p:nvPicPr>
        <p:blipFill>
          <a:blip r:embed="rId1"/>
          <a:stretch/>
        </p:blipFill>
        <p:spPr>
          <a:xfrm>
            <a:off x="5003640" y="549360"/>
            <a:ext cx="3672000" cy="20876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"/>
          <p:cNvSpPr/>
          <p:nvPr/>
        </p:nvSpPr>
        <p:spPr>
          <a:xfrm>
            <a:off x="336960" y="2713320"/>
            <a:ext cx="6819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Часики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Кончик языка переводить на счет «раз-два» из одного уголка  рта в другой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ижняя челюсть остается при этом неподвижной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ить 5 раз по 10 движ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395280" y="393804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Ходит мятник в час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лево - тик, а вправо – та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сумеешь сделать та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ик и так, тик и та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10" descr="__14970"/>
          <p:cNvPicPr/>
          <p:nvPr/>
        </p:nvPicPr>
        <p:blipFill>
          <a:blip r:embed="rId2"/>
          <a:stretch/>
        </p:blipFill>
        <p:spPr>
          <a:xfrm>
            <a:off x="5148360" y="3716280"/>
            <a:ext cx="32400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20FAA-B74D-4BCF-A433-4436C8F85F8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Картинки по запросу &quot;улыбка трубочка артикуляционная гимнастика&quot;"/>
          <p:cNvPicPr/>
          <p:nvPr/>
        </p:nvPicPr>
        <p:blipFill>
          <a:blip r:embed="rId1"/>
          <a:stretch/>
        </p:blipFill>
        <p:spPr>
          <a:xfrm>
            <a:off x="1258920" y="476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BE933-529F-41D6-B6D5-2153263F83E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4" descr="Картинки по запросу &quot;лопатка иголка артикуляционная гимнастика&quot;"/>
          <p:cNvPicPr/>
          <p:nvPr/>
        </p:nvPicPr>
        <p:blipFill>
          <a:blip r:embed="rId1"/>
          <a:srcRect l="0" t="0" r="52100" b="23005"/>
          <a:stretch/>
        </p:blipFill>
        <p:spPr>
          <a:xfrm>
            <a:off x="2484360" y="1414440"/>
            <a:ext cx="3962520" cy="47768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2"/>
          <p:cNvSpPr/>
          <p:nvPr/>
        </p:nvSpPr>
        <p:spPr>
          <a:xfrm>
            <a:off x="3087720" y="693360"/>
            <a:ext cx="25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опатка-иг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6200" y="806400"/>
            <a:ext cx="75438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6200" y="1736640"/>
            <a:ext cx="82090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 благоприятных условиях воспитания усвоение звуковой системы языка происходит к 4-5 годам: правильное звукопроизношение, становление интонационной стороны речи, умение передать интонации вопроса, просьбы, восклицания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о в речи многих детей 4-5 года жизни отмечаются  речевые нарушения: дошкольники неверно произносят шипящие (ш, ж, ч, щ), сонорные (р, рь, л, ль), некоторые звуки пропускают, искажают… Требует совершенствования и интонационная сторона речи, необходима работа над развитием артикуляционного аппарата ребёнка и над формированием таких элементов звуковой культуры, как темп, дикция, сила голоса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формировании произношения, в уточнении артикуляции звуков, в вызывании их по подражанию и в постановке – огромную роль играет артикуляционная гимнасти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3BD70-105E-44CB-B29D-05C72850EE0B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473440" cy="20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Индюк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открыть рот, положить язык на верхнюю губу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оизводить движения передним краем языка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 верхней губе вперед-назад, стараясь не отрывать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к от губы, как бы поглаживая ее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начала производить медленные движения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том убыстрять темп и добавить голос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а не послышатся звуки «бл-бл»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920" y="22046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 - индюк « балды-балда»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азбегайтесь кто  куд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B49FD-250B-46F9-A4DC-CB4F9DF405C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Рисунок 6" descr="__66342"/>
          <p:cNvPicPr/>
          <p:nvPr/>
        </p:nvPicPr>
        <p:blipFill>
          <a:blip r:embed="rId1"/>
          <a:stretch/>
        </p:blipFill>
        <p:spPr>
          <a:xfrm>
            <a:off x="5003640" y="476280"/>
            <a:ext cx="3768840" cy="21607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"/>
          <p:cNvSpPr/>
          <p:nvPr/>
        </p:nvSpPr>
        <p:spPr>
          <a:xfrm>
            <a:off x="250920" y="2805480"/>
            <a:ext cx="6389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Дятел».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Рот широко открыт и слегка растянут в улыбке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чок в форме «чашечки» поднят вверх: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оковые края языка прижаты к верхним коренным зубкам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передний край  языка поднят за верхние передние зубы к альвеолам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ебёнок говорит с придыханием Д-Д-Д или Т-Т-Т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к «прыгает на бугорках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324000" y="4367520"/>
            <a:ext cx="801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ятел на суку сидит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ятел дерево долби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Рисунок 10" descr="__55763"/>
          <p:cNvPicPr/>
          <p:nvPr/>
        </p:nvPicPr>
        <p:blipFill>
          <a:blip r:embed="rId2"/>
          <a:stretch/>
        </p:blipFill>
        <p:spPr>
          <a:xfrm>
            <a:off x="5364000" y="3786120"/>
            <a:ext cx="3311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283680"/>
            <a:ext cx="5788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Чистим зубки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открыть рот и кончиком языка «почистить»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ижние зубы с внутренней стороны, делая движение языком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из стороны в сторону.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открыть рот и кончиком языка «почистить» верхние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с внутренней стороны, делая движение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ком из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ороны в сторону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25160" y="2316240"/>
            <a:ext cx="22050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Мягкой щеткою с утра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истит зубки детвор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удут зубки сильные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елые, красивые!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D6F0C-4DF9-432C-BA3E-BF6119DF4AC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Рисунок 6" descr="__19318"/>
          <p:cNvPicPr/>
          <p:nvPr/>
        </p:nvPicPr>
        <p:blipFill>
          <a:blip r:embed="rId1"/>
          <a:stretch/>
        </p:blipFill>
        <p:spPr>
          <a:xfrm>
            <a:off x="5076720" y="907920"/>
            <a:ext cx="3571920" cy="22338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324000" y="3500640"/>
            <a:ext cx="5567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Маляр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гладить кончиком язы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вердое небо, делая движение язык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еред-наза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ить 3-4 ра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338760" y="4847760"/>
            <a:ext cx="279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ctr" pos="3456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ал язычок твой маляро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8720"/>
                <a:tab algn="ctr" pos="3456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н будет красить старый до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8720"/>
                <a:tab algn="ctr" pos="3456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еред-назад, вперед-назад…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емонту каждый будет ра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Рисунок 11" descr="__12415"/>
          <p:cNvPicPr/>
          <p:nvPr/>
        </p:nvPicPr>
        <p:blipFill>
          <a:blip r:embed="rId2"/>
          <a:stretch/>
        </p:blipFill>
        <p:spPr>
          <a:xfrm>
            <a:off x="4356000" y="3357720"/>
            <a:ext cx="34369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343080"/>
            <a:ext cx="483552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Расческа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закусить язык зубами и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отаскивать язык между зубами вперёд-назад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ак бы причёсывая его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50920" y="400536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 – весёлая лошадк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ёмная, как шоколадк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чком пощелкай громко –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вук копыт услышишь звонкий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6D86E-3295-49CE-B402-AC3222E59BD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Рисунок 6" descr="__14324"/>
          <p:cNvPicPr/>
          <p:nvPr/>
        </p:nvPicPr>
        <p:blipFill>
          <a:blip r:embed="rId1"/>
          <a:stretch/>
        </p:blipFill>
        <p:spPr>
          <a:xfrm>
            <a:off x="4788000" y="476280"/>
            <a:ext cx="3666960" cy="2089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"/>
          <p:cNvSpPr/>
          <p:nvPr/>
        </p:nvSpPr>
        <p:spPr>
          <a:xfrm>
            <a:off x="250920" y="2714760"/>
            <a:ext cx="6064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Лошадка» - 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нять язык вверх, присосать к верхнему нёбу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нчик языка. Щёлкать языком. Челюсть неподвижна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широкий язык за верхними зубами и не подворачивается внутрь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ять 5-6 ра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Рисунок 10" descr="лошадка.jpg"/>
          <p:cNvPicPr/>
          <p:nvPr/>
        </p:nvPicPr>
        <p:blipFill>
          <a:blip r:embed="rId2"/>
          <a:stretch/>
        </p:blipFill>
        <p:spPr>
          <a:xfrm>
            <a:off x="5796000" y="3932280"/>
            <a:ext cx="2881440" cy="237816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11" descr="image014.jpg"/>
          <p:cNvPicPr/>
          <p:nvPr/>
        </p:nvPicPr>
        <p:blipFill>
          <a:blip r:embed="rId3"/>
          <a:stretch/>
        </p:blipFill>
        <p:spPr>
          <a:xfrm>
            <a:off x="3780000" y="4005360"/>
            <a:ext cx="180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47040" cy="13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Футбол».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от закрыть, кончик языка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 напряжением  упирать то в одну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о в другую щёку так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бы под щекой надувались «мячики».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19C55-4FA2-42B4-9D92-D3767E65D195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Рисунок 6" descr="__12787"/>
          <p:cNvPicPr/>
          <p:nvPr/>
        </p:nvPicPr>
        <p:blipFill>
          <a:blip r:embed="rId1"/>
          <a:stretch/>
        </p:blipFill>
        <p:spPr>
          <a:xfrm>
            <a:off x="4716360" y="333360"/>
            <a:ext cx="3487680" cy="218268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"/>
          <p:cNvSpPr/>
          <p:nvPr/>
        </p:nvSpPr>
        <p:spPr>
          <a:xfrm>
            <a:off x="252000" y="2453400"/>
            <a:ext cx="3656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Ежик».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Рот закрыт. Язык движется 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нутренней стороны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лавно очерчивая кончиком языка круг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 правая щека- под верхней губо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евая щека- под нижней губой)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тем язык двигается в обратн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правлении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к "нарисовать" по 5- 6 кругов в одн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другую сторо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Рисунок 8" descr="__28864"/>
          <p:cNvPicPr/>
          <p:nvPr/>
        </p:nvPicPr>
        <p:blipFill>
          <a:blip r:embed="rId2"/>
          <a:stretch/>
        </p:blipFill>
        <p:spPr>
          <a:xfrm>
            <a:off x="3995640" y="2781360"/>
            <a:ext cx="46069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24000" y="26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Кошечка»</a:t>
            </a: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нчиком языка упереться в нижние зубы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счет «раз»- выгнуть язык горкой,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пираясь кончиком языка в нижние зубы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счет «два» вернуться в исходное положение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нчик языка при этом не должен отрываться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т нижних зубов, рот не закрывается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2DC91-D3A9-4A80-9CEF-785A7F0DA94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7" descr="__12539"/>
          <p:cNvPicPr/>
          <p:nvPr/>
        </p:nvPicPr>
        <p:blipFill>
          <a:blip r:embed="rId1"/>
          <a:stretch/>
        </p:blipFill>
        <p:spPr>
          <a:xfrm>
            <a:off x="4643280" y="333360"/>
            <a:ext cx="4019760" cy="255600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9"/>
          <p:cNvSpPr/>
          <p:nvPr/>
        </p:nvSpPr>
        <p:spPr>
          <a:xfrm>
            <a:off x="324000" y="306864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арабанщики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» . Улыбнуться, открыть рот и постучать кончиком языка за верхними зубами, звонко, отчётливо и многократно повторяя «Дд-д» (при горловом Р используем «Т-т-т» ).  Темп убыстряется постепенно. Нижняя челюсть неподвижна (удерживать рукой), между зубами расстояние приблизительно два пальца ребён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Рисунок 10" descr="1707493ade70.jpg"/>
          <p:cNvPicPr/>
          <p:nvPr/>
        </p:nvPicPr>
        <p:blipFill>
          <a:blip r:embed="rId2"/>
          <a:stretch/>
        </p:blipFill>
        <p:spPr>
          <a:xfrm>
            <a:off x="4788000" y="3141720"/>
            <a:ext cx="4095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869E3-304C-4F9B-9D28-254D44E53D93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2" descr="Картинки по запросу &quot;упражнение фокус логопед&quot;"/>
          <p:cNvPicPr/>
          <p:nvPr/>
        </p:nvPicPr>
        <p:blipFill>
          <a:blip r:embed="rId1"/>
          <a:stretch/>
        </p:blipFill>
        <p:spPr>
          <a:xfrm>
            <a:off x="966960" y="725400"/>
            <a:ext cx="7210080" cy="5407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437D0-2A32-40E9-BA86-7B89737266A3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900000" y="5014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Игра "Звук тебе я не скажу, по секрету покажу. Ты его угадай и скорее называй"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узнавание гласных звуков по артикуляции, тренировка вним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2" descr="Фотография"/>
          <p:cNvPicPr/>
          <p:nvPr/>
        </p:nvPicPr>
        <p:blipFill>
          <a:blip r:embed="rId1"/>
          <a:srcRect l="0" t="0" r="0" b="2959"/>
          <a:stretch/>
        </p:blipFill>
        <p:spPr>
          <a:xfrm>
            <a:off x="2843280" y="1773360"/>
            <a:ext cx="3095640" cy="4437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4537F-7C8F-43B3-A8C1-2403293D5DE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2124000" y="981000"/>
            <a:ext cx="4572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- мы песенку запели (бегемот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- уселись на качели (качел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- на лошади скакали (лошад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 - поболтали (индюк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- по зубкам постучали (барабанщ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- мы в часики играли (часи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 - лакали словно кошка (лакает кошеч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 - спела нам гармошка (гармош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 - сделали грибок. (грибо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- ротик на зам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6"/>
          <p:cNvSpPr/>
          <p:nvPr/>
        </p:nvSpPr>
        <p:spPr>
          <a:xfrm>
            <a:off x="457200" y="260280"/>
            <a:ext cx="81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ети любят играть, и когда мы объединяем отдельные упражнения в сюжет, в сказку, и они сами становятся активными участниками этой сказ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казка о веселом язычке с элементами биоэнергопластики </a:t>
            </a:r>
            <a:br>
              <a:rPr sz="8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сочетание артикуляционной и мелкой моторики).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1341360"/>
            <a:ext cx="857880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Пальцы переплетены между собой), улыбнулся Язычок (упр. "улыбка")</a:t>
            </a:r>
            <a:r>
              <a:rPr b="0" lang="ru-RU" sz="1400" spc="-1" strike="noStrike">
                <a:solidFill>
                  <a:srgbClr val="404040"/>
                </a:solidFill>
                <a:latin typeface="Arial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пошел дальше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7DABC-DE4F-4F8E-AF6B-4695299341B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Рисунок 88" descr="__28864"/>
          <p:cNvPicPr/>
          <p:nvPr/>
        </p:nvPicPr>
        <p:blipFill>
          <a:blip r:embed="rId1"/>
          <a:stretch/>
        </p:blipFill>
        <p:spPr>
          <a:xfrm>
            <a:off x="3132000" y="1844640"/>
            <a:ext cx="863640" cy="51588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9" descr="11.jpg"/>
          <p:cNvPicPr/>
          <p:nvPr/>
        </p:nvPicPr>
        <p:blipFill>
          <a:blip r:embed="rId2"/>
          <a:stretch/>
        </p:blipFill>
        <p:spPr>
          <a:xfrm>
            <a:off x="5867280" y="2133720"/>
            <a:ext cx="714600" cy="5428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1"/>
          <p:cNvSpPr/>
          <p:nvPr/>
        </p:nvSpPr>
        <p:spPr>
          <a:xfrm>
            <a:off x="250920" y="596160"/>
            <a:ext cx="8461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олнечным утром проснулся Язычок, потянулся ("потянуть ладони вверх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глянул в окно (упр. " окошко").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ъел на завтрак 5 бли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загибать пальцы по одному) и решил отправиться на  прогулк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2"/>
          <p:cNvSpPr/>
          <p:nvPr/>
        </p:nvSpPr>
        <p:spPr>
          <a:xfrm>
            <a:off x="250920" y="1702080"/>
            <a:ext cx="806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мотрит, возле дерева Ежик сиди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13"/>
          <p:cNvSpPr/>
          <p:nvPr/>
        </p:nvSpPr>
        <p:spPr>
          <a:xfrm>
            <a:off x="4479840" y="27115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216000" y="2710080"/>
            <a:ext cx="89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дет, идет  и видит  под кустом зайчик (показать 2 пальцами ушки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грает на барабане (упр. "барабанщик"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250920" y="335952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есело стало Язычку,  достал он свою дудочку (имитация пальцами игры на дудочке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16"/>
          <p:cNvSpPr/>
          <p:nvPr/>
        </p:nvSpPr>
        <p:spPr>
          <a:xfrm>
            <a:off x="250920" y="3647160"/>
            <a:ext cx="695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з кармана и стал подыгрывать зайц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тправился язычок дальше (имитация ходьбы 2-мя пальцами по сто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мотрит на поляне стоит лошадка и захотелось язычку покататься (упр. "лошадка"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250920" y="4477680"/>
            <a:ext cx="907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друг услышал язычок,  кто-то мяукает. Посмотрел по сторонам (повороты головы влево - вправо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это котено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18"/>
          <p:cNvSpPr/>
          <p:nvPr/>
        </p:nvSpPr>
        <p:spPr>
          <a:xfrm>
            <a:off x="250920" y="5020560"/>
            <a:ext cx="864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гладил его Язычок (плавные движения ладонью сверху вниз). И так он ему понравился, что взял Язычок котенка себе домой. Дома Язычок налил котёнку полную миску молока (ладони  сложили  как мисочку. А себе молоко налил в чашечку (упр. "чашечка").                   Вот и вечер наступил, стал язычок зевать (рот открывать и закрывать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тирать глаза (кулачками слегка потереть закрытые глаза), почистил зубы (упр. "почистим зубы") и улегся спа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2" descr="http://images.myshared.ru/7/814535/slide_5.jpg"/>
          <p:cNvPicPr/>
          <p:nvPr/>
        </p:nvPicPr>
        <p:blipFill>
          <a:blip r:embed="rId3"/>
          <a:stretch/>
        </p:blipFill>
        <p:spPr>
          <a:xfrm>
            <a:off x="3059280" y="907920"/>
            <a:ext cx="433080" cy="425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http://images.myshared.ru/7/814535/slide_5.jpg"/>
          <p:cNvPicPr/>
          <p:nvPr/>
        </p:nvPicPr>
        <p:blipFill>
          <a:blip r:embed="rId4"/>
          <a:stretch/>
        </p:blipFill>
        <p:spPr>
          <a:xfrm>
            <a:off x="3564000" y="907920"/>
            <a:ext cx="438120" cy="433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__64059"/>
          <p:cNvPicPr/>
          <p:nvPr/>
        </p:nvPicPr>
        <p:blipFill>
          <a:blip r:embed="rId5"/>
          <a:stretch/>
        </p:blipFill>
        <p:spPr>
          <a:xfrm>
            <a:off x="2340000" y="1341360"/>
            <a:ext cx="936720" cy="43200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26" descr="1707493ade70.jpg"/>
          <p:cNvPicPr/>
          <p:nvPr/>
        </p:nvPicPr>
        <p:blipFill>
          <a:blip r:embed="rId6"/>
          <a:stretch/>
        </p:blipFill>
        <p:spPr>
          <a:xfrm>
            <a:off x="5508720" y="2781360"/>
            <a:ext cx="896760" cy="48888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27" descr="image.jpg"/>
          <p:cNvPicPr/>
          <p:nvPr/>
        </p:nvPicPr>
        <p:blipFill>
          <a:blip r:embed="rId7"/>
          <a:stretch/>
        </p:blipFill>
        <p:spPr>
          <a:xfrm>
            <a:off x="6875640" y="3284640"/>
            <a:ext cx="504720" cy="62712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28" descr="лошадка.jpg"/>
          <p:cNvPicPr/>
          <p:nvPr/>
        </p:nvPicPr>
        <p:blipFill>
          <a:blip r:embed="rId8"/>
          <a:stretch/>
        </p:blipFill>
        <p:spPr>
          <a:xfrm>
            <a:off x="6948360" y="4005360"/>
            <a:ext cx="863640" cy="5745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__12539"/>
          <p:cNvPicPr/>
          <p:nvPr/>
        </p:nvPicPr>
        <p:blipFill>
          <a:blip r:embed="rId9"/>
          <a:stretch/>
        </p:blipFill>
        <p:spPr>
          <a:xfrm>
            <a:off x="1403280" y="4724280"/>
            <a:ext cx="647640" cy="412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__45202"/>
          <p:cNvPicPr/>
          <p:nvPr/>
        </p:nvPicPr>
        <p:blipFill>
          <a:blip r:embed="rId10"/>
          <a:stretch/>
        </p:blipFill>
        <p:spPr>
          <a:xfrm>
            <a:off x="3564000" y="5516640"/>
            <a:ext cx="758880" cy="415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2" descr="http://images.myshared.ru/7/814535/slide_5.jpg"/>
          <p:cNvPicPr/>
          <p:nvPr/>
        </p:nvPicPr>
        <p:blipFill>
          <a:blip r:embed="rId11"/>
          <a:stretch/>
        </p:blipFill>
        <p:spPr>
          <a:xfrm>
            <a:off x="1332000" y="5732640"/>
            <a:ext cx="431640" cy="425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http://images.myshared.ru/7/814535/slide_5.jpg"/>
          <p:cNvPicPr/>
          <p:nvPr/>
        </p:nvPicPr>
        <p:blipFill>
          <a:blip r:embed="rId12"/>
          <a:stretch/>
        </p:blipFill>
        <p:spPr>
          <a:xfrm>
            <a:off x="1692360" y="5732640"/>
            <a:ext cx="436320" cy="433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__19318"/>
          <p:cNvPicPr/>
          <p:nvPr/>
        </p:nvPicPr>
        <p:blipFill>
          <a:blip r:embed="rId13"/>
          <a:stretch/>
        </p:blipFill>
        <p:spPr>
          <a:xfrm>
            <a:off x="900000" y="6381720"/>
            <a:ext cx="546120" cy="3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69228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 CYR"/>
                <a:ea typeface="Times New Roman"/>
              </a:rPr>
              <a:t>Своевременное овладение правильной, чистой речью имеет  огромное значение для формирования полноценной личности. Человек с хорошо развитой речью легко вступает в общение, он может понятно выражать свои мысли и желания, задавать вопросы, договариваться о совместной деятельности. И наоборот, неясная речь весьма затрудняет взаимоотношения с окружающими и нередко накладывает тяжёлый отпечаток на характер человека. Правильная, хорошо развитая речь является одним из основных показателей готовности ребёнка к успешному обучению  в школе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 CYR"/>
                <a:ea typeface="Times New Roman"/>
              </a:rPr>
              <a:t>Одним из условий нормального становления звукопроизношения является полноценная работа артикуляционного аппарата.  А  хорошая  подвижность  органов  артикуляционного  аппарата достигается  ежедневным выполнением  артикуляционной  гимнастики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0A68F-20D9-4C20-B73D-96C11EA7C5D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Рисунок 2" descr=""/>
          <p:cNvPicPr/>
          <p:nvPr/>
        </p:nvPicPr>
        <p:blipFill>
          <a:blip r:embed="rId1"/>
          <a:stretch/>
        </p:blipFill>
        <p:spPr>
          <a:xfrm>
            <a:off x="179280" y="5300640"/>
            <a:ext cx="71694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 такое артикуляционная гимнастика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50560" y="2037960"/>
            <a:ext cx="84358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АЯ ГИМНАСТИКА </a:t>
            </a: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совокупность особых  упражнений, способствующих укреплению мышц артикуляционного аппарата,  развитию силы, подвижности и дифференцированности движений органов,   участвующих в речевом процесс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0897A-9FA5-48C0-9B5E-E682E90F7FAF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Цель:</a:t>
            </a:r>
            <a:br>
              <a:rPr sz="2500"/>
            </a:br>
            <a:r>
              <a:rPr b="0" lang="ru-RU" sz="25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Обучение педагогов выполнению артикуляционных упражнений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1.Уточнить с педагогами название органов артикуляции (рот, верхние и нижние губы, верхние и нижние зубы, язык, кончик языка, нёбо, бугорки за верхними зубами)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2. Обучить основным движениям артикуляционного  аппарата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3. Закрепить правильное выполнение артикуляционных упражнений</a:t>
            </a:r>
            <a:r>
              <a:rPr b="0" lang="ru-RU" sz="2000" spc="-1" strike="noStrike">
                <a:solidFill>
                  <a:srgbClr val="344068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70FBB-1D21-4CA3-BC13-8BE80E58AEB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азания для  занятий артикуляционной гимнастикой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033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 Некоторые дети благодаря своевременному началу занятий артикуляционной гимнастикой и упражнениям по развитию речевого слуха сами могут научиться говорить чисто и правильно, без помощи специалист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2. Дети со сложными нарушениями звукопроизношения смогут быстрее преодолеть свои речевые дефекты, когда с ними начнёт заниматься логопед: их мышцы будут уже подготовлены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3. Артикуляционная гимнастика очень полезна детям с правильным, но вялым звукопроизношением, про которых говорят, что у них «каша во рту». Надо помнить, что чёткое произношение звуков является  основой при обучении письму на начальном этап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4. Занятия артикуляционной гимнастикой позволят всем – и детям и взрослым – научится говорить правильно, чётко и красиво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6048F-A74C-4BF9-A523-8AFC80A041D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400" y="399960"/>
            <a:ext cx="909468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ребования к проведению артикуляционной гимнастики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82760" y="178884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АЯ ГИМНАСТИКА проводится ежедневно по 3-5 минут  несколько раз в день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АЯ ГИМНАСТИКА выполняется сидя  перед зеркалом с  обязательным соблюдением правильной осанки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еобходимо добиваться четкого, точного, плавного выполнения движений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начале АРТИКУЛЯЦИОННАЯ ГИМНАСТИКА выполняется медленно, неторопливо, но постепенно, по мере овладения ими, темп гимнастики  увеличивается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мплекс АРТИКУЛЯЦИОННОЙГИМНАСТИКИ неуклонно усложняется и расширяется за счет новых упражнений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аждое упражнение выполняется от 5до20 раз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личество повторений возрастает по мере совершенствования артикуляционной моторики параллельно с увеличением темпа движений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яется АРТИКУЛЯЦИОННАЯ ГИМНАСТИКА под счет или под музыку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яется АРТИКУЛЯЦИОННАЯ ГИМНАСТИКА как индивидуально, так и со всей группой или небольшими подгруппами</a:t>
            </a: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E15A1-6E21-476B-AC58-4DB5DC7B77EB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рганы артикуляции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909720"/>
            <a:ext cx="864072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нание частей лица человека необходимо для знакомства ребенка с органами артикуляци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знание можно закрепить в играх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гра “Сказочка-указочка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зрослый читает стихотворение и вместе с ребенком показывает части лица и артикуляционные органы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е устала ты пок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ажи, моя рука: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— правая 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щек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— левая щек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сильна, а не слаб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дравствуй, 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ерхняя губа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дравствуй,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нижняя губ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не меньше мне люба! 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5230C-E184-4FFE-A56E-EBA8A34558D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Рисунок 7" descr="10955685_73264nothumb650.jpg"/>
          <p:cNvPicPr/>
          <p:nvPr/>
        </p:nvPicPr>
        <p:blipFill>
          <a:blip r:embed="rId1"/>
          <a:stretch/>
        </p:blipFill>
        <p:spPr>
          <a:xfrm>
            <a:off x="3276720" y="2133720"/>
            <a:ext cx="2158920" cy="208728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9" descr="10955701_94742nothumb650.jpg"/>
          <p:cNvPicPr/>
          <p:nvPr/>
        </p:nvPicPr>
        <p:blipFill>
          <a:blip r:embed="rId2"/>
          <a:stretch/>
        </p:blipFill>
        <p:spPr>
          <a:xfrm>
            <a:off x="3203640" y="4653000"/>
            <a:ext cx="2376360" cy="10796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9" descr="10955706_27691nothumb650.jpg"/>
          <p:cNvPicPr/>
          <p:nvPr/>
        </p:nvPicPr>
        <p:blipFill>
          <a:blip r:embed="rId3"/>
          <a:stretch/>
        </p:blipFill>
        <p:spPr>
          <a:xfrm>
            <a:off x="6156360" y="4581360"/>
            <a:ext cx="2160720" cy="11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ть у губ одна черта —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них улыбка заперта: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раво —</a:t>
            </a: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правый угол рта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лево — </a:t>
            </a: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евый угол рта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бородок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тянем вниз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бы с челюстью отвис.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м — к прогулкам не привык —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обко прячется язык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77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47138-C1F7-4747-8D4A-DD21EBE0406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Рисунок 6" descr="10955754_38072nothumb650.jpg"/>
          <p:cNvPicPr/>
          <p:nvPr/>
        </p:nvPicPr>
        <p:blipFill>
          <a:blip r:embed="rId1"/>
          <a:stretch/>
        </p:blipFill>
        <p:spPr>
          <a:xfrm>
            <a:off x="3780000" y="333360"/>
            <a:ext cx="1296720" cy="147492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7" descr="10955760_39973nothumb650.jpg"/>
          <p:cNvPicPr/>
          <p:nvPr/>
        </p:nvPicPr>
        <p:blipFill>
          <a:blip r:embed="rId2"/>
          <a:stretch/>
        </p:blipFill>
        <p:spPr>
          <a:xfrm>
            <a:off x="6012000" y="333360"/>
            <a:ext cx="1512720" cy="154620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6" descr="10955777_91980nothumb650.jpg"/>
          <p:cNvPicPr/>
          <p:nvPr/>
        </p:nvPicPr>
        <p:blipFill>
          <a:blip r:embed="rId3"/>
          <a:stretch/>
        </p:blipFill>
        <p:spPr>
          <a:xfrm>
            <a:off x="3635280" y="2133720"/>
            <a:ext cx="2232000" cy="165564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0"/>
          <p:cNvSpPr/>
          <p:nvPr/>
        </p:nvSpPr>
        <p:spPr>
          <a:xfrm>
            <a:off x="476640" y="38606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вокруг-то — целый ряд</a:t>
            </a:r>
            <a:br>
              <a:rPr sz="1800"/>
            </a:br>
            <a:r>
              <a:rPr b="1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ки нижние</a:t>
            </a: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стоят: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оковые слева, справа,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ереди — зубов опра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Содержимое 7" descr="10955792_60010nothumb650.jpg"/>
          <p:cNvPicPr/>
          <p:nvPr/>
        </p:nvPicPr>
        <p:blipFill>
          <a:blip r:embed="rId4"/>
          <a:stretch/>
        </p:blipFill>
        <p:spPr>
          <a:xfrm>
            <a:off x="3708360" y="4149720"/>
            <a:ext cx="1800360" cy="14000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2" descr="10955814_35914nothumb650.jpg"/>
          <p:cNvPicPr/>
          <p:nvPr/>
        </p:nvPicPr>
        <p:blipFill>
          <a:blip r:embed="rId5"/>
          <a:stretch/>
        </p:blipFill>
        <p:spPr>
          <a:xfrm>
            <a:off x="5796000" y="4149720"/>
            <a:ext cx="17287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ёбо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вместо потолка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ть во рту у языка.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когда открылся рот,</a:t>
            </a:r>
            <a:br>
              <a:rPr sz="1600"/>
            </a:b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чок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пошёл вперёд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8" name="Содержимое 8" descr="10955833_80077nothumb650.jpg"/>
          <p:cNvPicPr/>
          <p:nvPr/>
        </p:nvPicPr>
        <p:blipFill>
          <a:blip r:embed="rId1"/>
          <a:stretch/>
        </p:blipFill>
        <p:spPr>
          <a:xfrm>
            <a:off x="2987640" y="333360"/>
            <a:ext cx="1513080" cy="144288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C8B6B-BB3E-4823-AAE4-2A48ABBDDCB9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Рисунок 9" descr="10955841_44134nothumb650.jpg"/>
          <p:cNvPicPr/>
          <p:nvPr/>
        </p:nvPicPr>
        <p:blipFill>
          <a:blip r:embed="rId2"/>
          <a:stretch/>
        </p:blipFill>
        <p:spPr>
          <a:xfrm>
            <a:off x="4788000" y="404640"/>
            <a:ext cx="1368360" cy="12891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0" descr="10955849_52107nothumb650.jpg"/>
          <p:cNvPicPr/>
          <p:nvPr/>
        </p:nvPicPr>
        <p:blipFill>
          <a:blip r:embed="rId3"/>
          <a:stretch/>
        </p:blipFill>
        <p:spPr>
          <a:xfrm>
            <a:off x="6659640" y="549360"/>
            <a:ext cx="1249200" cy="12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1"/>
          <p:cNvSpPr/>
          <p:nvPr/>
        </p:nvSpPr>
        <p:spPr>
          <a:xfrm>
            <a:off x="332280" y="263700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нтересная картинка: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ть и кончик, есть и спинка,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оковые есть края —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сё про ротик знаю 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Содержимое 7" descr="10955863_28519nothumb650.jpg"/>
          <p:cNvPicPr/>
          <p:nvPr/>
        </p:nvPicPr>
        <p:blipFill>
          <a:blip r:embed="rId4"/>
          <a:stretch/>
        </p:blipFill>
        <p:spPr>
          <a:xfrm>
            <a:off x="3564000" y="3068640"/>
            <a:ext cx="1584360" cy="16891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3" descr="10955872_29669nothumb650.jpg"/>
          <p:cNvPicPr/>
          <p:nvPr/>
        </p:nvPicPr>
        <p:blipFill>
          <a:blip r:embed="rId5"/>
          <a:stretch/>
        </p:blipFill>
        <p:spPr>
          <a:xfrm>
            <a:off x="5292720" y="2997360"/>
            <a:ext cx="1366920" cy="17827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4" descr="10955875_44492nothumb650.jpg"/>
          <p:cNvPicPr/>
          <p:nvPr/>
        </p:nvPicPr>
        <p:blipFill>
          <a:blip r:embed="rId6"/>
          <a:stretch/>
        </p:blipFill>
        <p:spPr>
          <a:xfrm>
            <a:off x="6804000" y="2924280"/>
            <a:ext cx="1584360" cy="179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9:22:17Z</dcterms:created>
  <dc:creator>Александр</dc:creator>
  <dc:description>http://aida.ucoz.ru</dc:description>
  <dc:language>en-US</dc:language>
  <cp:lastModifiedBy>User</cp:lastModifiedBy>
  <dcterms:modified xsi:type="dcterms:W3CDTF">2024-01-25T13:41:54Z</dcterms:modified>
  <cp:revision>85</cp:revision>
  <dc:subject/>
  <dc:title>Тема проекта:  «Коррекция нарушений звукопроизношения у детей с речевой патологией»</dc:title>
</cp:coreProperties>
</file>