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50.jpeg" ContentType="image/jpeg"/>
  <Override PartName="/ppt/media/image52.png" ContentType="image/png"/>
  <Override PartName="/ppt/media/image5.jpeg" ContentType="image/jpeg"/>
  <Override PartName="/ppt/media/image26.jpeg" ContentType="image/jpeg"/>
  <Override PartName="/ppt/media/image25.jpeg" ContentType="image/jpeg"/>
  <Override PartName="/ppt/media/image56.jpeg" ContentType="image/jpeg"/>
  <Override PartName="/ppt/media/image3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61.jpeg" ContentType="image/jpeg"/>
  <Override PartName="/ppt/media/image59.png" ContentType="image/png"/>
  <Override PartName="/ppt/media/image24.jpeg" ContentType="image/jpeg"/>
  <Override PartName="/ppt/media/image12.jpeg" ContentType="image/jpeg"/>
  <Override PartName="/ppt/media/image29.jpeg" ContentType="image/jpeg"/>
  <Override PartName="/ppt/media/image35.jpeg" ContentType="image/jpeg"/>
  <Override PartName="/ppt/media/image60.jpeg" ContentType="image/jpeg"/>
  <Override PartName="/ppt/media/image20.png" ContentType="image/png"/>
  <Override PartName="/ppt/media/image3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9.png" ContentType="image/png"/>
  <Override PartName="/ppt/media/image1.jpeg" ContentType="image/jpeg"/>
  <Override PartName="/ppt/media/image2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8.png" ContentType="image/png"/>
  <Override PartName="/ppt/media/image4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4.jpeg" ContentType="image/jpeg"/>
  <Override PartName="/ppt/media/image51.png" ContentType="image/pn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FBB4C-D368-413E-A3D6-AA415602BD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D3595-3944-4830-A42B-20E201D2B1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9DEA-FD7E-4B52-A72F-B585227A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65C0-087E-43C7-9CAC-8E312CDA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3F94-4BA6-4F00-88D4-09CC507C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58D9-031C-4BAD-8B32-6B849EB0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DA45-0A63-4ED1-BE85-E74846AA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40DA-CB13-4DE1-8A02-66F4CB39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4F98-D9B2-46A6-AA62-D3B10A6E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1354-5106-441A-84D7-369271C8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7437-FE03-48C0-86BC-D9CF90D3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51A3-8716-4B3C-8EED-69430DE5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7AB0-D454-4358-A300-FA83CC95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20A-69A2-4D8B-84FD-11BA078D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B7AC-9DBE-492E-B52B-85D1A4FD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3BA5-E986-49F4-92C8-6D06CFC7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DA44-2DFE-47CA-9079-932D35E7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EEF9-EEEF-4C78-9DE7-0D8E94D0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CAA0-55B7-4F36-AD0D-AC3665A6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9CD78-32F5-4FD1-8CD2-F8AC5E87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57A44-E8D5-4084-9B54-E2FC6490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C618A-3837-4A89-9588-6F8BD7BA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8074A-5D06-4B12-8795-5474E58C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C997A-0C02-4571-BFBC-6C5C00A5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1C5-CCF4-4F1E-94CC-CCB8FB81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F99B4-6AAF-43BB-B60A-0F742A7F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625E6-ECB0-4A2F-AD1E-B048237D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38766-766C-43EE-B8C9-76D6A618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83198-7055-41DA-B956-D6910DB7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D7C3F-583F-44EB-BB87-0DAEC306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96337-DDAF-47E2-A62E-A47F1114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7190B-73E0-4D95-80AD-94EE4923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A568F-7E7A-41BE-91CC-AD5F9518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E444C-64CB-4625-BD2B-CC7B1444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2490F-A518-4DD8-B902-9C1A5E94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DAB7-9D08-4727-AE8A-BA05304A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F8BCC-1DFE-4658-B330-7D46FB3D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7DB71-3D96-485B-9F34-2AE7E026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51570-3B24-45C7-844D-F5F8DB7B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3B0F2-E693-47AD-8B92-CDE8A4CA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1DFB4-8C8C-4A25-82C4-CC10671C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58F4F-6FF9-440E-85CD-55A9B37A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42B10-8774-48C3-829A-5BC9047C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DCA73-6045-4687-94D5-B55D22AD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1AEF3-D0C1-40E5-8AF0-E07B9ED8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C1C6A-02C6-4B58-B956-85B2B134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6064-E239-41CD-9A6C-A2321F65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F12DC-5E79-49E0-BEC0-0F17AE67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0E7B8-45AF-4023-8D09-7D40B31B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E1411-E6C1-4FC5-8C3A-AE294775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9A4B8-3C34-4F5A-83C1-27FA6206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CDE74-4BAC-4DFE-B70A-4F0B1B79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AE002-7B1E-4DC6-84F4-A125AF33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E8D63-2119-4662-8DC2-722715E2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A409E-3A84-4D60-B073-1FC7B4CB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1FA63-2ECF-43FD-963E-432468C6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80120-52E5-4DA1-A7F2-05056E81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169-D18A-49D3-802D-020547D4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FFF5F-9436-449C-9FBA-F68E85E3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3A823-D45C-4C61-8AB2-81B65A5C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D813D-3287-4500-A9EE-0B71145F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89851-1D3D-4BFC-B15F-BD84C71A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EE1B3-A7D1-49B2-8D35-B7FEAE06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2CFDE-2AD1-468E-A8C4-FC33B978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1B112-A33F-4D02-A71C-11279BB9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EDF86-47F9-4E3C-A019-9283DB65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F802A-CB38-4CFE-9183-B837C188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A5DF6-669D-49CE-8E38-C5BD92F2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A038-4E64-42DF-AD9E-184AAF08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7C553-B278-473D-B0E6-C55EDF0F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36471-A084-4A6D-9243-3C29D3EF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36917-C844-4328-8BEB-53866BAD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9C4A2-ED73-4DB4-BE08-A55ADAC5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C07BA-7EA5-4D5A-BB34-5147163A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2D482-2F5D-4B5F-B8D0-DAE4D0E5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B4C40-69FB-474F-9372-AB58DBF8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89B0F-87C6-4EC5-BE4F-2234497C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729FB-FB04-44CA-9EF8-C3620AE1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D1F4D-2D7B-405A-9F57-87EC203E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284-7387-49E5-90B0-C1D90D7C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234F1-BBB4-47F4-8B41-09723AB8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965CF-E746-4B45-B8D6-926821A7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00A03-9DBF-467D-BC13-8876DC1C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5D44B-133E-4142-802B-DDFB372F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3ECDC-4217-44AC-BC72-9D5FBFCA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85C-2F00-4052-835D-63DA4D9D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FAC67-AF65-4576-B07A-457FA1014CFA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AE996-5CEF-4626-84EC-BD01D0F4F1B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463D2-3DCE-4AF0-965F-0839371385C3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0FCD3-0DE3-43D1-871A-65635D69D32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F9D4A-4CE7-438C-A310-EFD06CC2931D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76457-D49B-4CED-B77E-9984DA73B61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0A2A8-6EF4-4268-BECA-EAC95298F1F5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F71AA-0D64-4B62-8A5D-F523857C62D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5F0C6-000A-432D-A17D-33FBC26B0060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9827B-6991-4A1E-8DC4-0CA5F86700FD}" type="slidenum">
              <a:rPr b="0" lang="ru-RU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A7C2B-5D69-4B54-8D8A-CEF8F8EB43A0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92033-6CD6-4BEA-A9FA-39C88E7C51C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2B5E0-8A31-4790-B461-7840693F0490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9010C-C44A-4B23-9CFA-B8DD15D5FCC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image" Target="../media/image58.jpeg"/><Relationship Id="rId11" Type="http://schemas.openxmlformats.org/officeDocument/2006/relationships/image" Target="../media/image51.png"/><Relationship Id="rId12" Type="http://schemas.openxmlformats.org/officeDocument/2006/relationships/image" Target="../media/image59.png"/><Relationship Id="rId13" Type="http://schemas.openxmlformats.org/officeDocument/2006/relationships/image" Target="../media/image60.jpeg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229A9-3036-4883-97FD-9CF1EDBD6D92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Заголовок 1"/>
          <p:cNvSpPr/>
          <p:nvPr/>
        </p:nvSpPr>
        <p:spPr>
          <a:xfrm>
            <a:off x="1495440" y="861840"/>
            <a:ext cx="7951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еминар-практикум для воспитателе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Подзаголовок 2"/>
          <p:cNvSpPr/>
          <p:nvPr/>
        </p:nvSpPr>
        <p:spPr>
          <a:xfrm>
            <a:off x="-108000" y="1738440"/>
            <a:ext cx="92170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Артикуляционная гимнастика - эффективное средство формирования правильного звукопроизношения у детей дошкольного возраста</a:t>
            </a:r>
            <a:r>
              <a:rPr b="1" lang="ru-RU" sz="20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4406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5803920" y="556560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учитель-логопед  Седнева М. 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Рисунок 3" descr=""/>
          <p:cNvPicPr/>
          <p:nvPr/>
        </p:nvPicPr>
        <p:blipFill>
          <a:blip r:embed="rId2"/>
          <a:stretch/>
        </p:blipFill>
        <p:spPr>
          <a:xfrm>
            <a:off x="3340080" y="2924280"/>
            <a:ext cx="2463840" cy="314784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6" descr=""/>
          <p:cNvPicPr/>
          <p:nvPr/>
        </p:nvPicPr>
        <p:blipFill>
          <a:blip r:embed="rId3"/>
          <a:stretch/>
        </p:blipFill>
        <p:spPr>
          <a:xfrm>
            <a:off x="69840" y="5013360"/>
            <a:ext cx="285120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иды артикуляционной гимнастики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ртикуляционную гимнастику можно условно разделить на: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ктивную, когда ребенок полностью самостоятельно выполняет все упражнения;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ассивную, когда выполнять правильно движения ребенку помогает взрослый.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Если ребенок не может самостоятельно правильно выполнить нужное движение органами артикуляционного аппарата, ему следует помочь. Сделать это можно шпателем, чистым пальцем или ложечкой, подправив нужным образом губы или язык.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иды артикуляционных упражнений: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татические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динамические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татические упражнения – предполагают замирание губ или языка в определенном положении на 10 – 15 секунд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 динамических упражнениях заданиях движение осуществляется на протяжении всего времени выполнения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8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681C8-4431-47BC-9E16-2B3425FABE66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344068"/>
                </a:solidFill>
                <a:uFillTx/>
                <a:latin typeface="Times New Roman"/>
                <a:ea typeface="Times New Roman"/>
              </a:rPr>
              <a:t>Статические  упражнения:</a:t>
            </a:r>
            <a:br>
              <a:rPr sz="3200"/>
            </a:br>
            <a:endParaRPr b="0" lang="en-US" sz="25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24000" y="765000"/>
            <a:ext cx="8229600" cy="259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Окошко"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широко открыть рот — "жарко", закрыть рот — "холодно"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Рот приоткрою я немножко,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губы сделаю окошком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убы рядышком стоят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 в окошечко глядят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EFDA5-46B0-4500-BB0A-0DA4712A1B90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Picture 12" descr="http://images.myshared.ru/7/814535/slide_5.jpg"/>
          <p:cNvPicPr/>
          <p:nvPr/>
        </p:nvPicPr>
        <p:blipFill>
          <a:blip r:embed="rId1"/>
          <a:stretch/>
        </p:blipFill>
        <p:spPr>
          <a:xfrm>
            <a:off x="2916360" y="1141560"/>
            <a:ext cx="2160360" cy="21254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2" descr="http://images.myshared.ru/7/814535/slide_5.jpg"/>
          <p:cNvPicPr/>
          <p:nvPr/>
        </p:nvPicPr>
        <p:blipFill>
          <a:blip r:embed="rId2"/>
          <a:stretch/>
        </p:blipFill>
        <p:spPr>
          <a:xfrm>
            <a:off x="4932360" y="1197000"/>
            <a:ext cx="2016000" cy="1990800"/>
          </a:xfrm>
          <a:prstGeom prst="rect">
            <a:avLst/>
          </a:prstGeom>
          <a:ln w="0">
            <a:noFill/>
          </a:ln>
        </p:spPr>
      </p:pic>
      <p:sp>
        <p:nvSpPr>
          <p:cNvPr id="364" name="Заголовок 1"/>
          <p:cNvSpPr/>
          <p:nvPr/>
        </p:nvSpPr>
        <p:spPr>
          <a:xfrm>
            <a:off x="250920" y="3284640"/>
            <a:ext cx="8373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аборчик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показать верхние и нижние зубы. Удерживать под счет до 5-10.</a:t>
            </a: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Содержимое 6"/>
          <p:cNvSpPr/>
          <p:nvPr/>
        </p:nvSpPr>
        <p:spPr>
          <a:xfrm>
            <a:off x="324000" y="3500280"/>
            <a:ext cx="822960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убы ровно мы смыка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 заборчик получаем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 сейчас раздвинем губы 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считаем наши зуб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Рисунок 5" descr=""/>
          <p:cNvPicPr/>
          <p:nvPr/>
        </p:nvPicPr>
        <p:blipFill>
          <a:blip r:embed="rId3"/>
          <a:stretch/>
        </p:blipFill>
        <p:spPr>
          <a:xfrm>
            <a:off x="3059280" y="3573360"/>
            <a:ext cx="2136600" cy="2016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http://dar-baby.ru/images/igry%20s%20detmi/2_zaborchik.jpg"/>
          <p:cNvPicPr/>
          <p:nvPr/>
        </p:nvPicPr>
        <p:blipFill>
          <a:blip r:embed="rId4"/>
          <a:stretch/>
        </p:blipFill>
        <p:spPr>
          <a:xfrm>
            <a:off x="5435640" y="3573360"/>
            <a:ext cx="208908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08668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Хоботок» - 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тянуть сомкнутые губы вперед трубочкой. Удерживать в таком положении под счет до 5-10. 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 гости к нам пришел слоненок,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дивительный ребенок.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а слоненка посмотри,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Губки хоботком тяни.</a:t>
            </a:r>
            <a:br>
              <a:rPr sz="3200"/>
            </a:br>
            <a:br>
              <a:rPr sz="3200"/>
            </a:br>
            <a:endParaRPr b="0" lang="en-US" sz="1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69" name="Содержимое 8" descr="__38644"/>
          <p:cNvPicPr/>
          <p:nvPr/>
        </p:nvPicPr>
        <p:blipFill>
          <a:blip r:embed="rId1"/>
          <a:stretch/>
        </p:blipFill>
        <p:spPr>
          <a:xfrm>
            <a:off x="3780000" y="620640"/>
            <a:ext cx="3960720" cy="2192400"/>
          </a:xfrm>
          <a:prstGeom prst="rect">
            <a:avLst/>
          </a:prstGeom>
          <a:ln w="0">
            <a:noFill/>
          </a:ln>
        </p:spPr>
      </p:pic>
      <p:sp>
        <p:nvSpPr>
          <p:cNvPr id="370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CA586-CF26-4AF5-866F-4033D601AC5C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Заголовок 1"/>
          <p:cNvSpPr/>
          <p:nvPr/>
        </p:nvSpPr>
        <p:spPr>
          <a:xfrm>
            <a:off x="395280" y="2637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Бублик» - 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полнить упражнение «Хоботок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атем округлить губы так, чтобы были видны зубы в положении «Забор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держивать в таком положении на счет до пяти. </a:t>
            </a: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Рисунок 11" descr="Картинки по запросу картинки артикуляционное упражнение Бублик"/>
          <p:cNvPicPr/>
          <p:nvPr/>
        </p:nvPicPr>
        <p:blipFill>
          <a:blip r:embed="rId2"/>
          <a:stretch/>
        </p:blipFill>
        <p:spPr>
          <a:xfrm>
            <a:off x="2340000" y="3573360"/>
            <a:ext cx="3960720" cy="20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Номер слайда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2D556-3FFD-4A03-B673-51D4CF16B332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2516400" cy="280836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"/>
          <p:cNvSpPr/>
          <p:nvPr/>
        </p:nvSpPr>
        <p:spPr>
          <a:xfrm>
            <a:off x="539640" y="657360"/>
            <a:ext cx="79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голочка» -рот открыть. Узкий напряженный язык выдвинуть вперед.</a:t>
            </a: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2" descr="Картинки по запросу &quot;иголочка артикуляционная гимнастика&quot;"/>
          <p:cNvPicPr/>
          <p:nvPr/>
        </p:nvPicPr>
        <p:blipFill>
          <a:blip r:embed="rId2"/>
          <a:srcRect l="7500" t="68917" r="54115" b="0"/>
          <a:stretch/>
        </p:blipFill>
        <p:spPr>
          <a:xfrm>
            <a:off x="539640" y="2492280"/>
            <a:ext cx="2548080" cy="15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920" y="237600"/>
            <a:ext cx="8494560" cy="8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Парус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открыть рот, поднять язык вверх, поставить его за верхние зубы, крепко прижать. Удерживать под счет до 5-10.</a:t>
            </a:r>
            <a:br>
              <a:rPr sz="1600"/>
            </a:b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50920" y="91908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Лодочка под парусом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 реке плывёт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а прогулку лодочка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Малышей зовёт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2CE2A-BD08-4386-8EFF-BE7DDDDB196D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Рисунок 8" descr="Артикуляционная гимнастика"/>
          <p:cNvPicPr/>
          <p:nvPr/>
        </p:nvPicPr>
        <p:blipFill>
          <a:blip r:embed="rId1"/>
          <a:stretch/>
        </p:blipFill>
        <p:spPr>
          <a:xfrm>
            <a:off x="4067280" y="549360"/>
            <a:ext cx="3384360" cy="237492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1"/>
          <p:cNvSpPr/>
          <p:nvPr/>
        </p:nvSpPr>
        <p:spPr>
          <a:xfrm>
            <a:off x="250920" y="3003840"/>
            <a:ext cx="86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Лопаточка» или «Блинчик»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приоткрыть рот, положить передний широкий край языка на нижнюю губу. Удерживать в таком положении под счет от  1 до 5- 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250920" y="3776760"/>
            <a:ext cx="298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тром рано мы встаем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кусные блины пече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Ручейком по сковородк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есто растекается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смотри, какой красив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линчик получает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Рисунок 12" descr="__64059"/>
          <p:cNvPicPr/>
          <p:nvPr/>
        </p:nvPicPr>
        <p:blipFill>
          <a:blip r:embed="rId2"/>
          <a:stretch/>
        </p:blipFill>
        <p:spPr>
          <a:xfrm>
            <a:off x="4211640" y="3789360"/>
            <a:ext cx="37450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847404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Чашечка» - 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з положения «Лопаточка» поднять  язычок вверх, загибая боковые края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ледить, чтобы кончик языка не загибался вглубь рта, чтобы язык не лежал на нижней губе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а боковые края находились у верхних зубов. Удерживать под счет до 10.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50920" y="1063440"/>
            <a:ext cx="8229600" cy="107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удешь пить с друзьями чай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ы из  чашки новой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Эту чашку показать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ы сейчас пробуй!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1348E-08AE-4110-A9B8-034D69930E3E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Рисунок 6" descr="__45202"/>
          <p:cNvPicPr/>
          <p:nvPr/>
        </p:nvPicPr>
        <p:blipFill>
          <a:blip r:embed="rId1"/>
          <a:stretch/>
        </p:blipFill>
        <p:spPr>
          <a:xfrm>
            <a:off x="3851280" y="1052640"/>
            <a:ext cx="3457440" cy="20890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1"/>
          <p:cNvSpPr/>
          <p:nvPr/>
        </p:nvSpPr>
        <p:spPr>
          <a:xfrm>
            <a:off x="250920" y="3112560"/>
            <a:ext cx="794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Грибок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приоткрыть рот, присосать язык к небу и, не отпуская языка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адо стараться открывать рот все шире и дольше удерживать язык в верхнем положен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2"/>
          <p:cNvSpPr/>
          <p:nvPr/>
        </p:nvSpPr>
        <p:spPr>
          <a:xfrm>
            <a:off x="250920" y="3795120"/>
            <a:ext cx="843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д высокою сосно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Мы грибок нашли с тобо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Чтобы рос боровичок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дними вверх язычо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Рисунок 10" descr="__93357"/>
          <p:cNvPicPr/>
          <p:nvPr/>
        </p:nvPicPr>
        <p:blipFill>
          <a:blip r:embed="rId2"/>
          <a:stretch/>
        </p:blipFill>
        <p:spPr>
          <a:xfrm>
            <a:off x="3924360" y="3789360"/>
            <a:ext cx="324000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560" y="1042560"/>
            <a:ext cx="8569080" cy="5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44068"/>
                </a:solidFill>
                <a:uFillTx/>
                <a:latin typeface="Times New Roman"/>
                <a:ea typeface="Times New Roman"/>
              </a:rPr>
              <a:t>Динамические упражнения: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50560" y="1773000"/>
            <a:ext cx="432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"Месим тесто"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 пошлепать языком между губами — "пя-пя-пя-пя-пя..."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кусать кончик языка зубками (чередовать эти два движения)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6456F-8792-4CED-B505-DBEC1B322164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Рисунок 7" descr="__20549"/>
          <p:cNvPicPr/>
          <p:nvPr/>
        </p:nvPicPr>
        <p:blipFill>
          <a:blip r:embed="rId1"/>
          <a:stretch/>
        </p:blipFill>
        <p:spPr>
          <a:xfrm>
            <a:off x="4716360" y="1197000"/>
            <a:ext cx="3527640" cy="216072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1"/>
          <p:cNvSpPr/>
          <p:nvPr/>
        </p:nvSpPr>
        <p:spPr>
          <a:xfrm>
            <a:off x="250920" y="3506760"/>
            <a:ext cx="41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Вкусное варенье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легка приоткрыть рот и широким передним краем языка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облизать верхнюю губу, делая движения языком сверху вниз,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но не из стороны в сторон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Picture 7" descr="__42884"/>
          <p:cNvPicPr/>
          <p:nvPr/>
        </p:nvPicPr>
        <p:blipFill>
          <a:blip r:embed="rId2"/>
          <a:stretch/>
        </p:blipFill>
        <p:spPr>
          <a:xfrm>
            <a:off x="4356000" y="3645000"/>
            <a:ext cx="4302360" cy="26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498636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ачели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приоткрыть рот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ложить широкий язык за нижние зубы 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том поднять широкий язык за верхние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убы тоже с внутренней стороны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ак поочередно менять положение языка 4-6 раз.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95280" y="1628280"/>
            <a:ext cx="446400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аня и Никита сели на веселые качели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Опустились вниз качели, а потом наверх  взлетели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месте с птицами, наверно, улететь они  хотели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FB6AE-7C93-44ED-99B7-EA988879B876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Рисунок 6" descr="__10048"/>
          <p:cNvPicPr/>
          <p:nvPr/>
        </p:nvPicPr>
        <p:blipFill>
          <a:blip r:embed="rId1"/>
          <a:stretch/>
        </p:blipFill>
        <p:spPr>
          <a:xfrm>
            <a:off x="5003640" y="549360"/>
            <a:ext cx="3672000" cy="208764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1"/>
          <p:cNvSpPr/>
          <p:nvPr/>
        </p:nvSpPr>
        <p:spPr>
          <a:xfrm>
            <a:off x="336960" y="2713320"/>
            <a:ext cx="6819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Часики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открыть рот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Кончик языка переводить на счет «раз-два» из одного уголка  рта в другой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ижняя челюсть остается при этом неподвижной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полнить 5 раз по 10 движ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395280" y="393804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Ходит мятник в час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лево - тик, а вправо – та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ы сумеешь сделать та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ик и так, тик и так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Рисунок 10" descr="__14970"/>
          <p:cNvPicPr/>
          <p:nvPr/>
        </p:nvPicPr>
        <p:blipFill>
          <a:blip r:embed="rId2"/>
          <a:stretch/>
        </p:blipFill>
        <p:spPr>
          <a:xfrm>
            <a:off x="5148360" y="3716280"/>
            <a:ext cx="32400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Номер слайда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98CCC-062B-4C8F-AA7F-7D0020EAE628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2" descr="Картинки по запросу &quot;улыбка трубочка артикуляционная гимнастика&quot;"/>
          <p:cNvPicPr/>
          <p:nvPr/>
        </p:nvPicPr>
        <p:blipFill>
          <a:blip r:embed="rId1"/>
          <a:stretch/>
        </p:blipFill>
        <p:spPr>
          <a:xfrm>
            <a:off x="1258920" y="476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Номер слайда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E0EFF-6444-4BF0-BDA5-C9943F82F205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4" descr="Картинки по запросу &quot;лопатка иголка артикуляционная гимнастика&quot;"/>
          <p:cNvPicPr/>
          <p:nvPr/>
        </p:nvPicPr>
        <p:blipFill>
          <a:blip r:embed="rId1"/>
          <a:srcRect l="0" t="0" r="52100" b="23005"/>
          <a:stretch/>
        </p:blipFill>
        <p:spPr>
          <a:xfrm>
            <a:off x="2484360" y="1414440"/>
            <a:ext cx="3962520" cy="477684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2"/>
          <p:cNvSpPr/>
          <p:nvPr/>
        </p:nvSpPr>
        <p:spPr>
          <a:xfrm>
            <a:off x="3087720" y="693360"/>
            <a:ext cx="25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Лопатка-иго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6200" y="806400"/>
            <a:ext cx="75438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6200" y="1736640"/>
            <a:ext cx="820908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ри благоприятных условиях воспитания усвоение звуковой системы языка происходит к 4-5 годам: правильное звукопроизношение, становление интонационной стороны речи, умение передать интонации вопроса, просьбы, восклицания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о в речи многих детей 4-5 года жизни отмечаются  речевые нарушения: дошкольники неверно произносят шипящие (ш, ж, ч, щ), сонорные (р, рь, л, ль), некоторые звуки пропускают, искажают… Требует совершенствования и интонационная сторона речи, необходима работа над развитием артикуляционного аппарата ребёнка и над формированием таких элементов звуковой культуры, как темп, дикция, сила голоса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 формировании произношения, в уточнении артикуляции звуков, в вызывании их по подражанию и в постановке – огромную роль играет артикуляционная гимнастика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BB00D-9ED2-4B78-8BBC-5AF9BCC58885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473440" cy="20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Индюк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риоткрыть рот, положить язык на верхнюю губу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роизводить движения передним краем языка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 верхней губе вперед-назад, стараясь не отрывать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зык от губы, как бы поглаживая ее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начала производить медленные движения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том убыстрять темп и добавить голос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ка не послышатся звуки «бл-бл».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920" y="22046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 - индюк « балды-балда»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Разбегайтесь кто  куда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1EBD9-A07C-41E3-8D9C-4E5D1A9D0486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Рисунок 6" descr="__66342"/>
          <p:cNvPicPr/>
          <p:nvPr/>
        </p:nvPicPr>
        <p:blipFill>
          <a:blip r:embed="rId1"/>
          <a:stretch/>
        </p:blipFill>
        <p:spPr>
          <a:xfrm>
            <a:off x="5003640" y="476280"/>
            <a:ext cx="3768840" cy="21607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"/>
          <p:cNvSpPr/>
          <p:nvPr/>
        </p:nvSpPr>
        <p:spPr>
          <a:xfrm>
            <a:off x="250920" y="2805480"/>
            <a:ext cx="6389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Дятел».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Рот широко открыт и слегка растянут в улыбке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зычок в форме «чашечки» поднят вверх: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оковые края языка прижаты к верхним коренным зубкам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 передний край  языка поднят за верхние передние зубы к альвеолам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Ребёнок говорит с придыханием Д-Д-Д или Т-Т-Т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зык «прыгает на бугорках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324000" y="4367520"/>
            <a:ext cx="801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Дятел на суку сидит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Дятел дерево долби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Рисунок 10" descr="__55763"/>
          <p:cNvPicPr/>
          <p:nvPr/>
        </p:nvPicPr>
        <p:blipFill>
          <a:blip r:embed="rId2"/>
          <a:stretch/>
        </p:blipFill>
        <p:spPr>
          <a:xfrm>
            <a:off x="5364000" y="3786120"/>
            <a:ext cx="331164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25520" y="283680"/>
            <a:ext cx="5788080" cy="206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Чистим зубки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риоткрыть рот и кончиком языка «почистить»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ижние зубы с внутренней стороны, делая движение языком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из стороны в сторону.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риоткрыть рот и кончиком языка «почистить» верхние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убы с внутренней стороны, делая движение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зыком из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тороны в сторону.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25160" y="2316240"/>
            <a:ext cx="22050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Мягкой щеткою с утра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Чистит зубки детвора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удут зубки сильные,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елые, красивые!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A4146-0D05-4D3B-977D-FD4767139AE8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Рисунок 6" descr="__19318"/>
          <p:cNvPicPr/>
          <p:nvPr/>
        </p:nvPicPr>
        <p:blipFill>
          <a:blip r:embed="rId1"/>
          <a:stretch/>
        </p:blipFill>
        <p:spPr>
          <a:xfrm>
            <a:off x="5076720" y="907920"/>
            <a:ext cx="3571920" cy="223380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3"/>
          <p:cNvSpPr/>
          <p:nvPr/>
        </p:nvSpPr>
        <p:spPr>
          <a:xfrm>
            <a:off x="324000" y="3500640"/>
            <a:ext cx="5567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Маляр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открыть рот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гладить кончиком язык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вердое небо, делая движение языко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перед-назад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полнить 3-4 раз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338760" y="4847760"/>
            <a:ext cx="279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28720"/>
                <a:tab algn="ctr" pos="34560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тал язычок твой маляром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8720"/>
                <a:tab algn="ctr" pos="34560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Он будет красить старый до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8720"/>
                <a:tab algn="ctr" pos="34560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перед-назад, вперед-назад…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Ремонту каждый будет ра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Рисунок 11" descr="__12415"/>
          <p:cNvPicPr/>
          <p:nvPr/>
        </p:nvPicPr>
        <p:blipFill>
          <a:blip r:embed="rId2"/>
          <a:stretch/>
        </p:blipFill>
        <p:spPr>
          <a:xfrm>
            <a:off x="4356000" y="3357720"/>
            <a:ext cx="3436920" cy="24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20" y="343080"/>
            <a:ext cx="4835520" cy="83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Расческа» -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закусить язык зубами и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ротаскивать язык между зубами вперёд-назад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ак бы причёсывая его.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50920" y="400536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 – весёлая лошадка,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ёмная, как шоколадка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зычком пощелкай громко –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вук копыт услышишь звонкий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D03AE-BF06-451D-A211-A50813BFC70A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Рисунок 6" descr="__14324"/>
          <p:cNvPicPr/>
          <p:nvPr/>
        </p:nvPicPr>
        <p:blipFill>
          <a:blip r:embed="rId1"/>
          <a:stretch/>
        </p:blipFill>
        <p:spPr>
          <a:xfrm>
            <a:off x="4788000" y="476280"/>
            <a:ext cx="3666960" cy="208908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1"/>
          <p:cNvSpPr/>
          <p:nvPr/>
        </p:nvSpPr>
        <p:spPr>
          <a:xfrm>
            <a:off x="250920" y="2714760"/>
            <a:ext cx="6064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Лошадка» - 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открыть рот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днять язык вверх, присосать к верхнему нёбу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ончик языка. Щёлкать языком. Челюсть неподвижна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широкий язык за верхними зубами и не подворачивается внутрь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полнять 5-6 раз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Рисунок 10" descr="лошадка.jpg"/>
          <p:cNvPicPr/>
          <p:nvPr/>
        </p:nvPicPr>
        <p:blipFill>
          <a:blip r:embed="rId2"/>
          <a:stretch/>
        </p:blipFill>
        <p:spPr>
          <a:xfrm>
            <a:off x="5796000" y="3932280"/>
            <a:ext cx="2881440" cy="237816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11" descr="image014.jpg"/>
          <p:cNvPicPr/>
          <p:nvPr/>
        </p:nvPicPr>
        <p:blipFill>
          <a:blip r:embed="rId3"/>
          <a:stretch/>
        </p:blipFill>
        <p:spPr>
          <a:xfrm>
            <a:off x="3780000" y="4005360"/>
            <a:ext cx="1800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447040" cy="13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Футбол». 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Рот закрыть, кончик языка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 напряжением  упирать то в одну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о в другую щёку так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чтобы под щекой надувались «мячики».</a:t>
            </a:r>
            <a:br>
              <a:rPr sz="1600"/>
            </a:b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1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A9D86-C20F-4D48-BF1B-43125B477183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Рисунок 6" descr="__12787"/>
          <p:cNvPicPr/>
          <p:nvPr/>
        </p:nvPicPr>
        <p:blipFill>
          <a:blip r:embed="rId1"/>
          <a:stretch/>
        </p:blipFill>
        <p:spPr>
          <a:xfrm>
            <a:off x="4716360" y="333360"/>
            <a:ext cx="3487680" cy="218268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"/>
          <p:cNvSpPr/>
          <p:nvPr/>
        </p:nvSpPr>
        <p:spPr>
          <a:xfrm>
            <a:off x="252000" y="2453400"/>
            <a:ext cx="3656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Ежик».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Рот закрыт. Язык движется 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нутренней стороны,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лавно очерчивая кончиком языка круг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( правая щека- под верхней губой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левая щека- под нижней губой)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атем язык двигается в обратно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аправлении. 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ак "нарисовать" по 5- 6 кругов в одн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 другую сторо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Рисунок 8" descr="__28864"/>
          <p:cNvPicPr/>
          <p:nvPr/>
        </p:nvPicPr>
        <p:blipFill>
          <a:blip r:embed="rId2"/>
          <a:stretch/>
        </p:blipFill>
        <p:spPr>
          <a:xfrm>
            <a:off x="3995640" y="2781360"/>
            <a:ext cx="46069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24000" y="26028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Кошечка»</a:t>
            </a:r>
            <a:r>
              <a:rPr b="0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лыбнуться, открыть рот.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ончиком языка упереться в нижние зубы.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а счет «раз»- выгнуть язык горкой,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упираясь кончиком языка в нижние зубы.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а счет «два» вернуться в исходное положение.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ончик языка при этом не должен отрываться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от нижних зубов, рот не закрывается.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15FE4-9B14-4D4B-BC0A-41742ABC3D70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7" descr="__12539"/>
          <p:cNvPicPr/>
          <p:nvPr/>
        </p:nvPicPr>
        <p:blipFill>
          <a:blip r:embed="rId1"/>
          <a:stretch/>
        </p:blipFill>
        <p:spPr>
          <a:xfrm>
            <a:off x="4643280" y="333360"/>
            <a:ext cx="4019760" cy="2556000"/>
          </a:xfrm>
          <a:prstGeom prst="rect">
            <a:avLst/>
          </a:prstGeom>
          <a:ln w="0">
            <a:noFill/>
          </a:ln>
        </p:spPr>
      </p:pic>
      <p:sp>
        <p:nvSpPr>
          <p:cNvPr id="438" name="Прямоугольник 9"/>
          <p:cNvSpPr/>
          <p:nvPr/>
        </p:nvSpPr>
        <p:spPr>
          <a:xfrm>
            <a:off x="324000" y="306864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арабанщики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» . Улыбнуться, открыть рот и постучать кончиком языка за верхними зубами, звонко, отчётливо и многократно повторяя «Дд-д» (при горловом Р используем «Т-т-т» ).  Темп убыстряется постепенно. Нижняя челюсть неподвижна (удерживать рукой), между зубами расстояние приблизительно два пальца ребёнк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Рисунок 10" descr="1707493ade70.jpg"/>
          <p:cNvPicPr/>
          <p:nvPr/>
        </p:nvPicPr>
        <p:blipFill>
          <a:blip r:embed="rId2"/>
          <a:stretch/>
        </p:blipFill>
        <p:spPr>
          <a:xfrm>
            <a:off x="4788000" y="3141720"/>
            <a:ext cx="40957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Номер слайда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1F4A2-59CA-4AD8-B548-D4E1894BABD4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2" descr="Картинки по запросу &quot;упражнение фокус логопед&quot;"/>
          <p:cNvPicPr/>
          <p:nvPr/>
        </p:nvPicPr>
        <p:blipFill>
          <a:blip r:embed="rId1"/>
          <a:stretch/>
        </p:blipFill>
        <p:spPr>
          <a:xfrm>
            <a:off x="966960" y="725400"/>
            <a:ext cx="7210080" cy="5407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Номер слайда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478F7-C3A9-4778-939D-33CE93615AF7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4"/>
          <p:cNvSpPr/>
          <p:nvPr/>
        </p:nvSpPr>
        <p:spPr>
          <a:xfrm>
            <a:off x="900000" y="50148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Игра "Звук тебе я не скажу, по секрету покажу. Ты его угадай и скорее называй"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узнавание гласных звуков по артикуляции, тренировка вним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2" descr="Фотография"/>
          <p:cNvPicPr/>
          <p:nvPr/>
        </p:nvPicPr>
        <p:blipFill>
          <a:blip r:embed="rId1"/>
          <a:srcRect l="0" t="0" r="0" b="2959"/>
          <a:stretch/>
        </p:blipFill>
        <p:spPr>
          <a:xfrm>
            <a:off x="2843280" y="1773360"/>
            <a:ext cx="3095640" cy="4437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Номер слайда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A6A38-D661-4A2D-BB5C-245F533DA4E1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4"/>
          <p:cNvSpPr/>
          <p:nvPr/>
        </p:nvSpPr>
        <p:spPr>
          <a:xfrm>
            <a:off x="2124000" y="981000"/>
            <a:ext cx="457200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- мы песенку запели (бегемоти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- уселись на качели (качел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- на лошади скакали (лошад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тыре - поболтали (индюк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 - по зубкам постучали (барабанщи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ь - мы в часики играли (часик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 - лакали словно кошка (лакает кошеч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емь - спела нам гармошка (гармош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ять - сделали грибок. (грибо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ь - ротик на зам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6"/>
          <p:cNvSpPr/>
          <p:nvPr/>
        </p:nvSpPr>
        <p:spPr>
          <a:xfrm>
            <a:off x="457200" y="260280"/>
            <a:ext cx="81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Дети любят играть, и когда мы объединяем отдельные упражнения в сюжет, в сказку, и они сами становятся активными участниками этой сказ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казка о веселом язычке с элементами биоэнергопластики </a:t>
            </a:r>
            <a:br>
              <a:rPr sz="8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(сочетание артикуляционной и мелкой моторики).</a:t>
            </a:r>
            <a:endParaRPr b="0" lang="en-US" sz="1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1341360"/>
            <a:ext cx="857880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(Пальцы переплетены между собой), улыбнулся Язычок (упр. "улыбка")</a:t>
            </a:r>
            <a:r>
              <a:rPr b="0" lang="ru-RU" sz="1400" spc="-1" strike="noStrike">
                <a:solidFill>
                  <a:srgbClr val="404040"/>
                </a:solidFill>
                <a:latin typeface="Arial"/>
                <a:ea typeface="Times New Roman"/>
              </a:rPr>
              <a:t>                  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 пошел дальше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8BD3C-FFE9-4F35-982D-AB582EC07E7F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Рисунок 88" descr="__28864"/>
          <p:cNvPicPr/>
          <p:nvPr/>
        </p:nvPicPr>
        <p:blipFill>
          <a:blip r:embed="rId1"/>
          <a:stretch/>
        </p:blipFill>
        <p:spPr>
          <a:xfrm>
            <a:off x="3132000" y="1844640"/>
            <a:ext cx="863640" cy="51588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9" descr="11.jpg"/>
          <p:cNvPicPr/>
          <p:nvPr/>
        </p:nvPicPr>
        <p:blipFill>
          <a:blip r:embed="rId2"/>
          <a:stretch/>
        </p:blipFill>
        <p:spPr>
          <a:xfrm>
            <a:off x="5867280" y="2133720"/>
            <a:ext cx="714600" cy="54288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11"/>
          <p:cNvSpPr/>
          <p:nvPr/>
        </p:nvSpPr>
        <p:spPr>
          <a:xfrm>
            <a:off x="250920" y="596160"/>
            <a:ext cx="84614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олнечным утром проснулся Язычок, потянулся ("потянуть ладони вверх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глянул в окно (упр. " окошко").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ъел на завтрак 5 блин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(загибать пальцы по одному) и решил отправиться на  прогулку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12"/>
          <p:cNvSpPr/>
          <p:nvPr/>
        </p:nvSpPr>
        <p:spPr>
          <a:xfrm>
            <a:off x="250920" y="1702080"/>
            <a:ext cx="806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мотрит, возле дерева Ежик сиди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13"/>
          <p:cNvSpPr/>
          <p:nvPr/>
        </p:nvSpPr>
        <p:spPr>
          <a:xfrm>
            <a:off x="4479840" y="27115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216000" y="2710080"/>
            <a:ext cx="89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дет, идет  и видит  под кустом зайчик (показать 2 пальцами ушки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грает на барабане (упр. "барабанщик"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15"/>
          <p:cNvSpPr/>
          <p:nvPr/>
        </p:nvSpPr>
        <p:spPr>
          <a:xfrm>
            <a:off x="250920" y="3359520"/>
            <a:ext cx="90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есело стало Язычку,  достал он свою дудочку (имитация пальцами игры на дудочке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16"/>
          <p:cNvSpPr/>
          <p:nvPr/>
        </p:nvSpPr>
        <p:spPr>
          <a:xfrm>
            <a:off x="250920" y="3647160"/>
            <a:ext cx="695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з кармана и стал подыгрывать зайцу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Отправился язычок дальше (имитация ходьбы 2-мя пальцами по столу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Смотрит на поляне стоит лошадка и захотелось язычку покататься (упр. "лошадка"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Rectangle 17"/>
          <p:cNvSpPr/>
          <p:nvPr/>
        </p:nvSpPr>
        <p:spPr>
          <a:xfrm>
            <a:off x="250920" y="4477680"/>
            <a:ext cx="907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друг услышал язычок,  кто-то мяукает. Посмотрел по сторонам (повороты головы влево - вправо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 это котенок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18"/>
          <p:cNvSpPr/>
          <p:nvPr/>
        </p:nvSpPr>
        <p:spPr>
          <a:xfrm>
            <a:off x="250920" y="5020560"/>
            <a:ext cx="8642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гладил его Язычок (плавные движения ладонью сверху вниз). И так он ему понравился, что взял Язычок котенка себе домой. Дома Язычок налил котёнку полную миску молока (ладони  сложили  как мисочку. А себе молоко налил в чашечку (упр. "чашечка").                   Вот и вечер наступил, стал язычок зевать (рот открывать и закрывать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тирать глаза (кулачками слегка потереть закрытые глаза), почистил зубы (упр. "почистим зубы") и улегся спа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2" descr="http://images.myshared.ru/7/814535/slide_5.jpg"/>
          <p:cNvPicPr/>
          <p:nvPr/>
        </p:nvPicPr>
        <p:blipFill>
          <a:blip r:embed="rId3"/>
          <a:stretch/>
        </p:blipFill>
        <p:spPr>
          <a:xfrm>
            <a:off x="3059280" y="907920"/>
            <a:ext cx="433080" cy="4255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2" descr="http://images.myshared.ru/7/814535/slide_5.jpg"/>
          <p:cNvPicPr/>
          <p:nvPr/>
        </p:nvPicPr>
        <p:blipFill>
          <a:blip r:embed="rId4"/>
          <a:stretch/>
        </p:blipFill>
        <p:spPr>
          <a:xfrm>
            <a:off x="3564000" y="907920"/>
            <a:ext cx="438120" cy="4334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__64059"/>
          <p:cNvPicPr/>
          <p:nvPr/>
        </p:nvPicPr>
        <p:blipFill>
          <a:blip r:embed="rId5"/>
          <a:stretch/>
        </p:blipFill>
        <p:spPr>
          <a:xfrm>
            <a:off x="2340000" y="1341360"/>
            <a:ext cx="936720" cy="432000"/>
          </a:xfrm>
          <a:prstGeom prst="rect">
            <a:avLst/>
          </a:prstGeom>
          <a:ln w="0">
            <a:noFill/>
          </a:ln>
        </p:spPr>
      </p:pic>
      <p:pic>
        <p:nvPicPr>
          <p:cNvPr id="464" name="Рисунок 26" descr="1707493ade70.jpg"/>
          <p:cNvPicPr/>
          <p:nvPr/>
        </p:nvPicPr>
        <p:blipFill>
          <a:blip r:embed="rId6"/>
          <a:stretch/>
        </p:blipFill>
        <p:spPr>
          <a:xfrm>
            <a:off x="5508720" y="2781360"/>
            <a:ext cx="896760" cy="488880"/>
          </a:xfrm>
          <a:prstGeom prst="rect">
            <a:avLst/>
          </a:prstGeom>
          <a:ln w="0">
            <a:noFill/>
          </a:ln>
        </p:spPr>
      </p:pic>
      <p:pic>
        <p:nvPicPr>
          <p:cNvPr id="465" name="Рисунок 27" descr="image.jpg"/>
          <p:cNvPicPr/>
          <p:nvPr/>
        </p:nvPicPr>
        <p:blipFill>
          <a:blip r:embed="rId7"/>
          <a:stretch/>
        </p:blipFill>
        <p:spPr>
          <a:xfrm>
            <a:off x="6875640" y="3284640"/>
            <a:ext cx="504720" cy="627120"/>
          </a:xfrm>
          <a:prstGeom prst="rect">
            <a:avLst/>
          </a:prstGeom>
          <a:ln w="0">
            <a:noFill/>
          </a:ln>
        </p:spPr>
      </p:pic>
      <p:pic>
        <p:nvPicPr>
          <p:cNvPr id="466" name="Рисунок 28" descr="лошадка.jpg"/>
          <p:cNvPicPr/>
          <p:nvPr/>
        </p:nvPicPr>
        <p:blipFill>
          <a:blip r:embed="rId8"/>
          <a:stretch/>
        </p:blipFill>
        <p:spPr>
          <a:xfrm>
            <a:off x="6948360" y="4005360"/>
            <a:ext cx="863640" cy="5745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__12539"/>
          <p:cNvPicPr/>
          <p:nvPr/>
        </p:nvPicPr>
        <p:blipFill>
          <a:blip r:embed="rId9"/>
          <a:stretch/>
        </p:blipFill>
        <p:spPr>
          <a:xfrm>
            <a:off x="1403280" y="4724280"/>
            <a:ext cx="647640" cy="4129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__45202"/>
          <p:cNvPicPr/>
          <p:nvPr/>
        </p:nvPicPr>
        <p:blipFill>
          <a:blip r:embed="rId10"/>
          <a:stretch/>
        </p:blipFill>
        <p:spPr>
          <a:xfrm>
            <a:off x="3564000" y="5516640"/>
            <a:ext cx="758880" cy="4158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2" descr="http://images.myshared.ru/7/814535/slide_5.jpg"/>
          <p:cNvPicPr/>
          <p:nvPr/>
        </p:nvPicPr>
        <p:blipFill>
          <a:blip r:embed="rId11"/>
          <a:stretch/>
        </p:blipFill>
        <p:spPr>
          <a:xfrm>
            <a:off x="1332000" y="5732640"/>
            <a:ext cx="431640" cy="425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2" descr="http://images.myshared.ru/7/814535/slide_5.jpg"/>
          <p:cNvPicPr/>
          <p:nvPr/>
        </p:nvPicPr>
        <p:blipFill>
          <a:blip r:embed="rId12"/>
          <a:stretch/>
        </p:blipFill>
        <p:spPr>
          <a:xfrm>
            <a:off x="1692360" y="5732640"/>
            <a:ext cx="436320" cy="4330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__19318"/>
          <p:cNvPicPr/>
          <p:nvPr/>
        </p:nvPicPr>
        <p:blipFill>
          <a:blip r:embed="rId13"/>
          <a:stretch/>
        </p:blipFill>
        <p:spPr>
          <a:xfrm>
            <a:off x="900000" y="6381720"/>
            <a:ext cx="546120" cy="3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57200" y="69228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4068"/>
                </a:solidFill>
                <a:latin typeface="Times New Roman CYR"/>
                <a:ea typeface="Times New Roman"/>
              </a:rPr>
              <a:t>Своевременное овладение правильной, чистой речью имеет  огромное значение для формирования полноценной личности. Человек с хорошо развитой речью легко вступает в общение, он может понятно выражать свои мысли и желания, задавать вопросы, договариваться о совместной деятельности. И наоборот, неясная речь весьма затрудняет взаимоотношения с окружающими и нередко накладывает тяжёлый отпечаток на характер человека. Правильная, хорошо развитая речь является одним из основных показателей готовности ребёнка к успешному обучению  в школе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4068"/>
                </a:solidFill>
                <a:latin typeface="Times New Roman CYR"/>
                <a:ea typeface="Times New Roman"/>
              </a:rPr>
              <a:t>Одним из условий нормального становления звукопроизношения является полноценная работа артикуляционного аппарата.  А  хорошая  подвижность  органов  артикуляционного  аппарата достигается  ежедневным выполнением  артикуляционной  гимнастики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A54EC-C0C1-4053-A348-F0E5FA30CD50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Рисунок 2" descr=""/>
          <p:cNvPicPr/>
          <p:nvPr/>
        </p:nvPicPr>
        <p:blipFill>
          <a:blip r:embed="rId1"/>
          <a:stretch/>
        </p:blipFill>
        <p:spPr>
          <a:xfrm>
            <a:off x="179280" y="5300640"/>
            <a:ext cx="71694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Что такое артикуляционная гимнастика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50560" y="2037960"/>
            <a:ext cx="84358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РТИКУЛЯЦИОННАЯ ГИМНАСТИКА </a:t>
            </a:r>
            <a:r>
              <a:rPr b="0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–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это совокупность особых  упражнений, способствующих укреплению мышц артикуляционного аппарата,  развитию силы, подвижности и дифференцированности движений органов,   участвующих в речевом процессе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D3D3C-97EE-419D-9656-6A8B76CB6FF3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Цель:</a:t>
            </a:r>
            <a:br>
              <a:rPr sz="2500"/>
            </a:br>
            <a:r>
              <a:rPr b="0" lang="ru-RU" sz="25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Обучение педагогов выполнению артикуляционных упражнений.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6836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1.Уточнить с педагогами название органов артикуляции (рот, верхние и нижние губы, верхние и нижние зубы, язык, кончик языка, нёбо, бугорки за верхними зубами)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2. Обучить основным движениям артикуляционного  аппарата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3. Закрепить правильное выполнение артикуляционных упражнений</a:t>
            </a:r>
            <a:r>
              <a:rPr b="0" lang="ru-RU" sz="2000" spc="-1" strike="noStrike">
                <a:solidFill>
                  <a:srgbClr val="344068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80EAD-8A5B-4C70-AEAC-EE3F37A0AA69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казания для  занятий артикуляционной гимнастикой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90332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. Некоторые дети благодаря своевременному началу занятий артикуляционной гимнастикой и упражнениям по развитию речевого слуха сами могут научиться говорить чисто и правильно, без помощи специалиста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2. Дети со сложными нарушениями звукопроизношения смогут быстрее преодолеть свои речевые дефекты, когда с ними начнёт заниматься логопед: их мышцы будут уже подготовлены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3. Артикуляционная гимнастика очень полезна детям с правильным, но вялым звукопроизношением, про которых говорят, что у них «каша во рту». Надо помнить, что чёткое произношение звуков является  основой при обучении письму на начальном этапе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4. Занятия артикуляционной гимнастикой позволят всем – и детям и взрослым – научится говорить правильно, чётко и красиво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6ECF0-04BF-412A-85C3-673A0385281D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400" y="399960"/>
            <a:ext cx="909468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ребования к проведению артикуляционной гимнастики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82760" y="178884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РТИКУЛЯЦИОННАЯ ГИМНАСТИКА проводится ежедневно по 3-5 минут  несколько раз в день;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РТИКУЛЯЦИОННАЯ ГИМНАСТИКА выполняется сидя  перед зеркалом с  обязательным соблюдением правильной осанки;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еобходимо добиваться четкого, точного, плавного выполнения движений;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начале АРТИКУЛЯЦИОННАЯ ГИМНАСТИКА выполняется медленно, неторопливо, но постепенно, по мере овладения ими, темп гимнастики  увеличивается;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омплекс АРТИКУЛЯЦИОННОЙГИМНАСТИКИ неуклонно усложняется и расширяется за счет новых упражнений;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аждое упражнение выполняется от 5до20 раз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Количество повторений возрастает по мере совершенствования артикуляционной моторики параллельно с увеличением темпа движений;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полняется АРТИКУЛЯЦИОННАЯ ГИМНАСТИКА под счет или под музыку;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ыполняется АРТИКУЛЯЦИОННАЯ ГИМНАСТИКА как индивидуально, так и со всей группой или небольшими подгруппами</a:t>
            </a: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DF0F8-0615-47E5-8798-ABF138B8837E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Органы артикуляции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68360" y="909720"/>
            <a:ext cx="864072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нание частей лица человека необходимо для знакомства ребенка с органами артикуляции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Это знание можно закрепить в играх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гра “Сказочка-указочка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зрослый читает стихотворение и вместе с ребенком показывает части лица и артикуляционные органы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е устала ты пока,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кажи, моя рука: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Это — правая </a:t>
            </a: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щека,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Это — левая щека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ы сильна, а не слаба,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дравствуй, </a:t>
            </a: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ерхняя губа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,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дравствуй,</a:t>
            </a: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нижняя губа,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ы не меньше мне люба! </a:t>
            </a:r>
            <a:br>
              <a:rPr sz="1600"/>
            </a:b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18AFC-2EA7-40F1-9AE9-1099D63E40CF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Рисунок 7" descr="10955685_73264nothumb650.jpg"/>
          <p:cNvPicPr/>
          <p:nvPr/>
        </p:nvPicPr>
        <p:blipFill>
          <a:blip r:embed="rId1"/>
          <a:stretch/>
        </p:blipFill>
        <p:spPr>
          <a:xfrm>
            <a:off x="3276720" y="2133720"/>
            <a:ext cx="2158920" cy="2087280"/>
          </a:xfrm>
          <a:prstGeom prst="rect">
            <a:avLst/>
          </a:prstGeom>
          <a:ln w="0">
            <a:noFill/>
          </a:ln>
        </p:spPr>
      </p:pic>
      <p:pic>
        <p:nvPicPr>
          <p:cNvPr id="336" name="Содержимое 9" descr="10955701_94742nothumb650.jpg"/>
          <p:cNvPicPr/>
          <p:nvPr/>
        </p:nvPicPr>
        <p:blipFill>
          <a:blip r:embed="rId2"/>
          <a:stretch/>
        </p:blipFill>
        <p:spPr>
          <a:xfrm>
            <a:off x="3203640" y="4653000"/>
            <a:ext cx="2376360" cy="107964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9" descr="10955706_27691nothumb650.jpg"/>
          <p:cNvPicPr/>
          <p:nvPr/>
        </p:nvPicPr>
        <p:blipFill>
          <a:blip r:embed="rId3"/>
          <a:stretch/>
        </p:blipFill>
        <p:spPr>
          <a:xfrm>
            <a:off x="6156360" y="4581360"/>
            <a:ext cx="2160720" cy="11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Есть у губ одна черта —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 них улыбка заперта: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право —</a:t>
            </a:r>
            <a:r>
              <a:rPr b="1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правый угол рта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,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лево — </a:t>
            </a:r>
            <a:r>
              <a:rPr b="1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левый угол рта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.</a:t>
            </a:r>
            <a:r>
              <a:rPr b="1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Подбородок</a:t>
            </a: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тянем вниз,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Чтобы с челюстью отвис.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Там — к прогулкам не привык —</a:t>
            </a:r>
            <a:br>
              <a:rPr sz="1400"/>
            </a:br>
            <a:r>
              <a:rPr b="0" lang="ru-RU" sz="14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Робко прячется язык.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77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ABF3B-161A-406E-B238-B55431F8222F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Рисунок 6" descr="10955754_38072nothumb650.jpg"/>
          <p:cNvPicPr/>
          <p:nvPr/>
        </p:nvPicPr>
        <p:blipFill>
          <a:blip r:embed="rId1"/>
          <a:stretch/>
        </p:blipFill>
        <p:spPr>
          <a:xfrm>
            <a:off x="3780000" y="333360"/>
            <a:ext cx="1296720" cy="147492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7" descr="10955760_39973nothumb650.jpg"/>
          <p:cNvPicPr/>
          <p:nvPr/>
        </p:nvPicPr>
        <p:blipFill>
          <a:blip r:embed="rId2"/>
          <a:stretch/>
        </p:blipFill>
        <p:spPr>
          <a:xfrm>
            <a:off x="6012000" y="333360"/>
            <a:ext cx="1512720" cy="1546200"/>
          </a:xfrm>
          <a:prstGeom prst="rect">
            <a:avLst/>
          </a:prstGeom>
          <a:ln w="0">
            <a:noFill/>
          </a:ln>
        </p:spPr>
      </p:pic>
      <p:pic>
        <p:nvPicPr>
          <p:cNvPr id="343" name="Содержимое 6" descr="10955777_91980nothumb650.jpg"/>
          <p:cNvPicPr/>
          <p:nvPr/>
        </p:nvPicPr>
        <p:blipFill>
          <a:blip r:embed="rId3"/>
          <a:stretch/>
        </p:blipFill>
        <p:spPr>
          <a:xfrm>
            <a:off x="3635280" y="2133720"/>
            <a:ext cx="2232000" cy="1655640"/>
          </a:xfrm>
          <a:prstGeom prst="rect">
            <a:avLst/>
          </a:prstGeom>
          <a:ln w="0">
            <a:noFill/>
          </a:ln>
        </p:spPr>
      </p:pic>
      <p:sp>
        <p:nvSpPr>
          <p:cNvPr id="344" name="TextBox 10"/>
          <p:cNvSpPr/>
          <p:nvPr/>
        </p:nvSpPr>
        <p:spPr>
          <a:xfrm>
            <a:off x="476640" y="38606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 вокруг-то — целый ряд</a:t>
            </a:r>
            <a:br>
              <a:rPr sz="1800"/>
            </a:br>
            <a:r>
              <a:rPr b="1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Зубки нижние</a:t>
            </a: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стоят:</a:t>
            </a:r>
            <a:br>
              <a:rPr sz="1800"/>
            </a:b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оковые слева, справа,</a:t>
            </a:r>
            <a:br>
              <a:rPr sz="1800"/>
            </a:b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переди — зубов опра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Содержимое 7" descr="10955792_60010nothumb650.jpg"/>
          <p:cNvPicPr/>
          <p:nvPr/>
        </p:nvPicPr>
        <p:blipFill>
          <a:blip r:embed="rId4"/>
          <a:stretch/>
        </p:blipFill>
        <p:spPr>
          <a:xfrm>
            <a:off x="3708360" y="4149720"/>
            <a:ext cx="1800360" cy="140004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12" descr="10955814_35914nothumb650.jpg"/>
          <p:cNvPicPr/>
          <p:nvPr/>
        </p:nvPicPr>
        <p:blipFill>
          <a:blip r:embed="rId5"/>
          <a:stretch/>
        </p:blipFill>
        <p:spPr>
          <a:xfrm>
            <a:off x="5796000" y="4149720"/>
            <a:ext cx="17287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Нёбо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вместо потолка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Есть во рту у языка.</a:t>
            </a:r>
            <a:br>
              <a:rPr sz="1600"/>
            </a:b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А когда открылся рот,</a:t>
            </a:r>
            <a:br>
              <a:rPr sz="1600"/>
            </a:br>
            <a:r>
              <a:rPr b="1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Язычок</a:t>
            </a:r>
            <a:r>
              <a:rPr b="0" lang="ru-RU" sz="16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 пошёл вперёд.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48" name="Содержимое 8" descr="10955833_80077nothumb650.jpg"/>
          <p:cNvPicPr/>
          <p:nvPr/>
        </p:nvPicPr>
        <p:blipFill>
          <a:blip r:embed="rId1"/>
          <a:stretch/>
        </p:blipFill>
        <p:spPr>
          <a:xfrm>
            <a:off x="2987640" y="333360"/>
            <a:ext cx="1513080" cy="1442880"/>
          </a:xfrm>
          <a:prstGeom prst="rect">
            <a:avLst/>
          </a:prstGeom>
          <a:ln w="0">
            <a:noFill/>
          </a:ln>
        </p:spPr>
      </p:pic>
      <p:sp>
        <p:nvSpPr>
          <p:cNvPr id="349" name="Номер слайда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4BAF3-0C96-4E6E-A751-70D37815EC4F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Рисунок 9" descr="10955841_44134nothumb650.jpg"/>
          <p:cNvPicPr/>
          <p:nvPr/>
        </p:nvPicPr>
        <p:blipFill>
          <a:blip r:embed="rId2"/>
          <a:stretch/>
        </p:blipFill>
        <p:spPr>
          <a:xfrm>
            <a:off x="4788000" y="404640"/>
            <a:ext cx="1368360" cy="128916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10" descr="10955849_52107nothumb650.jpg"/>
          <p:cNvPicPr/>
          <p:nvPr/>
        </p:nvPicPr>
        <p:blipFill>
          <a:blip r:embed="rId3"/>
          <a:stretch/>
        </p:blipFill>
        <p:spPr>
          <a:xfrm>
            <a:off x="6659640" y="549360"/>
            <a:ext cx="1249200" cy="1233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1"/>
          <p:cNvSpPr/>
          <p:nvPr/>
        </p:nvSpPr>
        <p:spPr>
          <a:xfrm>
            <a:off x="332280" y="2637000"/>
            <a:ext cx="30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Интересная картинка:</a:t>
            </a:r>
            <a:br>
              <a:rPr sz="1800"/>
            </a:b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Есть и кончик, есть и спинка,</a:t>
            </a:r>
            <a:br>
              <a:rPr sz="1800"/>
            </a:b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Боковые есть края —</a:t>
            </a:r>
            <a:br>
              <a:rPr sz="1800"/>
            </a:br>
            <a:r>
              <a:rPr b="0" lang="ru-RU" sz="1800" spc="-1" strike="noStrike">
                <a:solidFill>
                  <a:srgbClr val="344068"/>
                </a:solidFill>
                <a:latin typeface="Times New Roman"/>
                <a:ea typeface="Times New Roman"/>
              </a:rPr>
              <a:t>Всё про ротик знаю я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Содержимое 7" descr="10955863_28519nothumb650.jpg"/>
          <p:cNvPicPr/>
          <p:nvPr/>
        </p:nvPicPr>
        <p:blipFill>
          <a:blip r:embed="rId4"/>
          <a:stretch/>
        </p:blipFill>
        <p:spPr>
          <a:xfrm>
            <a:off x="3564000" y="3068640"/>
            <a:ext cx="1584360" cy="168912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13" descr="10955872_29669nothumb650.jpg"/>
          <p:cNvPicPr/>
          <p:nvPr/>
        </p:nvPicPr>
        <p:blipFill>
          <a:blip r:embed="rId5"/>
          <a:stretch/>
        </p:blipFill>
        <p:spPr>
          <a:xfrm>
            <a:off x="5292720" y="2997360"/>
            <a:ext cx="1366920" cy="178272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14" descr="10955875_44492nothumb650.jpg"/>
          <p:cNvPicPr/>
          <p:nvPr/>
        </p:nvPicPr>
        <p:blipFill>
          <a:blip r:embed="rId6"/>
          <a:stretch/>
        </p:blipFill>
        <p:spPr>
          <a:xfrm>
            <a:off x="6804000" y="2924280"/>
            <a:ext cx="1584360" cy="179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8T19:22:17Z</dcterms:created>
  <dc:creator>Александр</dc:creator>
  <dc:description>http://aida.ucoz.ru</dc:description>
  <dc:language>en-US</dc:language>
  <cp:lastModifiedBy>User</cp:lastModifiedBy>
  <dcterms:modified xsi:type="dcterms:W3CDTF">2024-01-25T13:41:54Z</dcterms:modified>
  <cp:revision>85</cp:revision>
  <dc:subject/>
  <dc:title>Тема проекта:  «Коррекция нарушений звукопроизношения у детей с речевой патологией»</dc:title>
</cp:coreProperties>
</file>