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712-9F9A-4E54-B5E1-85CB43B2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875-BC80-4409-B048-EF12958B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32D-DA0B-4E29-880C-E379A9B4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4BB-6239-42A4-B544-7A4E08E1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4F6-017D-481E-AD11-5ADD44CB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5BF-9908-486B-BBE6-D734A3C1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6E5-3AC4-4659-A60A-FBA8D0EA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22E-52D5-4252-96B4-5AD4DEBD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D95-A4D6-4E0C-BCF3-16736671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0E9-9F32-48DA-9FE4-0E37A57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D86-E2F2-4A60-9A89-B8B75A0C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DB5-6D99-4B64-82C9-6C1F0E0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F31E-ECCA-48FA-A484-D664733955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8" descr="Чистота жилища.jpg"/>
          <p:cNvPicPr/>
          <p:nvPr/>
        </p:nvPicPr>
        <p:blipFill>
          <a:blip r:embed="rId1"/>
          <a:stretch/>
        </p:blipFill>
        <p:spPr>
          <a:xfrm>
            <a:off x="428760" y="1857240"/>
            <a:ext cx="4039920" cy="276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4560" y="1714680"/>
            <a:ext cx="40417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бирайте комнату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чтоб она блесте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чистой комнате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чистое тел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Мытье посуды.jpg"/>
          <p:cNvPicPr/>
          <p:nvPr/>
        </p:nvPicPr>
        <p:blipFill>
          <a:blip r:embed="rId2"/>
          <a:stretch/>
        </p:blipFill>
        <p:spPr>
          <a:xfrm>
            <a:off x="571680" y="1143000"/>
            <a:ext cx="3854160" cy="3951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3280" y="1285920"/>
            <a:ext cx="404208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яз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желуд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т с ед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у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рячей в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Овощи мой.jpg"/>
          <p:cNvPicPr/>
          <p:nvPr/>
        </p:nvPicPr>
        <p:blipFill>
          <a:blip r:embed="rId2"/>
          <a:stretch/>
        </p:blipFill>
        <p:spPr>
          <a:xfrm>
            <a:off x="1214280" y="1071720"/>
            <a:ext cx="2651400" cy="3951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4560" y="1999800"/>
            <a:ext cx="404172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ук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овощ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д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горяч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otkrytye_okna-4346.jpg"/>
          <p:cNvPicPr/>
          <p:nvPr/>
        </p:nvPicPr>
        <p:blipFill>
          <a:blip r:embed="rId2"/>
          <a:stretch/>
        </p:blipFill>
        <p:spPr>
          <a:xfrm>
            <a:off x="642960" y="171468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4560" y="257148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льзя челове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закупорить в ящ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лище проветрив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учше и чащ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Вытирайте ноги.jpg"/>
          <p:cNvPicPr/>
          <p:nvPr/>
        </p:nvPicPr>
        <p:blipFill>
          <a:blip r:embed="rId2"/>
          <a:stretch/>
        </p:blipFill>
        <p:spPr>
          <a:xfrm>
            <a:off x="500040" y="150012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4560" y="1857240"/>
            <a:ext cx="404172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трите ноги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были разве,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сете  с улиц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разную грязь в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Мойдодыр.jpg"/>
          <p:cNvPicPr/>
          <p:nvPr/>
        </p:nvPicPr>
        <p:blipFill>
          <a:blip r:embed="rId2"/>
          <a:stretch/>
        </p:blipFill>
        <p:spPr>
          <a:xfrm>
            <a:off x="1143000" y="857160"/>
            <a:ext cx="2824200" cy="3951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4560" y="1642680"/>
            <a:ext cx="25002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ржите чищ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ое жили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Каждый день мойся.jpg"/>
          <p:cNvPicPr/>
          <p:nvPr/>
        </p:nvPicPr>
        <p:blipFill>
          <a:blip r:embed="rId2"/>
          <a:stretch/>
        </p:blipFill>
        <p:spPr>
          <a:xfrm>
            <a:off x="1000080" y="1857240"/>
            <a:ext cx="3508560" cy="2643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43280" y="1714320"/>
            <a:ext cx="4042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ды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не бойс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ежедневно мойся.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Чимтить зубы.jpg"/>
          <p:cNvPicPr/>
          <p:nvPr/>
        </p:nvPicPr>
        <p:blipFill>
          <a:blip r:embed="rId2"/>
          <a:stretch/>
        </p:blipFill>
        <p:spPr>
          <a:xfrm>
            <a:off x="1000080" y="1000080"/>
            <a:ext cx="2716200" cy="3951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1640" y="1213920"/>
            <a:ext cx="404172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уб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чистить дважд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ждое утр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ечер кажды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Не бери в рот.jpg"/>
          <p:cNvPicPr/>
          <p:nvPr/>
        </p:nvPicPr>
        <p:blipFill>
          <a:blip r:embed="rId1"/>
          <a:stretch/>
        </p:blipFill>
        <p:spPr>
          <a:xfrm>
            <a:off x="642960" y="1143000"/>
            <a:ext cx="3809880" cy="392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43680" y="1857240"/>
            <a:ext cx="325584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, что брал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ужие рт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вой р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бери и 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1529449На природе.jpg"/>
          <p:cNvPicPr/>
          <p:nvPr/>
        </p:nvPicPr>
        <p:blipFill>
          <a:blip r:embed="rId2"/>
          <a:stretch/>
        </p:blipFill>
        <p:spPr>
          <a:xfrm>
            <a:off x="428760" y="1714680"/>
            <a:ext cx="4039920" cy="3030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85840" y="2142720"/>
            <a:ext cx="4041720" cy="23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тхлым воздухом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знь реж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вари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дыхайт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на воздухе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свеж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Перед сном.jpg"/>
          <p:cNvPicPr/>
          <p:nvPr/>
        </p:nvPicPr>
        <p:blipFill>
          <a:blip r:embed="rId2"/>
          <a:stretch/>
        </p:blipFill>
        <p:spPr>
          <a:xfrm>
            <a:off x="642960" y="1214280"/>
            <a:ext cx="2963880" cy="3951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57440" y="142848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те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до спа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роветренной    комна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UserXP\Мои документы\Мои рисунки\32218 Сон.jpg"/>
          <p:cNvPicPr/>
          <p:nvPr/>
        </p:nvPicPr>
        <p:blipFill>
          <a:blip r:embed="rId3"/>
          <a:stretch/>
        </p:blipFill>
        <p:spPr>
          <a:xfrm>
            <a:off x="5000760" y="3786120"/>
            <a:ext cx="221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4560" y="257148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ок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те эт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но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жизни и света.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7" descr="Мытье окон.jpg"/>
          <p:cNvPicPr/>
          <p:nvPr/>
        </p:nvPicPr>
        <p:blipFill>
          <a:blip r:embed="rId2"/>
          <a:stretch/>
        </p:blipFill>
        <p:spPr>
          <a:xfrm>
            <a:off x="714240" y="1143000"/>
            <a:ext cx="3762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Y0ZUCAN04BS3CAGTFZDBCAFBZY2FCAUYXS8NCA6YRN8SCAS4V40ACA0HDCR3CAYFVP3ICA0VF6Y2CAL1GIR2CARP4BR2CANUS57SCAC8XRCVCA Руки мой.jpg"/>
          <p:cNvPicPr/>
          <p:nvPr/>
        </p:nvPicPr>
        <p:blipFill>
          <a:blip r:embed="rId2"/>
          <a:stretch/>
        </p:blipFill>
        <p:spPr>
          <a:xfrm>
            <a:off x="500040" y="1643040"/>
            <a:ext cx="4040280" cy="2914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85840" y="192852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варищ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мылом и вод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ру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перед е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полощем рот.jpg"/>
          <p:cNvPicPr/>
          <p:nvPr/>
        </p:nvPicPr>
        <p:blipFill>
          <a:blip r:embed="rId2"/>
          <a:stretch/>
        </p:blipFill>
        <p:spPr>
          <a:xfrm>
            <a:off x="500040" y="1714680"/>
            <a:ext cx="4040280" cy="252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72040" y="2000160"/>
            <a:ext cx="354168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те в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 ты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шу приняв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полощите р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6:20:59Z</dcterms:created>
  <dc:creator>UserXP</dc:creator>
  <dc:description/>
  <dc:language>en-US</dc:language>
  <cp:lastModifiedBy>Денис</cp:lastModifiedBy>
  <dcterms:modified xsi:type="dcterms:W3CDTF">2024-02-29T16:42:13Z</dcterms:modified>
  <cp:revision>19</cp:revision>
  <dc:subject/>
  <dc:title>В.В. Маяковский </dc:title>
</cp:coreProperties>
</file>