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0E86-4864-4D98-9828-1600C525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9D48-8293-4285-B9CA-ABC586F8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6DC-60FB-4F48-BBC0-4AF1E35C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36E0-08E1-42F9-96F5-23E292FD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77FF9-6445-4628-B3BF-AF6BFAF4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28980-13CB-4D1E-BFDE-BD98E8C0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08D61-6DF1-4900-B712-27D6EF2C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0DD87-BF3C-470E-AE59-63FE3ED2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3734D-80B2-4C91-B85C-7CD4F6F0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12A88-AEC1-4056-B3E6-89B5031A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F5866-F92F-4174-B134-953918EC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3ACE-4F3A-48A2-AB56-49577FFC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C45A8-BD52-445A-930B-895D7FF2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16EC9-6A76-4690-96A4-4D43372E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9F55F-EFE8-451F-A9D6-7E9558F3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341B1-09EF-4CD4-9099-6CAD36CB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F6D03-F44F-4DD9-89AC-D573BBB3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532-7682-4FD9-8CEB-EA65E414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696-65FD-4A3D-88F8-173598C0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8AC-5BD5-4CCD-B981-8D6AC1E0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54E5-2C83-4B91-8797-885B3439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D164-4AC8-4203-AF80-77EADB2B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5A6A-ABE3-45A1-83D4-29874F9A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0BC-25F5-4CE6-A166-4874E644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EFF5-0CDD-4F19-AD41-7CB2158CD0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0DB2-A21D-4729-8C93-9A403C703F7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15796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м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187280" y="2205000"/>
            <a:ext cx="734544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оперативное взаимодействие учителя, логопеда, родителей в реализации задач индивидуальных образовательных маршрутов обучающихся  на уроках пись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(отчёт по реализации программы «Формирование графических навыков письма букв, их соединения в слова у обучающихся со сложной структурой дефекта на основе реализации задач ИОМ) .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читель:  Филина  В.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2020 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rcRect l="5402" t="0" r="5402" b="16896"/>
          <a:stretch/>
        </p:blipFill>
        <p:spPr>
          <a:xfrm>
            <a:off x="1116000" y="981000"/>
            <a:ext cx="7129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ятельность учителя, учителя-логопеда, родителе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 реализации задач индивидуальных образовательных маршрутов Масанова  Имама и Гахраманова Азада. в коррекционно-воспитательном и оздоровительном направления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8000" y="2017800"/>
          <a:ext cx="8847000" cy="3833640"/>
        </p:xfrm>
        <a:graphic>
          <a:graphicData uri="http://schemas.openxmlformats.org/drawingml/2006/table">
            <a:tbl>
              <a:tblPr/>
              <a:tblGrid>
                <a:gridCol w="2327400"/>
                <a:gridCol w="3095280"/>
                <a:gridCol w="3424320"/>
              </a:tblGrid>
              <a:tr h="91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ятельность участников образовательного процесс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формировать у  Масанова  Имама умение различать сходные по начертанию графемы и  правильно соединять буквы в слова, списывая по слогам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формировать у Гахраманова Азада умение различать сходные по произношению звуки и верно определять их графическое начертание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ррекционно-воспитательное направл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актические упражнения по соблюдению орфографического режима: написание буквы на рабочей строке, правильное и аккуратное исправление допущенных ошибок, проговаривание действий при выполнении заданий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здоровительное направл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Беседы с родителями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 «Организация режима дня», «Профилактические мероприятия по организации рабочего места в домашних условиях»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Беседы с детьми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 «Чтобы глаза видели». «Как правильно сидеть за партой»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Работа на уроке: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Практические занятия с детьми (разучивание гимнастики для глаз по профилактике зрительного утомления; выполнение комплекса упражнений для формирования правильной осанки); подбор коррекционных приемов работы и смена видов деятель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2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ультаты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ализации зад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нтябрь-декабрь 2016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формированность навыков графического письма букв и их соединений в слова составляет соответственно 30% и 2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формированность навыков графического письма букв и их соединений в слова составляет соответственно 50% и 4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намик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ы взаимодействия с родителями по реализации задач индивидуальных образовательных маршру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сультации учителя, логопе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дагогические лектории «Школа для родителе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дительские собр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мейные логопедические заня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заимодействие учителя, учителя-логопеда и родителей является одним из эффективных средств в реализации задач индивидуальных образовательных маршрутов обучающихся, воспитанников в учебно-коррекционном, коррекционно-воспитательном, оздоровительном направлен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месте с тем хочется отметить, что я использую не все формы взаимодействия с родителями, учителем-логопедом, поэтому в своей работе вижу перспективы, связанные с расширением информационного и консультативного направлений по реализации коррекционно -воспитательных  задач на уро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ложения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Для отслеживания успешности в формировании навыков графически правильного письма предъявлять родителям информационную справку по реализации задач индивидуального образовательного маршрута в усвоении программного материала по предмету «Письмо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Доработать диагностический инструментарий с целью определения готовности ребенка к новому этапу обучения письму для подбора наиболее эффективных методов и приемов коррекционного воздейств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Активизировать форму консультативной работы по реализации задач в учебно-коррекционном и коррекционно-воспитательном направлен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Доработать план взаимодействия учителя, учителя-логопеда, родителей на основе внедрения в образовательный процесс интерактивные методов и прием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ель взаимодейств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здать образец кооперативного взаимодействия учителя, логопеда, родителей (или лиц их заменяющих ) в реализации задачи индивидуального образовательного маршрута по формированию графических навыков письма букв, их соединений в слова у обучающихся  с интеллектуальной недостаточностью (сложной структурой дефек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4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апы взаимодействия учителя,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я – логопеда по формированию навыков графического письма букв у обучающихся индивидуально на д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11280" y="1844640"/>
          <a:ext cx="7483320" cy="5113440"/>
        </p:xfrm>
        <a:graphic>
          <a:graphicData uri="http://schemas.openxmlformats.org/drawingml/2006/table">
            <a:tbl>
              <a:tblPr/>
              <a:tblGrid>
                <a:gridCol w="1085760"/>
                <a:gridCol w="639756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ок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ач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1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нтябр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еспечить материальную и методическую базу для работы над формированием навыков графического письма букв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означение приоритетных задач посредством обсуждения результатов диагностики по состоянию ВПФ, уровню речевого развития, сформированности ЗУН по русскому языку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спределение обучающихся, воспитанников по группам согласно классификации В.В. Воронков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Определение во взаимодействии с учителем-логопедом коррекционно-развивающих приемов работы по формированию навыков графического письма букв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Прогнозирование ожидаемого результата по формированию навыков графического письма букв у обучающихся в контексте урока и логопедического зан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ктябрь-дека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нварь - апр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формировать навыки графического письма букв у обучающихся с учетом возможностей ребенка посредством использования интерактивных технологий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менение подобранных методов и приемов коррекционной работы на уроках, логопедических занятиях, их корректировка в соответствии с мониторинговыми данны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кабрь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следить результативность обучения на уровне возможностей ребенка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Организация текущего контроля по усвоению ЗУН по  формированию навыков графического письма букв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ведение контрольных срезов (1 раз в четверть)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уществление сравнительного анализа обучения на начало и конец учебного года (достижения, недостатки, пути исправлен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50720" y="0"/>
            <a:ext cx="77929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дачи индивидуальных образовательных маршрутов Масанова Имама и Гахраманова Азада в учебно-коррекционном направл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00" y="1341360"/>
          <a:ext cx="8496000" cy="5864400"/>
        </p:xfrm>
        <a:graphic>
          <a:graphicData uri="http://schemas.openxmlformats.org/drawingml/2006/table">
            <a:tbl>
              <a:tblPr/>
              <a:tblGrid>
                <a:gridCol w="1368360"/>
                <a:gridCol w="3384360"/>
                <a:gridCol w="3743280"/>
              </a:tblGrid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ятельность участников образовательного процесс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формировать  у Масанова Имама умение различать сходные по начертанию графемы и  правильно соединять буквы в слова, списывая по слога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формировать у Гахраманова Азада  умение различать сходные по произношению звуки и верно определять их графическое начертание.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90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ител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р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сульт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ределение способов соединения отдельных букв, слогов  в слово; тактильное опознание «наждачных» букв; «алфавит телодвижений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Виды соединений букв», «Обучение списыванию по слогам, проговаривая написанное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рмолексия - опознание рисунка буквы на ладони ребёнка; соотношение буквы с первым  звуком слова на картинке; рисование, лепка пар букв сходных по звуковому произношению; анализ и синтез буквенных знаков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Дифференциация букв по оптическому и кинетическому сходству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огопед коррекционно-развивающие зан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сульт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водка пальцем контуров  выпуклых рельефов букв; конструирование из элементов сходных по начертанию букв; преобразование буквы по схеме: цвет-форма-разме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Приемы деления слов на слог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становка нарушенных звуков; дифференциация смешиваемых звуков и букв; распознание букв на разном фоне, в разном цвете, положении, разной величин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ределение звука по его артикуля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Приемы отработки поставленного звук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ди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полняют рекомендации логопеда и учителя в соответствии с имеющимися у детей нарушениями письма и рекомендованными приемами  по их устранени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2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ультаты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ализации задач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нтябрь-декабрь 201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формированность навыков графического письма букв и их соединений в слова составляет соответственно 30% и 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формированность навыков графического письма букв и их соединений в слова составляет соответственно 50% и 4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намик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рмолекс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Проект, интерурок 034"/>
          <p:cNvPicPr/>
          <p:nvPr/>
        </p:nvPicPr>
        <p:blipFill>
          <a:blip r:embed="rId1"/>
          <a:stretch/>
        </p:blipFill>
        <p:spPr>
          <a:xfrm>
            <a:off x="684360" y="907920"/>
            <a:ext cx="3671640" cy="2756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SC02413"/>
          <p:cNvPicPr/>
          <p:nvPr/>
        </p:nvPicPr>
        <p:blipFill>
          <a:blip r:embed="rId2"/>
          <a:srcRect l="7355" t="0" r="0" b="12628"/>
          <a:stretch/>
        </p:blipFill>
        <p:spPr>
          <a:xfrm>
            <a:off x="2843280" y="3933720"/>
            <a:ext cx="3600360" cy="254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Проект, интерурок 036"/>
          <p:cNvPicPr/>
          <p:nvPr/>
        </p:nvPicPr>
        <p:blipFill>
          <a:blip r:embed="rId3"/>
          <a:srcRect l="0" t="19619" r="0" b="0"/>
          <a:stretch/>
        </p:blipFill>
        <p:spPr>
          <a:xfrm>
            <a:off x="5364000" y="907920"/>
            <a:ext cx="3191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менение компьютерных технологий в обучении грамо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DSC02418"/>
          <p:cNvPicPr/>
          <p:nvPr/>
        </p:nvPicPr>
        <p:blipFill>
          <a:blip r:embed="rId1"/>
          <a:stretch/>
        </p:blipFill>
        <p:spPr>
          <a:xfrm>
            <a:off x="3851280" y="4005360"/>
            <a:ext cx="3672000" cy="260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DSC02426"/>
          <p:cNvPicPr/>
          <p:nvPr/>
        </p:nvPicPr>
        <p:blipFill>
          <a:blip r:embed="rId2"/>
          <a:stretch/>
        </p:blipFill>
        <p:spPr>
          <a:xfrm>
            <a:off x="4932360" y="907920"/>
            <a:ext cx="3592440" cy="2695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DSC02427"/>
          <p:cNvPicPr/>
          <p:nvPr/>
        </p:nvPicPr>
        <p:blipFill>
          <a:blip r:embed="rId3"/>
          <a:srcRect l="0" t="30390" r="0" b="0"/>
          <a:stretch/>
        </p:blipFill>
        <p:spPr>
          <a:xfrm>
            <a:off x="684360" y="907920"/>
            <a:ext cx="30207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еобразование букв и слогов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 цвету, форме, разме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6" descr="Проект, интерурок 028"/>
          <p:cNvPicPr/>
          <p:nvPr/>
        </p:nvPicPr>
        <p:blipFill>
          <a:blip r:embed="rId1"/>
          <a:stretch/>
        </p:blipFill>
        <p:spPr>
          <a:xfrm>
            <a:off x="250920" y="1484280"/>
            <a:ext cx="3517920" cy="2638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Проект, интерурок 029"/>
          <p:cNvPicPr/>
          <p:nvPr/>
        </p:nvPicPr>
        <p:blipFill>
          <a:blip r:embed="rId2"/>
          <a:stretch/>
        </p:blipFill>
        <p:spPr>
          <a:xfrm>
            <a:off x="5219640" y="141300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Проект, интерурок 030"/>
          <p:cNvPicPr/>
          <p:nvPr/>
        </p:nvPicPr>
        <p:blipFill>
          <a:blip r:embed="rId3"/>
          <a:stretch/>
        </p:blipFill>
        <p:spPr>
          <a:xfrm>
            <a:off x="3132000" y="4221000"/>
            <a:ext cx="315756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нализ и синтез бук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руппировка стилизованных бук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Проект, интерурок 032"/>
          <p:cNvPicPr/>
          <p:nvPr/>
        </p:nvPicPr>
        <p:blipFill>
          <a:blip r:embed="rId1"/>
          <a:srcRect l="10665" t="0" r="0" b="0"/>
          <a:stretch/>
        </p:blipFill>
        <p:spPr>
          <a:xfrm>
            <a:off x="611280" y="1700280"/>
            <a:ext cx="3019320" cy="4176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Проект, интерурок 033"/>
          <p:cNvPicPr/>
          <p:nvPr/>
        </p:nvPicPr>
        <p:blipFill>
          <a:blip r:embed="rId2"/>
          <a:srcRect l="8169" t="0" r="3256" b="0"/>
          <a:stretch/>
        </p:blipFill>
        <p:spPr>
          <a:xfrm>
            <a:off x="4572000" y="1557360"/>
            <a:ext cx="3889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пражнение на коррекцию зрительного восприятия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Eris1"/>
          <p:cNvPicPr/>
          <p:nvPr/>
        </p:nvPicPr>
        <p:blipFill>
          <a:blip r:embed="rId1"/>
          <a:stretch/>
        </p:blipFill>
        <p:spPr>
          <a:xfrm>
            <a:off x="2484360" y="2349360"/>
            <a:ext cx="420552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31680" y="1773360"/>
            <a:ext cx="908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- Отметь крестиком те элементы, из которых можно составить букву «К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4:39:22Z</dcterms:created>
  <dc:creator>1</dc:creator>
  <dc:description/>
  <dc:language>en-US</dc:language>
  <cp:lastModifiedBy>1663258</cp:lastModifiedBy>
  <dcterms:modified xsi:type="dcterms:W3CDTF">2024-03-01T08:58:42Z</dcterms:modified>
  <cp:revision>25</cp:revision>
  <dc:subject/>
  <dc:title>Взаимодействие семьи и школы по реализации задач индивидуального образовательного маршрута в оздоровительном аспекте.</dc:title>
</cp:coreProperties>
</file>