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1C2-515D-4471-A191-586351C3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0B9-134B-4F71-A5FF-5B02981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75B-799D-4300-AAC9-EC25EDFB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DDF-03FB-40A6-B416-5F6FB78B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4B1EB-2536-4856-929F-1752CD6E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1CF43-81A7-4B45-A06B-D4EA7B7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A0F7F-63E3-49DE-ADA7-65CD011C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E2375-BC4F-4F3B-A489-8D9193C4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D168B-2734-439F-BEBF-39C1C40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81A1C-CA7E-4BEC-AE31-3E06D580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D132B-BF28-4EAB-AAF2-8602BA2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2CA-59B7-4CA7-AFD0-772B1E6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330E7-D88D-49EE-AC8C-95D83F5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D70A4-EEC4-4554-9C47-23DBD81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AE72-C82C-4AEF-849C-F29F562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C3B5E-8243-467F-A8B6-BBD7B47F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1645F-4CE7-421A-A226-E990ECB9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9EE-C922-4111-9094-82B09805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D45-5F34-4E1D-BE77-71B32FC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C1B-049E-47D6-BE60-EEF99FC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AF1-CB98-4D5B-93CA-C337004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8BD-303D-48A4-80DE-C87F2C0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B50-71F7-4ACA-8765-56C6B0F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E3D-60EB-4958-9BD7-7D60B062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C4AA-D929-4351-8CE4-FF54AB6F2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092E-AD42-40AD-8E08-22BAA6DFDE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1579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87280" y="2205000"/>
            <a:ext cx="7345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оперативное взаимодействие учителя, логопеда, родителей в реализации задач индивидуальных образовательных маршрутов обучающихся  на уроках пись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(отчёт по реализации программы «Формирование графических навыков письма букв, их соединения в слова у обучающихся со сложной структурой дефекта на основе реализации задач ИОМ) .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ель:  Филина  В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020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5402" t="0" r="5402" b="16896"/>
          <a:stretch/>
        </p:blipFill>
        <p:spPr>
          <a:xfrm>
            <a:off x="1116000" y="981000"/>
            <a:ext cx="7129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ь учителя, учителя-логопеда, родител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реализации задач индивидуальных образовательных маршрутов Масанова  Имама и Гахраманова Азада. в коррекционно-воспитательном и оздоровительном направл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2017800"/>
          <a:ext cx="8847000" cy="3833640"/>
        </p:xfrm>
        <a:graphic>
          <a:graphicData uri="http://schemas.openxmlformats.org/drawingml/2006/table">
            <a:tbl>
              <a:tblPr/>
              <a:tblGrid>
                <a:gridCol w="2327400"/>
                <a:gridCol w="3095280"/>
                <a:gridCol w="3424320"/>
              </a:tblGrid>
              <a:tr h="91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 Масанова  Имама умение различать сходные по начертанию графемы и  правильно соединять буквы в слова, списывая по слог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Гахраманова Азада умение различать сходные по произношению звуки и верно определять их графическое начертание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рекционно-воспитательное напра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ктические упражнения по соблюдению орфографического режима: написание буквы на рабочей строке, правильное и аккуратное исправление допущенных ошибок, проговаривание действий при выполнении заданий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доровительное напра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Беседы с родителями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«Организация режима дня», «Профилактические мероприятия по организации рабочего места в домашних условиях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Беседы с детьми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«Чтобы глаза видели». «Как правильно сидеть за партой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Работа на уроке: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рактические занятия с детьми (разучивание гимнастики для глаз по профилактике зрительного утомления; выполнение комплекса упражнений для формирования правильной осанки); подбор коррекционных приемов работы и смена видов деятель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и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декабрь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30% и 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50% и 4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ы взаимодействия с родителями по реализации задач индивидуальных образовательных маршру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учителя, логопе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дагогические лектории «Школа для родител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тельские собр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логопедические зан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 учителя, учителя-логопеда и родителей является одним из эффективных средств в реализации задач индивидуальных образовательных маршрутов обучающихся, воспитанников в учебно-коррекционном, коррекционно-воспитательном, оздоровительном направл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месте с тем хочется отметить, что я использую не все формы взаимодействия с родителями, учителем-логопедом, поэтому в своей работе вижу перспективы, связанные с расширением информационного и консультативного направлений по реализации коррекционно -воспитательных  задач на уро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отслеживания успешности в формировании навыков графически правильного письма предъявлять родителям информационную справку по реализации задач индивидуального образовательного маршрута в усвоении программного материала по предмету «Письм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Доработать диагностический инструментарий с целью определения готовности ребенка к новому этапу обучения письму для подбора наиболее эффективных методов и приемов коррекционного воздей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изировать форму консультативной работы по реализации задач в учебно-коррекционном и коррекционно-воспитательном направлен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Доработать план взаимодействия учителя, учителя-логопеда, родителей на основе внедрения в образовательный процесс интерактивные методов и прием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ь взаимо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ть образец кооперативного взаимодействия учителя, логопеда, родителей (или лиц их заменяющих ) в реализации задачи индивидуального образовательного маршрута по формированию графических навыков письма букв, их соединений в слова у обучающихся  с интеллектуальной недостаточностью (сложной структурой дефек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пы взаимодействия учителя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я – логопеда по формированию навыков графического письма букв у обучающихся индивидуально на д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844640"/>
          <a:ext cx="7483320" cy="5113440"/>
        </p:xfrm>
        <a:graphic>
          <a:graphicData uri="http://schemas.openxmlformats.org/drawingml/2006/table">
            <a:tbl>
              <a:tblPr/>
              <a:tblGrid>
                <a:gridCol w="1085760"/>
                <a:gridCol w="639756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еспечить материальную и методическую базу для работы над формированием навыков графического письма букв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означение приоритетных задач посредством обсуждения результатов диагностики по состоянию ВПФ, уровню речевого развития, сформированности ЗУН по русскому язы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пределение обучающихся, воспитанников по группам согласно классификации В.В. Воронк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Определение во взаимодействии с учителем-логопедом коррекционно-развивающих приемов работы по формированию навыков графического письма бук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рогнозирование ожидаемого результата по формированию навыков графического письма букв у обучающихся в контексте урока и логопедического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тябрь-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 - 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навыки графического письма букв у обучающихся с учетом возможностей ребенка посредством использования интерактивных технологий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нение подобранных методов и приемов коррекционной работы на уроках, логопедических занятиях, их корректировка в соответствии с мониторинговыми данны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кабрь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следить результативность обучения на уровне возможностей ребенк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Организация текущего контроля по усвоению ЗУН по  формированию навыков графического письма бук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контрольных срезов (1 раз в четверть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уществление сравнительного анализа обучения на начало и конец учебного года (достижения, недостатки, пути исправл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дачи индивидуальных образовательных маршрутов Масанова Имама и Гахраманова Азада в учебно-коррекционном направл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341360"/>
          <a:ext cx="8496000" cy="586440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743280"/>
              </a:tblGrid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 у Масанова Имама умение различать сходные по начертанию графемы и  правильно соединять буквы в слова, списывая по слога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формировать у Гахраманова Азада  умение различать сходные по произношению звуки и верно определять их графическое начертание.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способов соединения отдельных букв, слогов  в слово; тактильное опознание «наждачных» букв; «алфавит телодвижений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иды соединений букв», «Обучение списыванию по слогам, проговаривая написанно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рмолексия - опознание рисунка буквы на ладони ребёнка; соотношение буквы с первым  звуком слова на картинке; рисование, лепка пар букв сходных по звуковому произношению; анализ и синтез буквенных знаков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Дифференциация букв по оптическому и кинетическому сходств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опед коррекционно-развивающи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водка пальцем контуров  выпуклых рельефов букв; конструирование из элементов сходных по начертанию букв; преобразование буквы по схеме: цвет-форма-разм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риемы деления слов на слог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тановка нарушенных звуков; дифференциация смешиваемых звуков и букв; распознание букв на разном фоне, в разном цвете, положении, разной величин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звука по его артикуля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риемы отработки поставленного зву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яют рекомендации логопеда и учителя в соответствии с имеющимися у детей нарушениями письма и рекомендованными приемами  по их устранен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и зад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декабрь 201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30% и 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ормированность навыков графического письма букв и их соединений в слова составляет соответственно 50% и 4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нам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молекс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Проект, интерурок 034"/>
          <p:cNvPicPr/>
          <p:nvPr/>
        </p:nvPicPr>
        <p:blipFill>
          <a:blip r:embed="rId1"/>
          <a:stretch/>
        </p:blipFill>
        <p:spPr>
          <a:xfrm>
            <a:off x="684360" y="907920"/>
            <a:ext cx="3671640" cy="275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2413"/>
          <p:cNvPicPr/>
          <p:nvPr/>
        </p:nvPicPr>
        <p:blipFill>
          <a:blip r:embed="rId2"/>
          <a:srcRect l="7355" t="0" r="0" b="12628"/>
          <a:stretch/>
        </p:blipFill>
        <p:spPr>
          <a:xfrm>
            <a:off x="2843280" y="3933720"/>
            <a:ext cx="3600360" cy="25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Проект, интерурок 036"/>
          <p:cNvPicPr/>
          <p:nvPr/>
        </p:nvPicPr>
        <p:blipFill>
          <a:blip r:embed="rId3"/>
          <a:srcRect l="0" t="19619" r="0" b="0"/>
          <a:stretch/>
        </p:blipFill>
        <p:spPr>
          <a:xfrm>
            <a:off x="5364000" y="907920"/>
            <a:ext cx="319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ение компьютерных технологий в обучении грамо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DSC02418"/>
          <p:cNvPicPr/>
          <p:nvPr/>
        </p:nvPicPr>
        <p:blipFill>
          <a:blip r:embed="rId1"/>
          <a:stretch/>
        </p:blipFill>
        <p:spPr>
          <a:xfrm>
            <a:off x="3851280" y="4005360"/>
            <a:ext cx="3672000" cy="260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SC02426"/>
          <p:cNvPicPr/>
          <p:nvPr/>
        </p:nvPicPr>
        <p:blipFill>
          <a:blip r:embed="rId2"/>
          <a:stretch/>
        </p:blipFill>
        <p:spPr>
          <a:xfrm>
            <a:off x="4932360" y="907920"/>
            <a:ext cx="3592440" cy="269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SC02427"/>
          <p:cNvPicPr/>
          <p:nvPr/>
        </p:nvPicPr>
        <p:blipFill>
          <a:blip r:embed="rId3"/>
          <a:srcRect l="0" t="30390" r="0" b="0"/>
          <a:stretch/>
        </p:blipFill>
        <p:spPr>
          <a:xfrm>
            <a:off x="684360" y="907920"/>
            <a:ext cx="30207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образование букв и слогов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цвету, форме, разм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Проект, интерурок 028"/>
          <p:cNvPicPr/>
          <p:nvPr/>
        </p:nvPicPr>
        <p:blipFill>
          <a:blip r:embed="rId1"/>
          <a:stretch/>
        </p:blipFill>
        <p:spPr>
          <a:xfrm>
            <a:off x="250920" y="1484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Проект, интерурок 029"/>
          <p:cNvPicPr/>
          <p:nvPr/>
        </p:nvPicPr>
        <p:blipFill>
          <a:blip r:embed="rId2"/>
          <a:stretch/>
        </p:blipFill>
        <p:spPr>
          <a:xfrm>
            <a:off x="5219640" y="1413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Проект, интерурок 030"/>
          <p:cNvPicPr/>
          <p:nvPr/>
        </p:nvPicPr>
        <p:blipFill>
          <a:blip r:embed="rId3"/>
          <a:stretch/>
        </p:blipFill>
        <p:spPr>
          <a:xfrm>
            <a:off x="3132000" y="4221000"/>
            <a:ext cx="31575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ализ и синтез бук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уппировка стилизованных бук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Проект, интерурок 032"/>
          <p:cNvPicPr/>
          <p:nvPr/>
        </p:nvPicPr>
        <p:blipFill>
          <a:blip r:embed="rId1"/>
          <a:srcRect l="10665" t="0" r="0" b="0"/>
          <a:stretch/>
        </p:blipFill>
        <p:spPr>
          <a:xfrm>
            <a:off x="611280" y="1700280"/>
            <a:ext cx="3019320" cy="41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Проект, интерурок 033"/>
          <p:cNvPicPr/>
          <p:nvPr/>
        </p:nvPicPr>
        <p:blipFill>
          <a:blip r:embed="rId2"/>
          <a:srcRect l="8169" t="0" r="3256" b="0"/>
          <a:stretch/>
        </p:blipFill>
        <p:spPr>
          <a:xfrm>
            <a:off x="4572000" y="1557360"/>
            <a:ext cx="3889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пражнение на коррекцию зрительного восприят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Eris1"/>
          <p:cNvPicPr/>
          <p:nvPr/>
        </p:nvPicPr>
        <p:blipFill>
          <a:blip r:embed="rId1"/>
          <a:stretch/>
        </p:blipFill>
        <p:spPr>
          <a:xfrm>
            <a:off x="2484360" y="2349360"/>
            <a:ext cx="420552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1680" y="1773360"/>
            <a:ext cx="90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- Отметь крестиком те элементы, из которых можно составить букву «К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4:39:22Z</dcterms:created>
  <dc:creator>1</dc:creator>
  <dc:description/>
  <dc:language>en-US</dc:language>
  <cp:lastModifiedBy>1663258</cp:lastModifiedBy>
  <dcterms:modified xsi:type="dcterms:W3CDTF">2024-03-01T08:58:42Z</dcterms:modified>
  <cp:revision>25</cp:revision>
  <dc:subject/>
  <dc:title>Взаимодействие семьи и школы по реализации задач индивидуального образовательного маршрута в оздоровительном аспекте.</dc:title>
</cp:coreProperties>
</file>