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D64-B02C-41A6-84E9-819F058B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2B6-B3E9-40D0-8C47-E32B8BCF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100-D0E5-48A6-AB2F-03A28133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13B-8CB5-46EF-951A-972AA25F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62735-9EB7-406A-9285-7A64997B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80120-02ED-4DCB-AC8D-5B25C1AD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503D7-4328-4CB7-BFA0-C45C27C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84F37-E73E-48B9-B488-ABF6F1C3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7E905-75CB-41A1-A59E-132B2D97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92C91-A87D-40D1-B70E-4E3E3F9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840DF-7AEE-414F-95F0-5A61D5E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8A2-2F69-46D5-B490-0B593D7D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90944-9E2B-4849-B23C-8C28E86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ABE6B-9EDC-421F-B708-EC93BF6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F4358-D266-4638-B5B8-11B013AD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41D76-5418-4E37-8304-A95EAA73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F7B05-3208-42B7-9D58-FF16D9BA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0D8-DA6D-4D24-B9C3-3CED075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CDB-9B1E-4F21-B164-636367B9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66B-47CB-4CB4-B877-BE8E8FCE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9D4-A88B-4346-A94E-25218196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3C5-68A2-4CE4-8612-6856B95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2C1-A20C-4AAB-A4F9-A5DB736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61D-43DC-4DB7-A88C-E787220F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2024-5ED6-4E46-971E-51122C2F2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7D5D-F9BA-44EB-AFCD-D4C2CD28F3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1579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187280" y="2205000"/>
            <a:ext cx="7345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оперативное взаимодействие учителя, логопеда, родителей в реализации задач индивидуальных образовательных маршрутов обучающихся  на уроках пись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(отчёт по реализации программы «Формирование графических навыков письма букв, их соединения в слова у обучающихся со сложной структурой дефекта на основе реализации задач ИОМ) .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итель:  Филина  В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2020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rcRect l="5402" t="0" r="5402" b="16896"/>
          <a:stretch/>
        </p:blipFill>
        <p:spPr>
          <a:xfrm>
            <a:off x="1116000" y="981000"/>
            <a:ext cx="7129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ь учителя, учителя-логопеда, родител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реализации задач индивидуальных образовательных маршрутов Масанова  Имама и Гахраманова Азада. в коррекционно-воспитательном и оздоровительном направл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8000" y="2017800"/>
          <a:ext cx="8847000" cy="3833640"/>
        </p:xfrm>
        <a:graphic>
          <a:graphicData uri="http://schemas.openxmlformats.org/drawingml/2006/table">
            <a:tbl>
              <a:tblPr/>
              <a:tblGrid>
                <a:gridCol w="2327400"/>
                <a:gridCol w="3095280"/>
                <a:gridCol w="3424320"/>
              </a:tblGrid>
              <a:tr h="91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участников образовательного проц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 Масанова  Имама умение различать сходные по начертанию графемы и  правильно соединять буквы в слова, списывая по слога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Гахраманова Азада умение различать сходные по произношению звуки и верно определять их графическое начертание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рекционно-воспитательное направ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ктические упражнения по соблюдению орфографического режима: написание буквы на рабочей строке, правильное и аккуратное исправление допущенных ошибок, проговаривание действий при выполнении заданий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доровительное направ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Беседы с родителями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«Организация режима дня», «Профилактические мероприятия по организации рабочего места в домашних условиях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Беседы с детьми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«Чтобы глаза видели». «Как правильно сидеть за партой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Работа на уроке: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рактические занятия с детьми (разучивание гимнастики для глаз по профилактике зрительного утомления; выполнение комплекса упражнений для формирования правильной осанки); подбор коррекционных приемов работы и смена видов деятель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и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-декабрь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30% и 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50% и 4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ы взаимодействия с родителями по реализации задач индивидуальных образовательных маршру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учителя, логопе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дагогические лектории «Школа для родител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тельские собр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е логопедические зан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 учителя, учителя-логопеда и родителей является одним из эффективных средств в реализации задач индивидуальных образовательных маршрутов обучающихся, воспитанников в учебно-коррекционном, коррекционно-воспитательном, оздоровительном направл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месте с тем хочется отметить, что я использую не все формы взаимодействия с родителями, учителем-логопедом, поэтому в своей работе вижу перспективы, связанные с расширением информационного и консультативного направлений по реализации коррекционно -воспитательных  задач на уро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ля отслеживания успешности в формировании навыков графически правильного письма предъявлять родителям информационную справку по реализации задач индивидуального образовательного маршрута в усвоении программного материала по предмету «Письм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Доработать диагностический инструментарий с целью определения готовности ребенка к новому этапу обучения письму для подбора наиболее эффективных методов и приемов коррекционного воздей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Активизировать форму консультативной работы по реализации задач в учебно-коррекционном и коррекционно-воспитательном направлен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Доработать план взаимодействия учителя, учителя-логопеда, родителей на основе внедрения в образовательный процесс интерактивные методов и прием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ь взаимо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ть образец кооперативного взаимодействия учителя, логопеда, родителей (или лиц их заменяющих ) в реализации задачи индивидуального образовательного маршрута по формированию графических навыков письма букв, их соединений в слова у обучающихся  с интеллектуальной недостаточностью (сложной структурой дефек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ы взаимодействия учителя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я – логопеда по формированию навыков графического письма букв у обучающихся индивидуально на д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844640"/>
          <a:ext cx="7483320" cy="5113440"/>
        </p:xfrm>
        <a:graphic>
          <a:graphicData uri="http://schemas.openxmlformats.org/drawingml/2006/table">
            <a:tbl>
              <a:tblPr/>
              <a:tblGrid>
                <a:gridCol w="1085760"/>
                <a:gridCol w="639756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еспечить материальную и методическую базу для работы над формированием навыков графического письма букв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означение приоритетных задач посредством обсуждения результатов диагностики по состоянию ВПФ, уровню речевого развития, сформированности ЗУН по русскому язык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пределение обучающихся, воспитанников по группам согласно классификации В.В. Воронков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Определение во взаимодействии с учителем-логопедом коррекционно-развивающих приемов работы по формированию навыков графического письма букв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Прогнозирование ожидаемого результата по формированию навыков графического письма букв у обучающихся в контексте урока и логопедического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тябрь-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 - 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навыки графического письма букв у обучающихся с учетом возможностей ребенка посредством использования интерактивных технологий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нение подобранных методов и приемов коррекционной работы на уроках, логопедических занятиях, их корректировка в соответствии с мониторинговыми данны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кабрь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следить результативность обучения на уровне возможностей ребенка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Организация текущего контроля по усвоению ЗУН по  формированию навыков графического письма букв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контрольных срезов (1 раз в четверть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уществление сравнительного анализа обучения на начало и конец учебного года (достижения, недостатки, пути исправл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50720" y="0"/>
            <a:ext cx="77929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дачи индивидуальных образовательных маршрутов Масанова Имама и Гахраманова Азада в учебно-коррекционном направл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341360"/>
          <a:ext cx="8496000" cy="586440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3743280"/>
              </a:tblGrid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участников образовательного проц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 у Масанова Имама умение различать сходные по начертанию графемы и  правильно соединять буквы в слова, списывая по слога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Гахраманова Азада  умение различать сходные по произношению звуки и верно определять их графическое начертание.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способов соединения отдельных букв, слогов  в слово; тактильное опознание «наждачных» букв; «алфавит телодвижений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иды соединений букв», «Обучение списыванию по слогам, проговаривая написанно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рмолексия - опознание рисунка буквы на ладони ребёнка; соотношение буквы с первым  звуком слова на картинке; рисование, лепка пар букв сходных по звуковому произношению; анализ и синтез буквенных знако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Дифференциация букв по оптическому и кинетическому сходству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гопед коррекционно-развивающи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водка пальцем контуров  выпуклых рельефов букв; конструирование из элементов сходных по начертанию букв; преобразование буквы по схеме: цвет-форма-разм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риемы деления слов на слог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тановка нарушенных звуков; дифференциация смешиваемых звуков и букв; распознание букв на разном фоне, в разном цвете, положении, разной величин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звука по его артикуля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риемы отработки поставленного зву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яют рекомендации логопеда и учителя в соответствии с имеющимися у детей нарушениями письма и рекомендованными приемами  по их устранен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и зада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-декабрь 201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30% и 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50% и 4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молекс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Проект, интерурок 034"/>
          <p:cNvPicPr/>
          <p:nvPr/>
        </p:nvPicPr>
        <p:blipFill>
          <a:blip r:embed="rId1"/>
          <a:stretch/>
        </p:blipFill>
        <p:spPr>
          <a:xfrm>
            <a:off x="684360" y="907920"/>
            <a:ext cx="3671640" cy="2756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2413"/>
          <p:cNvPicPr/>
          <p:nvPr/>
        </p:nvPicPr>
        <p:blipFill>
          <a:blip r:embed="rId2"/>
          <a:srcRect l="7355" t="0" r="0" b="12628"/>
          <a:stretch/>
        </p:blipFill>
        <p:spPr>
          <a:xfrm>
            <a:off x="2843280" y="3933720"/>
            <a:ext cx="3600360" cy="25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Проект, интерурок 036"/>
          <p:cNvPicPr/>
          <p:nvPr/>
        </p:nvPicPr>
        <p:blipFill>
          <a:blip r:embed="rId3"/>
          <a:srcRect l="0" t="19619" r="0" b="0"/>
          <a:stretch/>
        </p:blipFill>
        <p:spPr>
          <a:xfrm>
            <a:off x="5364000" y="907920"/>
            <a:ext cx="3191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менение компьютерных технологий в обучении грамо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DSC02418"/>
          <p:cNvPicPr/>
          <p:nvPr/>
        </p:nvPicPr>
        <p:blipFill>
          <a:blip r:embed="rId1"/>
          <a:stretch/>
        </p:blipFill>
        <p:spPr>
          <a:xfrm>
            <a:off x="3851280" y="4005360"/>
            <a:ext cx="3672000" cy="260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426"/>
          <p:cNvPicPr/>
          <p:nvPr/>
        </p:nvPicPr>
        <p:blipFill>
          <a:blip r:embed="rId2"/>
          <a:stretch/>
        </p:blipFill>
        <p:spPr>
          <a:xfrm>
            <a:off x="4932360" y="907920"/>
            <a:ext cx="3592440" cy="2695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SC02427"/>
          <p:cNvPicPr/>
          <p:nvPr/>
        </p:nvPicPr>
        <p:blipFill>
          <a:blip r:embed="rId3"/>
          <a:srcRect l="0" t="30390" r="0" b="0"/>
          <a:stretch/>
        </p:blipFill>
        <p:spPr>
          <a:xfrm>
            <a:off x="684360" y="907920"/>
            <a:ext cx="30207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образование букв и слогов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цвету, форме, разме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Проект, интерурок 028"/>
          <p:cNvPicPr/>
          <p:nvPr/>
        </p:nvPicPr>
        <p:blipFill>
          <a:blip r:embed="rId1"/>
          <a:stretch/>
        </p:blipFill>
        <p:spPr>
          <a:xfrm>
            <a:off x="250920" y="1484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Проект, интерурок 029"/>
          <p:cNvPicPr/>
          <p:nvPr/>
        </p:nvPicPr>
        <p:blipFill>
          <a:blip r:embed="rId2"/>
          <a:stretch/>
        </p:blipFill>
        <p:spPr>
          <a:xfrm>
            <a:off x="5219640" y="1413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Проект, интерурок 030"/>
          <p:cNvPicPr/>
          <p:nvPr/>
        </p:nvPicPr>
        <p:blipFill>
          <a:blip r:embed="rId3"/>
          <a:stretch/>
        </p:blipFill>
        <p:spPr>
          <a:xfrm>
            <a:off x="3132000" y="4221000"/>
            <a:ext cx="315756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ализ и синтез бук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уппировка стилизованных бук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Проект, интерурок 032"/>
          <p:cNvPicPr/>
          <p:nvPr/>
        </p:nvPicPr>
        <p:blipFill>
          <a:blip r:embed="rId1"/>
          <a:srcRect l="10665" t="0" r="0" b="0"/>
          <a:stretch/>
        </p:blipFill>
        <p:spPr>
          <a:xfrm>
            <a:off x="611280" y="1700280"/>
            <a:ext cx="3019320" cy="41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Проект, интерурок 033"/>
          <p:cNvPicPr/>
          <p:nvPr/>
        </p:nvPicPr>
        <p:blipFill>
          <a:blip r:embed="rId2"/>
          <a:srcRect l="8169" t="0" r="3256" b="0"/>
          <a:stretch/>
        </p:blipFill>
        <p:spPr>
          <a:xfrm>
            <a:off x="4572000" y="1557360"/>
            <a:ext cx="3889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пражнение на коррекцию зрительного восприят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Eris1"/>
          <p:cNvPicPr/>
          <p:nvPr/>
        </p:nvPicPr>
        <p:blipFill>
          <a:blip r:embed="rId1"/>
          <a:stretch/>
        </p:blipFill>
        <p:spPr>
          <a:xfrm>
            <a:off x="2484360" y="2349360"/>
            <a:ext cx="420552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1680" y="1773360"/>
            <a:ext cx="90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- Отметь крестиком те элементы, из которых можно составить букву «К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4:39:22Z</dcterms:created>
  <dc:creator>1</dc:creator>
  <dc:description/>
  <dc:language>en-US</dc:language>
  <cp:lastModifiedBy>1663258</cp:lastModifiedBy>
  <dcterms:modified xsi:type="dcterms:W3CDTF">2024-03-01T08:58:42Z</dcterms:modified>
  <cp:revision>25</cp:revision>
  <dc:subject/>
  <dc:title>Взаимодействие семьи и школы по реализации задач индивидуального образовательного маршрута в оздоровительном аспекте.</dc:title>
</cp:coreProperties>
</file>