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5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037AE-37FC-4BE4-9960-C8261832DCD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6963A-A68D-42E1-9F69-866498218AC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543C0-D77B-4D50-899A-B1D921C1FDC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16617-3888-42D3-968A-83EBBB8C396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B7F17-BF63-49EE-8344-27A9CC5ECFC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B9AE0-4C58-46A8-9E50-3454C45840A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648DA-9ACD-4507-807D-B8F7898ED39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D2555-8FFB-403E-A455-107B6402013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857A1-B144-4122-9E83-FB901056F7FF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9E41F-2B62-4B2C-AF25-468C91C7306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10F20-FC86-45D9-A72C-3389328BE7F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7404E-9CCB-426A-B4EF-7B8E970D13EF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C86B4-CDD5-48A6-8D74-59DC8216ED2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DA7A-C5DB-46DA-ADFA-2776C105044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E5C46-DA01-42E3-8159-A043BACE9CCC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36F5A-0E6F-4203-BF87-613D431E01B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7F0AA-60E3-4D96-81BF-03587575210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CB3C8-923D-41A2-9DDB-BBC2BE0749B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E27C6-EEA3-44B5-9FB5-7DA74B4274C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EB6E2-ED11-417F-90F9-6B3CF83E5CE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CF4DE-0316-44F7-BBE5-A8BFBF106A6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E2CDC-FF11-4327-AD97-2717C0A52AFF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17C88-B736-458C-A570-9FF57A5EF60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57FE9-F05B-4413-B2A9-79DABC32E32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08D4C-0B3F-4CFA-AB74-DE5CAC15F4DC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13A1D-73E4-45CD-8E87-E125E0A0D5B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87764-04BA-4684-A1AE-5787771CFC3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11A89-2DEC-44DE-87D6-C6F8256516C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37E05-46AD-4CDE-BBC8-88C42AB127C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F0C18-4515-4125-BDD8-69F80B68052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980BD-93F2-419E-8943-DD9C223E0C5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E65C1-F44E-4CC5-A8F2-AF8B0F24893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8E947-AB6D-458B-AA6F-BB61BF89A18E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AutoShape 2"/>
            <p:cNvSpPr/>
            <p:nvPr/>
          </p:nvSpPr>
          <p:spPr>
            <a:xfrm>
              <a:off x="0" y="4876920"/>
              <a:ext cx="9142560" cy="19796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5759" h="1247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0"/>
              <a:ext cx="9142560" cy="48751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120"/>
                <a:gd name="textAreaBottom" fmla="*/ 4875480 h 4875120"/>
              </a:gdLst>
              <a:ahLst/>
              <a:rect l="textAreaLeft" t="textAreaTop" r="textAreaRight" b="textAreaBottom"/>
              <a:pathLst>
                <a:path w="5759" h="3071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" name="AutoShape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895600" h="609600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6019920"/>
            <a:ext cx="7846920" cy="855720"/>
            <a:chOff x="0" y="6019920"/>
            <a:chExt cx="7846920" cy="855720"/>
          </a:xfrm>
        </p:grpSpPr>
        <p:sp>
          <p:nvSpPr>
            <p:cNvPr id="5" name="AutoShape 6"/>
            <p:cNvSpPr/>
            <p:nvPr/>
          </p:nvSpPr>
          <p:spPr>
            <a:xfrm>
              <a:off x="2362320" y="6019920"/>
              <a:ext cx="5141880" cy="849240"/>
            </a:xfrm>
            <a:custGeom>
              <a:avLst/>
              <a:gdLst>
                <a:gd name="textAreaLeft" fmla="*/ 0 w 5141880"/>
                <a:gd name="textAreaRight" fmla="*/ 5142240 w 514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239" h="535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" name="Group 7"/>
            <p:cNvGrpSpPr/>
            <p:nvPr/>
          </p:nvGrpSpPr>
          <p:grpSpPr>
            <a:xfrm>
              <a:off x="3946680" y="6019920"/>
              <a:ext cx="3900240" cy="855720"/>
              <a:chOff x="3946680" y="6019920"/>
              <a:chExt cx="3900240" cy="855720"/>
            </a:xfrm>
          </p:grpSpPr>
          <p:sp>
            <p:nvSpPr>
              <p:cNvPr id="7" name="AutoShape 8"/>
              <p:cNvSpPr/>
              <p:nvPr/>
            </p:nvSpPr>
            <p:spPr>
              <a:xfrm>
                <a:off x="6267600" y="6031080"/>
                <a:ext cx="1579320" cy="8445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995" h="532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4249800" y="6019920"/>
                <a:ext cx="293760" cy="62532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625320"/>
                  <a:gd name="textAreaBottom" fmla="*/ 625320 h 625320"/>
                </a:gdLst>
                <a:ahLst/>
                <a:rect l="textAreaLeft" t="textAreaTop" r="textAreaRight" b="textAreaBottom"/>
                <a:pathLst>
                  <a:path w="185" h="394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4809960" y="6180120"/>
                <a:ext cx="598680" cy="42876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377" h="270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5759280" y="6137280"/>
                <a:ext cx="244800" cy="1159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4" h="73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3946680" y="6126120"/>
                <a:ext cx="64800" cy="127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1" h="80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2" name="AutoShape 13"/>
            <p:cNvSpPr/>
            <p:nvPr/>
          </p:nvSpPr>
          <p:spPr>
            <a:xfrm>
              <a:off x="0" y="6019920"/>
              <a:ext cx="6310440" cy="847440"/>
            </a:xfrm>
            <a:custGeom>
              <a:avLst/>
              <a:gdLst>
                <a:gd name="textAreaLeft" fmla="*/ 0 w 6310440"/>
                <a:gd name="textAreaRight" fmla="*/ 6310800 w 631044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3975" h="534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14" name="AutoShape 15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64" h="290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2" h="498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0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0" h="163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244" h="206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"/>
          <p:cNvGrpSpPr/>
          <p:nvPr/>
        </p:nvGrpSpPr>
        <p:grpSpPr>
          <a:xfrm>
            <a:off x="-6480" y="20520"/>
            <a:ext cx="9142560" cy="6856560"/>
            <a:chOff x="-6480" y="20520"/>
            <a:chExt cx="9142560" cy="6856560"/>
          </a:xfrm>
        </p:grpSpPr>
        <p:sp>
          <p:nvSpPr>
            <p:cNvPr id="59" name="AutoShape 2"/>
            <p:cNvSpPr/>
            <p:nvPr/>
          </p:nvSpPr>
          <p:spPr>
            <a:xfrm>
              <a:off x="-6480" y="4897440"/>
              <a:ext cx="9142560" cy="19796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5759" h="1247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0" name="AutoShape 3"/>
            <p:cNvSpPr/>
            <p:nvPr/>
          </p:nvSpPr>
          <p:spPr>
            <a:xfrm>
              <a:off x="-6480" y="20520"/>
              <a:ext cx="9142560" cy="48754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480"/>
                <a:gd name="textAreaBottom" fmla="*/ 4875840 h 4875480"/>
              </a:gdLst>
              <a:ahLst/>
              <a:rect l="textAreaLeft" t="textAreaTop" r="textAreaRight" b="textAreaBottom"/>
              <a:pathLst>
                <a:path w="5759" h="3071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1" name="AutoShape 4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895600" h="609600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62" name="Group 5"/>
          <p:cNvGrpSpPr/>
          <p:nvPr/>
        </p:nvGrpSpPr>
        <p:grpSpPr>
          <a:xfrm>
            <a:off x="-1440" y="6033960"/>
            <a:ext cx="7842240" cy="849600"/>
            <a:chOff x="-1440" y="6033960"/>
            <a:chExt cx="7842240" cy="849600"/>
          </a:xfrm>
        </p:grpSpPr>
        <p:sp>
          <p:nvSpPr>
            <p:cNvPr id="63" name="AutoShape 6"/>
            <p:cNvSpPr/>
            <p:nvPr/>
          </p:nvSpPr>
          <p:spPr>
            <a:xfrm>
              <a:off x="2360520" y="6033960"/>
              <a:ext cx="5140440" cy="849600"/>
            </a:xfrm>
            <a:custGeom>
              <a:avLst/>
              <a:gdLst>
                <a:gd name="textAreaLeft" fmla="*/ 0 w 5140440"/>
                <a:gd name="textAreaRight" fmla="*/ 5140800 w 51404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3238" h="535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4" name="Group 7"/>
            <p:cNvGrpSpPr/>
            <p:nvPr/>
          </p:nvGrpSpPr>
          <p:grpSpPr>
            <a:xfrm>
              <a:off x="3944880" y="6033960"/>
              <a:ext cx="3895920" cy="849600"/>
              <a:chOff x="3944880" y="6033960"/>
              <a:chExt cx="3895920" cy="849600"/>
            </a:xfrm>
          </p:grpSpPr>
          <p:sp>
            <p:nvSpPr>
              <p:cNvPr id="65" name="AutoShape 8"/>
              <p:cNvSpPr/>
              <p:nvPr/>
            </p:nvSpPr>
            <p:spPr>
              <a:xfrm>
                <a:off x="6265800" y="6045120"/>
                <a:ext cx="1575000" cy="838440"/>
              </a:xfrm>
              <a:custGeom>
                <a:avLst/>
                <a:gdLst>
                  <a:gd name="textAreaLeft" fmla="*/ 0 w 1575000"/>
                  <a:gd name="textAreaRight" fmla="*/ 1575360 w 157500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992" h="528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6" name="AutoShape 9"/>
              <p:cNvSpPr/>
              <p:nvPr/>
            </p:nvSpPr>
            <p:spPr>
              <a:xfrm>
                <a:off x="4248000" y="6033960"/>
                <a:ext cx="292320" cy="6256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625680"/>
                  <a:gd name="textAreaBottom" fmla="*/ 625680 h 625680"/>
                </a:gdLst>
                <a:ahLst/>
                <a:rect l="textAreaLeft" t="textAreaTop" r="textAreaRight" b="textAreaBottom"/>
                <a:pathLst>
                  <a:path w="184" h="394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" name="AutoShape 10"/>
              <p:cNvSpPr/>
              <p:nvPr/>
            </p:nvSpPr>
            <p:spPr>
              <a:xfrm>
                <a:off x="4808520" y="6194520"/>
                <a:ext cx="598680" cy="42840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377" h="270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" name="AutoShape 11"/>
              <p:cNvSpPr/>
              <p:nvPr/>
            </p:nvSpPr>
            <p:spPr>
              <a:xfrm>
                <a:off x="5757840" y="6151680"/>
                <a:ext cx="244440" cy="11592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4" h="73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" name="AutoShape 12"/>
              <p:cNvSpPr/>
              <p:nvPr/>
            </p:nvSpPr>
            <p:spPr>
              <a:xfrm>
                <a:off x="3944880" y="6140520"/>
                <a:ext cx="63720" cy="127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0" h="80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70" name="AutoShape 13"/>
            <p:cNvSpPr/>
            <p:nvPr/>
          </p:nvSpPr>
          <p:spPr>
            <a:xfrm>
              <a:off x="-1440" y="6033960"/>
              <a:ext cx="6310080" cy="847800"/>
            </a:xfrm>
            <a:custGeom>
              <a:avLst/>
              <a:gdLst>
                <a:gd name="textAreaLeft" fmla="*/ 0 w 6310080"/>
                <a:gd name="textAreaRight" fmla="*/ 6310440 w 631008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3975" h="534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72" name="AutoShape 15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64" h="290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2" h="498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0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5" name="AutoShape 18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0" h="163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6" name="AutoShape 19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7" name="AutoShape 20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244" h="206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11280" y="-317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324000" y="981000"/>
            <a:ext cx="8712000" cy="532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309" dir="2700000" blurRad="0" rotWithShape="0">
                    <a:srgbClr val="808080">
                      <a:alpha val="80000"/>
                    </a:srgbClr>
                  </a:outerShdw>
                </a:effectLst>
                <a:latin typeface="DejaVu Sans"/>
              </a:rPr>
              <a:t>По тропинкам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309" dir="2700000" blurRad="0" rotWithShape="0">
                  <a:srgbClr val="808080">
                    <a:alpha val="80000"/>
                  </a:srgbClr>
                </a:outerShdw>
              </a:effectLst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309" dir="2700000" blurRad="0" rotWithShape="0">
                    <a:srgbClr val="808080">
                      <a:alpha val="80000"/>
                    </a:srgbClr>
                  </a:outerShdw>
                </a:effectLst>
                <a:latin typeface="DejaVu Sans"/>
              </a:rPr>
              <a:t> 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309" dir="2700000" blurRad="0" rotWithShape="0">
                    <a:srgbClr val="808080">
                      <a:alpha val="80000"/>
                    </a:srgbClr>
                  </a:outerShdw>
                </a:effectLst>
                <a:latin typeface="DejaVu Sans"/>
              </a:rPr>
              <a:t>родного края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309" dir="2700000" blurRad="0" rotWithShape="0">
                  <a:srgbClr val="808080">
                    <a:alpha val="80000"/>
                  </a:srgbClr>
                </a:outerShdw>
              </a:effectLst>
              <a:latin typeface="DejaVu Sans"/>
              <a:ea typeface="DejaVu Sans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596360" y="522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ГРА - ВИКТОРИН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971640" y="476280"/>
            <a:ext cx="7056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1240" indent="-74124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Улан-Удэ был основан в 1666 году русскими казаками. Каким было первое название столицы нашей республики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 Верхнеудинск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. Красная Уд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. Удинский Острог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. Удинское Зимовь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1258920" y="1341360"/>
            <a:ext cx="559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Сколько племён существует у бурятского народа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 5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. 3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. 6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. 4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1476360" y="1125360"/>
            <a:ext cx="5452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Сколько районов в нашей республике ?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 9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. 12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. 15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. 21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1332000" y="765000"/>
            <a:ext cx="52164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 Назовите главу нашей республ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1619280" y="476280"/>
            <a:ext cx="523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каком районе находится самая северная точка Республики Бурятия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-190440" y="0"/>
            <a:ext cx="9334440" cy="7439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2286000" y="31050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. Из какого фильма, снятого в Бурятии, взят этот кадр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468360" y="3105000"/>
            <a:ext cx="638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7. Какие реки протекают по Заиграевскому району?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1692360" y="765000"/>
            <a:ext cx="516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8. Сколько улиц в нашем селе?  Назовите их.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Мы горячо любим свою Родину – Россию. Но у каждого из нас есть особые чувства к родному краю, селу или городу, где нам довелось родиться, учиться, начать трудовую жизнь. Это родной край наших отцов и матерей, земля, которую нам хранить и украшать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                                    Д. И. Копыл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558720" y="0"/>
            <a:ext cx="9955080" cy="746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260280"/>
            <a:ext cx="8496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438120" y="333360"/>
            <a:ext cx="82677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23720" y="324000"/>
            <a:ext cx="8296560" cy="62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28760" y="314280"/>
            <a:ext cx="846432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49120" y="252360"/>
            <a:ext cx="8645760" cy="63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ы ими гордимс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ттарова Накия Рахимовна – имеет медаль за детей, юбилейные медали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жды награждалась за достигнутые успехи в  социалистическом соревновании в честь со дня рождения В.И.Ленин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воено почётное звание «Лучшая тепличница Заиграевского района»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акирова Нурзида Шакировн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ла в совхозе, имеет множество грамот и значков. Как передовик труда направлялась на выставку достижения народного хозяйства. Стала победительницей в соревновании тепличных хозяйств район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оя школ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 основалась в 1936 году. Обучение проходило в изб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1071-1092 году было построено двухэтажное здание. Количество учащихся доходило до 30 человек в класс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йчас в школе обучается 73 ребёнка и работает 10 учителей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нтервью жителей сел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67760" cy="52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8436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ело Старый Онохой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57200" y="260280"/>
            <a:ext cx="82296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33440" y="324000"/>
            <a:ext cx="8277120" cy="62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28760" y="324000"/>
            <a:ext cx="8286480" cy="62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68360" y="260280"/>
            <a:ext cx="82296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14360" y="309600"/>
            <a:ext cx="8315280" cy="62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4920" y="0"/>
            <a:ext cx="9217080" cy="746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1:07:39Z</dcterms:created>
  <dc:creator>www.PHILka.RU</dc:creator>
  <dc:description/>
  <dc:language>en-US</dc:language>
  <cp:lastModifiedBy>Лариса</cp:lastModifiedBy>
  <dcterms:modified xsi:type="dcterms:W3CDTF">2024-03-03T11:21:53Z</dcterms:modified>
  <cp:revision>59</cp:revision>
  <dc:subject/>
  <dc:title>Село Старый Онох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