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C6DE-D53C-4FB2-AA28-AF9A74776D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0DDA-A550-4138-B153-B604DE62A1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4367-4EEE-4B21-B9E8-20A1D29F23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C703-2A27-459D-9479-6D52DB6389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81DD-819B-4525-8AF9-EE31F932C8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3269-8CF8-42A5-BDB7-44E6F898AF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79EC-1D80-4660-BE33-19AFA99CBB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CFB1-D3CE-4F4D-AE7F-AB41F5FC1E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FF0B-2831-4A5C-A867-A101D066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0AF3-2D98-4FAE-BDD7-206D2F2B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9441-C46D-4B76-97A6-781DF757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C69F-1111-4D1F-8546-2806D8CD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2B803-C7DC-4379-9DCC-378D43DC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7EC24-AE0A-48F2-9C42-CF8C1063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6FDFB-D1EF-4E81-BFC6-31B013B7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C7F21-D26A-46A6-B4E4-3470DC90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F8F03-2F0B-431E-B80A-DD071842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C2D9D-AC70-41BC-AC93-0B914908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1C0E5-4762-4534-8A35-A3D238C3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0807-3A60-4B42-93E5-0BB5A923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3338C-C218-4B30-AA87-83DF4D68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E9519-7FE1-4F27-95B0-FF45C43E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818BA-E45D-4B72-A3D5-4E30F84B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2A006-EF0B-4100-996C-DAE8ABB7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6C807-16AD-4135-81DB-F9509993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2C629-4BA2-4BEB-9A51-7598A032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54520-C34E-4CE4-9166-2BEA466A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0BF15-26D5-4289-9AB2-DCFA1201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A1371-758B-4D54-9660-526042F6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1A3C5-0001-41A1-BA13-BD3CD1E0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68B-42CC-4913-9BA6-B4CF827C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786E5-33A9-4F7E-AA61-2CF5B10F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8A2EB-F4B9-4C72-9AD1-D426B8AD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97178-2D5C-4E25-A6BA-07C6A777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35242-7E8F-4B77-971F-9CAC2583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FD64A-0F65-4283-BD80-6A8F7C35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082FB-90DD-4022-A85C-13473768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1918E-A79D-426E-BE9D-BAA6A056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5270E-4750-4DAB-872A-88BFE91A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3904F-C88F-43BB-A27E-4396096E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AB8FF-8C95-4424-9159-6B9A01DD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C2F-8581-4F72-A8A5-C798ED9C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6BB74-19EC-4256-A836-651C1B09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3A3B3-0230-4C62-892C-18E0BF2A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2FFDE-713F-49A1-B27C-89CB38A1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9C6F6-F8F4-428C-A77E-54D2ACF3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E4B1C-81EF-4CE3-9B85-1FE3C7D1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F25CB-0A25-4410-BD87-F0AE2E3C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42664-C462-49E4-8632-4DC3CB23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52984-78B3-4E53-ABBA-6C2E4840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7ED82-1BAA-42C4-BA2B-1131BAA7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E24BD-D37A-4FC6-9408-E62FFABB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42C-179B-43AB-968B-3A56EFC4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F1F51-6988-4ED2-A6D8-002842DB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B2C5C-AFB3-4A0C-9B55-618B7516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893DB-8298-480A-A882-E0EFD435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C29E5-5BE9-4BF4-BF35-E9F263FE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17F72-2393-472B-A50A-0224055D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C38F8-2F5C-4934-81F5-EB937441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102A1-FBD7-4419-A976-C49E8D86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C460E-E606-45E2-9C5D-55E4552D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93622-F0FB-47EB-BC2E-258BEBE9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98074-2145-4A18-9005-D3E88D8F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C9C7-A407-4901-91EB-7BBEDAC2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6AE40-5E54-44F4-9BD5-21AAE990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3A12B-2D73-4AAD-9FF6-935A3A8F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0AB9D-C2AF-461A-9A66-321252DE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07DF4-33C9-4F75-AF8C-5F573862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E39C7-EDE8-476D-940D-F2B5C8DB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38AA6-E237-48C5-8FC1-47A3AC95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CF8F7-A682-4A92-8373-7F631215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1BE65-E134-485F-9AFA-29357D4D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B1C83-AB04-4B9B-9685-64131955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509E7-99DD-45C2-A4C4-61F01A07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C1B3-FDC3-48A8-BEAA-A831707B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00FC1-B1CF-47D5-AEE8-39B307D4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70923-4FE0-450C-A5D9-B69768C2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CE49E-D517-4C45-83B9-098BD1EC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25516-B81E-4B69-99A5-04E17F2D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7947A-BC77-4E5E-87E9-F4F6273F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DB853-521C-4B85-9334-D875EA2D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78601-6696-460C-90FC-EAD51D7D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EA889-E1C3-4593-A803-EEEF5DFD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3B021-693C-48E2-82AE-04EABE09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1ABD7-ABAF-4F0F-B2BA-84017F18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221-0AD1-4235-9BDE-9347A252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0FC15-3BE3-4687-97F3-3DB8D98E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B0424-C6AE-4D03-8482-E67FEC2F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F3704-3AED-4271-BCA9-BB207690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A6E83-6E62-494D-BF64-75572F13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A446E-15F7-4B4A-9443-FFEEBCDA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EBB-962F-471B-8263-A430D442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90F7-624E-4788-BBEF-71B9B21A17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2700-CA75-4428-BA44-426C6976F6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A15A-5900-4E39-B7F4-6D05A7DD5E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3863-6C0D-45CF-B827-4D1763B38A1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8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DBD0-B3E7-4021-80AB-5095C282A4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3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4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570C-08DA-4881-9D24-E6E6BB2137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7C17-7D5C-4D68-82AE-CCCFA61E716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6"/>
          <p:cNvSpPr/>
          <p:nvPr/>
        </p:nvSpPr>
        <p:spPr>
          <a:xfrm>
            <a:off x="457200" y="152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Тема урока: «Сложение чисел с разными и одинаковыми знакам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"/>
          <p:cNvSpPr/>
          <p:nvPr/>
        </p:nvSpPr>
        <p:spPr>
          <a:xfrm>
            <a:off x="6172200" y="61167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Дугданова Е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ложение  чисел  </a:t>
            </a:r>
            <a:br>
              <a:rPr sz="4000"/>
            </a:b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  разными  знакам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4 + 3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404" name="Rectangle 5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6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7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8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9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0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2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3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4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5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6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7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8"/>
          <p:cNvSpPr/>
          <p:nvPr/>
        </p:nvSpPr>
        <p:spPr>
          <a:xfrm>
            <a:off x="147816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0"/>
          <p:cNvSpPr/>
          <p:nvPr/>
        </p:nvSpPr>
        <p:spPr>
          <a:xfrm>
            <a:off x="161928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21"/>
          <p:cNvSpPr/>
          <p:nvPr/>
        </p:nvSpPr>
        <p:spPr>
          <a:xfrm>
            <a:off x="1619280" y="2924280"/>
            <a:ext cx="2220840" cy="56520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565200"/>
              <a:gd name="textAreaBottom" fmla="*/ 565200 h 565200"/>
            </a:gdLst>
            <a:ahLst/>
            <a:rect l="textAreaLeft" t="textAreaTop" r="textAreaRight" b="textAreaBottom"/>
            <a:pathLst>
              <a:path w="1399" h="356">
                <a:moveTo>
                  <a:pt x="1399" y="356"/>
                </a:moveTo>
                <a:cubicBezTo>
                  <a:pt x="1346" y="313"/>
                  <a:pt x="1193" y="169"/>
                  <a:pt x="1079" y="110"/>
                </a:cubicBezTo>
                <a:cubicBezTo>
                  <a:pt x="965" y="51"/>
                  <a:pt x="846" y="0"/>
                  <a:pt x="714" y="0"/>
                </a:cubicBezTo>
                <a:cubicBezTo>
                  <a:pt x="582" y="0"/>
                  <a:pt x="403" y="52"/>
                  <a:pt x="284" y="110"/>
                </a:cubicBezTo>
                <a:cubicBezTo>
                  <a:pt x="165" y="168"/>
                  <a:pt x="59" y="298"/>
                  <a:pt x="0" y="3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371016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3"/>
          <p:cNvSpPr/>
          <p:nvPr/>
        </p:nvSpPr>
        <p:spPr>
          <a:xfrm>
            <a:off x="2557800" y="242100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4" descr="CRCTR013"/>
          <p:cNvPicPr/>
          <p:nvPr/>
        </p:nvPicPr>
        <p:blipFill>
          <a:blip r:embed="rId1"/>
          <a:stretch/>
        </p:blipFill>
        <p:spPr>
          <a:xfrm>
            <a:off x="6300720" y="4005360"/>
            <a:ext cx="1909800" cy="2952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5" descr="CRCTR013"/>
          <p:cNvPicPr/>
          <p:nvPr/>
        </p:nvPicPr>
        <p:blipFill>
          <a:blip r:embed="rId2"/>
          <a:stretch/>
        </p:blipFill>
        <p:spPr>
          <a:xfrm flipH="1">
            <a:off x="900000" y="3933720"/>
            <a:ext cx="1873440" cy="29527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6"/>
          <p:cNvSpPr/>
          <p:nvPr/>
        </p:nvSpPr>
        <p:spPr>
          <a:xfrm>
            <a:off x="5292720" y="155736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628 0.00162 L 4.16667E-006 1.90751E-006 E">
                                      <p:cBhvr>
                                        <p:cTn id="213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ложение  чисел  </a:t>
            </a:r>
            <a:br>
              <a:rPr sz="4000"/>
            </a:b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  разными  знакам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3 + 8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428" name="Rectangle 5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7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8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9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0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1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2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3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5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6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7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Text Box 18"/>
          <p:cNvSpPr/>
          <p:nvPr/>
        </p:nvSpPr>
        <p:spPr>
          <a:xfrm>
            <a:off x="219744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20"/>
          <p:cNvSpPr/>
          <p:nvPr/>
        </p:nvSpPr>
        <p:spPr>
          <a:xfrm>
            <a:off x="234000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21"/>
          <p:cNvSpPr/>
          <p:nvPr/>
        </p:nvSpPr>
        <p:spPr>
          <a:xfrm>
            <a:off x="2411280" y="2924280"/>
            <a:ext cx="5747040" cy="569880"/>
          </a:xfrm>
          <a:custGeom>
            <a:avLst/>
            <a:gdLst>
              <a:gd name="textAreaLeft" fmla="*/ 0 w 5747040"/>
              <a:gd name="textAreaRight" fmla="*/ 5747400 w 574704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3620" h="359">
                <a:moveTo>
                  <a:pt x="3620" y="359"/>
                </a:moveTo>
                <a:cubicBezTo>
                  <a:pt x="3471" y="316"/>
                  <a:pt x="3026" y="162"/>
                  <a:pt x="2724" y="103"/>
                </a:cubicBezTo>
                <a:cubicBezTo>
                  <a:pt x="2422" y="44"/>
                  <a:pt x="2115" y="6"/>
                  <a:pt x="1810" y="3"/>
                </a:cubicBezTo>
                <a:cubicBezTo>
                  <a:pt x="1505" y="0"/>
                  <a:pt x="1198" y="26"/>
                  <a:pt x="896" y="85"/>
                </a:cubicBezTo>
                <a:cubicBezTo>
                  <a:pt x="594" y="144"/>
                  <a:pt x="187" y="302"/>
                  <a:pt x="0" y="35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2"/>
          <p:cNvSpPr/>
          <p:nvPr/>
        </p:nvSpPr>
        <p:spPr>
          <a:xfrm>
            <a:off x="802980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4934160" y="242100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4" descr="CRCTR013"/>
          <p:cNvPicPr/>
          <p:nvPr/>
        </p:nvPicPr>
        <p:blipFill>
          <a:blip r:embed="rId1"/>
          <a:stretch/>
        </p:blipFill>
        <p:spPr>
          <a:xfrm>
            <a:off x="6300720" y="4005360"/>
            <a:ext cx="1909800" cy="29527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5" descr="CRCTR013"/>
          <p:cNvPicPr/>
          <p:nvPr/>
        </p:nvPicPr>
        <p:blipFill>
          <a:blip r:embed="rId2"/>
          <a:stretch/>
        </p:blipFill>
        <p:spPr>
          <a:xfrm flipH="1">
            <a:off x="900000" y="3933720"/>
            <a:ext cx="1873440" cy="295272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26"/>
          <p:cNvSpPr/>
          <p:nvPr/>
        </p:nvSpPr>
        <p:spPr>
          <a:xfrm>
            <a:off x="5292720" y="155736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003 0.00162 L 4.72222E-006 1.90751E-006 E">
                                      <p:cBhvr>
                                        <p:cTn id="258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3272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b812f"/>
                </a:solidFill>
                <a:latin typeface="Georgia"/>
              </a:rPr>
              <a:t>В  результате  сложения  чисел  с  разными  знаками  может получиться как  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положительное</a:t>
            </a:r>
            <a:r>
              <a:rPr b="1" i="1" lang="ru-RU" sz="3200" spc="-1" strike="noStrike">
                <a:solidFill>
                  <a:srgbClr val="3b812f"/>
                </a:solidFill>
                <a:latin typeface="Georgia"/>
              </a:rPr>
              <a:t>, так и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отрицательное </a:t>
            </a:r>
            <a:r>
              <a:rPr b="1" i="1" lang="ru-RU" sz="3200" spc="-1" strike="noStrike">
                <a:solidFill>
                  <a:srgbClr val="3b812f"/>
                </a:solidFill>
                <a:latin typeface="Georgia"/>
              </a:rPr>
              <a:t>число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395280" y="4005360"/>
            <a:ext cx="38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+ (-4)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716000" y="4005000"/>
            <a:ext cx="39099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4 + (-7) = -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4356000" y="472428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4 + 3 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250920" y="4869000"/>
            <a:ext cx="367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3 + 8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8"/>
          <p:cNvSpPr/>
          <p:nvPr/>
        </p:nvSpPr>
        <p:spPr>
          <a:xfrm>
            <a:off x="1928880" y="2643120"/>
            <a:ext cx="914400" cy="914400"/>
          </a:xfrm>
          <a:prstGeom prst="ellipse">
            <a:avLst/>
          </a:prstGeom>
          <a:solidFill>
            <a:srgbClr val="fcb7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6227640" y="263700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1692360" y="5661000"/>
            <a:ext cx="6048360" cy="914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узнать знак сум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4"/>
          <p:cNvSpPr/>
          <p:nvPr/>
        </p:nvSpPr>
        <p:spPr>
          <a:xfrm>
            <a:off x="2556000" y="5734080"/>
            <a:ext cx="4032000" cy="625320"/>
          </a:xfrm>
          <a:prstGeom prst="rect">
            <a:avLst/>
          </a:prstGeom>
          <a:gradFill rotWithShape="0">
            <a:gsLst>
              <a:gs pos="0">
                <a:srgbClr val="fcb7b2"/>
              </a:gs>
              <a:gs pos="50000">
                <a:srgbClr val="ffffff"/>
              </a:gs>
              <a:gs pos="100000">
                <a:srgbClr val="fcb7b2"/>
              </a:gs>
            </a:gsLst>
            <a:lin ang="5400000"/>
          </a:gradFill>
          <a:ln w="9360">
            <a:solidFill>
              <a:srgbClr val="fcb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5 + (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9000" y="580536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6680520" y="580536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476360" y="4869000"/>
            <a:ext cx="230364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9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611280" y="3933720"/>
            <a:ext cx="2303280" cy="6256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4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250920" y="2997360"/>
            <a:ext cx="230328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3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0"/>
          <p:cNvSpPr/>
          <p:nvPr/>
        </p:nvSpPr>
        <p:spPr>
          <a:xfrm>
            <a:off x="611280" y="2060640"/>
            <a:ext cx="230328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6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1"/>
          <p:cNvSpPr/>
          <p:nvPr/>
        </p:nvSpPr>
        <p:spPr>
          <a:xfrm>
            <a:off x="1116000" y="1197000"/>
            <a:ext cx="230364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2"/>
          <p:cNvSpPr/>
          <p:nvPr/>
        </p:nvSpPr>
        <p:spPr>
          <a:xfrm>
            <a:off x="2195640" y="189000"/>
            <a:ext cx="1728720" cy="718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imes New Roman"/>
              </a:rPr>
              <a:t>-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3"/>
          <p:cNvSpPr/>
          <p:nvPr/>
        </p:nvSpPr>
        <p:spPr>
          <a:xfrm>
            <a:off x="5364000" y="4869000"/>
            <a:ext cx="230364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6300720" y="3933720"/>
            <a:ext cx="2303640" cy="6256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7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5"/>
          <p:cNvSpPr/>
          <p:nvPr/>
        </p:nvSpPr>
        <p:spPr>
          <a:xfrm>
            <a:off x="6588000" y="2997360"/>
            <a:ext cx="230364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6"/>
          <p:cNvSpPr/>
          <p:nvPr/>
        </p:nvSpPr>
        <p:spPr>
          <a:xfrm>
            <a:off x="6227640" y="2060640"/>
            <a:ext cx="230364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7"/>
          <p:cNvSpPr/>
          <p:nvPr/>
        </p:nvSpPr>
        <p:spPr>
          <a:xfrm>
            <a:off x="5651640" y="1197000"/>
            <a:ext cx="230328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45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5219640" y="189000"/>
            <a:ext cx="1728720" cy="7189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b812f"/>
                </a:solidFill>
                <a:latin typeface="Times New Roman"/>
              </a:rPr>
              <a:t>-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9"/>
          <p:cNvSpPr/>
          <p:nvPr/>
        </p:nvSpPr>
        <p:spPr>
          <a:xfrm flipV="1">
            <a:off x="3635280" y="5300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0"/>
          <p:cNvSpPr/>
          <p:nvPr/>
        </p:nvSpPr>
        <p:spPr>
          <a:xfrm flipV="1">
            <a:off x="5508720" y="5300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1"/>
          <p:cNvSpPr/>
          <p:nvPr/>
        </p:nvSpPr>
        <p:spPr>
          <a:xfrm flipV="1">
            <a:off x="2700360" y="4365720"/>
            <a:ext cx="0" cy="576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2"/>
          <p:cNvSpPr/>
          <p:nvPr/>
        </p:nvSpPr>
        <p:spPr>
          <a:xfrm flipV="1">
            <a:off x="6443640" y="4365720"/>
            <a:ext cx="0" cy="576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3"/>
          <p:cNvSpPr/>
          <p:nvPr/>
        </p:nvSpPr>
        <p:spPr>
          <a:xfrm flipV="1">
            <a:off x="2268360" y="3428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4"/>
          <p:cNvSpPr/>
          <p:nvPr/>
        </p:nvSpPr>
        <p:spPr>
          <a:xfrm flipV="1">
            <a:off x="6877080" y="3428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5"/>
          <p:cNvSpPr/>
          <p:nvPr/>
        </p:nvSpPr>
        <p:spPr>
          <a:xfrm flipV="1">
            <a:off x="755640" y="249192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6"/>
          <p:cNvSpPr/>
          <p:nvPr/>
        </p:nvSpPr>
        <p:spPr>
          <a:xfrm flipV="1">
            <a:off x="8388360" y="249192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7"/>
          <p:cNvSpPr/>
          <p:nvPr/>
        </p:nvSpPr>
        <p:spPr>
          <a:xfrm flipV="1">
            <a:off x="1332000" y="155700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8"/>
          <p:cNvSpPr/>
          <p:nvPr/>
        </p:nvSpPr>
        <p:spPr>
          <a:xfrm flipV="1">
            <a:off x="7740720" y="1628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9"/>
          <p:cNvSpPr/>
          <p:nvPr/>
        </p:nvSpPr>
        <p:spPr>
          <a:xfrm flipV="1">
            <a:off x="3132000" y="764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30"/>
          <p:cNvSpPr/>
          <p:nvPr/>
        </p:nvSpPr>
        <p:spPr>
          <a:xfrm flipV="1">
            <a:off x="6012000" y="764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31"/>
          <p:cNvSpPr/>
          <p:nvPr/>
        </p:nvSpPr>
        <p:spPr>
          <a:xfrm>
            <a:off x="2916360" y="2852640"/>
            <a:ext cx="3313080" cy="7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32"/>
          <p:cNvSpPr/>
          <p:nvPr/>
        </p:nvSpPr>
        <p:spPr>
          <a:xfrm flipV="1">
            <a:off x="4572000" y="692280"/>
            <a:ext cx="0" cy="2087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33"/>
          <p:cNvSpPr/>
          <p:nvPr/>
        </p:nvSpPr>
        <p:spPr>
          <a:xfrm>
            <a:off x="4067280" y="260280"/>
            <a:ext cx="1008000" cy="7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3"/>
          <p:cNvSpPr/>
          <p:nvPr/>
        </p:nvSpPr>
        <p:spPr>
          <a:xfrm>
            <a:off x="2057400" y="762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Чтобы сложить чис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4"/>
          <p:cNvSpPr/>
          <p:nvPr/>
        </p:nvSpPr>
        <p:spPr>
          <a:xfrm>
            <a:off x="380880" y="20574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 одинаковыми зна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6019920" y="19810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ным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на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6"/>
          <p:cNvSpPr/>
          <p:nvPr/>
        </p:nvSpPr>
        <p:spPr>
          <a:xfrm>
            <a:off x="743040" y="36180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оставь  общий знак и сложи их мод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7"/>
          <p:cNvSpPr/>
          <p:nvPr/>
        </p:nvSpPr>
        <p:spPr>
          <a:xfrm>
            <a:off x="5248440" y="35496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оставь знак большего модуля и из большего модуля вычти меньший моду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8"/>
          <p:cNvSpPr/>
          <p:nvPr/>
        </p:nvSpPr>
        <p:spPr>
          <a:xfrm flipH="1">
            <a:off x="2286000" y="121932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9"/>
          <p:cNvSpPr/>
          <p:nvPr/>
        </p:nvSpPr>
        <p:spPr>
          <a:xfrm>
            <a:off x="5181480" y="121932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0"/>
          <p:cNvSpPr/>
          <p:nvPr/>
        </p:nvSpPr>
        <p:spPr>
          <a:xfrm>
            <a:off x="220968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1"/>
          <p:cNvSpPr/>
          <p:nvPr/>
        </p:nvSpPr>
        <p:spPr>
          <a:xfrm>
            <a:off x="716292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3"/>
          <p:cNvSpPr/>
          <p:nvPr/>
        </p:nvSpPr>
        <p:spPr>
          <a:xfrm>
            <a:off x="863640" y="49784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23+(-25)=-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5"/>
          <p:cNvSpPr/>
          <p:nvPr/>
        </p:nvSpPr>
        <p:spPr>
          <a:xfrm>
            <a:off x="1066680" y="5619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5+25=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6"/>
          <p:cNvSpPr/>
          <p:nvPr/>
        </p:nvSpPr>
        <p:spPr>
          <a:xfrm>
            <a:off x="6175440" y="53402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45+40=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8" descr=""/>
          <p:cNvPicPr/>
          <p:nvPr/>
        </p:nvPicPr>
        <p:blipFill>
          <a:blip r:embed="rId1"/>
          <a:srcRect l="27343" t="20052" r="6438" b="23817"/>
          <a:stretch/>
        </p:blipFill>
        <p:spPr>
          <a:xfrm>
            <a:off x="457200" y="2894040"/>
            <a:ext cx="5943600" cy="364788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"/>
          <p:cNvSpPr/>
          <p:nvPr/>
        </p:nvSpPr>
        <p:spPr>
          <a:xfrm>
            <a:off x="380880" y="1066680"/>
            <a:ext cx="416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5+(-32)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6391440" y="1746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3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324480" y="116532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6477120" y="2209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9" descr="3str5"/>
          <p:cNvPicPr/>
          <p:nvPr/>
        </p:nvPicPr>
        <p:blipFill>
          <a:blip r:embed="rId2"/>
          <a:stretch/>
        </p:blipFill>
        <p:spPr>
          <a:xfrm rot="10582800">
            <a:off x="5562000" y="1599840"/>
            <a:ext cx="609480" cy="3049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3str5"/>
          <p:cNvPicPr/>
          <p:nvPr/>
        </p:nvPicPr>
        <p:blipFill>
          <a:blip r:embed="rId3"/>
          <a:stretch/>
        </p:blipFill>
        <p:spPr>
          <a:xfrm rot="12564600">
            <a:off x="5562360" y="2285280"/>
            <a:ext cx="609480" cy="3049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1" descr="3str5"/>
          <p:cNvPicPr/>
          <p:nvPr/>
        </p:nvPicPr>
        <p:blipFill>
          <a:blip r:embed="rId4"/>
          <a:stretch/>
        </p:blipFill>
        <p:spPr>
          <a:xfrm rot="9405600">
            <a:off x="5562360" y="685440"/>
            <a:ext cx="600120" cy="29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1752480" y="40006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умай ещё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>
            <a:off x="3809880" y="4940280"/>
            <a:ext cx="1981440" cy="9907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3c4"/>
          <p:cNvPicPr/>
          <p:nvPr/>
        </p:nvPicPr>
        <p:blipFill>
          <a:blip r:embed="rId1"/>
          <a:stretch/>
        </p:blipFill>
        <p:spPr>
          <a:xfrm>
            <a:off x="2666880" y="838080"/>
            <a:ext cx="4953240" cy="31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2666880" y="463536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олод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" descr="2c6"/>
          <p:cNvPicPr/>
          <p:nvPr/>
        </p:nvPicPr>
        <p:blipFill>
          <a:blip r:embed="rId1"/>
          <a:stretch/>
        </p:blipFill>
        <p:spPr>
          <a:xfrm>
            <a:off x="2057400" y="838080"/>
            <a:ext cx="57150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8" descr=""/>
          <p:cNvPicPr/>
          <p:nvPr/>
        </p:nvPicPr>
        <p:blipFill>
          <a:blip r:embed="rId1"/>
          <a:srcRect l="27343" t="20052" r="6438" b="23817"/>
          <a:stretch/>
        </p:blipFill>
        <p:spPr>
          <a:xfrm>
            <a:off x="457200" y="2894040"/>
            <a:ext cx="5943600" cy="36478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2"/>
          <p:cNvSpPr/>
          <p:nvPr/>
        </p:nvSpPr>
        <p:spPr>
          <a:xfrm>
            <a:off x="533520" y="1066680"/>
            <a:ext cx="464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85+(-25)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6572160" y="1066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6191280" y="22860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6249960" y="198756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11" descr="3str5"/>
          <p:cNvPicPr/>
          <p:nvPr/>
        </p:nvPicPr>
        <p:blipFill>
          <a:blip r:embed="rId2"/>
          <a:stretch/>
        </p:blipFill>
        <p:spPr>
          <a:xfrm rot="9191400">
            <a:off x="5790600" y="761760"/>
            <a:ext cx="685800" cy="3427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3str5"/>
          <p:cNvPicPr/>
          <p:nvPr/>
        </p:nvPicPr>
        <p:blipFill>
          <a:blip r:embed="rId3"/>
          <a:stretch/>
        </p:blipFill>
        <p:spPr>
          <a:xfrm rot="10639200">
            <a:off x="5755680" y="137124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3" descr="3str5"/>
          <p:cNvPicPr/>
          <p:nvPr/>
        </p:nvPicPr>
        <p:blipFill>
          <a:blip r:embed="rId4"/>
          <a:stretch/>
        </p:blipFill>
        <p:spPr>
          <a:xfrm rot="12663000">
            <a:off x="5847840" y="2056680"/>
            <a:ext cx="6098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1752480" y="401652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умай ещё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"/>
          <p:cNvSpPr/>
          <p:nvPr/>
        </p:nvSpPr>
        <p:spPr>
          <a:xfrm>
            <a:off x="3962520" y="5029200"/>
            <a:ext cx="1981080" cy="99072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6" descr="3c4"/>
          <p:cNvPicPr/>
          <p:nvPr/>
        </p:nvPicPr>
        <p:blipFill>
          <a:blip r:embed="rId1"/>
          <a:stretch/>
        </p:blipFill>
        <p:spPr>
          <a:xfrm>
            <a:off x="2666880" y="838080"/>
            <a:ext cx="4953240" cy="31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ать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Arial"/>
              </a:rPr>
              <a:t>-15; +10; -32;  2 ; -7 ; 0; -4; 9,36; +7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Назовите отрицательные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Назовите натуральн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Назовите положительн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Назовите цел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Выделите квадратиком противоположн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Выделите кружочком наибольшее целое чис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.Выделите треугольником наименьшее целое чис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2762280" y="454032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олод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2c6"/>
          <p:cNvPicPr/>
          <p:nvPr/>
        </p:nvPicPr>
        <p:blipFill>
          <a:blip r:embed="rId1"/>
          <a:stretch/>
        </p:blipFill>
        <p:spPr>
          <a:xfrm>
            <a:off x="2057400" y="838080"/>
            <a:ext cx="57150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9" descr=""/>
          <p:cNvPicPr/>
          <p:nvPr/>
        </p:nvPicPr>
        <p:blipFill>
          <a:blip r:embed="rId1"/>
          <a:srcRect l="27343" t="20052" r="6438" b="23817"/>
          <a:stretch/>
        </p:blipFill>
        <p:spPr>
          <a:xfrm>
            <a:off x="457200" y="2894040"/>
            <a:ext cx="5943600" cy="36478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"/>
          <p:cNvSpPr/>
          <p:nvPr/>
        </p:nvSpPr>
        <p:spPr>
          <a:xfrm>
            <a:off x="914400" y="121932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48+15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6294600" y="197820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6276960" y="108576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6286680" y="22860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6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1" descr="3str5"/>
          <p:cNvPicPr/>
          <p:nvPr/>
        </p:nvPicPr>
        <p:blipFill>
          <a:blip r:embed="rId2"/>
          <a:stretch/>
        </p:blipFill>
        <p:spPr>
          <a:xfrm rot="9506400">
            <a:off x="5562000" y="83772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2" descr="3str5"/>
          <p:cNvPicPr/>
          <p:nvPr/>
        </p:nvPicPr>
        <p:blipFill>
          <a:blip r:embed="rId3"/>
          <a:stretch/>
        </p:blipFill>
        <p:spPr>
          <a:xfrm rot="10800000">
            <a:off x="5562360" y="152352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3" descr="3str5"/>
          <p:cNvPicPr/>
          <p:nvPr/>
        </p:nvPicPr>
        <p:blipFill>
          <a:blip r:embed="rId4"/>
          <a:stretch/>
        </p:blipFill>
        <p:spPr>
          <a:xfrm rot="11800200">
            <a:off x="5517360" y="2269800"/>
            <a:ext cx="6858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752480" y="396864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умай ещё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3962520" y="5016600"/>
            <a:ext cx="1981080" cy="99036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3c4"/>
          <p:cNvPicPr/>
          <p:nvPr/>
        </p:nvPicPr>
        <p:blipFill>
          <a:blip r:embed="rId1"/>
          <a:stretch/>
        </p:blipFill>
        <p:spPr>
          <a:xfrm>
            <a:off x="2666880" y="838080"/>
            <a:ext cx="4953240" cy="31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2666880" y="461952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олод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3" descr="2c6"/>
          <p:cNvPicPr/>
          <p:nvPr/>
        </p:nvPicPr>
        <p:blipFill>
          <a:blip r:embed="rId1"/>
          <a:stretch/>
        </p:blipFill>
        <p:spPr>
          <a:xfrm>
            <a:off x="2057400" y="838080"/>
            <a:ext cx="57150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7" descr="2c5"/>
          <p:cNvPicPr/>
          <p:nvPr/>
        </p:nvPicPr>
        <p:blipFill>
          <a:blip r:embed="rId1"/>
          <a:stretch/>
        </p:blipFill>
        <p:spPr>
          <a:xfrm>
            <a:off x="4038480" y="1828800"/>
            <a:ext cx="4267440" cy="244152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2"/>
          <p:cNvSpPr/>
          <p:nvPr/>
        </p:nvSpPr>
        <p:spPr>
          <a:xfrm>
            <a:off x="291960" y="7016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26+(-6)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533520" y="158436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70+5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368280" y="2470320"/>
            <a:ext cx="26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+(-30)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609480" y="32860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0+12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31680" y="4121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63+(-73)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8201160" y="58752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5915160" y="85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1"/>
          <p:cNvSpPr/>
          <p:nvPr/>
        </p:nvSpPr>
        <p:spPr>
          <a:xfrm>
            <a:off x="7505640" y="5934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8102520" y="4952880"/>
            <a:ext cx="10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7696080" y="16765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1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7292880" y="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5"/>
          <p:cNvSpPr/>
          <p:nvPr/>
        </p:nvSpPr>
        <p:spPr>
          <a:xfrm>
            <a:off x="4419720" y="95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5880240" y="605484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4546440" y="6019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2" descr="2str1"/>
          <p:cNvPicPr/>
          <p:nvPr/>
        </p:nvPicPr>
        <p:blipFill>
          <a:blip r:embed="rId2"/>
          <a:stretch/>
        </p:blipFill>
        <p:spPr>
          <a:xfrm>
            <a:off x="8001000" y="3048120"/>
            <a:ext cx="825480" cy="99036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23"/>
          <p:cNvSpPr/>
          <p:nvPr/>
        </p:nvSpPr>
        <p:spPr>
          <a:xfrm>
            <a:off x="4254480" y="12952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ложение отрицатель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5"/>
          <p:cNvSpPr/>
          <p:nvPr/>
        </p:nvSpPr>
        <p:spPr>
          <a:xfrm>
            <a:off x="4267080" y="28954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ожение положительных 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3997440" y="4267080"/>
            <a:ext cx="4419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чисел с разными зна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33526E-006 L -0.64844 0.01203 E">
                                      <p:cBhvr>
                                        <p:cTn id="649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51445E-007 L -0.40521 0.21827 E">
                                      <p:cBhvr>
                                        <p:cTn id="653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-0.5625 -0.51204 E">
                                      <p:cBhvr>
                                        <p:cTn id="657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48555E-006 L -0.60973 -0.24647 E">
                                      <p:cBhvr>
                                        <p:cTn id="661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4798E-006 L -0.575 0.35283 E">
                                      <p:cBhvr>
                                        <p:cTn id="665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-0.53177 0.71991 E">
                                      <p:cBhvr>
                                        <p:cTn id="669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6532E-006 L -0.21666 0.83838 E">
                                      <p:cBhvr>
                                        <p:cTn id="673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723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Georgia"/>
              </a:rPr>
              <a:t>Выполните  сложение в тетра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4"/>
              <p:cNvSpPr txBox="1"/>
              <p:nvPr/>
            </p:nvSpPr>
            <p:spPr>
              <a:xfrm>
                <a:off x="719280" y="1440000"/>
                <a:ext cx="7705440" cy="42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277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0" name="AutoShape 7"/>
          <p:cNvSpPr/>
          <p:nvPr/>
        </p:nvSpPr>
        <p:spPr>
          <a:xfrm>
            <a:off x="7524720" y="189000"/>
            <a:ext cx="1440000" cy="360360"/>
          </a:xfrm>
          <a:custGeom>
            <a:avLst/>
            <a:gdLst>
              <a:gd name="textAreaLeft" fmla="*/ 23040 w 1440000"/>
              <a:gd name="textAreaRight" fmla="*/ 1416960 w 14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6249" h="21600">
                <a:moveTo>
                  <a:pt x="0" y="0"/>
                </a:moveTo>
                <a:lnTo>
                  <a:pt x="86249" y="0"/>
                </a:lnTo>
                <a:lnTo>
                  <a:pt x="86249" y="21600"/>
                </a:lnTo>
                <a:lnTo>
                  <a:pt x="0" y="21600"/>
                </a:lnTo>
                <a:close/>
              </a:path>
              <a:path fill="lightenLess" w="86249" h="21600">
                <a:moveTo>
                  <a:pt x="0" y="0"/>
                </a:moveTo>
                <a:lnTo>
                  <a:pt x="86249" y="0"/>
                </a:lnTo>
                <a:lnTo>
                  <a:pt x="84849" y="1400"/>
                </a:lnTo>
                <a:lnTo>
                  <a:pt x="1400" y="1400"/>
                </a:lnTo>
                <a:close/>
              </a:path>
              <a:path fill="darken" w="86249" h="21600">
                <a:moveTo>
                  <a:pt x="86249" y="0"/>
                </a:moveTo>
                <a:lnTo>
                  <a:pt x="86249" y="21600"/>
                </a:lnTo>
                <a:lnTo>
                  <a:pt x="84849" y="20200"/>
                </a:lnTo>
                <a:lnTo>
                  <a:pt x="84849" y="1400"/>
                </a:lnTo>
                <a:close/>
              </a:path>
              <a:path fill="darkenLess" w="86249" h="21600">
                <a:moveTo>
                  <a:pt x="86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9" y="20200"/>
                </a:lnTo>
                <a:close/>
              </a:path>
              <a:path fill="lighten" w="86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ccd9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704880" y="53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2"/>
                </a:solidFill>
                <a:latin typeface="Arial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380880" y="1514520"/>
          <a:ext cx="8382240" cy="262584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56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72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72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4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+(-9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+(-56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3+75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+18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+(-24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+(-67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9+84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+29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914400" y="2057400"/>
            <a:ext cx="7238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2"/>
                </a:solidFill>
                <a:latin typeface="Arial"/>
              </a:rPr>
              <a:t>Что узнали нового 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2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72"/>
                </a:solidFill>
                <a:latin typeface="Arial"/>
              </a:rPr>
              <a:t>чему научилис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3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6953040" cy="5047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"/>
          <p:cNvPicPr/>
          <p:nvPr/>
        </p:nvPicPr>
        <p:blipFill>
          <a:blip r:embed="rId2"/>
          <a:stretch/>
        </p:blipFill>
        <p:spPr>
          <a:xfrm>
            <a:off x="127080" y="1125360"/>
            <a:ext cx="86421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рямоугольник 2"/>
          <p:cNvSpPr/>
          <p:nvPr/>
        </p:nvSpPr>
        <p:spPr>
          <a:xfrm>
            <a:off x="2286000" y="260280"/>
            <a:ext cx="523872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4;-3;-2;-1;0. (-3;-2;-1;0;-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6 (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15; (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5; (-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10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&lt;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-3 &lt; 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0 &gt; -6 (-8 &lt;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-9 &lt; -7 (-5 &gt;-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2 &gt; -20 (-30 &lt;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-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; (-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0; 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1; (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0; (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а│=2; (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│=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7 и 7; (-4 и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Решений нет; (решений н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ос не только встречается в жизни, но и среди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752480" y="22096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2666880" y="25146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5181480" y="24382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609480" y="35812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209680" y="49528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6172200" y="41911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4038480" y="365760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1"/>
          <p:cNvSpPr/>
          <p:nvPr/>
        </p:nvSpPr>
        <p:spPr>
          <a:xfrm>
            <a:off x="4114800" y="51055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7362720" y="54133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7772400" y="3276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4 -0.24855 C -0.02101 -0.20532 -0.03125 -0.13179 -0.00365 -0.08601 C 0.02917 -0.03144 0.07778 -0.0511 0.10486 -0.06659 L 0.13924 -0.08948 C 0.16667 -0.10474 0.21597 -0.12347 0.25295 -0.06196 C 0.27708 -0.02312 0.27049 0.05734 0.23021 0.10081 C 0.18976 0.14405 0.12951 0.1348 0.1059 0.09549 C 0.06892 0.03445 0.09306 -0.02589 0.1099 -0.05826 L 0.13438 -0.09826 C 0.15156 -0.13017 0.17656 -0.18936 0.14375 -0.2437 C 0.1158 -0.28994 0.0599 -0.29179 0.01944 -0.24855 Z">
                                      <p:cBhvr>
                                        <p:cTn id="50" dur="5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2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952 0.03472 C 0.12327 0.09953 0.13941 0.17778 0.11459 0.20694 C 0.08594 0.2419 0.0356 0.1949 0.00695 0.16435 L -0.02987 0.12245 C -0.05799 0.09213 -0.10886 0.04653 -0.14167 0.08541 C -0.16251 0.11065 -0.1507 0.1919 -0.10643 0.25764 C -0.06285 0.32222 -0.00226 0.34838 0.01841 0.32291 C 0.0507 0.28356 0.02188 0.21065 0.00244 0.16967 L -0.025 0.11736 C -0.04462 0.07592 -0.07396 0.0044 -0.04514 -0.03033 C -0.02049 -0.05949 0.03577 -0.02986 0.07952 0.03472 Z">
                                      <p:cBhvr>
                                        <p:cTn id="52" dur="5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51 0.06435 C -0.09723 0.04213 -0.1158 0.00532 -0.10851 -0.02662 C -0.09775 -0.07385 -0.06337 -0.10162 -0.03073 -0.08843 C -0.02032 -0.08426 -0.01146 -0.07662 -0.00469 -0.06528 C -0.00434 -0.06667 0.09062 0.13495 0.09166 0.13541 C 0.09062 0.13495 -0.07257 0.23194 -0.07223 0.23055 C -0.08264 0.23472 -0.09306 0.23472 -0.10365 0.23032 C -0.13611 0.21713 -0.15313 0.16851 -0.14202 0.1199 C -0.13507 0.08935 -0.10417 0.07268 -0.08351 0.06435 Z">
                                      <p:cBhvr>
                                        <p:cTn id="54" dur="5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8449 C 3.33333E-006 0.00579 0.02708 0.08009 0.06007 0.08009 C 0.09896 0.08009 0.11302 -0.00231 0.11892 -0.05162 L 0.125 -0.11736 C 0.13107 -0.16667 0.146 -0.24884 0.18993 -0.24884 C 0.21805 -0.24884 0.25 -0.17477 0.25 -0.08449 C 0.25 0.00579 0.21805 0.08009 0.18993 0.08009 C 0.146 0.08009 0.13107 -0.00231 0.125 -0.05162 L 0.11892 -0.11736 C 0.11302 -0.16667 0.09896 -0.24884 0.06007 -0.24884 C 0.02708 -0.24884 3.33333E-006 -0.17477 3.33333E-006 -0.08449 Z">
                                      <p:cBhvr>
                                        <p:cTn id="56" dur="5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2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26 0.00671 C 0.00973 0.00671 0.03681 0.04282 0.03681 0.0868 C 0.03681 0.13865 0.00677 0.1574 -0.01128 0.16527 L -0.03524 0.17338 C -0.0533 0.18148 -0.08333 0.20139 -0.08333 0.25995 C -0.08333 0.29745 -0.05625 0.34004 -0.02326 0.34004 C 0.00973 0.34004 0.03681 0.29745 0.03681 0.25995 C 0.03681 0.20139 0.00677 0.18148 -0.01128 0.17338 L -0.03524 0.16527 C -0.0533 0.1574 -0.08333 0.13865 -0.08333 0.0868 C -0.08333 0.04282 -0.05625 0.00671 -0.02326 0.00671 Z">
                                      <p:cBhvr>
                                        <p:cTn id="58" dur="5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038 -0.11204 C 0.21441 -0.12963 0.26597 -0.15093 0.28211 -0.1257 C 0.30607 -0.08796 0.28611 -0.0132 0.23646 0.04305 C 0.22048 0.06134 0.20382 0.075 0.18663 0.08356 C 0.18732 0.08472 -0.08507 0.18843 -0.08664 0.19005 C -0.08507 0.18843 0.03593 -0.15324 0.03646 -0.15185 C 0.046 -0.17315 0.0585 -0.19259 0.07482 -0.21111 C 0.12448 -0.26713 0.18316 -0.28102 0.20746 -0.24213 C 0.22326 -0.21806 0.19878 -0.1537 0.18038 -0.11204 Z">
                                      <p:cBhvr>
                                        <p:cTn id="60" dur="5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89 0.18172 C -0.04236 0.22385 0.00764 0.23264 0.0507 0.20047 C 0.10139 0.1632 0.10434 0.11135 0.10261 0.08264 L 0.09775 0.04584 C 0.09601 0.01713 0.1 -0.03564 0.15747 -0.07777 C 0.19462 -0.10509 0.2507 -0.10115 0.26841 -0.05902 C 0.28542 -0.01689 0.25816 0.04885 0.22101 0.07616 C 0.16372 0.11806 0.12778 0.09422 0.11042 0.07663 L 0.08976 0.05163 C 0.07223 0.0345 0.03837 0.00926 -0.0125 0.04676 C -0.05642 0.07894 -0.07708 0.13959 -0.05989 0.18172 Z">
                                      <p:cBhvr>
                                        <p:cTn id="62" dur="5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833 0.00971 C -0.13681 -0.01434 -0.09896 -0.04879 -0.05399 -0.04879 C 0.0125 -0.04879 0.06667 -0.01295 0.06667 0.03237 C 0.06667 0.04694 0.06128 0.06035 0.05035 0.07237 C 0.05226 0.07237 -0.15833 0.25225 -0.15833 0.25364 C -0.15833 0.25225 -0.3691 0.07237 -0.36719 0.07237 C -0.37812 0.06035 -0.38333 0.04694 -0.38333 0.03237 C -0.38333 -0.01295 -0.32934 -0.04879 -0.26094 -0.04879 C -0.21771 -0.04879 -0.18003 -0.01434 -0.15833 0.00971 Z">
                                      <p:cBhvr>
                                        <p:cTn id="64" dur="5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2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95 -0.01736 C -0.02726 0.00162 0.00955 -0.01667 0.02448 -0.0581 C 0.04218 -0.10695 0.02152 -0.14213 0.00798 -0.15996 L -0.01077 -0.18148 C -0.02431 -0.19977 -0.04445 -0.23588 -0.02448 -0.29098 C -0.01164 -0.32639 0.02725 -0.3507 0.05694 -0.33148 C 0.08663 -0.31227 0.09652 -0.25648 0.08368 -0.22107 C 0.06371 -0.16621 0.02986 -0.16482 0.01076 -0.1676 L -0.01354 -0.17385 C -0.03247 -0.17709 -0.06598 -0.17662 -0.08368 -0.12801 C -0.09861 -0.08658 -0.08664 -0.03658 -0.05695 -0.01736 Z">
                                      <p:cBhvr>
                                        <p:cTn id="66" dur="5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649 -0.03769 C 0.14965 -0.04162 0.2 -0.04139 0.21875 -0.00486 C 0.24548 0.04994 0.23194 0.12647 0.18611 0.1674 C 0.1717 0.18081 0.15573 0.18774 0.13906 0.19006 C 0.13993 0.19167 -0.12795 0.18035 -0.12865 0.1815 C -0.12795 0.18035 -0.03334 -0.15376 -0.03229 -0.15237 C -0.02483 -0.17226 -0.01354 -0.18821 0.00121 -0.20116 C 0.04687 -0.24208 0.10555 -0.23052 0.13368 -0.17387 C 0.15139 -0.1385 0.13211 -0.07653 0.11649 -0.03769 Z">
                                      <p:cBhvr>
                                        <p:cTn id="68" dur="5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1828800" y="2209680"/>
            <a:ext cx="5029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72"/>
                </a:solidFill>
                <a:latin typeface="Arial"/>
              </a:rPr>
              <a:t>Спасибо за урок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1066680" y="2602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делите числа на две группы по какому-нибудь принцип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752480" y="22096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2666880" y="25146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5181480" y="24382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609480" y="35812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2209680" y="49528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6172200" y="41911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4038480" y="365760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4114800" y="51055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7473960" y="520704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7772400" y="3276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704880" y="12938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ложительн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5854680" y="13208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Отрицательн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1990800" y="6240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Arial"/>
              </a:rPr>
              <a:t>Порядок в числах нав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-0.10834 -0.05996 E">
                                      <p:cBhvr>
                                        <p:cTn id="74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2.96296E-006 L -0.37499 -0.16667 E">
                                      <p:cBhvr>
                                        <p:cTn id="76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3.7037E-007 L -0.40833 -0.26667 E">
                                      <p:cBhvr>
                                        <p:cTn id="78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9.82659E-007 L -0.6 -0.02659 E">
                                      <p:cBhvr>
                                        <p:cTn id="80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7341E-007 L -0.775 0.19538 E">
                                      <p:cBhvr>
                                        <p:cTn id="82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2.96296E-006 L 0.13333 -0.06666 E">
                                      <p:cBhvr>
                                        <p:cTn id="84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5.18519E-006 L 0.67501 -0.14445 E">
                                      <p:cBhvr>
                                        <p:cTn id="86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83237E-006 L 0.475 0.12878 E">
                                      <p:cBhvr>
                                        <p:cTn id="88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4.07407E-006 L 0.525 -0.11111 E">
                                      <p:cBhvr>
                                        <p:cTn id="90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10405E-006 L -0.07153 -0.06359 E">
                                      <p:cBhvr>
                                        <p:cTn id="92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равнить числ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67" name="Содержимое 2" descr=""/>
          <p:cNvPicPr/>
          <p:nvPr/>
        </p:nvPicPr>
        <p:blipFill>
          <a:blip r:embed="rId1"/>
          <a:stretch/>
        </p:blipFill>
        <p:spPr>
          <a:xfrm>
            <a:off x="407880" y="1523880"/>
            <a:ext cx="82789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лова, которые можно отнести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к “+” и “-”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ыигрыш, проигрыш, отдал, взял, зарплата, налоги, долг и имуществ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+3) + (+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+5) + (+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+3) + (+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5) + (-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4) + (+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3) + (-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4) + (-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3) + (-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4) + (-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3) + (+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Georgia"/>
              </a:rPr>
              <a:t>Объясните  решение  примеров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348000" y="2997360"/>
            <a:ext cx="5580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6 + (-6) = + (26 – 6) =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916360" y="4005360"/>
            <a:ext cx="62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57 + 34 = -(57 – 34) = -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WordArt 6"/>
          <p:cNvSpPr txBox="1"/>
          <p:nvPr/>
        </p:nvSpPr>
        <p:spPr>
          <a:xfrm>
            <a:off x="4356000" y="5229360"/>
            <a:ext cx="4105440" cy="11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Молодцы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ложение  чисел  </a:t>
            </a:r>
            <a:br>
              <a:rPr sz="4000"/>
            </a:b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  разными  знакам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4 + (- 7 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380" name="Rectangle 5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7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9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0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1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2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3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4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5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7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Text Box 18"/>
          <p:cNvSpPr/>
          <p:nvPr/>
        </p:nvSpPr>
        <p:spPr>
          <a:xfrm>
            <a:off x="723780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20"/>
          <p:cNvSpPr/>
          <p:nvPr/>
        </p:nvSpPr>
        <p:spPr>
          <a:xfrm>
            <a:off x="738036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21"/>
          <p:cNvSpPr/>
          <p:nvPr/>
        </p:nvSpPr>
        <p:spPr>
          <a:xfrm>
            <a:off x="2411280" y="2924280"/>
            <a:ext cx="5007240" cy="536400"/>
          </a:xfrm>
          <a:custGeom>
            <a:avLst/>
            <a:gdLst>
              <a:gd name="textAreaLeft" fmla="*/ 0 w 5007240"/>
              <a:gd name="textAreaRight" fmla="*/ 5007600 w 5007240"/>
              <a:gd name="textAreaTop" fmla="*/ 0 h 536400"/>
              <a:gd name="textAreaBottom" fmla="*/ 536760 h 536400"/>
            </a:gdLst>
            <a:ahLst/>
            <a:rect l="textAreaLeft" t="textAreaTop" r="textAreaRight" b="textAreaBottom"/>
            <a:pathLst>
              <a:path w="3154" h="338">
                <a:moveTo>
                  <a:pt x="3154" y="338"/>
                </a:moveTo>
                <a:cubicBezTo>
                  <a:pt x="3006" y="297"/>
                  <a:pt x="2517" y="147"/>
                  <a:pt x="2258" y="91"/>
                </a:cubicBezTo>
                <a:cubicBezTo>
                  <a:pt x="1999" y="35"/>
                  <a:pt x="1827" y="0"/>
                  <a:pt x="1600" y="0"/>
                </a:cubicBezTo>
                <a:cubicBezTo>
                  <a:pt x="1373" y="0"/>
                  <a:pt x="1163" y="35"/>
                  <a:pt x="896" y="91"/>
                </a:cubicBezTo>
                <a:cubicBezTo>
                  <a:pt x="629" y="147"/>
                  <a:pt x="187" y="287"/>
                  <a:pt x="0" y="33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219744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3"/>
          <p:cNvSpPr/>
          <p:nvPr/>
        </p:nvSpPr>
        <p:spPr>
          <a:xfrm>
            <a:off x="4645080" y="234936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4" descr="CRCTR013"/>
          <p:cNvPicPr/>
          <p:nvPr/>
        </p:nvPicPr>
        <p:blipFill>
          <a:blip r:embed="rId1"/>
          <a:stretch/>
        </p:blipFill>
        <p:spPr>
          <a:xfrm>
            <a:off x="6300720" y="4005360"/>
            <a:ext cx="1909800" cy="295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5" descr="CRCTR013"/>
          <p:cNvPicPr/>
          <p:nvPr/>
        </p:nvPicPr>
        <p:blipFill>
          <a:blip r:embed="rId2"/>
          <a:stretch/>
        </p:blipFill>
        <p:spPr>
          <a:xfrm flipH="1">
            <a:off x="900000" y="3933720"/>
            <a:ext cx="1873440" cy="295272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26"/>
          <p:cNvSpPr/>
          <p:nvPr/>
        </p:nvSpPr>
        <p:spPr>
          <a:xfrm>
            <a:off x="5508720" y="155736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90751E-006 L -0.55121 0.00162 E">
                                      <p:cBhvr>
                                        <p:cTn id="168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нуся</dc:creator>
  <dc:description/>
  <dc:language>en-US</dc:language>
  <cp:lastModifiedBy>Лена</cp:lastModifiedBy>
  <dcterms:modified xsi:type="dcterms:W3CDTF">2024-03-04T14:22:03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